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7E7-BC63-44DE-9FAB-712E6557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EC4-1D34-432A-9038-67D4B821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D25-40A1-4165-B474-9A8899CF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428-76A9-4486-901B-3671DA7B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0D9-94C6-454D-9838-A1B23B50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792-6FEC-4D40-BEA8-DBEC8A60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FDF9-44AF-4D55-A13B-CE8E985A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966-0E09-4336-A4A7-282E8F86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D92-C48A-4AAC-8450-70BC2B86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29F-CE4F-4AFC-85EF-ACE28998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BC2-675A-4CC4-AFD4-CEF55500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B80-9409-417F-9F94-09A907E3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4860-D38F-4D97-BF79-3A2B67F4BC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f the Old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2514600"/>
            <a:ext cx="480060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etic Book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89:20-2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found David My servan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My holy oil I have anointed him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whom My hand will be establishe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arm also will strengthen hi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enemy will not deceive hi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the son of wickedness afflict hi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89:23-2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 shall crush his adversaries before hi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trike those who hate hi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y faithfulness and My lovingkindness will be with hi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 My name his horn will be exalt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shall also set his hand on the s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right hand on the ri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89:26-2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cry to Me, “You are my Fath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od, and the rock of my salvation.”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also shall make hi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bor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ghest of the kings of the eart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y lovingkindness I will keep for him forev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y covenant shall be confirmed to h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89:29-3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I will establish his descendants fore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throne as the days of heave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his sons forsake My la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o not walk in My judgments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y violate My statu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o not keep My commandments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I will punish their transgression with the r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ir iniquity with stri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89:33-3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 will not break off My lovingkindness from hi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deal falsely in My faithfulne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y covenant I will not violat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will I alter the utterance of My lip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ce I have sworn by My holines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not lie to Dav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89:36-3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descendants shall endure fore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throne as the sun before M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shall be established forever like the moo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witness in the sky is faithfu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105:6-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19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seed of Abraham, His servan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sons of Jacob, His chosen ones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is the LORD our Go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judgments are in all the ear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3429000"/>
            <a:ext cx="678168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105:8-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19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remembered His covenant forev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which He commanded to a thousand generations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covena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He made with Abraha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oath to Isaa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600200" y="5410080"/>
            <a:ext cx="5562720" cy="1922760"/>
            <a:chOff x="1600200" y="5410080"/>
            <a:chExt cx="5562720" cy="1922760"/>
          </a:xfrm>
        </p:grpSpPr>
        <p:sp>
          <p:nvSpPr>
            <p:cNvPr id="91" name=""/>
            <p:cNvSpPr/>
            <p:nvPr/>
          </p:nvSpPr>
          <p:spPr>
            <a:xfrm>
              <a:off x="1600200" y="5562720"/>
              <a:ext cx="556272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00200" y="5410080"/>
              <a:ext cx="5562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~h'r"b.a;-ta, tr:K' rv,a]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105:10-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19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He confirmed it to Jacob for a statut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srael as an everlasting covenant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aying, “To you I will give the land of Cana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portion of your inheritance,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they were only a few men in numb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few, and strangers in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salms of Prai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salms 113-1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ung at Passo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43200" y="990720"/>
            <a:ext cx="327672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Hall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981080" y="2514600"/>
            <a:ext cx="533412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terary Motif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113:1-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the LORD! Prai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servants of the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the name of the LOR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lessed be the name of the L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is time forth and forev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the rising of the sun to its se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me of the LORD is to be prai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99072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113:4-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is high above all nation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glory is above the heaven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 is like the LORD our Go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enthroned on high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 humbles Himself to beho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things that a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heaven and in the earth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99072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113:7-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aises the poor from the du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ifts the needy from the ash heap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mak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 with princ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princes of His peopl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makes the barren woman abide in the ho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joyful mother of childr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the LOR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99072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118:21-2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shall give thanks to Thee, for Thou hast answered m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ou hast become my salv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stone which the builders reje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become the chief corner st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is is the LORD’s do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marvelous in our ey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99072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95480" y="2362320"/>
            <a:ext cx="3338640" cy="74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ltic Psalm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92:1-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38080" y="12189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Psalm, a Song for the Sabbath 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good to give thanks to the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o sing praises to Thy na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Most Hig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declare Thy lovingkindness in the morni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y faithfulness by n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92:3-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the ten-stringed lute, and with the har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resounding music upon the ly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ou, O LORD, hast made me glad by what Thou hast don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ing for joy at the works of Thy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92:5-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w great are Your works, O LOR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thoughts are very deep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senseless man has no knowledg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does a stupid man understand this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when the wicked sprouted up like gra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ll who did iniquity flourishe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as on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y might be destroyed forever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92:8-1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You, O LORD, are on high forev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, behold, Your enemies, O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, behold, Your enemies will perish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who do iniquity will be scatter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You have exalted my horn lik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at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ld ox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been anointed with fresh oi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92:11-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y eye has look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ultant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on my fo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ears hear of the evildoers who rise up against m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righteous man will flourish like the palm tre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grow like a cedar in Leban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nted in the house of the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ll flourish in the courts of our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3429000"/>
            <a:ext cx="82296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Psalm 103-10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62320" y="1981080"/>
            <a:ext cx="4171680" cy="952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Torah Moti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92:14-1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ll still yield fruit in old ag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all be full of sap and very green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declare that the LORD is uprigh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 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rock, and there is no unrighteousness in H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828800" y="2438280"/>
            <a:ext cx="555768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thronement Psalm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7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salms 95-99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95:1-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ome, let us sing for joy to the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shout joyfully to the rock of our salva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t us come before His presence with thanksgiv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shout joyfully to Him with psal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95:3-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LORD is a great G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 great King above all gods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whose hand are the depths of the eart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aks of the mountains are His also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sea is His, for it was He who made i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hands formed the dry 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95: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, let us worship and bow dow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kneel before the LORD our Mak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95:7-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is our Go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e are the people of His pasture and the sheep of His ha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, if you would hear His voice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 not harden your hearts, as at Meriba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in the day of Massah in the wilderne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your fathers tested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ried Me, though they had seen My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97:1-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reigns, let the earth rejoic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many islands be gla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ouds and thick darkness surround Him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eousness and justice are the foundation of His thr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99:1-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reigns, let the peoples trembl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enthron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bo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erubim, let the earth shake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ORD is great in Zio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is exalted above all the peopl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t them praise Your great and awesome nam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y is 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914400" y="2514600"/>
            <a:ext cx="716292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ology in the Psalm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419720" cy="765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salm 81:9-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1920" y="1219320"/>
            <a:ext cx="4419720" cy="5029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re be no strange god among you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shall you worship any foreign god.  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, the LORD, am your God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brought you up from the land of Egypt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your mouth wide and I will fill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457200"/>
            <a:ext cx="4419720" cy="765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Exodus 20:2-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1219320"/>
            <a:ext cx="4419720" cy="5029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the LORD your God, who brought you out of the land of Egypt, out of the house of slavery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You shall have no other gods before 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29000" y="5715000"/>
            <a:ext cx="23526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onothe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Psalm 103-108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s high as the heavens are above the earth, So great is His lovingkindness toward those who fear Him (103: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for man, his days are like grass; As a flower of the field, so he flourishes.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the wind has passed over it, it is no more; And its place acknowledges it no longer (103:15-1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established the earth upon its foundations (104: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115:1-3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o us, O LORD, not to 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o Your name give gl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of Your lovingkindness, because of Your trut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y should the nations sa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, now, is their God?”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our God is in the heaven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oes whatever He ple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880" y="304920"/>
            <a:ext cx="335304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d as Creat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115:4-6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idols are silver and gol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k of man”s hand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y have mouths, but they cannot speak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eyes, but they cannot see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y have ears, but they cannot hear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noses, but they cannot smell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0880" y="304920"/>
            <a:ext cx="335304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d as Creat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115:7-8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hands, but they cannot feel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feet, but they cannot walk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not make a sound with their thro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ose who make them will become like the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one who trusts in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880" y="304920"/>
            <a:ext cx="335304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d as Creat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139:1-2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choir direct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alm of Davi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ORD, You have searched me and know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know when I sit down and when I rise u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understand my thought from af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6320" y="152280"/>
            <a:ext cx="335268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d's Sovereig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600" y="914400"/>
            <a:ext cx="190512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a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139:3-4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crutinize my path and my lying dow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re intimately acquainted with all my way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n before there is a word on my tongu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, O LORD, You know it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6320" y="152280"/>
            <a:ext cx="335268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d's Sovereig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" y="914400"/>
            <a:ext cx="190512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a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139:5-6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enclosed me behind and b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aid Your hand upon m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c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 is too wonderful for m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, I cannot attain to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320" y="152280"/>
            <a:ext cx="335268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d's Sovereig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14400"/>
            <a:ext cx="190512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a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139:7-8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can I go from Your Spiri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where can I flee from Your presence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I ascend to heaven, You are ther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make my bed in Sheol, behold, You are the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15228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d's Omnipres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139:9-10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take the wings of the daw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dwell in the remotest part of the sea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n there Your hand will lead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r right hand will lay hold of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5228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d's Omnipres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salm 139:15-16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frame was not hidden from You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was made in secre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llfully wrought in the depths of the earth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r eyes have seen my unformed substanc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 Your book were all writt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ys that were ordain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s yet there was not one of th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5228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d's Omnisci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salm 139:17-18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precious also are Your thoughts to me, O Go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vast is the sum of them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I should count them, they would outnumber the sa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awake, I am still with Yo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5228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d's Omnisci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Psalm 103-108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has remembered His covenant foreve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which He commanded to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sand generation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ovenant which He made with Abraha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oath to Isaa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He confirmed it to Jacob for a statu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srael as an everlasting covenant (Psalm 105:8-1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salm 139:23-24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me, O God, and know my hear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me and know my anxious thoughts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see if there be any hurtful way in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ead me in the everlasting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15228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d's Omnisci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8:3-4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consider Your heavens, the work of Your finger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on and the stars, which You have ordained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at is man that You take thought of hi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son of man that You care for him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n in God's Im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8:5-6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You have made him a little lower than Go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 crown him with glory and majesty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make him to rule over the works of Your hand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put all things under his fee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n in God's Im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8:7-9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heep and ox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lso the beasts of the field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birds of the heavens and the fish of the se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ever passes through the paths of the sea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 LORD, our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jestic is Your name in all the earth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n in God's Im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as high as the heavens are above the earth,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 great is His lovingkindness toward those who fear Him.  </a:t>
            </a:r>
            <a:br>
              <a:rPr sz="3200"/>
            </a:b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s far as the east is from the west,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 far has He removed our transgressions from us.  </a:t>
            </a:r>
            <a:br>
              <a:rPr sz="3200"/>
            </a:b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Just as a father has compassion on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his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ildren,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 the LORD has compassion on those who fear Him. (Psalm 103:11-13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8600" y="228600"/>
            <a:ext cx="373392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d's Compas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6933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He Himself knows our frame;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is mindful that we are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but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ust.  </a:t>
            </a:r>
            <a:br>
              <a:rPr sz="3200"/>
            </a:b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s for man, his days are like grass;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s a flower of the field, so he flourishes.  </a:t>
            </a:r>
            <a:br>
              <a:rPr sz="3200"/>
            </a:b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When the wind has passed over it, it is no more,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its place acknowledges it no longer. (Psalm 103:14-16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28600" y="228600"/>
            <a:ext cx="373392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d's Compas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the lovingkindness of the LORD is from everlasting to everlasting on those who fear Him,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His righteousness to children’s children,  </a:t>
            </a:r>
            <a:br>
              <a:rPr sz="3200"/>
            </a:b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o those who keep His covenant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remember His precepts to do them. (Psalm 103:17-18).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28600" y="228600"/>
            <a:ext cx="373392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d's Compas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88:2-3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y prayer come before You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ine Your ear to my cry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my soul has had enough troubl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y life has drawn near to She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fe after Dea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88:4-5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reckoned among those who go down to the pi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become like a man without strength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saken among the dea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he slain who lie in the grav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m You remember no m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are cut off from Your 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fe after Dea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88:6-7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put me in the lowest pi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ark places, in the depth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r wrath has rested upon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 have afflicted me with all Your waves. Sel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fe after Dea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Psalm 103-108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buked the Red Sea and it dried up; And He led them through the deeps, as through the wilderness (106: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d has spoken in His holiness: "I will exult, I will portion out Shechem, And measure out the valley of Succo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ilead is Mine, Manasseh is Mine; Ephraim also is the helmet of My head; Judah is My scepter. (Psalm 108:7-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49:1-2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choir direct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alm of the sons of Kora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 this, all people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ear, all inhabitants of the world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oth low and hig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 and poor togeth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fe after Dea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49:3-4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mouth will speak wisdo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meditation of my hear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will incline my ear to a proverb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express my riddle on the harp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fe after Dea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49:5-6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should I fear in days of adversit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iniquity of my foes surrounds me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n those who trust in their weal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oast in the abundance of their riches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fe after Dea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49:7-9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an can by any means redee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give to God a ransom for him--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redemption of his soul is costl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should ceas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y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ver--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he should live on eternall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he should not undergo dec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fe after Dea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733920" y="152280"/>
            <a:ext cx="48765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49:10-11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142640" y="137160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he see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at ev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e men di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pid and the senseless alike peris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eave their wealth to othe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ir inner though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houses are fore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welling places to all generation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called their lands after their own nam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fe after Dea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49:12-13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man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mp will not endur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like the beasts that peris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is is the way of those who are foolis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f those after them who approve their words. Sela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fe after Dea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49:14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sheep they are appointed for Sheol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shall be their shepher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upright shall rule over them in the morn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ir form shall be for Sheol to consu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at they have no habita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fe after Dea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49:15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God will redeem my soul from the power of Sheol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will receive me. Sel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fe after Dea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49:16-17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e afraid when a man becomes ric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glory of his house is increased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when he dies he will carry nothing away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glory will not descend after hi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fe after Dea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49:18-20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42640" y="137160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while he lives he congratulates himself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oug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you when you do well for yourself--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shall go to the generation of his father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ll never see the ligh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mp, yet without understand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like the beasts that per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fe after Dea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76520" y="2819520"/>
            <a:ext cx="537192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Covenant Moti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85840" y="1522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salm 73:23-24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142640" y="137160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theless I am continually with You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taken hold of my right han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Your counsel You will guide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fterward receive me to gl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880" y="30492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fe after Dea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2514600" cy="108900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salm 146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819520" y="1218960"/>
            <a:ext cx="5867280" cy="10666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s of Redeemed Individu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2286000"/>
            <a:ext cx="2514600" cy="93348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salm 1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2286000"/>
            <a:ext cx="5867280" cy="9144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s of Redeemed Isra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3200400"/>
            <a:ext cx="2514600" cy="114300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salm 14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3200400"/>
            <a:ext cx="5867280" cy="1143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s of Redeemed N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4343400"/>
            <a:ext cx="2514600" cy="121932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salm 1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4343400"/>
            <a:ext cx="5867280" cy="12193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ises for God’s Righteous Judg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5562720"/>
            <a:ext cx="2514600" cy="91440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salm 1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5562720"/>
            <a:ext cx="5867280" cy="9144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iversal &amp; Eternal Pra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676520" y="228600"/>
            <a:ext cx="533376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salms 146 - 15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/>
          <p:nvPr/>
        </p:nvSpPr>
        <p:spPr>
          <a:xfrm>
            <a:off x="5105520" y="6491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Sampling the Psalms, Pg 2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he Value of the Psalm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47440" y="1852200"/>
            <a:ext cx="693900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Commentary of the Old Testa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turgy for Worsh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attern for Pray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sdom for Liv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89:1-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19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skil of Ethan the Ezrahi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ing of the lovingkindness of the LORD forever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ll generations I will make known Your faithfulness with my mout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I have said, “Lovingkindness will be built up forever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heavens You will establish Your faithfulnes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1319040"/>
            <a:ext cx="44956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89:3-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made a covenant with My chos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sworn to David My servant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will establish your seed fore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uild up your throne to all generations. Sel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90720" y="4648320"/>
            <a:ext cx="7086600" cy="2288520"/>
            <a:chOff x="990720" y="4648320"/>
            <a:chExt cx="7086600" cy="2288520"/>
          </a:xfrm>
        </p:grpSpPr>
        <p:sp>
          <p:nvSpPr>
            <p:cNvPr id="62" name=""/>
            <p:cNvSpPr/>
            <p:nvPr/>
          </p:nvSpPr>
          <p:spPr>
            <a:xfrm>
              <a:off x="990720" y="4800600"/>
              <a:ext cx="6933960" cy="9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66680" y="4648320"/>
              <a:ext cx="3429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tyrIb. yTir:K'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43400" y="495288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Karatiy beriyth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6-02-11T09:33:45Z</dcterms:modified>
  <cp:revision>262</cp:revision>
  <dc:subject/>
  <dc:title>Poetic Books</dc:title>
</cp:coreProperties>
</file>