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914-DF95-4C32-A23D-860A93D1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8460-80C8-451F-A6CD-410EFBA6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AB7F-343C-4A35-904C-7297385CC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55C2-6371-476A-ADD0-AB1D1B3DD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E2B8-C55F-4F4E-BB22-335004B82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B46C-A36E-428F-9877-BD2ED5CCA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F995-165B-44B2-9189-7DF7D9001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C8F2-7589-41CD-94A2-5DE575255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607-8A9C-4870-88B1-D4C042BC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BB5-405C-4D80-871D-68E26BB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17C-910C-4127-96D4-E0A70719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089-B6D9-4B89-9545-94BAEA2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E98-72BB-40FE-B9CF-69B36DC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DEF-2D7E-4495-9EC4-B4CA2B69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EB3-97F7-4B38-A588-7FFD206A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923-65E8-4B13-9FE6-A4F10DC2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1DE-85C7-42B2-B014-3293C6F8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B9D-F12D-46F7-B66C-FA8E2F5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853-98FA-435C-9097-81857B8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D88-3479-4F72-9207-7447994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AB3-1E2E-49F1-BF19-778707D97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25146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etic 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you in despair, O my soul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y have you become disturbed within me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in God, for I shall yet praise Him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lp of my countenance and my Go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1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tevens@tiu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roup Introductio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m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you in the TIU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current ministry within the 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play a musical instru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loring the Old Testament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olume 3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Guide to the Psalms &amp; Wisdom Litera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257800" y="4723920"/>
            <a:ext cx="2819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Lu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54492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figures of speech and the use of imagery in the poetry of the Bible in order to participate in its d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loud the poetry of the Psalms and Wisdom Books of the Old Testament for ceremonial occa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parallel members in biblical poetry in order to synthesize the various elements in them into a meaningful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e the various types of poetry in the different poetic books of the B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place of a wisdom tradition in Ancient Israel and consider wisdom influence in the formulation of the B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the structure of the Poetic Books of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the perspectives of Job and Ecclesiastes to the wisdom of Proverbs as a guide for evaluating current perspectives about meaningful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 the poetry and wisdom of the world of the Bible in order to consider different perspectives on the meaning of life in antiquit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Require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8991720" cy="6705720"/>
        </p:xfrm>
        <a:graphic>
          <a:graphicData uri="http://schemas.openxmlformats.org/drawingml/2006/table">
            <a:tbl>
              <a:tblPr/>
              <a:tblGrid>
                <a:gridCol w="1295280"/>
                <a:gridCol w="6248520"/>
                <a:gridCol w="14479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en D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3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 the course syllabus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do the following assignments: </a:t>
                      </a:r>
                      <a:r>
                        <a:rPr b="1" lang="en-US" sz="32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Primary Assignment Observations &amp; Impressions from Psalms 1-14, pages 21-22; 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Pre-reading Activity for A Guide to the Psalms &amp; Wisdom Literature (GPWL), page 2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the: Reading Activity “Psalms” (ch.1, pp.1-34), Ques. On pgs 24-2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  <p:sp>
        <p:nvSpPr>
          <p:cNvPr id="89" name="Slide Number Placeholder 6"/>
          <p:cNvSpPr/>
          <p:nvPr/>
        </p:nvSpPr>
        <p:spPr>
          <a:xfrm>
            <a:off x="8381880" y="6620040"/>
            <a:ext cx="3049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A8E-0EBA-414E-8CB8-D74429819876}" type="slidenum"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Date Placeholder 8"/>
          <p:cNvSpPr/>
          <p:nvPr/>
        </p:nvSpPr>
        <p:spPr>
          <a:xfrm>
            <a:off x="0" y="6665760"/>
            <a:ext cx="1219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2/20/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Require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219320"/>
          <a:ext cx="8991720" cy="4564080"/>
        </p:xfrm>
        <a:graphic>
          <a:graphicData uri="http://schemas.openxmlformats.org/drawingml/2006/table">
            <a:tbl>
              <a:tblPr/>
              <a:tblGrid>
                <a:gridCol w="2286000"/>
                <a:gridCol w="5181840"/>
                <a:gridCol w="15238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en D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9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mework Assignment: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mplete the “Observations and Impressions” worksheet for Psalms 1-14 )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p.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mework Assignment: Choose Two Psalms and Analyze them.</a:t>
                      </a:r>
                      <a:r>
                        <a:rPr b="0" i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p. 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093-DE8C-4422-9C63-7CD0569C8111}" type="slidenum"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Date Placeholder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/20/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Require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239760"/>
          <a:ext cx="8991720" cy="5334120"/>
        </p:xfrm>
        <a:graphic>
          <a:graphicData uri="http://schemas.openxmlformats.org/drawingml/2006/table">
            <a:tbl>
              <a:tblPr/>
              <a:tblGrid>
                <a:gridCol w="2514600"/>
                <a:gridCol w="4953240"/>
                <a:gridCol w="152388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en D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mework Assignment: Write a short devotional and then write a prayer from the Psalm</a:t>
                      </a:r>
                      <a:r>
                        <a:rPr b="0" i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p. 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eek 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mework Assignment: Write a short devotional from another Psalm and then write a prayer from the Psalm</a:t>
                      </a:r>
                      <a:r>
                        <a:rPr b="0" i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p. 30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6172200" cy="4938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Require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43000"/>
          <a:ext cx="8991720" cy="3382920"/>
        </p:xfrm>
        <a:graphic>
          <a:graphicData uri="http://schemas.openxmlformats.org/drawingml/2006/table">
            <a:tbl>
              <a:tblPr/>
              <a:tblGrid>
                <a:gridCol w="2286000"/>
                <a:gridCol w="5029200"/>
                <a:gridCol w="167652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en D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idnight Sunday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r. 27, 201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otal Points   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rad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22856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 Particip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ed Learning Paper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286000"/>
            <a:ext cx="1447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495680"/>
            <a:ext cx="7696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724280"/>
            <a:ext cx="5715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724280"/>
            <a:ext cx="160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PA form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a title page on all assignments following the APA form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oing an assignment that requires answering specific questions, include each question and answer together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is normally due at the beginning of each class 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2286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sign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are responsible to get assignments to the professor and get them in on time. I will not pursue students to get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send a paper by email I will always return an email verifying that I receive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2286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sign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ssignments must be turned in on or before the date they are due. Any assignment turned in late will be deducted as follow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f for up to 24 hours l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off for up to 48 hours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tension on the time needed to submit the ALP will be granted only in unusual circumstances and if TIU Administration grants the requ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2286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sign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66724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ntateu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7760" y="914400"/>
            <a:ext cx="57150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sis, Exodus, Leviticus, Numbers, Deute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05120"/>
            <a:ext cx="266724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storical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1905120"/>
            <a:ext cx="57150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, Judges, Ruth, 1-2 Samuel, 1-2 Kings, 1-2 Chronicles, Ezra, Nehemiah, Es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276720"/>
            <a:ext cx="266724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oetic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276720"/>
            <a:ext cx="5715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, Psalms, Proverbs, Ecclesiastes, Song of Solo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19720"/>
            <a:ext cx="2667240" cy="2361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phetic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19720"/>
            <a:ext cx="5715000" cy="2361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iah, Jeremiah, Lamentations, Ezekiel, Daniel, Hosea, Joel, Amos, Obadiah, Jonah, Micah, Nahum, Habakkuk, Zephaniah, Haggai, Zechariah, Malac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152280"/>
            <a:ext cx="60958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ish 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3080"/>
            <a:ext cx="251460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520" y="1066320"/>
            <a:ext cx="2133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&amp;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066680"/>
            <a:ext cx="25146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571500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ng of Solo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495680"/>
            <a:ext cx="25146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cclesi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209680"/>
            <a:ext cx="25146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sa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42900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73080"/>
            <a:ext cx="213372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209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&amp;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429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495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&amp; 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715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066680"/>
            <a:ext cx="2133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vere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73080"/>
            <a:ext cx="213372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 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2209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429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-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495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5715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r of Hi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1066680"/>
            <a:ext cx="213336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his face before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73080"/>
            <a:ext cx="213336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n 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209680"/>
            <a:ext cx="213336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the thron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429000"/>
            <a:ext cx="21333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ing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4495680"/>
            <a:ext cx="213336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5715000"/>
            <a:ext cx="21333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love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poetr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alyze a poem or so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overall struc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igurative imagery is used and what does it conv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make you fee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190512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19320" y="380880"/>
            <a:ext cx="36622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828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terary device that uses words in other than their normal s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the Latin wor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u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“manner or styl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2320" y="2712960"/>
            <a:ext cx="5943600" cy="1632600"/>
            <a:chOff x="2362320" y="2712960"/>
            <a:chExt cx="5943600" cy="1632600"/>
          </a:xfrm>
        </p:grpSpPr>
        <p:sp>
          <p:nvSpPr>
            <p:cNvPr id="161" name=""/>
            <p:cNvSpPr/>
            <p:nvPr/>
          </p:nvSpPr>
          <p:spPr>
            <a:xfrm>
              <a:off x="2895480" y="2789280"/>
              <a:ext cx="5410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He will be like a tree </a:t>
              </a: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</a:rPr>
                <a:t>firmly 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planted by streams of water (Psalm 1:3)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2320" y="27129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62320" y="2712960"/>
            <a:ext cx="5943600" cy="2120040"/>
            <a:chOff x="2362320" y="2712960"/>
            <a:chExt cx="5943600" cy="2120040"/>
          </a:xfrm>
        </p:grpSpPr>
        <p:sp>
          <p:nvSpPr>
            <p:cNvPr id="167" name=""/>
            <p:cNvSpPr/>
            <p:nvPr/>
          </p:nvSpPr>
          <p:spPr>
            <a:xfrm>
              <a:off x="2895480" y="2789280"/>
              <a:ext cx="5410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The wicked are not so,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But they are like chaff which the wind drives away 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Psalm 1:4)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27129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52116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my rock and my fortress and my deliv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salm 18:2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4448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3521160"/>
            <a:ext cx="541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shield and the horn of my salvation, my stronghold. (Psalm 18:2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34448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248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use of the name of one thing to stand for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10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You, O LORD, are a shield about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glory, and the One wh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ifts my hea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Ps 3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276720"/>
            <a:ext cx="5334120" cy="30186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acrifice and meal offering You have not desir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y ears You have open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rnt offering and sin offering You have not required. (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salm 40:6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029200"/>
            <a:ext cx="312408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471"/>
              </a:gs>
              <a:gs pos="100000">
                <a:srgbClr val="0035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bod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e prepa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b. 10: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94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99896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use of a word designed to convey the opposite of its normal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35268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429000"/>
            <a:ext cx="4647960" cy="2971800"/>
          </a:xfrm>
          <a:prstGeom prst="wedgeRoundRectCallout">
            <a:avLst>
              <a:gd name="adj1" fmla="val -88694"/>
              <a:gd name="adj2" fmla="val 15171"/>
              <a:gd name="adj3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Job responded,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“Truly then you are the peopl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ith you wisdom will die! (Job 12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14600" y="380880"/>
            <a:ext cx="44910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gures of Spee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440" y="2666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ony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o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35268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819520"/>
            <a:ext cx="4648320" cy="2971800"/>
          </a:xfrm>
          <a:prstGeom prst="wedgeRoundRectCallout">
            <a:avLst>
              <a:gd name="adj1" fmla="val -58537"/>
              <a:gd name="adj2" fmla="val 49625"/>
              <a:gd name="adj3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t the rivers clap their hand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t the mountains sing together for joy (Psalm 98:8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715000" cy="543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209680" y="2743200"/>
            <a:ext cx="47815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etry &amp;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9625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the nations in an upro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oples devising a vain thing? (Psalm 2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96252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s of the earth take their st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rulers take counsel together (Psalm 2:2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362320"/>
            <a:ext cx="556272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restated in the Second 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39625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sits in the heavens laugh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coffs at them. (Palm 2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200400"/>
            <a:ext cx="640080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First line is followed by its opposite in the Second 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8769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are not a God who takes pleasure in wicked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vil dwells with You. (Psalm 5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4038480"/>
            <a:ext cx="6400800" cy="17398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Second line continues and expands the thought begun the first 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267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crying to the LORD with my voi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answered me from His holy mountain. Selah. (Psalm 3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876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the deer pants for the water brook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my soul pants for You, O God (Psalm 42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50292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my shephe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hall not want. (Psalm 23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deer pants for the water brook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my soul pants for You, O God.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soul thirsts for God, for the living God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hall I come and appear before God?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tears have been my food day and night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to me all day lo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Where is your God?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1-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onymous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ithetical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nthe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blema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mactic Parall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ribe to the LORD, O sons of the migh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ribe to the LORD glory and streng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cribe to the LORD the glory due to His na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hip the LORD in holy ar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is upon the water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 of glory thunder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over many wat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is powerfu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is majest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5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breaks the cedar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 LORD breaks in pieces the cedars of Leban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makes Lebanon skip like a cal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irion like a young wild ox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hews out flames of fi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shakes the wilder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hakes the wilderness of Kades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makes the deer to cal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trips the forests bar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in His temple everything says, “Glory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9:10-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a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K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floo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 LORD sits as King fore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RD will give strength to His peopl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will bless His people with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06668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type of Parallelism is being u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, when he fled from Absalom his s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how my adversaries have increas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re rising up against 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y are saying of my sou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deliverance for him in God.” Selah. (Psalm 3:1-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type of Parallelism is being u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, O LORD, are a shield about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lory, and the One who lifts my hea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as crying to the LORD with my voi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answered me from His holy mountain. Sela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lay down and slep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woke, for the LORD sustains me. (Psalm 3:3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type of Parallelism is being u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ot be afraid of ten thousands of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ve set themselves against me round abou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ise, O LORD; save me, O my Go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have smitten all my enemies on the cheek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shattered the teeth of the wicked. (Psalm 3:6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type of Parallelism is being u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belongs to the LO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bless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Your people! Selah (Psalm 3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79240"/>
            <a:ext cx="73152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hings I remember and I pour out my soul within m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used to go along with the thro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them in procession to the house of Go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voice of joy and thanksgiving, a multitude keeping festival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666880" y="127944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287964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consist of two lines (colons) or th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the nations in an upro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oples devising a vain thing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kings of the earth take their st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rulers take counsel toge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gainst His Anoint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4479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5909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1911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ing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Let us tear their fetters ap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ast away their cords from us!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sits in the heavens laugh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coffs at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He will speak to them in His ang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errify them in His f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909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7339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ing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But as for Me, I have installed My 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Zion, My holy mountai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4479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7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ill surely tell of the decree of the LO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438280"/>
            <a:ext cx="6858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aid to Me, “You are My Son, Today I have begotte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k of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surely g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s as Your inherita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s of the earth as Your possessio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514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36576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48006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break them with a rod of ir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shatter them like earthen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447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10-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fore, O kings, show discernmen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warning, O judges of the ear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ship the LORD with rever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joice with tremb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4479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81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homage to the Son, that He not become angr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peris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wrath may soon be kind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lessed are all who take refuge in Him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057040" y="19047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y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say it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20040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g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09480" y="193032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0240" y="3124080"/>
            <a:ext cx="1791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708360"/>
            <a:ext cx="18288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7640" y="4876920"/>
            <a:ext cx="1828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, O LOR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You forget me forev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l You hide Your face from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long shall I take counsel in my sou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v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in my heart all the 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l my enemy be exalted over me? (Psalm 13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you in despair, O my soul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become disturbed within me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in God, for I shall again praise Him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lp of His presence.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 my God, my soul is in despair within me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 remember You from the land of the Jord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aks of Hermon, from Mount Mizar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5-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ribe to the LORD, O sons of the mighty, Ascribe to the LORD glory and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cribe to the LORD the glory due to His na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hip the LORD in holy array. (Psalm 29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2256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59424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911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1905120"/>
            <a:ext cx="41911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657600"/>
            <a:ext cx="4191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267080"/>
            <a:ext cx="4191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is upon the water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 of glory thund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over many wat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is powerfu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is majestic. (Psalm 29:3-4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1955880"/>
            <a:ext cx="41911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851360"/>
            <a:ext cx="4191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breaks the cedar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 LORD breaks in pieces the cedars of Leban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makes Lebanon skip like a cal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irion like a young wild ox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hews out flames of fire. (Psalm 29:5-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73200" y="1930320"/>
            <a:ext cx="41907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1800" y="3683160"/>
            <a:ext cx="41907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ice of the LORD shakes the wilder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hakes the wilderness of Kades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oice of the LORD makes the deer to cal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trips the forests bar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His temple everything says, “Glory!” (Psalm 29:8-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666880" y="304920"/>
            <a:ext cx="3819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peti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ive thanks to the LORD with a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ompany of the upright and in the assembl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are the works of the LO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y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d by all who delight in them. (Psalm 111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666880" y="304920"/>
            <a:ext cx="3657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rost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34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937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lendid and majestic is His wor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righteousness endures fore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has made His wonders to be remember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gracious and compassionat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has given food to those who fear Him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remember His covenant forever. (Psalm 111:3-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666880" y="304920"/>
            <a:ext cx="36576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rost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447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z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3746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4381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006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991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king a point through the use of over-state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447920" y="3581280"/>
            <a:ext cx="6400800" cy="236232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weary with my sighing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ight I make my bed sw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issolve my couch with my t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6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8120" y="5335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yperbo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ad Psalm 6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o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igures of speech ar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igurative imagery is used and what does it conv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make you fee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1905120" cy="182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1219320" y="380880"/>
            <a:ext cx="36622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188720"/>
            <a:ext cx="792504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calls to deep at the sound of Your waterfalls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Your breakers and Your waves have rolled over me.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RD will command His lovingkindness in the daytime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song will be with me in the night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ayer to the God of my lif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7-8).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ay to God my rock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Why have You forgotten me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I go mourning because of the oppression of the enemy?”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a shattering of my bones, my adversaries revile m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they say to me all day lo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Where is your God?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 42:9-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6-02-15T19:24:30Z</dcterms:modified>
  <cp:revision>299</cp:revision>
  <dc:subject/>
  <dc:title>Poetic Books</dc:title>
</cp:coreProperties>
</file>