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4A4-D194-4C58-B413-61EF176D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DC7-ED08-434F-A1E5-1F10E736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252-CA8F-4582-86DB-7C2755A1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C98E-332B-4240-8422-8B136DE4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D1C-837A-4257-AD5F-AA769CAD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915-639D-4B19-B519-4D806F15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A15-1D3F-4FB9-8184-A35F307E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037-D855-49CB-9309-A2BC9019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F4A4-D48F-4ECE-B75D-FA8E3A46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5A7-6BF4-41F5-8D67-3E4A00F4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F81-072B-4519-ABF2-BE52F344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81E-075D-46F2-BE8E-E22C92B1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C34D-0CA1-4098-AEC6-3F102D1F2B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Pastoral Epist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105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52480" y="2209680"/>
            <a:ext cx="5867640" cy="97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auline Epist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8800" y="365724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ll for men to pray (2:1-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ll for women to adorn themselves modestly and with good works (2:9-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533520"/>
            <a:ext cx="18288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219320"/>
            <a:ext cx="891540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struct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33520"/>
            <a:ext cx="167616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1828800"/>
            <a:ext cx="1752480" cy="1676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bout men and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533520"/>
            <a:ext cx="20574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s 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533520"/>
            <a:ext cx="16002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533520"/>
            <a:ext cx="175284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80920" y="3504960"/>
            <a:ext cx="4419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fications for leaders (3:1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teachers (4:1-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instructions to Timothy (4:12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533520"/>
            <a:ext cx="18288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1219320"/>
            <a:ext cx="891540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struct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533520"/>
            <a:ext cx="167616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1828800"/>
            <a:ext cx="1752480" cy="1676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bout men and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1828800"/>
            <a:ext cx="205740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or 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533520"/>
            <a:ext cx="20574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s 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533520"/>
            <a:ext cx="16002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533520"/>
            <a:ext cx="175284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62720" y="3581280"/>
            <a:ext cx="3581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 to the elderly (5:1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for widows (5:3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 for elders &amp; leaders (5:17-2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320" y="533520"/>
            <a:ext cx="18288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219320"/>
            <a:ext cx="891540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struct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533520"/>
            <a:ext cx="167616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1828800"/>
            <a:ext cx="1752480" cy="1676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bout men and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1828800"/>
            <a:ext cx="205740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or 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533520"/>
            <a:ext cx="20574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s 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1828800"/>
            <a:ext cx="1600200" cy="1676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bout the elde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533520"/>
            <a:ext cx="16002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533520"/>
            <a:ext cx="175284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0" y="3580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s &amp; Masters (6:1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seek financial profit (6:3-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arge to personal faithfulness (6:11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ons to the rich (6:17-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 (6:20-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33520"/>
            <a:ext cx="18288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1219320"/>
            <a:ext cx="891540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struct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533520"/>
            <a:ext cx="167616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1828800"/>
            <a:ext cx="1752480" cy="1676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bout men and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1828800"/>
            <a:ext cx="205740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or 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533520"/>
            <a:ext cx="20574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s 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1828800"/>
            <a:ext cx="1600200" cy="1676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bout the elde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533520"/>
            <a:ext cx="16002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1828800"/>
            <a:ext cx="175284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33520"/>
            <a:ext cx="175284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76360" y="151920"/>
            <a:ext cx="5562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Epistle to Tit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943240" y="274320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orning the Gospel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4967280" cy="3257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-152280" y="0"/>
            <a:ext cx="9372600" cy="68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114800" y="3462480"/>
            <a:ext cx="1447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914400"/>
            <a:ext cx="228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Nicopolis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960" y="38098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ing Salutation (1:1-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2666880"/>
            <a:ext cx="411480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, a bond-servant of God, and an apostle of Jesus Christ, for the faith of those chosen of God and the knowledge of the truth which is according to godliness, (Titus 1: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181480" y="2971800"/>
            <a:ext cx="3962520" cy="4572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960" y="38098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ing Salutation (1:1-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2495520"/>
            <a:ext cx="510552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ope of eternal life, which God, who cannot lie, promised long ages ago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ut at the proper time manifested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v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word, in the proclamation with which I was entrusted according to the commandment of God our Savior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5124600"/>
            <a:ext cx="3301920" cy="64260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yeudhj qeoj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3276720"/>
            <a:ext cx="1600200" cy="1828800"/>
          </a:xfrm>
          <a:custGeom>
            <a:avLst/>
            <a:gdLst/>
            <a:ahLst/>
            <a:rect l="l" t="t" r="r" b="b"/>
            <a:pathLst>
              <a:path w="1008" h="1152">
                <a:moveTo>
                  <a:pt x="1008" y="0"/>
                </a:moveTo>
                <a:lnTo>
                  <a:pt x="864" y="96"/>
                </a:lnTo>
                <a:cubicBezTo>
                  <a:pt x="864" y="96"/>
                  <a:pt x="549" y="109"/>
                  <a:pt x="432" y="144"/>
                </a:cubicBezTo>
                <a:cubicBezTo>
                  <a:pt x="315" y="179"/>
                  <a:pt x="227" y="216"/>
                  <a:pt x="163" y="304"/>
                </a:cubicBezTo>
                <a:cubicBezTo>
                  <a:pt x="99" y="392"/>
                  <a:pt x="75" y="531"/>
                  <a:pt x="48" y="672"/>
                </a:cubicBezTo>
                <a:cubicBezTo>
                  <a:pt x="21" y="813"/>
                  <a:pt x="10" y="1052"/>
                  <a:pt x="0" y="115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20" y="3809880"/>
            <a:ext cx="53337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ing Salutation (1:1-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us’ Job Description: To appoint elders in every city (1: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fications for elders/overseers (1:6-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1676520" cy="1067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1523880"/>
            <a:ext cx="1676160" cy="1067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1523880"/>
            <a:ext cx="1676520" cy="1067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Th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1523880"/>
            <a:ext cx="1981080" cy="1067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F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1523880"/>
            <a:ext cx="1676520" cy="1067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F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590920"/>
            <a:ext cx="167652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2590920"/>
            <a:ext cx="167652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the Bis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590920"/>
            <a:ext cx="167616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planter &amp; overse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2590920"/>
            <a:ext cx="167652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’s Gos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590920"/>
            <a:ext cx="198108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the Theolog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962520"/>
            <a:ext cx="16765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to Gree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3962520"/>
            <a:ext cx="167616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i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962520"/>
            <a:ext cx="16765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stle to the Ro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3962520"/>
            <a:ext cx="198108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son Epis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8880" y="3962520"/>
            <a:ext cx="16765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storal Epis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14600" y="533520"/>
            <a:ext cx="396252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urse Outli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520" y="3809880"/>
            <a:ext cx="5334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 of Rebellious Men (1:10-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stimony of Rebellious Men (1:12-1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 for Rebellious Men (1:13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352320" y="3733560"/>
            <a:ext cx="5334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ng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ng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us as 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1828800"/>
            <a:ext cx="205740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structions to Variou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95480" y="373356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ace of God has appeared, bringing salvati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ng u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eny ungodl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liv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ing for the appearing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1828800"/>
            <a:ext cx="205740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structions to Variou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10080" y="1828800"/>
            <a:ext cx="190512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iving for the appearing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895480" y="3733560"/>
            <a:ext cx="6019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er to do good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 for good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ll to good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jection of those who cause div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actical exercise in good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828800"/>
            <a:ext cx="205740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structions to Variou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828800"/>
            <a:ext cx="190512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iving for the appearing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15200" y="1828800"/>
            <a:ext cx="167652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iving in the light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ssion Objectiv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asic hermeneutical principles for interpreting and applying epist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the Big Idea of the Pastoral Epist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 developing skills to assess aspects of current worldview, ethical practice, and church life in light of theological principles taught in the epist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15160" y="2527200"/>
            <a:ext cx="2100240" cy="17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Timo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Timo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527200"/>
            <a:ext cx="2243160" cy="17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Thessalon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Thessalon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240" y="2527200"/>
            <a:ext cx="2147760" cy="17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hes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ilipp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ss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ile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527200"/>
            <a:ext cx="2195640" cy="17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orinth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Corinth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lat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15160" y="774720"/>
            <a:ext cx="2100240" cy="1739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toral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774720"/>
            <a:ext cx="2243160" cy="1739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hetic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24240" y="774720"/>
            <a:ext cx="2147760" cy="1739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son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774720"/>
            <a:ext cx="2195640" cy="1739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al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15160" y="4267080"/>
            <a:ext cx="210024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ongre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267080"/>
            <a:ext cx="224316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second 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24240" y="4267080"/>
            <a:ext cx="214776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hu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4267080"/>
            <a:ext cx="219564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15160" y="5207040"/>
            <a:ext cx="210024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clesi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5207040"/>
            <a:ext cx="224316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at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24240" y="5207040"/>
            <a:ext cx="214776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5207040"/>
            <a:ext cx="219564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teri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uthorship of the Pastoral Epistl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2255760"/>
            <a:ext cx="7543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questioned until early 1800’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nt from Marcion’s can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nt from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one of earliest Pauline manuscrip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and style notably different from Paul’s other epist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ole-Pl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mber of your church has been taking a college class in which he has been told that the Pastoral Epistles are not authored by Paul.  What would you s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76360" y="151920"/>
            <a:ext cx="5562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First Epistle to Timothy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943240" y="274320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Father to 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80880" y="2550960"/>
            <a:ext cx="5105520" cy="385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533520" y="0"/>
            <a:ext cx="9982440" cy="6954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96240" y="199548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GREE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0360" y="160020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ASIA MIN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64600" y="2743200"/>
            <a:ext cx="19209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ph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1160" y="76212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Maced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320" y="3809880"/>
            <a:ext cx="67053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othy’s mission in Ephesus (1:2-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: Teachers of the Law (1:6-1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sgiving for God’s mercy (1:12-1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othy’s commission (1:18-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533520"/>
            <a:ext cx="18288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1219320"/>
            <a:ext cx="891540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struct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533520"/>
            <a:ext cx="167616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533520"/>
            <a:ext cx="20574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s 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533520"/>
            <a:ext cx="16002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533520"/>
            <a:ext cx="175284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10-10-13T23:28:03Z</dcterms:modified>
  <cp:revision>246</cp:revision>
  <dc:subject/>
  <dc:title>Discipleship Across the Lifespan</dc:title>
</cp:coreProperties>
</file>