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386B-3351-4E2C-88D1-6139701CD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3218-4C99-41FD-B783-FA65074D6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4C4F-18EF-4C81-8CA6-24D171B4F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EE8A-1860-4A93-98AD-D39E34BC6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A077-51E1-4D46-94D4-3468F0BD5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2B33-9374-4FB3-ACA1-4708125D6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C255-6CD7-4647-8098-CF6CB8613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DE6D-5E60-44DC-A062-06DDB6F62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D1BA-9787-454A-9B9B-DC190F0F6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224A-CBB3-4943-9527-8951B6DE3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7CAB-8617-418C-994A-0FE47C30A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03D6-B9C3-42F4-9875-0FC7DC904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3EF7C-A011-4E6D-A0AF-6E6D3F1734A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47920" y="37339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Paul’s Gosp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510552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© John Stevenson,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752480" y="2209680"/>
            <a:ext cx="5867640" cy="973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Pauline Epistle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The Righteousness of God is revealed…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990360" y="2133360"/>
            <a:ext cx="7543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reckoning men as righteous by crediting them with the righteousness of Christ (Chapter 4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declaring men to be righteous on the basis of the reckoning described in the previous chapter (Chapter 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Cloud"/>
          <p:cNvSpPr/>
          <p:nvPr/>
        </p:nvSpPr>
        <p:spPr>
          <a:xfrm>
            <a:off x="1066680" y="1905120"/>
            <a:ext cx="5486400" cy="1063440"/>
          </a:xfrm>
          <a:prstGeom prst="pie">
            <a:avLst/>
          </a:prstGeom>
          <a:gradFill rotWithShape="0">
            <a:gsLst>
              <a:gs pos="0">
                <a:srgbClr val="990000"/>
              </a:gs>
              <a:gs pos="100000">
                <a:srgbClr val="46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about si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90720" y="3124080"/>
            <a:ext cx="74674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we continue to live in sin? (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bout the sin that is still in our lives? (7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adopting us as His children (Chapter 8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 Righteousness of God is revealed…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600200" y="3200400"/>
            <a:ext cx="6781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all Israel is Israe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 is sovereign and able to chose whom He wil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lvation is offered to all who belie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rael’s unbelief has resulted in blessings to the Genti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Israel will be sav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Cloud"/>
          <p:cNvSpPr/>
          <p:nvPr/>
        </p:nvSpPr>
        <p:spPr>
          <a:xfrm>
            <a:off x="914400" y="152280"/>
            <a:ext cx="4191120" cy="1371600"/>
          </a:xfrm>
          <a:prstGeom prst="pie">
            <a:avLst/>
          </a:prstGeom>
          <a:gradFill rotWithShape="0">
            <a:gsLst>
              <a:gs pos="0">
                <a:srgbClr val="990000"/>
              </a:gs>
              <a:gs pos="100000">
                <a:srgbClr val="46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about Isra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6320" y="1523880"/>
            <a:ext cx="86104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How can we see God as righteous when His own chosen people do not believe and receive His promis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4114800" cy="146988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6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Chapters 1-11</a:t>
            </a:r>
            <a:br>
              <a:rPr sz="3200"/>
            </a:b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Doctrinal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38680" y="914400"/>
            <a:ext cx="3200400" cy="146988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6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Chapters 12-16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ractic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Cloud"/>
          <p:cNvSpPr/>
          <p:nvPr/>
        </p:nvSpPr>
        <p:spPr>
          <a:xfrm>
            <a:off x="4114800" y="1595520"/>
            <a:ext cx="1828800" cy="11476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o Wha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2895480"/>
            <a:ext cx="3581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I Urge you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3763800"/>
            <a:ext cx="73152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present your bodies a living and holy sacrif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not be conformed to this wor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 transformed by the renewing of your mi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209680" y="1371600"/>
            <a:ext cx="838440" cy="8380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2743200" cy="1143000"/>
          </a:xfrm>
          <a:prstGeom prst="rect">
            <a:avLst/>
          </a:prstGeom>
          <a:gradFill rotWithShape="0">
            <a:gsLst>
              <a:gs pos="0">
                <a:srgbClr val="170007"/>
              </a:gs>
              <a:gs pos="100000">
                <a:srgbClr val="990033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lieving the Gospel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267080" y="3505320"/>
            <a:ext cx="838440" cy="8380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43200" y="2438280"/>
            <a:ext cx="2743200" cy="1143000"/>
          </a:xfrm>
          <a:prstGeom prst="rect">
            <a:avLst/>
          </a:prstGeom>
          <a:gradFill rotWithShape="0">
            <a:gsLst>
              <a:gs pos="0">
                <a:srgbClr val="170007"/>
              </a:gs>
              <a:gs pos="100000">
                <a:srgbClr val="990033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newal of your mi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952880" y="4572000"/>
            <a:ext cx="3048120" cy="2057400"/>
          </a:xfrm>
          <a:prstGeom prst="rect">
            <a:avLst/>
          </a:prstGeom>
          <a:gradFill rotWithShape="0">
            <a:gsLst>
              <a:gs pos="0">
                <a:srgbClr val="170007"/>
              </a:gs>
              <a:gs pos="100000">
                <a:srgbClr val="990033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ve for…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od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ne another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wor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76320" y="171360"/>
            <a:ext cx="4419360" cy="642600"/>
          </a:xfrm>
          <a:prstGeom prst="rect">
            <a:avLst/>
          </a:prstGeom>
          <a:gradFill rotWithShape="0">
            <a:gsLst>
              <a:gs pos="0">
                <a:srgbClr val="170007"/>
              </a:gs>
              <a:gs pos="50000">
                <a:srgbClr val="990033"/>
              </a:gs>
              <a:gs pos="100000">
                <a:srgbClr val="170007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Romans 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320" y="819000"/>
            <a:ext cx="4419360" cy="520560"/>
          </a:xfrm>
          <a:prstGeom prst="rect">
            <a:avLst/>
          </a:prstGeom>
          <a:gradFill rotWithShape="0">
            <a:gsLst>
              <a:gs pos="0">
                <a:srgbClr val="000026"/>
              </a:gs>
              <a:gs pos="50000">
                <a:srgbClr val="0000ff"/>
              </a:gs>
              <a:gs pos="100000">
                <a:srgbClr val="000026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sonal responsi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495680" y="171360"/>
            <a:ext cx="4419720" cy="642600"/>
          </a:xfrm>
          <a:prstGeom prst="rect">
            <a:avLst/>
          </a:prstGeom>
          <a:gradFill rotWithShape="0">
            <a:gsLst>
              <a:gs pos="0">
                <a:srgbClr val="170007"/>
              </a:gs>
              <a:gs pos="50000">
                <a:srgbClr val="990033"/>
              </a:gs>
              <a:gs pos="100000">
                <a:srgbClr val="170007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Romans 1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95680" y="819000"/>
            <a:ext cx="4419720" cy="520560"/>
          </a:xfrm>
          <a:prstGeom prst="rect">
            <a:avLst/>
          </a:prstGeom>
          <a:gradFill rotWithShape="0">
            <a:gsLst>
              <a:gs pos="0">
                <a:srgbClr val="000026"/>
              </a:gs>
              <a:gs pos="50000">
                <a:srgbClr val="0000ff"/>
              </a:gs>
              <a:gs pos="100000">
                <a:srgbClr val="000026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vernment responsi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495680" y="1338120"/>
            <a:ext cx="4419720" cy="1373760"/>
          </a:xfrm>
          <a:prstGeom prst="rect">
            <a:avLst/>
          </a:prstGeom>
          <a:gradFill rotWithShape="0">
            <a:gsLst>
              <a:gs pos="0">
                <a:srgbClr val="000026"/>
              </a:gs>
              <a:gs pos="50000">
                <a:srgbClr val="0000ff"/>
              </a:gs>
              <a:gs pos="100000">
                <a:srgbClr val="000026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 in subjection to the governing authorities (13: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320" y="1333440"/>
            <a:ext cx="4419360" cy="1373760"/>
          </a:xfrm>
          <a:prstGeom prst="rect">
            <a:avLst/>
          </a:prstGeom>
          <a:gradFill rotWithShape="0">
            <a:gsLst>
              <a:gs pos="0">
                <a:srgbClr val="000026"/>
              </a:gs>
              <a:gs pos="50000">
                <a:srgbClr val="0000ff"/>
              </a:gs>
              <a:gs pos="100000">
                <a:srgbClr val="000026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fer your bodies as a holy and living sacrifice (12: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320" y="2705040"/>
            <a:ext cx="4419360" cy="2657520"/>
          </a:xfrm>
          <a:prstGeom prst="rect">
            <a:avLst/>
          </a:prstGeom>
          <a:gradFill rotWithShape="0">
            <a:gsLst>
              <a:gs pos="0">
                <a:srgbClr val="000026"/>
              </a:gs>
              <a:gs pos="50000">
                <a:srgbClr val="0000ff"/>
              </a:gs>
              <a:gs pos="100000">
                <a:srgbClr val="000026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ver pay back evil for evil (12:17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"Vengeance is Mine, I will repay," says the Lord (12:19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495680" y="2705040"/>
            <a:ext cx="4419720" cy="2653560"/>
          </a:xfrm>
          <a:prstGeom prst="rect">
            <a:avLst/>
          </a:prstGeom>
          <a:gradFill rotWithShape="0">
            <a:gsLst>
              <a:gs pos="0">
                <a:srgbClr val="000026"/>
              </a:gs>
              <a:gs pos="50000">
                <a:srgbClr val="0000ff"/>
              </a:gs>
              <a:gs pos="100000">
                <a:srgbClr val="000026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vernment  does not bear the sword for nothing; for it is a minister of God, an avenger who brings wrath upon the one who practices evil. (13:4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320" y="5353200"/>
            <a:ext cx="4419360" cy="1373760"/>
          </a:xfrm>
          <a:prstGeom prst="rect">
            <a:avLst/>
          </a:prstGeom>
          <a:gradFill rotWithShape="0">
            <a:gsLst>
              <a:gs pos="0">
                <a:srgbClr val="000026"/>
              </a:gs>
              <a:gs pos="50000">
                <a:srgbClr val="0000ff"/>
              </a:gs>
              <a:gs pos="100000">
                <a:srgbClr val="000026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not be overcome by evil, but overcome evil with good (12:2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495680" y="5353200"/>
            <a:ext cx="4419720" cy="1373760"/>
          </a:xfrm>
          <a:prstGeom prst="rect">
            <a:avLst/>
          </a:prstGeom>
          <a:gradFill rotWithShape="0">
            <a:gsLst>
              <a:gs pos="0">
                <a:srgbClr val="000026"/>
              </a:gs>
              <a:gs pos="50000">
                <a:srgbClr val="0000ff"/>
              </a:gs>
              <a:gs pos="100000">
                <a:srgbClr val="000026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lers are not a cause of fear for good behavior, but for evil (12: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0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about when the government is involved in evil?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2031840"/>
            <a:ext cx="7238880" cy="36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bey the laws that do not specifically contradict God’s la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peak out against injusti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 righteousn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 what we can to be an influence for go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1760" y="1580760"/>
            <a:ext cx="2514600" cy="1469880"/>
          </a:xfrm>
          <a:prstGeom prst="rect">
            <a:avLst/>
          </a:prstGeom>
          <a:gradFill rotWithShape="0">
            <a:gsLst>
              <a:gs pos="0">
                <a:srgbClr val="150103"/>
              </a:gs>
              <a:gs pos="50000">
                <a:srgbClr val="8b0b14"/>
              </a:gs>
              <a:gs pos="100000">
                <a:srgbClr val="15010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Romans 14:1-12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761760" y="3048120"/>
            <a:ext cx="2514600" cy="175248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000032"/>
              </a:gs>
              <a:gs pos="100000">
                <a:srgbClr val="0000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’t judge ot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76720" y="1581120"/>
            <a:ext cx="2514600" cy="1469880"/>
          </a:xfrm>
          <a:prstGeom prst="rect">
            <a:avLst/>
          </a:prstGeom>
          <a:gradFill rotWithShape="0">
            <a:gsLst>
              <a:gs pos="0">
                <a:srgbClr val="150103"/>
              </a:gs>
              <a:gs pos="50000">
                <a:srgbClr val="8b0b14"/>
              </a:gs>
              <a:gs pos="100000">
                <a:srgbClr val="15010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Romans 14:13-2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791320" y="1581120"/>
            <a:ext cx="2514600" cy="1469880"/>
          </a:xfrm>
          <a:prstGeom prst="rect">
            <a:avLst/>
          </a:prstGeom>
          <a:gradFill rotWithShape="0">
            <a:gsLst>
              <a:gs pos="0">
                <a:srgbClr val="150103"/>
              </a:gs>
              <a:gs pos="50000">
                <a:srgbClr val="8b0b14"/>
              </a:gs>
              <a:gs pos="100000">
                <a:srgbClr val="15010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Romans 15:1-1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76720" y="3048120"/>
            <a:ext cx="2514600" cy="175248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000032"/>
              </a:gs>
              <a:gs pos="100000">
                <a:srgbClr val="0000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’t cause others to stum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1320" y="3048120"/>
            <a:ext cx="2514600" cy="175248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000032"/>
              </a:gs>
              <a:gs pos="100000">
                <a:srgbClr val="0000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’t just please yoursel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4343400" cy="6890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00060c"/>
              </a:gs>
              <a:gs pos="100000">
                <a:srgbClr val="0033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Opening Chapter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228240" y="838080"/>
            <a:ext cx="4343400" cy="1447920"/>
          </a:xfrm>
          <a:prstGeom prst="rect">
            <a:avLst/>
          </a:prstGeom>
          <a:gradFill rotWithShape="0">
            <a:gsLst>
              <a:gs pos="0">
                <a:srgbClr val="0000d0"/>
              </a:gs>
              <a:gs pos="50000">
                <a:srgbClr val="000045"/>
              </a:gs>
              <a:gs pos="100000">
                <a:srgbClr val="0000d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often planned to come to you, but was hindered (1:1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52920" y="152280"/>
            <a:ext cx="4343400" cy="6890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00060c"/>
              </a:gs>
              <a:gs pos="100000">
                <a:srgbClr val="0033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Closing Chapt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52920" y="838080"/>
            <a:ext cx="4343400" cy="1447920"/>
          </a:xfrm>
          <a:prstGeom prst="rect">
            <a:avLst/>
          </a:prstGeom>
          <a:gradFill rotWithShape="0">
            <a:gsLst>
              <a:gs pos="0">
                <a:srgbClr val="0000d0"/>
              </a:gs>
              <a:gs pos="50000">
                <a:srgbClr val="000045"/>
              </a:gs>
              <a:gs pos="100000">
                <a:srgbClr val="0000d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have often been hindered from coming to you (15:2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2286000"/>
            <a:ext cx="4343400" cy="1447920"/>
          </a:xfrm>
          <a:prstGeom prst="rect">
            <a:avLst/>
          </a:prstGeom>
          <a:gradFill rotWithShape="0">
            <a:gsLst>
              <a:gs pos="0">
                <a:srgbClr val="0000d0"/>
              </a:gs>
              <a:gs pos="50000">
                <a:srgbClr val="000045"/>
              </a:gs>
              <a:gs pos="100000">
                <a:srgbClr val="0000d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long to see you… that I may be encouraged with you (1:11-1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52920" y="2286000"/>
            <a:ext cx="4343400" cy="1447920"/>
          </a:xfrm>
          <a:prstGeom prst="rect">
            <a:avLst/>
          </a:prstGeom>
          <a:gradFill rotWithShape="0">
            <a:gsLst>
              <a:gs pos="0">
                <a:srgbClr val="0000d0"/>
              </a:gs>
              <a:gs pos="50000">
                <a:srgbClr val="000045"/>
              </a:gs>
              <a:gs pos="100000">
                <a:srgbClr val="0000d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hope to see you in passing, and be helped on my way… (15:24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3733920"/>
            <a:ext cx="4343400" cy="1447560"/>
          </a:xfrm>
          <a:prstGeom prst="rect">
            <a:avLst/>
          </a:prstGeom>
          <a:gradFill rotWithShape="0">
            <a:gsLst>
              <a:gs pos="0">
                <a:srgbClr val="0000d0"/>
              </a:gs>
              <a:gs pos="50000">
                <a:srgbClr val="000045"/>
              </a:gs>
              <a:gs pos="100000">
                <a:srgbClr val="0000d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r faith is proclaimed throughout the whole world (1: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52920" y="3733920"/>
            <a:ext cx="4343400" cy="1447560"/>
          </a:xfrm>
          <a:prstGeom prst="rect">
            <a:avLst/>
          </a:prstGeom>
          <a:gradFill rotWithShape="0">
            <a:gsLst>
              <a:gs pos="0">
                <a:srgbClr val="0000d0"/>
              </a:gs>
              <a:gs pos="50000">
                <a:srgbClr val="000045"/>
              </a:gs>
              <a:gs pos="100000">
                <a:srgbClr val="0000d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eport of your obedience has reached to all (16:19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" y="5181480"/>
            <a:ext cx="4343400" cy="1447920"/>
          </a:xfrm>
          <a:prstGeom prst="rect">
            <a:avLst/>
          </a:prstGeom>
          <a:gradFill rotWithShape="0">
            <a:gsLst>
              <a:gs pos="0">
                <a:srgbClr val="0000d0"/>
              </a:gs>
              <a:gs pos="50000">
                <a:srgbClr val="000045"/>
              </a:gs>
              <a:gs pos="100000">
                <a:srgbClr val="0000d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bring about the obedience of faith to all the Gentiles (1: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52920" y="5181480"/>
            <a:ext cx="4343400" cy="1447920"/>
          </a:xfrm>
          <a:prstGeom prst="rect">
            <a:avLst/>
          </a:prstGeom>
          <a:gradFill rotWithShape="0">
            <a:gsLst>
              <a:gs pos="0">
                <a:srgbClr val="0000d0"/>
              </a:gs>
              <a:gs pos="50000">
                <a:srgbClr val="000045"/>
              </a:gs>
              <a:gs pos="100000">
                <a:srgbClr val="0000d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de known to all the nations, leading to obedience of faith (16:2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Break into Groups of 2-3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14300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ed on the Epistle to the Romans…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514600" y="304920"/>
            <a:ext cx="3886200" cy="571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oup Activit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733920" y="1752480"/>
            <a:ext cx="1295280" cy="12384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762120" y="4343400"/>
            <a:ext cx="3124080" cy="17524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up 1:  Who are we apart from Chris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29200" y="4343400"/>
            <a:ext cx="3124080" cy="17524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up 2:  Who are we in Chris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228240" y="1523880"/>
            <a:ext cx="1676520" cy="106704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ek 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05120" y="1523880"/>
            <a:ext cx="1676160" cy="106704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ek Tw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81280" y="1523880"/>
            <a:ext cx="1676520" cy="106704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ek Thr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257800" y="1523880"/>
            <a:ext cx="1981080" cy="106704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ek F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238880" y="1523880"/>
            <a:ext cx="1676520" cy="106704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ek F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2590920"/>
            <a:ext cx="1676520" cy="13716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ly ye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05120" y="2590920"/>
            <a:ext cx="1676160" cy="13716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urch planter &amp; overse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2590920"/>
            <a:ext cx="1676520" cy="13716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ul’s Gosp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3962520"/>
            <a:ext cx="1676520" cy="16002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lat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905120" y="3962520"/>
            <a:ext cx="1676160" cy="16002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in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81280" y="3962520"/>
            <a:ext cx="1676520" cy="16002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pistle to the Rom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514600" y="533520"/>
            <a:ext cx="3962520" cy="761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urse Outlin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371600" y="4041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the “big idea” in the Epistle to the Roman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886200" y="259380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2971800" y="1600200"/>
            <a:ext cx="2971800" cy="820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oman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 Epistle to the Roma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irst seven chapters are characterized by an argumentative style as seen by the repeated expression: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“What shall we say then?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mans 4: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mans 6: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mans 7: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mans 8:3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mans 9:1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mans 9:3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 Epistle to the Roma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irst seven chapters are characterized by an argumentative style as seen by the repeated expression: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“What shall we say then?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350532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ost doctrinal and the most systematic of all of Paul’s writin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 Epistle to the Roma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irst seven chapters are characterized by an argumentative style as seen by the repeated expression: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“What shall we say then?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350532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ost doctrinal and the most systematic of all of Paul’s writin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4683240"/>
            <a:ext cx="8229600" cy="16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the only one of Paul’s epistles written to an audience with whom he had not previously m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1920" y="1905120"/>
            <a:ext cx="1676520" cy="129528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3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Prologue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51920" y="3200040"/>
            <a:ext cx="5410440" cy="1143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fe by fa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28800" y="1905120"/>
            <a:ext cx="3733920" cy="129528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3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Doctr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562720" y="1905120"/>
            <a:ext cx="1752480" cy="129528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3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Pract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315200" y="1905120"/>
            <a:ext cx="1676520" cy="129528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3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Epilog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62720" y="3200400"/>
            <a:ext cx="3429000" cy="1143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ice by fa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52280" y="1295280"/>
            <a:ext cx="167652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: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828800" y="1295280"/>
            <a:ext cx="373392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:1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562720" y="1295280"/>
            <a:ext cx="17524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2: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315200" y="1295280"/>
            <a:ext cx="167652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5: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6320" y="4724280"/>
            <a:ext cx="0" cy="70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Cloud"/>
          <p:cNvSpPr/>
          <p:nvPr/>
        </p:nvSpPr>
        <p:spPr>
          <a:xfrm>
            <a:off x="76320" y="4495680"/>
            <a:ext cx="2514600" cy="16002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Obedience of Faith (1: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Cloud"/>
          <p:cNvSpPr/>
          <p:nvPr/>
        </p:nvSpPr>
        <p:spPr>
          <a:xfrm>
            <a:off x="6477120" y="4495680"/>
            <a:ext cx="2590560" cy="16765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Obedience of Faith (16:2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362320" y="4343400"/>
            <a:ext cx="4495680" cy="12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Righteousness of God Reveal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048120" y="304920"/>
            <a:ext cx="2971800" cy="820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oman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I am not ashamed of the gospel…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066680" y="99072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t is the power of God for salvation to everyone who belie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n it the righteousness of God is revea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Cloud"/>
          <p:cNvSpPr/>
          <p:nvPr/>
        </p:nvSpPr>
        <p:spPr>
          <a:xfrm>
            <a:off x="1905120" y="2819520"/>
            <a:ext cx="3886200" cy="2062080"/>
          </a:xfrm>
          <a:prstGeom prst="pie">
            <a:avLst/>
          </a:prstGeom>
          <a:gradFill rotWithShape="0">
            <a:gsLst>
              <a:gs pos="0">
                <a:srgbClr val="990000"/>
              </a:gs>
              <a:gs pos="100000">
                <a:srgbClr val="46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is the righteousness of God revealed in the gospe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05120" y="4952880"/>
            <a:ext cx="64008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wrath of God toward those who sin (Romans 1-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grace of God toward those who believe (Romans 4-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2286000"/>
            <a:ext cx="6858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judging the pagans who rejected Him (Chapter 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judging the Jews who disobeyed Him (Chapter 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judging all men who have sinned against Him (Chapter 3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 Righteousness of God is revealed…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JohnStevenson</cp:lastModifiedBy>
  <dcterms:modified xsi:type="dcterms:W3CDTF">2010-09-21T16:24:36Z</dcterms:modified>
  <cp:revision>303</cp:revision>
  <dc:subject/>
  <dc:title>Pauline Epistles</dc:title>
</cp:coreProperties>
</file>