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5.jpeg" ContentType="image/jpeg"/>
  <Override PartName="/ppt/media/image28.jpeg" ContentType="image/jpeg"/>
  <Override PartName="/ppt/media/image18.wmf" ContentType="image/x-wmf"/>
  <Override PartName="/ppt/media/image20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5A4-50CE-4371-937E-4D9751FD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8C5-FA67-4943-AD9C-DE0401AF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AA4-C7D5-4D2B-B216-C411B04D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523-CF79-4416-A02D-AA11C827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849-B390-4078-BB52-0D36737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90D-586F-4125-9641-3C6EB9D3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C76-ADA7-477B-B42F-6EB20A3D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F2C-A869-4C17-A625-6A32783B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6D5-CDBF-46F6-A1DD-568D005F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B37-C285-499D-9B42-1F1891E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474-09D0-496D-B87E-C094B332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56E-E9CA-4415-8A19-26E6ACE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412B-8D29-43DD-A58E-8A72FE0F2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73868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rigins and Pre-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ld Testa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415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ps by David P. Barrett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28800" y="2610000"/>
            <a:ext cx="57150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Backgrou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opotamian myth containing creation and flood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oldest copy dates to age of Hammur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ior gods begin to complain because their toil is too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" name=""/>
          <p:cNvSpPr txBox="1"/>
          <p:nvPr/>
        </p:nvSpPr>
        <p:spPr>
          <a:xfrm>
            <a:off x="1981080" y="380880"/>
            <a:ext cx="5133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rahasis Ep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created to take up the sl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makes too much noise and flood 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 King Atrahasis warned so that he can build an ark and 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81080" y="380880"/>
            <a:ext cx="5133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rahasis Ep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Begin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76720" y="2590920"/>
            <a:ext cx="243828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s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388620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1-1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3886200" cy="2743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 Pre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wer of B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914400"/>
            <a:ext cx="3886200" cy="838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12-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752480"/>
            <a:ext cx="3886200" cy="2743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Pre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495680"/>
            <a:ext cx="38862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e as a w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495680"/>
            <a:ext cx="38862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of Abra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257800"/>
            <a:ext cx="38862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20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257800"/>
            <a:ext cx="38862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enesis 1:1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743200"/>
            <a:ext cx="6629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who” of cre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of cre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what” of cre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enesis 1:1-2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earth was unformed and unfilled, and darkness was over the surface of the deep; and the Spirit of God was moving over the surface of the wa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81952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29256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4190760" cy="1139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form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57200"/>
            <a:ext cx="4191120" cy="1139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fill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71760"/>
            <a:ext cx="4190760" cy="1171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: 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1568520"/>
            <a:ext cx="4191120" cy="11905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4:  Light-bearers (sun, moon, sta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746440"/>
            <a:ext cx="419076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:  Water &amp; sky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274320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5:  Fish &amp; birds to fill water &amp;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902040"/>
            <a:ext cx="419076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3:  Dry land &amp; veg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89880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6:  Land animals &amp;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029200"/>
            <a:ext cx="8381880" cy="11397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7:  Sabbath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900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and darkness are made by God on Day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152280"/>
            <a:ext cx="45720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900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Israelite Exper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45720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seen God bring light and darkness over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38862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vision of the waters on Day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1120" y="3200400"/>
            <a:ext cx="4572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passed through the Re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343400"/>
            <a:ext cx="38862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and moon and stars created on Day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4343400"/>
            <a:ext cx="45720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worshiped the sun and moon and stars and had seen the sun darkened in Egy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8862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900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created in the imag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152280"/>
            <a:ext cx="4572000" cy="1447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900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Israelite Exper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600200"/>
            <a:ext cx="45720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Pharaoh was thought to be in the imag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00400"/>
            <a:ext cx="38862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told to rule over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3200400"/>
            <a:ext cx="45720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Pharaoh had the right of rul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343400"/>
            <a:ext cx="38862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placed into a beautiful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4343400"/>
            <a:ext cx="45720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are tempted to return to the meats of Egypt, but Canaan is the new promised E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1960" y="73152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y are there two separate accounts of creati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9880" y="40384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5520" y="5257800"/>
            <a:ext cx="2317320" cy="1373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ppur Tab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4343400" cy="793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240" y="1022040"/>
            <a:ext cx="4343400" cy="15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vens and the earth are created in six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28600"/>
            <a:ext cx="4343400" cy="793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022400"/>
            <a:ext cx="4343400" cy="1568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the man and woman (no time element mentione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5909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n his cosmic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5909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as central to God’s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7339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orama of creation as a w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7339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 focus on one aspect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800600"/>
            <a:ext cx="43434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s on God creating the heavens and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800600"/>
            <a:ext cx="43434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s on man as the crowning act of God’s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ories of Creati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ersus Evolutio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perficial Appearance of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p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/Age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-Sequential Theory / Framework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ersonally take the view that Genesis 1 and 2 relate to each other the way Judges 4 and 5 and Exodus 14 and 15 do.  In each couplet one chapter describes a historical event and the other is a song or poem about the theological meaning of the event.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048200" y="247680"/>
            <a:ext cx="44100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eading Judges 4 it is obvious that it is a sober recounting of what happened in the battle, but when we read Judges 5, Deborah’s Song about the battle, the language is poetic and metaphorical.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48200" y="247680"/>
            <a:ext cx="44100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eborah sings that the stars in the heavens came down to fight for the Israelites, we understand that she means that metaphorically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048200" y="247680"/>
            <a:ext cx="44100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Genesis 1 has the earmarks of poetry and is therefore a “song” about the wonder and meaning of God’s creation.  Genesis 2 is an account of how it happen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Reason for G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g 93-9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48200" y="247680"/>
            <a:ext cx="44100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ories of Creati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ersus Evolutio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perficial Appearance of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p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/Age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-Sequential Theory / Framework The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teral Interpre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572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eral revelation in creation, as well as the special revelation of Scripture, is also the voice of God.  We live in a “universe,” and all truth speaks with one voi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01:7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356544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vens &amp; earth created; God finished His work (1-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09692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dust (4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60164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&amp; Rivers in garden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-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03800" y="5380200"/>
            <a:ext cx="4093920" cy="1145880"/>
          </a:xfrm>
          <a:custGeom>
            <a:avLst/>
            <a:gdLst/>
            <a:ahLst/>
            <a:rect l="l" t="t" r="r" b="b"/>
            <a:pathLst>
              <a:path w="2579" h="722">
                <a:moveTo>
                  <a:pt x="0" y="722"/>
                </a:moveTo>
                <a:cubicBezTo>
                  <a:pt x="8" y="700"/>
                  <a:pt x="1" y="662"/>
                  <a:pt x="23" y="655"/>
                </a:cubicBezTo>
                <a:cubicBezTo>
                  <a:pt x="90" y="633"/>
                  <a:pt x="131" y="621"/>
                  <a:pt x="200" y="611"/>
                </a:cubicBezTo>
                <a:cubicBezTo>
                  <a:pt x="211" y="607"/>
                  <a:pt x="224" y="606"/>
                  <a:pt x="234" y="600"/>
                </a:cubicBezTo>
                <a:cubicBezTo>
                  <a:pt x="243" y="594"/>
                  <a:pt x="247" y="582"/>
                  <a:pt x="256" y="577"/>
                </a:cubicBezTo>
                <a:cubicBezTo>
                  <a:pt x="349" y="530"/>
                  <a:pt x="455" y="519"/>
                  <a:pt x="556" y="511"/>
                </a:cubicBezTo>
                <a:cubicBezTo>
                  <a:pt x="602" y="496"/>
                  <a:pt x="630" y="460"/>
                  <a:pt x="678" y="444"/>
                </a:cubicBezTo>
                <a:cubicBezTo>
                  <a:pt x="772" y="354"/>
                  <a:pt x="987" y="375"/>
                  <a:pt x="1101" y="366"/>
                </a:cubicBezTo>
                <a:cubicBezTo>
                  <a:pt x="1156" y="348"/>
                  <a:pt x="1134" y="329"/>
                  <a:pt x="1190" y="311"/>
                </a:cubicBezTo>
                <a:cubicBezTo>
                  <a:pt x="1265" y="233"/>
                  <a:pt x="1438" y="247"/>
                  <a:pt x="1523" y="244"/>
                </a:cubicBezTo>
                <a:cubicBezTo>
                  <a:pt x="1641" y="239"/>
                  <a:pt x="1760" y="237"/>
                  <a:pt x="1878" y="233"/>
                </a:cubicBezTo>
                <a:cubicBezTo>
                  <a:pt x="1913" y="222"/>
                  <a:pt x="1915" y="224"/>
                  <a:pt x="1945" y="200"/>
                </a:cubicBezTo>
                <a:cubicBezTo>
                  <a:pt x="1953" y="193"/>
                  <a:pt x="1958" y="182"/>
                  <a:pt x="1967" y="177"/>
                </a:cubicBezTo>
                <a:cubicBezTo>
                  <a:pt x="1988" y="166"/>
                  <a:pt x="2012" y="162"/>
                  <a:pt x="2034" y="155"/>
                </a:cubicBezTo>
                <a:cubicBezTo>
                  <a:pt x="2045" y="151"/>
                  <a:pt x="2067" y="144"/>
                  <a:pt x="2067" y="144"/>
                </a:cubicBezTo>
                <a:cubicBezTo>
                  <a:pt x="2104" y="109"/>
                  <a:pt x="2130" y="114"/>
                  <a:pt x="2179" y="100"/>
                </a:cubicBezTo>
                <a:cubicBezTo>
                  <a:pt x="2201" y="94"/>
                  <a:pt x="2223" y="84"/>
                  <a:pt x="2245" y="77"/>
                </a:cubicBezTo>
                <a:cubicBezTo>
                  <a:pt x="2256" y="73"/>
                  <a:pt x="2279" y="66"/>
                  <a:pt x="2279" y="66"/>
                </a:cubicBezTo>
                <a:cubicBezTo>
                  <a:pt x="2359" y="13"/>
                  <a:pt x="2274" y="61"/>
                  <a:pt x="2456" y="33"/>
                </a:cubicBezTo>
                <a:cubicBezTo>
                  <a:pt x="2501" y="26"/>
                  <a:pt x="2534" y="0"/>
                  <a:pt x="2579" y="0"/>
                </a:cubicBezTo>
              </a:path>
            </a:pathLst>
          </a:custGeom>
          <a:noFill/>
          <a:ln w="28440">
            <a:solidFill>
              <a:srgbClr val="00b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827200">
            <a:off x="3909960" y="52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982600">
            <a:off x="4520160" y="5409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Underground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57600" y="4495680"/>
            <a:ext cx="9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92600">
            <a:off x="4231800" y="27432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Euph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673000">
            <a:off x="5718960" y="213336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i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07880" y="61722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Havil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"/>
              </a:rPr>
              <a:t>Ennuma Elish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n high…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9067680" cy="489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886120" y="594360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MPTATION S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ilgamesh Epic and the Tempt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gamesh, king of Er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pray to Anu, the sk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ashions Enkidu, a wild man of the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pper’s son gets prostitute to entice Enki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yields, loses his power, but gain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219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ilgamesh Epic        Bib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373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u creates Enkidu, the wild man of the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9144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066680"/>
            <a:ext cx="4191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reates Adam and puts him in the garden of E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666880"/>
            <a:ext cx="3657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kidu is naked in the fo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2666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and Eve are naked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809880"/>
            <a:ext cx="3657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kidu is tempted by the prostit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3809880"/>
            <a:ext cx="4495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is given the forbidden fruit by 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876920"/>
            <a:ext cx="365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kidu falls to her charms, loses strength, but gain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876920"/>
            <a:ext cx="4267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 sins, his eyes are opened and he is removed from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ilgamesh Epic and the Tempt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kidu and Gilgamesh becom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kidu dies and Gligamesh goes on a quest to find a way to bring him back to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gamesh is given a plant that will let him liv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rpent comes and eats the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219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vens &amp; earth created; God finished His work (1-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09692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dust (4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60164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&amp; Rivers in garden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-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100240"/>
            <a:ext cx="7391520" cy="947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 assigned task of guarding &amp; keeping the garden (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3046320"/>
            <a:ext cx="7391520" cy="68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bidden fruit (16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458200" cy="236232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the LORD God commanded the man, saying, "From any tree of the garden you may eat freely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but from the tree of the knowledge of good and evil you shall not eat, for in the day that you eat from it you shall surely die.“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enesis 2:16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vens &amp; earth created; God finished His work (1-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09692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dust (4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60164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&amp; Rivers in garden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-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100240"/>
            <a:ext cx="7391520" cy="947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 assigned task of guarding &amp; keeping the garden (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046320"/>
            <a:ext cx="7391520" cy="687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bidden fruit (16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732120"/>
            <a:ext cx="7391520" cy="947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 in need of a helper: not good to be alone (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676760"/>
            <a:ext cx="7391520" cy="503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in garden are given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nam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5180040"/>
            <a:ext cx="7391520" cy="53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o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eated: Formed from rib (21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5713560"/>
            <a:ext cx="7391160" cy="1020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eation comple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an &amp; woman naked &amp; unashamed in presence of God (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419360" y="1447560"/>
            <a:ext cx="4267080" cy="480060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man saw that the tree was good for food, and that it was a delight to the eyes, and that the tree was desirable to ma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e, she took from its fruit and ate; and she gave also to her husband with her, and he ate. (Genesis 3: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results from their actions of taking and eating the forbidden fru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19360" y="1828800"/>
            <a:ext cx="4267080" cy="365760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will put enmity between you and the woman, and between your seed and her seed; He shall bruise you on the head, and you shall bruise him on the heel. (Genesis 3: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9144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sp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9144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a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14800" y="1371600"/>
            <a:ext cx="838080" cy="1066680"/>
            <a:chOff x="4114800" y="1371600"/>
            <a:chExt cx="838080" cy="1066680"/>
          </a:xfrm>
        </p:grpSpPr>
        <p:sp>
          <p:nvSpPr>
            <p:cNvPr id="54" name=""/>
            <p:cNvSpPr/>
            <p:nvPr/>
          </p:nvSpPr>
          <p:spPr>
            <a:xfrm>
              <a:off x="4114800" y="137160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37160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0" y="2819520"/>
            <a:ext cx="4343400" cy="2057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imitive fo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990720"/>
            <a:ext cx="1523880" cy="685800"/>
          </a:xfrm>
          <a:prstGeom prst="irregularSeal1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1752480"/>
            <a:ext cx="2514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in &amp; Ab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990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w is the Cain &amp; Abel narrative related to the larger story of Genes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67080" y="2666880"/>
            <a:ext cx="4572000" cy="38466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Adam had relations with his wife again; and she gave birth to a son, and named him Seth, for, she said, "God has appointed me another offspring in place of Abel; for Cain killed him.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Genesis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17524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990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1752480"/>
            <a:ext cx="1752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22860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733920"/>
            <a:ext cx="24382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990720"/>
            <a:ext cx="3810240" cy="60948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5105520"/>
            <a:ext cx="312408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00400" y="556272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9040" y="5334120"/>
            <a:ext cx="269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ll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SE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0060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57200"/>
            <a:ext cx="3657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d of the Serp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1752480"/>
            <a:ext cx="2514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el &amp; S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990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1752480"/>
            <a:ext cx="1752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2860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733920"/>
            <a:ext cx="24382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28954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2286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3429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3962520"/>
            <a:ext cx="16765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495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502920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4495680"/>
            <a:ext cx="3810240" cy="53352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502920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990720"/>
            <a:ext cx="3810240" cy="609480"/>
          </a:xfrm>
          <a:custGeom>
            <a:avLst/>
            <a:gdLst/>
            <a:ahLst/>
            <a:rect l="l" t="t" r="r" b="b"/>
            <a:pathLst>
              <a:path w="2400" h="336">
                <a:moveTo>
                  <a:pt x="2400" y="0"/>
                </a:moveTo>
                <a:cubicBezTo>
                  <a:pt x="2392" y="36"/>
                  <a:pt x="2384" y="72"/>
                  <a:pt x="2352" y="96"/>
                </a:cubicBezTo>
                <a:cubicBezTo>
                  <a:pt x="2320" y="120"/>
                  <a:pt x="2320" y="128"/>
                  <a:pt x="2208" y="144"/>
                </a:cubicBezTo>
                <a:cubicBezTo>
                  <a:pt x="2096" y="160"/>
                  <a:pt x="1920" y="184"/>
                  <a:pt x="1680" y="192"/>
                </a:cubicBezTo>
                <a:cubicBezTo>
                  <a:pt x="1440" y="200"/>
                  <a:pt x="1016" y="184"/>
                  <a:pt x="768" y="192"/>
                </a:cubicBezTo>
                <a:cubicBezTo>
                  <a:pt x="520" y="200"/>
                  <a:pt x="320" y="216"/>
                  <a:pt x="192" y="240"/>
                </a:cubicBezTo>
                <a:cubicBezTo>
                  <a:pt x="64" y="264"/>
                  <a:pt x="32" y="300"/>
                  <a:pt x="0" y="33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60958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60958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438280" y="2819520"/>
            <a:ext cx="409104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lo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-533520" y="-228600"/>
          <a:ext cx="1021104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3520" y="-228600"/>
                    <a:ext cx="1021104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Earliest Civilization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6680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madic Herds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Instr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nze &amp; I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013280" y="2819520"/>
            <a:ext cx="2286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6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t came about, when men began to multiply on the face of the land, and daughters were born to th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the sons of God saw that the daughters of men were beautiful; and they took wives for themselves, whomever they 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6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said, “My Spirit shall not strive with man forever, because he also is flesh; nevertheless his days shall be one hundred and twenty year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6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philim were on the earth in those days, and also afterward, when the sons of God came in to the daughters of men, and they b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r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m. Those were the mighty men wh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ld, men of ren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410440" cy="1447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s of God refer to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g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uagint supports this 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God are angels in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els in heaven do not marry, but these angels were not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ing offspring produced gi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ed in Apocryphal book of Enoch as well as in Jude 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7920" y="18288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rdu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9144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a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3716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819520"/>
            <a:ext cx="4343400" cy="2057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imitive fo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990720"/>
            <a:ext cx="1523880" cy="685800"/>
          </a:xfrm>
          <a:prstGeom prst="irregularSeal1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990720"/>
            <a:ext cx="2133720" cy="685800"/>
          </a:xfrm>
          <a:prstGeom prst="irregularSeal1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2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486400" cy="1447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s of God refer to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cendants of Se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eding chapters set forth contrast of two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began to call on the name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mankind that is punished in 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hip is a common theme in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of godly seed to ungodly people is a common theme in Ge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410440" cy="1447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s of God refer to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ings and Rul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maic lends itself to this 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ohim refers to human judges in Ex 21:6; 22:8-9 and in Psalm 82:1,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use in Babylonian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s often referred to as Elohim in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s paralleled in Lam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hilim refer to fallen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5029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 (6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5029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 (9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838080"/>
            <a:ext cx="739152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 with Noah (6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 to destroy the earth with a 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876920"/>
            <a:ext cx="7467840" cy="99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 with Noah (9:8-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 not to destroy the earth with a 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1828800"/>
            <a:ext cx="7162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to take food (6: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4267080"/>
            <a:ext cx="716292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not to eat blood (9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2438280"/>
            <a:ext cx="716292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&amp; Family enter the ark (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657600"/>
            <a:ext cx="7162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&amp; Family come out of ark (8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3048120"/>
            <a:ext cx="71629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 on the earth (7:11 – 8: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603840" y="1371600"/>
            <a:ext cx="762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6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for yourself an ark of gopher wood; you shall make the ark with rooms, and shall cover it inside and out with pit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429000"/>
            <a:ext cx="1371600" cy="1922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hb;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89680" y="4572000"/>
            <a:ext cx="45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ame word is used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ark into whic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by Moses was pla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3625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Teb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6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how you shall make it: the length of the ark three hundred cubits, its breadth fifty cubits, and its height thirty cubi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62120" y="4105440"/>
            <a:ext cx="7619760" cy="221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371600" y="2133720"/>
            <a:ext cx="6400800" cy="202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 the Floo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cal or Universal?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Universal languag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s lifted the ark up above the earth (7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s prevailed and increased upon the earth (7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s prevailed exceeding upon the earth (7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high hills were covered (9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 rose 15 cubits above the mountains (7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Universal languag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flesh died upon the earth (7:2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s prevailed for 150 days (7:2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4267080" cy="83844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iversal Fl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4267080" cy="2133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blical account says that the waters covered the whol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152280"/>
            <a:ext cx="4267080" cy="83844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al F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990720"/>
            <a:ext cx="4267080" cy="2133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et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earth”) is often used to describe a local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3124080"/>
            <a:ext cx="426708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blical language goes out of its way to use language of tot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124080"/>
            <a:ext cx="426708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count is given from the viewpoint of the narrator is from his perspective the destruction is to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4267080" cy="83844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iversal Fl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42670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ze of the ark indicates that this was no local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152280"/>
            <a:ext cx="4267080" cy="83844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2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al F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990720"/>
            <a:ext cx="42670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ze of the ark is not related to the extent of the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590920"/>
            <a:ext cx="426708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pose of the ark was punishment of world-wide sin.  In a local flood some could have esc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2590920"/>
            <a:ext cx="426708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uld have made certain all flesh was destroyed without flooding the entire glo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5181480"/>
            <a:ext cx="42670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orld-wide traces of a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5181480"/>
            <a:ext cx="42670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idence is questioned as to its univers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18288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rdu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8195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imitive fo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990720"/>
            <a:ext cx="2133720" cy="685800"/>
          </a:xfrm>
          <a:prstGeom prst="irregularSeal1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1371600"/>
            <a:ext cx="2514600" cy="838080"/>
          </a:xfrm>
          <a:custGeom>
            <a:avLst/>
            <a:gdLst>
              <a:gd name="textAreaLeft" fmla="*/ 98640 w 2514600"/>
              <a:gd name="textAreaRight" fmla="*/ 2415960 w 25146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4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91" y="21600"/>
                </a:lnTo>
                <a:arcTo wR="3600" hR="3600" stAng="10800000" swAng="5400000"/>
                <a:lnTo>
                  <a:pt x="6479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ing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8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eventh month, on the seventeenth day of the month, the ark rested upon the mountains of Arara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6162840" y="115920"/>
            <a:ext cx="11523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rar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Gilgamesh Epic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76720" y="1218960"/>
            <a:ext cx="586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napisht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t has 7 decks &amp; overlaid with pi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days to build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mily, relatives and crafts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m lasted 6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at landed on Mount Nis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00240" cy="690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410080" y="4648320"/>
            <a:ext cx="19814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5867280"/>
            <a:ext cx="30477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ree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705200" y="2685600"/>
            <a:ext cx="3390840" cy="761760"/>
          </a:xfrm>
          <a:prstGeom prst="leftArrow">
            <a:avLst>
              <a:gd name="adj1" fmla="val 50000"/>
              <a:gd name="adj2" fmla="val 111283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en Gen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762120"/>
            <a:ext cx="19814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4648320"/>
            <a:ext cx="19810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5867280"/>
            <a:ext cx="30481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ree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895320" y="2685600"/>
            <a:ext cx="3390840" cy="762120"/>
          </a:xfrm>
          <a:prstGeom prst="leftArrow">
            <a:avLst>
              <a:gd name="adj1" fmla="val 50000"/>
              <a:gd name="adj2" fmla="val 11123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en Gen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762120"/>
            <a:ext cx="19810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00200" y="152280"/>
            <a:ext cx="206676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sis 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34120" y="152280"/>
            <a:ext cx="213336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sis 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1:1-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678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whole earth used the same language and the same word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came about as they journeyed east, that they found a plain in the land of Shinar and settl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7621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454440" y="3154320"/>
            <a:ext cx="17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4120" y="2514600"/>
            <a:ext cx="16761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in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1:3-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7238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id to one another, “Come, let us make bricks and bur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roughly.” And they used brick for stone, and they used tar for morta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aid, “Come, let us build for ourselves a city, and a tower whose to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rea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 heaven, and let us make for ourselves a name, otherwise we will be scattered abroad over the face of the whole earth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7621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848360" cy="44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001000" cy="628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1447920"/>
            <a:ext cx="12952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1: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7238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ts name was called Babel, because there the LORD confused the language of the whole earth; and from there the LORD scattered them abroad over the face of the whol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7621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143000" y="4419720"/>
            <a:ext cx="3276360" cy="1922760"/>
            <a:chOff x="1143000" y="4419720"/>
            <a:chExt cx="3276360" cy="1922760"/>
          </a:xfrm>
        </p:grpSpPr>
        <p:sp>
          <p:nvSpPr>
            <p:cNvPr id="360" name=""/>
            <p:cNvSpPr/>
            <p:nvPr/>
          </p:nvSpPr>
          <p:spPr>
            <a:xfrm>
              <a:off x="1143000" y="4495680"/>
              <a:ext cx="304776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43000" y="4419720"/>
              <a:ext cx="1447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b,B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33360" y="4616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Babe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imilarities and Differences with the Creation Accou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ld without form &amp;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milar order &amp;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 tablets &amp; seven days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495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olytheism versus monoth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fusing of spirit &amp;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600200"/>
            <a:ext cx="0" cy="525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8040" y="182880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Arial Black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6880" y="182880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Arial Black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2025720"/>
            <a:ext cx="182880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1447920"/>
            <a:ext cx="12952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11: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7238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ts name was called Babel, because there the LORD confused the language of the whole earth; and from there the LORD scattered them abroad over the face of the whol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7621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066680" y="5486400"/>
            <a:ext cx="3200400" cy="1008360"/>
            <a:chOff x="1066680" y="5486400"/>
            <a:chExt cx="3200400" cy="1008360"/>
          </a:xfrm>
        </p:grpSpPr>
        <p:sp>
          <p:nvSpPr>
            <p:cNvPr id="369" name=""/>
            <p:cNvSpPr/>
            <p:nvPr/>
          </p:nvSpPr>
          <p:spPr>
            <a:xfrm>
              <a:off x="1066680" y="5562720"/>
              <a:ext cx="289584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6680" y="548640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l;B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81080" y="56833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Bala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4419720"/>
            <a:ext cx="3276360" cy="1922760"/>
            <a:chOff x="1143000" y="4419720"/>
            <a:chExt cx="3276360" cy="1922760"/>
          </a:xfrm>
        </p:grpSpPr>
        <p:sp>
          <p:nvSpPr>
            <p:cNvPr id="373" name=""/>
            <p:cNvSpPr/>
            <p:nvPr/>
          </p:nvSpPr>
          <p:spPr>
            <a:xfrm>
              <a:off x="1143000" y="4495680"/>
              <a:ext cx="304776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43000" y="4419720"/>
              <a:ext cx="1447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lb,B'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33360" y="4616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Babe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jor Language Grouping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o-European (corresponds to Japheth): English, Spanish, Greek, German, French, Latin, Ital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tic (corresponds to Shem): Hebrew, Arabic, Akkadian, Arama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itic (corresponds to Ham):   Egyptian, Berber, Cushitic, and Chad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2971800" y="41148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410080" y="2590920"/>
            <a:ext cx="12956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e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581280" y="762120"/>
            <a:ext cx="251460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phe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enesis 11 is not a Strict Chronology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Years is not Tota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and Years of Cainan are Absent from the Hebrew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and Genesis 11 are Symmetrical in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estral connections between people in Biblical genealogies are often abri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se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records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rations of Shem, Ham, and Japheth, the sons of Noah; and sons were born to them after the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533520" y="304920"/>
            <a:ext cx="251460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phe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352680" y="838080"/>
            <a:ext cx="99072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Gom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191120" y="2209680"/>
            <a:ext cx="99036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Jav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01000" y="3505320"/>
            <a:ext cx="99072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Mada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705720" y="1828800"/>
            <a:ext cx="838080" cy="49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Tub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53080" y="1295280"/>
            <a:ext cx="99072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Mag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086600" y="2133720"/>
            <a:ext cx="990720" cy="49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Mesh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724280" y="2514600"/>
            <a:ext cx="609840" cy="41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Ti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914400" y="53341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105520" y="5867280"/>
            <a:ext cx="1218960" cy="64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Cu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362320" y="3886200"/>
            <a:ext cx="609480" cy="49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P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410080" y="3809880"/>
            <a:ext cx="129564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Mizra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934320" y="2971800"/>
            <a:ext cx="990360" cy="49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Cana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Cush became the father of Nimrod; he became a mighty one on the ea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as a mighty hunter before the LORD; therefore it is said, “Like Nimrod a mighty hunter before the LO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10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ginning of his kingdom was Babel and Erech and Accad and Calneh, in the land of Shinar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that land he went forth into Assyria, and built Nineveh and Rehoboth-Ir and Calah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Resen between Nineveh and Calah; that is the great 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-1447920" y="-3240"/>
            <a:ext cx="10820520" cy="686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600200" y="1981080"/>
            <a:ext cx="25146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imr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934320" y="3505320"/>
            <a:ext cx="1218960" cy="64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Bab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248520" y="3200400"/>
            <a:ext cx="99036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Acc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162920" y="4343400"/>
            <a:ext cx="129528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Ere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553080" y="4038480"/>
            <a:ext cx="990720" cy="493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Calne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400800" y="2438280"/>
            <a:ext cx="106668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Nineve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nnuma Elis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amat engulfs world in a primal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76320"/>
            <a:ext cx="4343400" cy="76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enesis Accou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8380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was unformed and unfil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981080"/>
            <a:ext cx="43434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comes from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981080"/>
            <a:ext cx="434340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rings light into exis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048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makes the stars of the zodiac and ordains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048120"/>
            <a:ext cx="4343400" cy="2057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ts sun and moon for signs, seasons, days, and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1055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duk makes man from the blood of K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0552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reates man in His own image and lik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419720" y="3733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336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e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336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20120" y="3809880"/>
            <a:ext cx="1218960" cy="64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El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219320" y="1447920"/>
            <a:ext cx="609480" cy="49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Lu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952880" y="1828800"/>
            <a:ext cx="1295640" cy="56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Assh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8120" y="2743200"/>
            <a:ext cx="9903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0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lin ang="5400000"/>
                </a:gradFill>
                <a:latin typeface="Impact"/>
              </a:rPr>
              <a:t>Ar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cc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0" y="1309680"/>
            <a:ext cx="106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ons were born to Eber; the name of the on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eg, for in his days the earth was divided; and his brother’s na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k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3962520"/>
            <a:ext cx="2971800" cy="243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ems to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source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te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brew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ons were born to Eber; the name of the on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eg, for in his days the earth was divided; and his brother’s na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k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28195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057400" y="4191120"/>
            <a:ext cx="5867280" cy="1739880"/>
            <a:chOff x="2057400" y="4191120"/>
            <a:chExt cx="5867280" cy="1739880"/>
          </a:xfrm>
        </p:grpSpPr>
        <p:sp>
          <p:nvSpPr>
            <p:cNvPr id="431" name=""/>
            <p:cNvSpPr/>
            <p:nvPr/>
          </p:nvSpPr>
          <p:spPr>
            <a:xfrm>
              <a:off x="3581280" y="4191120"/>
              <a:ext cx="4343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What does it mean that “the earth was divided”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2057400" y="42670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0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nesis 10:3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families of the sons of Noah, according to their genealogies, by their nations; and out of these the nations were separated on the earth after the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1143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we do not count the three sons of Noah, there are a total of 70 names in this tabl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447920" y="2971800"/>
            <a:ext cx="5867280" cy="1295280"/>
            <a:chOff x="1447920" y="2971800"/>
            <a:chExt cx="5867280" cy="1295280"/>
          </a:xfrm>
        </p:grpSpPr>
        <p:sp>
          <p:nvSpPr>
            <p:cNvPr id="438" name=""/>
            <p:cNvSpPr/>
            <p:nvPr/>
          </p:nvSpPr>
          <p:spPr>
            <a:xfrm>
              <a:off x="2971800" y="297180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What is significant about this number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1447920" y="304776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762120" y="4724280"/>
            <a:ext cx="777240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persons of the house of Jacob, who came to Egypt,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r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y (Genesis 46:2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0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Most High gave the nations their inheritanc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separated the sons of ma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t the boundaries of the peopl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number of the sons of Israel.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Lord’s portion is His peopl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is the allotment of His inheritance. (Deuteronomy 32:7-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6576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152280" y="1143000"/>
            <a:ext cx="3810240" cy="3962160"/>
            <a:chOff x="152280" y="1143000"/>
            <a:chExt cx="3810240" cy="3962160"/>
          </a:xfrm>
        </p:grpSpPr>
        <p:sp>
          <p:nvSpPr>
            <p:cNvPr id="444" name=""/>
            <p:cNvSpPr/>
            <p:nvPr/>
          </p:nvSpPr>
          <p:spPr>
            <a:xfrm>
              <a:off x="152280" y="1143000"/>
              <a:ext cx="3810240" cy="2971800"/>
            </a:xfrm>
            <a:prstGeom prst="triangle">
              <a:avLst>
                <a:gd name="adj" fmla="val 50000"/>
              </a:avLst>
            </a:prstGeom>
            <a:solidFill>
              <a:srgbClr val="003366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0800000">
              <a:off x="152280" y="2133360"/>
              <a:ext cx="3810240" cy="2971800"/>
            </a:xfrm>
            <a:prstGeom prst="triangle">
              <a:avLst>
                <a:gd name="adj" fmla="val 50000"/>
              </a:avLst>
            </a:prstGeom>
            <a:solidFill>
              <a:srgbClr val="003366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 txBox="1"/>
          <p:nvPr/>
        </p:nvSpPr>
        <p:spPr>
          <a:xfrm>
            <a:off x="1219320" y="2666880"/>
            <a:ext cx="1600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72200" y="2666880"/>
            <a:ext cx="175248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l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3520" y="4846680"/>
            <a:ext cx="58676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rael is a microcosm of the worl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6576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152280" y="1143000"/>
            <a:ext cx="3810240" cy="3962160"/>
            <a:chOff x="152280" y="1143000"/>
            <a:chExt cx="3810240" cy="3962160"/>
          </a:xfrm>
        </p:grpSpPr>
        <p:sp>
          <p:nvSpPr>
            <p:cNvPr id="451" name=""/>
            <p:cNvSpPr/>
            <p:nvPr/>
          </p:nvSpPr>
          <p:spPr>
            <a:xfrm>
              <a:off x="152280" y="1143000"/>
              <a:ext cx="3810240" cy="2971800"/>
            </a:xfrm>
            <a:prstGeom prst="triangle">
              <a:avLst>
                <a:gd name="adj" fmla="val 50000"/>
              </a:avLst>
            </a:prstGeom>
            <a:solidFill>
              <a:srgbClr val="003366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152280" y="2133360"/>
              <a:ext cx="3810240" cy="2971800"/>
            </a:xfrm>
            <a:prstGeom prst="triangle">
              <a:avLst>
                <a:gd name="adj" fmla="val 50000"/>
              </a:avLst>
            </a:prstGeom>
            <a:solidFill>
              <a:srgbClr val="003366">
                <a:alpha val="29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1219320" y="2666880"/>
            <a:ext cx="1600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72200" y="2666880"/>
            <a:ext cx="175248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l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2388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esus is the “better Israel”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who came to save the worl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246996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oses is giving to us a refutation of the accepted mythos that was held in antiquity as he goes point by point to show that God is the true Creator of heaven and earth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uma E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33540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248520" y="133200"/>
            <a:ext cx="1581120" cy="261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4120" y="2286000"/>
            <a:ext cx="3504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295280"/>
            <a:ext cx="2362320" cy="609840"/>
          </a:xfrm>
          <a:prstGeom prst="leftRightArrow">
            <a:avLst>
              <a:gd name="adj1" fmla="val 53648"/>
              <a:gd name="adj2" fmla="val 99962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1-08-25T15:19:59Z</dcterms:modified>
  <cp:revision>294</cp:revision>
  <dc:subject/>
  <dc:title>Old Testament Biblical Backgrounds</dc:title>
</cp:coreProperties>
</file>