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FE44-11A2-440C-AD86-C0F7BFBFF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4072-30B9-4EC4-A280-AB61E2DD3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D9FA-8138-4454-A2D8-FCBD73F69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2EFC-69E5-434C-915E-A89B7625C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8B97-A9D0-4416-B41A-B18B9B0BD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EA37-7534-4A32-82E1-B94DE7F18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8424-A11A-4DD9-923C-297890EB2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7948-33D8-4131-AEC9-4466FFF82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AD90-3794-426A-99FE-23DC79D11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1E30-82F7-4DB9-91A4-D1458CAD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5F0C-BA7A-4277-8B69-B0F6D603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7E2B-E3BD-4A05-A690-14BE7A46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DD859-874D-4746-8FCB-73C86494663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e Books of Poetr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Proverbs, Ecclesiastes, Song of So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533412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 John Stevenson, 20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209680" y="2514600"/>
            <a:ext cx="4800600" cy="819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ld Testa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The Nature of </a:t>
            </a:r>
            <a:br>
              <a:rPr sz="4800"/>
            </a:b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Wisdom Literature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ands apart from God’s covenant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mention made of Moses or Isra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Nature of its Inspired Mess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tilizes observation of nature instead of “thus says the Lord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533520" y="5181480"/>
            <a:ext cx="8001000" cy="1371600"/>
            <a:chOff x="533520" y="5181480"/>
            <a:chExt cx="8001000" cy="1371600"/>
          </a:xfrm>
        </p:grpSpPr>
        <p:sp>
          <p:nvSpPr>
            <p:cNvPr id="101" name=""/>
            <p:cNvSpPr/>
            <p:nvPr/>
          </p:nvSpPr>
          <p:spPr>
            <a:xfrm>
              <a:off x="533520" y="5181480"/>
              <a:ext cx="2209680" cy="1371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ffff"/>
                  </a:solidFill>
                  <a:latin typeface="Arial"/>
                </a:rPr>
                <a:t>God spoke i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ffff"/>
                  </a:solidFill>
                  <a:latin typeface="Arial"/>
                </a:rPr>
                <a:t>various way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ffff"/>
                  </a:solidFill>
                  <a:latin typeface="Arial"/>
                </a:rPr>
                <a:t>(Heb. 1:1)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743200" y="5181480"/>
              <a:ext cx="1676520" cy="457200"/>
            </a:xfrm>
            <a:prstGeom prst="rect">
              <a:avLst/>
            </a:prstGeom>
            <a:gradFill rotWithShape="0">
              <a:gsLst>
                <a:gs pos="0">
                  <a:srgbClr val="640000"/>
                </a:gs>
                <a:gs pos="100000">
                  <a:srgbClr val="2e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Mose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419720" y="5181480"/>
              <a:ext cx="4114800" cy="4572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172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heophanie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43200" y="5638680"/>
              <a:ext cx="1676520" cy="457200"/>
            </a:xfrm>
            <a:prstGeom prst="rect">
              <a:avLst/>
            </a:prstGeom>
            <a:gradFill rotWithShape="0">
              <a:gsLst>
                <a:gs pos="0">
                  <a:srgbClr val="640000"/>
                </a:gs>
                <a:gs pos="100000">
                  <a:srgbClr val="2e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Prophet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743200" y="6095880"/>
              <a:ext cx="1676520" cy="457200"/>
            </a:xfrm>
            <a:prstGeom prst="rect">
              <a:avLst/>
            </a:prstGeom>
            <a:gradFill rotWithShape="0">
              <a:gsLst>
                <a:gs pos="0">
                  <a:srgbClr val="640000"/>
                </a:gs>
                <a:gs pos="100000">
                  <a:srgbClr val="2e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Sage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419720" y="5638680"/>
              <a:ext cx="4114800" cy="4572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172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Spiritual communication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19720" y="6095880"/>
              <a:ext cx="4114800" cy="4572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172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Insightful observation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Proverbs 24:30-31 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685800" y="83808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passed by the field of the slugg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by the vineyard of the man lacking sense,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behold, it was completely overgrown with thistles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s surface was covered with nettle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its stone wall was broken down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762120"/>
            <a:ext cx="7391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Proverbs 24:32-34 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85800" y="83808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I saw, I reflected upon it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looked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eived instruction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“A little sleep, a little slumber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little folding of the hands to rest,”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n your poverty will com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obb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your want like an armed m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762120"/>
            <a:ext cx="7391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600200" y="76212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utline of Proverb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" name=""/>
          <p:cNvSpPr/>
          <p:nvPr/>
        </p:nvSpPr>
        <p:spPr>
          <a:xfrm>
            <a:off x="76320" y="1905120"/>
            <a:ext cx="1752480" cy="76176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1-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320" y="2666880"/>
            <a:ext cx="1752480" cy="27432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eal to Wisd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3809880"/>
            <a:ext cx="1828800" cy="16002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erbs of Solom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28800" y="1905120"/>
            <a:ext cx="1828800" cy="76176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10-2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657600" y="3809880"/>
            <a:ext cx="1905120" cy="16002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erbs of Hezeki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666880"/>
            <a:ext cx="3733920" cy="11430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Verse Maxi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562720" y="2666880"/>
            <a:ext cx="1828800" cy="11430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rger Coupl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391520" y="2666880"/>
            <a:ext cx="1676160" cy="11430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od Wom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657600" y="1905120"/>
            <a:ext cx="1905120" cy="76176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25-2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562720" y="1905120"/>
            <a:ext cx="1828800" cy="76176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3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391520" y="1905120"/>
            <a:ext cx="1676160" cy="76176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3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809880"/>
            <a:ext cx="1828800" cy="16002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ds of Ag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391520" y="3809880"/>
            <a:ext cx="1676160" cy="16002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ds of King Lemu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mes in the Proverb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95280" y="1219320"/>
            <a:ext cx="73915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ay of Wisd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1066680"/>
            <a:ext cx="7696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219320" y="2362320"/>
            <a:ext cx="73911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 have directed you in the way of wisdom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have led you in upright path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hen you walk, your steps will not b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eded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if you run, you will not stumble. (Proverbs 4:11-12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52" dur="1" fill="hold"/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mes in the Proverb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95280" y="1219320"/>
            <a:ext cx="73915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ay of Wisd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066680"/>
            <a:ext cx="7696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90720" y="2286000"/>
            <a:ext cx="7391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ake hold of instruction; do not let go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uard her, for she is your lif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o not enter the path of the wicked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do not proceed in the way of evil men. (Proverbs 4:13-14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mes in the Proverb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95280" y="1219320"/>
            <a:ext cx="73915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ay of Wisd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1066680"/>
            <a:ext cx="7696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43000" y="2209680"/>
            <a:ext cx="723888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void it, do not pass by it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rn away from it and pass 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they cannot sleep unless they do evil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they are robbed of sleep unless they mak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omeon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mble. (Proverbs 4:15-16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mes in the Proverb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95280" y="1219320"/>
            <a:ext cx="73915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ay of Wisd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1066680"/>
            <a:ext cx="7696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14400" y="2286000"/>
            <a:ext cx="723888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7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they eat the bread of wickednes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drink the wine of viole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ut the path of the righteous is like the light of dawn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 shines brighter and brighter until the full d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way of the wicked is like darkness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do not know over what they stumble. (Proverbs 4:17-19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mes in the Proverb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95280" y="1219320"/>
            <a:ext cx="73915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ay of Wisd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1066680"/>
            <a:ext cx="7696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447920" y="2286000"/>
            <a:ext cx="72388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y son, give attention to my words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ine your ear to my sayin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o not let them depart from your sigh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ep them in the midst of your heart. (Proverbs 4:20-2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mes in the Proverb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95280" y="1219320"/>
            <a:ext cx="73915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ay of Wisd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1066680"/>
            <a:ext cx="7696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2286000"/>
            <a:ext cx="72388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they are life to those who find them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health to all their whole bod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ch over your heart with all diligenc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from it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low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prings of life. (Proverbs 4:22-23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1920" y="73080"/>
            <a:ext cx="2514600" cy="993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Book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666520" y="1066320"/>
            <a:ext cx="2133720" cy="1143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in &amp; suff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1066680"/>
            <a:ext cx="2514600" cy="11430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5715000"/>
            <a:ext cx="2514600" cy="10666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Song of Solom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4495680"/>
            <a:ext cx="2514600" cy="12193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Ecclesias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2209680"/>
            <a:ext cx="2514600" cy="12193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Psal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3429000"/>
            <a:ext cx="2514600" cy="10666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Prover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73080"/>
            <a:ext cx="2133720" cy="993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66880" y="2209680"/>
            <a:ext cx="2133720" cy="12193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ayer &amp; Wo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66880" y="3429000"/>
            <a:ext cx="2133720" cy="10666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6880" y="4495680"/>
            <a:ext cx="2133720" cy="12193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ing &amp; signific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66880" y="5715000"/>
            <a:ext cx="2133720" cy="10666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1066680"/>
            <a:ext cx="4114800" cy="1143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do bad things happen to good peopl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800600" y="73080"/>
            <a:ext cx="4114800" cy="993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Ques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00600" y="2209680"/>
            <a:ext cx="4114800" cy="12193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o I approach Go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00600" y="3429000"/>
            <a:ext cx="4114800" cy="10666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shall I liv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00600" y="4495680"/>
            <a:ext cx="4114800" cy="12193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am I her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00600" y="5715000"/>
            <a:ext cx="4114800" cy="10666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shall I lov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mes in the Proverb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95280" y="1219320"/>
            <a:ext cx="73915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ay of Wisd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1066680"/>
            <a:ext cx="7696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295280" y="1828800"/>
            <a:ext cx="73915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ciples of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2819520"/>
            <a:ext cx="83818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ll-gotten gains do not profit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righteousness delivers from dea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LORD will not allow the righteous to hunger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He will thrust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sid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raving of the wick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oor is he who works with a negligent hand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the hand of the diligent makes rich. (Proverbs 10:2-4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68" dur="1" fill="hold"/>
                                  <p:tgtEl>
                                    <p:spTgt spid="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mes in the Proverb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95280" y="1219320"/>
            <a:ext cx="73915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ay of Wisd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1066680"/>
            <a:ext cx="7696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295280" y="1828800"/>
            <a:ext cx="73915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ciples of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2743200"/>
            <a:ext cx="84582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who gathers in summer is a son who acts wisely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Bu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who sleeps in harvest is a son who acts shamefully. (Proverbs 10:5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mes in the Proverb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95280" y="1219320"/>
            <a:ext cx="73915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ay of Wisd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1066680"/>
            <a:ext cx="7696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295280" y="1828800"/>
            <a:ext cx="73915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ciples of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2819520"/>
            <a:ext cx="84582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ke vinegar to the teeth and smoke to the eye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 is the lazy one to those who send him.(Proverbs 10:26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mes in the Proverb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95280" y="1219320"/>
            <a:ext cx="73915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ay of Wisd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1066680"/>
            <a:ext cx="7696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295280" y="1828800"/>
            <a:ext cx="73915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ciples of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2895480"/>
            <a:ext cx="845820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you see a man skilled in his work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will stand before kings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will not stand before obscure men. (Proverbs 10:29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mes in the Proverb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95280" y="1219320"/>
            <a:ext cx="73915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ay of Wisd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ciples of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1066680"/>
            <a:ext cx="7696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2438280"/>
            <a:ext cx="73911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killed work will lead to su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ligent work will lead to su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3962520"/>
            <a:ext cx="7924680" cy="16002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ay of the sluggard is as a hedge of thorn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the path of the upright is a highw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Proverbs 15:19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89" dur="1" fill="hold"/>
                                  <p:tgtEl>
                                    <p:spTgt spid="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mes in the Proverb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95280" y="1219320"/>
            <a:ext cx="73915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ay of Wisd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ciples of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066680"/>
            <a:ext cx="7696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447920" y="2438280"/>
            <a:ext cx="73911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killed work will lead to su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ligent work will lead to su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3505320"/>
            <a:ext cx="7925040" cy="31240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 to the ant, O slugg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serve her ways and be wise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, having no chief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ficer, or ruler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pares her food in the summer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gathers her provisions in the harve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Proverbs 6:6-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mes in the Proverb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95280" y="1219320"/>
            <a:ext cx="73915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ay of Wisd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ciples of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1066680"/>
            <a:ext cx="7696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295280" y="2362320"/>
            <a:ext cx="73915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ciples of Business and Fin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" y="3505320"/>
            <a:ext cx="8610480" cy="31240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7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o not withhold good from those to whom it is du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it is in your power to do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8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o not say to your neighbor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"Go, and come back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tomorrow I will giv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"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you have it with you. (Proverbs 3:27-28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04" dur="1" fill="hold"/>
                                  <p:tgtEl>
                                    <p:spTgt spid="1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mes in the Proverb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95280" y="1219320"/>
            <a:ext cx="73915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ay of Wisd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ciples of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1066680"/>
            <a:ext cx="7696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295280" y="2362320"/>
            <a:ext cx="73915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ciples of Business and Fin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09480" y="3429000"/>
            <a:ext cx="7848720" cy="190512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50000">
                <a:srgbClr val="003366"/>
              </a:gs>
              <a:gs pos="100000">
                <a:srgbClr val="00172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who trusts in his riches will fall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the righteous will flourish like th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gree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f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Proverbs 11:28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mes in the Proverb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95280" y="1219320"/>
            <a:ext cx="73915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ay of Wisd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ciples of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ciples of Business and Fin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85800" y="1066680"/>
            <a:ext cx="7696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95280" y="2971800"/>
            <a:ext cx="7391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ciples of Spiritual Spee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75120" y="4191120"/>
            <a:ext cx="85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 lack of wood the fire goes out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where there is no whisperer, contention quiets dow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Proverbs 26:20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Proverbs 22:10-14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142640" y="1066680"/>
            <a:ext cx="7467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Drive out the scoffer, and contention will go out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en strife and dishonor will cea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He who loves purity of hear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ose speech is gracious, the king is his frie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he eyes of the LORD preserve knowledge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 He overthrows the words of the treacherous m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he sluggard says, "There is a lion outside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 shall be slain in the streets!"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he mouth of an adulteress is a deep pit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 who is cursed of the LORD will fall into 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14400" y="838080"/>
            <a:ext cx="7086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Book of Wisdo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967120" y="2076480"/>
            <a:ext cx="3433680" cy="819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roverb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Proverbs 13:1-3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1142640" y="1066680"/>
            <a:ext cx="7467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 wise son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ccepts hi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ther's discipline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 a scoffer does not listen to rebuk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From the fruit of a man's mouth he enjoys good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 the desire of the treacherous is viole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he one who guards his mouth preserves his life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one who opens wide his lips comes to ru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14400" y="838080"/>
            <a:ext cx="7086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Excellent Wife</a:t>
            </a:r>
            <a:br>
              <a:rPr sz="44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Proverbs 31:10-31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 conducts her affairs in such a way as to instill trust on the part of her husband (31:1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 is both hard-working and effic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 is not afraid to engage in busi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ise is given both to her husband as well as to 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Lessons from the Proverbs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Universal need for Wisd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Universal Arena of Wisd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Wise is also what is G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ciples rather than Promi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al view of the real wor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istians are called to be street-sm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57200" y="3200400"/>
            <a:ext cx="2971800" cy="17827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Job</a:t>
            </a:r>
            <a:br>
              <a:rPr sz="40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 righteous suff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410080" y="3200400"/>
            <a:ext cx="3200400" cy="17827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Ecclesiastes</a:t>
            </a:r>
            <a:br>
              <a:rPr sz="40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 lack of meaning to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14600" y="5334120"/>
            <a:ext cx="3886200" cy="13255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Song of Songs</a:t>
            </a:r>
            <a:br>
              <a:rPr sz="40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Irrationality of lo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18666600">
            <a:off x="4914720" y="1485360"/>
            <a:ext cx="533160" cy="2286000"/>
          </a:xfrm>
          <a:prstGeom prst="downArrow">
            <a:avLst>
              <a:gd name="adj1" fmla="val 57741"/>
              <a:gd name="adj2" fmla="val 121483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2845200">
            <a:off x="3466800" y="1562040"/>
            <a:ext cx="533520" cy="2286000"/>
          </a:xfrm>
          <a:prstGeom prst="downArrow">
            <a:avLst>
              <a:gd name="adj1" fmla="val 57741"/>
              <a:gd name="adj2" fmla="val 121401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191120" y="2819520"/>
            <a:ext cx="533160" cy="2286000"/>
          </a:xfrm>
          <a:prstGeom prst="downArrow">
            <a:avLst>
              <a:gd name="adj1" fmla="val 57741"/>
              <a:gd name="adj2" fmla="val 121483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437920" y="380880"/>
            <a:ext cx="4038840" cy="17827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Proverbs</a:t>
            </a:r>
            <a:br>
              <a:rPr sz="40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 Basic approach to lif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4" name="Cloud"/>
          <p:cNvSpPr/>
          <p:nvPr/>
        </p:nvSpPr>
        <p:spPr>
          <a:xfrm>
            <a:off x="2895480" y="2057400"/>
            <a:ext cx="3048120" cy="762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f76"/>
                </a:solidFill>
                <a:latin typeface="Arial"/>
              </a:rPr>
              <a:t>Exce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e Question of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362320" y="2590920"/>
            <a:ext cx="4395600" cy="742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CCLESIASTE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-230040" y="1905120"/>
          <a:ext cx="9688320" cy="3112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230040" y="1905120"/>
                    <a:ext cx="9688320" cy="31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762120" y="4952880"/>
            <a:ext cx="79246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Note:  English equivalent dates are only close approximations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133720" y="685800"/>
            <a:ext cx="4171680" cy="1371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Megilloth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("The Scrolls")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4280" y="380880"/>
            <a:ext cx="182880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-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73080" y="380880"/>
            <a:ext cx="182880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701880" y="380880"/>
            <a:ext cx="182880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-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530680" y="380880"/>
            <a:ext cx="182880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6-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359480" y="380880"/>
            <a:ext cx="182880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-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4280" y="1852560"/>
            <a:ext cx="1828800" cy="3385800"/>
          </a:xfrm>
          <a:prstGeom prst="rect">
            <a:avLst/>
          </a:prstGeom>
          <a:gradFill rotWithShape="0">
            <a:gsLst>
              <a:gs pos="0">
                <a:srgbClr val="00002f"/>
              </a:gs>
              <a:gs pos="5000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of life is emptiness, but man ought to enjoy goodness because it is from G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873080" y="914400"/>
            <a:ext cx="1828800" cy="947160"/>
          </a:xfrm>
          <a:prstGeom prst="rect">
            <a:avLst/>
          </a:prstGeom>
          <a:gradFill rotWithShape="0">
            <a:gsLst>
              <a:gs pos="0">
                <a:srgbClr val="320000"/>
              </a:gs>
              <a:gs pos="50000">
                <a:srgbClr val="580000"/>
              </a:gs>
              <a:gs pos="100000">
                <a:srgbClr val="32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 Black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Serm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701880" y="914400"/>
            <a:ext cx="1828800" cy="947160"/>
          </a:xfrm>
          <a:prstGeom prst="rect">
            <a:avLst/>
          </a:prstGeom>
          <a:gradFill rotWithShape="0">
            <a:gsLst>
              <a:gs pos="0">
                <a:srgbClr val="320000"/>
              </a:gs>
              <a:gs pos="50000">
                <a:srgbClr val="580000"/>
              </a:gs>
              <a:gs pos="100000">
                <a:srgbClr val="32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 Black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Serm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530680" y="914400"/>
            <a:ext cx="1828800" cy="947160"/>
          </a:xfrm>
          <a:prstGeom prst="rect">
            <a:avLst/>
          </a:prstGeom>
          <a:gradFill rotWithShape="0">
            <a:gsLst>
              <a:gs pos="0">
                <a:srgbClr val="320000"/>
              </a:gs>
              <a:gs pos="50000">
                <a:srgbClr val="580000"/>
              </a:gs>
              <a:gs pos="100000">
                <a:srgbClr val="32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Serm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359480" y="914400"/>
            <a:ext cx="1828800" cy="947160"/>
          </a:xfrm>
          <a:prstGeom prst="rect">
            <a:avLst/>
          </a:prstGeom>
          <a:gradFill rotWithShape="0">
            <a:gsLst>
              <a:gs pos="0">
                <a:srgbClr val="320000"/>
              </a:gs>
              <a:gs pos="50000">
                <a:srgbClr val="580000"/>
              </a:gs>
              <a:gs pos="100000">
                <a:srgbClr val="32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5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Serm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4280" y="914400"/>
            <a:ext cx="1828800" cy="947160"/>
          </a:xfrm>
          <a:prstGeom prst="rect">
            <a:avLst/>
          </a:prstGeom>
          <a:gradFill rotWithShape="0">
            <a:gsLst>
              <a:gs pos="0">
                <a:srgbClr val="320000"/>
              </a:gs>
              <a:gs pos="50000">
                <a:srgbClr val="580000"/>
              </a:gs>
              <a:gs pos="100000">
                <a:srgbClr val="32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 Black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Serm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2840" y="5229360"/>
            <a:ext cx="1828800" cy="1191240"/>
          </a:xfrm>
          <a:prstGeom prst="rect">
            <a:avLst/>
          </a:prstGeom>
          <a:gradFill rotWithShape="0">
            <a:gsLst>
              <a:gs pos="0">
                <a:srgbClr val="00002f"/>
              </a:gs>
              <a:gs pos="5000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tion to four the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2895480" y="2971800"/>
            <a:ext cx="4000680" cy="186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Emptiness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44280" y="380880"/>
            <a:ext cx="182880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-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873080" y="380880"/>
            <a:ext cx="182880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701880" y="380880"/>
            <a:ext cx="182880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-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530680" y="380880"/>
            <a:ext cx="182880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6-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359480" y="380880"/>
            <a:ext cx="182880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-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4280" y="1852560"/>
            <a:ext cx="1828800" cy="3385800"/>
          </a:xfrm>
          <a:prstGeom prst="rect">
            <a:avLst/>
          </a:prstGeom>
          <a:gradFill rotWithShape="0">
            <a:gsLst>
              <a:gs pos="0">
                <a:srgbClr val="00002f"/>
              </a:gs>
              <a:gs pos="5000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of life is emptiness, but man ought to enjoy goodness because it is from G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873080" y="1847880"/>
            <a:ext cx="1828800" cy="3385800"/>
          </a:xfrm>
          <a:prstGeom prst="rect">
            <a:avLst/>
          </a:prstGeom>
          <a:gradFill rotWithShape="0">
            <a:gsLst>
              <a:gs pos="0">
                <a:srgbClr val="00002f"/>
              </a:gs>
              <a:gs pos="5000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is profit in seeing God as the giver of all of the seasons of li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873080" y="914400"/>
            <a:ext cx="1828800" cy="947160"/>
          </a:xfrm>
          <a:prstGeom prst="rect">
            <a:avLst/>
          </a:prstGeom>
          <a:gradFill rotWithShape="0">
            <a:gsLst>
              <a:gs pos="0">
                <a:srgbClr val="320000"/>
              </a:gs>
              <a:gs pos="50000">
                <a:srgbClr val="580000"/>
              </a:gs>
              <a:gs pos="100000">
                <a:srgbClr val="32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 Black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Serm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01880" y="914400"/>
            <a:ext cx="1828800" cy="947160"/>
          </a:xfrm>
          <a:prstGeom prst="rect">
            <a:avLst/>
          </a:prstGeom>
          <a:gradFill rotWithShape="0">
            <a:gsLst>
              <a:gs pos="0">
                <a:srgbClr val="320000"/>
              </a:gs>
              <a:gs pos="50000">
                <a:srgbClr val="580000"/>
              </a:gs>
              <a:gs pos="100000">
                <a:srgbClr val="32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 Black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Serm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530680" y="914400"/>
            <a:ext cx="1828800" cy="947160"/>
          </a:xfrm>
          <a:prstGeom prst="rect">
            <a:avLst/>
          </a:prstGeom>
          <a:gradFill rotWithShape="0">
            <a:gsLst>
              <a:gs pos="0">
                <a:srgbClr val="320000"/>
              </a:gs>
              <a:gs pos="50000">
                <a:srgbClr val="580000"/>
              </a:gs>
              <a:gs pos="100000">
                <a:srgbClr val="32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Serm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359480" y="914400"/>
            <a:ext cx="1828800" cy="947160"/>
          </a:xfrm>
          <a:prstGeom prst="rect">
            <a:avLst/>
          </a:prstGeom>
          <a:gradFill rotWithShape="0">
            <a:gsLst>
              <a:gs pos="0">
                <a:srgbClr val="320000"/>
              </a:gs>
              <a:gs pos="50000">
                <a:srgbClr val="580000"/>
              </a:gs>
              <a:gs pos="100000">
                <a:srgbClr val="32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5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Serm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280" y="914400"/>
            <a:ext cx="1828800" cy="947160"/>
          </a:xfrm>
          <a:prstGeom prst="rect">
            <a:avLst/>
          </a:prstGeom>
          <a:gradFill rotWithShape="0">
            <a:gsLst>
              <a:gs pos="0">
                <a:srgbClr val="320000"/>
              </a:gs>
              <a:gs pos="50000">
                <a:srgbClr val="580000"/>
              </a:gs>
              <a:gs pos="100000">
                <a:srgbClr val="32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 Black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Serm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2840" y="5229360"/>
            <a:ext cx="1828800" cy="1191240"/>
          </a:xfrm>
          <a:prstGeom prst="rect">
            <a:avLst/>
          </a:prstGeom>
          <a:gradFill rotWithShape="0">
            <a:gsLst>
              <a:gs pos="0">
                <a:srgbClr val="00002f"/>
              </a:gs>
              <a:gs pos="5000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tion to four the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76320" y="5229360"/>
            <a:ext cx="1828800" cy="1191240"/>
          </a:xfrm>
          <a:prstGeom prst="rect">
            <a:avLst/>
          </a:prstGeom>
          <a:gradFill rotWithShape="0">
            <a:gsLst>
              <a:gs pos="0">
                <a:srgbClr val="00002f"/>
              </a:gs>
              <a:gs pos="5000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is a monotony to li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1981080"/>
            <a:ext cx="5029200" cy="41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fe is a gift from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everything there is a sea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a call to live purposefu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are called to enjoy the journ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44280" y="380880"/>
            <a:ext cx="182880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-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73080" y="380880"/>
            <a:ext cx="182880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01880" y="380880"/>
            <a:ext cx="182880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-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530680" y="380880"/>
            <a:ext cx="182880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6-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359480" y="380880"/>
            <a:ext cx="182880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-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4280" y="1852560"/>
            <a:ext cx="1828800" cy="3385800"/>
          </a:xfrm>
          <a:prstGeom prst="rect">
            <a:avLst/>
          </a:prstGeom>
          <a:gradFill rotWithShape="0">
            <a:gsLst>
              <a:gs pos="0">
                <a:srgbClr val="00002f"/>
              </a:gs>
              <a:gs pos="5000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of life is emptiness, but man ought to enjoy goodness because it is from G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873080" y="1847880"/>
            <a:ext cx="1828800" cy="3385800"/>
          </a:xfrm>
          <a:prstGeom prst="rect">
            <a:avLst/>
          </a:prstGeom>
          <a:gradFill rotWithShape="0">
            <a:gsLst>
              <a:gs pos="0">
                <a:srgbClr val="00002f"/>
              </a:gs>
              <a:gs pos="5000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is profit in seeing God as the giver of all of the seasons of li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873080" y="914400"/>
            <a:ext cx="1828800" cy="947160"/>
          </a:xfrm>
          <a:prstGeom prst="rect">
            <a:avLst/>
          </a:prstGeom>
          <a:gradFill rotWithShape="0">
            <a:gsLst>
              <a:gs pos="0">
                <a:srgbClr val="320000"/>
              </a:gs>
              <a:gs pos="50000">
                <a:srgbClr val="580000"/>
              </a:gs>
              <a:gs pos="100000">
                <a:srgbClr val="32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 Black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Serm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701880" y="914400"/>
            <a:ext cx="1828800" cy="947160"/>
          </a:xfrm>
          <a:prstGeom prst="rect">
            <a:avLst/>
          </a:prstGeom>
          <a:gradFill rotWithShape="0">
            <a:gsLst>
              <a:gs pos="0">
                <a:srgbClr val="320000"/>
              </a:gs>
              <a:gs pos="50000">
                <a:srgbClr val="580000"/>
              </a:gs>
              <a:gs pos="100000">
                <a:srgbClr val="32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 Black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Serm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530680" y="914400"/>
            <a:ext cx="1828800" cy="947160"/>
          </a:xfrm>
          <a:prstGeom prst="rect">
            <a:avLst/>
          </a:prstGeom>
          <a:gradFill rotWithShape="0">
            <a:gsLst>
              <a:gs pos="0">
                <a:srgbClr val="320000"/>
              </a:gs>
              <a:gs pos="50000">
                <a:srgbClr val="580000"/>
              </a:gs>
              <a:gs pos="100000">
                <a:srgbClr val="32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Serm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359480" y="914400"/>
            <a:ext cx="1828800" cy="947160"/>
          </a:xfrm>
          <a:prstGeom prst="rect">
            <a:avLst/>
          </a:prstGeom>
          <a:gradFill rotWithShape="0">
            <a:gsLst>
              <a:gs pos="0">
                <a:srgbClr val="320000"/>
              </a:gs>
              <a:gs pos="50000">
                <a:srgbClr val="580000"/>
              </a:gs>
              <a:gs pos="100000">
                <a:srgbClr val="32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5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Serm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4280" y="914400"/>
            <a:ext cx="1828800" cy="947160"/>
          </a:xfrm>
          <a:prstGeom prst="rect">
            <a:avLst/>
          </a:prstGeom>
          <a:gradFill rotWithShape="0">
            <a:gsLst>
              <a:gs pos="0">
                <a:srgbClr val="320000"/>
              </a:gs>
              <a:gs pos="50000">
                <a:srgbClr val="580000"/>
              </a:gs>
              <a:gs pos="100000">
                <a:srgbClr val="32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 Black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Serm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2840" y="5229360"/>
            <a:ext cx="1828800" cy="1191240"/>
          </a:xfrm>
          <a:prstGeom prst="rect">
            <a:avLst/>
          </a:prstGeom>
          <a:gradFill rotWithShape="0">
            <a:gsLst>
              <a:gs pos="0">
                <a:srgbClr val="00002f"/>
              </a:gs>
              <a:gs pos="5000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tion to four the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876320" y="5229360"/>
            <a:ext cx="1828800" cy="1191240"/>
          </a:xfrm>
          <a:prstGeom prst="rect">
            <a:avLst/>
          </a:prstGeom>
          <a:gradFill rotWithShape="0">
            <a:gsLst>
              <a:gs pos="0">
                <a:srgbClr val="00002f"/>
              </a:gs>
              <a:gs pos="5000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is a monotony to li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886200" y="1981080"/>
            <a:ext cx="5029200" cy="41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 of this enjoyment is found in the “one another principle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4280" y="380880"/>
            <a:ext cx="182880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-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873080" y="380880"/>
            <a:ext cx="182880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701880" y="380880"/>
            <a:ext cx="182880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-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530680" y="380880"/>
            <a:ext cx="182880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6-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359480" y="380880"/>
            <a:ext cx="182880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-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4280" y="1852560"/>
            <a:ext cx="1828800" cy="3385800"/>
          </a:xfrm>
          <a:prstGeom prst="rect">
            <a:avLst/>
          </a:prstGeom>
          <a:gradFill rotWithShape="0">
            <a:gsLst>
              <a:gs pos="0">
                <a:srgbClr val="00002f"/>
              </a:gs>
              <a:gs pos="5000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of life is emptiness, but man ought to enjoy goodness because it is from G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873080" y="1847880"/>
            <a:ext cx="1828800" cy="3385800"/>
          </a:xfrm>
          <a:prstGeom prst="rect">
            <a:avLst/>
          </a:prstGeom>
          <a:gradFill rotWithShape="0">
            <a:gsLst>
              <a:gs pos="0">
                <a:srgbClr val="00002f"/>
              </a:gs>
              <a:gs pos="5000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is profit in seeing God as the giver of all of the seasons of li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701880" y="1847880"/>
            <a:ext cx="1828800" cy="3020040"/>
          </a:xfrm>
          <a:prstGeom prst="rect">
            <a:avLst/>
          </a:prstGeom>
          <a:gradFill rotWithShape="0">
            <a:gsLst>
              <a:gs pos="0">
                <a:srgbClr val="00002f"/>
              </a:gs>
              <a:gs pos="5000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ead of being fearful, enjoy life while it lasts because it is a gift from G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873080" y="914400"/>
            <a:ext cx="1828800" cy="947160"/>
          </a:xfrm>
          <a:prstGeom prst="rect">
            <a:avLst/>
          </a:prstGeom>
          <a:gradFill rotWithShape="0">
            <a:gsLst>
              <a:gs pos="0">
                <a:srgbClr val="320000"/>
              </a:gs>
              <a:gs pos="50000">
                <a:srgbClr val="580000"/>
              </a:gs>
              <a:gs pos="100000">
                <a:srgbClr val="32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 Black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Serm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701880" y="914400"/>
            <a:ext cx="1828800" cy="947160"/>
          </a:xfrm>
          <a:prstGeom prst="rect">
            <a:avLst/>
          </a:prstGeom>
          <a:gradFill rotWithShape="0">
            <a:gsLst>
              <a:gs pos="0">
                <a:srgbClr val="320000"/>
              </a:gs>
              <a:gs pos="50000">
                <a:srgbClr val="580000"/>
              </a:gs>
              <a:gs pos="100000">
                <a:srgbClr val="32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 Black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Serm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530680" y="914400"/>
            <a:ext cx="1828800" cy="947160"/>
          </a:xfrm>
          <a:prstGeom prst="rect">
            <a:avLst/>
          </a:prstGeom>
          <a:gradFill rotWithShape="0">
            <a:gsLst>
              <a:gs pos="0">
                <a:srgbClr val="320000"/>
              </a:gs>
              <a:gs pos="50000">
                <a:srgbClr val="580000"/>
              </a:gs>
              <a:gs pos="100000">
                <a:srgbClr val="32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Serm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359480" y="914400"/>
            <a:ext cx="1828800" cy="947160"/>
          </a:xfrm>
          <a:prstGeom prst="rect">
            <a:avLst/>
          </a:prstGeom>
          <a:gradFill rotWithShape="0">
            <a:gsLst>
              <a:gs pos="0">
                <a:srgbClr val="320000"/>
              </a:gs>
              <a:gs pos="50000">
                <a:srgbClr val="580000"/>
              </a:gs>
              <a:gs pos="100000">
                <a:srgbClr val="32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5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Serm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4280" y="914400"/>
            <a:ext cx="1828800" cy="947160"/>
          </a:xfrm>
          <a:prstGeom prst="rect">
            <a:avLst/>
          </a:prstGeom>
          <a:gradFill rotWithShape="0">
            <a:gsLst>
              <a:gs pos="0">
                <a:srgbClr val="320000"/>
              </a:gs>
              <a:gs pos="50000">
                <a:srgbClr val="580000"/>
              </a:gs>
              <a:gs pos="100000">
                <a:srgbClr val="32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 Black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Serm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2840" y="5229360"/>
            <a:ext cx="1828800" cy="1191240"/>
          </a:xfrm>
          <a:prstGeom prst="rect">
            <a:avLst/>
          </a:prstGeom>
          <a:gradFill rotWithShape="0">
            <a:gsLst>
              <a:gs pos="0">
                <a:srgbClr val="00002f"/>
              </a:gs>
              <a:gs pos="5000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tion to four the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876320" y="5229360"/>
            <a:ext cx="1828800" cy="1191240"/>
          </a:xfrm>
          <a:prstGeom prst="rect">
            <a:avLst/>
          </a:prstGeom>
          <a:gradFill rotWithShape="0">
            <a:gsLst>
              <a:gs pos="0">
                <a:srgbClr val="00002f"/>
              </a:gs>
              <a:gs pos="5000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is a monotony to li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705120" y="5229360"/>
            <a:ext cx="1828800" cy="1191240"/>
          </a:xfrm>
          <a:prstGeom prst="rect">
            <a:avLst/>
          </a:prstGeom>
          <a:gradFill rotWithShape="0">
            <a:gsLst>
              <a:gs pos="0">
                <a:srgbClr val="00002f"/>
              </a:gs>
              <a:gs pos="5000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is an emptiness in wisd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Title of the book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38280" y="2971800"/>
            <a:ext cx="190512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600200" y="28951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e proverbs of Solomon the son of David, king of Israel (Proverbs 1:1)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114800" y="3429000"/>
            <a:ext cx="914400" cy="1600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88200" y="5715000"/>
            <a:ext cx="129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whebb"/>
              </a:rPr>
              <a:t>lv;m'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96080" y="502920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From t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root wo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3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Preacher gives four reasons why it is better not to be alon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20600" y="2771640"/>
            <a:ext cx="2209680" cy="459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4: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330280" y="2771640"/>
            <a:ext cx="2210040" cy="459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4: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540320" y="2771640"/>
            <a:ext cx="2209680" cy="459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4: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750000" y="2771640"/>
            <a:ext cx="2362320" cy="459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4: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20600" y="3244680"/>
            <a:ext cx="8991720" cy="5814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wo are better than one becaus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0600" y="3828960"/>
            <a:ext cx="2209680" cy="1557000"/>
          </a:xfrm>
          <a:prstGeom prst="rect">
            <a:avLst/>
          </a:prstGeom>
          <a:gradFill rotWithShape="0">
            <a:gsLst>
              <a:gs pos="0">
                <a:srgbClr val="000e2a"/>
              </a:gs>
              <a:gs pos="50000">
                <a:srgbClr val="001f5c"/>
              </a:gs>
              <a:gs pos="100000">
                <a:srgbClr val="000e2a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have good results in their lab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330280" y="3828960"/>
            <a:ext cx="2210040" cy="1557000"/>
          </a:xfrm>
          <a:prstGeom prst="rect">
            <a:avLst/>
          </a:prstGeom>
          <a:gradFill rotWithShape="0">
            <a:gsLst>
              <a:gs pos="0">
                <a:srgbClr val="000e2a"/>
              </a:gs>
              <a:gs pos="50000">
                <a:srgbClr val="001f5c"/>
              </a:gs>
              <a:gs pos="100000">
                <a:srgbClr val="000e2a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can pick up one another in trou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540320" y="3828960"/>
            <a:ext cx="2209680" cy="1557000"/>
          </a:xfrm>
          <a:prstGeom prst="rect">
            <a:avLst/>
          </a:prstGeom>
          <a:gradFill rotWithShape="0">
            <a:gsLst>
              <a:gs pos="0">
                <a:srgbClr val="000e2a"/>
              </a:gs>
              <a:gs pos="50000">
                <a:srgbClr val="001f5c"/>
              </a:gs>
              <a:gs pos="100000">
                <a:srgbClr val="000e2a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can warm one another in the c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750000" y="3828960"/>
            <a:ext cx="2362320" cy="1557000"/>
          </a:xfrm>
          <a:prstGeom prst="rect">
            <a:avLst/>
          </a:prstGeom>
          <a:gradFill rotWithShape="0">
            <a:gsLst>
              <a:gs pos="0">
                <a:srgbClr val="000e2a"/>
              </a:gs>
              <a:gs pos="50000">
                <a:srgbClr val="001f5c"/>
              </a:gs>
              <a:gs pos="100000">
                <a:srgbClr val="000e2a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can hold up one another in advers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20600" y="5378400"/>
            <a:ext cx="2209680" cy="520560"/>
          </a:xfrm>
          <a:prstGeom prst="rect">
            <a:avLst/>
          </a:prstGeom>
          <a:gradFill rotWithShape="0">
            <a:gsLst>
              <a:gs pos="0">
                <a:srgbClr val="000e2a"/>
              </a:gs>
              <a:gs pos="50000">
                <a:srgbClr val="001f5c"/>
              </a:gs>
              <a:gs pos="100000">
                <a:srgbClr val="000e2a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330280" y="5378400"/>
            <a:ext cx="2210040" cy="520560"/>
          </a:xfrm>
          <a:prstGeom prst="rect">
            <a:avLst/>
          </a:prstGeom>
          <a:gradFill rotWithShape="0">
            <a:gsLst>
              <a:gs pos="0">
                <a:srgbClr val="000e2a"/>
              </a:gs>
              <a:gs pos="50000">
                <a:srgbClr val="001f5c"/>
              </a:gs>
              <a:gs pos="100000">
                <a:srgbClr val="000e2a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l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540320" y="5378400"/>
            <a:ext cx="2209680" cy="520560"/>
          </a:xfrm>
          <a:prstGeom prst="rect">
            <a:avLst/>
          </a:prstGeom>
          <a:gradFill rotWithShape="0">
            <a:gsLst>
              <a:gs pos="0">
                <a:srgbClr val="000e2a"/>
              </a:gs>
              <a:gs pos="50000">
                <a:srgbClr val="001f5c"/>
              </a:gs>
              <a:gs pos="100000">
                <a:srgbClr val="000e2a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750000" y="5378400"/>
            <a:ext cx="2362320" cy="520560"/>
          </a:xfrm>
          <a:prstGeom prst="rect">
            <a:avLst/>
          </a:prstGeom>
          <a:gradFill rotWithShape="0">
            <a:gsLst>
              <a:gs pos="0">
                <a:srgbClr val="000e2a"/>
              </a:gs>
              <a:gs pos="50000">
                <a:srgbClr val="001f5c"/>
              </a:gs>
              <a:gs pos="100000">
                <a:srgbClr val="000e2a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er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44280" y="380880"/>
            <a:ext cx="182880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-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873080" y="380880"/>
            <a:ext cx="182880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701880" y="380880"/>
            <a:ext cx="182880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-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530680" y="380880"/>
            <a:ext cx="182880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6-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59480" y="380880"/>
            <a:ext cx="182880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-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4280" y="1852560"/>
            <a:ext cx="1828800" cy="3385800"/>
          </a:xfrm>
          <a:prstGeom prst="rect">
            <a:avLst/>
          </a:prstGeom>
          <a:gradFill rotWithShape="0">
            <a:gsLst>
              <a:gs pos="0">
                <a:srgbClr val="00002f"/>
              </a:gs>
              <a:gs pos="5000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of life is emptiness, but man ought to enjoy goodness because it is from G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873080" y="1847880"/>
            <a:ext cx="1828800" cy="3385800"/>
          </a:xfrm>
          <a:prstGeom prst="rect">
            <a:avLst/>
          </a:prstGeom>
          <a:gradFill rotWithShape="0">
            <a:gsLst>
              <a:gs pos="0">
                <a:srgbClr val="00002f"/>
              </a:gs>
              <a:gs pos="5000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is profit in seeing God as the giver of all of the seasons of li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701880" y="1847880"/>
            <a:ext cx="1828800" cy="3020040"/>
          </a:xfrm>
          <a:prstGeom prst="rect">
            <a:avLst/>
          </a:prstGeom>
          <a:gradFill rotWithShape="0">
            <a:gsLst>
              <a:gs pos="0">
                <a:srgbClr val="00002f"/>
              </a:gs>
              <a:gs pos="5000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ead of being fearful, enjoy life while it lasts because it is a gift from G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530680" y="1847880"/>
            <a:ext cx="1828800" cy="3385800"/>
          </a:xfrm>
          <a:prstGeom prst="rect">
            <a:avLst/>
          </a:prstGeom>
          <a:gradFill rotWithShape="0">
            <a:gsLst>
              <a:gs pos="0">
                <a:srgbClr val="00002f"/>
              </a:gs>
              <a:gs pos="5000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 sees life as a struggle, but God gave life to be enjoy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359480" y="1847880"/>
            <a:ext cx="1828800" cy="3385800"/>
          </a:xfrm>
          <a:prstGeom prst="rect">
            <a:avLst/>
          </a:prstGeom>
          <a:gradFill rotWithShape="0">
            <a:gsLst>
              <a:gs pos="0">
                <a:srgbClr val="00002f"/>
              </a:gs>
              <a:gs pos="5000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ause of the emptiness of this life, man ought to fear the Lord and follow His w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873080" y="914400"/>
            <a:ext cx="1828800" cy="947160"/>
          </a:xfrm>
          <a:prstGeom prst="rect">
            <a:avLst/>
          </a:prstGeom>
          <a:gradFill rotWithShape="0">
            <a:gsLst>
              <a:gs pos="0">
                <a:srgbClr val="320000"/>
              </a:gs>
              <a:gs pos="50000">
                <a:srgbClr val="580000"/>
              </a:gs>
              <a:gs pos="100000">
                <a:srgbClr val="32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 Black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Serm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701880" y="914400"/>
            <a:ext cx="1828800" cy="947160"/>
          </a:xfrm>
          <a:prstGeom prst="rect">
            <a:avLst/>
          </a:prstGeom>
          <a:gradFill rotWithShape="0">
            <a:gsLst>
              <a:gs pos="0">
                <a:srgbClr val="320000"/>
              </a:gs>
              <a:gs pos="50000">
                <a:srgbClr val="580000"/>
              </a:gs>
              <a:gs pos="100000">
                <a:srgbClr val="32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 Black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Serm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30680" y="914400"/>
            <a:ext cx="1828800" cy="947160"/>
          </a:xfrm>
          <a:prstGeom prst="rect">
            <a:avLst/>
          </a:prstGeom>
          <a:gradFill rotWithShape="0">
            <a:gsLst>
              <a:gs pos="0">
                <a:srgbClr val="320000"/>
              </a:gs>
              <a:gs pos="50000">
                <a:srgbClr val="580000"/>
              </a:gs>
              <a:gs pos="100000">
                <a:srgbClr val="32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Serm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359480" y="914400"/>
            <a:ext cx="1828800" cy="947160"/>
          </a:xfrm>
          <a:prstGeom prst="rect">
            <a:avLst/>
          </a:prstGeom>
          <a:gradFill rotWithShape="0">
            <a:gsLst>
              <a:gs pos="0">
                <a:srgbClr val="320000"/>
              </a:gs>
              <a:gs pos="50000">
                <a:srgbClr val="580000"/>
              </a:gs>
              <a:gs pos="100000">
                <a:srgbClr val="32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5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Serm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4280" y="914400"/>
            <a:ext cx="1828800" cy="947160"/>
          </a:xfrm>
          <a:prstGeom prst="rect">
            <a:avLst/>
          </a:prstGeom>
          <a:gradFill rotWithShape="0">
            <a:gsLst>
              <a:gs pos="0">
                <a:srgbClr val="320000"/>
              </a:gs>
              <a:gs pos="50000">
                <a:srgbClr val="580000"/>
              </a:gs>
              <a:gs pos="100000">
                <a:srgbClr val="32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 Black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Serm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840" y="5229360"/>
            <a:ext cx="1828800" cy="1191240"/>
          </a:xfrm>
          <a:prstGeom prst="rect">
            <a:avLst/>
          </a:prstGeom>
          <a:gradFill rotWithShape="0">
            <a:gsLst>
              <a:gs pos="0">
                <a:srgbClr val="00002f"/>
              </a:gs>
              <a:gs pos="5000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tion to four the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876320" y="5229360"/>
            <a:ext cx="1828800" cy="1191240"/>
          </a:xfrm>
          <a:prstGeom prst="rect">
            <a:avLst/>
          </a:prstGeom>
          <a:gradFill rotWithShape="0">
            <a:gsLst>
              <a:gs pos="0">
                <a:srgbClr val="00002f"/>
              </a:gs>
              <a:gs pos="5000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is a monotony to li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705120" y="5229360"/>
            <a:ext cx="1828800" cy="1191240"/>
          </a:xfrm>
          <a:prstGeom prst="rect">
            <a:avLst/>
          </a:prstGeom>
          <a:gradFill rotWithShape="0">
            <a:gsLst>
              <a:gs pos="0">
                <a:srgbClr val="00002f"/>
              </a:gs>
              <a:gs pos="5000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is an emptiness in wisd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529240" y="5229360"/>
            <a:ext cx="1828800" cy="1191240"/>
          </a:xfrm>
          <a:prstGeom prst="rect">
            <a:avLst/>
          </a:prstGeom>
          <a:gradFill rotWithShape="0">
            <a:gsLst>
              <a:gs pos="0">
                <a:srgbClr val="00002f"/>
              </a:gs>
              <a:gs pos="5000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is a futility in weal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358040" y="5229360"/>
            <a:ext cx="1828800" cy="1191240"/>
          </a:xfrm>
          <a:prstGeom prst="rect">
            <a:avLst/>
          </a:prstGeom>
          <a:gradFill rotWithShape="0">
            <a:gsLst>
              <a:gs pos="0">
                <a:srgbClr val="00002f"/>
              </a:gs>
              <a:gs pos="5000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is a certainty of dea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emember the Lord because…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aren’t getting any Young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has designed you to be Empty without Hi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is the Time to Prepare for Etern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223164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 Black"/>
              </a:rPr>
              <a:t>SONG OF SONGS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e Love Song of the Scrip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Interpretations of the Book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egorical Interpretation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Entire book is seen as an allegory of the Lord’s love for His people Isra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ltic Interpretation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Cultic poems for use in marriage ritu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hepherd Interpretation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Views Solomon as the villa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ypical Interpretation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Type of the chu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ural or Literal Interpre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Arial"/>
              </a:rPr>
              <a:t>Cast of Characters</a:t>
            </a: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41040" y="1935000"/>
            <a:ext cx="7745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olomon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Shelomoh “Peaceful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hulamith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Feminine of Shelomo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914400" y="2133720"/>
            <a:ext cx="2743200" cy="114300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omance &amp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Honeymo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(Chapters 1-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486400" y="2133720"/>
            <a:ext cx="2743200" cy="114300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Happily e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f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(Chapters 7-8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048120" y="4038480"/>
            <a:ext cx="3124080" cy="9907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arital Probl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(Chapters 5-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590920" y="3276720"/>
            <a:ext cx="1066680" cy="6858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5410080" y="3352320"/>
            <a:ext cx="990720" cy="6858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676520" y="762120"/>
            <a:ext cx="541008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utline of the Book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0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"/>
                            </p:stCondLst>
                            <p:childTnLst>
                              <p:par>
                                <p:cTn id="6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000"/>
                            </p:stCondLst>
                            <p:childTnLst>
                              <p:par>
                                <p:cTn id="6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500"/>
                            </p:stCondLst>
                            <p:childTnLst>
                              <p:par>
                                <p:cTn id="6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Story behind the So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story beg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Song of Songs 1:5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990720" y="1219320"/>
            <a:ext cx="71625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"I am black but lovely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daughters of Jerusalem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ke the tents of Kedar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ke the curtains of Solom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38080" y="838080"/>
            <a:ext cx="7620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roverbs 1:2-4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990360" y="1219320"/>
            <a:ext cx="74674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know wisdom and instruction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discern the sayings of understanding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receive instruction in wise behavior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ghteousness, justice and equity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give prudence to the naiv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he youth knowledge and discretion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838080"/>
            <a:ext cx="7620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990720" y="2971800"/>
            <a:ext cx="3352680" cy="4572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Song of Songs 1:6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990720" y="1219320"/>
            <a:ext cx="71625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"Do not stare at me because I am swarthy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e sun has burned 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mother's sons were angry with m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made me caretaker of the vineyard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I have not taken care of my own vineyard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838080" y="838080"/>
            <a:ext cx="7620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03" dur="1" fill="hold"/>
                                  <p:tgtEl>
                                    <p:spTgt spid="3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Story behind the So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story beg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57200" y="23623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oy meets gir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0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Song of Songs 1:7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990720" y="1219320"/>
            <a:ext cx="71625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ll me, O you whom my soul love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do you pasture your flock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do you make it lie down at no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why should I be like one who veils hersel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side the flocks of your compan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38080" y="838080"/>
            <a:ext cx="7620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Story behind the So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story beg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oy meets gir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57200" y="2895480"/>
            <a:ext cx="830592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 promises to retu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 returns, not as a shepherd, but as the reigning 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lomon takes his bride to Jerusa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temporary separation (Chapters 5-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0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Observations from the Book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name of Yahweh is not mentio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book is never quoted in the New Testa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ws would not permit their young people to read this bo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Lessons from the Song of Songs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od is concerned with all of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od is concerned with our sexu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 of life reflects our relationship with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Scriptures contain love so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 are a part of a sacred rom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roverbs 1:5-6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990360" y="129492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 wise man will hear and increase in learning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a man of understanding will acquire wise counsel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understand a proverb and a figur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s of the wise and their ridd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838080"/>
            <a:ext cx="7620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438280" y="3886200"/>
            <a:ext cx="152424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Exodus 28:2-3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990360" y="129492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"And you shall make holy garments for Aaron your brother, for glory and for beau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"And you shall speak to all the skillful persons whom I have endowed with the spirit of wisdom, that they make Aaron's garments to consecrate him, that he may minister as priest to 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38080" y="838080"/>
            <a:ext cx="7620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0" dur="1" fill="hold"/>
                                  <p:tgtEl>
                                    <p:spTgt spid="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roverbs 1:7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990360" y="129492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ear of the LORD is the beginning of knowledg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ols despise wisdom and instru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38080" y="838080"/>
            <a:ext cx="7620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7620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87040" y="4267080"/>
            <a:ext cx="434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 Fear that Drives Aw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44200" y="4800600"/>
            <a:ext cx="480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 Fear that brings Won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4114800" cy="765360"/>
          </a:xfrm>
          <a:prstGeom prst="rect">
            <a:avLst/>
          </a:prstGeom>
          <a:gradFill rotWithShape="0">
            <a:gsLst>
              <a:gs pos="0">
                <a:srgbClr val="640000"/>
              </a:gs>
              <a:gs pos="100000">
                <a:srgbClr val="2e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Psalm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4114800" cy="6858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k of Wo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152280"/>
            <a:ext cx="4114800" cy="765360"/>
          </a:xfrm>
          <a:prstGeom prst="rect">
            <a:avLst/>
          </a:prstGeom>
          <a:gradFill rotWithShape="0">
            <a:gsLst>
              <a:gs pos="0">
                <a:srgbClr val="640000"/>
              </a:gs>
              <a:gs pos="100000">
                <a:srgbClr val="2e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Proverb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0" y="914400"/>
            <a:ext cx="4114800" cy="6858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k of Wisd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600200"/>
            <a:ext cx="4114800" cy="10666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aks to our Spir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1600200"/>
            <a:ext cx="4114800" cy="10666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aks to our Intell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2666880"/>
            <a:ext cx="4114800" cy="10670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fe in the prayer clos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0" y="2666880"/>
            <a:ext cx="4114800" cy="10670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fe out in the stre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3733920"/>
            <a:ext cx="4114800" cy="15238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 us how to be holy before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0" y="3733920"/>
            <a:ext cx="4114800" cy="15238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 us how to practice holiness before 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5257800"/>
            <a:ext cx="4114800" cy="15238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ve the Lord with all your heart, soul, and mi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0" y="5257800"/>
            <a:ext cx="4114800" cy="15238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ve your neighbor as yoursel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 Stevenson</cp:lastModifiedBy>
  <dcterms:modified xsi:type="dcterms:W3CDTF">2014-06-09T14:54:34Z</dcterms:modified>
  <cp:revision>242</cp:revision>
  <dc:subject/>
  <dc:title>Old Testament Survey</dc:title>
</cp:coreProperties>
</file>