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CDF0-7D0D-4AF5-B8D6-C2D0674F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CE23-BE3C-443B-B711-B9C1819B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FA2E-972B-4A9F-8029-8A175EA3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EFAE-E978-4BF8-83DB-1204CF72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EB6A-B105-4E18-9FA0-E4922A22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C57F-3CCB-4F4A-9856-6894D7CB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E4DD-1BF5-4726-891D-032A727F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D595-85DE-4046-9F57-6C59554B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AB12-8BBC-4893-AAD2-EE6B7E88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AF63-6B0C-46A3-86A6-004618F9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922D-FB2A-49DF-990F-AAD56521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0CE4-7E24-4C87-9351-D248F180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3BFD-F9D6-469D-95DB-3B0C3195E6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7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Theology of Revel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 Florida Bible College &amp; Semin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3280" y="580536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66680" y="1600200"/>
            <a:ext cx="6934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408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ew Testament Theolog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408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Eschatological View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ews of the Millennium and the fu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4572000"/>
            <a:ext cx="294804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52280" y="4495680"/>
            <a:ext cx="101448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014720" y="4572000"/>
            <a:ext cx="182880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3520" y="4572000"/>
            <a:ext cx="200664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3659040" y="4038480"/>
            <a:ext cx="609840" cy="1067040"/>
          </a:xfrm>
          <a:prstGeom prst="uturnArrow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278160" y="3352680"/>
            <a:ext cx="1600200" cy="762120"/>
            <a:chOff x="3278160" y="3352680"/>
            <a:chExt cx="1600200" cy="762120"/>
          </a:xfrm>
        </p:grpSpPr>
        <p:sp>
          <p:nvSpPr>
            <p:cNvPr id="99" name="Cloud"/>
            <p:cNvSpPr/>
            <p:nvPr/>
          </p:nvSpPr>
          <p:spPr>
            <a:xfrm>
              <a:off x="3278160" y="3352680"/>
              <a:ext cx="1600200" cy="762120"/>
            </a:xfrm>
            <a:prstGeom prst="pie">
              <a:avLst/>
            </a:prstGeom>
            <a:gradFill rotWithShape="0">
              <a:gsLst>
                <a:gs pos="0">
                  <a:srgbClr val="9207fb"/>
                </a:gs>
                <a:gs pos="100000">
                  <a:srgbClr val="3d02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05600" y="3454560"/>
              <a:ext cx="146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apture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 flipV="1">
            <a:off x="3887640" y="4572000"/>
            <a:ext cx="228600" cy="1447920"/>
          </a:xfrm>
          <a:prstGeom prst="downArrow">
            <a:avLst>
              <a:gd name="adj1" fmla="val 50000"/>
              <a:gd name="adj2" fmla="val 158346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87840" y="4952880"/>
            <a:ext cx="838440" cy="1067040"/>
          </a:xfrm>
          <a:prstGeom prst="uturnArrow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 rot="10800000">
            <a:off x="5703480" y="4038480"/>
            <a:ext cx="304920" cy="1905120"/>
          </a:xfrm>
          <a:prstGeom prst="downArrow">
            <a:avLst>
              <a:gd name="adj1" fmla="val 50000"/>
              <a:gd name="adj2" fmla="val 110988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30200" y="504360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b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9000" y="502920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lenn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535160" y="3564000"/>
            <a:ext cx="3441960" cy="3593880"/>
            <a:chOff x="7535160" y="3564000"/>
            <a:chExt cx="3441960" cy="3593880"/>
          </a:xfrm>
        </p:grpSpPr>
        <p:sp>
          <p:nvSpPr>
            <p:cNvPr id="107" name="PubChord"/>
            <p:cNvSpPr/>
            <p:nvPr/>
          </p:nvSpPr>
          <p:spPr>
            <a:xfrm rot="21257400">
              <a:off x="7691400" y="3711240"/>
              <a:ext cx="3129120" cy="3298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066" y="74"/>
                  </a:moveTo>
                  <a:arcTo wR="10800" hR="10800" stAng="-4996055" swAng="-10921957"/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28640" y="4921200"/>
              <a:ext cx="1308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terna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 flipV="1" rot="10800000">
            <a:off x="7697880" y="4076640"/>
            <a:ext cx="304560" cy="1905120"/>
          </a:xfrm>
          <a:prstGeom prst="downArrow">
            <a:avLst>
              <a:gd name="adj1" fmla="val 50000"/>
              <a:gd name="adj2" fmla="val 111119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105520" y="3330720"/>
            <a:ext cx="1600200" cy="825480"/>
            <a:chOff x="5105520" y="3330720"/>
            <a:chExt cx="1600200" cy="825480"/>
          </a:xfrm>
        </p:grpSpPr>
        <p:sp>
          <p:nvSpPr>
            <p:cNvPr id="111" name="Cloud"/>
            <p:cNvSpPr/>
            <p:nvPr/>
          </p:nvSpPr>
          <p:spPr>
            <a:xfrm>
              <a:off x="5105520" y="3352680"/>
              <a:ext cx="1600200" cy="762120"/>
            </a:xfrm>
            <a:prstGeom prst="pie">
              <a:avLst/>
            </a:prstGeom>
            <a:gradFill rotWithShape="0">
              <a:gsLst>
                <a:gs pos="0">
                  <a:srgbClr val="9207fb"/>
                </a:gs>
                <a:gs pos="100000">
                  <a:srgbClr val="3d02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9160" y="3330720"/>
              <a:ext cx="122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con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010280" y="3352680"/>
            <a:ext cx="1600200" cy="762120"/>
            <a:chOff x="7010280" y="3352680"/>
            <a:chExt cx="1600200" cy="762120"/>
          </a:xfrm>
        </p:grpSpPr>
        <p:sp>
          <p:nvSpPr>
            <p:cNvPr id="114" name="Cloud"/>
            <p:cNvSpPr/>
            <p:nvPr/>
          </p:nvSpPr>
          <p:spPr>
            <a:xfrm>
              <a:off x="7010280" y="3352680"/>
              <a:ext cx="1600200" cy="762120"/>
            </a:xfrm>
            <a:prstGeom prst="pie">
              <a:avLst/>
            </a:prstGeom>
            <a:gradFill rotWithShape="0">
              <a:gsLst>
                <a:gs pos="0">
                  <a:srgbClr val="9207fb"/>
                </a:gs>
                <a:gs pos="100000">
                  <a:srgbClr val="3d02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89120" y="350820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udg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"/>
          <p:cNvSpPr txBox="1"/>
          <p:nvPr/>
        </p:nvSpPr>
        <p:spPr>
          <a:xfrm>
            <a:off x="2362320" y="6172200"/>
            <a:ext cx="480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spensational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ubChord"/>
          <p:cNvSpPr/>
          <p:nvPr/>
        </p:nvSpPr>
        <p:spPr>
          <a:xfrm rot="21257400">
            <a:off x="7691400" y="3711240"/>
            <a:ext cx="3129120" cy="329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066" y="74"/>
                </a:moveTo>
                <a:arcTo wR="10800" hR="10800" stAng="-4996055" swAng="-10921957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4572000"/>
            <a:ext cx="294804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52280" y="4495680"/>
            <a:ext cx="1014480" cy="1524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014720" y="4572000"/>
            <a:ext cx="182880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43520" y="4572000"/>
            <a:ext cx="200664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7840" y="4952880"/>
            <a:ext cx="838440" cy="1067040"/>
          </a:xfrm>
          <a:prstGeom prst="uturnArrow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 rot="10800000">
            <a:off x="5703480" y="4038480"/>
            <a:ext cx="304920" cy="1905120"/>
          </a:xfrm>
          <a:prstGeom prst="downArrow">
            <a:avLst>
              <a:gd name="adj1" fmla="val 50000"/>
              <a:gd name="adj2" fmla="val 110988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30200" y="504360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b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49000" y="502920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lenn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 rot="10800000">
            <a:off x="7697880" y="4076640"/>
            <a:ext cx="304560" cy="1905120"/>
          </a:xfrm>
          <a:prstGeom prst="downArrow">
            <a:avLst>
              <a:gd name="adj1" fmla="val 50000"/>
              <a:gd name="adj2" fmla="val 111119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28640" y="4921200"/>
            <a:ext cx="130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e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Cloud"/>
          <p:cNvSpPr/>
          <p:nvPr/>
        </p:nvSpPr>
        <p:spPr>
          <a:xfrm>
            <a:off x="5105520" y="3352680"/>
            <a:ext cx="1600200" cy="762120"/>
          </a:xfrm>
          <a:prstGeom prst="pie">
            <a:avLst/>
          </a:prstGeom>
          <a:gradFill rotWithShape="0">
            <a:gsLst>
              <a:gs pos="0">
                <a:srgbClr val="9207fb"/>
              </a:gs>
              <a:gs pos="100000">
                <a:srgbClr val="3d02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9160" y="3330720"/>
            <a:ext cx="12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Cloud"/>
          <p:cNvSpPr/>
          <p:nvPr/>
        </p:nvSpPr>
        <p:spPr>
          <a:xfrm>
            <a:off x="7010280" y="3352680"/>
            <a:ext cx="1600200" cy="762120"/>
          </a:xfrm>
          <a:prstGeom prst="pie">
            <a:avLst/>
          </a:prstGeom>
          <a:gradFill rotWithShape="0">
            <a:gsLst>
              <a:gs pos="0">
                <a:srgbClr val="9207fb"/>
              </a:gs>
              <a:gs pos="100000">
                <a:srgbClr val="3d02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89120" y="35082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g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680" y="6172200"/>
            <a:ext cx="6782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storic Premillennial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5107320" y="41148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Rapture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schatological View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 of the Millennium and the fu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ubChord"/>
          <p:cNvSpPr/>
          <p:nvPr/>
        </p:nvSpPr>
        <p:spPr>
          <a:xfrm rot="21257400">
            <a:off x="7691400" y="3711240"/>
            <a:ext cx="3129120" cy="329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066" y="74"/>
                </a:moveTo>
                <a:arcTo wR="10800" hR="10800" stAng="-4996055" swAng="-10921957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572000"/>
            <a:ext cx="678204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52280" y="4495680"/>
            <a:ext cx="1014480" cy="1524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467480" y="4952880"/>
            <a:ext cx="838440" cy="1067040"/>
          </a:xfrm>
          <a:prstGeom prst="uturnArrow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 rot="10800000">
            <a:off x="7683120" y="3504240"/>
            <a:ext cx="304920" cy="2438280"/>
          </a:xfrm>
          <a:prstGeom prst="downArrow">
            <a:avLst>
              <a:gd name="adj1" fmla="val 50000"/>
              <a:gd name="adj2" fmla="val 142048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63120" y="5424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illenni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8640" y="4921200"/>
            <a:ext cx="130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e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Cloud"/>
          <p:cNvSpPr/>
          <p:nvPr/>
        </p:nvSpPr>
        <p:spPr>
          <a:xfrm>
            <a:off x="6934320" y="2895480"/>
            <a:ext cx="1600200" cy="762120"/>
          </a:xfrm>
          <a:prstGeom prst="pie">
            <a:avLst/>
          </a:prstGeom>
          <a:gradFill rotWithShape="0">
            <a:gsLst>
              <a:gs pos="0">
                <a:srgbClr val="9207fb"/>
              </a:gs>
              <a:gs pos="100000">
                <a:srgbClr val="3d02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67960" y="2873520"/>
            <a:ext cx="12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12800" y="40384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g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362320" y="6172200"/>
            <a:ext cx="480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millennial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7012440" y="3657600"/>
            <a:ext cx="14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tur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55920" y="4992840"/>
            <a:ext cx="20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ribul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schatological View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 of the Millennium and the fu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ubChord"/>
          <p:cNvSpPr/>
          <p:nvPr/>
        </p:nvSpPr>
        <p:spPr>
          <a:xfrm rot="21257400">
            <a:off x="7691400" y="3711240"/>
            <a:ext cx="3129120" cy="329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066" y="74"/>
                </a:moveTo>
                <a:arcTo wR="10800" hR="10800" stAng="-4996055" swAng="-10921957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572000"/>
            <a:ext cx="441972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52280" y="4495680"/>
            <a:ext cx="1014480" cy="15242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486400" y="4572000"/>
            <a:ext cx="236376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42640" y="504360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lenn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00200" y="6172200"/>
            <a:ext cx="6248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stmillennial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"/>
          <p:cNvSpPr/>
          <p:nvPr/>
        </p:nvSpPr>
        <p:spPr>
          <a:xfrm>
            <a:off x="7467480" y="4952880"/>
            <a:ext cx="838440" cy="1067040"/>
          </a:xfrm>
          <a:prstGeom prst="uturnArrow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28640" y="4921200"/>
            <a:ext cx="130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e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 rot="10800000">
            <a:off x="7683120" y="3504240"/>
            <a:ext cx="304920" cy="2438280"/>
          </a:xfrm>
          <a:prstGeom prst="downArrow">
            <a:avLst>
              <a:gd name="adj1" fmla="val 50000"/>
              <a:gd name="adj2" fmla="val 142048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12440" y="3657600"/>
            <a:ext cx="14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tur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12800" y="40384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g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Cloud"/>
          <p:cNvSpPr/>
          <p:nvPr/>
        </p:nvSpPr>
        <p:spPr>
          <a:xfrm>
            <a:off x="6934320" y="2895480"/>
            <a:ext cx="1600200" cy="762120"/>
          </a:xfrm>
          <a:prstGeom prst="pie">
            <a:avLst/>
          </a:prstGeom>
          <a:gradFill rotWithShape="0">
            <a:gsLst>
              <a:gs pos="0">
                <a:srgbClr val="9207fb"/>
              </a:gs>
              <a:gs pos="100000">
                <a:srgbClr val="3d02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67960" y="2857680"/>
            <a:ext cx="12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schatological View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 of the Millennium and the fu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66680" y="4572000"/>
            <a:ext cx="822960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52280" y="4495680"/>
            <a:ext cx="1014480" cy="1524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055520" y="5165640"/>
            <a:ext cx="139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llenn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819520" y="6172200"/>
            <a:ext cx="3352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eter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 flipV="1" rot="10800000">
            <a:off x="2349000" y="3504240"/>
            <a:ext cx="304920" cy="2438280"/>
          </a:xfrm>
          <a:prstGeom prst="downArrow">
            <a:avLst>
              <a:gd name="adj1" fmla="val 50000"/>
              <a:gd name="adj2" fmla="val 142048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78680" y="3657600"/>
            <a:ext cx="14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tur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79040" y="40384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g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Cloud"/>
          <p:cNvSpPr/>
          <p:nvPr/>
        </p:nvSpPr>
        <p:spPr>
          <a:xfrm>
            <a:off x="1600200" y="2895480"/>
            <a:ext cx="1600200" cy="762120"/>
          </a:xfrm>
          <a:prstGeom prst="pie">
            <a:avLst/>
          </a:prstGeom>
          <a:gradFill rotWithShape="0">
            <a:gsLst>
              <a:gs pos="0">
                <a:srgbClr val="9207fb"/>
              </a:gs>
              <a:gs pos="100000">
                <a:srgbClr val="3d02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33840" y="2857680"/>
            <a:ext cx="12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9200" y="466236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50120" y="4800600"/>
            <a:ext cx="247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Eternal St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16040" y="5378400"/>
            <a:ext cx="6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schatological View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 of the Millennium and the fu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095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he First Epistle of Joh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4120" y="3429000"/>
            <a:ext cx="2590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king in the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828800" y="2666880"/>
            <a:ext cx="3200400" cy="311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is a Book of Contras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versus Dark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th versus Err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 versus Hat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ians versus th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Rise of Gnosticis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Greek wor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n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“knowledge”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ould arise in the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, but its seeds were already evid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hysical is bad; the spirit is g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ews of Jes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etism:  Christ only seemed to be hum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enthianism:  The Divine Christ entered Jesus at His baptism and departed prior to His de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vation through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36480"/>
            <a:ext cx="8229600" cy="14698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Your walk in the light will be evidenced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3906360"/>
            <a:ext cx="1981080" cy="17528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how you walk and in what you s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3906720"/>
            <a:ext cx="1676520" cy="17528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how you ob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3906720"/>
            <a:ext cx="1447920" cy="17528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how you l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3906720"/>
            <a:ext cx="1523880" cy="17528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how you l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86600" y="3906720"/>
            <a:ext cx="1600200" cy="17528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how you beli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88760" y="209520"/>
            <a:ext cx="584388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 Black"/>
              </a:rPr>
              <a:t>1</a:t>
            </a:r>
            <a:r>
              <a:rPr b="0" lang="en-US" sz="4800" spc="-1" strike="noStrike" baseline="30000">
                <a:solidFill>
                  <a:srgbClr val="ccecff"/>
                </a:solidFill>
                <a:latin typeface="Arial Black"/>
              </a:rPr>
              <a:t>st</a:t>
            </a:r>
            <a:r>
              <a:rPr b="0" lang="en-US" sz="4800" spc="-1" strike="noStrike">
                <a:solidFill>
                  <a:srgbClr val="ccecff"/>
                </a:solidFill>
                <a:latin typeface="Arial Black"/>
              </a:rPr>
              <a:t> JOH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  <a:ea typeface="Arial"/>
              </a:rPr>
              <a:t>WALKING IN THE L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905120"/>
            <a:ext cx="198108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1905120"/>
            <a:ext cx="1676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p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905120"/>
            <a:ext cx="14479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pt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1905120"/>
            <a:ext cx="152388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pt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86600" y="1905120"/>
            <a:ext cx="16002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pt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5257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he Revelation of Jesus Chri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019560" y="3352320"/>
            <a:ext cx="23619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nal Chap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676520" y="2362320"/>
            <a:ext cx="3431880" cy="358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ommon Interpretations of Revel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list View: Sees the book as showing the spiritual battle between good versus ev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terist View:  Focuses on the first century fall of Jerusalem as the backdrop of the prophecies of this 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View:  Sees the prophecies as depicting the course of history in this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ist View:  Sees most of the events of the book as taking place in a time of future tribulation followed by the Second Co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Revelation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-360" y="1600200"/>
            <a:ext cx="1523880" cy="26668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on of Jesus and Seven letters to seven church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990720"/>
            <a:ext cx="15238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990720"/>
            <a:ext cx="13716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-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1600200"/>
            <a:ext cx="1371600" cy="26668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one of God &amp; Scroll with seven sea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990720"/>
            <a:ext cx="14479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-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1600200"/>
            <a:ext cx="1447920" cy="26668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 trump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990720"/>
            <a:ext cx="12193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-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1600200"/>
            <a:ext cx="1219320" cy="26668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t, the Dragon &amp; the Seven Bow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62720" y="990720"/>
            <a:ext cx="12189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-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1600200"/>
            <a:ext cx="1218960" cy="26668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arlot on Seven Hills &amp; the B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990720"/>
            <a:ext cx="10670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81680" y="1600200"/>
            <a:ext cx="1067040" cy="26668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King reig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848720" y="990720"/>
            <a:ext cx="12952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-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848720" y="1600200"/>
            <a:ext cx="1295280" cy="26668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Heaven &amp; New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267080"/>
            <a:ext cx="1523880" cy="2362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ends with a promise of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m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4267080"/>
            <a:ext cx="1371600" cy="2362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t wipes away every tear (7:1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4267080"/>
            <a:ext cx="1447920" cy="2362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t will reign forever &amp; ever (11:15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267080"/>
            <a:ext cx="1219320" cy="2362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l of the n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done” (16:17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4267080"/>
            <a:ext cx="1218960" cy="2362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der on the White Horse (19:16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81680" y="4267080"/>
            <a:ext cx="1067040" cy="2362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ge &a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ke of F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4267080"/>
            <a:ext cx="1295280" cy="2362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m coming quickly (22: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09-08-06T11:32:11Z</dcterms:modified>
  <cp:revision>267</cp:revision>
  <dc:subject/>
  <dc:title>Discipleship Across the Lifespan</dc:title>
</cp:coreProperties>
</file>