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wmf" ContentType="image/x-wmf"/>
  <Override PartName="/ppt/media/image10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85C-1368-4CBF-AD4A-8F371888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9B0-38E7-4368-A50D-8D1C8AF4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4C4-C050-402E-8D05-F98A2087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4B6-85EE-4FAB-BA49-BF01FB35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0F9-9049-4D59-B997-049BD3A9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567-D83F-4196-BF65-3D47F8FD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BB2-1FEA-4C9E-B827-49CBD065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91F-6353-44F3-BA0E-1E8B971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387-37BB-4724-B8E1-2EEB541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9E1-7501-4FD2-BCA4-AABAABE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E6B-294F-4BEF-8FF1-423CFEA9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898-EC8A-4A49-B4AB-5863213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1B5-DCAE-4230-BA52-055185E88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uline The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Florida Bible College &amp; Semi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580536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1600200"/>
            <a:ext cx="6934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 Theolog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43240" y="457200"/>
            <a:ext cx="2895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s gospel of the kingdom shall be preached in the whole world as a testimony to all the nations, and then the end will come” (Matthew 24:14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5327640" cy="425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3240" y="457200"/>
            <a:ext cx="2895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abomination of desolation which was spoken of through Daniel the prophet, standing in the holy place” (Matthew 24:15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5327640" cy="425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895120"/>
            <a:ext cx="1752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n of Man lifted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33960" y="3428640"/>
            <a:ext cx="1981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 gath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jud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ernal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124080"/>
            <a:ext cx="190512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spel to be preached to the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200400"/>
            <a:ext cx="1066680" cy="1371600"/>
          </a:xfrm>
          <a:prstGeom prst="uturnArrow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05520" y="4419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666880"/>
            <a:ext cx="533520" cy="1981440"/>
          </a:xfrm>
          <a:prstGeom prst="downArrow">
            <a:avLst>
              <a:gd name="adj1" fmla="val 54167"/>
              <a:gd name="adj2" fmla="val 115733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Cloud"/>
          <p:cNvSpPr/>
          <p:nvPr/>
        </p:nvSpPr>
        <p:spPr>
          <a:xfrm>
            <a:off x="4572000" y="1295280"/>
            <a:ext cx="3048120" cy="159876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on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143000"/>
            <a:ext cx="3200400" cy="2133720"/>
          </a:xfrm>
          <a:prstGeom prst="rightArrow">
            <a:avLst>
              <a:gd name="adj1" fmla="val 48954"/>
              <a:gd name="adj2" fmla="val 536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1658880" cy="249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971800" y="30492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68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y of 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68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ditions did the book of Acts make to that Eschat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3:19-2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8960" y="14479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repent and return, so that your sins may be wiped away, in order that times of refreshing may come from the presence of the Lord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at He may send Jesus, the Christ appointed for yo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m heaven must receive unti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restoration of all things about which God spoke by the mouth of His holy prophets from ancien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143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895120"/>
            <a:ext cx="2057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esus dead buried risen ascend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33960" y="3428640"/>
            <a:ext cx="1981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will be jud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ernal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124080"/>
            <a:ext cx="2286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ntil the period of restoration of all th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200400"/>
            <a:ext cx="1066680" cy="1371600"/>
          </a:xfrm>
          <a:prstGeom prst="uturnArrow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05520" y="4419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2666880"/>
            <a:ext cx="533520" cy="1981440"/>
          </a:xfrm>
          <a:prstGeom prst="downArrow">
            <a:avLst>
              <a:gd name="adj1" fmla="val 54167"/>
              <a:gd name="adj2" fmla="val 115733"/>
            </a:avLst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4572000" y="1295280"/>
            <a:ext cx="3048120" cy="159876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on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143000"/>
            <a:ext cx="3200400" cy="2133720"/>
          </a:xfrm>
          <a:prstGeom prst="rightArrow">
            <a:avLst>
              <a:gd name="adj1" fmla="val 48954"/>
              <a:gd name="adj2" fmla="val 5369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1658880" cy="2494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971800" y="30492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68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chatology of Ac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68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ditions did Paul make to that Eschat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6200" y="151920"/>
            <a:ext cx="4952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First Epistle to the Thessalonian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257800" y="3886200"/>
            <a:ext cx="3124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couraging Expect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800600" cy="381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-487440"/>
            <a:ext cx="9144000" cy="729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15160" y="2527200"/>
            <a:ext cx="210024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527200"/>
            <a:ext cx="224316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4240" y="2527200"/>
            <a:ext cx="214776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he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s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527200"/>
            <a:ext cx="219564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15160" y="774720"/>
            <a:ext cx="210024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tor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774720"/>
            <a:ext cx="224316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hetic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24240" y="774720"/>
            <a:ext cx="214776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son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774720"/>
            <a:ext cx="219564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5160" y="4267080"/>
            <a:ext cx="21002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ongr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267080"/>
            <a:ext cx="22431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second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4240" y="4267080"/>
            <a:ext cx="21477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267080"/>
            <a:ext cx="21956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15160" y="5207040"/>
            <a:ext cx="21002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les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207040"/>
            <a:ext cx="22431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a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24240" y="5207040"/>
            <a:ext cx="21477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207040"/>
            <a:ext cx="21956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er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240" y="32004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’s choice of you (1:2-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mitation of Christ (1:6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turning to God (1:9-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51920" y="1219320"/>
            <a:ext cx="21337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hared salvation histo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609480"/>
            <a:ext cx="2133720" cy="6098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219320"/>
            <a:ext cx="21337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hared salvation histo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609480"/>
            <a:ext cx="2133720" cy="6098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0" y="609480"/>
            <a:ext cx="2362320" cy="2438640"/>
            <a:chOff x="2286000" y="609480"/>
            <a:chExt cx="2362320" cy="2438640"/>
          </a:xfrm>
        </p:grpSpPr>
        <p:sp>
          <p:nvSpPr>
            <p:cNvPr id="126" name=""/>
            <p:cNvSpPr/>
            <p:nvPr/>
          </p:nvSpPr>
          <p:spPr>
            <a:xfrm>
              <a:off x="2286000" y="1219320"/>
              <a:ext cx="2362320" cy="1828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ul’s ministry in Thessalonic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609480"/>
              <a:ext cx="2362320" cy="609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s 2-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Thessalonians 2:9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you recall, brethren, our labor and hardship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night and day so as not to be a burden to any of you, we proclaimed to you the gospel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219320"/>
            <a:ext cx="21337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hared salvation histo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09480"/>
            <a:ext cx="2133720" cy="6098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609480"/>
            <a:ext cx="2362320" cy="2438640"/>
            <a:chOff x="2286000" y="609480"/>
            <a:chExt cx="2362320" cy="2438640"/>
          </a:xfrm>
        </p:grpSpPr>
        <p:sp>
          <p:nvSpPr>
            <p:cNvPr id="132" name=""/>
            <p:cNvSpPr/>
            <p:nvPr/>
          </p:nvSpPr>
          <p:spPr>
            <a:xfrm>
              <a:off x="2286000" y="1219320"/>
              <a:ext cx="2362320" cy="1828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ul’s ministry in Thessalonic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609480"/>
              <a:ext cx="2362320" cy="609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s 2-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Thessalonians 3:1-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refore when we could endu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, we thought it best to be left behind at Athens alone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we sent Timothy, our brother and God's fellow worker in the gospel of Christ, to strengthen and encourage you as to your fait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495320" y="320040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nciple stated (4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purity (4:3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le work (4:9-1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mise of Comfort in the face of Death (4:13-1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1920" y="1219320"/>
            <a:ext cx="21337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hared salvation histo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09480"/>
            <a:ext cx="2133720" cy="6098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0" y="609480"/>
            <a:ext cx="2362320" cy="2438640"/>
            <a:chOff x="2286000" y="609480"/>
            <a:chExt cx="2362320" cy="2438640"/>
          </a:xfrm>
        </p:grpSpPr>
        <p:sp>
          <p:nvSpPr>
            <p:cNvPr id="139" name=""/>
            <p:cNvSpPr/>
            <p:nvPr/>
          </p:nvSpPr>
          <p:spPr>
            <a:xfrm>
              <a:off x="2286000" y="1219320"/>
              <a:ext cx="2362320" cy="1828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ul’s ministry in Thessalonic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0" y="609480"/>
              <a:ext cx="2362320" cy="609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s 2-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648320" y="609480"/>
            <a:ext cx="2133360" cy="2438640"/>
            <a:chOff x="4648320" y="609480"/>
            <a:chExt cx="2133360" cy="2438640"/>
          </a:xfrm>
        </p:grpSpPr>
        <p:sp>
          <p:nvSpPr>
            <p:cNvPr id="142" name=""/>
            <p:cNvSpPr/>
            <p:nvPr/>
          </p:nvSpPr>
          <p:spPr>
            <a:xfrm>
              <a:off x="4648320" y="1219320"/>
              <a:ext cx="2133360" cy="1828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xhortation to walk in a worthy mann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8320" y="609480"/>
              <a:ext cx="2133360" cy="609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 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4191120" cy="8413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tthew 24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419112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see the Son of man coming... (24:3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28600"/>
            <a:ext cx="4191120" cy="8413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Thessalonians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066680"/>
            <a:ext cx="419112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Lord Himself will descend from heaven... (4:1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514600"/>
            <a:ext cx="419112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ill send forth His angels with a great trumpet (24:3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514600"/>
            <a:ext cx="419112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trumpet of God... (4:1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962520"/>
            <a:ext cx="41911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will gather together His elect from the four winds... (24:3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962520"/>
            <a:ext cx="41911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ho are alive shall be caught up together... (4:1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334120"/>
            <a:ext cx="41911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on the CLOUDS of the sky... (24:3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5334120"/>
            <a:ext cx="419112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... shall be caught up together with them in CLOUDS (4: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219320"/>
            <a:ext cx="21337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hared salvation histo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in light of the Day of the Lord (5:1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itudes toward Christians workers (5:12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 instructions (5:14-2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09480"/>
            <a:ext cx="2133720" cy="6098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86000" y="609480"/>
            <a:ext cx="2362320" cy="2438640"/>
            <a:chOff x="2286000" y="609480"/>
            <a:chExt cx="2362320" cy="2438640"/>
          </a:xfrm>
        </p:grpSpPr>
        <p:sp>
          <p:nvSpPr>
            <p:cNvPr id="158" name=""/>
            <p:cNvSpPr/>
            <p:nvPr/>
          </p:nvSpPr>
          <p:spPr>
            <a:xfrm>
              <a:off x="2286000" y="1219320"/>
              <a:ext cx="2362320" cy="1828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ul’s ministry in Thessalonic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0" y="609480"/>
              <a:ext cx="2362320" cy="609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s 2-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48320" y="609480"/>
            <a:ext cx="2133360" cy="2438640"/>
            <a:chOff x="4648320" y="609480"/>
            <a:chExt cx="2133360" cy="2438640"/>
          </a:xfrm>
        </p:grpSpPr>
        <p:sp>
          <p:nvSpPr>
            <p:cNvPr id="161" name=""/>
            <p:cNvSpPr/>
            <p:nvPr/>
          </p:nvSpPr>
          <p:spPr>
            <a:xfrm>
              <a:off x="4648320" y="1219320"/>
              <a:ext cx="2133360" cy="1828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xhortation to walk in a worthy mann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609480"/>
              <a:ext cx="2133360" cy="609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 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781680" y="609480"/>
            <a:ext cx="2133720" cy="2438640"/>
            <a:chOff x="6781680" y="609480"/>
            <a:chExt cx="2133720" cy="2438640"/>
          </a:xfrm>
        </p:grpSpPr>
        <p:sp>
          <p:nvSpPr>
            <p:cNvPr id="164" name=""/>
            <p:cNvSpPr/>
            <p:nvPr/>
          </p:nvSpPr>
          <p:spPr>
            <a:xfrm>
              <a:off x="6781680" y="1219320"/>
              <a:ext cx="2133720" cy="1828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iving in light of Christ’s return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609480"/>
              <a:ext cx="2133720" cy="6098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 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52280" y="3048120"/>
            <a:ext cx="449604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at God has done in our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426708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ow we are to live as a result of what God has d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86200" y="151920"/>
            <a:ext cx="4952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Second Epistle to the Thessalonian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257800" y="3886200"/>
            <a:ext cx="3124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ng the Fl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800600" cy="381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2895480" cy="1828800"/>
          </a:xfrm>
          <a:prstGeom prst="rect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Promise of Relief to those under present Persecu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6705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evering faith and love of the Thessalonian church (1:2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mise of affliction to those who are afflicting (1:5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prayer for the Thessalonians (1:9-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609480"/>
            <a:ext cx="2895480" cy="609840"/>
          </a:xfrm>
          <a:prstGeom prst="rect">
            <a:avLst/>
          </a:prstGeom>
          <a:gradFill rotWithShape="0">
            <a:gsLst>
              <a:gs pos="0">
                <a:srgbClr val="000060"/>
              </a:gs>
              <a:gs pos="100000">
                <a:srgbClr val="0000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schat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2895480" cy="1828800"/>
          </a:xfrm>
          <a:prstGeom prst="rect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Promise of Relief to those under present Persecu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95120" y="3200040"/>
            <a:ext cx="5791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angerous Deception (2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 of Sin (2:3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09480"/>
            <a:ext cx="2895480" cy="609840"/>
          </a:xfrm>
          <a:prstGeom prst="rect">
            <a:avLst/>
          </a:prstGeom>
          <a:gradFill rotWithShape="0">
            <a:gsLst>
              <a:gs pos="0">
                <a:srgbClr val="000060"/>
              </a:gs>
              <a:gs pos="100000">
                <a:srgbClr val="0000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124080" y="609480"/>
            <a:ext cx="3048120" cy="2438640"/>
            <a:chOff x="3124080" y="609480"/>
            <a:chExt cx="3048120" cy="2438640"/>
          </a:xfrm>
        </p:grpSpPr>
        <p:sp>
          <p:nvSpPr>
            <p:cNvPr id="178" name=""/>
            <p:cNvSpPr/>
            <p:nvPr/>
          </p:nvSpPr>
          <p:spPr>
            <a:xfrm>
              <a:off x="3124080" y="1219320"/>
              <a:ext cx="3048120" cy="1828800"/>
            </a:xfrm>
            <a:prstGeom prst="rect">
              <a:avLst/>
            </a:prstGeom>
            <a:gradFill rotWithShape="0">
              <a:gsLst>
                <a:gs pos="0">
                  <a:srgbClr val="650a03"/>
                </a:gs>
                <a:gs pos="100000">
                  <a:srgbClr val="2e040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A Warning of troubles that must precede the day of the Lor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609480"/>
              <a:ext cx="3048120" cy="60984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2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11760" y="5283360"/>
            <a:ext cx="2514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ost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 of 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Thessalonians 2:3-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066320" y="91404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t no one in any way deceive you,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will not co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ess the apostasy comes first, and the man of lawlessness is revealed, the son of destruction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opposes and exalts himself above every so-called god or object of worship, so that he takes his seat in the temple of God, displaying himself as being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629400" y="4876920"/>
            <a:ext cx="2209680" cy="1787400"/>
          </a:xfrm>
          <a:prstGeom prst="pie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ay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152280" y="5575320"/>
            <a:ext cx="4190760" cy="762120"/>
          </a:xfrm>
          <a:prstGeom prst="rightArrow">
            <a:avLst>
              <a:gd name="adj1" fmla="val 50000"/>
              <a:gd name="adj2" fmla="val 13747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9480" y="4973760"/>
            <a:ext cx="115272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911760" y="5283360"/>
            <a:ext cx="2514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ost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 of 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Thessalonians 2:6-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066320" y="91404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you know what restrains him now, so that in his time he may be revea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mystery of lawlessness is already at work; only he who now restrain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ll do 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he is taken out of the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858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Cloud"/>
          <p:cNvSpPr/>
          <p:nvPr/>
        </p:nvSpPr>
        <p:spPr>
          <a:xfrm>
            <a:off x="6629400" y="4876920"/>
            <a:ext cx="2209680" cy="1787400"/>
          </a:xfrm>
          <a:prstGeom prst="pie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ay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152280" y="5575320"/>
            <a:ext cx="4190760" cy="762120"/>
          </a:xfrm>
          <a:prstGeom prst="rightArrow">
            <a:avLst>
              <a:gd name="adj1" fmla="val 50000"/>
              <a:gd name="adj2" fmla="val 13747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9480" y="4973760"/>
            <a:ext cx="115272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2209680"/>
            <a:ext cx="495324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066320" y="83772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that lawless one will be revealed whom the Lord will slay with the breath of His mouth and bring to an end by the appearance of His coming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at 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one whose coming is in accord with the activity of Satan, with all power and signs and false wonder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with all the deception of wickedness for those who perish, because they did not receive the love of the truth so as to be sa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11760" y="5283360"/>
            <a:ext cx="2514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ost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 of 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Thessalonians 2:8-1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6858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loud"/>
          <p:cNvSpPr/>
          <p:nvPr/>
        </p:nvSpPr>
        <p:spPr>
          <a:xfrm>
            <a:off x="6629400" y="4876920"/>
            <a:ext cx="2209680" cy="1787400"/>
          </a:xfrm>
          <a:prstGeom prst="pie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ay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52280" y="5575320"/>
            <a:ext cx="4190760" cy="762120"/>
          </a:xfrm>
          <a:prstGeom prst="rightArrow">
            <a:avLst>
              <a:gd name="adj1" fmla="val 50000"/>
              <a:gd name="adj2" fmla="val 13747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9480" y="4973760"/>
            <a:ext cx="115272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66320" y="83772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for this reason God will send upon them a deluding influence so that they might believe what is fals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order that they all may be judged who did not believe the truth, but took pleasure in wicked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11760" y="5283360"/>
            <a:ext cx="2514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ost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 of 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Thessalonians 2:11-1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6858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loud"/>
          <p:cNvSpPr/>
          <p:nvPr/>
        </p:nvSpPr>
        <p:spPr>
          <a:xfrm>
            <a:off x="6629400" y="4876920"/>
            <a:ext cx="2209680" cy="1787400"/>
          </a:xfrm>
          <a:prstGeom prst="pie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ay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152280" y="5575320"/>
            <a:ext cx="4190760" cy="762120"/>
          </a:xfrm>
          <a:prstGeom prst="rightArrow">
            <a:avLst>
              <a:gd name="adj1" fmla="val 50000"/>
              <a:gd name="adj2" fmla="val 13747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09480" y="4973760"/>
            <a:ext cx="115272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dentity of the “Man of Sin”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Emperor Calig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ed a statue of himself placed in the temple in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General T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ed the temple in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Emperor Traj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a pagan temple on the site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atholic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e is said to be the Vicar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fulfill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2895480" cy="1828800"/>
          </a:xfrm>
          <a:prstGeom prst="rect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Promise of Relief to those under present Persecu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120" y="3107880"/>
            <a:ext cx="579132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angerous Deception (2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 of Sin (2:3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609480"/>
            <a:ext cx="2895480" cy="609840"/>
          </a:xfrm>
          <a:prstGeom prst="rect">
            <a:avLst/>
          </a:prstGeom>
          <a:gradFill rotWithShape="0">
            <a:gsLst>
              <a:gs pos="0">
                <a:srgbClr val="000060"/>
              </a:gs>
              <a:gs pos="100000">
                <a:srgbClr val="0000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124080" y="609480"/>
            <a:ext cx="3048120" cy="2438640"/>
            <a:chOff x="3124080" y="609480"/>
            <a:chExt cx="3048120" cy="2438640"/>
          </a:xfrm>
        </p:grpSpPr>
        <p:sp>
          <p:nvSpPr>
            <p:cNvPr id="215" name=""/>
            <p:cNvSpPr/>
            <p:nvPr/>
          </p:nvSpPr>
          <p:spPr>
            <a:xfrm>
              <a:off x="3124080" y="1219320"/>
              <a:ext cx="3048120" cy="1828800"/>
            </a:xfrm>
            <a:prstGeom prst="rect">
              <a:avLst/>
            </a:prstGeom>
            <a:gradFill rotWithShape="0">
              <a:gsLst>
                <a:gs pos="0">
                  <a:srgbClr val="650a03"/>
                </a:gs>
                <a:gs pos="100000">
                  <a:srgbClr val="2e040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A Warning of troubles that must precede the day of the Lor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4080" y="609480"/>
              <a:ext cx="3048120" cy="60984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2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921040" y="4203720"/>
            <a:ext cx="5791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giving for God’s gracious choice (2:13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2895480" cy="1828800"/>
          </a:xfrm>
          <a:prstGeom prst="rect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Promise of Relief to those under present Persecu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609480"/>
            <a:ext cx="2895480" cy="609840"/>
          </a:xfrm>
          <a:prstGeom prst="rect">
            <a:avLst/>
          </a:prstGeom>
          <a:gradFill rotWithShape="0">
            <a:gsLst>
              <a:gs pos="0">
                <a:srgbClr val="000060"/>
              </a:gs>
              <a:gs pos="100000">
                <a:srgbClr val="0000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219320"/>
            <a:ext cx="3048120" cy="1828800"/>
          </a:xfrm>
          <a:prstGeom prst="rect">
            <a:avLst/>
          </a:prstGeom>
          <a:gradFill rotWithShape="0">
            <a:gsLst>
              <a:gs pos="0">
                <a:srgbClr val="650a03"/>
              </a:gs>
              <a:gs pos="100000">
                <a:srgbClr val="2e04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Warning of troubles that must precede the day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09480"/>
            <a:ext cx="3048120" cy="609840"/>
          </a:xfrm>
          <a:prstGeom prst="rect">
            <a:avLst/>
          </a:prstGeom>
          <a:gradFill rotWithShape="0">
            <a:gsLst>
              <a:gs pos="0">
                <a:srgbClr val="000060"/>
              </a:gs>
              <a:gs pos="100000">
                <a:srgbClr val="00002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172200" y="609480"/>
            <a:ext cx="2666880" cy="2438640"/>
            <a:chOff x="6172200" y="609480"/>
            <a:chExt cx="2666880" cy="2438640"/>
          </a:xfrm>
        </p:grpSpPr>
        <p:sp>
          <p:nvSpPr>
            <p:cNvPr id="223" name=""/>
            <p:cNvSpPr/>
            <p:nvPr/>
          </p:nvSpPr>
          <p:spPr>
            <a:xfrm>
              <a:off x="6172200" y="1219320"/>
              <a:ext cx="2666880" cy="1828800"/>
            </a:xfrm>
            <a:prstGeom prst="rect">
              <a:avLst/>
            </a:prstGeom>
            <a:gradFill rotWithShape="0">
              <a:gsLst>
                <a:gs pos="0">
                  <a:srgbClr val="650a03"/>
                </a:gs>
                <a:gs pos="100000">
                  <a:srgbClr val="2e040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A Call to Staying Steadfast in Chris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72200" y="609480"/>
              <a:ext cx="2666880" cy="60984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2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pter 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28600" y="3048120"/>
            <a:ext cx="5943600" cy="914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 are to believe regarding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3048120"/>
            <a:ext cx="2666880" cy="914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e are to live in th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eschatology of the Old Testament look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2895480" cy="1676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ld Coven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523880"/>
            <a:ext cx="2895480" cy="1676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w Coven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981080"/>
            <a:ext cx="2210040" cy="762120"/>
          </a:xfrm>
          <a:prstGeom prst="rightArrow">
            <a:avLst>
              <a:gd name="adj1" fmla="val 46759"/>
              <a:gd name="adj2" fmla="val 90406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1073160" cy="259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77600" y="38862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3886200"/>
            <a:ext cx="290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 Prophet like M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2895480" cy="1676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ld Coven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523880"/>
            <a:ext cx="2895480" cy="1676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w Coven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981080"/>
            <a:ext cx="2210040" cy="762120"/>
          </a:xfrm>
          <a:prstGeom prst="rightArrow">
            <a:avLst>
              <a:gd name="adj1" fmla="val 46759"/>
              <a:gd name="adj2" fmla="val 90406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886200"/>
            <a:ext cx="270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comes into His Te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809880"/>
            <a:ext cx="290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will come suddenly to His Te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429000" y="3581280"/>
            <a:ext cx="2438280" cy="1454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ditions did Jesus make to that Eschat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43240" y="457200"/>
            <a:ext cx="2895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troy this Temple and I will raise it up in three day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5327640" cy="425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43240" y="457200"/>
            <a:ext cx="2895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ruly I say to you, not one stone here will be left upon another, which will not be torn down.” (Matthew 24:2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5327640" cy="425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7-30T16:56:58Z</dcterms:modified>
  <cp:revision>258</cp:revision>
  <dc:subject/>
  <dc:title>Discipleship Across the Lifespan</dc:title>
</cp:coreProperties>
</file>