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gif" ContentType="image/gif"/>
  <Override PartName="/ppt/media/image1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9600-C948-4CAC-B972-E8A237C9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73D-8589-46CE-BD3E-983242D5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FAC-D503-4734-9D7A-622B0998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603-352C-47F2-9DB1-DF5080AF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0DCF-4558-4217-9762-A59160B0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FCA-1B00-4942-8FE3-6FB4CD66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E07-1EFC-44A9-A75D-A4C5EF31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354-693E-4A73-A57F-9F46D504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F7E9-E813-40B6-9E06-3DA54865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6D3A-D0C5-4918-B7E8-2FA3261F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AFC5-B131-462E-B50E-AD0B6104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178-FC10-4F5C-A584-C82924FE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D2C1-B974-4028-AB6E-099A618D23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7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uline Theolog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Florida Bible College &amp; Semin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3280" y="580536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66680" y="1600200"/>
            <a:ext cx="6934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w Testament Theolog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Epistle to the Roma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doctrinal and the most systematic of all of Paul’s writ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seven chapters are characterized by an argumentative style as seen by the repeated expression: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What shall we say then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ans 4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ans 6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ans 7: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ans 8: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ans 9: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ans 9: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Epistle to the Roma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doctrinal and the most systematic of all of Paul’s writ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seven chapters are characterized by an argumentative style as seen by the repeated expression: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What shall we say then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76884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only one of Paul’s epistles written to an audience with whom he had not previously m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oman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1600200"/>
            <a:ext cx="2743200" cy="455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By Fa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1601640"/>
            <a:ext cx="6248160" cy="455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 By Fa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4114800"/>
            <a:ext cx="102060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01000" y="1297080"/>
            <a:ext cx="1066680" cy="334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: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1297080"/>
            <a:ext cx="1676520" cy="334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: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96920" y="1297080"/>
            <a:ext cx="5227560" cy="334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1297080"/>
            <a:ext cx="1020600" cy="334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1000" y="762120"/>
            <a:ext cx="1066680" cy="534960"/>
          </a:xfrm>
          <a:prstGeom prst="rect">
            <a:avLst/>
          </a:prstGeom>
          <a:solidFill>
            <a:srgbClr val="770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pilog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762120"/>
            <a:ext cx="1676520" cy="534960"/>
          </a:xfrm>
          <a:prstGeom prst="rect">
            <a:avLst/>
          </a:prstGeom>
          <a:solidFill>
            <a:srgbClr val="770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CT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96920" y="762120"/>
            <a:ext cx="5227560" cy="534960"/>
          </a:xfrm>
          <a:prstGeom prst="rect">
            <a:avLst/>
          </a:prstGeom>
          <a:solidFill>
            <a:srgbClr val="770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CTR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762120"/>
            <a:ext cx="1020600" cy="534960"/>
          </a:xfrm>
          <a:prstGeom prst="rect">
            <a:avLst/>
          </a:prstGeom>
          <a:solidFill>
            <a:srgbClr val="770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olog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762120"/>
            <a:ext cx="8991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6110280"/>
            <a:ext cx="1020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67680" y="762120"/>
            <a:ext cx="0" cy="53481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1297080"/>
            <a:ext cx="8991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66680" y="762120"/>
            <a:ext cx="30240" cy="8380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762120"/>
            <a:ext cx="0" cy="12952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01000" y="76212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2666880"/>
            <a:ext cx="0" cy="70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4114800"/>
            <a:ext cx="0" cy="1995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2077920"/>
            <a:ext cx="89154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Cloud"/>
          <p:cNvSpPr/>
          <p:nvPr/>
        </p:nvSpPr>
        <p:spPr>
          <a:xfrm>
            <a:off x="76320" y="2438280"/>
            <a:ext cx="2286000" cy="838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bedience of Faith (1: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Cloud"/>
          <p:cNvSpPr/>
          <p:nvPr/>
        </p:nvSpPr>
        <p:spPr>
          <a:xfrm>
            <a:off x="6781680" y="2438280"/>
            <a:ext cx="2286000" cy="838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bedience of Faith (16:2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664000"/>
            <a:ext cx="44956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ighteousness of God Revea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am not ashamed of the gospel…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 is the power of God for salvation to everyone who belie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it the righteousness of God is revea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Cloud"/>
          <p:cNvSpPr/>
          <p:nvPr/>
        </p:nvSpPr>
        <p:spPr>
          <a:xfrm>
            <a:off x="1905120" y="2819520"/>
            <a:ext cx="3886200" cy="2062080"/>
          </a:xfrm>
          <a:prstGeom prst="pie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the righteousness of God revealed in the gosp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4952880"/>
            <a:ext cx="6400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wrath of God toward those who sin (Romans 1-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grace of God toward those who believe (Romans 4-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Righteousness of God is revealed…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judging the pagans who rejected Him (Chapter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judging the Jews who disobeyed Him (Chapter 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judging all men who have sinned against Him (Chapter 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19680" y="1284120"/>
            <a:ext cx="13381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3:23-25a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have sinned and fall short of the glory of God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ing justified as a gift by His grace through the redemption which is in Christ Jesus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m God displayed publicly as a propitiation in His blood through fai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60600" y="5148360"/>
            <a:ext cx="1828800" cy="119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h[mar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35680" y="5170320"/>
            <a:ext cx="478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orist active indic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a`marta,nw</a:t>
            </a:r>
            <a:r>
              <a:rPr b="0" lang="en-US" sz="28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amartan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2286000"/>
            <a:ext cx="1523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3:23-25a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have sinned and fall short of the glory of God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ing justified as a gift by His grace through the redemption which is in Christ Jesus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m God displayed publicly as a propitiation in His blood through fai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5148360"/>
            <a:ext cx="2841480" cy="119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dikaiou,meno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04960" y="5170320"/>
            <a:ext cx="4316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Passive Partici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dikaio,w</a:t>
            </a:r>
            <a:r>
              <a:rPr b="0" lang="en-US" sz="28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ikaio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553080" y="2306520"/>
            <a:ext cx="12193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3:23-25a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have sinned and fall short of the glory of God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ing justified as a gift by His grace through the redemption which is in Christ Jesus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m God displayed publicly as a propitiation in His blood through fai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5148360"/>
            <a:ext cx="154620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ca,ri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5760" y="5170320"/>
            <a:ext cx="2770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ive sing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ca,rij</a:t>
            </a:r>
            <a:r>
              <a:rPr b="0" lang="en-US" sz="28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har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591000" y="2754360"/>
            <a:ext cx="2124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3:23-25a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have sinned and fall short of the glory of God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ing justified as a gift by His grace through the redemption which is in Christ Jesus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m God displayed publicly as a propitiation in His blood through fai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5148360"/>
            <a:ext cx="2841480" cy="119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vpolutrw,sew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43320" y="5170320"/>
            <a:ext cx="4685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ative singular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avpolu,trwsij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polutros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627520" y="3755880"/>
            <a:ext cx="21243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3:23-25a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have sinned and fall short of the glory of God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ing justified as a gift by His grace through the redemption which is in Christ Jesus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m God displayed publicly as a propitiation in His blood through fai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5148360"/>
            <a:ext cx="246060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i`lasth,r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76520" y="5170320"/>
            <a:ext cx="399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usative singular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i`lasth,rioj</a:t>
            </a:r>
            <a:r>
              <a:rPr b="0" lang="en-US" sz="28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ilasterio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Epistle as a Genr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09680" y="182880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n Epist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basic form of an Epist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involved in sending a letter in the First Centu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105520" y="5562720"/>
            <a:ext cx="3276360" cy="7617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962520"/>
            <a:ext cx="685800" cy="1676160"/>
          </a:xfrm>
          <a:prstGeom prst="downArrow">
            <a:avLst>
              <a:gd name="adj1" fmla="val 46759"/>
              <a:gd name="adj2" fmla="val 4119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3276720"/>
            <a:ext cx="3276360" cy="7617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em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2743200"/>
            <a:ext cx="685800" cy="609480"/>
          </a:xfrm>
          <a:prstGeom prst="downArrow">
            <a:avLst>
              <a:gd name="adj1" fmla="val 53241"/>
              <a:gd name="adj2" fmla="val 3775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3200400" cy="933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e sinne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105160" y="2057040"/>
            <a:ext cx="3276360" cy="762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it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1523880"/>
            <a:ext cx="685800" cy="609840"/>
          </a:xfrm>
          <a:prstGeom prst="downArrow">
            <a:avLst>
              <a:gd name="adj1" fmla="val 53241"/>
              <a:gd name="adj2" fmla="val 3775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685800"/>
            <a:ext cx="3733560" cy="933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od’s gr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410080" y="4267080"/>
            <a:ext cx="64800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4038480"/>
            <a:ext cx="268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a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ifi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990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4:1-2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en shall we say that Abraham, our forefather according to the flesh, has found?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if Abraham was justified by works, he has something to boast about, but not before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76720" y="2274840"/>
            <a:ext cx="16761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4:3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what does the Scripture say? “Abraham believed God, and it was credited to him as righteousnes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5148360"/>
            <a:ext cx="2079720" cy="119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evlogi,sq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03880" y="5170320"/>
            <a:ext cx="4379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orist passive indicativ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logi,zoma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ogizoma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486400" y="3733920"/>
            <a:ext cx="16002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4:4-5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o the one who works, his wage is not credited as a favor, but as what is due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to the one who does not work, but believes in Him who justifies the ungodly, his faith is credited as righteousne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5148360"/>
            <a:ext cx="2079720" cy="119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logi,zet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8520" y="5170320"/>
            <a:ext cx="43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passive indic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logi,zoma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ogizoma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flipH="1">
            <a:off x="685800" y="4648320"/>
            <a:ext cx="6781680" cy="1752480"/>
          </a:xfrm>
          <a:custGeom>
            <a:avLst/>
            <a:gdLst>
              <a:gd name="textAreaLeft" fmla="*/ 1186560 w 6781680"/>
              <a:gd name="textAreaRight" fmla="*/ 4916880 w 6781680"/>
              <a:gd name="textAreaTop" fmla="*/ 234720 h 1752480"/>
              <a:gd name="textAreaBottom" fmla="*/ 151776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02480" y="1828800"/>
            <a:ext cx="1981080" cy="2895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66880" y="4876560"/>
            <a:ext cx="3200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ckon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14640" cy="3179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943600" y="1905120"/>
            <a:ext cx="1638360" cy="1714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562720" y="3505320"/>
            <a:ext cx="2438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infu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666880" y="533520"/>
            <a:ext cx="4038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mput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H="1">
            <a:off x="685800" y="4648320"/>
            <a:ext cx="6781680" cy="1752480"/>
          </a:xfrm>
          <a:custGeom>
            <a:avLst/>
            <a:gdLst>
              <a:gd name="textAreaLeft" fmla="*/ 1186560 w 6781680"/>
              <a:gd name="textAreaRight" fmla="*/ 4916880 w 6781680"/>
              <a:gd name="textAreaTop" fmla="*/ 234720 h 1752480"/>
              <a:gd name="textAreaBottom" fmla="*/ 151776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02480" y="1828800"/>
            <a:ext cx="1981080" cy="2895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66880" y="4876560"/>
            <a:ext cx="3200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ckon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743200" y="1447920"/>
            <a:ext cx="3124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’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eous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ko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62720" y="3505320"/>
            <a:ext cx="2438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sinfu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152280"/>
            <a:ext cx="7162920" cy="1752840"/>
          </a:xfrm>
          <a:custGeom>
            <a:avLst/>
            <a:gdLst>
              <a:gd name="textAreaLeft" fmla="*/ 1253520 w 7162920"/>
              <a:gd name="textAreaRight" fmla="*/ 5193360 w 7162920"/>
              <a:gd name="textAreaTop" fmla="*/ 234720 h 1752840"/>
              <a:gd name="textAreaBottom" fmla="*/ 1518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14640" cy="3179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2666880" y="533520"/>
            <a:ext cx="4038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mput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943600" y="1905120"/>
            <a:ext cx="163836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Righteousness of God is revealed…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eckoning men as righteous by crediting them with the righteousness of Christ (Chapter 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claring men to be righteous on the basis of the reckoning described in the previous chapter (Chapter 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33720" y="4800600"/>
            <a:ext cx="5029200" cy="609480"/>
          </a:xfrm>
          <a:prstGeom prst="rightArrow">
            <a:avLst>
              <a:gd name="adj1" fmla="val 50000"/>
              <a:gd name="adj2" fmla="val 206291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5:12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295280" y="11430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just as through one man sin entered into the world, and death through sin, and so death spread to all men, because all sinned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352680" y="4114800"/>
            <a:ext cx="1981080" cy="2514600"/>
            <a:chOff x="3352680" y="4114800"/>
            <a:chExt cx="1981080" cy="2514600"/>
          </a:xfrm>
        </p:grpSpPr>
        <p:sp>
          <p:nvSpPr>
            <p:cNvPr id="190" name=""/>
            <p:cNvSpPr/>
            <p:nvPr/>
          </p:nvSpPr>
          <p:spPr>
            <a:xfrm>
              <a:off x="3352680" y="4114800"/>
              <a:ext cx="1981080" cy="25146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3504960" y="4267080"/>
              <a:ext cx="163836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52680" y="59436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ne Ma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 txBox="1"/>
          <p:nvPr/>
        </p:nvSpPr>
        <p:spPr>
          <a:xfrm>
            <a:off x="6705720" y="579132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ath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8080" y="4800600"/>
            <a:ext cx="15242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IN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5:13-14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295280" y="11430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until the Law sin was in the world, but sin is not imputed when there is no la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evertheless death reigned from Adam until Moses, even over those who had not sinned in the likeness of the offense of Adam, who is a type of Him who was to 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638680" y="380880"/>
            <a:ext cx="3048120" cy="3200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y did people die between Adam and Mos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2520" y="4038120"/>
            <a:ext cx="358164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the law did not come until Mos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886200" y="990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62120" y="4038480"/>
            <a:ext cx="312408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f sin is not reckoned without l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4724280"/>
            <a:ext cx="1295640" cy="60984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3505320"/>
            <a:ext cx="1295280" cy="60948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380880"/>
            <a:ext cx="2819520" cy="3200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f death comes through s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3471840"/>
            <a:ext cx="1295280" cy="609480"/>
          </a:xfrm>
          <a:prstGeom prst="ellipse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0574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does it mean to you that the Bible contains personal letters to various churche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86200" y="9907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886200" y="990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123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dam’s sin was imputed to all me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t is quite clear that Paul believed in “original sin” in the sense that Adam’s sin constituted all people sinners.  When Paul says “in Adam all die” (1 Cor 15:21), he is expressing a common Old Testament idea of human solidarity, which is very different from our modern individualistic thinking (Ladd, 1993:443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2224080" cy="335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omans 5:18-19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295280" y="11430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n as through one transgression there resulted condemnation to all men, even so through one act of righteousness there resulted justification of life to all men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s through the one man's disobedience the many were made sinners, even so through the obedience of the One the many will be made righte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9907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Righteousness of God is revealed…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eckoning men as righteous by crediting them with the righteousness of Christ (Chapter 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claring men to be righteous on the basis of the reckoning described in the previous chapter (Chapter 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Cloud"/>
          <p:cNvSpPr/>
          <p:nvPr/>
        </p:nvSpPr>
        <p:spPr>
          <a:xfrm>
            <a:off x="2209680" y="3886200"/>
            <a:ext cx="3657600" cy="838080"/>
          </a:xfrm>
          <a:prstGeom prst="pie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bout s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4800600"/>
            <a:ext cx="7620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we continue to live in sin?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bout the sin that is still in our lives?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dopting us as His children (Chapter 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600200" y="320040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Israel is Isra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is sovereign and able to chose whom He w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tion is offered to all who belie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’s unbelief has resulted in blessings to the Gent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Israel will be sa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Cloud"/>
          <p:cNvSpPr/>
          <p:nvPr/>
        </p:nvSpPr>
        <p:spPr>
          <a:xfrm>
            <a:off x="914400" y="152280"/>
            <a:ext cx="4191120" cy="1371600"/>
          </a:xfrm>
          <a:prstGeom prst="pie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about Isra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320" y="152388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ccffff"/>
                </a:solidFill>
                <a:latin typeface="Arial"/>
              </a:rPr>
              <a:t>How can we see God as righteous when His own chosen people do not believe and receive His promi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4114800" cy="146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hapters 1-11</a:t>
            </a:r>
            <a:br>
              <a:rPr sz="32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octrin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914400"/>
            <a:ext cx="3200400" cy="146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hapters 12-16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actic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Cloud"/>
          <p:cNvSpPr/>
          <p:nvPr/>
        </p:nvSpPr>
        <p:spPr>
          <a:xfrm>
            <a:off x="4114800" y="1595520"/>
            <a:ext cx="1828800" cy="11476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 Wh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2895480"/>
            <a:ext cx="3581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 Urge you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3763800"/>
            <a:ext cx="7315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esent your bodies a living and holy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be conformed to this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transformed by the renewing of your m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724280" y="685440"/>
            <a:ext cx="3200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alatians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Our Freedom in Chris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5181480" y="3048120"/>
            <a:ext cx="228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Steven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3497040" cy="510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alatia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2895480" cy="7621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apters 1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1143000"/>
            <a:ext cx="2895840" cy="7621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apters 3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19920" y="1143000"/>
            <a:ext cx="2895480" cy="7621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apters 5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1905120"/>
            <a:ext cx="2895480" cy="914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1905120"/>
            <a:ext cx="2895840" cy="914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t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1905120"/>
            <a:ext cx="2895480" cy="914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2819520"/>
            <a:ext cx="2895480" cy="838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n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2819520"/>
            <a:ext cx="2895840" cy="838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2819520"/>
            <a:ext cx="2895480" cy="838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3657600"/>
            <a:ext cx="2895480" cy="2590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stleshi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vind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3657600"/>
            <a:ext cx="2895840" cy="2590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is just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3657600"/>
            <a:ext cx="2895480" cy="2590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o w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faith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312444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oman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m ref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onate, emo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533520"/>
            <a:ext cx="342900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alati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1905120"/>
            <a:ext cx="3886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anity in th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190512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anity on the battle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29718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 Epis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8320" y="29718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r Epis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365760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ification by faith set forth systemat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48320" y="365760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ification by faith defended from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518148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Co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5181480"/>
            <a:ext cx="4038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Declaration of 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alatians 1:1-3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3000" y="990360"/>
            <a:ext cx="69343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, an apostle (no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men nor through the agency of man, but through Jesus Christ and God the Father, who raised Him from the dead)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all the brethren who are with me, To the churches of Galatia: Grace to you and peace from God our Father and the Lord Jesus Christ…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83808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Epistles are to the Gospels what the Prophets are to the Tor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720" y="2819160"/>
            <a:ext cx="2666880" cy="1066680"/>
          </a:xfrm>
          <a:prstGeom prst="rect">
            <a:avLst/>
          </a:prstGeom>
          <a:gradFill rotWithShape="0">
            <a:gsLst>
              <a:gs pos="0">
                <a:srgbClr val="0082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r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876920"/>
            <a:ext cx="2666880" cy="1066680"/>
          </a:xfrm>
          <a:prstGeom prst="rect">
            <a:avLst/>
          </a:prstGeom>
          <a:gradFill rotWithShape="0">
            <a:gsLst>
              <a:gs pos="0">
                <a:srgbClr val="0082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876920"/>
            <a:ext cx="2666880" cy="1066680"/>
          </a:xfrm>
          <a:prstGeom prst="rect">
            <a:avLst/>
          </a:prstGeom>
          <a:gradFill rotWithShape="0">
            <a:gsLst>
              <a:gs pos="0">
                <a:srgbClr val="0082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sp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819520"/>
            <a:ext cx="2667240" cy="1066680"/>
          </a:xfrm>
          <a:prstGeom prst="rect">
            <a:avLst/>
          </a:prstGeom>
          <a:gradFill rotWithShape="0">
            <a:gsLst>
              <a:gs pos="0">
                <a:srgbClr val="0082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h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124080"/>
            <a:ext cx="2209680" cy="457200"/>
          </a:xfrm>
          <a:prstGeom prst="leftRightArrow">
            <a:avLst>
              <a:gd name="adj1" fmla="val 50000"/>
              <a:gd name="adj2" fmla="val 96214"/>
            </a:avLst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5181480"/>
            <a:ext cx="2209680" cy="457200"/>
          </a:xfrm>
          <a:prstGeom prst="leftRightArrow">
            <a:avLst>
              <a:gd name="adj1" fmla="val 50000"/>
              <a:gd name="adj2" fmla="val 96214"/>
            </a:avLst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2590920" cy="780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ast Tens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51920" y="1544400"/>
            <a:ext cx="2590920" cy="3103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o gave Himself for our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762120"/>
            <a:ext cx="3352680" cy="780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esent T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762120"/>
            <a:ext cx="2895480" cy="780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uture T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1544760"/>
            <a:ext cx="3276720" cy="3103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 that He might rescue us from this present evil age, according to the will of our God and F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1544760"/>
            <a:ext cx="2895480" cy="3103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whom be the glory forever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22480" y="2562120"/>
            <a:ext cx="1523880" cy="44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10080" y="2070000"/>
            <a:ext cx="2743200" cy="44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alatians 1:6-9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43000" y="990360"/>
            <a:ext cx="69343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 am amazed that you are so quickly deserting Him who called you by the grace of Christ, for a different gospel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ich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al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nother; only there are some who are disturbing you, and want to distort the gospel of Chr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83808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alatians 1:8-9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even if we, or an angel from heaven, should preach to you a gospel contrary to what we have preached to you, he is to be accursed!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 we have said before, so I say again now, if any man is preaching to you a gospel contrary to what you received, he is to be accursed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914400"/>
            <a:ext cx="7620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ul and Jerusalem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648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’s Gospel did not come from Jerusalem (Chapter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’s Gospel did not change in Jerusalem (2:1-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’s gospel was not changed by Jerusalem when they came to Antioch (2:11-1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791320" y="228600"/>
            <a:ext cx="2954160" cy="632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73" name=""/>
          <p:cNvSpPr/>
          <p:nvPr/>
        </p:nvSpPr>
        <p:spPr>
          <a:xfrm>
            <a:off x="6002640" y="5375160"/>
            <a:ext cx="160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Wingdings"/>
                <a:ea typeface="Wingdings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 Black"/>
              </a:rPr>
              <a:t>Jerusa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86600" y="1311120"/>
            <a:ext cx="127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Wingdings"/>
                <a:ea typeface="Wingdings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 Black"/>
              </a:rPr>
              <a:t>Antio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537360" y="533520"/>
            <a:ext cx="1916640" cy="13737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o 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ewitc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13400" y="1523880"/>
            <a:ext cx="2916360" cy="2653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d you rece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Spirit by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orks of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w, or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aring wi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ai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24640" y="4038480"/>
            <a:ext cx="1937880" cy="947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re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 foolis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20600" y="4362480"/>
            <a:ext cx="3720960" cy="1800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ving begun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Spirit, are yo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w being perfec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y the fles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" y="3112920"/>
            <a:ext cx="2732040" cy="13737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d you suf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 many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va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12400" y="1447920"/>
            <a:ext cx="2861280" cy="1800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oes God g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Spirit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iracles by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w or by Fai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935440" y="438120"/>
            <a:ext cx="3035160" cy="11912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alvation 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rough fai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80880" y="838080"/>
            <a:ext cx="2378880" cy="2120760"/>
            <a:chOff x="380880" y="838080"/>
            <a:chExt cx="2378880" cy="2120760"/>
          </a:xfrm>
        </p:grpSpPr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380880" y="838080"/>
              <a:ext cx="133344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885960" y="2133360"/>
              <a:ext cx="1873800" cy="825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ppeal 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of Abraha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28280" y="3276720"/>
            <a:ext cx="2632320" cy="1815840"/>
            <a:chOff x="728280" y="3276720"/>
            <a:chExt cx="2632320" cy="1815840"/>
          </a:xfrm>
        </p:grpSpPr>
        <p:pic>
          <p:nvPicPr>
            <p:cNvPr id="286" name="" descr=""/>
            <p:cNvPicPr/>
            <p:nvPr/>
          </p:nvPicPr>
          <p:blipFill>
            <a:blip r:embed="rId3"/>
            <a:stretch/>
          </p:blipFill>
          <p:spPr>
            <a:xfrm>
              <a:off x="1734840" y="3276720"/>
              <a:ext cx="162576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728280" y="4267080"/>
              <a:ext cx="1546200" cy="8254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ppeal 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he La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300640" y="4502160"/>
            <a:ext cx="2532240" cy="1892520"/>
            <a:chOff x="5300640" y="4502160"/>
            <a:chExt cx="2532240" cy="1892520"/>
          </a:xfrm>
        </p:grpSpPr>
        <p:pic>
          <p:nvPicPr>
            <p:cNvPr id="289" name="" descr=""/>
            <p:cNvPicPr/>
            <p:nvPr/>
          </p:nvPicPr>
          <p:blipFill>
            <a:blip r:embed="rId4"/>
            <a:stretch/>
          </p:blipFill>
          <p:spPr>
            <a:xfrm>
              <a:off x="6461280" y="4502160"/>
              <a:ext cx="1371600" cy="12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5300640" y="5569200"/>
              <a:ext cx="1546200" cy="8254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ppeal 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he Tu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824520" y="3276720"/>
            <a:ext cx="1546200" cy="825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ppeal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do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02920" y="5410080"/>
            <a:ext cx="2172600" cy="119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ppeal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Coven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m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48640" y="2139840"/>
            <a:ext cx="1642320" cy="825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ppeal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riend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68760" y="2514600"/>
            <a:ext cx="1546200" cy="825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ppeal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rip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you are free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1219320"/>
            <a:ext cx="3337560" cy="3898800"/>
            <a:chOff x="457200" y="1219320"/>
            <a:chExt cx="3337560" cy="3898800"/>
          </a:xfrm>
        </p:grpSpPr>
        <p:pic>
          <p:nvPicPr>
            <p:cNvPr id="297" name="" descr=""/>
            <p:cNvPicPr/>
            <p:nvPr/>
          </p:nvPicPr>
          <p:blipFill>
            <a:blip r:embed="rId2"/>
            <a:stretch/>
          </p:blipFill>
          <p:spPr>
            <a:xfrm>
              <a:off x="457200" y="1447920"/>
              <a:ext cx="2590920" cy="36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614880" y="1219320"/>
              <a:ext cx="3179880" cy="8254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Don’t be entangl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in a yoke of bondag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047560" y="1600200"/>
            <a:ext cx="2547360" cy="1557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n’t turn y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reedom into 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pportunity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fle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926960" y="3581280"/>
            <a:ext cx="3988440" cy="2114640"/>
            <a:chOff x="4926960" y="3581280"/>
            <a:chExt cx="3988440" cy="2114640"/>
          </a:xfrm>
        </p:grpSpPr>
        <p:pic>
          <p:nvPicPr>
            <p:cNvPr id="301" name="" descr=""/>
            <p:cNvPicPr/>
            <p:nvPr/>
          </p:nvPicPr>
          <p:blipFill>
            <a:blip r:embed="rId3"/>
            <a:stretch/>
          </p:blipFill>
          <p:spPr>
            <a:xfrm>
              <a:off x="6096240" y="3581280"/>
              <a:ext cx="281916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926960" y="4114800"/>
              <a:ext cx="1480680" cy="8254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Walk b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he Spiri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542760" y="5486400"/>
            <a:ext cx="1521720" cy="119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ar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other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urd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73360" y="5029200"/>
            <a:ext cx="1904400" cy="825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hare 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ood th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64200" y="3048120"/>
            <a:ext cx="1783800" cy="825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 good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l 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alatians 6:14-16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9907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may it never be that I would boast, except in the cross of our Lord Jesus Christ, through which the world has been crucified to me, and I to the world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neither is circumcision anything, nor uncircumcision, but a new creation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ose who will walk by this rule, peace and merc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on them, and upon the Israel of G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914400"/>
            <a:ext cx="6705720" cy="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xamine Galatians 5:2-12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37920" y="190512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ere to teach or preach from this passage to a group of adults, how would you apply it to them, based on the meaning of the tex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 both your application as well as how you arrived at that appl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14600" y="304920"/>
            <a:ext cx="38862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Activ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838080" y="2038320"/>
            <a:ext cx="1295640" cy="1238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are the Primary Theological Themes presented in Paul’s Epistle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809880" y="6858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1142640"/>
            <a:ext cx="4419720" cy="16002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Foundational Epistl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1640" y="1142640"/>
            <a:ext cx="44197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&amp;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rinth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at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743200"/>
            <a:ext cx="44197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hes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pp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ss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4343400"/>
            <a:ext cx="4419720" cy="762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&amp;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ssalon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2743200"/>
            <a:ext cx="4419720" cy="16002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ison Epist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4343400"/>
            <a:ext cx="4419720" cy="7621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ophetic Epist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5105520"/>
            <a:ext cx="44197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&amp;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imo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e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5105520"/>
            <a:ext cx="4419720" cy="16002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astoral Epist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981080" y="15228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>
                        <a:alpha val="98039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uline Epist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>
                      <a:alpha val="98039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 Black"/>
              </a:rPr>
              <a:t>Roman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 Black"/>
              </a:rPr>
              <a:t>Roman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“big idea” in the Epistle to the Roma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86200" y="3429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 Black"/>
              </a:rPr>
              <a:t>Roman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ighteousness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09-06-26T15:05:16Z</dcterms:modified>
  <cp:revision>166</cp:revision>
  <dc:subject/>
  <dc:title>New Testament Theology</dc:title>
</cp:coreProperties>
</file>