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AD4-C0E5-4FC3-ABCA-F53230F1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73F2-487F-4A19-8C40-CDCBA86D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788-A009-44CC-8BA1-A139A314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CED-F1D9-4E32-B9D8-A167DC9C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A4C-92B4-4796-8222-02039594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87E-B869-48AF-AAB9-1954E0CA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7A5-58ED-4A44-81FD-AE464E3A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000-A2C8-467D-86C5-841FDFBC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80D-19D1-49FB-A0CA-3862C462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4D5-8DB5-4D01-9B3B-95E304AF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2498-DDFE-4E97-B1DF-5EC0E6F7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EA9E-768F-4077-9EC6-7EEC0525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173D-3C8F-4334-8C5D-1B44F5D6C9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7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cts: Sermon &amp; Defens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Florida Bible College &amp; Semin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3280" y="580536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66680" y="1600200"/>
            <a:ext cx="6934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w Testament Theolog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64771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What are some of the “sign gifts”?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64771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What purposes do the “sign gifts” serve?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1 Corinthians 14:21-22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12189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w it is written, “By men of strange tongues and by the lips of strangers I will speak to this people, and even so they will not listen to me,” says the Lord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then tongues are for a sign, not to those who believe but to unbelievers; but prophec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s for a 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t to unbelievers but to those who belie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99072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64771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Have the “sign gifts” ceased?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581280" y="2763720"/>
            <a:ext cx="12956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cc"/>
              </a:gs>
              <a:gs pos="100000">
                <a:srgbClr val="00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5318280"/>
            <a:ext cx="22096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cc"/>
              </a:gs>
              <a:gs pos="100000">
                <a:srgbClr val="00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3260880"/>
            <a:ext cx="22096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cc"/>
              </a:gs>
              <a:gs pos="100000">
                <a:srgbClr val="00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286000"/>
            <a:ext cx="22096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cc"/>
              </a:gs>
              <a:gs pos="100000">
                <a:srgbClr val="00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1 Corinthians 13:8-10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12189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never fails; but i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re are gifts o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hecy, they will be done away; i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re a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ngues, they will cease; i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re 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, it will be done awa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we know in part and we prophesy in part;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when the perfect comes, the partial will be done awa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99072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44960" y="2766960"/>
            <a:ext cx="19051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cc"/>
              </a:gs>
              <a:gs pos="100000">
                <a:srgbClr val="00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1 Corinthians 13:8-11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12189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 was a child, I used to speak like a child, think like a child, reason like a child; when I became a man, I did away with childish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99072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01992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eter’s Pentecost Sermon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33720" y="3428640"/>
            <a:ext cx="3200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943600" y="2209680"/>
            <a:ext cx="2057400" cy="1967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90720" y="205740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 into groups of 2-3 and list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01992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Other Sermons in Act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33720" y="4266720"/>
            <a:ext cx="4114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sa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diffe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943600" y="2209680"/>
            <a:ext cx="2057400" cy="196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2057400"/>
            <a:ext cx="4952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through the other sermons of Acts to see how those same major points are used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1828800"/>
            <a:ext cx="3414960" cy="32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100000">
                      <a:srgbClr val="0066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ngu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100000">
                    <a:srgbClr val="0066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100000">
                      <a:srgbClr val="0066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d oth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100000">
                    <a:srgbClr val="0066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100000">
                      <a:srgbClr val="0066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ign Gif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100000">
                    <a:srgbClr val="0066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are some of the divisions in Christian thinking regarding Spiritual Gifts?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are some of the gifts listed in the Scripture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09320" y="3428640"/>
            <a:ext cx="4419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s 12:6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Corinthians 12:4-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Corinthians 12:28-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hesians 4: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Peter 4:10-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657600" y="19810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990360"/>
            <a:ext cx="495324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purposes do spiritual gifts serv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Ephesians 4:11-1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gave some as apostles, and some as prophets, and some as evangelists, and some as pastors and teacher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99072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3733920"/>
            <a:ext cx="2743200" cy="1556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uilding up of the body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4191120"/>
            <a:ext cx="609480" cy="609480"/>
          </a:xfrm>
          <a:prstGeom prst="rightArrow">
            <a:avLst>
              <a:gd name="adj1" fmla="val 42704"/>
              <a:gd name="adj2" fmla="val 39324"/>
            </a:avLst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733920"/>
            <a:ext cx="1904760" cy="1556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work of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4191120"/>
            <a:ext cx="609480" cy="609480"/>
          </a:xfrm>
          <a:prstGeom prst="rightArrow">
            <a:avLst>
              <a:gd name="adj1" fmla="val 42704"/>
              <a:gd name="adj2" fmla="val 39324"/>
            </a:avLst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733920"/>
            <a:ext cx="2590920" cy="1556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equipping of the s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55627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il we all attain… to the measure of the stature which belongs to the fullness of Chr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ebrews 2:3-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it was at the first spoken through the Lord, it was confirmed to us by those who heard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d also testifying with them, both by signs and wonders and by various miracles and by gifts of the Holy Spirit according to His own wi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99072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09-06-12T00:01:47Z</dcterms:modified>
  <cp:revision>153</cp:revision>
  <dc:subject/>
  <dc:title>New Testament Theology</dc:title>
</cp:coreProperties>
</file>