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06A-0737-4C78-91AE-95C5D6F3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979-36F1-4486-BC5C-EEF83EA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128-1350-4530-BBB1-59932DDF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5C5-6AE4-4613-9BAF-984D1212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793-44E6-4B65-B461-15C9E309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B3B-8690-44AE-8D2D-140F7F6E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047-AFBA-4333-A74B-74F94903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C1B-5B48-46E7-A670-CD3B9040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D32-6F89-4602-85D4-FDC70613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2A7-B91A-438D-BAAD-EA06194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699-D5D2-4159-A098-1716187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4E9-B6B0-4745-9EB9-D9781F5C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4B6C-C3F8-47B4-B0FC-2A7F8F8E8E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General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057400"/>
            <a:ext cx="5486400" cy="158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derstanding th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48436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hould we read Revelation: literally, figuratively, or historically?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733920" y="1295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Revelation of Jesus Chri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19560" y="3352320"/>
            <a:ext cx="2361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Chap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343188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mon Interpretations of Revel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list View: Sees the book as showing the spiritual battle between good versus ev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terist View:  Focuses on the first century fall of Jerusalem as the backdrop of the prophecies of this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View:  Sees the prophecies as depicting the course of history in this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ist View:  Sees most of the events of the book as taking place in a time of future tribulation followed by the Second 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572000"/>
            <a:ext cx="2948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14720" y="4572000"/>
            <a:ext cx="18288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43520" y="4572000"/>
            <a:ext cx="20066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659040" y="4038480"/>
            <a:ext cx="6098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78160" y="3352680"/>
            <a:ext cx="1600200" cy="762120"/>
            <a:chOff x="3278160" y="3352680"/>
            <a:chExt cx="1600200" cy="762120"/>
          </a:xfrm>
        </p:grpSpPr>
        <p:sp>
          <p:nvSpPr>
            <p:cNvPr id="84" name="Cloud"/>
            <p:cNvSpPr/>
            <p:nvPr/>
          </p:nvSpPr>
          <p:spPr>
            <a:xfrm>
              <a:off x="327816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05600" y="3454560"/>
              <a:ext cx="14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apture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V="1">
            <a:off x="3887640" y="457200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784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 rot="10800000">
            <a:off x="5703480" y="4038480"/>
            <a:ext cx="304920" cy="1905120"/>
          </a:xfrm>
          <a:prstGeom prst="downArrow">
            <a:avLst>
              <a:gd name="adj1" fmla="val 50000"/>
              <a:gd name="adj2" fmla="val 11098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0200" y="5043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9000" y="50292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535160" y="3564000"/>
            <a:ext cx="3441960" cy="3593880"/>
            <a:chOff x="7535160" y="3564000"/>
            <a:chExt cx="3441960" cy="3593880"/>
          </a:xfrm>
        </p:grpSpPr>
        <p:sp>
          <p:nvSpPr>
            <p:cNvPr id="92" name="PubChord"/>
            <p:cNvSpPr/>
            <p:nvPr/>
          </p:nvSpPr>
          <p:spPr>
            <a:xfrm rot="21257400">
              <a:off x="7691400" y="3711240"/>
              <a:ext cx="3129120" cy="329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066" y="74"/>
                  </a:moveTo>
                  <a:arcTo wR="10800" hR="10800" stAng="-4996055" swAng="-10921957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8640" y="4921200"/>
              <a:ext cx="130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er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V="1" rot="10800000">
            <a:off x="7697880" y="4076640"/>
            <a:ext cx="304560" cy="1905120"/>
          </a:xfrm>
          <a:prstGeom prst="downArrow">
            <a:avLst>
              <a:gd name="adj1" fmla="val 50000"/>
              <a:gd name="adj2" fmla="val 111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105520" y="3330720"/>
            <a:ext cx="1600200" cy="825480"/>
            <a:chOff x="5105520" y="3330720"/>
            <a:chExt cx="1600200" cy="825480"/>
          </a:xfrm>
        </p:grpSpPr>
        <p:sp>
          <p:nvSpPr>
            <p:cNvPr id="96" name="Cloud"/>
            <p:cNvSpPr/>
            <p:nvPr/>
          </p:nvSpPr>
          <p:spPr>
            <a:xfrm>
              <a:off x="510552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9160" y="3330720"/>
              <a:ext cx="12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010280" y="3352680"/>
            <a:ext cx="1600200" cy="762120"/>
            <a:chOff x="7010280" y="3352680"/>
            <a:chExt cx="1600200" cy="762120"/>
          </a:xfrm>
        </p:grpSpPr>
        <p:sp>
          <p:nvSpPr>
            <p:cNvPr id="99" name="Cloud"/>
            <p:cNvSpPr/>
            <p:nvPr/>
          </p:nvSpPr>
          <p:spPr>
            <a:xfrm>
              <a:off x="701028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89120" y="35082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dg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2362320" y="61722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pensation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572000"/>
            <a:ext cx="2948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014720" y="4572000"/>
            <a:ext cx="18288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43520" y="4572000"/>
            <a:ext cx="20066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784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10800000">
            <a:off x="5703480" y="4038480"/>
            <a:ext cx="304920" cy="1905120"/>
          </a:xfrm>
          <a:prstGeom prst="downArrow">
            <a:avLst>
              <a:gd name="adj1" fmla="val 50000"/>
              <a:gd name="adj2" fmla="val 11098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0200" y="5043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9000" y="50292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 rot="10800000">
            <a:off x="7697880" y="4076640"/>
            <a:ext cx="304560" cy="1905120"/>
          </a:xfrm>
          <a:prstGeom prst="downArrow">
            <a:avLst>
              <a:gd name="adj1" fmla="val 50000"/>
              <a:gd name="adj2" fmla="val 111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5105520" y="33526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9160" y="333072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7010280" y="33526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9120" y="3508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6172200"/>
            <a:ext cx="6782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ic Pre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5107320" y="4114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Rap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572000"/>
            <a:ext cx="6782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46748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 rot="10800000">
            <a:off x="768312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63120" y="5424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illenn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loud"/>
          <p:cNvSpPr/>
          <p:nvPr/>
        </p:nvSpPr>
        <p:spPr>
          <a:xfrm>
            <a:off x="693432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7960" y="287352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280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362320" y="61722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5920" y="499284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rib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572000"/>
            <a:ext cx="441972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486400" y="4572000"/>
            <a:ext cx="236376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42640" y="50436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00200" y="6172200"/>
            <a:ext cx="6248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t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 rot="10800000">
            <a:off x="768312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244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280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loud"/>
          <p:cNvSpPr/>
          <p:nvPr/>
        </p:nvSpPr>
        <p:spPr>
          <a:xfrm>
            <a:off x="693432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7960" y="285768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4572000"/>
            <a:ext cx="82296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55520" y="5165640"/>
            <a:ext cx="139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819520" y="6172200"/>
            <a:ext cx="335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ter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 flipV="1" rot="10800000">
            <a:off x="234900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868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904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Cloud"/>
          <p:cNvSpPr/>
          <p:nvPr/>
        </p:nvSpPr>
        <p:spPr>
          <a:xfrm>
            <a:off x="160020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3840" y="285768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9200" y="466236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50120" y="4800600"/>
            <a:ext cx="24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ternal S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6040" y="53784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evelatio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1600200"/>
            <a:ext cx="152388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on of Jesus and Seven letters to seven church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90720"/>
            <a:ext cx="15238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990720"/>
            <a:ext cx="1371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600200"/>
            <a:ext cx="137160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ne of God &amp; Scroll with seven se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990720"/>
            <a:ext cx="1447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1600200"/>
            <a:ext cx="144792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 trump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99072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1600200"/>
            <a:ext cx="121932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, the Dragon &amp; the Seven Bow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990720"/>
            <a:ext cx="1218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1600200"/>
            <a:ext cx="121896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rlot on Seven Hills &amp; the B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990720"/>
            <a:ext cx="1067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1600200"/>
            <a:ext cx="106704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re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48720" y="990720"/>
            <a:ext cx="1295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1600200"/>
            <a:ext cx="129528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ven &amp; New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267080"/>
            <a:ext cx="152388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ends with a promise of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4267080"/>
            <a:ext cx="137160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pes away every tear (7: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4267080"/>
            <a:ext cx="144792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ll reign forever &amp; ever (11:1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267080"/>
            <a:ext cx="121932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 of the 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done” (16:17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4267080"/>
            <a:ext cx="121896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r on the White Horse (19:1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267080"/>
            <a:ext cx="106704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e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e of F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4267080"/>
            <a:ext cx="129528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coming quickly (22: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First Epistle of Joh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ing in the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3200400" cy="311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is a Book of Contra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versus Dar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th versus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versus Hat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versus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ise of Gnosticis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Greek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n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“knowledge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arise in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but its seeds were already evid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ysical is bad; the spirit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s of Jes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etism:  Christ only seemed to be hu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enthianism:  The Divine Christ entered Jesus at His baptism and departed prior to His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tion through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36480"/>
            <a:ext cx="8229600" cy="1469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r walk in the light will be evidence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3906360"/>
            <a:ext cx="198108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walk and in what you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906720"/>
            <a:ext cx="167652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ob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3906720"/>
            <a:ext cx="144792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3906720"/>
            <a:ext cx="152388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3906720"/>
            <a:ext cx="160020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b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88760" y="209520"/>
            <a:ext cx="584388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 Black"/>
              </a:rPr>
              <a:t>1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 Black"/>
              </a:rPr>
              <a:t>st</a:t>
            </a:r>
            <a:r>
              <a:rPr b="0" lang="en-US" sz="4800" spc="-1" strike="noStrike">
                <a:solidFill>
                  <a:srgbClr val="ccecff"/>
                </a:solidFill>
                <a:latin typeface="Arial Black"/>
              </a:rPr>
              <a:t> JO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  <a:ea typeface="Arial"/>
              </a:rPr>
              <a:t>WALKING IN THE L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905120"/>
            <a:ext cx="19810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19051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1905120"/>
            <a:ext cx="14479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9051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1905120"/>
            <a:ext cx="16002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19320" y="2666880"/>
            <a:ext cx="672912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ed Learning Pap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hoose your Topic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on #1: Inspiring Figure of the New Testa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on #2: The Story of the New Testa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6095880" cy="33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464832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http://info.library.unsw.edu.au/psl/skills/direct/itet_lilt/module3/images/plagiarism.G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86400" y="3962520"/>
            <a:ext cx="27147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ite e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otatio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8-20T16:29:45Z</dcterms:modified>
  <cp:revision>338</cp:revision>
  <dc:subject/>
  <dc:title>Discipleship Across the Lifespan</dc:title>
</cp:coreProperties>
</file>