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35.png" ContentType="image/png"/>
  <Override PartName="/ppt/media/image34.png" ContentType="image/png"/>
  <Override PartName="/ppt/media/image30.png" ContentType="image/png"/>
  <Override PartName="/ppt/media/image13.png" ContentType="image/png"/>
  <Override PartName="/ppt/media/image1.png" ContentType="image/png"/>
  <Override PartName="/ppt/media/image47.png" ContentType="image/png"/>
  <Override PartName="/ppt/media/image10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28.png" ContentType="image/png"/>
  <Override PartName="/ppt/media/image9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6.png" ContentType="image/png"/>
  <Override PartName="/ppt/media/image9.jpeg" ContentType="image/jpe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96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50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85.png" ContentType="image/png"/>
  <Override PartName="/ppt/media/image79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24.png" ContentType="image/png"/>
  <Override PartName="/ppt/media/image11.png" ContentType="image/png"/>
  <Override PartName="/ppt/media/image48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5.jpeg" ContentType="image/jpeg"/>
  <Override PartName="/ppt/media/image61.png" ContentType="image/png"/>
  <Override PartName="/ppt/media/image6.png" ContentType="image/png"/>
  <Override PartName="/ppt/media/image18.png" ContentType="image/png"/>
  <Override PartName="/ppt/media/image8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B56-EA7A-4D6E-BF00-8D6E329A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BF9-A32E-463B-934E-116154C3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D63-7306-4059-A34B-5315C92A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AC5-0C1E-48E7-A60A-D502C340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8E4-6DC8-4879-BEE9-B2404404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F66-DF72-4125-8714-600FABE3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AB5-979C-4463-929A-4F6FE45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93D-344E-489E-823D-C257D8B6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2AC-C0F4-4625-8224-8B42255A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4A5-0E8C-4045-B022-60B29295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857-6780-4D1A-ACA9-660D989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EF6-6A5A-4339-9B74-D4BE63B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44A9-8910-4857-9685-FDBB2C12F0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1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8.png"/><Relationship Id="rId7" Type="http://schemas.openxmlformats.org/officeDocument/2006/relationships/image" Target="../media/image35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35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image" Target="../media/image39.png"/><Relationship Id="rId4" Type="http://schemas.openxmlformats.org/officeDocument/2006/relationships/image" Target="../media/image1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3.png"/><Relationship Id="rId5" Type="http://schemas.openxmlformats.org/officeDocument/2006/relationships/image" Target="../media/image45.png"/><Relationship Id="rId6" Type="http://schemas.openxmlformats.org/officeDocument/2006/relationships/image" Target="../media/image22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35.png"/><Relationship Id="rId10" Type="http://schemas.openxmlformats.org/officeDocument/2006/relationships/image" Target="../media/image57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36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4.png"/><Relationship Id="rId7" Type="http://schemas.openxmlformats.org/officeDocument/2006/relationships/image" Target="../media/image67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4.png"/><Relationship Id="rId11" Type="http://schemas.openxmlformats.org/officeDocument/2006/relationships/image" Target="../media/image69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33.png"/><Relationship Id="rId4" Type="http://schemas.openxmlformats.org/officeDocument/2006/relationships/image" Target="../media/image23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png"/><Relationship Id="rId3" Type="http://schemas.openxmlformats.org/officeDocument/2006/relationships/image" Target="../media/image48.png"/><Relationship Id="rId4" Type="http://schemas.openxmlformats.org/officeDocument/2006/relationships/image" Target="../media/image23.png"/><Relationship Id="rId5" Type="http://schemas.openxmlformats.org/officeDocument/2006/relationships/image" Target="../media/image31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9.png"/><Relationship Id="rId3" Type="http://schemas.openxmlformats.org/officeDocument/2006/relationships/image" Target="../media/image35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35.png"/><Relationship Id="rId7" Type="http://schemas.openxmlformats.org/officeDocument/2006/relationships/image" Target="../media/image80.png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34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8.png"/><Relationship Id="rId3" Type="http://schemas.openxmlformats.org/officeDocument/2006/relationships/image" Target="../media/image38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image" Target="../media/image91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3.png"/><Relationship Id="rId3" Type="http://schemas.openxmlformats.org/officeDocument/2006/relationships/image" Target="../media/image31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General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057400"/>
            <a:ext cx="5486400" cy="158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derstanding th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3657600"/>
            <a:ext cx="7467480" cy="685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8862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4419720"/>
            <a:ext cx="28195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y from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rene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n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3886200"/>
            <a:ext cx="281952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rem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4419720"/>
            <a:ext cx="2819160" cy="213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hor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ac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no roo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tterness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he Epistle of Jam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th Leading to 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2819520" cy="27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racteristics of the Epist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ack of Person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Mention is mad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ce of a mention of Gentiles in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ity is not presented in contrast with Juda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373356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id Martin Luther think of the Epistle of Jam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3048120" cy="445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pistle of Jam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60958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with Partiality (2:1-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371600"/>
            <a:ext cx="617220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ing &amp; doing the Word (1:19-2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8380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God for Wisdom (1:1-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4382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 &amp; Works (2:14-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5812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sdom from above (3:13-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971800"/>
            <a:ext cx="6172200" cy="60948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ing the Tongue (3: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411480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4419720"/>
            <a:ext cx="58672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Quarrels &amp; Conflicts (4: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952880"/>
            <a:ext cx="58672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Arrogant Boasts (4:11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5486400"/>
            <a:ext cx="58672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the Rich (5:1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6019920"/>
            <a:ext cx="58672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the need for Prayer (5:12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3623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oes James contradict the Apostle Paul and his teaching about salvation by grace through faith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he First Epistle of Peter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missive Suff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47920" y="2895480"/>
            <a:ext cx="3238560" cy="253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-838080" y="0"/>
            <a:ext cx="9982080" cy="6954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6400800" cy="2362320"/>
          </a:xfrm>
          <a:prstGeom prst="rect">
            <a:avLst/>
          </a:prstGeom>
          <a:solidFill>
            <a:srgbClr val="62065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, an apostle of Jesus Christ, to those who reside as aliens, scattered throughout Pontus, Galatia, Cappadocia, Asia, and Bithynia, who are chosen  (1 Peter 1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8920" y="7621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n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920" y="24382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ala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5280" y="19051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ppado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8720" y="2133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4320" y="1295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thy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the General Epistl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33920" y="1295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819160"/>
            <a:ext cx="289548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Holy Livi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2895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1:1 - 2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819520"/>
            <a:ext cx="289584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Submissive Li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9548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Suff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1676520"/>
            <a:ext cx="289584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2:13 - 3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676520"/>
            <a:ext cx="2895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3:14 - 5: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1337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kinds of persecutions do Christians around the world face toda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21337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kinds of persecutions do Christians in this country face toda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04920"/>
            <a:ext cx="274320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God and Father of our Lord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447920"/>
            <a:ext cx="27432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caused us to be born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895480"/>
            <a:ext cx="365760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ving hope through the resurrection of Jesus Christ from the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4819680"/>
            <a:ext cx="495288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herita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 and undefiled and will not fade away, reserved in heaven for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2819520"/>
            <a:ext cx="1066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4348080"/>
            <a:ext cx="10666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057400"/>
            <a:ext cx="13716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3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304920"/>
            <a:ext cx="27432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you greatly rej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19320"/>
            <a:ext cx="487692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now for a little while, if necessary, you have been distressed by various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2895480"/>
            <a:ext cx="3657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faith may be proved genu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4267080"/>
            <a:ext cx="495324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result in praise, glory and ho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2590920"/>
            <a:ext cx="22860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se come so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3809880"/>
            <a:ext cx="12956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0492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Peter 1:6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5064120"/>
            <a:ext cx="27432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rejoi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5562720"/>
            <a:ext cx="54864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as the outcome of your faith the salvation of your sou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354636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6013440"/>
            <a:ext cx="152424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876920" y="30492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0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04920"/>
            <a:ext cx="22100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o th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447920"/>
            <a:ext cx="243864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 search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27280" y="1295280"/>
            <a:ext cx="482400" cy="609840"/>
          </a:xfrm>
          <a:custGeom>
            <a:avLst/>
            <a:gdLst/>
            <a:ahLst/>
            <a:rect l="l" t="t" r="r" b="b"/>
            <a:pathLst>
              <a:path w="304" h="456">
                <a:moveTo>
                  <a:pt x="16" y="0"/>
                </a:moveTo>
                <a:cubicBezTo>
                  <a:pt x="16" y="24"/>
                  <a:pt x="16" y="48"/>
                  <a:pt x="16" y="96"/>
                </a:cubicBezTo>
                <a:cubicBezTo>
                  <a:pt x="16" y="144"/>
                  <a:pt x="0" y="232"/>
                  <a:pt x="16" y="288"/>
                </a:cubicBezTo>
                <a:cubicBezTo>
                  <a:pt x="32" y="344"/>
                  <a:pt x="64" y="408"/>
                  <a:pt x="112" y="432"/>
                </a:cubicBezTo>
                <a:cubicBezTo>
                  <a:pt x="160" y="456"/>
                  <a:pt x="232" y="444"/>
                  <a:pt x="30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2625840"/>
            <a:ext cx="243864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els long to look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39880" y="1295280"/>
            <a:ext cx="469800" cy="1828800"/>
          </a:xfrm>
          <a:custGeom>
            <a:avLst/>
            <a:gdLst/>
            <a:ahLst/>
            <a:rect l="l" t="t" r="r" b="b"/>
            <a:pathLst>
              <a:path w="296" h="1152">
                <a:moveTo>
                  <a:pt x="8" y="0"/>
                </a:moveTo>
                <a:cubicBezTo>
                  <a:pt x="8" y="188"/>
                  <a:pt x="8" y="376"/>
                  <a:pt x="8" y="480"/>
                </a:cubicBezTo>
                <a:cubicBezTo>
                  <a:pt x="8" y="584"/>
                  <a:pt x="8" y="560"/>
                  <a:pt x="8" y="624"/>
                </a:cubicBezTo>
                <a:cubicBezTo>
                  <a:pt x="8" y="688"/>
                  <a:pt x="8" y="808"/>
                  <a:pt x="8" y="864"/>
                </a:cubicBezTo>
                <a:cubicBezTo>
                  <a:pt x="8" y="920"/>
                  <a:pt x="0" y="920"/>
                  <a:pt x="8" y="960"/>
                </a:cubicBezTo>
                <a:cubicBezTo>
                  <a:pt x="16" y="1000"/>
                  <a:pt x="8" y="1072"/>
                  <a:pt x="56" y="1104"/>
                </a:cubicBezTo>
                <a:cubicBezTo>
                  <a:pt x="104" y="1136"/>
                  <a:pt x="200" y="1144"/>
                  <a:pt x="296" y="115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967200"/>
            <a:ext cx="21337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4267080"/>
            <a:ext cx="44193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d your minds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4957920"/>
            <a:ext cx="21333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s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5638680"/>
            <a:ext cx="396216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 your hope on g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6324480"/>
            <a:ext cx="16761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9 0.7693 C 0.33507 0.75451 0.31024 0.73971 0.28212 0.70712 C 0.25399 0.67452 0.22813 0.64586 0.19115 0.57397 C 0.15417 0.50208 0.09184 0.37078 0.0599 0.27508 C 0.02795 0.17938 0.01389 0.08969 -2.77778E-007 3.6847E-006 E">
                                      <p:cBhvr>
                                        <p:cTn id="42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09680" y="3429000"/>
            <a:ext cx="40388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ere not redeemed  with perishable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144792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7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0492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 address as Father the One who impartially judges according to each man'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600200"/>
            <a:ext cx="403848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onduct yourselves in f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ring the time of your sta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pon ear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2971800"/>
            <a:ext cx="26668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800600"/>
            <a:ext cx="39625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were redeemed with the blood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343400"/>
            <a:ext cx="838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28800" y="3809880"/>
            <a:ext cx="28195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eed which is perish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6094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22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5228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you have in obedience to the truth purified your souls for a sincere love of the brethre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447920"/>
            <a:ext cx="46483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ervently love one another from the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397240"/>
            <a:ext cx="281916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you have been born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5216400"/>
            <a:ext cx="28195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4759200"/>
            <a:ext cx="838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3352680"/>
            <a:ext cx="9907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735520"/>
            <a:ext cx="50292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living and abiding word of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5791320"/>
            <a:ext cx="12193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4378320"/>
            <a:ext cx="182880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sh is like g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5292720"/>
            <a:ext cx="83844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5749920"/>
            <a:ext cx="1828800" cy="9471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ab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21520" y="6269040"/>
            <a:ext cx="12193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781680" y="45720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609480"/>
            <a:ext cx="556272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putting aside all malice and all guile and hypocrisy and envy and all sland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854440"/>
            <a:ext cx="9903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3311640"/>
            <a:ext cx="3657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it you may grow in respect to 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905120"/>
            <a:ext cx="46483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Long for the pure milk of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715000" y="4800600"/>
            <a:ext cx="312408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itual sacrifices acceptable to God through Jesus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4815000"/>
            <a:ext cx="38098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spiritual house for a holy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3900600"/>
            <a:ext cx="26668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iv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38088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4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200016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482840"/>
            <a:ext cx="27432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ed by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2533680"/>
            <a:ext cx="350532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 and precious in the sight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568440"/>
            <a:ext cx="34290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ming to Him as to a living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443400"/>
            <a:ext cx="198108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l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4357800"/>
            <a:ext cx="304776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being buil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343400"/>
            <a:ext cx="228600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ffer up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952880" y="4800240"/>
            <a:ext cx="381240" cy="547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1280" y="274680"/>
            <a:ext cx="51055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ral Epistl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19360" y="23320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bre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e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&amp;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Joh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3022560" cy="58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038840" cy="12952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you who belie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4038840" cy="2819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ld I lay in Zion a choice stone, a precious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990720"/>
            <a:ext cx="4038480" cy="1295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those who disbelie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105520"/>
            <a:ext cx="4038840" cy="990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not be disappoi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2286000"/>
            <a:ext cx="4038480" cy="1752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ne which the builders rejected, This became the very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038480"/>
            <a:ext cx="4038480" cy="10670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one of stumbling and a rock of of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5105520"/>
            <a:ext cx="4038480" cy="990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so appo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39080" y="204840"/>
            <a:ext cx="348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1 Peter 2:6-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628560"/>
            <a:ext cx="31244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ose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152280"/>
            <a:ext cx="24386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you a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1143000"/>
            <a:ext cx="31244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yal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676520"/>
            <a:ext cx="3124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oly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2189160"/>
            <a:ext cx="58676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ople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'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 pos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2819520"/>
            <a:ext cx="12193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3103560"/>
            <a:ext cx="571500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proclaim the excellencies of Him who has called you out of darkness into His marvelous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439884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4703760"/>
            <a:ext cx="266688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once were not a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5826240"/>
            <a:ext cx="2666880" cy="9471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d not received mer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961800" y="4952880"/>
            <a:ext cx="780840" cy="520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724280"/>
            <a:ext cx="2819160" cy="9471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are the peopl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61800" y="6024600"/>
            <a:ext cx="780840" cy="520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826240"/>
            <a:ext cx="3200400" cy="94716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have received mer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867280" y="304920"/>
            <a:ext cx="266724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3 – 3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3048120"/>
            <a:ext cx="5410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ves, be submissive to your own husbands (3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828800"/>
            <a:ext cx="5410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ants, be submissive to your masters with all respect (2: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302000"/>
            <a:ext cx="60199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bands likewise, liv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wiv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understanding way (3: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5521320"/>
            <a:ext cx="77724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all be harmonious, sympathetic, brotherly, kindhearted, and humble in spirit (3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16002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03848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52578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28600"/>
            <a:ext cx="457200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yourselves for the Lord's sake to every human instituti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867280" y="304920"/>
            <a:ext cx="266724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4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1528920"/>
            <a:ext cx="9144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1143000"/>
            <a:ext cx="28954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228600"/>
            <a:ext cx="52578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even if you should suffer for the sake of righteousnes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752480"/>
            <a:ext cx="54100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fear their intim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228600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514600"/>
            <a:ext cx="5410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troub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048120"/>
            <a:ext cx="9144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276720"/>
            <a:ext cx="7848360" cy="18003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ctify Christ as Lord in your hearts, alway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y to make a defense to everyone who asks you to give an account for the hope that is in you, yet with gentleness and reverenc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5048280"/>
            <a:ext cx="91440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276880"/>
            <a:ext cx="7848360" cy="13737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 good conscience so that in the thing in which you are slandered, those who revile your good behavior in Christ may be put to sh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228600"/>
            <a:ext cx="5943600" cy="222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hrist also died for sins once for all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just, in order that He might bring us to God, having been put to death in the flesh, but made alive in the spir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99072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8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2417760"/>
            <a:ext cx="26668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l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295128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ent and made proclamation to the spir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so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3886200"/>
            <a:ext cx="15242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685800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were disobedient, when the patience of God kept waiting in the days of Noah, during the construction of the ar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791320"/>
            <a:ext cx="68580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 few, that is, eight persons, were brought safely throug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2022480"/>
            <a:ext cx="19051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228600"/>
            <a:ext cx="52578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 of all things is at han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99072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1101600"/>
            <a:ext cx="1981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63512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f sound judgment and 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ir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purpose of pr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2971800"/>
            <a:ext cx="518148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all, keep fervent in your love for one another, because love covers a multitude of s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724280"/>
            <a:ext cx="44197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hospitable to one another without compla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28600" y="228600"/>
            <a:ext cx="5638680" cy="222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ved, do not be surprised at the fiery ordeal among you, which comes upon you for your testing, as though some strange thing were happening to you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2200" y="60948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2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438280"/>
            <a:ext cx="5181480" cy="222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he degree that you share the sufferings of Christ, keep on rejoicing; so that also at the revelation of His glory, you may rejoice with exul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4648320"/>
            <a:ext cx="518184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reviled for the name of Christ, you are blessed, because the Spirit of glory and of God rests upon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8600" y="138240"/>
            <a:ext cx="56386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judgment to begin with the household of Go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60948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7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1052640"/>
            <a:ext cx="8384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449520"/>
            <a:ext cx="609624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with difficulty that the righteous is saved, what will become of the godless man and the sinn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1565280"/>
            <a:ext cx="548640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begi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us first, wha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utcome for those who do not obey the gospel of G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2921040"/>
            <a:ext cx="8384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5322960"/>
            <a:ext cx="609588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ose also who suffer according to the will of God entrust their souls to a faithful Creator in doing what is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4794120"/>
            <a:ext cx="17524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28600" y="13824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5720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665280"/>
            <a:ext cx="5334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hort the elders among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184400"/>
            <a:ext cx="563868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low elder and witness of the sufferings of Christ, and a partaker also of the glory that is to be reveal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3006720"/>
            <a:ext cx="61722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 the flock of God among you, exercising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876920"/>
            <a:ext cx="39625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not for sordid gain, but with eagernes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3962520"/>
            <a:ext cx="61722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under compulsion, but voluntarily, according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will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5846760"/>
            <a:ext cx="784872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 yet as lording it over those allotted to your charge, but proving to be examples to the fl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8600" y="249120"/>
            <a:ext cx="51814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younger men, like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5720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1254240"/>
            <a:ext cx="28195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ll of yo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776160"/>
            <a:ext cx="41148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ject to your e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1787400"/>
            <a:ext cx="70106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the yourselves with humility toward one another, for God is opposed to the proud, but gives grace to the hum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3159000"/>
            <a:ext cx="51814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ble yourselves, therefore, under the mighty hand of Go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5597640"/>
            <a:ext cx="556272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ing all your anxiety upon Him, because He cares for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4641840"/>
            <a:ext cx="312444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ay exalt you at the proper tim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15440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he Epistle to the Hebrew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is Be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713400" cy="389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8600" y="249120"/>
            <a:ext cx="3124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f 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ir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e on the ale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2200" y="45720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8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1198440"/>
            <a:ext cx="518184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dversary, the devil, prowls about like a roaring lion, seeking someone to dev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2590920"/>
            <a:ext cx="289548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esist him, firm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524400"/>
            <a:ext cx="63248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 the same experiences of suffering are being accomplished by your brethren who are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23880" y="4876920"/>
            <a:ext cx="7162920" cy="180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fter you have suffered for a little while, the God of all grace, who called you to His eternal glory in Christ, will Himself perfect, confirm, strengt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5a1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28240" y="15235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2209680"/>
            <a:ext cx="289584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5a1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22096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5a1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15238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15238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3124080"/>
            <a:ext cx="1295280" cy="2362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124080"/>
            <a:ext cx="2895840" cy="15447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3124080"/>
            <a:ext cx="1600200" cy="1998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9920" y="3124080"/>
            <a:ext cx="1600200" cy="1998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0120" y="3124080"/>
            <a:ext cx="1295280" cy="2362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819520" y="533520"/>
            <a:ext cx="3429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Pet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cel Instructor &amp; Course Evalu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:  Understanding the Ne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ame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 120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or:  Dr. John Steve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D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e spoke long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fa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ph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ny por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ny way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se last d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S SPOKEN TO US IN HIS 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m He appointed heir of all thing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whom also He made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GO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AS SPOKEN TO US IN HIS S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 appointed heir of all thing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whom also He made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diance of His gl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act representation of His na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holds all things by the word of His pow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had made purification of sin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AT DOW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right hand of the Majesty on hig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09880"/>
            <a:ext cx="6705720" cy="609840"/>
          </a:xfrm>
          <a:prstGeom prst="rightArrow">
            <a:avLst>
              <a:gd name="adj1" fmla="val 43231"/>
              <a:gd name="adj2" fmla="val 17491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1640" y="43434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to Jes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4520" y="3809880"/>
            <a:ext cx="150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3657600"/>
            <a:ext cx="2209680" cy="685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3657600"/>
            <a:ext cx="4114800" cy="685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8862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419720"/>
            <a:ext cx="28195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y from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rene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n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8-20T16:40:43Z</dcterms:modified>
  <cp:revision>335</cp:revision>
  <dc:subject/>
  <dc:title>Discipleship Across the Lifespan</dc:title>
</cp:coreProperties>
</file>