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6.jpeg" ContentType="image/jpeg"/>
  <Override PartName="/ppt/media/image15.jpeg" ContentType="image/jpeg"/>
  <Override PartName="/ppt/media/image14.gif" ContentType="image/gif"/>
  <Override PartName="/ppt/media/image17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12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BC60-26B1-43C0-9C81-B350629C5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9607-EB69-4239-96A5-BF50EEC3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9C0A-7B79-48AD-8502-D312282E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FDB8-1E43-48FF-AAFB-1B537953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D7CB-AF28-4F2C-A810-5CE4B3F6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DCEB-B650-4EDD-84FC-84E0616A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AE00-F355-42F5-BFE2-E521293F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CE2F-0E62-42FF-9C07-AEB1C8EF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1C3F-E0DC-42E5-AAEE-36D96F1D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C763-9CCE-4C99-AA2F-647D6470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DEB5-E434-4CF4-90B7-4EF24256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BA0E-D5E9-4C93-81C4-C3B4BF6E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693E-6FB7-407F-8E07-5D276DBCEB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Epistles of Pa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52480" y="2057400"/>
            <a:ext cx="5486400" cy="1581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408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derstanding th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408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408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ew Testa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408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Righteousness of God is revealed…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66320" y="21337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udging the pagans who rejected Him (Chapter 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udging the Jews who disobeyed Him (Chapter 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udging all men who have sinned against Him (Chapter 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19680" y="1284120"/>
            <a:ext cx="13381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Romans 3:23-25a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ll have sinned and fall short of the glory of God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ing justified as a gift by His grace through the redemption which is in Christ Jesus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om God displayed publicly as a propitiation in His blood through fai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9907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60600" y="5148360"/>
            <a:ext cx="1828800" cy="119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h[mart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35680" y="5170320"/>
            <a:ext cx="478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orist active indic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</a:t>
            </a:r>
            <a:r>
              <a:rPr b="0" lang="en-US" sz="3200" spc="-1" strike="noStrike">
                <a:solidFill>
                  <a:srgbClr val="ffffff"/>
                </a:solidFill>
                <a:latin typeface="Bwgrkl"/>
              </a:rPr>
              <a:t>a`marta,nw</a:t>
            </a:r>
            <a:r>
              <a:rPr b="0" lang="en-US" sz="28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amartan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71600" y="2286000"/>
            <a:ext cx="1523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Romans 3:23-25a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ll have sinned and fall short of the glory of God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ing justified as a gift by His grace through the redemption which is in Christ Jesus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om God displayed publicly as a propitiation in His blood through fai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9907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5148360"/>
            <a:ext cx="2841480" cy="119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dikaiou,meno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04960" y="5170320"/>
            <a:ext cx="43167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 Passive Partici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</a:t>
            </a:r>
            <a:r>
              <a:rPr b="0" lang="en-US" sz="3200" spc="-1" strike="noStrike">
                <a:solidFill>
                  <a:srgbClr val="ffffff"/>
                </a:solidFill>
                <a:latin typeface="Bwgrkl"/>
              </a:rPr>
              <a:t>dikaio,w</a:t>
            </a:r>
            <a:r>
              <a:rPr b="0" lang="en-US" sz="28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ikaio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553080" y="2306520"/>
            <a:ext cx="12193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Romans 3:23-25a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ll have sinned and fall short of the glory of God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ing justified as a gift by His grace through the redemption which is in Christ Jesus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om God displayed publicly as a propitiation in His blood through fai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9907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5148360"/>
            <a:ext cx="154620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ca,ri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15760" y="5170320"/>
            <a:ext cx="2770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ive sing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</a:t>
            </a:r>
            <a:r>
              <a:rPr b="0" lang="en-US" sz="3200" spc="-1" strike="noStrike">
                <a:solidFill>
                  <a:srgbClr val="ffffff"/>
                </a:solidFill>
                <a:latin typeface="Bwgrkl"/>
              </a:rPr>
              <a:t>ca,rij</a:t>
            </a:r>
            <a:r>
              <a:rPr b="0" lang="en-US" sz="28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har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591000" y="2754360"/>
            <a:ext cx="2124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Romans 3:23-25a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ll have sinned and fall short of the glory of God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ing justified as a gift by His grace through the redemption which is in Christ Jesus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om God displayed publicly as a propitiation in His blood through fai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9907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148360"/>
            <a:ext cx="2841480" cy="119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avpolutrw,sew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43320" y="5170320"/>
            <a:ext cx="4685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ative singular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wgrkl"/>
              </a:rPr>
              <a:t>avpolu,trwsij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polutros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627520" y="3755880"/>
            <a:ext cx="21243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Romans 3:23-25a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ll have sinned and fall short of the glory of God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ing justified as a gift by His grace through the redemption which is in Christ Jesus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om God displayed publicly as a propitiation in His blood through fai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9907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5148360"/>
            <a:ext cx="246060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i`lasth,r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76520" y="5170320"/>
            <a:ext cx="399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usative singular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wgrkl"/>
              </a:rPr>
              <a:t>i`lasth,rioj</a:t>
            </a:r>
            <a:r>
              <a:rPr b="0" lang="en-US" sz="28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ilasterio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105520" y="5562720"/>
            <a:ext cx="3276360" cy="7617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962520"/>
            <a:ext cx="685800" cy="1676160"/>
          </a:xfrm>
          <a:prstGeom prst="downArrow">
            <a:avLst>
              <a:gd name="adj1" fmla="val 46759"/>
              <a:gd name="adj2" fmla="val 41199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3276720"/>
            <a:ext cx="3276360" cy="7617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em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2743200"/>
            <a:ext cx="685800" cy="609480"/>
          </a:xfrm>
          <a:prstGeom prst="downArrow">
            <a:avLst>
              <a:gd name="adj1" fmla="val 53241"/>
              <a:gd name="adj2" fmla="val 37759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3200400" cy="933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e sinne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105160" y="2057040"/>
            <a:ext cx="3276360" cy="762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it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1523880"/>
            <a:ext cx="685800" cy="609840"/>
          </a:xfrm>
          <a:prstGeom prst="downArrow">
            <a:avLst>
              <a:gd name="adj1" fmla="val 53241"/>
              <a:gd name="adj2" fmla="val 37759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685800"/>
            <a:ext cx="3733560" cy="933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od’s gr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410080" y="4267080"/>
            <a:ext cx="648000" cy="10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4038480"/>
            <a:ext cx="268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s a p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ifi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9907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579132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reak into Groups of 3-4 and discuss the following questions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3123720"/>
            <a:ext cx="807696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Paul mean when he states that people are justified by fai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God justify someone when they are not inherently ju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has this idea of justification impacted your own lif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438640" cy="233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105520" y="5562720"/>
            <a:ext cx="3276360" cy="7617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3962520"/>
            <a:ext cx="685800" cy="1676160"/>
          </a:xfrm>
          <a:prstGeom prst="downArrow">
            <a:avLst>
              <a:gd name="adj1" fmla="val 46759"/>
              <a:gd name="adj2" fmla="val 41199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3276720"/>
            <a:ext cx="3276360" cy="7617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em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2743200"/>
            <a:ext cx="685800" cy="609480"/>
          </a:xfrm>
          <a:prstGeom prst="downArrow">
            <a:avLst>
              <a:gd name="adj1" fmla="val 53241"/>
              <a:gd name="adj2" fmla="val 37759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3200400" cy="933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e sinne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105160" y="2057040"/>
            <a:ext cx="3276360" cy="762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it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1523880"/>
            <a:ext cx="685800" cy="609840"/>
          </a:xfrm>
          <a:prstGeom prst="downArrow">
            <a:avLst>
              <a:gd name="adj1" fmla="val 53241"/>
              <a:gd name="adj2" fmla="val 37759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685800"/>
            <a:ext cx="3733560" cy="933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od’s gr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410080" y="4267080"/>
            <a:ext cx="648000" cy="10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4038480"/>
            <a:ext cx="268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s a p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ifi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9907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Romans 4:1-2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hen shall we say that Abraham, our forefather according to the flesh, has found?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if Abraham was justified by works, he has something to boast about, but not before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9907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Epistle as a Genre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09680" y="1828800"/>
            <a:ext cx="5943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n Epist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basic form of an Epist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involved in sending a letter in the First Centu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76720" y="2274840"/>
            <a:ext cx="16761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Romans 4:3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what does the Scripture say? “Abraham believed God, and it was credited to him as righteousnes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9907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5148360"/>
            <a:ext cx="2079720" cy="119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evlogi,sq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03880" y="5170320"/>
            <a:ext cx="4379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orist passive indicativ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wgrkl"/>
              </a:rPr>
              <a:t>logi,zoma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ogizoma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486400" y="3733920"/>
            <a:ext cx="16002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Romans 4:4-5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o the one who works, his wage is not credited as a favor, but as what is due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to the one who does not work, but believes in Him who justifies the ungodly, his faith is credited as righteousnes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9907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5148360"/>
            <a:ext cx="2079720" cy="119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logi,zet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8520" y="5170320"/>
            <a:ext cx="43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 passive indic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</a:t>
            </a:r>
            <a:r>
              <a:rPr b="0" lang="en-US" sz="3200" spc="-1" strike="noStrike">
                <a:solidFill>
                  <a:srgbClr val="ffffff"/>
                </a:solidFill>
                <a:latin typeface="Bwgrkl"/>
              </a:rPr>
              <a:t>logi,zoma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ogizoma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 flipH="1">
            <a:off x="685800" y="4648320"/>
            <a:ext cx="6781680" cy="1752480"/>
          </a:xfrm>
          <a:custGeom>
            <a:avLst/>
            <a:gdLst>
              <a:gd name="textAreaLeft" fmla="*/ 1186560 w 6781680"/>
              <a:gd name="textAreaRight" fmla="*/ 4916880 w 6781680"/>
              <a:gd name="textAreaTop" fmla="*/ 234720 h 1752480"/>
              <a:gd name="textAreaBottom" fmla="*/ 151776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02480" y="1828800"/>
            <a:ext cx="1981080" cy="2895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6880" y="4876560"/>
            <a:ext cx="3200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eckon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2114640" cy="3179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943600" y="1905120"/>
            <a:ext cx="1638360" cy="1714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562720" y="3505320"/>
            <a:ext cx="2438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sinful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666880" y="533520"/>
            <a:ext cx="4038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mput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 flipH="1">
            <a:off x="685800" y="4648320"/>
            <a:ext cx="6781680" cy="1752480"/>
          </a:xfrm>
          <a:custGeom>
            <a:avLst/>
            <a:gdLst>
              <a:gd name="textAreaLeft" fmla="*/ 1186560 w 6781680"/>
              <a:gd name="textAreaRight" fmla="*/ 4916880 w 6781680"/>
              <a:gd name="textAreaTop" fmla="*/ 234720 h 1752480"/>
              <a:gd name="textAreaBottom" fmla="*/ 151776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02480" y="1828800"/>
            <a:ext cx="1981080" cy="2895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66880" y="4876560"/>
            <a:ext cx="3200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eckon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743200" y="1447920"/>
            <a:ext cx="3124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’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eous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ko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3505320"/>
            <a:ext cx="2438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sinful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152280"/>
            <a:ext cx="7162920" cy="1752840"/>
          </a:xfrm>
          <a:custGeom>
            <a:avLst/>
            <a:gdLst>
              <a:gd name="textAreaLeft" fmla="*/ 1253520 w 7162920"/>
              <a:gd name="textAreaRight" fmla="*/ 5193360 w 7162920"/>
              <a:gd name="textAreaTop" fmla="*/ 234720 h 1752840"/>
              <a:gd name="textAreaBottom" fmla="*/ 1518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2114640" cy="31795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2666880" y="533520"/>
            <a:ext cx="4038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mput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943600" y="1905120"/>
            <a:ext cx="163836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Righteousness of God is revealed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066320" y="22093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eckoning men as righteous by crediting them with the righteousness of Christ (Chapter 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declaring men to be righteous on the basis of the reckoning described in the previous chapter (Chapter 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133720" y="4800600"/>
            <a:ext cx="5029200" cy="609480"/>
          </a:xfrm>
          <a:prstGeom prst="rightArrow">
            <a:avLst>
              <a:gd name="adj1" fmla="val 50000"/>
              <a:gd name="adj2" fmla="val 206291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Romans 5:12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295280" y="114300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, just as through one man sin entered into the world, and death through sin, and so death spread to all men, because all sinned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9907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352680" y="4114800"/>
            <a:ext cx="1981080" cy="2514600"/>
            <a:chOff x="3352680" y="4114800"/>
            <a:chExt cx="1981080" cy="2514600"/>
          </a:xfrm>
        </p:grpSpPr>
        <p:sp>
          <p:nvSpPr>
            <p:cNvPr id="183" name=""/>
            <p:cNvSpPr/>
            <p:nvPr/>
          </p:nvSpPr>
          <p:spPr>
            <a:xfrm>
              <a:off x="3352680" y="4114800"/>
              <a:ext cx="1981080" cy="251460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3"/>
            <a:stretch/>
          </p:blipFill>
          <p:spPr>
            <a:xfrm>
              <a:off x="3504960" y="4267080"/>
              <a:ext cx="163836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3352680" y="59436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ne Ma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"/>
          <p:cNvSpPr txBox="1"/>
          <p:nvPr/>
        </p:nvSpPr>
        <p:spPr>
          <a:xfrm>
            <a:off x="6705720" y="5791320"/>
            <a:ext cx="1523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ath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38080" y="4800600"/>
            <a:ext cx="15242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IN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Romans 5:13-14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95280" y="114300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until the Law sin was in the world, but sin is not imputed when there is no la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evertheless death reigned from Adam until Moses, even over those who had not sinned in the likeness of the offense of Adam, who is a type of Him who was to 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9907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638680" y="380880"/>
            <a:ext cx="3048120" cy="3200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hy did people die between Adam and Mos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2520" y="4038120"/>
            <a:ext cx="3581640" cy="2133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f the law did not come until Mos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886200" y="990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762120" y="4038480"/>
            <a:ext cx="3124080" cy="2133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f sin is not reckoned without la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4724280"/>
            <a:ext cx="1295640" cy="60984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3505320"/>
            <a:ext cx="1295280" cy="60948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380880"/>
            <a:ext cx="2819520" cy="3200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f death comes through s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3471840"/>
            <a:ext cx="1295280" cy="60948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886200" y="990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31237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dam’s sin was imputed to all me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Romans 5:18-19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295280" y="114300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en as through one transgression there resulted condemnation to all men, even so through one act of righteousness there resulted justification of life to all men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s through the one man's disobedience the many were made sinners, even so through the obedience of the One the many will be made righte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9907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Epistles are to the Gospels what the Prophets are to the Tora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90720" y="2819160"/>
            <a:ext cx="2666880" cy="1066680"/>
          </a:xfrm>
          <a:prstGeom prst="rect">
            <a:avLst/>
          </a:prstGeom>
          <a:gradFill rotWithShape="0">
            <a:gsLst>
              <a:gs pos="0">
                <a:srgbClr val="0082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r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4876920"/>
            <a:ext cx="2666880" cy="1066680"/>
          </a:xfrm>
          <a:prstGeom prst="rect">
            <a:avLst/>
          </a:prstGeom>
          <a:gradFill rotWithShape="0">
            <a:gsLst>
              <a:gs pos="0">
                <a:srgbClr val="0082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s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4876920"/>
            <a:ext cx="2666880" cy="1066680"/>
          </a:xfrm>
          <a:prstGeom prst="rect">
            <a:avLst/>
          </a:prstGeom>
          <a:gradFill rotWithShape="0">
            <a:gsLst>
              <a:gs pos="0">
                <a:srgbClr val="0082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sp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2819520"/>
            <a:ext cx="2667240" cy="1066680"/>
          </a:xfrm>
          <a:prstGeom prst="rect">
            <a:avLst/>
          </a:prstGeom>
          <a:gradFill rotWithShape="0">
            <a:gsLst>
              <a:gs pos="0">
                <a:srgbClr val="0082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h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124080"/>
            <a:ext cx="2209680" cy="457200"/>
          </a:xfrm>
          <a:prstGeom prst="leftRightArrow">
            <a:avLst>
              <a:gd name="adj1" fmla="val 50000"/>
              <a:gd name="adj2" fmla="val 96214"/>
            </a:avLst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5181480"/>
            <a:ext cx="2209680" cy="457200"/>
          </a:xfrm>
          <a:prstGeom prst="leftRightArrow">
            <a:avLst>
              <a:gd name="adj1" fmla="val 50000"/>
              <a:gd name="adj2" fmla="val 96214"/>
            </a:avLst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Righteousness of God is revealed…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reckoning men as righteous by crediting them with the righteousness of Christ (Chapter 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declaring men to be righteous on the basis of the reckoning described in the previous chapter (Chapter 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Cloud"/>
          <p:cNvSpPr/>
          <p:nvPr/>
        </p:nvSpPr>
        <p:spPr>
          <a:xfrm>
            <a:off x="2209680" y="3886200"/>
            <a:ext cx="3657600" cy="838080"/>
          </a:xfrm>
          <a:prstGeom prst="pie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bout s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4800600"/>
            <a:ext cx="76201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we continue to live in sin?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bout the sin that is still in our lives? (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dopting us as His children (Chapter 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600200" y="320040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l Israel is Isra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is sovereign and able to chose whom He wi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vation is offered to all who belie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’s unbelief has resulted in blessings to the Gent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Israel will be sa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Cloud"/>
          <p:cNvSpPr/>
          <p:nvPr/>
        </p:nvSpPr>
        <p:spPr>
          <a:xfrm>
            <a:off x="914400" y="152280"/>
            <a:ext cx="4191120" cy="1371600"/>
          </a:xfrm>
          <a:prstGeom prst="pie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about Isra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320" y="152388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ccffff"/>
                </a:solidFill>
                <a:latin typeface="Arial"/>
              </a:rPr>
              <a:t>How can we see God as righteous when His own chosen people do not believe and receive His promis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4114800" cy="146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hapters 1-11</a:t>
            </a:r>
            <a:br>
              <a:rPr sz="32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octrin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914400"/>
            <a:ext cx="3200400" cy="146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hapters 12-16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actic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Cloud"/>
          <p:cNvSpPr/>
          <p:nvPr/>
        </p:nvSpPr>
        <p:spPr>
          <a:xfrm>
            <a:off x="4114800" y="1595520"/>
            <a:ext cx="1828800" cy="11476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 Wh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2895480"/>
            <a:ext cx="3581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 Urge you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3763800"/>
            <a:ext cx="7315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resent your bodies a living and holy sacri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be conformed to this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transformed by the renewing of your m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1066320"/>
            <a:ext cx="4572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Arial"/>
              </a:rPr>
              <a:t>Galatians</a:t>
            </a:r>
            <a:br>
              <a:rPr sz="6000"/>
            </a:br>
            <a:r>
              <a:rPr b="0" i="1" lang="en-US" sz="4800" spc="-1" strike="noStrike">
                <a:solidFill>
                  <a:srgbClr val="ccffff"/>
                </a:solidFill>
                <a:latin typeface="Arial"/>
              </a:rPr>
              <a:t>Our Freedom in Chris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095880" y="3048120"/>
            <a:ext cx="2140200" cy="3124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Legalism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886200" y="16002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alatian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1143000"/>
            <a:ext cx="2895480" cy="7621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apters 1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1143000"/>
            <a:ext cx="2895840" cy="7621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apters 3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1143000"/>
            <a:ext cx="2895480" cy="7621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apters 5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1905120"/>
            <a:ext cx="2895480" cy="914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1905120"/>
            <a:ext cx="2895840" cy="914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ct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19920" y="1905120"/>
            <a:ext cx="2895480" cy="914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2819520"/>
            <a:ext cx="2895480" cy="259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stleshi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vind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2819520"/>
            <a:ext cx="2895840" cy="259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 is just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 fa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19920" y="2819520"/>
            <a:ext cx="2895480" cy="259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to w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faith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3124440" cy="63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oman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m ref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onate, emo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533520"/>
            <a:ext cx="3429000" cy="63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alatia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1905120"/>
            <a:ext cx="3886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istianity in th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48320" y="1905120"/>
            <a:ext cx="4038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istianity on the battlefie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297180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r Epis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97180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ier Epis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365760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tification by faith set forth systemati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8320" y="365760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tification by faith defended from at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518148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Constit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8320" y="5181480"/>
            <a:ext cx="4038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Declaration of In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alatians 1:1-3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143000" y="990360"/>
            <a:ext cx="69343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, an apostle (no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men nor through the agency of man, but through Jesus Christ and God the Father, who raised Him from the dead)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all the brethren who are with me, To the churches of Galatia: Grace to you and peace from God our Father and the Lord Jesus Christ…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14400" y="838080"/>
            <a:ext cx="716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22480" y="2562120"/>
            <a:ext cx="1523880" cy="44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10080" y="2070000"/>
            <a:ext cx="2743200" cy="44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alatians 1:6-9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143000" y="990360"/>
            <a:ext cx="69343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 am amazed that you are so quickly deserting Him who called you by the grace of Christ, for a different gospel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ich i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al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nother; only there are some who are disturbing you, and want to distort the gospel of Chri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838080"/>
            <a:ext cx="716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alatians 1:8-9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1218960"/>
            <a:ext cx="6400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even if we, or an angel from heaven, should preach to you a gospel contrary to what we have preached to you, he is to be accursed!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s we have said before, so I say again now, if any man is preaching to you a gospel contrary to what you received, he is to be accursed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914400"/>
            <a:ext cx="7620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are some of the “big ideas” presented in Paul’s Epistle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9880" y="68580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aul and Jerusalem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648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’s Gospel did not come from Jerusalem (Chapter 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’s Gospel did not change in Jerusalem (2:1-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’s gospel was not changed by Jerusalem when they came to Antioch (2:11-1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5791320" y="228600"/>
            <a:ext cx="2954160" cy="6324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56" name=""/>
          <p:cNvSpPr/>
          <p:nvPr/>
        </p:nvSpPr>
        <p:spPr>
          <a:xfrm>
            <a:off x="6002640" y="5375160"/>
            <a:ext cx="160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Wingdings"/>
                <a:ea typeface="Wingdings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 Black"/>
              </a:rPr>
              <a:t>Jerusa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086600" y="1311120"/>
            <a:ext cx="127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Wingdings"/>
                <a:ea typeface="Wingdings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 Black"/>
              </a:rPr>
              <a:t>Antio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537360" y="533520"/>
            <a:ext cx="1916640" cy="13737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o 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ewitc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13400" y="1523880"/>
            <a:ext cx="2916360" cy="2653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id you recei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Spirit by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orks of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aw, or 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aring wi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ai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24640" y="4038480"/>
            <a:ext cx="1937880" cy="947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re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 foolis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20600" y="4362480"/>
            <a:ext cx="3720960" cy="18003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aving begun 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Spirit, are yo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ow being perfec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y the fles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8800" y="3112920"/>
            <a:ext cx="2732040" cy="13737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id you suf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 many th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 va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12400" y="1447920"/>
            <a:ext cx="2861280" cy="18003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oes God g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Spirit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iracles by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aw or by Fai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935440" y="438120"/>
            <a:ext cx="3035160" cy="11912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alvation 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rough fai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380880" y="838080"/>
            <a:ext cx="2378880" cy="2120760"/>
            <a:chOff x="380880" y="838080"/>
            <a:chExt cx="2378880" cy="2120760"/>
          </a:xfrm>
        </p:grpSpPr>
        <p:pic>
          <p:nvPicPr>
            <p:cNvPr id="266" name="" descr=""/>
            <p:cNvPicPr/>
            <p:nvPr/>
          </p:nvPicPr>
          <p:blipFill>
            <a:blip r:embed="rId2"/>
            <a:stretch/>
          </p:blipFill>
          <p:spPr>
            <a:xfrm>
              <a:off x="380880" y="838080"/>
              <a:ext cx="133344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885960" y="2133360"/>
              <a:ext cx="1873800" cy="8254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ppeal 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of Abraha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728280" y="3276720"/>
            <a:ext cx="2632320" cy="1815840"/>
            <a:chOff x="728280" y="3276720"/>
            <a:chExt cx="2632320" cy="1815840"/>
          </a:xfrm>
        </p:grpSpPr>
        <p:pic>
          <p:nvPicPr>
            <p:cNvPr id="269" name="" descr=""/>
            <p:cNvPicPr/>
            <p:nvPr/>
          </p:nvPicPr>
          <p:blipFill>
            <a:blip r:embed="rId3"/>
            <a:stretch/>
          </p:blipFill>
          <p:spPr>
            <a:xfrm>
              <a:off x="1734840" y="3276720"/>
              <a:ext cx="162576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728280" y="4267080"/>
              <a:ext cx="1546200" cy="8254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ppeal 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he Law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300640" y="4502160"/>
            <a:ext cx="2532240" cy="1892520"/>
            <a:chOff x="5300640" y="4502160"/>
            <a:chExt cx="2532240" cy="1892520"/>
          </a:xfrm>
        </p:grpSpPr>
        <p:pic>
          <p:nvPicPr>
            <p:cNvPr id="272" name="" descr=""/>
            <p:cNvPicPr/>
            <p:nvPr/>
          </p:nvPicPr>
          <p:blipFill>
            <a:blip r:embed="rId4"/>
            <a:stretch/>
          </p:blipFill>
          <p:spPr>
            <a:xfrm>
              <a:off x="6461280" y="4502160"/>
              <a:ext cx="1371600" cy="12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5300640" y="5569200"/>
              <a:ext cx="1546200" cy="8254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ppeal 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he Tu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6824520" y="3276720"/>
            <a:ext cx="1546200" cy="825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ppeal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do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302920" y="5410080"/>
            <a:ext cx="2172600" cy="119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ppeal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Coven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m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48640" y="2139840"/>
            <a:ext cx="1642320" cy="825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ppeal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riend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668760" y="2514600"/>
            <a:ext cx="1546200" cy="825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ppeal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rip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f you are free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57200" y="1219320"/>
            <a:ext cx="3337560" cy="3898800"/>
            <a:chOff x="457200" y="1219320"/>
            <a:chExt cx="3337560" cy="3898800"/>
          </a:xfrm>
        </p:grpSpPr>
        <p:pic>
          <p:nvPicPr>
            <p:cNvPr id="280" name="" descr=""/>
            <p:cNvPicPr/>
            <p:nvPr/>
          </p:nvPicPr>
          <p:blipFill>
            <a:blip r:embed="rId2"/>
            <a:stretch/>
          </p:blipFill>
          <p:spPr>
            <a:xfrm>
              <a:off x="457200" y="1447920"/>
              <a:ext cx="2590920" cy="36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614880" y="1219320"/>
              <a:ext cx="3179880" cy="8254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Don’t be entangle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in a yoke of bondag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5047560" y="1600200"/>
            <a:ext cx="2547360" cy="1557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on’t turn y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reedom into 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pportunity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fle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926960" y="3581280"/>
            <a:ext cx="3988440" cy="2114640"/>
            <a:chOff x="4926960" y="3581280"/>
            <a:chExt cx="3988440" cy="2114640"/>
          </a:xfrm>
        </p:grpSpPr>
        <p:pic>
          <p:nvPicPr>
            <p:cNvPr id="284" name="" descr=""/>
            <p:cNvPicPr/>
            <p:nvPr/>
          </p:nvPicPr>
          <p:blipFill>
            <a:blip r:embed="rId3"/>
            <a:stretch/>
          </p:blipFill>
          <p:spPr>
            <a:xfrm>
              <a:off x="6096240" y="3581280"/>
              <a:ext cx="281916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926960" y="4114800"/>
              <a:ext cx="1480680" cy="8254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Walk b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he Spiri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3542760" y="5486400"/>
            <a:ext cx="1521720" cy="119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ear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other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urd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73360" y="5029200"/>
            <a:ext cx="1904400" cy="825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hare 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ood th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64200" y="3048120"/>
            <a:ext cx="1783800" cy="825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o good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l 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alatians 6:14-16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371600" y="990720"/>
            <a:ext cx="6400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may it never be that I would boast, except in the cross of our Lord Jesus Christ, through which the world has been crucified to me, and I to the world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neither is circumcision anything, nor uncircumcision, but a new creation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those who will walk by this rule, peace and mercy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on them, and upon the Israel of G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914400"/>
            <a:ext cx="6705720" cy="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iscuss the following questions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438280" y="1905120"/>
            <a:ext cx="6096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has been your own experience in coming to understand the gosp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various errors into which people fall in their understanding of the gosp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514600" y="304920"/>
            <a:ext cx="388620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oup Activ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838080" y="2038320"/>
            <a:ext cx="1295640" cy="1238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1142640"/>
            <a:ext cx="4419720" cy="16002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Foundational Epistl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1640" y="1142640"/>
            <a:ext cx="441972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&amp;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rinth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at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743200"/>
            <a:ext cx="441972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hes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lipp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ss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4343400"/>
            <a:ext cx="4419720" cy="762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&amp;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ssalon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743200"/>
            <a:ext cx="4419720" cy="16002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rison Epist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4343400"/>
            <a:ext cx="4419720" cy="7621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rophetic Epist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5105520"/>
            <a:ext cx="441972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&amp;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imo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lem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5105520"/>
            <a:ext cx="4419720" cy="16002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astoral Epist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81080" y="152280"/>
            <a:ext cx="5105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4081">
                        <a:alpha val="98039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uline Epistl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4081">
                      <a:alpha val="98039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 Black"/>
              </a:rPr>
              <a:t>Roman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“big idea” in the Epistle to the Roma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886200" y="3429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 Black"/>
              </a:rPr>
              <a:t>Roman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ighteousness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3886200" cy="12193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apters 1-8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560" y="2057400"/>
            <a:ext cx="8458200" cy="1371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Righteousness of God has been revealed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91120" y="838080"/>
            <a:ext cx="2286000" cy="12193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apters 9-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838080"/>
            <a:ext cx="2286000" cy="12193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apters 12-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3429000"/>
            <a:ext cx="1600200" cy="2057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udging sin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3429000"/>
            <a:ext cx="2286000" cy="2057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saving belie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3429000"/>
            <a:ext cx="2286000" cy="2057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His dealings with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3429000"/>
            <a:ext cx="2286000" cy="2057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lives of those who follow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6172200" cy="685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ctr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5486400"/>
            <a:ext cx="2286000" cy="685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Cloud"/>
          <p:cNvSpPr/>
          <p:nvPr/>
        </p:nvSpPr>
        <p:spPr>
          <a:xfrm>
            <a:off x="0" y="6019920"/>
            <a:ext cx="2286000" cy="838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bedience of Faith (1: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Cloud"/>
          <p:cNvSpPr/>
          <p:nvPr/>
        </p:nvSpPr>
        <p:spPr>
          <a:xfrm>
            <a:off x="6858000" y="6019920"/>
            <a:ext cx="2286000" cy="838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bedience of Faith (16:2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143000" y="19692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408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verview of Roma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408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 am not ashamed of the gospel…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9907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t is the power of God for salvation to everyone who belie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it the righteousness of God is revea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Cloud"/>
          <p:cNvSpPr/>
          <p:nvPr/>
        </p:nvSpPr>
        <p:spPr>
          <a:xfrm>
            <a:off x="1905120" y="2819520"/>
            <a:ext cx="3886200" cy="2062080"/>
          </a:xfrm>
          <a:prstGeom prst="pie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is the righteousness of God revealed in the gospe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4952880"/>
            <a:ext cx="6400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wrath of God toward those who sin (Romans 1-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grace of God toward those who believe (Romans 4-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09-08-17T11:46:09Z</dcterms:modified>
  <cp:revision>327</cp:revision>
  <dc:subject/>
  <dc:title>Discipleship Across the Lifespan</dc:title>
</cp:coreProperties>
</file>