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D53F-61D8-44A5-B4D1-8E11D5875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38FA-93E0-40CA-8D06-2C9B0AA5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3B10-D080-4A90-A458-80B1D3E8E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8553-A669-474D-A898-A4CD18467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0CF0-D283-4EDC-B94D-38D23859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37C1-20E0-413A-8DC6-C758DBC0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AB01-D47D-40A4-A198-A4E8BCE0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DEF3-89A2-43A9-AE16-8554A446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4838-C85B-46DB-85BF-32BC89D6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E6E9-E17D-436C-8268-32DDAB2E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95FB-BB5C-49A2-B97F-829F9857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2D0B-BC0F-4087-B160-A44661DF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7ED7-638E-44BF-B8AB-1097612E30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 Book of 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50292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752480" y="2057400"/>
            <a:ext cx="5486400" cy="1581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408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Understanding th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408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408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ew Testa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408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2057400"/>
            <a:ext cx="2895480" cy="12193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e are false witn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4522400">
            <a:off x="1676160" y="3733560"/>
            <a:ext cx="2209680" cy="685800"/>
          </a:xfrm>
          <a:prstGeom prst="rightArrow">
            <a:avLst>
              <a:gd name="adj1" fmla="val 50926"/>
              <a:gd name="adj2" fmla="val 96527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4419720"/>
            <a:ext cx="2210040" cy="12189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Your faith is v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2765600">
            <a:off x="3657600" y="5028840"/>
            <a:ext cx="1447920" cy="10666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702" stAng="10800000" swAng="5400000"/>
                <a:lnTo>
                  <a:pt x="12427" y="2458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9700"/>
                </a:lnTo>
                <a:lnTo>
                  <a:pt x="12427" y="9700"/>
                </a:lnTo>
                <a:arcTo wR="5185" hR="2460" stAng="16200000" swAng="-5400000"/>
                <a:lnTo>
                  <a:pt x="7242" y="21600"/>
                </a:lnTo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76920" y="4419720"/>
            <a:ext cx="2895480" cy="12189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Our preaching is v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7043400">
            <a:off x="4875840" y="3200040"/>
            <a:ext cx="2210040" cy="685800"/>
          </a:xfrm>
          <a:prstGeom prst="rightArrow">
            <a:avLst>
              <a:gd name="adj1" fmla="val 50926"/>
              <a:gd name="adj2" fmla="val 96543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2057400"/>
            <a:ext cx="3505320" cy="12193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Not even Christ has been rai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6580200">
            <a:off x="6019200" y="1142640"/>
            <a:ext cx="1219320" cy="106704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067040"/>
              <a:gd name="textAreaBottom" fmla="*/ 10674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702" stAng="10800000" swAng="5400000"/>
                <a:lnTo>
                  <a:pt x="12427" y="2458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9700"/>
                </a:lnTo>
                <a:lnTo>
                  <a:pt x="12427" y="9700"/>
                </a:lnTo>
                <a:arcTo wR="5185" hR="2460" stAng="16200000" swAng="-5400000"/>
                <a:lnTo>
                  <a:pt x="7242" y="21600"/>
                </a:lnTo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010640" cy="9446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f there is no resurrection…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2057400"/>
            <a:ext cx="2895480" cy="12193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e are most to be pit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4522400">
            <a:off x="1676160" y="3733560"/>
            <a:ext cx="2209680" cy="685800"/>
          </a:xfrm>
          <a:prstGeom prst="rightArrow">
            <a:avLst>
              <a:gd name="adj1" fmla="val 50926"/>
              <a:gd name="adj2" fmla="val 96527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4419720"/>
            <a:ext cx="2895480" cy="12189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Dead people stay d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2765600">
            <a:off x="3657600" y="5028840"/>
            <a:ext cx="1447920" cy="10666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702" stAng="10800000" swAng="5400000"/>
                <a:lnTo>
                  <a:pt x="12427" y="2458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9700"/>
                </a:lnTo>
                <a:lnTo>
                  <a:pt x="12427" y="9700"/>
                </a:lnTo>
                <a:arcTo wR="5185" hR="2460" stAng="16200000" swAng="-5400000"/>
                <a:lnTo>
                  <a:pt x="7242" y="21600"/>
                </a:lnTo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4419720"/>
            <a:ext cx="2895480" cy="12189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You are still in your s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7043400">
            <a:off x="4875840" y="3200040"/>
            <a:ext cx="2210040" cy="685800"/>
          </a:xfrm>
          <a:prstGeom prst="rightArrow">
            <a:avLst>
              <a:gd name="adj1" fmla="val 50926"/>
              <a:gd name="adj2" fmla="val 96543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29200" y="2057400"/>
            <a:ext cx="3505320" cy="12193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Your faith is worthl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6580200">
            <a:off x="6019200" y="1142640"/>
            <a:ext cx="1219320" cy="106704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067040"/>
              <a:gd name="textAreaBottom" fmla="*/ 10674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702" stAng="10800000" swAng="5400000"/>
                <a:lnTo>
                  <a:pt x="12427" y="2458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9700"/>
                </a:lnTo>
                <a:lnTo>
                  <a:pt x="12427" y="9700"/>
                </a:lnTo>
                <a:arcTo wR="5185" hR="2460" stAng="16200000" swAng="-5400000"/>
                <a:lnTo>
                  <a:pt x="7242" y="21600"/>
                </a:lnTo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010640" cy="9446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f the dead are not raised…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1 Corinthians 15:20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1295280"/>
            <a:ext cx="6400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now Christ has been raised from the dead, the first fruits of those who are aslee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1143000"/>
            <a:ext cx="708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514600" y="3276720"/>
            <a:ext cx="4114800" cy="2601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1 Corinthians 15:22-2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1295280"/>
            <a:ext cx="6400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since by a ma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am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ath, by a man also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am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surrection of the dead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as in Adam all die, so also in Christ all shall be made al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1143000"/>
            <a:ext cx="708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1 Corinthians 15:23-26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6705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each in his own order: Christ the first fruits, after that those who are Christ’s at His coming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m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nd, when He delivers up the kingdom to the God and Father, when He has abolished all rule and all authority and power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He must reign until He has put all His enemies under His feet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last enemy that will be abolished is dea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1143000"/>
            <a:ext cx="708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5181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Examine Acts 1:8 and see how many observations you can make from this single passage.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095880" y="1219320"/>
            <a:ext cx="2210040" cy="2112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295280" y="533520"/>
            <a:ext cx="358164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oup Projec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are some of the principles for doing ministry that we can take from the book of Acts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886200" y="42670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w can the literary quality of Acts be compared with that of the Gospels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886200" y="37339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re is an emphasis today on numbers: in evangelism, in church membership, and so on. How can this be assessed in light of the Book of Acts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86200" y="37339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o are the preachers of the various sermons found in Acts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886200" y="37339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 what ways are Peter and Stephen different from Paul in their preaching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886200" y="37339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 what ways are Peter, Stephen, and Paul similar in their preaching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86200" y="37339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1 Corinthians 15:3-5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1295280"/>
            <a:ext cx="6400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I delivered to you as of first importance what I also received, that Christ died for our sins according to the Scriptures,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that He was buried, and that He was raised on the third day according to the Scriptures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that He appeared to Cephas, then to the twel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1143000"/>
            <a:ext cx="708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1 Corinthians 15:6-8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1295280"/>
            <a:ext cx="6400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that He appeared to more than five hundred brethren at one time, most of whom remain until now, but some have fallen asleep;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n He appeared to James, then to all the apostles;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last of all, as it were to one untimely born, He appeared to me als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1143000"/>
            <a:ext cx="708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1 Corinthians 15:1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1295280"/>
            <a:ext cx="6400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if Christ is preached, that He has been raised from the dead, how do some among you say that there is no resurrection of the dea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1143000"/>
            <a:ext cx="708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Stevenson</cp:lastModifiedBy>
  <dcterms:modified xsi:type="dcterms:W3CDTF">2009-08-08T21:30:17Z</dcterms:modified>
  <cp:revision>314</cp:revision>
  <dc:subject/>
  <dc:title>Discipleship Across the Lifespan</dc:title>
</cp:coreProperties>
</file>