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wmf" ContentType="image/x-wmf"/>
  <Override PartName="/ppt/media/image1.png" ContentType="image/png"/>
  <Override PartName="/ppt/media/image25.jpeg" ContentType="image/jpeg"/>
  <Override PartName="/ppt/media/image2.png" ContentType="image/png"/>
  <Override PartName="/ppt/media/image10.jpeg" ContentType="image/jpeg"/>
  <Override PartName="/ppt/media/image5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41.jpeg" ContentType="image/jpeg"/>
  <Override PartName="/ppt/media/image8.jpeg" ContentType="image/jpeg"/>
  <Override PartName="/ppt/media/image39.jpeg" ContentType="image/jpeg"/>
  <Override PartName="/ppt/media/image43.wmf" ContentType="image/x-wmf"/>
  <Override PartName="/ppt/media/image40.jpeg" ContentType="image/jpeg"/>
  <Override PartName="/ppt/media/image13.jpeg" ContentType="image/jpeg"/>
  <Override PartName="/ppt/media/image44.wmf" ContentType="image/x-wmf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2.wmf" ContentType="image/x-wmf"/>
  <Override PartName="/ppt/media/image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17C5-4F37-4277-A453-93B1FA78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BD3C-583B-429B-BE5D-0E7CBB4C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37A-8572-4A08-9176-FCB21B23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777-3492-4623-A85E-EC912081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4D4-F543-489D-8CC6-019B05DA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86C-F14A-44A9-A2BF-44E91757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AB04-4F3D-426B-9966-68A6A585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2DC-8AFB-47CB-80C3-3F3495A3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E3D-2709-48C4-B210-1613FBB6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3847-E4BD-44F9-8E25-D3C694D1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0E5-14AF-4805-9DA8-C9BAF459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5FC-5349-436F-A6DD-C4EAD11A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A266-3E16-48EF-BC23-EC976D8FE7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New Testament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52480" y="2057400"/>
            <a:ext cx="5486400" cy="1581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derstanding th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w Testa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876920" y="1523880"/>
            <a:ext cx="4267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ltural interchange from east to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tific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lle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ek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exander’s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05960" y="228600"/>
            <a:ext cx="263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World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lex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445932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512640"/>
            <a:ext cx="9144000" cy="6345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48440" y="543888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Ptole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3960" y="2209680"/>
            <a:ext cx="236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Antigo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the one-ey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0680" y="99072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assa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57560" y="243828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Seleu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52880" y="1447920"/>
            <a:ext cx="157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Black"/>
              </a:rPr>
              <a:t>Lysimach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477120" y="0"/>
            <a:ext cx="2666880" cy="242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tolemy II Philadelph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90560" y="3276360"/>
            <a:ext cx="51051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os Lighthou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y of Alexand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uag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with the Seleuc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512640"/>
            <a:ext cx="9144000" cy="6345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68480" y="5486400"/>
            <a:ext cx="193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Ptole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23623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Antiochus 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43434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Maccabean Revo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512640"/>
            <a:ext cx="9144000" cy="6345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48320" y="23623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Antiochus 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68280" y="4316400"/>
            <a:ext cx="40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Maccabean Revo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38760" y="4800600"/>
            <a:ext cx="378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166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Mattath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Temple liber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wo New Jewish Partie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sidim:  “The Pious One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is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lenists:  Greek influ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dduc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21400" y="0"/>
            <a:ext cx="4422600" cy="6781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76320" y="2590920"/>
            <a:ext cx="4800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issioned to clear the seas of pi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quests in Sy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quest of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itorial arrang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9240" y="762120"/>
            <a:ext cx="2125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ompe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Gr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0"/>
          <a:ext cx="9296280" cy="726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296280" cy="72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583000" y="533412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Ju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75800" y="236232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Decapo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8200" y="327672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Sam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14920" y="0"/>
            <a:ext cx="4422600" cy="6781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07000" cy="6781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34720" y="0"/>
            <a:ext cx="170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om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iv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144000" cy="711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711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Antipater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as Procurato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35160" y="441972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has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1320" y="38088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r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has the New Testament been used by politicians for political gain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-76320" y="0"/>
            <a:ext cx="9677520" cy="6875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477120" y="1828800"/>
            <a:ext cx="2666880" cy="6094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Parth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2120760"/>
            <a:ext cx="3886200" cy="1778040"/>
          </a:xfrm>
          <a:custGeom>
            <a:avLst/>
            <a:gdLst/>
            <a:ahLst/>
            <a:rect l="l" t="t" r="r" b="b"/>
            <a:pathLst>
              <a:path w="2448" h="1120">
                <a:moveTo>
                  <a:pt x="2448" y="8"/>
                </a:moveTo>
                <a:cubicBezTo>
                  <a:pt x="2292" y="8"/>
                  <a:pt x="2136" y="8"/>
                  <a:pt x="2016" y="8"/>
                </a:cubicBezTo>
                <a:cubicBezTo>
                  <a:pt x="1896" y="8"/>
                  <a:pt x="1848" y="0"/>
                  <a:pt x="1728" y="8"/>
                </a:cubicBezTo>
                <a:cubicBezTo>
                  <a:pt x="1608" y="16"/>
                  <a:pt x="1437" y="21"/>
                  <a:pt x="1296" y="56"/>
                </a:cubicBezTo>
                <a:cubicBezTo>
                  <a:pt x="1155" y="91"/>
                  <a:pt x="1006" y="155"/>
                  <a:pt x="883" y="219"/>
                </a:cubicBezTo>
                <a:cubicBezTo>
                  <a:pt x="760" y="283"/>
                  <a:pt x="659" y="349"/>
                  <a:pt x="560" y="442"/>
                </a:cubicBezTo>
                <a:cubicBezTo>
                  <a:pt x="461" y="535"/>
                  <a:pt x="365" y="672"/>
                  <a:pt x="288" y="776"/>
                </a:cubicBezTo>
                <a:cubicBezTo>
                  <a:pt x="211" y="880"/>
                  <a:pt x="144" y="1008"/>
                  <a:pt x="96" y="1064"/>
                </a:cubicBezTo>
                <a:cubicBezTo>
                  <a:pt x="48" y="1120"/>
                  <a:pt x="24" y="1116"/>
                  <a:pt x="0" y="1112"/>
                </a:cubicBezTo>
              </a:path>
            </a:pathLst>
          </a:custGeom>
          <a:noFill/>
          <a:ln w="76320">
            <a:solidFill>
              <a:srgbClr val="66cc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24600" y="4448160"/>
            <a:ext cx="13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Pet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10080" y="-76320"/>
            <a:ext cx="3714840" cy="7086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-291960" y="0"/>
            <a:ext cx="57466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311880" y="563868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c Anto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80920" y="63738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Octav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erod the Grea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 - 4 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-762120" y="0"/>
            <a:ext cx="10668240" cy="6867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5867280"/>
            <a:ext cx="4267080" cy="76212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Zerubbabel’s Te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-685800" y="0"/>
            <a:ext cx="10591920" cy="6805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880" y="6019920"/>
            <a:ext cx="4267440" cy="76176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eleucid Ad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-838080" y="0"/>
            <a:ext cx="10744200" cy="6916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6099120"/>
            <a:ext cx="4267080" cy="76212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Hasmonean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-914400" y="0"/>
            <a:ext cx="10820520" cy="6939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3520" y="6099120"/>
            <a:ext cx="4267080" cy="76212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Herod’s Te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4344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262920" y="239760"/>
            <a:ext cx="212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nton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ortr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516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5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13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417840" y="62974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r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62120" y="55440"/>
            <a:ext cx="7162560" cy="6802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010280" cy="694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1036440"/>
            <a:ext cx="71629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the big idea of the New Testamen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079880" y="0"/>
            <a:ext cx="5064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850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95480" y="944640"/>
            <a:ext cx="168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s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-838080" y="0"/>
            <a:ext cx="10439280" cy="6783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09480" y="-318960"/>
            <a:ext cx="7772400" cy="717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75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28600" y="5867280"/>
            <a:ext cx="2286000" cy="533520"/>
          </a:xfrm>
          <a:prstGeom prst="rect">
            <a:avLst/>
          </a:prstGeom>
          <a:solidFill>
            <a:srgbClr val="00b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es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3088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248520" y="1143000"/>
            <a:ext cx="3200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ken st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154400" y="0"/>
            <a:ext cx="49896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9677520" cy="6354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31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495680" y="3409920"/>
            <a:ext cx="4038840" cy="30290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rod’s Domestic Troubl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better to be Herod’s 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u`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 to be Herod’s 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ui`o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0880"/>
            <a:ext cx="563904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Big Idea of the Old Testament is that Yahweh is Lor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3581280"/>
            <a:ext cx="563904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Big Idea of the New Testament is that Jesus is L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7105680" cy="4077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405600" y="527040"/>
            <a:ext cx="221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rchela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0" y="17640"/>
          <a:ext cx="9524880" cy="6953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640"/>
                    <a:ext cx="9524880" cy="69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0" y="0"/>
          <a:ext cx="9829800" cy="6981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82980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erod Antipa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alilee &amp; Pe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3623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etrarch:  “Ruler of a fourth par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tipas &amp; Herod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124080" y="152280"/>
            <a:ext cx="2971800" cy="6098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rod the Gr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320" y="1295280"/>
            <a:ext cx="20574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cc"/>
              </a:gs>
              <a:gs pos="100000">
                <a:srgbClr val="5e00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iamne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1295280"/>
            <a:ext cx="20574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cc"/>
              </a:gs>
              <a:gs pos="100000">
                <a:srgbClr val="5e00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iamne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12952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cc"/>
              </a:gs>
              <a:gs pos="100000">
                <a:srgbClr val="5e00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lth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04920" y="1905120"/>
            <a:ext cx="2209680" cy="1904400"/>
            <a:chOff x="304920" y="1905120"/>
            <a:chExt cx="2209680" cy="1904400"/>
          </a:xfrm>
        </p:grpSpPr>
        <p:sp>
          <p:nvSpPr>
            <p:cNvPr id="169" name=""/>
            <p:cNvSpPr/>
            <p:nvPr/>
          </p:nvSpPr>
          <p:spPr>
            <a:xfrm>
              <a:off x="609840" y="2361960"/>
              <a:ext cx="1828800" cy="609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lexand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840" y="3200400"/>
              <a:ext cx="1904760" cy="60912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ristobulu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920" y="1905120"/>
              <a:ext cx="0" cy="159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4920" y="350496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4920" y="266688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 flipV="1">
            <a:off x="990720" y="9907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572000" y="76176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924680" y="9907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990720"/>
            <a:ext cx="6933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0" y="1905120"/>
            <a:ext cx="2209320" cy="1904400"/>
            <a:chOff x="4572000" y="1905120"/>
            <a:chExt cx="2209320" cy="1904400"/>
          </a:xfrm>
        </p:grpSpPr>
        <p:sp>
          <p:nvSpPr>
            <p:cNvPr id="179" name=""/>
            <p:cNvSpPr/>
            <p:nvPr/>
          </p:nvSpPr>
          <p:spPr>
            <a:xfrm>
              <a:off x="4876560" y="2361960"/>
              <a:ext cx="1828440" cy="609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rchelau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76560" y="3200400"/>
              <a:ext cx="1904760" cy="60912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p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1905120"/>
              <a:ext cx="0" cy="159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72000" y="350496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266688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04920" y="4191120"/>
            <a:ext cx="6324480" cy="1066320"/>
            <a:chOff x="304920" y="4191120"/>
            <a:chExt cx="6324480" cy="1066320"/>
          </a:xfrm>
        </p:grpSpPr>
        <p:sp>
          <p:nvSpPr>
            <p:cNvPr id="185" name=""/>
            <p:cNvSpPr/>
            <p:nvPr/>
          </p:nvSpPr>
          <p:spPr>
            <a:xfrm>
              <a:off x="2743200" y="4647960"/>
              <a:ext cx="1752840" cy="609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grippa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53240" y="464796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Herodi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4920" y="4647960"/>
              <a:ext cx="1981080" cy="609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ristobulu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95640" y="419112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81640" y="419112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419112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95640" y="4191120"/>
              <a:ext cx="441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514600" y="3200400"/>
            <a:ext cx="1676520" cy="990360"/>
            <a:chOff x="2514600" y="3200400"/>
            <a:chExt cx="1676520" cy="990360"/>
          </a:xfrm>
        </p:grpSpPr>
        <p:sp>
          <p:nvSpPr>
            <p:cNvPr id="193" name=""/>
            <p:cNvSpPr/>
            <p:nvPr/>
          </p:nvSpPr>
          <p:spPr>
            <a:xfrm>
              <a:off x="2819520" y="3200400"/>
              <a:ext cx="1371600" cy="609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ern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14600" y="350496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67240" y="350496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019920" y="1905120"/>
            <a:ext cx="2818800" cy="4723920"/>
            <a:chOff x="6019920" y="1905120"/>
            <a:chExt cx="2818800" cy="4723920"/>
          </a:xfrm>
        </p:grpSpPr>
        <p:sp>
          <p:nvSpPr>
            <p:cNvPr id="197" name=""/>
            <p:cNvSpPr/>
            <p:nvPr/>
          </p:nvSpPr>
          <p:spPr>
            <a:xfrm>
              <a:off x="7086240" y="4647960"/>
              <a:ext cx="1752480" cy="609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Phili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4680" y="1905120"/>
              <a:ext cx="0" cy="27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6628680" y="4952880"/>
              <a:ext cx="456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19920" y="6019560"/>
              <a:ext cx="1752120" cy="609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Salom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7640" y="4952880"/>
              <a:ext cx="0" cy="106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erod Antipa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7804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alilee &amp; Pe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362320"/>
            <a:ext cx="8153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etrarch:  “Ruler of a fourth par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tipas &amp; Herod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358128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John the Bapt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ater fate of Antip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4419720" cy="83844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harise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51920" y="990360"/>
            <a:ext cx="441972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d on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152280"/>
            <a:ext cx="4419720" cy="83844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adduce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990720"/>
            <a:ext cx="441972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eous on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1600200"/>
            <a:ext cx="44197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d to authority of entire Old Testament as well as oral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1600200"/>
            <a:ext cx="44197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ed the Torah as having the greater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200400"/>
            <a:ext cx="441972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d in miracles, angels, immort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3200400"/>
            <a:ext cx="441972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jected miracles, angels, immort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4343400"/>
            <a:ext cx="441972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d in future resur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4343400"/>
            <a:ext cx="441972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ied any life after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5486400"/>
            <a:ext cx="441972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r in the synagog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5486400"/>
            <a:ext cx="441972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d in the Te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Religious Sects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240" y="1892160"/>
            <a:ext cx="7504200" cy="14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isees:  Separat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dducees:  Liberal pa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3124080"/>
            <a:ext cx="70866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senes:  Communal Separat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alots:  Nationa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" y="1471320"/>
            <a:ext cx="2438640" cy="1469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Gospel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4280" y="2943360"/>
            <a:ext cx="3657600" cy="73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2920" y="1471680"/>
            <a:ext cx="1218960" cy="1469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1880" y="1471680"/>
            <a:ext cx="2743200" cy="1469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Epist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45080" y="1471680"/>
            <a:ext cx="2667240" cy="1469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ve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01880" y="2943360"/>
            <a:ext cx="2743200" cy="73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5080" y="2943360"/>
            <a:ext cx="2667240" cy="73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80" y="3681360"/>
            <a:ext cx="243864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ory of Je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01880" y="3681360"/>
            <a:ext cx="13716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istles of Pa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45080" y="3681360"/>
            <a:ext cx="266724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ocalyptic Lit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2920" y="3681360"/>
            <a:ext cx="121896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Chu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3480" y="3681360"/>
            <a:ext cx="13716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280" y="4824360"/>
            <a:ext cx="3657600" cy="738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1880" y="4824360"/>
            <a:ext cx="2743200" cy="738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5080" y="4824360"/>
            <a:ext cx="2667240" cy="738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52480" y="609480"/>
            <a:ext cx="5181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3b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ew Testament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167360" y="0"/>
            <a:ext cx="49766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17120" y="1828800"/>
            <a:ext cx="235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lexa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Gr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1139760"/>
            <a:ext cx="9144000" cy="457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340440" y="579132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saic in Pompe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0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09-07-27T03:05:04Z</dcterms:modified>
  <cp:revision>267</cp:revision>
  <dc:subject/>
  <dc:title>Discipleship Across the Lifespan</dc:title>
</cp:coreProperties>
</file>