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27.png" ContentType="image/png"/>
  <Override PartName="/ppt/media/image30.wmf" ContentType="image/x-wmf"/>
  <Override PartName="/ppt/media/image34.wmf" ContentType="image/x-wmf"/>
  <Override PartName="/ppt/media/image35.wmf" ContentType="image/x-wmf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41.jpeg" ContentType="image/jpeg"/>
  <Override PartName="/ppt/media/image42.png" ContentType="image/png"/>
  <Override PartName="/ppt/media/image43.png" ContentType="image/png"/>
  <Override PartName="/ppt/media/image32.wmf" ContentType="image/x-wmf"/>
  <Override PartName="/ppt/media/image12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40.wmf" ContentType="image/x-wmf"/>
  <Override PartName="/ppt/media/image7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8.jpeg" ContentType="image/jpe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648-D509-483B-8CDB-AB3C302E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883-E833-420E-A191-4A2DE905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043-2270-4924-A2A4-E92482C5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98F-7EFE-4B9F-89BB-6059EB5A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C05-0B81-4A2B-B8C2-2DA3973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A62-F895-4AA9-BFF1-C26EDF1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7D4-C039-42A7-9C0D-25DF8F9E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D88-FA5B-415B-B030-06238C9C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C4D-5840-435C-AED5-5D839B32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3CA-5285-45EB-A259-9D4BC53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D1C-B591-4F87-B41A-626C612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9DC-06B3-440D-B5EE-56B69FC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4A5-90BA-448C-B646-DBA338902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815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icah &amp; Nah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udgment &amp;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2057400"/>
            <a:ext cx="57200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inor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415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ps by David P. Barrett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04920" y="152280"/>
            <a:ext cx="15620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mar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ell it not in Gath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91120" y="144756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r beauty, O Israel, is slain on your high plac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the mighty fall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ll it not in Gat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laim it not in the streets of Ashkel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t the daughters of the Philistines rejoi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t the daughters of the uncircumcised ex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Samuel 1:19-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144792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 it not in Ga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ep not at all (Micah 1:10a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143000"/>
            <a:ext cx="7086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525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76520" y="2438280"/>
            <a:ext cx="2819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it not in Ga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p not at 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Beth-le-aphrah roll yourself in the du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9280" y="4572000"/>
            <a:ext cx="3027600" cy="58140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use of Du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29718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1752480"/>
            <a:ext cx="16765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on your way, inhabitant of Shaphir, in shameful naked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habitant of Zaanan does not esca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mentation of Beth-ez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ake from you its supp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7200" y="5181480"/>
            <a:ext cx="1716840" cy="58140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au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28600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895480"/>
            <a:ext cx="160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92640" y="2362320"/>
            <a:ext cx="15238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1407"/>
              </a:gs>
              <a:gs pos="100000">
                <a:srgbClr val="4109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on your way, inhabitant of Shaphir, in shameful naked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habitant of Zaanan does not esca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mentation of Beth-ez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ake from you its supp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391520" y="1371600"/>
            <a:ext cx="1461600" cy="900000"/>
            <a:chOff x="7391520" y="1371600"/>
            <a:chExt cx="1461600" cy="900000"/>
          </a:xfrm>
        </p:grpSpPr>
        <p:sp>
          <p:nvSpPr>
            <p:cNvPr id="129" name=""/>
            <p:cNvSpPr/>
            <p:nvPr/>
          </p:nvSpPr>
          <p:spPr>
            <a:xfrm>
              <a:off x="7391520" y="1371600"/>
              <a:ext cx="144756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f1407"/>
                </a:gs>
                <a:gs pos="100000">
                  <a:srgbClr val="4109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7619760" y="1371600"/>
            <a:ext cx="1233360" cy="9000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19760" y="1371600"/>
                      <a:ext cx="123336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2" name=""/>
          <p:cNvSpPr/>
          <p:nvPr/>
        </p:nvSpPr>
        <p:spPr>
          <a:xfrm flipV="1">
            <a:off x="5803920" y="2057400"/>
            <a:ext cx="1752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4952880"/>
            <a:ext cx="3352680" cy="1143000"/>
            <a:chOff x="685800" y="4952880"/>
            <a:chExt cx="3352680" cy="1143000"/>
          </a:xfrm>
        </p:grpSpPr>
        <p:sp>
          <p:nvSpPr>
            <p:cNvPr id="134" name=""/>
            <p:cNvSpPr/>
            <p:nvPr/>
          </p:nvSpPr>
          <p:spPr>
            <a:xfrm>
              <a:off x="685800" y="4952880"/>
              <a:ext cx="335268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00"/>
                </a:gs>
                <a:gs pos="100000">
                  <a:srgbClr val="17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219320" y="5028840"/>
            <a:ext cx="2514600" cy="10018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5028840"/>
                      <a:ext cx="251460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143000" y="32767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8320" y="3352680"/>
            <a:ext cx="1904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on your way, inhabitant of Shaphir, in shameful naked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habitant of Zaanan does not esca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mentation of Beth-ez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ake from you its suppor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581280" y="5029200"/>
            <a:ext cx="4496040" cy="914400"/>
            <a:chOff x="3581280" y="5029200"/>
            <a:chExt cx="4496040" cy="914400"/>
          </a:xfrm>
        </p:grpSpPr>
        <p:sp>
          <p:nvSpPr>
            <p:cNvPr id="143" name=""/>
            <p:cNvSpPr/>
            <p:nvPr/>
          </p:nvSpPr>
          <p:spPr>
            <a:xfrm>
              <a:off x="3809880" y="5029200"/>
              <a:ext cx="3962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510552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House of joining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639040" y="365760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1992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199297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2438280"/>
            <a:ext cx="1600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219320"/>
            <a:ext cx="14475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inhabitant of Maro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s weak waiting for go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a calamity has come down from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gate of Jerusa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29200" y="4483080"/>
            <a:ext cx="3429000" cy="699480"/>
            <a:chOff x="5029200" y="4483080"/>
            <a:chExt cx="3429000" cy="699480"/>
          </a:xfrm>
        </p:grpSpPr>
        <p:sp>
          <p:nvSpPr>
            <p:cNvPr id="152" name=""/>
            <p:cNvSpPr/>
            <p:nvPr/>
          </p:nvSpPr>
          <p:spPr>
            <a:xfrm>
              <a:off x="5203440" y="4483080"/>
              <a:ext cx="3021840" cy="68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453996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Bitterness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410440" y="1600200"/>
            <a:ext cx="1828080" cy="396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1992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199297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57400" y="4572000"/>
            <a:ext cx="1263960" cy="1066680"/>
            <a:chOff x="2057400" y="4572000"/>
            <a:chExt cx="1263960" cy="1066680"/>
          </a:xfrm>
        </p:grpSpPr>
        <p:sp>
          <p:nvSpPr>
            <p:cNvPr id="156" name=""/>
            <p:cNvSpPr/>
            <p:nvPr/>
          </p:nvSpPr>
          <p:spPr>
            <a:xfrm>
              <a:off x="2057400" y="4724280"/>
              <a:ext cx="9907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3200" y="4572000"/>
              <a:ext cx="111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[r'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30400" y="3441600"/>
            <a:ext cx="4800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inhabitant of Maro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s weak waiting for go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a calamity has come down from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gate of Jerusa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09680" y="4572000"/>
            <a:ext cx="5410440" cy="1066680"/>
            <a:chOff x="2209680" y="4572000"/>
            <a:chExt cx="5410440" cy="1066680"/>
          </a:xfrm>
        </p:grpSpPr>
        <p:sp>
          <p:nvSpPr>
            <p:cNvPr id="163" name=""/>
            <p:cNvSpPr/>
            <p:nvPr/>
          </p:nvSpPr>
          <p:spPr>
            <a:xfrm>
              <a:off x="2209680" y="4572000"/>
              <a:ext cx="54104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2971800" y="4648320"/>
            <a:ext cx="4419720" cy="9442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4648320"/>
                      <a:ext cx="4419720" cy="94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2336760"/>
            <a:ext cx="1752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765440"/>
            <a:ext cx="1447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1295280"/>
            <a:ext cx="2209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chariot to the team of hors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nhabitant of Lachish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was the beginning of s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daughter of Zion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n you were f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bellious acts of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0280" y="1981080"/>
            <a:ext cx="1676520" cy="990720"/>
            <a:chOff x="7010280" y="1981080"/>
            <a:chExt cx="1676520" cy="990720"/>
          </a:xfrm>
        </p:grpSpPr>
        <p:sp>
          <p:nvSpPr>
            <p:cNvPr id="173" name=""/>
            <p:cNvSpPr/>
            <p:nvPr/>
          </p:nvSpPr>
          <p:spPr>
            <a:xfrm>
              <a:off x="7010280" y="1981080"/>
              <a:ext cx="167652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9b2"/>
                </a:gs>
                <a:gs pos="100000">
                  <a:srgbClr val="14295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7162920" y="2057400"/>
            <a:ext cx="1515960" cy="809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62920" y="2057400"/>
                      <a:ext cx="151596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"/>
          <p:cNvGrpSpPr/>
          <p:nvPr/>
        </p:nvGrpSpPr>
        <p:grpSpPr>
          <a:xfrm>
            <a:off x="6934320" y="3657600"/>
            <a:ext cx="1752480" cy="1143000"/>
            <a:chOff x="6934320" y="3657600"/>
            <a:chExt cx="1752480" cy="1143000"/>
          </a:xfrm>
        </p:grpSpPr>
        <p:sp>
          <p:nvSpPr>
            <p:cNvPr id="177" name=""/>
            <p:cNvSpPr/>
            <p:nvPr/>
          </p:nvSpPr>
          <p:spPr>
            <a:xfrm>
              <a:off x="6934320" y="3657600"/>
              <a:ext cx="175248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7086600" y="3809880"/>
            <a:ext cx="1447920" cy="890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86600" y="3809880"/>
                      <a:ext cx="1447920" cy="8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05320" y="1839960"/>
            <a:ext cx="30477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you will give parting gif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behalf of Moresheth-gat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es of Achzib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a dece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kings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4648320"/>
            <a:ext cx="4724640" cy="642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ossession of Gat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of the LORD which ca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ah of Moresheth in the days of Jotham, Aha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zekiah, kings of Judah, which he saw concerning Samaria and Jerusa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4702320"/>
            <a:ext cx="22096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1839960"/>
            <a:ext cx="30477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you will give parting gif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behalf of Moresheth-gat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es of Achzib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a dece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kings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reover, I will bring o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who takes possess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nhabitant of Maresha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 of Israel will enter Adull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289548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32200" y="2438280"/>
            <a:ext cx="1371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you will give parting gif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behalf of Moresheth-gat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es of Achzib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a dece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kings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reover, I will bring o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who takes possess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inhabitant of Maresha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 of Israel will enter Adull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172200" y="2971800"/>
            <a:ext cx="1600200" cy="762120"/>
            <a:chOff x="6172200" y="2971800"/>
            <a:chExt cx="1600200" cy="762120"/>
          </a:xfrm>
        </p:grpSpPr>
        <p:sp>
          <p:nvSpPr>
            <p:cNvPr id="196" name=""/>
            <p:cNvSpPr/>
            <p:nvPr/>
          </p:nvSpPr>
          <p:spPr>
            <a:xfrm>
              <a:off x="6172200" y="3048120"/>
              <a:ext cx="16002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6324480" y="2971800"/>
            <a:ext cx="1295640" cy="7174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24480" y="2971800"/>
                      <a:ext cx="12956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76320" y="3886200"/>
            <a:ext cx="1447560" cy="837720"/>
            <a:chOff x="76320" y="3886200"/>
            <a:chExt cx="1447560" cy="837720"/>
          </a:xfrm>
        </p:grpSpPr>
        <p:sp>
          <p:nvSpPr>
            <p:cNvPr id="200" name=""/>
            <p:cNvSpPr/>
            <p:nvPr/>
          </p:nvSpPr>
          <p:spPr>
            <a:xfrm>
              <a:off x="76320" y="3962160"/>
              <a:ext cx="14475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1" name=""/>
            <p:cNvGraphicFramePr/>
            <p:nvPr/>
          </p:nvGraphicFramePr>
          <p:xfrm>
            <a:off x="228240" y="3886200"/>
            <a:ext cx="1293480" cy="7696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240" y="3886200"/>
                      <a:ext cx="1293480" cy="76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ell it not in Tellingt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ail not in Wail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ust Manor will eat dir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essy Town will flee na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afefold will not sa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lchester's walls are dow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bitter dose drinks Bitter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ward Jerusalem, City of Peac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Lord sends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rness the war-stee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 men of Barstea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on's beginning of sinn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qual to Israel's cr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 Welfare a last farewel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r Trapping trapped Israel's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ade is browbeaten by Broward County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e wise avoid Miami’s Vice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homeless stay in Homestead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stead of Fort Lauderdale’s louder fail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judgment’s hails.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lton Manors have guilty manner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Davie’s workers call for lazy shirker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the sun sets in Sunris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2286000" y="1371600"/>
          <a:ext cx="1379232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0" y="1371600"/>
                    <a:ext cx="137923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 txBox="1"/>
          <p:nvPr/>
        </p:nvSpPr>
        <p:spPr>
          <a:xfrm>
            <a:off x="3429000" y="68580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cah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2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vet fields and then seiz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ouses, and tak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ob a man and his hou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and his inherit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2:8-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ntly My people have arisen as an enemy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trip the robe off the gar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unsuspecting passers-b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returned from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omen of My people you evic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r pleasant ho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her children you take My splendor forev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2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urely assemble all of you, Jaco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urely gather the remnant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ut them together like sheep in the fol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flock in the midst of its pas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noisy with me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304920"/>
            <a:ext cx="12189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2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aker goes up before them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reak out, pass through the gate and go out by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ir king goes on before th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LORD at their hea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304920"/>
            <a:ext cx="12189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said, “Hear now, heads of Jac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ulers of the house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not for you to know just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who hate good and love evi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ear off their skin from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ir flesh from their bon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0"/>
            <a:ext cx="3048120" cy="304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76320"/>
            <a:ext cx="2438640" cy="1600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96-767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0"/>
            <a:ext cx="2438280" cy="990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98-782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990720"/>
            <a:ext cx="2438280" cy="1676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oboam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93-753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80880"/>
            <a:ext cx="152280" cy="6098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2438640" cy="1981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ar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Uzzi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90-740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533520"/>
            <a:ext cx="152640" cy="1143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1066680" cy="8380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05120"/>
            <a:ext cx="1066680" cy="457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828800"/>
            <a:ext cx="1066680" cy="68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666880"/>
            <a:ext cx="2438280" cy="38124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char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-76320"/>
            <a:ext cx="2438640" cy="152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86600" y="22860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22860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743200"/>
            <a:ext cx="152640" cy="9144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3657600"/>
            <a:ext cx="2438640" cy="14479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50-731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819520"/>
            <a:ext cx="1371600" cy="38088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124080"/>
            <a:ext cx="2438280" cy="53352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505320"/>
            <a:ext cx="2362320" cy="30456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kha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733920"/>
            <a:ext cx="2209680" cy="129528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42-732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572000"/>
            <a:ext cx="1066680" cy="685800"/>
          </a:xfrm>
          <a:prstGeom prst="irregularSeal1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952880"/>
            <a:ext cx="2209680" cy="914400"/>
          </a:xfrm>
          <a:prstGeom prst="roundRect">
            <a:avLst>
              <a:gd name="adj" fmla="val 16667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732-721 B.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410080" y="4724280"/>
            <a:ext cx="2438640" cy="1523880"/>
            <a:chOff x="5410080" y="4724280"/>
            <a:chExt cx="2438640" cy="1523880"/>
          </a:xfrm>
        </p:grpSpPr>
        <p:sp>
          <p:nvSpPr>
            <p:cNvPr id="72" name=""/>
            <p:cNvSpPr/>
            <p:nvPr/>
          </p:nvSpPr>
          <p:spPr>
            <a:xfrm>
              <a:off x="5410080" y="4724280"/>
              <a:ext cx="152640" cy="38088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5105160"/>
              <a:ext cx="2438640" cy="1143000"/>
            </a:xfrm>
            <a:prstGeom prst="rect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haz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735-715 B.C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3733920"/>
            <a:ext cx="1066680" cy="3124080"/>
          </a:xfrm>
          <a:prstGeom prst="rect">
            <a:avLst/>
          </a:prstGeom>
          <a:blipFill rotWithShape="0">
            <a:blip r:embed="rId2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648320"/>
            <a:ext cx="1066680" cy="1752480"/>
          </a:xfrm>
          <a:prstGeom prst="rect">
            <a:avLst/>
          </a:prstGeom>
          <a:blipFill rotWithShape="0">
            <a:blip r:embed="rId2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6172200"/>
            <a:ext cx="2438640" cy="685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zek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p off their skin from the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their bon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hop them up as for the p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s meat in a ke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971800" y="11426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 says the LORD concerning the prophets who lead my people astray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h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th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ite with their tee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ry, "Peace,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gainst him who puts nothing in their mou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clare holy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08440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971800" y="11426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will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for you-- without vis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arkness for you-- without divin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will go down on the prophe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day will become dark over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08440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971800" y="11426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ers will be asham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diviners will be embarras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, they will all cov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re is no answer from Go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08440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812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other hand I am filled with power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Spirit of the LORD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 justice and cou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known to Jacob his rebellious ac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o Israel his s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084400" cy="472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hear this, heads of the house of Jac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ulers of the house of Israe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bhor just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wist everything that is straight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build Zion with bloods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rusalem with violent injus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91440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leaders pronounce judgment for a brib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priests instruct for a pri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r prophets divine for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they lean on the LORD say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LORD in our mid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amity will not come upon u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1440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3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on account of yo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on will be plowed as a fiel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will become a heap of rui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mountain of the temple will become high places of a fores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914400"/>
            <a:ext cx="762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6095880" cy="230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will come about in the last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 mountain of the house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established as the chief of the mount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be raised above the hill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oples will stream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228760"/>
            <a:ext cx="586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Mountain The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ntain of God” (Exodus 3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ng of M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352680"/>
            <a:ext cx="7772400" cy="30186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You wilt bring them and plant them in the mountain of Your inherita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e place, O Lord, which You have made for Your dwelli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e sanctuary, O Lord, which Your hands have established. (Exodus 15:17)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5880" y="2819520"/>
            <a:ext cx="2971800" cy="342900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 of future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2819520"/>
            <a:ext cx="2971800" cy="342900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 of future g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819520"/>
            <a:ext cx="2971800" cy="342900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 of eventual re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2971800" cy="8571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cah 1-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2971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Ora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33520"/>
            <a:ext cx="2971800" cy="8571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cah 3-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533520"/>
            <a:ext cx="2971800" cy="85716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cah 6-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371600"/>
            <a:ext cx="2971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ra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371600"/>
            <a:ext cx="29718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ra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819520"/>
            <a:ext cx="2362320" cy="167616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f idola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819520"/>
            <a:ext cx="2210040" cy="167616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against ru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819520"/>
            <a:ext cx="2057400" cy="167616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against dis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Mountain The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ntain of God” (Exodus 3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ng of M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ntain of God and the Covering Cherub (Ezekiel 28:14-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ny nations will come and s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and let us go up to the mountain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the house of the God of Jaco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He may teach us about His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at we may walk in His path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rom Zion will go forth the law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word of the LORD from Jerusa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judge between many peo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nder decisions for mighty, distant 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will hammer their swords into plowsh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ir spears into pruning h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 will not lift up sword against na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never again will they train for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80880" y="1828800"/>
          <a:ext cx="8491680" cy="5189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849168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 txBox="1"/>
          <p:nvPr/>
        </p:nvSpPr>
        <p:spPr>
          <a:xfrm>
            <a:off x="1371600" y="609480"/>
            <a:ext cx="6324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romise of Prosper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6-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at day,” declares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assemble the l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ather the outcas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se whom I have afflict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ill make the lame a remn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outcasts a strong nat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LORD will reign over them in Mount Z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now on and forever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why do you cry out loudl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no king among yo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as your counselor perish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gony has gripped you like a woman in childbirth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4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he and labor to give bir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of Z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 woman in childbirt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ow you will go out of the c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ell in the fie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o to Babyl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you will be rescu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the LORD will redeem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hand of your enem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5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you, Bethlehem Ephratha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little to be among the clans of Juda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you One will go forth for Me to be ruler in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goings forth are from long ag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5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He will give the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the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he who is in labor has borne a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remainder of His brethr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return to the sons of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5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arise and shephe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floc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trength of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ajesty of the name of the LORD His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will remai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at that time He will be gr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ends of the ear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, O peoples, all of you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, O earth and all it contai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the Lord God be a witness against you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from His holy te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behold, the LORD is coming forth from Hi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come down and tread on the high places of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6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hat shall I come to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ow myself before the God on hi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I come to Him with burnt offering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yearling cal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6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LORD take delight in thousands of ram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en thousand rivers of o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ll I present my first-born for my rebellious ac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uit of my body for the sin of my so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6: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told you, O man, what is goo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at does the LORD require of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o do justice, to love kindnes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walk humbly with your God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 is after a personal commitment to imitation rather than a public display of affection (Page 64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2212920" cy="335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ways the church can address specific social issues found in the Minor Prophe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038480" y="6858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7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a God like Thee, who pardons ini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asses over the rebellious act of the remnant of His poss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oes not retain His anger forev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He delights in unchanging l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7:19-2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7632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again have compassion on 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tread our iniquities under fo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ou wilt cast all their sins Into the depths of the 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ou wilt give truth to Jac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unchanging love to Abraha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ou didst swear to our foref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days of ol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Prophet of Nineveh’s De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00400" y="2286000"/>
            <a:ext cx="2709720" cy="97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h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381880" cy="452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untains will melt under Hi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valleys will be spli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wax before the fi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water poured down a steep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ahum and Jon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focus upon Assyria and their capital city of Nineve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ontain prophecies of Nineveh's destr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Nahum and Jonah close their books with a qu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acle of Nineve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the vision of Nahum the Elkoshit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ealous and avenging God is the LOR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avenging and wrath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takes vengeance on His adversari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reserves wrath for His enemi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1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slow to anger and great in pow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LORD will by no means le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uilt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unish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irlwind and storm is His w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louds are the dust beneath His f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106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267080" y="4952880"/>
            <a:ext cx="2057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Nahum means “comfort”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will come about that all who see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hrink from you and s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veh is devasta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ill grieve for h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ill I seek comforters for you?” (Nahum 3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267080" y="5638680"/>
            <a:ext cx="4191120" cy="1099440"/>
            <a:chOff x="4267080" y="5638680"/>
            <a:chExt cx="4191120" cy="1099440"/>
          </a:xfrm>
        </p:grpSpPr>
        <p:sp>
          <p:nvSpPr>
            <p:cNvPr id="328" name=""/>
            <p:cNvSpPr/>
            <p:nvPr/>
          </p:nvSpPr>
          <p:spPr>
            <a:xfrm>
              <a:off x="4800600" y="5867280"/>
              <a:ext cx="350532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7080" y="5638680"/>
              <a:ext cx="2514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~x;n"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1320" y="588024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Nacham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-228600"/>
          <a:ext cx="7772400" cy="708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-228600"/>
                    <a:ext cx="777240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133720" y="1905120"/>
            <a:ext cx="61722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4440" y="457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Lord is good,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stronghold in the day of trouble,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d He knows those who take refuge in Him. (Nahum 1:7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9320" y="68580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p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95280" y="16765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the boo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95280" y="22860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Nah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90720" y="16765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 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25909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776920" y="16765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 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37320" y="2590920"/>
            <a:ext cx="24159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u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2133720"/>
            <a:ext cx="2210040" cy="685800"/>
          </a:xfrm>
          <a:prstGeom prst="leftRightArrow">
            <a:avLst>
              <a:gd name="adj1" fmla="val 50000"/>
              <a:gd name="adj2" fmla="val 64153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048120" y="838080"/>
            <a:ext cx="2925720" cy="439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990720" y="16765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 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66680" y="25909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776920" y="1676520"/>
            <a:ext cx="22240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 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737320" y="2590920"/>
            <a:ext cx="241596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u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666880" y="4876920"/>
            <a:ext cx="381024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iti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Lessons from Nahum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is concerned with politics and political happen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d takes it seriously when anyone hurts His 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God shows compassion, He demands that compassion is shown to othe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s is for the rebellion of Jac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r the sins of the house of Isra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rebellion of Jacob?  Is it not Sama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high place of Judah? Is it not Jerusal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Lessons from Nahum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ce is able to reign even in the setting of judg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3720" y="1828440"/>
            <a:ext cx="4876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re the specific sins for which God’s judgment is said to com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38280" y="380880"/>
            <a:ext cx="4191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4114800"/>
            <a:ext cx="25909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a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7086600" y="762120"/>
            <a:ext cx="1523880" cy="1457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066680" y="422928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5257800"/>
            <a:ext cx="25909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ah 4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9880" y="533412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4114800"/>
            <a:ext cx="25905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h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629400" y="4229280"/>
            <a:ext cx="1371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523880" cy="145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4952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nations are also regularly condemned for their acts of violence and their idolatry… But the crime most often emphasized by the prophets is the sin of pride (Page 119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2570040" cy="39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will make Samaria a heap of ruins in the open countr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ing places for a vine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our her stones down into the valle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ll lay bare her found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icah 1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her idols will be smash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her earnings will be burned with fi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of her images I will make desola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he collected them from a harlot's earning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the earnings of a harlot they will retur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0666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5-03-09T19:37:13Z</dcterms:modified>
  <cp:revision>440</cp:revision>
  <dc:subject>Minor Prophets</dc:subject>
  <dc:title>Minor Prophets</dc:title>
</cp:coreProperties>
</file>