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28:1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276720" y="2819520"/>
            <a:ext cx="25146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95480" y="1876320"/>
            <a:ext cx="30481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1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eleven disciples proceeded to Galilee, to the mountain which Jesus had design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1371600" cy="76212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4:8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304920"/>
            <a:ext cx="7243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ven Mountains in Matth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371600"/>
            <a:ext cx="70106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 of temp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1371600" cy="76176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5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2133720"/>
            <a:ext cx="701064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mon on the 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895480"/>
            <a:ext cx="1371600" cy="76212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14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895480"/>
            <a:ext cx="70106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prays on mountain by Him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581280"/>
            <a:ext cx="1371600" cy="76212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15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581280"/>
            <a:ext cx="70106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 of the 4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343400"/>
            <a:ext cx="1371600" cy="76212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17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4343400"/>
            <a:ext cx="70106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 of Transfi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105520"/>
            <a:ext cx="1371600" cy="76176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4: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5105520"/>
            <a:ext cx="701064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 of O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867280"/>
            <a:ext cx="1371600" cy="76212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8: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5867280"/>
            <a:ext cx="70106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ain in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23720" y="1295280"/>
            <a:ext cx="5257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saw Him, they worship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but some were doubtfu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1914480" cy="487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18-3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came up and spoke to them, saying, “All authority has been given to Me in heaven and on earth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 therefore and make disciples of all the nations, baptizing them in the name of the Father and the Son and the Holy Spirit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after the Sabbath, as it began to dawn toward the firs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week, Mary Magdalene and the other Mary came to look at the gra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ehold, a severe earthquake had occurred, for an angel of the Lord descended from heaven and came and rolled away the stone and sat upon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191280" cy="258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3-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appearance was like lightning, and his clothing as white as snow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guards shook for fear of him and became like dead m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6191280" cy="258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5-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said to the women, “Do not be afraid; for I know that you are looking for Jesus who has been crucifie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is not here, for He has risen, just as He said. Come, see the place where He was lying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 quickly and tell His disciples that He has risen from the dead; and behold, He is going ahead of you into Galilee, there you will see Him; behold, I have told you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8-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left the tomb quickly with fear and great joy and ran to report it to His discipl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behold, Jesus met them and greeted them. And they came up and took hold of His feet and worshiped Hi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Jesus said to them, “Do not be afraid; go and take word to My brethren to leave for Galilee, and there they will see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1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ile they were on their way, some of the guard came into the city and reported to the chief priests all that had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12-1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en they had assembled with the elders and consulted together, they gave a large sum of money to the soldier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aid, “You are to say, ‘His disciples came by night and stole Him away while we were asleep.’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if this should come to the governor's ears, we will win him over and keep you out of troubl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28:1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took the money and did as they had been instructed; and this story was widely spread among the Jews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is 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12-12-30T04:58:34Z</dcterms:modified>
  <cp:revision>222</cp:revision>
  <dc:subject/>
  <dc:title>Slide 1</dc:title>
</cp:coreProperties>
</file>