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27:1-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990720" y="2819520"/>
            <a:ext cx="72388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ial before Pila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7: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9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-1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at which was spoken through Jeremiah the prophet was fulfilled: “And they took the thirty pieces of silver, the price of the one whose price had been set by the sons of Israel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y gave them for the potter’s field, as the Lord directed 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 took my staff Favor and cut it in pieces, to break my covenant which I had made with all the peoples.  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So it was broken on that day, and thus the afflicted of the flock who were watching me realized that it was the word of the LORD. (Zechariah 11:10-11)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 said to them, “If it is good in your sight, give </a:t>
            </a: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me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y wages; but if not, never mind!” So they weighed out thirty </a:t>
            </a: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shekels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of silver as my wages.  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Then the LORD said to me, “Throw it to the potter, </a:t>
            </a: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that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agnificent price at which I was valued by them.” So I took the thirty </a:t>
            </a: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shekels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of silver and threw them to the potter in the house of the LORD. (Zechariah 11:12-13)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n I cut in pieces my second staff Union, to break the brotherhood between Judah and Israel.  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The LORD said to me, "Take again for yourself the equipment of a foolish shepherd. 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For behold, I am going to raise up a shepherd in the land who will not care for the perishing, seek the scattered, heal the broken, or sustain the one standing, but will devour the flesh of the fat </a:t>
            </a: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sheep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nd tear off their hoofs.” (Zechariah 11:14-17)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7: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Jesus stood before the governor, and the governor questioned Him, saying, “Are You the King of the Jews?” And Jesus said to him,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is 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ay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7: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12-1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ile He was being accused by the chief priests and elders, He did not answe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n Pilate said to Him, “Do You not hear how many things they testify against You?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He did not answer him with regard to even a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ng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, so the governor was quite amaz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7: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15-1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a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st the governor was accustomed to release for the peopl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prisoner whom they wanted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at time they were holding a notorious prisoner, called Barabb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7: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17-1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en the people gathered together, Pilate said to them, “Whom do you want me to release for you? Barabbas, or Jesus who is called Christ?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he knew that because of envy they had handed Him o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7: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19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he was sitting on the judgment seat, his wife sent hi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mess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aying, “Have nothing to do with that righteous Man; for last night I suffered greatly in a dream because of Him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7: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20-2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chief priests and the elders persuaded the crowds to ask for Barabbas and to put Jesus to dea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the governor said to them, “Which of the two do you want me to release for you?” And they said, “Barabba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3809880" cy="1447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rst Trial</a:t>
            </a:r>
            <a:br>
              <a:rPr sz="3200"/>
            </a:b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nn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3276720"/>
            <a:ext cx="3809880" cy="1447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cond Trial</a:t>
            </a:r>
            <a:br>
              <a:rPr sz="4400"/>
            </a:b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aiaph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5181480"/>
            <a:ext cx="3809880" cy="1447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ird Trial</a:t>
            </a:r>
            <a:br>
              <a:rPr sz="4400"/>
            </a:b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anhedr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1371600"/>
            <a:ext cx="3809880" cy="1447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urth Trial</a:t>
            </a:r>
            <a:br>
              <a:rPr sz="4400"/>
            </a:b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i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3276720"/>
            <a:ext cx="3809880" cy="1447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fth Trial</a:t>
            </a:r>
            <a:br>
              <a:rPr sz="4400"/>
            </a:b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ntip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181480"/>
            <a:ext cx="3809880" cy="1447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xth Trial</a:t>
            </a:r>
            <a:br>
              <a:rPr sz="4400"/>
            </a:b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i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28840" y="152280"/>
            <a:ext cx="445284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ials of Jes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7: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22-2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ate said to them, “Then what shall I do with Jesus who is called Christ?” They all said, “Crucify Him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he said, “Why, what evil has He done?” But they kept shouting all the more, saying, “Crucify Him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7: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2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Pilate saw that he was accomplishing nothing, but rather that a riot was starting, he took water and washed his hands in front of the crowd, saying, “I am innocent of this Man's blood; se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th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selve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743200" y="4343400"/>
            <a:ext cx="3886200" cy="22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7: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2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ll the people said, “His blood shall be on us and on our children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743200" y="4343400"/>
            <a:ext cx="3886200" cy="22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7: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2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he released Barabbas for them; but after having Jesus scourged, he handed Him over to be crucifi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7: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2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soldiers of the governor took Jesus into the Praetorium and gathered the whol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m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hort around Hi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7: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28-29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tripped Him and put a scarlet robe on Hi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after twisting together a crown of thorns, they put it on His head, and a reed in His right hand; and they knelt down before Him and mocked Him, saying, “Hail, King of the Jews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7: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30-3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pat on Him, and took the reed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g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at Him on the head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fter they had mocked Him, they took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carle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 off Him and put H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w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rments back on Him, and led Him away to crucify H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8839440" cy="5456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7:1-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hen morning came, all the chief priests and the elders of the people conferred together against Jesus to put Him to death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y bound Him, and led Him away and delivered Him to Pilate the govern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57800" y="4495680"/>
            <a:ext cx="2857680" cy="213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2265120" cy="3429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352680" y="2133720"/>
            <a:ext cx="51818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military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ban money from the Te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sure hunters on Mount Geriz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362320" y="762120"/>
            <a:ext cx="403848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ntius Pila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7:3-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hen Judas, who had betrayed Him, saw that He had been condemned, he felt remorse and returned the thirty pieces of silver to the chief priests and elder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aying, “I have sinned by betraying innocent blood.” But they said, “What is that to us? Se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th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self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7: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threw the pieces of silver into the temple sanctuary and departed; and he went away and hanged him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7: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ief priests took the pieces of silver and said, “It is not lawful to put them into the temple treasury, since it is the price of bloo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7:7-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conferred together and with the money bought the Potter’s Field as a burial place for strang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is reason that field has been called the Field of Blood to this d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12-12-29T18:50:55Z</dcterms:modified>
  <cp:revision>271</cp:revision>
  <dc:subject/>
  <dc:title>Slide 1</dc:title>
</cp:coreProperties>
</file>