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4:1-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219320" y="2971800"/>
            <a:ext cx="6933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thority over Land and S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been prompted by her mother, she said, “Give me here on a platter the head of John the Bapti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9-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he was grieved, the king command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given because of his oaths, and because of his dinner guest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sent and had John beheaded in the pris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is head was brought on a platter and given to the girl, and she brought it to her mothe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disciples came and took away the body and buried it; and they went and reported to Jes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2895480" y="-1362240"/>
            <a:ext cx="15468480" cy="966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867280" y="10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95680" y="64764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perna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6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10280" y="152280"/>
            <a:ext cx="19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thsaid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3657600" cy="545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Jesus hea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out Joh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e withdrew from there in a boat to a secluded place by Himself; and when the people hea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f th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y followed Him on foot from the cities. (Matthew 14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1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went ashore, He saw a large crowd, and felt compassion for them and healed their s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1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was evening, the disciples came to Him and said, “This place is desolate and the hour is already late; so send the crowds away, that they may go into the villages and buy food for themsel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16-1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Jesus said to them, “They do not need to go away; you give the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at!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aid to Him, “We have here only five loaves and two fish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said, “Bring them here to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19-2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ing the people to sit down on the grass, He took the five loaves and the two fish, and looking up toward heaven, He bless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f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breaking the loaves He gave them to the disciples, and the discipl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ave t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crowd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all ate and were satisfied. They picked up what was left over of the broken pieces, twelve full baske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2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about five thousand men who ate, besides women and childr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2895480" y="-1362240"/>
            <a:ext cx="15468480" cy="9668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67280" y="10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64764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perna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6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010280" y="152280"/>
            <a:ext cx="19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thsaid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609480"/>
            <a:ext cx="365760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 He made the disciples get into the boat and go ahead of Him to the other side, while He sent the crowds away. (Matthew 14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2895480" y="-1362240"/>
            <a:ext cx="15468480" cy="966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867280" y="10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95680" y="64764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perna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6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10280" y="152280"/>
            <a:ext cx="19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thsaid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09480"/>
            <a:ext cx="365760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e had sent the crowds away, He went up on the mountain by Himself to pray; and when it was evening, He was there alone. (Matthew 14:2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1-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556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at time Herod the tetrarch heard the news about Jesu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aid to his servants, “This is John the Baptist; he has risen from the dead, and that is why miraculous powers are at work in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153360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6702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4343400" y="2286000"/>
            <a:ext cx="4038480" cy="350604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e boat was already a long distance from the land, battered by the waves; for the wind was contrary. (Matthew 14:2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6702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962520" y="1143000"/>
            <a:ext cx="4800600" cy="509076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n the fourth watch of the night He came to them, walking on the sea.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en the disciples saw Him walking on the sea, they were terrified, and said, “It is a ghost!” And they cried out in fear. 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tthew 14:25-26).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6702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962520" y="1600200"/>
            <a:ext cx="4647960" cy="4603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immediately Jesus spoke to them, saying, “Take courage, it is I; do not be afraid.”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Peter said to Him, “Lord, if it is You, command me to come to You on the water.”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Matthew 14:27-2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67020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038480" y="762120"/>
            <a:ext cx="4419720" cy="55782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said, “Come!” And Peter got out of the boat, and walked on the water and came toward Jesus.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seeing the wind, he became frightened, and beginning to sink, he cried out, “Lord, save me!”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Matthew 14:29-30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3886200" cy="55782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mmediately Jesus stretched out His hand and took hold of him, and said to him, “You of little faith, why did you doubt?”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en they got into the boat, the wind stopped.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Matthew 14:31-32)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609480"/>
            <a:ext cx="3276720" cy="362844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ose who were in the boat worshiped Him, saying, “You are certainly God’s Son!”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Matthew 14:33)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2895480" y="-1362240"/>
            <a:ext cx="15468480" cy="9668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10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95680" y="64764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perna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6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WP TypographicSymbols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010280" y="152280"/>
            <a:ext cx="198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thsaid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09480"/>
            <a:ext cx="365760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had crossed over, they came to land at Gennesaret. (Matthew 14:3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5-3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the men of that place recognized Him, they s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all that surrounding district and brought to Him all who were sick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implored Him that they might just touch the fringe of His cloak; and as many as touch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cur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28520"/>
            <a:ext cx="9601200" cy="698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46600" y="3808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Gali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9800" y="38098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P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066680"/>
            <a:ext cx="2361960" cy="3429000"/>
          </a:xfrm>
          <a:custGeom>
            <a:avLst/>
            <a:gdLst/>
            <a:ahLst/>
            <a:rect l="l" t="t" r="r" b="b"/>
            <a:pathLst>
              <a:path w="1488" h="2160">
                <a:moveTo>
                  <a:pt x="0" y="0"/>
                </a:moveTo>
                <a:cubicBezTo>
                  <a:pt x="56" y="52"/>
                  <a:pt x="112" y="104"/>
                  <a:pt x="192" y="144"/>
                </a:cubicBezTo>
                <a:cubicBezTo>
                  <a:pt x="272" y="184"/>
                  <a:pt x="352" y="216"/>
                  <a:pt x="480" y="240"/>
                </a:cubicBezTo>
                <a:cubicBezTo>
                  <a:pt x="608" y="264"/>
                  <a:pt x="848" y="240"/>
                  <a:pt x="960" y="288"/>
                </a:cubicBezTo>
                <a:cubicBezTo>
                  <a:pt x="1072" y="336"/>
                  <a:pt x="1096" y="432"/>
                  <a:pt x="1152" y="528"/>
                </a:cubicBezTo>
                <a:cubicBezTo>
                  <a:pt x="1208" y="624"/>
                  <a:pt x="1264" y="752"/>
                  <a:pt x="1296" y="864"/>
                </a:cubicBezTo>
                <a:cubicBezTo>
                  <a:pt x="1328" y="976"/>
                  <a:pt x="1336" y="1088"/>
                  <a:pt x="1344" y="1200"/>
                </a:cubicBezTo>
                <a:cubicBezTo>
                  <a:pt x="1352" y="1312"/>
                  <a:pt x="1328" y="1400"/>
                  <a:pt x="1344" y="1536"/>
                </a:cubicBezTo>
                <a:cubicBezTo>
                  <a:pt x="1360" y="1672"/>
                  <a:pt x="1416" y="1912"/>
                  <a:pt x="1440" y="2016"/>
                </a:cubicBezTo>
                <a:cubicBezTo>
                  <a:pt x="1464" y="2120"/>
                  <a:pt x="1488" y="2136"/>
                  <a:pt x="1488" y="2160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59600" y="990720"/>
            <a:ext cx="1739880" cy="4495680"/>
          </a:xfrm>
          <a:custGeom>
            <a:avLst/>
            <a:gdLst/>
            <a:ahLst/>
            <a:rect l="l" t="t" r="r" b="b"/>
            <a:pathLst>
              <a:path w="1096" h="2832">
                <a:moveTo>
                  <a:pt x="8" y="2784"/>
                </a:moveTo>
                <a:cubicBezTo>
                  <a:pt x="128" y="2788"/>
                  <a:pt x="248" y="2792"/>
                  <a:pt x="344" y="2784"/>
                </a:cubicBezTo>
                <a:cubicBezTo>
                  <a:pt x="440" y="2776"/>
                  <a:pt x="472" y="2832"/>
                  <a:pt x="584" y="2736"/>
                </a:cubicBezTo>
                <a:cubicBezTo>
                  <a:pt x="696" y="2640"/>
                  <a:pt x="936" y="2392"/>
                  <a:pt x="1016" y="2208"/>
                </a:cubicBezTo>
                <a:cubicBezTo>
                  <a:pt x="1096" y="2024"/>
                  <a:pt x="1080" y="1784"/>
                  <a:pt x="1064" y="1632"/>
                </a:cubicBezTo>
                <a:cubicBezTo>
                  <a:pt x="1048" y="1480"/>
                  <a:pt x="992" y="1368"/>
                  <a:pt x="920" y="1296"/>
                </a:cubicBezTo>
                <a:cubicBezTo>
                  <a:pt x="848" y="1224"/>
                  <a:pt x="736" y="1224"/>
                  <a:pt x="632" y="1200"/>
                </a:cubicBezTo>
                <a:cubicBezTo>
                  <a:pt x="528" y="1176"/>
                  <a:pt x="392" y="1184"/>
                  <a:pt x="296" y="1152"/>
                </a:cubicBezTo>
                <a:cubicBezTo>
                  <a:pt x="200" y="1120"/>
                  <a:pt x="104" y="1096"/>
                  <a:pt x="56" y="1008"/>
                </a:cubicBezTo>
                <a:cubicBezTo>
                  <a:pt x="8" y="920"/>
                  <a:pt x="16" y="752"/>
                  <a:pt x="8" y="624"/>
                </a:cubicBezTo>
                <a:cubicBezTo>
                  <a:pt x="0" y="496"/>
                  <a:pt x="8" y="344"/>
                  <a:pt x="8" y="240"/>
                </a:cubicBezTo>
                <a:cubicBezTo>
                  <a:pt x="8" y="136"/>
                  <a:pt x="8" y="68"/>
                  <a:pt x="8" y="0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238880" cy="543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en Herod had John arrested, he bound him and put him in prison because of Herodias, the wife of his brother Phil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152280"/>
            <a:ext cx="2971800" cy="6098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od the G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2952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amn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12952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amn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12952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lth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905120"/>
            <a:ext cx="2209680" cy="1904400"/>
            <a:chOff x="304920" y="1905120"/>
            <a:chExt cx="2209680" cy="1904400"/>
          </a:xfrm>
        </p:grpSpPr>
        <p:sp>
          <p:nvSpPr>
            <p:cNvPr id="58" name=""/>
            <p:cNvSpPr/>
            <p:nvPr/>
          </p:nvSpPr>
          <p:spPr>
            <a:xfrm>
              <a:off x="609840" y="2361960"/>
              <a:ext cx="182880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lexand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840" y="3200400"/>
              <a:ext cx="1904760" cy="6091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istobul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1905120"/>
              <a:ext cx="0" cy="159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35049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990720" y="9907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7617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9907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990720"/>
            <a:ext cx="693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0" y="1905120"/>
            <a:ext cx="2209320" cy="1904400"/>
            <a:chOff x="4572000" y="1905120"/>
            <a:chExt cx="2209320" cy="1904400"/>
          </a:xfrm>
        </p:grpSpPr>
        <p:sp>
          <p:nvSpPr>
            <p:cNvPr id="68" name=""/>
            <p:cNvSpPr/>
            <p:nvPr/>
          </p:nvSpPr>
          <p:spPr>
            <a:xfrm>
              <a:off x="4876560" y="2361960"/>
              <a:ext cx="182844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chela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3200400"/>
              <a:ext cx="1904760" cy="6091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p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1905120"/>
              <a:ext cx="0" cy="159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350496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26668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04920" y="4191120"/>
            <a:ext cx="6324480" cy="1066320"/>
            <a:chOff x="304920" y="4191120"/>
            <a:chExt cx="6324480" cy="1066320"/>
          </a:xfrm>
        </p:grpSpPr>
        <p:sp>
          <p:nvSpPr>
            <p:cNvPr id="74" name=""/>
            <p:cNvSpPr/>
            <p:nvPr/>
          </p:nvSpPr>
          <p:spPr>
            <a:xfrm>
              <a:off x="2743200" y="4647960"/>
              <a:ext cx="175284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grippa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3240" y="4647960"/>
              <a:ext cx="167616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rodi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920" y="4647960"/>
              <a:ext cx="198108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istobul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9564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64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640" y="4191120"/>
              <a:ext cx="441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14600" y="3200400"/>
            <a:ext cx="1676520" cy="990360"/>
            <a:chOff x="2514600" y="3200400"/>
            <a:chExt cx="1676520" cy="990360"/>
          </a:xfrm>
        </p:grpSpPr>
        <p:sp>
          <p:nvSpPr>
            <p:cNvPr id="82" name=""/>
            <p:cNvSpPr/>
            <p:nvPr/>
          </p:nvSpPr>
          <p:spPr>
            <a:xfrm>
              <a:off x="2819520" y="3200400"/>
              <a:ext cx="137160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ern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5049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67240" y="350496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19920" y="1905120"/>
            <a:ext cx="2818800" cy="4723920"/>
            <a:chOff x="6019920" y="1905120"/>
            <a:chExt cx="2818800" cy="4723920"/>
          </a:xfrm>
        </p:grpSpPr>
        <p:sp>
          <p:nvSpPr>
            <p:cNvPr id="86" name=""/>
            <p:cNvSpPr/>
            <p:nvPr/>
          </p:nvSpPr>
          <p:spPr>
            <a:xfrm>
              <a:off x="7086240" y="4647960"/>
              <a:ext cx="175248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hili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4680" y="1905120"/>
              <a:ext cx="0" cy="27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628680" y="4952880"/>
              <a:ext cx="45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6019560"/>
              <a:ext cx="1752120" cy="609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alo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7640" y="495288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John had been saying to him, “It is not lawful for you to have h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153360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5715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Herod wanted to put him to death, he feared the crowd, because they regarded John as a proph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153360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tthew 14:6-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 Herod’s birthday came, the daughter of Herodias danced bef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leased Her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promised with an oath to give her whatever sh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12-10-16T01:49:25Z</dcterms:modified>
  <cp:revision>216</cp:revision>
  <dc:subject/>
  <dc:title>Slide 1</dc:title>
</cp:coreProperties>
</file>