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11:1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609480" y="2819520"/>
            <a:ext cx="77724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ords and Works of 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952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n the eyes of the blind will be opened 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d the ears of the deaf will be unstopped.  </a:t>
            </a:r>
            <a:br>
              <a:rPr sz="32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Then the lame will leap like a deer,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d the tongue of the mute will shout for joy. 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r waters will break forth in the wilderness 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d streams in the Arabah (Isaiah 35:5-6)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2314440" cy="533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48769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Spirit of the Lord GOD is upon me,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ecause the LORD has anointed me 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 bring good news to the afflicted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e has sent me to bind up the brokenhearted, 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 proclaim liberty to captives 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d freedom to prisoners (Isaiah 61:1)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2314440" cy="533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7-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se men were go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Jesus began to speak to the crowds about John, “What did you go out into the wilderness to see? A reed shaken by the wind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what did you go out to see? A man dressed in sof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th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Those who wear sof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th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in kings’ palaces!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what did you go out to see? A prophet? Yes, I tell you, and one who is more than a prophe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1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one about whom it is written, ‘Behold, I send My messenger ahead of you, who will prepare your way before you.’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533520"/>
            <a:ext cx="4952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, I am going to send My messenger, and he will clear the way before Me. And the Lord, whom you seek, will suddenly come to His temple; and the messenger of the covenant, in whom you delight, behold, He is coming,” says the LORD of hosts. (Malachi 3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10080" y="990720"/>
            <a:ext cx="3365640" cy="480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1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ly I say to you, among those born of women there has not aris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y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than John the Baptist! Yet the one who is least in the kingdom of heaven is greater than h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2438280" cy="184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1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ays of John the Baptist until now the kingdom of heaven suffers violence, and violent men take it by forc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1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ays of John the Baptist until now the kingdom of heaven suffers violence, and violent men take it by forc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886200"/>
            <a:ext cx="7696440" cy="213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ays of John the Baptist until now, the kingdom of heaven has been forcefully advancing, and forceful men lay hold of it.” (Matthew 11:12, NIV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2895480"/>
            <a:ext cx="121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2362320"/>
            <a:ext cx="22096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1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ays of John the Baptist until now the kingdom of heaven suffers violence, and violent men take it by forc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5800" y="3886200"/>
            <a:ext cx="4038480" cy="1312920"/>
            <a:chOff x="685800" y="3886200"/>
            <a:chExt cx="4038480" cy="1312920"/>
          </a:xfrm>
        </p:grpSpPr>
        <p:sp>
          <p:nvSpPr>
            <p:cNvPr id="105" name=""/>
            <p:cNvSpPr/>
            <p:nvPr/>
          </p:nvSpPr>
          <p:spPr>
            <a:xfrm>
              <a:off x="685800" y="3962520"/>
              <a:ext cx="403848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3886200"/>
              <a:ext cx="3886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wgrkn"/>
                </a:rPr>
                <a:t>a`rpa,zousin auvth,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71480" y="4572000"/>
            <a:ext cx="4638240" cy="1068840"/>
            <a:chOff x="771480" y="4572000"/>
            <a:chExt cx="4638240" cy="1068840"/>
          </a:xfrm>
        </p:grpSpPr>
        <p:sp>
          <p:nvSpPr>
            <p:cNvPr id="108" name=""/>
            <p:cNvSpPr/>
            <p:nvPr/>
          </p:nvSpPr>
          <p:spPr>
            <a:xfrm>
              <a:off x="771480" y="461016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rd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person plural of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5840" y="457200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wgrkn"/>
                </a:rPr>
                <a:t>a`rpa,zw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1480" y="499104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harpazo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).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13-1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the prophets and the Law prophesied until Joh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if you are willing to accep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John himself is Elijah who was to come.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ho has ears to hear, let him he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Jesus had finished giving instructions to His twelve disciples, He departed from there to teach and preach in their c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63904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, I am going to send you Elijah the prophet before the coming of the great and terrible day of the LOR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ill restore the hearts of the fathers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and the hearts of the children to their fathers, so that I will not come and smite the land with a curse. (Malachi 4:5-6)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1295280"/>
            <a:ext cx="434340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Nar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1981080"/>
            <a:ext cx="434340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of the disciples (4:12-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304920"/>
            <a:ext cx="6782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ve Narratives / Serm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295280"/>
            <a:ext cx="4647960" cy="6858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1981080"/>
            <a:ext cx="464796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mon on the Mount (5-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2971800"/>
            <a:ext cx="434340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racles (8-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2971800"/>
            <a:ext cx="464796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to Disciples (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3962520"/>
            <a:ext cx="4343400" cy="990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Opposition/ Unpardonable Sin (11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3962520"/>
            <a:ext cx="4647960" cy="990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bles of the Kingdom (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4952880"/>
            <a:ext cx="434340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of Jesus (14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4952880"/>
            <a:ext cx="464796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giveness (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5638680"/>
            <a:ext cx="434340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ption in Jerusalem (19-2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5638680"/>
            <a:ext cx="464796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vet Discourse (24-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1371600"/>
            <a:ext cx="3276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2-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en John, while imprisoned, heard of the works of Christ, he s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or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is discipl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aid to Him, “Are You the Expected One, or shall we look for someone els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838080" y="0"/>
            <a:ext cx="121158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629400" y="5334120"/>
            <a:ext cx="2104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chaer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48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WP TypographicSymbols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5715000" cy="281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6629400" y="5334120"/>
            <a:ext cx="2104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chaer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00200" y="2895480"/>
            <a:ext cx="35053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2-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en John, while imprisoned, heard of the works of Christ, he s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or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is discipl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aid to Him, “Are You the Expected One, or shall we look for someone els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124440" cy="3022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438280" y="3733920"/>
            <a:ext cx="428148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p of Fai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429000" y="4800600"/>
            <a:ext cx="2895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oub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1:4-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ed and said to them, “Go and report to John what you hear and see: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ind receive sight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me walk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pers are cleansed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f hear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d are raised up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have the gospel preached to the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blessed is he who does not take offense at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1430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12-04-26T17:55:57Z</dcterms:modified>
  <cp:revision>242</cp:revision>
  <dc:subject/>
  <dc:title>Slide 1</dc:title>
</cp:coreProperties>
</file>