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0:16-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09480" y="2819520"/>
            <a:ext cx="77724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ds and Works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4-2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 is not above his teacher, nor a slave above his maste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enough for the disciple that he become like his teacher, and the slave like his master. If they have called the head of the house Beelzebul, how much m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they malig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mbers of his househol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do not fear them, for there is nothing concealed that will not be revealed, or hidden that will not be know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 tell you in the darkness, speak in the light; and what you hea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sper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, proclaim upon the housetop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01960" y="2886120"/>
            <a:ext cx="8319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fear those who kill the body but are unable to kill the soul; but rather fear Him who is able to destroy both soul and body in hel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418640"/>
            <a:ext cx="213192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hen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9-3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two sparrows sold for a cent?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of them will fall to the ground apart from your Fathe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 very hairs of your head are all number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do not fear; you are more valuable than many sparrow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3009960" cy="207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32-3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everyone who confesses Me before men, I will also confess him before My Father who is in heave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oever denies Me before men, I will also deny him before My Father who is in heave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34-3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hink that I came to bring peace on the earth; I did not come to bring peace, but a swor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I came to set a man against his father, and a daughter against her mother, and a daughter-in-law against her mother-in-law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 man’s enemies will be the members of his househol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274680"/>
            <a:ext cx="62485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rust in a neighbor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have confidence in a frien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r who lies in your bos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d your lips. 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on treats father contemptuous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rises up against her moth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-in-law against her mother-in-law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’s enemies are the men of his own household (Micah 7:5-6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70028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763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m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watch expectantly for the LORD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wait for the God of my salvatio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 will hear me. (Micah 7:7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70028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3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loves father or mother more than Me is not worthy of Me; and he who loves son or daughter more than Me is not worthy of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590560"/>
            <a:ext cx="60195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scuss the question:  What sorts of opposition have you faced as a Christia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867280" y="457200"/>
            <a:ext cx="1905120" cy="182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1066680"/>
            <a:ext cx="36626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3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ho does not take his cross and follow after Me is not worthy of M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95776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3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has found his life will lose it, and he who has lost his life for My sake will find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95776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4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receives you receives Me, and he who receives Me receives Him who sent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41-4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receives a prophet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a prophet shall receive a prophet's reward; and he who receives a righteous man in the name of a righteous man shall receive a righteous man’s rewar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oever in the name of a disciple gives to one of these little ones even a cup of cold water to drink, truly I say to you, he shall not lose his reward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1371600"/>
            <a:ext cx="167652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057400"/>
            <a:ext cx="167652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oosing of the 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05120" y="228600"/>
            <a:ext cx="5333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9:35 - 10: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371600"/>
            <a:ext cx="198108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5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2057400"/>
            <a:ext cx="198108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sk of the Apo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962520"/>
            <a:ext cx="167652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them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962520"/>
            <a:ext cx="198108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lost sheep of the house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371600"/>
            <a:ext cx="213372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16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2057400"/>
            <a:ext cx="213372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of a Persecuted Re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962520"/>
            <a:ext cx="213372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end you as sheep in the midst of w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182880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:35-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057400"/>
            <a:ext cx="182880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to pray for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962520"/>
            <a:ext cx="182880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like sheep without a shep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I send you out as sheep in the midst of wolves; so be shrewd as serpents and innocent as dove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381400" cy="281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7-1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beware of men, for they will hand you over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s and scourge you in their synagogue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will even be brought before governors and kings for My sake, as a testimony to them and to the Gentil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19-2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 they hand you over, do not worry about how or what you are to say; for it will be given you in that hour what you are to sa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it is not you who speak, b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irit of your Father who speaks in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1-2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 will betray brother to death, and a fath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; and children will rise up against parents and cause them to be put to dea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will be hated by all because of My name, but it is the one who has endured to the end who will be sav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171880" cy="213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0: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ever they persecute you in one city, flee to the next; for truly I say to you, you will not finis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ing throug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ies of Israel until the Son of Man come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1371600"/>
            <a:ext cx="167616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057400"/>
            <a:ext cx="167616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oosing of the Twe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9520" y="2286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1371600"/>
            <a:ext cx="198144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5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057400"/>
            <a:ext cx="198144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sk of the Apo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962520"/>
            <a:ext cx="167616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ave them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962520"/>
            <a:ext cx="198144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lost sheep of the house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1371600"/>
            <a:ext cx="213336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16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057400"/>
            <a:ext cx="213336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of a Persecuted Re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962520"/>
            <a:ext cx="213336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end you as sheep in the midst of w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371600"/>
            <a:ext cx="213372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:24-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057400"/>
            <a:ext cx="213372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isciple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962520"/>
            <a:ext cx="213372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nough for a disciple to be like his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04-22T13:18:12Z</dcterms:modified>
  <cp:revision>233</cp:revision>
  <dc:subject/>
  <dc:title>Slide 1</dc:title>
</cp:coreProperties>
</file>