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ew 10:1-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609480" y="2819520"/>
            <a:ext cx="777240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Words and Works of Jes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14-1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ever does not receive you, nor heed your words, as you go out of that house or that city, shake the dust off your feet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ruly I say to you, it will be more tolerable f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of Sodom and Gomorrah in the day of judgment than for that city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34120" y="4724280"/>
            <a:ext cx="285732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191120" y="159984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to a specific group of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given a specific localized 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ssion to them will be superseded at a later 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685800"/>
            <a:ext cx="7648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Specific Nature of these Instruc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3697200" cy="3848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94920" y="266688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are sent with a 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are sent with a mess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ker is worthy of sup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ception of the message has eternal consequ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19120" y="380880"/>
            <a:ext cx="6201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eneral Principle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57360" y="1295280"/>
            <a:ext cx="7648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ehind these Instruc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676520"/>
            <a:ext cx="3962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sing the criteria from this list, discuss all the ways in which you are alike as well as the ways you are different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4120" y="2590920"/>
            <a:ext cx="3504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of bi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ominational 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867280" y="457200"/>
            <a:ext cx="1905120" cy="1820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14400" y="380880"/>
            <a:ext cx="366228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Activ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320" y="990360"/>
            <a:ext cx="2286000" cy="685800"/>
          </a:xfrm>
          <a:prstGeom prst="rect">
            <a:avLst/>
          </a:prstGeom>
          <a:gradFill rotWithShape="0">
            <a:gsLst>
              <a:gs pos="0">
                <a:srgbClr val="82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:1 – 4:11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320" y="2666880"/>
            <a:ext cx="2286000" cy="4114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a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assin’s attempt by false 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runner &amp; baptism of 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1676520"/>
            <a:ext cx="2286000" cy="990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ory Narr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990720"/>
            <a:ext cx="4038480" cy="685800"/>
          </a:xfrm>
          <a:prstGeom prst="rect">
            <a:avLst/>
          </a:prstGeom>
          <a:gradFill rotWithShape="0">
            <a:gsLst>
              <a:gs pos="0">
                <a:srgbClr val="82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4:12 – 25: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4038480" cy="4114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 of Disciples / Sermon on the M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racles / Demands of Disciple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pardonable sin / Parables of the king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 &amp; Transfiguration / Forgiv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usalem / Olivet Dis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1676520"/>
            <a:ext cx="4038480" cy="990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Narratives &amp; Five Serm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990720"/>
            <a:ext cx="2666880" cy="685800"/>
          </a:xfrm>
          <a:prstGeom prst="rect">
            <a:avLst/>
          </a:prstGeom>
          <a:gradFill rotWithShape="0">
            <a:gsLst>
              <a:gs pos="0">
                <a:srgbClr val="82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26:1 – 28: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2666880"/>
            <a:ext cx="2666880" cy="4114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t su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hsem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ucifix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r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 com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1676520"/>
            <a:ext cx="2666880" cy="990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 &amp; Resur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057400" y="22860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spel of Matthe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562720" y="1952640"/>
            <a:ext cx="18288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ummoned His twelve disciples and gave them authority over unclean spirits, to cast them out, and to heal every kind of disease and every kind of sickn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952640"/>
            <a:ext cx="16765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2-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 names of the twelve apostles are these: The first, Simon, who is called Peter, and Andrew his brother; and James the son of Zebedee, and John his brother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hilip and Bartholomew; Thomas and Matthew the tax collector; James the son of Alphaeus, and Thaddaeus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imon the Zealot, and Judas Iscariot, the one who betrayed H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5-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37160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twelve Jesus sent out after instructing them: “Do not go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tiles, and do not ente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y of the Samaritans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rather go to the lost sheep of the house of Isra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638680" y="1295280"/>
            <a:ext cx="2960640" cy="541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7-8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s you go, preach, saying, ‘The kingdom of heaven is at hand.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a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ck, rais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d, cleans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pers, cast out demons. Freely you received, freely giv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9-1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acquire gold, or silver, or copper for your money belt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a bag f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ey, or even two coats, or sandals, or a staff; for the worker is worthy of his suppor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666880" y="4267080"/>
            <a:ext cx="3781440" cy="229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11-1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hatever city or village you enter, inquire who is worthy in it, and stay at his house until you leav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at c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 you enter the house, give it your greeting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house is worthy, give it you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lessing o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ace. But if it is not worthy, take back you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lessing o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ac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12-04-15T18:24:52Z</dcterms:modified>
  <cp:revision>218</cp:revision>
  <dc:subject/>
  <dc:title>Slide 1</dc:title>
</cp:coreProperties>
</file>