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19320" y="2971800"/>
            <a:ext cx="69339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rmon on the Mou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312444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r yours is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3520" y="3049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ay, then, in this way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35268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514600"/>
            <a:ext cx="9144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124080"/>
            <a:ext cx="3352680" cy="609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733920"/>
            <a:ext cx="9144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4343400"/>
            <a:ext cx="34290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glory 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4952880"/>
            <a:ext cx="144756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371600"/>
            <a:ext cx="426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e, O LORD, is the greatness and the power and the glory and the victory and the majesty, indeed everything that is in the heavens and the earth; Thine is the dominion, O LORD, and Thou dost exalt Thyself as head over 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 Chronicles 29:1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14-1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f you forgive others for their transgressions, your heavenly Father will also forgive you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if you do not forgive others, then your Father will not forgive your transgr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4562640"/>
            <a:ext cx="266724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2276640"/>
            <a:ext cx="685800" cy="2438280"/>
          </a:xfrm>
          <a:prstGeom prst="downArrow">
            <a:avLst>
              <a:gd name="adj1" fmla="val 57870"/>
              <a:gd name="adj2" fmla="val 7616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2809800"/>
            <a:ext cx="266724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g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809800"/>
            <a:ext cx="266688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91200">
            <a:off x="3580920" y="1971720"/>
            <a:ext cx="685800" cy="1143000"/>
          </a:xfrm>
          <a:prstGeom prst="downArrow">
            <a:avLst>
              <a:gd name="adj1" fmla="val 44907"/>
              <a:gd name="adj2" fmla="val 6439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9054800">
            <a:off x="4638600" y="1942920"/>
            <a:ext cx="685800" cy="1143000"/>
          </a:xfrm>
          <a:prstGeom prst="downArrow">
            <a:avLst>
              <a:gd name="adj1" fmla="val 44907"/>
              <a:gd name="adj2" fmla="val 6439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209600"/>
            <a:ext cx="548640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ing your righteousness before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1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ever you fast, do not put on a gloomy face as the hypocrit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r they neglect their appearance so that they will be noticed by men when they are fasting. Truly I say to you, they have their reward in fu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17-1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you, when you fast, anoint your head and wash your fac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at your fasting will not be noticed by men, but by your Father who is in secret; and your Father who se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d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cret will reward yo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19-2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store up for yourselves treasures on earth, where moth and rust destroy, and where thieves break in and steal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store up for yourselves treasures in heaven, where neither moth nor rust destroys, and where thieves do not break in or steal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where your treasure is, there your heart will be al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374480"/>
            <a:ext cx="4191120" cy="765000"/>
          </a:xfrm>
          <a:prstGeom prst="rect">
            <a:avLst/>
          </a:prstGeom>
          <a:gradFill rotWithShape="0">
            <a:gsLst>
              <a:gs pos="0">
                <a:srgbClr val="96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6:1-18                                                             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880" y="2139480"/>
            <a:ext cx="4191120" cy="1752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ractice your righteousness before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4191120" cy="765000"/>
          </a:xfrm>
          <a:prstGeom prst="rect">
            <a:avLst/>
          </a:prstGeom>
          <a:gradFill rotWithShape="0">
            <a:gsLst>
              <a:gs pos="0">
                <a:srgbClr val="96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6:19-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2136600"/>
            <a:ext cx="4191120" cy="1752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cus on earthly rather than heavenly tr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89440"/>
            <a:ext cx="419112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righte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889440"/>
            <a:ext cx="419112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tr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727520"/>
            <a:ext cx="838224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worsh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24080" y="60948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thew 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22-2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ye is the lamp of the body; so then if your eye is clear, your whole body will be full of ligh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if your eye is bad, your whole body will be full of darkness. If then the light that is in you is darkness, how great is the darkn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5105520"/>
            <a:ext cx="1447920" cy="1191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ey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5105520"/>
            <a:ext cx="1447920" cy="1191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il ey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410080"/>
            <a:ext cx="2438640" cy="457200"/>
          </a:xfrm>
          <a:prstGeom prst="leftRightArrow">
            <a:avLst>
              <a:gd name="adj1" fmla="val 50000"/>
              <a:gd name="adj2" fmla="val 10618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22-2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ye is the lamp of the body; so then if your eye is clear, your whole body will be full of ligh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if your eye is bad, your whole body will be full of darkness. If then the light that is in you is darkness, how great is the darkn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5246640"/>
            <a:ext cx="7086600" cy="1373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 who is gener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iterally, “he who has a good eye”)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ll be bless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 he gives some of his food to the po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352680" y="4343400"/>
            <a:ext cx="2343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verb 22: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2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can serve two masters; for either he will hate the one and love the other, or he will be devoted to one and despise the other. You cannot serve God and weal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876920"/>
            <a:ext cx="1447920" cy="642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4876920"/>
            <a:ext cx="1752480" cy="642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l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952880"/>
            <a:ext cx="2438640" cy="457200"/>
          </a:xfrm>
          <a:prstGeom prst="leftRightArrow">
            <a:avLst>
              <a:gd name="adj1" fmla="val 50000"/>
              <a:gd name="adj2" fmla="val 10618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191120" cy="1314360"/>
          </a:xfrm>
          <a:prstGeom prst="rect">
            <a:avLst/>
          </a:prstGeom>
          <a:gradFill rotWithShape="0">
            <a:gsLst>
              <a:gs pos="0">
                <a:srgbClr val="960000"/>
              </a:gs>
              <a:gs pos="100000">
                <a:srgbClr val="4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Old Testament Law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n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048120"/>
            <a:ext cx="419112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se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9880"/>
            <a:ext cx="419112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regarding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5029200"/>
            <a:ext cx="419112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sings and Bless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533520"/>
            <a:ext cx="4191120" cy="1314360"/>
          </a:xfrm>
          <a:prstGeom prst="rect">
            <a:avLst/>
          </a:prstGeom>
          <a:gradFill rotWithShape="0">
            <a:gsLst>
              <a:gs pos="0">
                <a:srgbClr val="960000"/>
              </a:gs>
              <a:gs pos="100000">
                <a:srgbClr val="4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Sermon on the Mou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90512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atit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048120"/>
            <a:ext cx="419112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se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809880"/>
            <a:ext cx="419112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s regarding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5029200"/>
            <a:ext cx="419112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and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2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son I say to you, do not be worried about your life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you will eat or what you will drink; nor for your body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you will put on. Is not life more than food, and the body more than cloth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2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birds of the air, that they do not sow, nor reap nor gather into barns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eavenly Father feeds them. Are you not worth much more than the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27-2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o of you by being worried can add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ng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r to his life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y are you worried about clothing? Observe how the lilies of the field grow; they do not toil nor do they spin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t I say to you that not even Solomon in all his glory clothed himself like one of the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3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God so clothes the grass of the field, which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and tomorrow is thrown into the furnace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l 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uch mo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? You of little faith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31-3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worry then, saying, “What will we eat?” or “What will we drink?” or “What will we wear for clothing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Gentiles eagerly seek all these things; for your heavenly Father knows that you need all these thing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seek first His kingdom and His righteousness, and all these things will be added to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3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do not worry about tomorrow; for tomorrow will care for itself. Each day has enough trouble of its ow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191120" cy="1314720"/>
          </a:xfrm>
          <a:prstGeom prst="rect">
            <a:avLst/>
          </a:prstGeom>
          <a:gradFill rotWithShape="0">
            <a:gsLst>
              <a:gs pos="0">
                <a:srgbClr val="960000"/>
              </a:gs>
              <a:gs pos="100000">
                <a:srgbClr val="4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ose who serve Go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s up treasure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666880"/>
            <a:ext cx="419112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r eye is 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429000"/>
            <a:ext cx="419112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good works to be see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648320"/>
            <a:ext cx="419112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 by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52280"/>
            <a:ext cx="4191120" cy="1314720"/>
          </a:xfrm>
          <a:prstGeom prst="rect">
            <a:avLst/>
          </a:prstGeom>
          <a:gradFill rotWithShape="0">
            <a:gsLst>
              <a:gs pos="0">
                <a:srgbClr val="960000"/>
              </a:gs>
              <a:gs pos="100000">
                <a:srgbClr val="4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ose who serve Weal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152388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s up treasures on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666880"/>
            <a:ext cx="419112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r eye is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19112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good works to be seen of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648320"/>
            <a:ext cx="419112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 by 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334120"/>
            <a:ext cx="419112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334120"/>
            <a:ext cx="419112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019920"/>
            <a:ext cx="419112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in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019920"/>
            <a:ext cx="419112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ually satis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5:4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you are to be perfect, as your heavenly Father is perfe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are of practicing your righteousness before men to be noticed by them; otherwise you have no reward with your Father who is in heav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257800"/>
            <a:ext cx="266724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g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5257800"/>
            <a:ext cx="266688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191200">
            <a:off x="3580920" y="4419720"/>
            <a:ext cx="685800" cy="1143000"/>
          </a:xfrm>
          <a:prstGeom prst="downArrow">
            <a:avLst>
              <a:gd name="adj1" fmla="val 44907"/>
              <a:gd name="adj2" fmla="val 6439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054800">
            <a:off x="4638600" y="4390560"/>
            <a:ext cx="685800" cy="1143000"/>
          </a:xfrm>
          <a:prstGeom prst="downArrow">
            <a:avLst>
              <a:gd name="adj1" fmla="val 44907"/>
              <a:gd name="adj2" fmla="val 6439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3657600"/>
            <a:ext cx="548640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ing your righteousness before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en you give to the poor, do not sound a trumpet before you, as the hypocrites do in the synagogues and in the streets, so that they may be honored by men. Truly I say to you, they have their reward in fu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3-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en you give to the poor, do not let your left hand know what your right hand is doi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at your giving will be in secret; and your Father who se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d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cret will reward yo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5-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pray, you are not to be like the hypocrites; for they love to stand and pray in the synagogues and on the street corners so that they may be seen by men. Truly I say to you, they have their reward in full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you, when you pray, go into your inner room, close your door and pray to your Father who is in secret, and your Father who se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d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cret will reward yo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6:6-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en you are praying, do not use meaningless repetition as the Gentiles do, for they suppose that they will be heard for their many word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do not be like them; for your Father knows what you need before you ask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0666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64771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ur Father who is in heave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3049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ay, then, in this way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647712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allowed be Your n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514600"/>
            <a:ext cx="52578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Your kingdom 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124080"/>
            <a:ext cx="525780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Your will be done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n earth as it is in hea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114800"/>
            <a:ext cx="64008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ive us this day our daily 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724280"/>
            <a:ext cx="792468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 forgive us our debts,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s we also have forgiven our deb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715000"/>
            <a:ext cx="792468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 do not lead us into temptation,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ut deliver us from ev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11-12-11T14:09:35Z</dcterms:modified>
  <cp:revision>149</cp:revision>
  <dc:subject/>
  <dc:title>Slide 1</dc:title>
</cp:coreProperties>
</file>