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CE3-D550-49B2-8ED1-BBE39B2A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636-F219-43A4-A643-6D908986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B55-5702-48F8-9A73-245DA385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34C-7D2E-4F82-BF56-8C56AE97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88F-7C77-45DB-86F2-E713D582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C2F-46CE-45C4-8778-972BC258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A05-1B8C-48E8-AA54-407AEAED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A2F-8199-4912-9CD4-2074AA9C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B8F1-0E8D-4B5E-AF8B-7651BA08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58D-3DDB-40D3-AAB8-043244AB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620-16BC-426A-9367-B1F7A741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212-A32E-4EE5-B915-4297882B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5B40-29C0-4141-922A-2260385523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60199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47920" y="1295280"/>
            <a:ext cx="6248160" cy="167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udies 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Book of Levitic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330360"/>
            <a:ext cx="7619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the “Big Idea” in the book of Leviticu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657600" y="3657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om where is this “big idea” derived?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all be holy, for I am holy” (Leviticus 11:45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holines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657600" y="3657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the opposite of holines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657600" y="3657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76520" y="457200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 there a difference between the tw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666880"/>
            <a:ext cx="3353040" cy="152424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0e1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li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666880"/>
            <a:ext cx="3353040" cy="152424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0e1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ur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200400"/>
            <a:ext cx="1905120" cy="457200"/>
          </a:xfrm>
          <a:prstGeom prst="leftRightArrow">
            <a:avLst>
              <a:gd name="adj1" fmla="val 50000"/>
              <a:gd name="adj2" fmla="val 107298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8120" y="2895480"/>
            <a:ext cx="2514600" cy="160020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0e1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2895480"/>
            <a:ext cx="2514600" cy="152424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0e1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mp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2971800"/>
            <a:ext cx="2209680" cy="144792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0e1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1752480"/>
            <a:ext cx="6172200" cy="3581640"/>
          </a:xfrm>
          <a:prstGeom prst="ellipse">
            <a:avLst/>
          </a:prstGeom>
          <a:gradFill rotWithShape="0">
            <a:gsLst>
              <a:gs pos="0">
                <a:srgbClr val="0066ff">
                  <a:alpha val="16078"/>
                </a:srgbClr>
              </a:gs>
              <a:gs pos="100000">
                <a:srgbClr val="adcdfe">
                  <a:alpha val="1607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10800" y="208440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m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re some areas of life in which holiness ought to be seen in the lives of believers today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657600" y="3657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480" y="31240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into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a 5 minute role play or mini-drama illustrating holy living in a real life modern situ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14600" y="304920"/>
            <a:ext cx="38862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Activ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09880" y="1676520"/>
            <a:ext cx="1295640" cy="1238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ole Pl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43400" y="609120"/>
            <a:ext cx="4038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yndale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rnerstone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Biblical Commenta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0" y="373392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ker, Brueggemann, Merr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3171960" cy="476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eviticus 1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LORD called to Moses and spoke to him from the tent of meet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143000"/>
            <a:ext cx="7162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228600" y="87480"/>
            <a:ext cx="9906120" cy="6365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2590920" y="-1371600"/>
            <a:ext cx="14554440" cy="9353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Arial"/>
              </a:rPr>
              <a:t>Name of the Book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ebrew Name:  </a:t>
            </a:r>
            <a:r>
              <a:rPr b="0" lang="en-US" sz="5400" spc="-1" strike="noStrike">
                <a:solidFill>
                  <a:srgbClr val="ffffff"/>
                </a:solidFill>
                <a:latin typeface="Bwhebb"/>
              </a:rPr>
              <a:t>ar'q.YIw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“And He called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reek Name: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Leuitik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1730520"/>
            <a:ext cx="3276720" cy="2835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Comic Sans MS"/>
              </a:rPr>
              <a:t>EXOD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Comic Sans MS"/>
              </a:rPr>
              <a:t>Ends with the construction of the Taberna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1754280"/>
            <a:ext cx="3429000" cy="2835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Comic Sans MS"/>
              </a:rPr>
              <a:t>LEVITIC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Comic Sans MS"/>
              </a:rPr>
              <a:t>Tells of the worship that takes place in the Taberna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3048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2895480" cy="91764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240" y="1066320"/>
            <a:ext cx="289548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ith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152280"/>
            <a:ext cx="2895840" cy="91764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od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152280"/>
            <a:ext cx="2895480" cy="91764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evitic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066680"/>
            <a:ext cx="289584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in bond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1066680"/>
            <a:ext cx="289548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in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2209680"/>
            <a:ext cx="289548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icts the rise of God’s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209680"/>
            <a:ext cx="289584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ls of the redemption from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2209680"/>
            <a:ext cx="289548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s forth the rituals of worship and hol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343400"/>
            <a:ext cx="289548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s of the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4343400"/>
            <a:ext cx="289584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ance of the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4343400"/>
            <a:ext cx="289548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of the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486400"/>
            <a:ext cx="289548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cracy b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5486400"/>
            <a:ext cx="579132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cracy establ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Why should we study Leviticus?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cal Reasons:  It gives the historical background for the remainder of the B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logical Reasons:  It establishes such principles as redemption and sacrif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us Reasons:  It teaches us about wor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Outline of Leviticu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762120" y="99036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the Offerings (1-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16765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the Priests (8-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23623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Purity (11-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30481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of Atonement (1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7339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Holiness (17-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4197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the Priests (21-2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51055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ointed Times (23-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5791320"/>
            <a:ext cx="784836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lties and Vows (26-2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10-01-06T06:44:49Z</dcterms:modified>
  <cp:revision>336</cp:revision>
  <dc:subject/>
  <dc:title>Discipleship Across the Lifespan</dc:title>
</cp:coreProperties>
</file>