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293FC-5BD9-4157-9A6C-A7957CC0C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17CAD-AF14-4B55-919A-39728BA95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89451-2518-4A6D-9CCD-918C46039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D4BBB-A291-4194-8E0A-3441FAB65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77415-769E-416F-B3CB-D417ACB42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75F17-1A71-4EEC-8659-935D58554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24EED-9AE9-4C35-A98D-E69B887A2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07AED-DE5D-4360-88D1-5397A36D3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87C63-7462-4D9A-9EAE-579F4120F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AEC11-CA38-4596-BBFF-1030AB8FE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2D1EA-7A84-4920-B56D-213349AE5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DE3CE-912B-43AC-B7EC-2DDE58F92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A98D6-6FBC-4957-B6A6-70F3617C5CF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38095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The Trials of Jes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895480" y="5029200"/>
            <a:ext cx="350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© John Stevenson, 20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828800" y="2209680"/>
            <a:ext cx="5486400" cy="9716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4081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Life of Christ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4081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John 18:14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914400" y="1295280"/>
            <a:ext cx="7315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w Caiaphas was the one who had advised the Jews that it was expedient for one man to die on behalf of the people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1143000"/>
            <a:ext cx="7391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4419720" y="3657600"/>
            <a:ext cx="2895480" cy="2490840"/>
          </a:xfrm>
          <a:prstGeom prst="rect">
            <a:avLst/>
          </a:prstGeom>
          <a:ln w="9360">
            <a:solidFill>
              <a:srgbClr val="660033"/>
            </a:solidFill>
            <a:miter/>
          </a:ln>
        </p:spPr>
      </p:pic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371600"/>
            <a:ext cx="3809880" cy="144792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First Trial</a:t>
            </a:r>
            <a:br>
              <a:rPr sz="3200"/>
            </a:b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nna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57200" y="3276720"/>
            <a:ext cx="3809880" cy="144756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Second Trial</a:t>
            </a:r>
            <a:br>
              <a:rPr sz="4400"/>
            </a:b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iapha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57200" y="5181480"/>
            <a:ext cx="3809880" cy="144792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Third Trial</a:t>
            </a:r>
            <a:br>
              <a:rPr sz="4400"/>
            </a:b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Sanhedri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876920" y="1371600"/>
            <a:ext cx="3809880" cy="144792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Fourth Trial</a:t>
            </a:r>
            <a:br>
              <a:rPr sz="4400"/>
            </a:b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Pilat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876920" y="3276720"/>
            <a:ext cx="3809880" cy="144756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Fifth Trial</a:t>
            </a:r>
            <a:br>
              <a:rPr sz="4400"/>
            </a:b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ntipa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876920" y="5181480"/>
            <a:ext cx="3809880" cy="144792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Sixth Trial</a:t>
            </a:r>
            <a:br>
              <a:rPr sz="4400"/>
            </a:b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Pilat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2328840" y="152280"/>
            <a:ext cx="4452840" cy="1051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rials of Jesus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152280" y="685800"/>
            <a:ext cx="8839440" cy="54561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John 18:15-16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914400" y="1295280"/>
            <a:ext cx="7315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on Peter was following Jesus, and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so was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other disciple. Now that disciple was known to the high priest, and entered with Jesus into the court of the high priest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6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but Peter was standing at the door outside. So the other disciple, who was known to the high priest, went out and spoke to the doorkeeper, and brought Peter in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838080" y="1143000"/>
            <a:ext cx="7391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John 18:17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914400" y="1295280"/>
            <a:ext cx="7315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n the slave-girl who kept the door said to Peter, “You are not also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on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f this man’s disciples, are you?” He said, “I am not.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838080" y="1143000"/>
            <a:ext cx="7391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John 18:18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914400" y="1295280"/>
            <a:ext cx="7315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w the slaves and the officers were standing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ther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having made a charcoal fire, for it was cold and they were warming themselves; and Peter was also with them, standing and warming himself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838080" y="1143000"/>
            <a:ext cx="7391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John 18:19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914400" y="1295280"/>
            <a:ext cx="7315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high priest then questioned Jesus about His disciples, and about His teach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38080" y="1143000"/>
            <a:ext cx="7391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228600" y="304920"/>
            <a:ext cx="175248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1st Tria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 spd="med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John 18:20-21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914400" y="1295280"/>
            <a:ext cx="7315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esus answered him, “I have spoken openly to the world; I always taught in synagogues and in the temple, where all the Jews come together; and I spoke nothing in secret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1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Why do you question Me? Question those who have heard what I spoke to them; they know what I said.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838080" y="1143000"/>
            <a:ext cx="7391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228600" y="304920"/>
            <a:ext cx="175248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1st Tria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 spd="med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John 18:22-24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914400" y="1295280"/>
            <a:ext cx="7315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n He had said this, one of the officers standing nearby struck Jesus, saying, “Is that the way You answer the high priest?”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Jesus answered him, “If I have spoken wrongly, testify of the wrong; but if rightly, why do you strike Me?”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4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So Annas sent Him bound to Caiaphas the high priest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38080" y="1143000"/>
            <a:ext cx="7391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228600" y="304920"/>
            <a:ext cx="175248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1st Tria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 spd="med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John 18:25-27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14400" y="1295280"/>
            <a:ext cx="7315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w Simon Peter was standing and warming himself. So they said to him, “You are not also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on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f His disciples, are you?” He denied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i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and said, “I am not.”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6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One of the slaves of the high priest, being a relative of the one whose ear Peter cut off, said, “Did I not see you in the garden with Him?”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7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Peter then denied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it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gain, and immediately a rooster crowed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838080" y="1143000"/>
            <a:ext cx="7391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457200" y="533520"/>
            <a:ext cx="3505320" cy="594324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n Jesus had spoken these words, He went forth with His disciples over the ravine of the Kidron, where there was a garden, in which He entered with His disciples (John 18:1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Luke 22:59-60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295280"/>
            <a:ext cx="7315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fter about an hour had passed, another man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began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insist, saying, “Certainly this man also was with Him, for he is a Galilean too.”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60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But Peter said, “Man, I do not know what you are talking about.” Immediately, while he was still speaking, a rooster crow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838080" y="1143000"/>
            <a:ext cx="7391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Luke 22:61-62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914400" y="1295280"/>
            <a:ext cx="7315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Lord turned and looked at Peter. And Peter remembered the word of the Lord, how He had told him, “Before a rooster crows today, you will deny Me three times.”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6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nd he went out and wept bitterl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38080" y="1143000"/>
            <a:ext cx="7391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Luke 22:63-65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914400" y="1295280"/>
            <a:ext cx="7315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w the men who were holding Jesus in custody were mocking Him and beating Him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64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nd they blind-folded Him and were asking Him, saying, “Prophesy, who is the one who hit You?”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65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nd they were saying many other things against Him, blaspheming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838080" y="1143000"/>
            <a:ext cx="7391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228600" y="304920"/>
            <a:ext cx="175248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2nd Tria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 spd="med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Luke 22:66-68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400" y="1295280"/>
            <a:ext cx="7315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n it was day, the Council of elders of the people assembled, both chief priests and scribes, and they led Him away to their council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chambe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saying,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67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“If You are the Christ, tell us.” But He said to them, “If I tell you, you will not believe;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68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nd if I ask a question, you will not answer.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38080" y="1143000"/>
            <a:ext cx="7391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28600" y="304920"/>
            <a:ext cx="175248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3rd Tria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 spd="med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Luke 22:69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914400" y="1295280"/>
            <a:ext cx="7315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t from now on the Son of Man will be seated at the right hand of the power of God.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838080" y="1143000"/>
            <a:ext cx="7391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228600" y="304920"/>
            <a:ext cx="175248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3rd Tria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 spd="med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Luke 22:70-71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914400" y="1295280"/>
            <a:ext cx="7315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they all said, “Are You the Son of God, then?” And He said to them, “Yes, I am.”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71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hen they said, “What further need do we have of testimony? For we have heard it ourselves from His own mouth.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1143000"/>
            <a:ext cx="7391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28600" y="304920"/>
            <a:ext cx="175248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3rd Tria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 spd="med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Luke 23:1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n the whole body of them got up and brought Him before Pilat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838080" y="1143000"/>
            <a:ext cx="7391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228600" y="304920"/>
            <a:ext cx="175248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4th Tria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1066680" y="2666880"/>
            <a:ext cx="2265480" cy="34290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28" name=""/>
          <p:cNvSpPr/>
          <p:nvPr/>
        </p:nvSpPr>
        <p:spPr>
          <a:xfrm>
            <a:off x="3657600" y="2895480"/>
            <a:ext cx="5181480" cy="28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man military standar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rban money from the Temp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easure hunters on Mount Gerizi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John 18:28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914400" y="1295280"/>
            <a:ext cx="7315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n they led Jesus from Caiaphas into the Praetorium, and it was early; and they themselves did not enter into the Praetorium so that they would not be defiled, but might eat the Passov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1143000"/>
            <a:ext cx="7391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28600" y="304920"/>
            <a:ext cx="175248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4th Tria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 spd="med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John 18:29-30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914400" y="1295280"/>
            <a:ext cx="7315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fore Pilate went out to them and said, “What accusation do you bring against this Man?”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0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hey answered and said to him, “If this Man were not an evildoer, we would not have delivered Him to you.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838080" y="1143000"/>
            <a:ext cx="7391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228600" y="304920"/>
            <a:ext cx="175248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4th Tria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 spd="med"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John 18:31-32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914400" y="1295280"/>
            <a:ext cx="7315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Pilate said to them, “Take Him yourselves, and judge Him according to your law.” The Jews said to him, “We are not permitted to put anyone to death,”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o fulfill the word of Jesus which He spoke, signifying by what kind of death He was about to di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838080" y="1143000"/>
            <a:ext cx="7391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28600" y="304920"/>
            <a:ext cx="175248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4th Tria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8229600" cy="56466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John 18:33-34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914400" y="1295280"/>
            <a:ext cx="7315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fore Pilate entered again into the Praetorium, and summoned Jesus and said to Him, “Are You the King of the Jews?”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4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Jesus answered, “Are you saying this on your own initiative, or did others tell you about Me?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838080" y="1143000"/>
            <a:ext cx="7391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228600" y="304920"/>
            <a:ext cx="175248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4th Tria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 spd="med"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John 18:35-36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914400" y="1295280"/>
            <a:ext cx="7315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ilate answered, “I am not a Jew, am I? Your own nation and the chief priests delivered You to me; what have You done?”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6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Jesus answered, “My kingdom is not of this world. If My kingdom were of this world, then My servants would be fighting so that I would not be handed over to the Jews; but as it is, My kingdom is not of this realm.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838080" y="1143000"/>
            <a:ext cx="7391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228600" y="304920"/>
            <a:ext cx="175248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4th Tria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 spd="med"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John 18:37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914400" y="1295280"/>
            <a:ext cx="7315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fore Pilate said to Him, “So You are a king?” Jesus answered, “You say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correctly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at I am a king. For this I have been born, and for this I have come into the world, to testify to the truth. Everyone who is of the truth hears My voice.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838080" y="1143000"/>
            <a:ext cx="7391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228600" y="304920"/>
            <a:ext cx="175248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4th Tria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 spd="med"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John 18:38-39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914400" y="1295280"/>
            <a:ext cx="7315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ilate said to Him, “What is truth?” And when he had said this, he went out again to the Jews and said to them, “I find no guilt in Him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9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But you have a custom that I release someone for you at the Passover; do you wish then that I release for you the King of the Jews?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838080" y="1143000"/>
            <a:ext cx="7391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228600" y="304920"/>
            <a:ext cx="175248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4th Tria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 spd="med"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John 18:40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914400" y="1295280"/>
            <a:ext cx="7315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they cried out again, saying, “Not this Man, but Barabbas.” Now Barabbas was a robber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38080" y="1143000"/>
            <a:ext cx="7391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228600" y="304920"/>
            <a:ext cx="175248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4th Tria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 spd="med"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Luke 23:2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914400" y="1295280"/>
            <a:ext cx="7315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they began to accuse Him, saying, “We found this man misleading our nation and forbidding to pay taxes to Caesar, and saying that He Himself is Christ, a King.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838080" y="1143000"/>
            <a:ext cx="7391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228600" y="304920"/>
            <a:ext cx="175248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4th Tria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 spd="med"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Luke 23:3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914400" y="1295280"/>
            <a:ext cx="7315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Pilate asked Him, saying, “Are You the King of the Jews?” And He answered him and said, “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It is as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 say.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1143000"/>
            <a:ext cx="7391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228600" y="304920"/>
            <a:ext cx="175248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4th Tria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 spd="med"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Luke 23:4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914400" y="1295280"/>
            <a:ext cx="7315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n Pilate said to the chief priests and the crowds, “I find no guilt in this man.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838080" y="1143000"/>
            <a:ext cx="7391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228600" y="304920"/>
            <a:ext cx="175248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4th Tria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 spd="med"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Luke 23:5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914400" y="1295280"/>
            <a:ext cx="7315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t they kept on insisting, saying, “He stirs up the people, teaching all over Judea, starting from Galilee even as far as this place.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838080" y="1143000"/>
            <a:ext cx="7391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228600" y="304920"/>
            <a:ext cx="175248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4th Tria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 spd="med">
    <p:fad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Luke 23:6-7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914400" y="1295280"/>
            <a:ext cx="7315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n Pilate heard it, he asked whether the man was a Galilean.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nd when he learned that He belonged to Herod's jurisdiction, he sent Him to Herod, who himself also was in Jerusalem at that time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838080" y="1143000"/>
            <a:ext cx="7391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228600" y="304920"/>
            <a:ext cx="175248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4th Tria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80880" y="685800"/>
            <a:ext cx="2819520" cy="496836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w Judas also, who was betraying Him, knew the place, for Jesus had often met there with His disciples (John 18:2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Luke 23:8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914400" y="1295280"/>
            <a:ext cx="7315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w Herod was very glad when he saw Jesus; for he had wanted to see Him for a long time, because he had been hearing about Him and was hoping to see some sign performed by Hi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838080" y="1143000"/>
            <a:ext cx="7391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228600" y="304920"/>
            <a:ext cx="175248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5th Tria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 spd="med">
    <p:fad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Luke 23:9-10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914400" y="1295280"/>
            <a:ext cx="7315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he questioned Him at some length; but He answered him nothing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nd the chief priests and the scribes were standing there, accusing Him vehementl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838080" y="1143000"/>
            <a:ext cx="7391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228600" y="304920"/>
            <a:ext cx="175248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5th Tria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 spd="med">
    <p:fad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Luke 23:11-12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914400" y="1295280"/>
            <a:ext cx="7315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Herod with his soldiers, after treating Him with contempt and mocking Him, dressed Him in a gorgeous robe and sent Him back to Pilate.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Now Herod and Pilate became friends with one another that very day; for before they had been enemies with each oth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838080" y="1143000"/>
            <a:ext cx="7391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228600" y="304920"/>
            <a:ext cx="175248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5th Tria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 spd="med">
    <p:fad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John 19:1-3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914400" y="1295280"/>
            <a:ext cx="7315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ilate then took Jesus and scourged Him.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nd the soldiers twisted together a crown of thorns and put it on His head, and put a purple robe on Him;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nd they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began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come up to Him and say, “Hail, King of the Jews!” and to give Him slaps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in the fac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838080" y="1143000"/>
            <a:ext cx="7391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228600" y="304920"/>
            <a:ext cx="175248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6th Tria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 spd="med">
    <p:fad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John 19:4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914400" y="1295280"/>
            <a:ext cx="7315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ilate came out again and said to them, “Behold, I am bringing Him out to you so that you may know that I find no guilt in Him.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838080" y="1143000"/>
            <a:ext cx="7391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228600" y="304920"/>
            <a:ext cx="175248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6th Tria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 spd="med">
    <p:fade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John 19:5-6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914400" y="1295280"/>
            <a:ext cx="7315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esus then came out, wearing the crown of thorns and the purple robe.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Pilat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id to them, “Behold, the Man!”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So when the chief priests and the officers saw Him, they cried out saying, “Crucify, crucify!” Pilate said to them, “Take Him yourselves and crucify Him, for I find no guilt in Him.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38080" y="1143000"/>
            <a:ext cx="7391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228600" y="304920"/>
            <a:ext cx="175248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6th Tria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 spd="med">
    <p:fade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John 19:7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914400" y="1295280"/>
            <a:ext cx="7315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Jews answered him, “We have a law, and by that law He ought to die because He made Himself out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to b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on of God.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838080" y="1143000"/>
            <a:ext cx="7391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228600" y="304920"/>
            <a:ext cx="175248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6th Tria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 spd="med">
    <p:fade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John 19:8-9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914400" y="1295280"/>
            <a:ext cx="7315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fore when Pilate heard this statement, he was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even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re afraid;  9 and he entered into the Praetorium again and said to Jesus, “Where are You from?” But Jesus gave him no answer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838080" y="1143000"/>
            <a:ext cx="7391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228600" y="304920"/>
            <a:ext cx="175248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6th Tria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 spd="med">
    <p:fade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John 19:10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914400" y="1295280"/>
            <a:ext cx="7315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Pilate said to Him, “You do not speak to me? Do You not know that I have authority to release You, and I have authority to crucify You?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1143000"/>
            <a:ext cx="7391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228600" y="304920"/>
            <a:ext cx="175248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6th Tria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 spd="med">
    <p:fade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John 19:11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914400" y="1295280"/>
            <a:ext cx="7315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esus answered, “You would have no authority over Me, unless it had been given you from above; for this reason he who delivered Me to you has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eater sin.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838080" y="1143000"/>
            <a:ext cx="7391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228600" y="304920"/>
            <a:ext cx="175248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6th Tria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John 18:3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914400" y="1295280"/>
            <a:ext cx="7315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udas then, having received the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Roman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hort and officers from the chief priests and the Pharisees, came there with lanterns and torches and weapon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38080" y="1143000"/>
            <a:ext cx="7391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3962520" y="3657600"/>
            <a:ext cx="3771720" cy="28144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spd="med">
    <p:fade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John 19:12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914400" y="1295280"/>
            <a:ext cx="7315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 a result of this Pilate made efforts to release Him, but the Jews cried out saying, “If you release this Man, you are no friend of Caesar; everyone who makes himself out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to b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king opposes Caesar.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838080" y="1143000"/>
            <a:ext cx="7391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228600" y="304920"/>
            <a:ext cx="175248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6th Tria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 spd="med">
    <p:fade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John 19:13-14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914400" y="1295280"/>
            <a:ext cx="7315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fore when Pilate heard these words, he brought Jesus out, and sat down on the judgment seat at a place called The Pavement, but in Hebrew, Gabbatha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4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Now it was the day of preparation for the Passover; it was about the sixth hour. And he said to the Jews, “Behold, your King!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838080" y="1143000"/>
            <a:ext cx="7391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228600" y="304920"/>
            <a:ext cx="175248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6th Tria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 spd="med">
    <p:fade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John 19:15-16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914400" y="1295280"/>
            <a:ext cx="7315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they cried out, “Away with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Hi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away with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Hi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crucify Him!” Pilate said to them, “Shall I crucify your King?” The chief priests answered, “We have no king but Caesar.”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6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So he then handed Him over to them to be crucified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838080" y="1143000"/>
            <a:ext cx="7391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228600" y="304920"/>
            <a:ext cx="175248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6th Tria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 spd="med">
    <p:fade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Matthew 27:24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914400" y="1295280"/>
            <a:ext cx="7315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n Pilate saw that he was accomplishing nothing, but rather that a riot was starting, he took water and washed his hands in front of the crowd, saying, “I am innocent of this Man’s blood; see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to that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rselves.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838080" y="1143000"/>
            <a:ext cx="7391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228600" y="304920"/>
            <a:ext cx="175248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6th Tria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2743200" y="4343400"/>
            <a:ext cx="3886200" cy="22716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Matthew 27:25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914400" y="1295280"/>
            <a:ext cx="7315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all the people said, “His blood shall be on us and on our children!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838080" y="1143000"/>
            <a:ext cx="7391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304920"/>
            <a:ext cx="175248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6th Tria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2743200" y="4343400"/>
            <a:ext cx="3886200" cy="22716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Matthew 27:26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914400" y="1295280"/>
            <a:ext cx="7315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n he released Barabbas for them; but after having Jesus scourged, he handed Him over to be crucified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838080" y="1143000"/>
            <a:ext cx="7391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228600" y="304920"/>
            <a:ext cx="175248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6th Tria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 spd="med">
    <p:fade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John 18:4-6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295280"/>
            <a:ext cx="7315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Jesus, knowing all the things that were coming upon Him, went forth and said to them, “Whom do you seek?”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hey answered Him, “Jesus the Nazarene.” He said to them, “I am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H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” And Judas also, who was betraying Him, was standing with them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So when He said to them, “I am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H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” they drew back and fell to the ground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1143000"/>
            <a:ext cx="7391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John 18:7-9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914400" y="1295280"/>
            <a:ext cx="7315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fore He again asked them, “Whom do you seek?” And they said, “Jesus the Nazarene.”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Jesus answered, “I told you that I am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H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; so if you seek Me, let these go their way,”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9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o fulfill the word which He spoke, “Of those whom You have given Me I lost not one.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838080" y="1143000"/>
            <a:ext cx="7391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John 18:10-11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914400" y="1295280"/>
            <a:ext cx="7315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on Peter then, having a sword, drew it and struck the high priest's slave, and cut off his right ear; and the slave’s name was Malchus.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1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So Jesus said to Peter, “Put the sword into the sheath; the cup which the Father has given Me, shall I not drink it?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838080" y="1143000"/>
            <a:ext cx="7391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John 18:12-13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914400" y="1295280"/>
            <a:ext cx="7315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the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Roman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hort and the commander and the officers of the Jews, arrested Jesus and bound Him,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nd led Him to Annas first; for he was father-in-law of Caiaphas, who was high priest that year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38080" y="1143000"/>
            <a:ext cx="7391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4T08:55:22Z</dcterms:created>
  <dc:creator>John Stevenson</dc:creator>
  <dc:description/>
  <dc:language>en-US</dc:language>
  <cp:lastModifiedBy>John Stevenson</cp:lastModifiedBy>
  <dcterms:modified xsi:type="dcterms:W3CDTF">2012-11-12T21:09:41Z</dcterms:modified>
  <cp:revision>467</cp:revision>
  <dc:subject/>
  <dc:title>Life of Christ</dc:title>
</cp:coreProperties>
</file>