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F4B-0847-441B-98BC-74CDCED1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D80-CDA4-4950-913A-EDE7EA2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3F8-69D0-42D4-9376-25EB4089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62D-4A0B-4C37-A23A-DB47CDE7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E9F-90E5-402F-B12D-6E533A9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B1C-A830-4A32-8F60-B925777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107-59C9-4104-8A71-FF0D772A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822-F9D2-4A70-A2BD-29993C09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216-AF87-49AD-A10A-B763D61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90C-8DCD-41F3-B035-4FB53E4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5DB-9A11-4454-96F8-3B1F9E7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4CE-2FC2-45DA-8474-95D53C06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C33-5581-4DE5-8B3E-8E02206532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e/e4/PikiWiki_Israel_14882_Western_Wall_in_Jerusalem.jpg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e/e4/PikiWiki_Israel_14882_Western_Wall_in_Jerusalem.jp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ncounters with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fe of Chris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File:PikiWiki Israel 14882 Western Wall in Jerusalem.jpg"/>
          <p:cNvPicPr/>
          <p:nvPr/>
        </p:nvPicPr>
        <p:blipFill>
          <a:blip r:embed="rId2"/>
          <a:stretch/>
        </p:blipFill>
        <p:spPr>
          <a:xfrm>
            <a:off x="-533520" y="0"/>
            <a:ext cx="10363320" cy="6835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904760" y="2438280"/>
            <a:ext cx="5715000" cy="3810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grimage to Jerusalem with tree bran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ing Cerem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Libation Cerem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Day: Hoshana Rabbah.  Seven circuits made around te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62320" y="380880"/>
            <a:ext cx="478620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east of Boot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kko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65833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ikiWiki_Israel_14882_Western_Wall_in_Jerusalem.jpg</a:t>
            </a:r>
            <a:r>
              <a:rPr b="0" lang="en-US" sz="12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1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Jews were seeking Him at the feast and were saying, “Where is He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 was much grumbling among the crowds concerning Him; some were saying, “He is a good man”; others were saying, “No, on the contrary, He leads the people astray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t no one was speaking openly of Him for fear of the Jew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 it was now the midst of the feast Jesus went up into the temple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312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then were astonished, saying, “How has this man become learned, having never been educate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312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6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Jesus answered them and said, “My teaching is not Mine, but His who sent Me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anyone is willing to do His will, he will know of the teaching, whether it is of God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th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peak from Mysel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25-2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some of the people of Jerusalem were saying, “Is this not the man whom they are seeking to kill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ok, He is speaking publicly, and they are saying nothing to Him. The rulers do not really know that this is the Christ, do they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wever, we know where this man is from; but whenever the Christ may come, no one knows where He is fro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28-3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Jesus cried out in the temple, teaching and saying, “You both know Me and know where I am from; and I have not come of Myself, but He who sent Me is true, whom you do not know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know Him, because I am from Him, and He sent Me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they were seeking to seize Him; and no man laid his hand on Him, because His hour had not yet c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610480" cy="588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37-3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on the last day, the grea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feast, Jesus stood and cried out, saying, “If anyone is thirsty, let him come to Me and drink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ho believes in Me, as the Scripture said, ‘From his innermost being will flow rivers of living water.’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is He spoke of the Spirit, whom those who believed in Him were to receive; for the Spirit was not ye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ecause Jesus was not yet glorifi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4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people therefore, when they heard these words, were saying, “This certainly is the Prophe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se things Jesus was walking in Galilee, for He was unwilling to walk in Judea because the Jews were seeking to kill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72000" y="1295280"/>
            <a:ext cx="27939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6400800" y="1752480"/>
            <a:ext cx="132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lile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19920" y="4800600"/>
            <a:ext cx="11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41-4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were saying, “This is the Christ.” Still others were saying, “Surely the Christ is not going to come from Galilee, is He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not the Scripture said that the Christ comes from the descendants of David, and from Bethlehem, the village where David was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a division occurred in the crowd because of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45-4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fficers then came to the chief priests and Pharisees, and they said to them, “Why did you not bring Him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officers answered, “Never has a man spoken the way this man speak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47-4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risees then answered them, “You have not also been led astray, have you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 one of the rulers or Pharisees has believed in Him, has he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is crowd which does not know the Law is accurs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50-5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odemus (he who came to Him before, being one of them) said to th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Our Law does not judge a man unless it first hears from him and knows what he is doing, does i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answered him, “You are not also from Galilee, are you? Search, and see that no prophet arises out of Galile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eryone went to his hom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400960" cy="291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from many early manuscr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d in different locations in Joh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sebius attributes the story to Pap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438280" y="457200"/>
            <a:ext cx="43102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7:53 - 8: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Jesus again spoke to them, saying, “I am the Light of the world; he who follows Me will not walk in the darkness, but will have the Light of lif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2867040" cy="41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Pharisees said to Him, “You are testifying about Yourself; Your testimony is not tru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 and said to them, “Even if I testify about Myself, My testimony is true, for I know where I came from and where I am going; but you do not know where I come from or where I am going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judge according to the flesh; I am not judging anyo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16-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even if I do judge, My judgment is true; for I am not alon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I and the Father who sent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in your law it has been written that the testimony of two men is tru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am He who testifies about Myself, and the Father who sent Me testifies about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were saying to Him, “Where is Your Father?” Jesus answered, “You know neither Me nor My Father; if you knew Me, you would know My Father also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2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feast of the Jews, the Feast of Booths, was n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819520"/>
            <a:ext cx="3733560" cy="761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ring Fe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819520"/>
            <a:ext cx="3733560" cy="761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ll Fe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581280"/>
            <a:ext cx="3733560" cy="2819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eavened 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fr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t of Pente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581280"/>
            <a:ext cx="3733560" cy="2819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p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of Ato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t of Boo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ukk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1295280" y="-87480"/>
            <a:ext cx="11582280" cy="6945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2280" y="609480"/>
            <a:ext cx="2819520" cy="5562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words He spoke in the treasury, as He taught in the temple; and no one seized Him, because His hour had not yet come. (John 8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30-3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He spoke these things, many came to believe in Hi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Jesus was saying to those Jews who had believed Him, “If you continue in My wor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truly disciples of Mine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will know the truth, and the truth will make you fre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3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nswered Him, “We are Abraham's descendants and have never yet been enslaved to anyone; how is it that You say, ‘You will become free’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34-3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 them, “Truly, truly, I say to you, everyone who commits sin is the slave of si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lave does not remain in the house forever; the son does remain forever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if the Son makes you free, you will be free ind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39-4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nswered and said to Him, “Abraham is our father.” Jesus said to them, “If you are Abraham’s children, do the deeds of Abraha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as it is, you are seeking to kill Me, a man who has told you the truth, which I heard from God; this Abraham did not do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are doing the deeds of your father.” They said to Him, “We were not born of fornication; we have one Father: G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42-4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o them, “If God were your Father, you would love Me, for I proceeded forth and have come from God, for I have not even come on My own initiative, but He sent Me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do you not understand what I am saying?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you cannot hear My wor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4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the devil, and you want to do the desires of your father. He was a murderer from the beginning, and does not stand in the truth because there is no truth in him. Whenever he speaks a lie, he speaks from his ow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r he is a liar and the father of li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4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answered and said to Him, “Do we not say rightly that You are a Samaritan and have a demon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49-5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, “I do not have a demon; but I honor My Father, and you dishonor Me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 do not seek My glory; there is One who seeks and jud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ly, truly, I say to you, if anyone keeps My word he will never see death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52-5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said to Him, “Now we know that You have a demon. Abraham died, and the prophet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and You say, ‘If anyone keeps My word, he will never taste of death.’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rely You are not greater than our father Abraham, who died? The prophets died too; whom do You make Yourself o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b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rance of Wilderness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day of the Feast:  Procession with tree branches and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ay:  Water drawn from the Pool of Siloam and brought in procession to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rance of Water in the Wil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380880"/>
            <a:ext cx="47102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ast of Boot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54-5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, “If I glorify Myself, My glory is nothing; it is My Father who glorifies Me, of whom you say, ‘He is our God’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have not come to know Him, but I know Him; and if I say that I do not know Him, I will be a liar like you, but I do know Him and keep His wor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father Abraham rejoiced to see My day, and he saw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s gla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5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Jews said to Him, “You are not yet fifty years old, and have You seen Abraham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8:58-5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o them, “Truly, truly, I say to you, before Abraham was born, I am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refore they picked up stones to throw at Him, but Jesus hid Himself and went out of the te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He passed by, He saw a man blind from bi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is disciples asked Him, “Rabbi, who sinned, this man or his parents, that he would be born blin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,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an sinned, nor his parents; b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the works of God might be displayed in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must work the works of Him who sent Me as long as it is day; night is coming when no one can work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le I am in the world, I am the Light of the worl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6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1240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had said this, He spat on the ground, and made clay of the spittle, and applied the clay to his ey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aid to him, “Go, wash in the pool of Siloam” (which is translated, Sent). So he went away and washed, and ca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320920" cy="401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-1219320" y="0"/>
            <a:ext cx="10363320" cy="6891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52680" y="4876920"/>
            <a:ext cx="1143000" cy="457200"/>
          </a:xfrm>
          <a:prstGeom prst="rightArrow">
            <a:avLst>
              <a:gd name="adj1" fmla="val 44444"/>
              <a:gd name="adj2" fmla="val 88194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981080" y="4648320"/>
            <a:ext cx="144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ol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52578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lo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80880"/>
            <a:ext cx="1143000" cy="457200"/>
          </a:xfrm>
          <a:prstGeom prst="rightArrow">
            <a:avLst>
              <a:gd name="adj1" fmla="val 44444"/>
              <a:gd name="adj2" fmla="val 88194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14600" y="304920"/>
            <a:ext cx="1500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162920" y="5143680"/>
            <a:ext cx="1447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ol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238880" y="575316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lo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43434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609480"/>
            <a:ext cx="43434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3880"/>
            <a:ext cx="434340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ing of a lame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523880"/>
            <a:ext cx="434340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ing of a blin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438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oes not align himself to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438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oes attach himself to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581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dication of lasting faith on his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581280"/>
            <a:ext cx="4343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mes to faith in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724280"/>
            <a:ext cx="43434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been unable to get down into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724280"/>
            <a:ext cx="43434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told to go and wash in the pool of Silo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the neighbors, and those who previously saw him as a beggar, were saying, “Is not this the one who used to sit and beg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s were saying, “This is he,”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i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were saying, “No, but he is like him.” He kept saying, “I am the on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7467480" cy="3429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is the name of it called, ‘The drawing out of water?’ Because of the pouring out of the Holy Spirit, according to what is said: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 ‘With joy shall ye draw water out of the wells of salvatio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Isaiah 12:3).’” </a:t>
            </a: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rusalem Talmu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0" y="380880"/>
            <a:ext cx="47102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ast of Boot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0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were saying to him, "How then were your eyes opened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answered, “The man who is called Jesus made clay, and anointed my eyes, and said to me, ‘Go to Siloam and wash’; so I went away and washed, and I received sight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aid to him, “Where is He?” He said, “I do not know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65440" y="2298600"/>
            <a:ext cx="2057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rought to the Pharisees the man who was formerly blin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it was a Sabbath on the day when Jesus made the clay and opened his ey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Pharisees also were asking him again how he received his sight. And he said to them, “He applied clay to my eyes, and I washed, and I se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some of the Pharisees were saying, “This man is not from God, because He does not keep the Sabbath.” But others were saying, “How can a man who is a sinner perform such signs?” And there was a division among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said to the blind man again, “What do you say about Him, since He opened your eyes?” And he said, “He is a prophe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18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then did not belie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him, that he had been blind and had received sight, until they called the parents of the very one who had received his sigh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questioned them, saying, “Is this your son, who you say was born blind? Then how does he now se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0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arents answered them and said, “We know that this is our son, and that he was born blin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how he now sees, we do not know; or who opened his eyes, we do not know. Ask him; he is of age, he will speak for himself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arents said this because they were afraid of the Jews; for the Jews had already agreed that if anyone confessed Him to be Christ, he was to be put out of the synagog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a second time they called the man who had been blind, and said to him, “Give glory to God; we know that this man is a sinn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hen answered, “Whether He is a sinner, I do not know; one thing I do know, that though I was blind, now I se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3-5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His brothers said to Him, “Leave here and go into Judea, so that Your disciples also may see Your works which You are doing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no one does anything in secret when he himself seeks to b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now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ly. If You do these things, show Yourself to the world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not even His brothers were believing in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said to him, “What did He do to you? How did He open your eye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ed them, “I told you already and you did not listen; why do you want to hea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? You do not want to become His disciples too, do you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28-2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eviled him and said, “You are His disciple, but we are disciples of Mose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know that God has spoken to Moses, but as for this man, we do not know where He is fro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30-3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answered and said to them, “Well, here is an amazing thing, that you do not know where He is from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opened my eye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know that God does not hear sinners; but if anyone is God-fearing and does His will, He hears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the beginning of time it has never been heard that anyone opened the eyes of a person born blin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is man were not from God, He could do nothi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3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nswered him, “You were born entirely in sins, and are you teaching us?” So they put him ou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35-3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rd that they had put him out, and finding him, He said, “Do you believe in the Son of Man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answered, “Who is He, Lord, that I may believe in Him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said to him, “You have both seen Him, and He is the one who is talking with you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said, “Lord, I believe.” And he worshiped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3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said, “For judgment I came into this world, so that those who do not see may see, and that those who see may become blin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9:40-4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of the Pharisees who were with Him heard these things and said to Him, “We are not blind too, are we?”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said to them, “If you were blind, you would have no sin; but since you say, ‘We see,’ your sin remain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6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Jesus said to them, “My time is not yet here, but your time is always opportun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orld cannot hate you, but it hates Me because I testify of it, that its deeds are evi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up to the feast yourselves; I do not go up to this feast because My time has not yet fully come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ing said these things to them, He stayed in Galil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7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 His brothers had gone up to the feast, then He Himself also went up, not publicly, but as if, in secre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4257720" cy="322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File:PikiWiki Israel 14882 Western Wall in Jerusalem.jpg"/>
          <p:cNvPicPr/>
          <p:nvPr/>
        </p:nvPicPr>
        <p:blipFill>
          <a:blip r:embed="rId2"/>
          <a:stretch/>
        </p:blipFill>
        <p:spPr>
          <a:xfrm>
            <a:off x="-533520" y="0"/>
            <a:ext cx="10363320" cy="6835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904760" y="2438280"/>
            <a:ext cx="5715000" cy="3810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y of Tishrei (late September, early Octo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in booths for a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morated the time in the wilder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’s temple dedicated on Sukk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380880"/>
            <a:ext cx="478620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east of Booth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kko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65833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ikiWiki_Israel_14882_Western_Wall_in_Jerusalem.jpg</a:t>
            </a:r>
            <a:r>
              <a:rPr b="0" lang="en-US" sz="12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10-23T18:54:20Z</dcterms:modified>
  <cp:revision>414</cp:revision>
  <dc:subject/>
  <dc:title>Life of Christ</dc:title>
</cp:coreProperties>
</file>