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C41-BD4C-4D4D-8B0B-1177A35F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C62-4335-4B7C-884B-F54853F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A2C-9849-4545-91DD-64D9E8AD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30E-94F1-4643-8510-DDB05120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9D-65AD-43DE-A41B-AD30257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21E-FE81-4124-8AB7-8B81D85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963-98A0-4EAC-9BF0-7AB8FA6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219-96FE-4744-8A4E-C5C1B53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8E4-2738-40A9-B155-CD924A2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B43-C5F9-4247-8111-FAAA78D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6EB-7CA6-4DBA-9022-A53B42A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971-DE8C-4940-9623-88D3A6EB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6DD-E80E-45C6-94D5-91BC33FB25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52680" y="358128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Faith without 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James 2:14-2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5958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1981080"/>
            <a:ext cx="3124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JAMES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1219320"/>
            <a:ext cx="312408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Futura Bk"/>
              </a:rPr>
              <a:t>The Epistle of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Futura Bk"/>
              <a:ea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9-2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that God is one. You do well; the demons also believe, and shudde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are you willing to recognize, you foolish fellow, that faith without works is usel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ot Abraham our father justified by works when he offered up Isaac his son on the altar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2-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71800" y="12189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ee that faith was working with his works, and as a result of the works, faith was perfecte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cripture was fulfilled which says, “And Abraham believed God, and it was reckoned to him as righteousness,” and he was called the friend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11608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71800" y="12189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ee that a man is justified by works and not by faith al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11608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ame way, was not Rahab the harlot also justified by works when she received the messengers and sent them out by another w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4419720" cy="838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rah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838080"/>
            <a:ext cx="4419720" cy="838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h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67652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36232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to be the father of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36232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naanite from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50532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ly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505320"/>
            <a:ext cx="441972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191120"/>
            <a:ext cx="441972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prepared to sacrifice his only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191120"/>
            <a:ext cx="441972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risked her life by protecting Israelite sp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just as the body witho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 is dead, so also faith without works is d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487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everyone who says to Me, ‘Lord, Lord,’ will enter the kingdom of heaven, but he who does the will of My Father who is in heaven will enter. (Matthew 7:21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52880" y="53352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dom from above (3:13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4758200">
            <a:off x="6057720" y="209484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22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43828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ing the tongue (3:1-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7666400">
            <a:off x="5905440" y="4000320"/>
            <a:ext cx="1676520" cy="533160"/>
          </a:xfrm>
          <a:prstGeom prst="rightArrow">
            <a:avLst>
              <a:gd name="adj1" fmla="val 50000"/>
              <a:gd name="adj2" fmla="val 84275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933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343400"/>
            <a:ext cx="365760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 against partiality — Show your faith by your works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105520"/>
            <a:ext cx="1676160" cy="533160"/>
          </a:xfrm>
          <a:prstGeom prst="rightArrow">
            <a:avLst>
              <a:gd name="adj1" fmla="val 50000"/>
              <a:gd name="adj2" fmla="val 84257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343400"/>
            <a:ext cx="3276360" cy="2057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ing orphans and widows in their distress (1:2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3925200">
            <a:off x="1028520" y="346680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47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43828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ling the tongue (1: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7014600">
            <a:off x="1256760" y="1517040"/>
            <a:ext cx="1676520" cy="533520"/>
          </a:xfrm>
          <a:prstGeom prst="rightArrow">
            <a:avLst>
              <a:gd name="adj1" fmla="val 50000"/>
              <a:gd name="adj2" fmla="val 84218"/>
            </a:avLst>
          </a:prstGeom>
          <a:gradFill rotWithShape="0">
            <a:gsLst>
              <a:gs pos="0">
                <a:srgbClr val="002436"/>
              </a:gs>
              <a:gs pos="50000">
                <a:srgbClr val="004f76"/>
              </a:gs>
              <a:gs pos="100000">
                <a:srgbClr val="002436"/>
              </a:gs>
            </a:gsLst>
            <a:lin ang="199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20040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ayer for wisdom (1:5-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2193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use is it, my brethren, if someone says he has faith but he has no works? Can that faith save hi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34340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use is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073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n that faith save hi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13372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32448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by grace you have been saved through faith; and that not of yourselves, it is the gift of Go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ot as a result of works, that no one should boast. (Ephesians 2:8-9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34290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ul (Galatians 2:18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90560" y="1676160"/>
            <a:ext cx="34290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304920"/>
            <a:ext cx="2971800" cy="1371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ames (James 2:2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1676520"/>
            <a:ext cx="2971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743200"/>
            <a:ext cx="34290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743200"/>
            <a:ext cx="2971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 Life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962520"/>
            <a:ext cx="3429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 of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962520"/>
            <a:ext cx="29718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 of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676520"/>
            <a:ext cx="243864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2743200"/>
            <a:ext cx="243864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962520"/>
            <a:ext cx="24386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105520"/>
            <a:ext cx="3429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ecome a Chris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5105520"/>
            <a:ext cx="29718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show I am a Chris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105520"/>
            <a:ext cx="24386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5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brother or sister is without clothing and in need of daily fo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one of you says to them, “Go in peace, be warmed and be filled,” and yet you do not give them what is necessary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, what use is that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so faith, if it has no works, is dea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can you tell wind exis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3809880" cy="26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ames 2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680" y="1218960"/>
            <a:ext cx="701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omeone ma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, “You have faith and I have works; show me your faith without the works, and I will show you my faith by my work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11-22T05:18:30Z</dcterms:modified>
  <cp:revision>359</cp:revision>
  <dc:subject/>
  <dc:title>Discipleship Across the Lifespan</dc:title>
</cp:coreProperties>
</file>