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79F-52D9-4D0D-B09E-45141494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07C-22A5-4A84-926F-38644FB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073-545C-4C10-9BAA-86C84FCC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E64-8209-4BEE-9468-E53F5D03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C77-660D-4EFC-AE2C-0DE2523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6C4-48F4-4FAB-AFDF-537E05B1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D90-4D7D-4D08-93DE-8C42496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8B1-5CBD-41A7-B10A-808B1393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DA1-CD87-4680-8723-543ACB2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EFF-3A32-486B-B427-AD4217A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A87-D6E9-470F-80A6-2BCBC98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CE0-9A9E-4E26-B44E-D5C91687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C215-E9C5-49A0-AD75-160010C234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52680" y="3581280"/>
            <a:ext cx="5105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ith and Favori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James 2:1-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5958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1981080"/>
            <a:ext cx="3124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JAMES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1219320"/>
            <a:ext cx="312408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The Epistle of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, however, you are fulfilling the royal law according to the Scripture, “You shall love your neighbor as yourself,” you are doing well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f you show partiality, you are committing s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convicted by the law as transgress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oever keeps the whole law and yet stumbles in on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e has become guilty of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who said, “Do not commit adultery,” also said, “Do not commit murder.” Now if you do not commit adultery, but do commit murder, you have become a transgressor of the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71800" y="5029200"/>
            <a:ext cx="5791320" cy="16002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if you show partiality, you are guilty as a breaker of the Law (2: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73000">
            <a:off x="1752480" y="449568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303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90920"/>
            <a:ext cx="3657600" cy="2057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against partiality — Show your faith by your works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408200">
            <a:off x="3733560" y="3123720"/>
            <a:ext cx="1676160" cy="533520"/>
          </a:xfrm>
          <a:prstGeom prst="rightArrow">
            <a:avLst>
              <a:gd name="adj1" fmla="val 50000"/>
              <a:gd name="adj2" fmla="val 84200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659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2286000"/>
            <a:ext cx="4419360" cy="2057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showing partiality is against the Law and makes me a law-breaker (2: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905080" y="1409760"/>
            <a:ext cx="1676520" cy="533160"/>
          </a:xfrm>
          <a:prstGeom prst="rightArrow">
            <a:avLst>
              <a:gd name="adj1" fmla="val 50000"/>
              <a:gd name="adj2" fmla="val 84275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5720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ity is not loving (2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914400"/>
            <a:ext cx="1676160" cy="533520"/>
          </a:xfrm>
          <a:prstGeom prst="rightArrow">
            <a:avLst>
              <a:gd name="adj1" fmla="val 50000"/>
              <a:gd name="adj2" fmla="val 84200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4572000" cy="16002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w commands me to love my neighbor as myself (2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2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speak and so act as those who are to be judged b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liberty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judgm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iless to one who has shown no mercy; mercy triumphs over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724280"/>
            <a:ext cx="6172200" cy="11912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02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w does this connect to the previous vers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238880" cy="4876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rything, therefore, treat people the same way you want them to treat you, for this is the Law and the Prophets. (Matthew 7:12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952880" y="53352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dom from above (3:13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758200">
            <a:off x="6057720" y="209484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22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43828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ing the tongue (3:1-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7666400">
            <a:off x="5905440" y="4000320"/>
            <a:ext cx="1676520" cy="533160"/>
          </a:xfrm>
          <a:prstGeom prst="rightArrow">
            <a:avLst>
              <a:gd name="adj1" fmla="val 50000"/>
              <a:gd name="adj2" fmla="val 84275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933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343400"/>
            <a:ext cx="3657600" cy="2057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against partiality — Show your faith by your works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105520"/>
            <a:ext cx="1676160" cy="533160"/>
          </a:xfrm>
          <a:prstGeom prst="rightArrow">
            <a:avLst>
              <a:gd name="adj1" fmla="val 50000"/>
              <a:gd name="adj2" fmla="val 84257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343400"/>
            <a:ext cx="3276360" cy="2057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ing orphans and widows in their distress (1:2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3925200">
            <a:off x="1028520" y="346680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47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43828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ling the tongue (1: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7014600">
            <a:off x="1256760" y="151704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99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ayer for wisdom (1:5-7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brethren, do not hold your faith in our glorious Lord Jesus Christ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attitude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favorit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 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1920" y="114264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 against judging (7:1-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14300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 against judgmental favoritism (2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743200"/>
            <a:ext cx="441972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ion of removing one’s faults so that you can see to remove another’s faults (7:3-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43200"/>
            <a:ext cx="441972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ion of removing one’s partiality so that one can instruct or judge others (2:2-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876920"/>
            <a:ext cx="4419720" cy="1676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not to despise the holy in favor of dogs or pigs (7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876920"/>
            <a:ext cx="4419720" cy="1676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not to despise the one rich in faith in favor of the rich (2:5-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 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04920"/>
            <a:ext cx="441972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143000"/>
            <a:ext cx="441972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mmary of the Law: Do to others what you want done to yourself (7: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143000"/>
            <a:ext cx="441972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mmary of the Law: Love others as you love yourself (2:8-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276720"/>
            <a:ext cx="4419720" cy="2133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against false prophets: You will know them by their fruit (7:15-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276720"/>
            <a:ext cx="4419720" cy="2133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against a dead faith: You will know real faith by its works (2:14-2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f a man comes into your assembly with a gold ring and dressed in fine clothes, and there also comes in a poor man in dirty cloth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pay special attention to the one who is wearing the fine clothes, and say, “You sit here in a good place,” and you say to the poor man, “You stand over there, or sit down by my footstoo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not made distinctions among yourselves, and become judges with evil mot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, my beloved brethren: did not God choose the poor of this wor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in faith and heirs of the kingdom which He promised to those who love Hi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11-15T14:30:40Z</dcterms:modified>
  <cp:revision>354</cp:revision>
  <dc:subject/>
  <dc:title>Discipleship Across the Lifespan</dc:title>
</cp:coreProperties>
</file>