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DECD-BAB5-4723-8C67-7BD91B0C6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8F80-4FB4-4573-BC6B-DC60FD7A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9A24-0A73-4EB5-BE1E-64B37229F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2253-A5A0-4BF6-A3EE-E30239B5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EE22-5312-47C7-AE40-03CE8DF6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2339-DBEC-4CA9-81E3-4CAA3D7B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EBD0-2E2B-44A3-80FE-1093368F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32F2-B6FE-4EA1-A5E7-C07E6964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A86C-51CD-4B99-BB31-3AD833D5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B881-F1F7-4544-B0D4-48DB8FE1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F7B7-060E-4117-9B1F-EF6720F2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C416-FF56-4425-9E0F-AC08B2FD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E90C-957E-4815-8628-41BF652DB1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352680" y="3581280"/>
            <a:ext cx="5105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rials &amp; Tempt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James 1:12-1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91120" y="595800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971800" y="1981080"/>
            <a:ext cx="3124080" cy="81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4617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Futura Bk"/>
              </a:rPr>
              <a:t>JAMES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Futura Bk"/>
              <a:ea typeface="Futura B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971800" y="1219320"/>
            <a:ext cx="3124080" cy="514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4617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Futura Bk"/>
              </a:rPr>
              <a:t>The Epistle of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Futura Bk"/>
              <a:ea typeface="Futura B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2819520" cy="272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ames 1:14-15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2193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each one is tempted when he is carried away and enticed by his own lust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n when lust has conceived, it gives birth to sin; and when sin is accomplished, it brings forth deat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06668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4724280"/>
            <a:ext cx="6172200" cy="17398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0204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ow was this process seen in the Garden of Eden temptatio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5479920"/>
            <a:ext cx="2362320" cy="6426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0204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De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5521320"/>
            <a:ext cx="2362320" cy="6426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0204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Lif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4419720"/>
            <a:ext cx="838080" cy="1143000"/>
          </a:xfrm>
          <a:prstGeom prst="downArrow">
            <a:avLst>
              <a:gd name="adj1" fmla="val 50000"/>
              <a:gd name="adj2" fmla="val 34096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72200" y="4419720"/>
            <a:ext cx="838080" cy="1143000"/>
          </a:xfrm>
          <a:prstGeom prst="downArrow">
            <a:avLst>
              <a:gd name="adj1" fmla="val 50000"/>
              <a:gd name="adj2" fmla="val 34096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3463920"/>
            <a:ext cx="2666880" cy="11912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0204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Outward act of s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57800" y="3463920"/>
            <a:ext cx="2666880" cy="11912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0204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Faith &amp; trust in G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2666880"/>
            <a:ext cx="1752840" cy="144792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300" y="3221"/>
                </a:lnTo>
                <a:lnTo>
                  <a:pt x="12796" y="3221"/>
                </a:lnTo>
                <a:lnTo>
                  <a:pt x="12796" y="8804"/>
                </a:lnTo>
                <a:lnTo>
                  <a:pt x="18379" y="8804"/>
                </a:lnTo>
                <a:lnTo>
                  <a:pt x="18379" y="6300"/>
                </a:lnTo>
                <a:lnTo>
                  <a:pt x="21600" y="10800"/>
                </a:lnTo>
                <a:lnTo>
                  <a:pt x="18379" y="15300"/>
                </a:lnTo>
                <a:lnTo>
                  <a:pt x="18379" y="12796"/>
                </a:lnTo>
                <a:lnTo>
                  <a:pt x="3221" y="12796"/>
                </a:lnTo>
                <a:lnTo>
                  <a:pt x="3221" y="15300"/>
                </a:lnTo>
                <a:lnTo>
                  <a:pt x="0" y="10800"/>
                </a:lnTo>
                <a:lnTo>
                  <a:pt x="3221" y="6300"/>
                </a:lnTo>
                <a:lnTo>
                  <a:pt x="3221" y="8804"/>
                </a:lnTo>
                <a:lnTo>
                  <a:pt x="8804" y="8804"/>
                </a:lnTo>
                <a:lnTo>
                  <a:pt x="8804" y="3221"/>
                </a:lnTo>
                <a:lnTo>
                  <a:pt x="6300" y="3221"/>
                </a:ln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362320"/>
            <a:ext cx="4496040" cy="6426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0204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Desire in the he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1295280"/>
            <a:ext cx="838440" cy="1143000"/>
          </a:xfrm>
          <a:prstGeom prst="downArrow">
            <a:avLst>
              <a:gd name="adj1" fmla="val 50000"/>
              <a:gd name="adj2" fmla="val 34081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533520"/>
            <a:ext cx="6172200" cy="11912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0204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rocess begins with a need (either real or perceived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05120" y="1219320"/>
            <a:ext cx="388620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ames 1:16-17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066680" y="12193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be deceived, my beloved brethren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very good thing given and every perfect gift is from above, coming down from the Father of lights, with whom there is no variation or shifting shad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106668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4876920"/>
            <a:ext cx="327672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resent ten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48769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top being deceiv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ames 1:16-17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12193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be deceived, my beloved brethren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very good thing given and every perfect gift is from above, coming down from the Father of lights, with whom there is no variation or shifting shad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106668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ames 1:18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066680" y="12193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exercise of His will He brought us forth by the word of truth, so that we would be a kind of first fruits among His creatur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106668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4419720" cy="8380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ur Wil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51920" y="3352320"/>
            <a:ext cx="441972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exercise our own will independently of God when we s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304920"/>
            <a:ext cx="4419720" cy="8380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od’s Wi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3352680"/>
            <a:ext cx="441972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exercised His own will in order to save 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4952880"/>
            <a:ext cx="441972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rcising our own will brings forth dea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4952880"/>
            <a:ext cx="441972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rcising His will led to bringing us forth by the word of tr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1143000"/>
            <a:ext cx="4419720" cy="2209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one is tempted when he is carried away and enticed by his own lust (1:14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1143000"/>
            <a:ext cx="4419720" cy="2209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exercise of His will He brought us forth by the word of truth (1:18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ames 1:18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66680" y="12193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exercise of His will He brought us forth by the word of truth, so that we would be a kind of first fruits among His creatur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106668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651640" y="3581280"/>
            <a:ext cx="2435040" cy="2819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238880" cy="48765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Blessed are you when people insult you and persecute you, and falsely say all kinds of evil against you because of Me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Rejoice and be glad, for your reward in heaven is great; for in the same way they persecuted the prophets who were before you. (Matthew 5:11-12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3848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Harold Kushner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114800" y="2895480"/>
            <a:ext cx="45720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is good but not able to prevent bad things from happe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is able to prevent bad things, but he is not go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5800" y="1143000"/>
            <a:ext cx="2987640" cy="4876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114800" y="15238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uggests one of two possible conclusion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1524240" cy="16761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1:1-4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76520" y="304920"/>
            <a:ext cx="7315200" cy="16761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to consider our trials to have an end result of joy because endurance is being produced in our li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1981080"/>
            <a:ext cx="1524240" cy="15242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1: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1981080"/>
            <a:ext cx="7315200" cy="1524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to ask God for wisdom so we can see and understand the benefits of those tri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3505320"/>
            <a:ext cx="1524240" cy="15238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1:6-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3505320"/>
            <a:ext cx="7315200" cy="15238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condition to the reception of God’s wisdom.  It is that we be single-minded in our desire to know G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5029200"/>
            <a:ext cx="1524240" cy="15238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1:9-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5029200"/>
            <a:ext cx="7315200" cy="15238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given a practical application in dealing with those trials.  It is in the area of our fina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ames 1:1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680" y="12193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ssed is a man who perseveres under trial; for once he has been approved, he will receive the crown of life which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Lor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promised to those who love Hi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06668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4120" y="4495680"/>
            <a:ext cx="3504960" cy="1447920"/>
          </a:xfrm>
          <a:custGeom>
            <a:avLst/>
            <a:gdLst>
              <a:gd name="textAreaLeft" fmla="*/ 876240 w 3504960"/>
              <a:gd name="textAreaRight" fmla="*/ 2628720 w 3504960"/>
              <a:gd name="textAreaTop" fmla="*/ 18072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Rew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4724280"/>
            <a:ext cx="4114800" cy="762120"/>
          </a:xfrm>
          <a:prstGeom prst="rightArrow">
            <a:avLst>
              <a:gd name="adj1" fmla="val 50000"/>
              <a:gd name="adj2" fmla="val 115182"/>
            </a:avLst>
          </a:prstGeom>
          <a:gradFill rotWithShape="0">
            <a:gsLst>
              <a:gs pos="0">
                <a:srgbClr val="007471"/>
              </a:gs>
              <a:gs pos="100000">
                <a:srgbClr val="00353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4191120"/>
            <a:ext cx="2895480" cy="1752480"/>
          </a:xfrm>
          <a:prstGeom prst="irregularSeal2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ri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04920" y="4343400"/>
            <a:ext cx="1600200" cy="171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828800" y="2819520"/>
            <a:ext cx="121932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ames 1:1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066680" y="12193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ssed is a man who perseveres under trial; for once he has been approved, he will receive the crown of life which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Lor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promised to those who love Hi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106668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4267080"/>
            <a:ext cx="2057400" cy="13129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Bwgrkl"/>
              </a:rPr>
              <a:t>stefanoj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42670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Victor’s wre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ames 1:1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680" y="12193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no one say when he is tempted, “I am being tempted by God”; for God cannot be tempted by evil, and He Himself does not tempt anyon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06668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724280"/>
            <a:ext cx="6172200" cy="17398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0204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If God cannot be tempted, then how was Jesus tempted in the wildernes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219320" y="403848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4419720" cy="8380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ria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51920" y="1142640"/>
            <a:ext cx="441972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s from the outside and moves into your l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304920"/>
            <a:ext cx="4419720" cy="8380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empt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1143000"/>
            <a:ext cx="441972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s from the inside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2743200"/>
            <a:ext cx="4419720" cy="685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ngs l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2743200"/>
            <a:ext cx="4419720" cy="685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ngs dea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3429000"/>
            <a:ext cx="4419720" cy="1066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s to matur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3429000"/>
            <a:ext cx="4419720" cy="1066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s to a maturing of s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4495680"/>
            <a:ext cx="4419720" cy="2133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brings the outward trials into your l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4495680"/>
            <a:ext cx="4419720" cy="2133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does not bring the inner temptations; those come from within yo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400800" y="4191120"/>
            <a:ext cx="2362320" cy="1752480"/>
          </a:xfrm>
          <a:prstGeom prst="irregularSeal2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De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00600" y="4762440"/>
            <a:ext cx="2057400" cy="838440"/>
          </a:xfrm>
          <a:prstGeom prst="rightArrow">
            <a:avLst>
              <a:gd name="adj1" fmla="val 50000"/>
              <a:gd name="adj2" fmla="val 96404"/>
            </a:avLst>
          </a:prstGeom>
          <a:gradFill rotWithShape="0">
            <a:gsLst>
              <a:gs pos="0">
                <a:srgbClr val="007471"/>
              </a:gs>
              <a:gs pos="100000">
                <a:srgbClr val="00353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ames 1:14-15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680" y="12193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each one is tempted when he is carried away and enticed by his own lust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n when lust has conceived, it gives birth to sin; and when sin is accomplished, it brings forth deat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106668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4267080"/>
            <a:ext cx="1828800" cy="1752840"/>
          </a:xfrm>
          <a:prstGeom prst="irregularSeal2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4762440"/>
            <a:ext cx="2057400" cy="838440"/>
          </a:xfrm>
          <a:prstGeom prst="rightArrow">
            <a:avLst>
              <a:gd name="adj1" fmla="val 50000"/>
              <a:gd name="adj2" fmla="val 96404"/>
            </a:avLst>
          </a:prstGeom>
          <a:gradFill rotWithShape="0">
            <a:gsLst>
              <a:gs pos="0">
                <a:srgbClr val="007471"/>
              </a:gs>
              <a:gs pos="100000">
                <a:srgbClr val="00353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Lu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04920" y="4419720"/>
            <a:ext cx="1600200" cy="1714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Stevenson</cp:lastModifiedBy>
  <dcterms:modified xsi:type="dcterms:W3CDTF">2009-10-31T22:32:19Z</dcterms:modified>
  <cp:revision>333</cp:revision>
  <dc:subject/>
  <dc:title>Discipleship Across the Lifespan</dc:title>
</cp:coreProperties>
</file>