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C162-A945-4DAF-A04A-0EEE635A5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ECDE-CD30-409B-A870-2CA2B88A9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09C7-806D-4302-B7EF-7EEC2F16E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0E09-419D-4DD7-A0D7-71EBB7C80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64B4-9235-453C-9FC4-425184ECB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6D61-F7B7-452D-93E5-61A7E31FB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238A-25F0-4FEC-84A4-86833823A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6BAF-889D-4FF3-BE84-50786E485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F324-47F2-4E4E-9EC4-9DFB330A4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E9C1-C137-4A1F-B7C1-8648EBFC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4D40-9170-4A0F-B4C8-5AE124B5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B1AD-8A55-4B24-9A94-6183ADE7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533EA-FA33-498D-B6CF-82EE37FFC97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352680" y="373356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91120" y="533412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John Stevenson,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971800" y="1981080"/>
            <a:ext cx="3124080" cy="819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93300"/>
                    </a:gs>
                    <a:gs pos="100000">
                      <a:srgbClr val="4617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Futura Bk"/>
              </a:rPr>
              <a:t>JAMES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Futura Bk"/>
              <a:ea typeface="Futura Bk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971800" y="1219320"/>
            <a:ext cx="3124080" cy="514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93300"/>
                    </a:gs>
                    <a:gs pos="100000">
                      <a:srgbClr val="4617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Futura Bk"/>
              </a:rPr>
              <a:t>The Epistle of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Futura Bk"/>
              <a:ea typeface="Futura Bk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85800" y="3581280"/>
            <a:ext cx="2819520" cy="272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30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Epistle of James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240" y="1904760"/>
            <a:ext cx="6095880" cy="533160"/>
          </a:xfrm>
          <a:prstGeom prst="rect">
            <a:avLst/>
          </a:prstGeom>
          <a:gradFill rotWithShape="0">
            <a:gsLst>
              <a:gs pos="0">
                <a:srgbClr val="620650"/>
              </a:gs>
              <a:gs pos="100000">
                <a:srgbClr val="2d022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with Partiality (2:1-1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1371600"/>
            <a:ext cx="6172200" cy="533520"/>
          </a:xfrm>
          <a:prstGeom prst="rect">
            <a:avLst/>
          </a:prstGeom>
          <a:gradFill rotWithShape="0">
            <a:gsLst>
              <a:gs pos="0">
                <a:srgbClr val="620650"/>
              </a:gs>
              <a:gs pos="100000">
                <a:srgbClr val="2d022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ring &amp; doing the Word (1:19-27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838080"/>
            <a:ext cx="6095880" cy="533520"/>
          </a:xfrm>
          <a:prstGeom prst="rect">
            <a:avLst/>
          </a:prstGeom>
          <a:gradFill rotWithShape="0">
            <a:gsLst>
              <a:gs pos="0">
                <a:srgbClr val="620650"/>
              </a:gs>
              <a:gs pos="100000">
                <a:srgbClr val="2d022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king God for Wisdom (1:1-1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71600" y="2438280"/>
            <a:ext cx="6095880" cy="533520"/>
          </a:xfrm>
          <a:prstGeom prst="rect">
            <a:avLst/>
          </a:prstGeom>
          <a:gradFill rotWithShape="0">
            <a:gsLst>
              <a:gs pos="0">
                <a:srgbClr val="620650"/>
              </a:gs>
              <a:gs pos="100000">
                <a:srgbClr val="2d022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ith &amp; Works (2:14-2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3581280"/>
            <a:ext cx="6095880" cy="533520"/>
          </a:xfrm>
          <a:prstGeom prst="rect">
            <a:avLst/>
          </a:prstGeom>
          <a:gradFill rotWithShape="0">
            <a:gsLst>
              <a:gs pos="0">
                <a:srgbClr val="620650"/>
              </a:gs>
              <a:gs pos="100000">
                <a:srgbClr val="2d022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sdom from above (3:13-1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2971800"/>
            <a:ext cx="6172200" cy="609480"/>
          </a:xfrm>
          <a:prstGeom prst="rect">
            <a:avLst/>
          </a:prstGeom>
          <a:gradFill rotWithShape="0">
            <a:gsLst>
              <a:gs pos="0">
                <a:srgbClr val="620650"/>
              </a:gs>
              <a:gs pos="100000">
                <a:srgbClr val="2d022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ming the Tongue (3:1-1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4114800"/>
            <a:ext cx="6095880" cy="533520"/>
          </a:xfrm>
          <a:prstGeom prst="rect">
            <a:avLst/>
          </a:prstGeom>
          <a:gradFill rotWithShape="0">
            <a:gsLst>
              <a:gs pos="0">
                <a:srgbClr val="620650"/>
              </a:gs>
              <a:gs pos="100000">
                <a:srgbClr val="2d022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rning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71800" y="4419720"/>
            <a:ext cx="5867280" cy="533160"/>
          </a:xfrm>
          <a:prstGeom prst="rect">
            <a:avLst/>
          </a:prstGeom>
          <a:gradFill rotWithShape="0">
            <a:gsLst>
              <a:gs pos="0">
                <a:srgbClr val="620650"/>
              </a:gs>
              <a:gs pos="100000">
                <a:srgbClr val="2d022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 Quarrels &amp; Conflicts (4:1-1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71800" y="4952880"/>
            <a:ext cx="5867280" cy="533520"/>
          </a:xfrm>
          <a:prstGeom prst="rect">
            <a:avLst/>
          </a:prstGeom>
          <a:gradFill rotWithShape="0">
            <a:gsLst>
              <a:gs pos="0">
                <a:srgbClr val="620650"/>
              </a:gs>
              <a:gs pos="100000">
                <a:srgbClr val="2d022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ainst Arrogant Boasts (4:11-17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71800" y="5486400"/>
            <a:ext cx="5867280" cy="533520"/>
          </a:xfrm>
          <a:prstGeom prst="rect">
            <a:avLst/>
          </a:prstGeom>
          <a:gradFill rotWithShape="0">
            <a:gsLst>
              <a:gs pos="0">
                <a:srgbClr val="620650"/>
              </a:gs>
              <a:gs pos="100000">
                <a:srgbClr val="2d022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ainst the Rich (5:1-1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71800" y="6019920"/>
            <a:ext cx="5867280" cy="533160"/>
          </a:xfrm>
          <a:prstGeom prst="rect">
            <a:avLst/>
          </a:prstGeom>
          <a:gradFill rotWithShape="0">
            <a:gsLst>
              <a:gs pos="0">
                <a:srgbClr val="620650"/>
              </a:gs>
              <a:gs pos="100000">
                <a:srgbClr val="2d022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ut the need for Prayer (5:12-2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54000"/>
            <a:ext cx="84582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James &amp; The Sermon on the Moun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1640" y="990360"/>
            <a:ext cx="4343400" cy="60948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990720"/>
            <a:ext cx="4343400" cy="60948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thew 5-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600200"/>
            <a:ext cx="4343400" cy="119124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it all joy, my brethren, when you encounter various trials (1:2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600200"/>
            <a:ext cx="4343400" cy="119124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essed are you when men cast insults at you, and persecute you (Matthew 5:12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793960"/>
            <a:ext cx="4343400" cy="1557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let endurance have its perfect result, that you may be perfect and complete, lacking in nothing (1:4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2798640"/>
            <a:ext cx="4343400" cy="1557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fore you are to be perfect, as your heavenly Father is perfect (Matthew 5:48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4343400"/>
            <a:ext cx="4343400" cy="228852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if any of you lacks wisdom, let him ask of God, who gives to all men generously and without reproach, and it will be given to him (1:5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4348080"/>
            <a:ext cx="4343400" cy="228852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k, and it shall be given to you; seek, and you shall find; knock, and it shall be opened to you (Matthew 7:7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1640" y="228240"/>
            <a:ext cx="4343400" cy="60948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228600"/>
            <a:ext cx="4343400" cy="60948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thew 5-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838080"/>
            <a:ext cx="4343400" cy="119124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let the brother of humble circumstances glory in his high position (1:9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838080"/>
            <a:ext cx="4343400" cy="119124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essed are the poor in spirit, for theirs is the kingdom of heaven (Matthew 5:3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2031840"/>
            <a:ext cx="4343400" cy="302004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the sun rises with a scorching wind, and withers the grass; and its flower falls off, and the beauty of its appearance is destroyed; so too the rich man in the midst of his pursuits will fade away (1:11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2036880"/>
            <a:ext cx="4343400" cy="302004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not lay up for yourselves treasures upon earth, where moth and rust destroy, and where thieves break in and steal (Matthew 6:19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5041800"/>
            <a:ext cx="4343400" cy="119124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 no one say when he is tempted, “I am being tempted by God” (1:13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5046840"/>
            <a:ext cx="4343400" cy="119124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do not lead us into temptation, but deliver us from evil (Matthew 7:13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1640" y="117360"/>
            <a:ext cx="4343400" cy="60984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12680"/>
            <a:ext cx="4343400" cy="60948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thew 5-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727200"/>
            <a:ext cx="4343400" cy="119124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the anger of man does not achieve the righteousness of God (1:20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722160"/>
            <a:ext cx="4343400" cy="119124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yone who is angry with his brother shall be guilty before the court (5:22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1920960"/>
            <a:ext cx="4343400" cy="302004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the sun rises with a scorching wind, and withers the grass; and its flower falls off, and the beauty of its appearance is destroyed; so too the rich man in the midst of his pursuits will fade away (1:11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1920960"/>
            <a:ext cx="4343400" cy="302004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not lay up for yourselves treasures upon earth, where moth and rust destroy, and where thieves break in and steal (Matthew 6:19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0" y="4930920"/>
            <a:ext cx="4343400" cy="192276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prove yourselves doers of the word, and not merely hearers who delude themselves (1:22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4930920"/>
            <a:ext cx="4343400" cy="192276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yone who hears these words of Mine, and acts upon them, may be compared to a wise man, who built his house upon the rock (Matthew 7:24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1640" y="75960"/>
            <a:ext cx="4343400" cy="60948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71280"/>
            <a:ext cx="4343400" cy="60984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thew 5-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0" y="685800"/>
            <a:ext cx="4343400" cy="192276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, however, you are fulfilling the royal law, according to the Scripture, “You shall love your neighbor as yourself,” you are doing well (2:8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681120"/>
            <a:ext cx="4343400" cy="192276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fore however you want people to treat you, so treat them, for this is the Law and the Prophets (Matthew 7:12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0" y="2603520"/>
            <a:ext cx="4343400" cy="1557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whoever keeps the whole law and yet stumbles in one point, he has become guilty of all (2:10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2603520"/>
            <a:ext cx="4343400" cy="1557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not think that I came to abolish the Law or the Prophets (Matthew 5:17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0" y="4165560"/>
            <a:ext cx="4343400" cy="1557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judgment will be merciless to one who has shown no mercy; mercy triumphs over judgment (2:13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4152960"/>
            <a:ext cx="4343400" cy="1557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if you do not forgive men, then your heavenly Father will not forgive your transgressions (6:15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1640" y="75960"/>
            <a:ext cx="4343400" cy="60948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76320"/>
            <a:ext cx="4343400" cy="60948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thew 5-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0" y="685800"/>
            <a:ext cx="4343400" cy="228852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someone may well say, “You have faith, and I have works; show me your faith without the works, and I will show you my faith by my works” (2:18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685800"/>
            <a:ext cx="4343400" cy="228852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 your light shine before men in such a way that they may see your good works, and glorify your Father who is in heaven (Matthew 5:16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2971800"/>
            <a:ext cx="4343400" cy="192276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see that a man is justified by works, and not by faith alone (2:24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2976480"/>
            <a:ext cx="4343400" cy="192276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everyone who says to me, “Lord, Lord,” will enter the kingdom of heaven; but he who does the will of My Father who is in heaven. (7:21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0" y="4884840"/>
            <a:ext cx="4343400" cy="192276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a fig tree, my brethren, produce olives, or a vine produce figs? (3:12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4876920"/>
            <a:ext cx="4343400" cy="192276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will know them by their fruits.  Grapes are not gathered from thorn bushes, nor figs from thistles, are they? (Matthew 7:16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495320" y="75960"/>
            <a:ext cx="4343400" cy="60948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2280" y="77760"/>
            <a:ext cx="4343400" cy="60948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thew 5-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95680" y="685800"/>
            <a:ext cx="4343400" cy="1557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the seed whose fruit is righteousness is sown in peace by those who make peace (3:18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687240"/>
            <a:ext cx="4343400" cy="1557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essed are the peacemakers, for they shall be called the sons of God (Matthew 5:9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95680" y="2235240"/>
            <a:ext cx="4343400" cy="119124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lust and do not have; so you commit murder (4:2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2280" y="2241720"/>
            <a:ext cx="4343400" cy="119124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have heard that the ancients were told, “You shall not commit murder” (5:21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3436920"/>
            <a:ext cx="4343400" cy="228852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iendship with the world is hostility toward God? Therefore whoever wishes to be a friend of the world makes himself an enemy of God (4:4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2280" y="3430440"/>
            <a:ext cx="4343400" cy="228852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one can serve two masters; for either he will hate the one and love the other, or he will hold to one and despise the other (Matthew 6:24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5715000"/>
            <a:ext cx="4343400" cy="8254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miserable and mourn and weep (4:9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5721480"/>
            <a:ext cx="4343400" cy="8254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essed are those who mourn (5:4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1640" y="71280"/>
            <a:ext cx="4343400" cy="60984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71280"/>
            <a:ext cx="4343400" cy="60984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thew 5-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0" y="681120"/>
            <a:ext cx="4343400" cy="1557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who speaks against a brother, or judges his brother, speaks against the law, and judges the law (4:11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681120"/>
            <a:ext cx="4343400" cy="1557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not judge lest you be judged.  For in the way you judge, you will be judged (Matthew 7:1-2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2230560"/>
            <a:ext cx="4343400" cy="119124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r riches have rotted and your garments have become moth-eaten (5:2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2235240"/>
            <a:ext cx="4343400" cy="119124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not lay up for yourselves treasures upon earth, where moth and rust destroy (6:19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3419640"/>
            <a:ext cx="4343400" cy="1557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above all, my brethren, do not swear, either by heaven or by earth or with any other oath (5:12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3424320"/>
            <a:ext cx="4343400" cy="1557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I say to you, make no oath at all, either by heaven, for it is the throne of God, or by earth (Matthew 7:34-35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4991040"/>
            <a:ext cx="4343400" cy="1557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..but let your yes be yes, and your no, no; so that you may not fall under judgment (5:12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4991040"/>
            <a:ext cx="4343400" cy="1557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let your statement be, “Yes, yes” and “No, no”; and anything beyond these is of evil (Matthew 5:37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Other Characteristics of the Epistle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7560" y="2361960"/>
            <a:ext cx="6553080" cy="41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ack of Personal N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ttle Mention is made of Chr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sence of a mention of Gentiles in the Chu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istianity is not presented in contrast with Juda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Stevenson</cp:lastModifiedBy>
  <dcterms:modified xsi:type="dcterms:W3CDTF">2009-10-31T21:12:52Z</dcterms:modified>
  <cp:revision>297</cp:revision>
  <dc:subject/>
  <dc:title>Discipleship Across the Lifespan</dc:title>
</cp:coreProperties>
</file>