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B64-A46A-4DF8-8CBD-452C5B15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041-CCD6-4931-95DA-E29DB5D6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D47-7FAC-4DC3-8126-C42FAEA2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981-C1D5-4199-A662-CF683ACC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86D-8B0A-4A14-BF64-655BF9F9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B66-418F-4D7C-A1F4-C0F9487F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71A-160A-449A-A105-29890FC0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AE5-DBA5-4D3B-A003-4301D19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546-1030-4C30-B8C5-852356C3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256-790F-4C56-835A-8F4D400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0D4-8AFC-4550-8FC8-46A09D9A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D75-DEDD-4F10-B374-D304F60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486B-8450-4CD1-BD35-25C1581451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ological Issu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r &amp; Peace Panel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280" y="54100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nel Discuss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68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s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523880" cy="122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56272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Wa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4952880"/>
            <a:ext cx="2514600" cy="457200"/>
          </a:xfrm>
          <a:prstGeom prst="leftRightArrow">
            <a:avLst>
              <a:gd name="adj1" fmla="val 50000"/>
              <a:gd name="adj2" fmla="val 1094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238880" y="1219320"/>
            <a:ext cx="1524240" cy="122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09680" y="14479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agree or disagree with the definition your opponents have given of their own vie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nel Discuss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6668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s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523880" cy="1222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6272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Wa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4952880"/>
            <a:ext cx="2514600" cy="457200"/>
          </a:xfrm>
          <a:prstGeom prst="leftRightArrow">
            <a:avLst>
              <a:gd name="adj1" fmla="val 50000"/>
              <a:gd name="adj2" fmla="val 1094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238880" y="1219320"/>
            <a:ext cx="1524240" cy="1222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09680" y="18288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biblical passages that support the view you are represen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nel Discuss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68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s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523880" cy="122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56272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Wa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4952880"/>
            <a:ext cx="2514600" cy="457200"/>
          </a:xfrm>
          <a:prstGeom prst="leftRightArrow">
            <a:avLst>
              <a:gd name="adj1" fmla="val 50000"/>
              <a:gd name="adj2" fmla="val 1094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238880" y="1219320"/>
            <a:ext cx="1524240" cy="122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09680" y="19051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roblem issues faced by the view you are represen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nel Discuss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s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523880" cy="1222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56272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Wa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952880"/>
            <a:ext cx="2514600" cy="457200"/>
          </a:xfrm>
          <a:prstGeom prst="leftRightArrow">
            <a:avLst>
              <a:gd name="adj1" fmla="val 50000"/>
              <a:gd name="adj2" fmla="val 1094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238880" y="1219320"/>
            <a:ext cx="1524240" cy="1222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09680" y="1905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your position relate to the Kingdom of G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nel Discuss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68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s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52388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56272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Wa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4952880"/>
            <a:ext cx="2514600" cy="457200"/>
          </a:xfrm>
          <a:prstGeom prst="leftRightArrow">
            <a:avLst>
              <a:gd name="adj1" fmla="val 50000"/>
              <a:gd name="adj2" fmla="val 1094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238880" y="1219320"/>
            <a:ext cx="1524240" cy="1222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09680" y="19051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you define the Kingdom of God with respect to the position your are suppor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nel Discuss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68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s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523880" cy="1222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Wa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952880"/>
            <a:ext cx="2514600" cy="457200"/>
          </a:xfrm>
          <a:prstGeom prst="leftRightArrow">
            <a:avLst>
              <a:gd name="adj1" fmla="val 50000"/>
              <a:gd name="adj2" fmla="val 1094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238880" y="1219320"/>
            <a:ext cx="1524240" cy="1222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09680" y="14479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ly speaking, what does it mean to live in accordance with your represented view in today’s United Sta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Course Evaluations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21430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ession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ly examine two positions on the issue of War and Peace and identify the main issues and strengths and weakn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atively take positions on the issue of War and Peace and construct arguments for your 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unique nature of the church and its implications for Christian ethics in the contemporary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se a church-related methodology for fertilizing Christian discipleship in light of the theological discussion of the Kingdom of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pplied Learning Paper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next we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ic version prefe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Theological Position Paper for a specific Denomination dealing with two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ingdom View of War and 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ingdom View of the Church and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in the introduction a clear and comprehensive definition of the Kingdom of G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2 Corinthians 10:3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1143000"/>
            <a:ext cx="678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gh we walk in the flesh, we do not war according to the flesh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weapons of our warfare are not of the flesh, but divinely powerful for the destruction of fortress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907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2 Corinthians 10:5-6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14300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oying speculations and every lofty thing raised up against the knowledge of God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every thought captive to the obedience of Christ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e are ready to punish all disobedience, whenever your obedience is comple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9907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70866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has this course challenged your thinking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62520" y="4038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nel Discuss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6668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s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43200" y="1219320"/>
            <a:ext cx="3276720" cy="2627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6272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Wa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4952880"/>
            <a:ext cx="2514600" cy="457200"/>
          </a:xfrm>
          <a:prstGeom prst="leftRightArrow">
            <a:avLst>
              <a:gd name="adj1" fmla="val 50000"/>
              <a:gd name="adj2" fmla="val 1094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ch side should be able to provide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934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cise definition of the two terms (Pacifist and Just-War Theorist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st of relevant issues to consid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st of relevant biblical texts supporting their posi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cise definition of the “Kingdom of God” as it relates to their position in the argu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nel Discussion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6668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s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1523880" cy="1222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62720" y="4495680"/>
            <a:ext cx="2286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Wa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952880"/>
            <a:ext cx="2514600" cy="457200"/>
          </a:xfrm>
          <a:prstGeom prst="leftRightArrow">
            <a:avLst>
              <a:gd name="adj1" fmla="val 50000"/>
              <a:gd name="adj2" fmla="val 1094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38880" y="1219320"/>
            <a:ext cx="1524240" cy="122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18288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us a concise definition of the view you are represe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3-24T11:40:27Z</dcterms:modified>
  <cp:revision>135</cp:revision>
  <dc:subject/>
  <dc:title>Discipleship Across the Lifespan</dc:title>
</cp:coreProperties>
</file>