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35C-A358-406D-86DB-810B47DB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ACF-AE76-49B5-A32D-CAF9F264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F1E-AE58-4ECF-B01B-30B16D2B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EEA-4EE1-4443-86DE-D4B4E5E1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0CA9-D450-412E-833A-A3D2B7E9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1B3-EAEF-420A-B13A-CA5E7834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A39-A88D-45FA-821B-31CF2E32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37D-B5B8-4C7C-AA7A-E4552373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218-50CC-499A-9706-148B1056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959-53CD-4D2C-A2E5-359353FC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D4E-7730-453F-82F1-58012BCA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D75-5849-4CA1-8B3D-933FED5F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D051-0551-4790-94A2-8E88215918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ological Issu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R &amp; PE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nity International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280" y="541008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38080" y="1219320"/>
            <a:ext cx="7315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roblem of Evi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36576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God is good, and He is, then why does evil exis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9880" y="25146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380880"/>
            <a:ext cx="5410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Proj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586728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ad Romans 9:14-24 and answer the following questions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3809880"/>
            <a:ext cx="8001000" cy="28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assumptions made by Paul in the questions he as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Paul answer the question regarding evil and the justice of G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209680" cy="211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Romans 9:14-1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hall we say then? There is no injustice with God, is there? May it never be!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He says to Moses, “I will have mercy on whom I have mercy, and I will have compassion on whom I have compassion.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then i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pe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man who wills or the man who runs, but on God who has mer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Romans 9:17-1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Scripture says to Pharaoh, “For this very purpose I raised you up, to demonstrate My power in you, and that My name might be proclaimed throughout the whole earth.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then He has mercy on whom He desires, and He hardens whom He desi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914400"/>
            <a:ext cx="7162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Romans 9:19-2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say to me then, “Why does He still find fault? For who resists His will?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contrary, who are you, O man, who answers back to God? The thing molded will not say to the molder, “Why did you make me like this,” will it?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does not the potter have a right over the clay, to make from the same lump one vessel for honorable use, and another for common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914400"/>
            <a:ext cx="7162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Romans 9:22-2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God, although willing to demonstrate His wrath and to make His power known, endured with much patience vessels of wrath prepared for destruction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 did s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rder that He might make known the riches of His glory upon vessels of mercy, which He prepared beforehand for glor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v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, whom He also called, not from among Jews only, but also from among Genti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914400"/>
            <a:ext cx="7162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etrich Bonhoeff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240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ing member of the Confessing Church in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ed Jews to escape to Switzer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arrested in plot to assassinate Hit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2454120" cy="426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3124080" y="914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6 - 19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etrich Bonhoeff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2454120" cy="426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124080" y="914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6 - 19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410080" y="1600200"/>
            <a:ext cx="3013200" cy="426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etrich Bonhoeff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5943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Bonhoeffer’s theology change over the years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some specific events, relationships, or books which caused the shifts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ways did Bonhoeffer agree with Karl Bar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ways did he disagre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2454120" cy="426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3124080" y="914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6 - 19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© 1989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33720" y="1371600"/>
            <a:ext cx="6705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o often, we depict salvation as that which provides us with a meaningful existence when we achieve a new self-understanding.  Here, with our emphasis on the narrative nature of Christian life, we are saying that salvation is baptism into a community that has so truthful a story that we forget ourselves and our anxieties long enough to become part of that story, a story God has told in Scripture and continues to tell in Israel and the chur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173664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9" name=""/>
          <p:cNvSpPr txBox="1"/>
          <p:nvPr/>
        </p:nvSpPr>
        <p:spPr>
          <a:xfrm>
            <a:off x="2133720" y="15228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sident Alie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133360" y="144792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this statement relate to the theology of the Kingdom of God and to the issue of Christian discipleship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purpose of “salvation” according to the Bible?  How does salvation occu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the authors mean when they say “Christian ethics. . . are the ethics of revolution?” (p. 62)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173664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" name=""/>
          <p:cNvSpPr txBox="1"/>
          <p:nvPr/>
        </p:nvSpPr>
        <p:spPr>
          <a:xfrm>
            <a:off x="2133720" y="15228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sident Alie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762120"/>
            <a:ext cx="777240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©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133360" y="144792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Bonhoeffer’s life an example of a Christian revolutionary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or why no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173664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"/>
          <p:cNvSpPr txBox="1"/>
          <p:nvPr/>
        </p:nvSpPr>
        <p:spPr>
          <a:xfrm>
            <a:off x="2133720" y="15228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sident Alie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762120"/>
            <a:ext cx="777240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©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© 1989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133720" y="1371600"/>
            <a:ext cx="6705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 ethics, as a cultivation of those virtues needed to keep us on the journey,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ethics of revolu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Revolutionaries, whose goal is nothing less than the transformation of society through revolution have little patience with those among them who are self-indulgent, and they have no difficulty disciplining such people (Pg 6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173664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"/>
          <p:cNvSpPr txBox="1"/>
          <p:nvPr/>
        </p:nvSpPr>
        <p:spPr>
          <a:xfrm>
            <a:off x="2133720" y="15228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sident Alie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3-10T17:44:42Z</dcterms:modified>
  <cp:revision>112</cp:revision>
  <dc:subject/>
  <dc:title>Discipleship Across the Lifespan</dc:title>
</cp:coreProperties>
</file>