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C12-D8FE-4E05-B0EA-AB4598D6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C14-9EED-4717-BBFF-C1D504B1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9B0-D947-4CC9-8573-9D355253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969-C14A-4F72-8265-122840B3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FA9-25E6-4A64-89AF-9DE47601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DC1-8EF9-4A81-8B4A-9B0BE70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DF9-485D-435B-ADEF-ED7BFC0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85A-89E4-40D2-9CF2-92D55E8F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491-236C-4E57-9C7F-D523A7E7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54B-E1E6-4B69-B3CC-8154756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1F9-2E19-47DF-9B25-B6691E57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7CA-B8FD-4BDE-A7E9-4969443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477-5246-4EBB-AB35-7B17692127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ological Issu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54100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3659040" y="4038480"/>
            <a:ext cx="6098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8160" y="3352680"/>
            <a:ext cx="1600200" cy="762120"/>
            <a:chOff x="3278160" y="3352680"/>
            <a:chExt cx="1600200" cy="762120"/>
          </a:xfrm>
        </p:grpSpPr>
        <p:sp>
          <p:nvSpPr>
            <p:cNvPr id="110" name="Cloud"/>
            <p:cNvSpPr/>
            <p:nvPr/>
          </p:nvSpPr>
          <p:spPr>
            <a:xfrm>
              <a:off x="327816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05600" y="3454560"/>
              <a:ext cx="14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apture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3887640" y="457200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535160" y="3564000"/>
            <a:ext cx="3441960" cy="3593880"/>
            <a:chOff x="7535160" y="3564000"/>
            <a:chExt cx="3441960" cy="3593880"/>
          </a:xfrm>
        </p:grpSpPr>
        <p:sp>
          <p:nvSpPr>
            <p:cNvPr id="118" name="PubChord"/>
            <p:cNvSpPr/>
            <p:nvPr/>
          </p:nvSpPr>
          <p:spPr>
            <a:xfrm rot="21257400">
              <a:off x="7691400" y="3711240"/>
              <a:ext cx="3129120" cy="329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066" y="74"/>
                  </a:moveTo>
                  <a:arcTo wR="10800" hR="10800" stAng="-4996055" swAng="-10921957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8640" y="4921200"/>
              <a:ext cx="130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er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 rot="10800000">
            <a:off x="7697880" y="4076640"/>
            <a:ext cx="304560" cy="1905120"/>
          </a:xfrm>
          <a:prstGeom prst="downArrow">
            <a:avLst>
              <a:gd name="adj1" fmla="val 50000"/>
              <a:gd name="adj2" fmla="val 111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105520" y="3330720"/>
            <a:ext cx="1600200" cy="825480"/>
            <a:chOff x="5105520" y="3330720"/>
            <a:chExt cx="1600200" cy="825480"/>
          </a:xfrm>
        </p:grpSpPr>
        <p:sp>
          <p:nvSpPr>
            <p:cNvPr id="122" name="Cloud"/>
            <p:cNvSpPr/>
            <p:nvPr/>
          </p:nvSpPr>
          <p:spPr>
            <a:xfrm>
              <a:off x="510552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9160" y="3330720"/>
              <a:ext cx="12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010280" y="3352680"/>
            <a:ext cx="1600200" cy="762120"/>
            <a:chOff x="7010280" y="3352680"/>
            <a:chExt cx="1600200" cy="762120"/>
          </a:xfrm>
        </p:grpSpPr>
        <p:sp>
          <p:nvSpPr>
            <p:cNvPr id="125" name="Cloud"/>
            <p:cNvSpPr/>
            <p:nvPr/>
          </p:nvSpPr>
          <p:spPr>
            <a:xfrm>
              <a:off x="701028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9120" y="3508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d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pensation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icially separates between different coming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es to segregate Israel and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572000"/>
            <a:ext cx="6782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63120" y="5424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illen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7960" y="28735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5920" y="499284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rib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s Revelation 20 as symbolic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language of “the last day” li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572000"/>
            <a:ext cx="441972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86400" y="4572000"/>
            <a:ext cx="236376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42640" y="50436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00200" y="6172200"/>
            <a:ext cx="624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t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796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5638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sions the gospel as being victor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language of “the last day” li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4572000"/>
            <a:ext cx="82296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55520" y="516564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19520" y="6172200"/>
            <a:ext cx="335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ter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 flipV="1" rot="10800000">
            <a:off x="234900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868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904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160020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84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9200" y="46623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50120" y="4800600"/>
            <a:ext cx="24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ternal S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6040" y="53784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428640" y="15238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es any future Second Coming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phecy fulfilled in the year 70 A.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on your town’s ecumenical social affairs committ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dr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 hom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maintenance for wi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been meeting in your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uslim and a Hindu will be joining the counc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981080" y="15228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-Class Exerci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90476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Christian view of “Kingdom” allow for working alongside others who worship different “gods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, will you still open your committee meetings in pray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thi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hink this will not work, will you create your own “Christian social affairs committee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981080" y="15228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-Class Exerci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90476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29000" y="1752120"/>
            <a:ext cx="54100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basic premise of the tit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Constantinian assumption” described by the autho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2462040" cy="388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133720" y="38088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ident Alie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733920" y="106668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© 1989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284796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560" y="2971440"/>
            <a:ext cx="3733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Paul Tilli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886-19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ed fundamentalists and sought to develop a new theology that saw God as an impersonal “ground of be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257800" y="152280"/>
            <a:ext cx="3429000" cy="283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029200" y="297180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Karl B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886-19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ed to liberalism by seeing God as so transcendent that we cannot accept the inerrancy of Scri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666520" y="1828440"/>
            <a:ext cx="3962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ptist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or of Biblical Theology, Fuller Theological Sem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Premillenn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02572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11-198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400" y="2286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orge Eledon Lad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22003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284796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6840" y="2971440"/>
            <a:ext cx="3429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Paul Tilli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886-19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ible is only to be understood symbol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257800" y="152280"/>
            <a:ext cx="3429000" cy="283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5029200" y="297180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Karl B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886-19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encounter God as we read the Scriptures, not because they reveal Him, but because He reveals Him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284796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6840" y="2971440"/>
            <a:ext cx="3429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Paul Tilli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886-19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he message of the church so that it will speak to a modern wor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257800" y="152280"/>
            <a:ext cx="3429000" cy="283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5029200" y="297180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Karl B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886-19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he church so that it will make a difference in the modern wor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523880"/>
            <a:ext cx="554328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 the Chur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king a Differ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the World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962520" y="46483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4724640" cy="395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181480" y="2133720"/>
            <a:ext cx="2934000" cy="41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400800" cy="458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181480" cy="42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3520" y="122400"/>
            <a:ext cx="8229600" cy="658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es one live as a citizen of this world and a child of the kingdom of God at the same time?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2485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29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s says the LORD of hosts, the God of Israel, to all the exiles whom I have sent into exile from Jerusalem to Babylon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Build houses and li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th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and plant gardens, and eat their produc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ake wives and become the fathers of sons and daughters, and take wives for your sons and give your daughters to husbands, that they may bear sons and daughters; and multiply there and do not decreas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990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02572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2057400" y="2286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orge Eledon Lad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22003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828800" y="9907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11-19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828800"/>
            <a:ext cx="3810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ord refers to God’s kingdom, it always refers to His reign, His rule, His sovereignty, and not to the realm in which it is exercised” (Pg 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29:7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eek the welfare of the city where I have sent you into exile, and pray to the LORD on its behalf; for in its welfare you will have welfa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990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 we live clean lives in a dirty world?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5:9-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94920" y="137160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rote you in my letter not to associate with immoral peopl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t a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immoral people of this world, or with the covetous and swindlers, or with idolaters; for then you would have to go ou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990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5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29492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ctually, I wrote to you not to associate with any so-called brother if he should be an immoral person, or covetous, or an idolater, or a reviler, or a drunkard, or a swindler-- not even to eat with such a on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990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5:12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at have I to do with judging outsiders? Do you not judge those who are with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chu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ose who are outside, God judges. Remove the wicked man from among yourselv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990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s there a time and a place for the church to impact the world?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02572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2057400" y="2286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orge Eledon Lad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22003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828800" y="9907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11-19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828800"/>
            <a:ext cx="3810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ingdom of God is also the realm in which God’s reign may be experienced.  But again, the Biblical facts are not simple.  Sometimes the B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81320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s of the Kingdom as the realm into which we enter as present, sometimes as though it were future” (Pg 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76320" y="3497400"/>
            <a:ext cx="9372600" cy="990360"/>
            <a:chOff x="-76320" y="3497400"/>
            <a:chExt cx="9372600" cy="990360"/>
          </a:xfrm>
        </p:grpSpPr>
        <p:sp>
          <p:nvSpPr>
            <p:cNvPr id="61" name=""/>
            <p:cNvSpPr/>
            <p:nvPr/>
          </p:nvSpPr>
          <p:spPr>
            <a:xfrm>
              <a:off x="-76320" y="3497400"/>
              <a:ext cx="4800600" cy="9903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is Ag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3497400"/>
              <a:ext cx="4572000" cy="9903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e Age to Com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295280" y="2286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ever speaks a word against the Son of Man, it shall be forgiven him; but whoever speaks against the Holy Spirit, it shall not be forgiven him, either in this age or i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come. (Matthew 12:3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loud"/>
          <p:cNvSpPr/>
          <p:nvPr/>
        </p:nvSpPr>
        <p:spPr>
          <a:xfrm>
            <a:off x="3352680" y="0"/>
            <a:ext cx="2743200" cy="434808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0040" y="4237200"/>
            <a:ext cx="2971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’s Second Com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2181240" cy="32558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-76320" y="3497400"/>
            <a:ext cx="9372600" cy="990360"/>
            <a:chOff x="-76320" y="3497400"/>
            <a:chExt cx="9372600" cy="990360"/>
          </a:xfrm>
        </p:grpSpPr>
        <p:sp>
          <p:nvSpPr>
            <p:cNvPr id="68" name=""/>
            <p:cNvSpPr/>
            <p:nvPr/>
          </p:nvSpPr>
          <p:spPr>
            <a:xfrm>
              <a:off x="-76320" y="3497400"/>
              <a:ext cx="4800600" cy="9903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is Ag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24280" y="3497400"/>
              <a:ext cx="4572000" cy="9903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e Age to Com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loud"/>
          <p:cNvSpPr/>
          <p:nvPr/>
        </p:nvSpPr>
        <p:spPr>
          <a:xfrm>
            <a:off x="3352680" y="0"/>
            <a:ext cx="2743200" cy="434808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1640"/>
            <a:ext cx="38098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rist gave Himself for our sins so that He might rescue us from this present evil age (Galatians 1:4)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2181240" cy="3255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-76320" y="3497400"/>
            <a:ext cx="9372600" cy="990360"/>
            <a:chOff x="-76320" y="3497400"/>
            <a:chExt cx="9372600" cy="990360"/>
          </a:xfrm>
        </p:grpSpPr>
        <p:sp>
          <p:nvSpPr>
            <p:cNvPr id="74" name=""/>
            <p:cNvSpPr/>
            <p:nvPr/>
          </p:nvSpPr>
          <p:spPr>
            <a:xfrm>
              <a:off x="-76320" y="3497400"/>
              <a:ext cx="4800600" cy="9903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is Ag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497400"/>
              <a:ext cx="4572000" cy="9903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e Age to Com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648320" y="4572000"/>
            <a:ext cx="44956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 that in the ages to come He might show the surpassing riches of His grace in kindness toward us… (Ephesians 2: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434340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is Ag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 is the god of this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80880"/>
            <a:ext cx="434340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Age to 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4300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reign shall be over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209680"/>
            <a:ext cx="4343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at and tares grow up together until the time of the harv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209680"/>
            <a:ext cx="4343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ghteous will shine forth as the sun in the Kingdom of their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038480"/>
            <a:ext cx="43434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ns of this age marry and are given in marriage (Luke 20:3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038480"/>
            <a:ext cx="43434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are considered worthy to attain to that age… are like the angels (Luke 20:35-3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 rot="10800000">
            <a:off x="7697880" y="4076640"/>
            <a:ext cx="304560" cy="1905120"/>
          </a:xfrm>
          <a:prstGeom prst="downArrow">
            <a:avLst>
              <a:gd name="adj1" fmla="val 50000"/>
              <a:gd name="adj2" fmla="val 111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510552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9160" y="33307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Cloud"/>
          <p:cNvSpPr/>
          <p:nvPr/>
        </p:nvSpPr>
        <p:spPr>
          <a:xfrm>
            <a:off x="701028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9120" y="3508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6172200"/>
            <a:ext cx="6782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ic Pre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5107320" y="411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Rap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4572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ical View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lation 20 li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language of “the last day” figura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2-19T16:04:29Z</dcterms:modified>
  <cp:revision>86</cp:revision>
  <dc:subject/>
  <dc:title>Discipleship Across the Lifespan</dc:title>
</cp:coreProperties>
</file>