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30B-0BDB-42F2-B178-E5D49C4C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1F1-6F79-4143-BA06-94C3A1A3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500-DB06-46C8-9997-403C3B78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3CC-D81B-4EC2-B34E-54BAA6CE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619-6B7E-43CE-B544-A7C12A5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287-E2DE-467B-AF90-89F9913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D44-0379-484B-B1DC-592C0D2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56A-F8BA-438C-82EF-87B3E4B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F91-9ADF-40FB-8B57-3951CBD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062-D79C-49C9-8D14-F15C23C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787-64F7-44E4-A607-918D5FC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854-3E6D-4B1E-A142-C305A6B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488-0CBB-4378-9BCD-9016F05DD1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SC024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Interpret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preting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219320" y="1981080"/>
            <a:ext cx="6781680" cy="19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woman He sai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reatly multiply your pain in childbir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ain you will bring forth childr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your desire will be for your husb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rule over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143000" y="1905120"/>
            <a:ext cx="304920" cy="175248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752480"/>
              <a:gd name="textAreaBottom" fmla="*/ 1737720 h 1752480"/>
            </a:gdLst>
            <a:ahLst/>
            <a:rect l="textAreaLeft" t="textAreaTop" r="textAreaRight" b="textAreaBottom"/>
            <a:pathLst>
              <a:path w="21600" h="124022">
                <a:moveTo>
                  <a:pt x="3600" y="0"/>
                </a:moveTo>
                <a:arcTo wR="3600" hR="3600" stAng="16200000" swAng="-5400000"/>
                <a:lnTo>
                  <a:pt x="0" y="120422"/>
                </a:lnTo>
                <a:arcTo wR="3600" hR="3600" stAng="10800000" swAng="-5400000"/>
                <a:lnTo>
                  <a:pt x="18000" y="124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990720" y="571500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1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ynonymous Parallelism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219320" y="3919680"/>
            <a:ext cx="678168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woman He sai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reatly multiply your pain in childbir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ain you will bring forth childr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your desire will be for your husb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rule over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990720" y="571500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0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tithetical Parallelism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o Adam He said, “Because you have listened to the voice of your wife, and have eaten from the tree about which I commanded you, saying, 'You shall not eat from it'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sed is the ground because of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oil you will eat of it All the days of your life…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18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orns and thistles it shall grow for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will eat the plants of the fiel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the sweat of your face You will eat brea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ll you return to the grou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from it you were take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are dus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dust you shall retur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9176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s of Retributive Iron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81080" y="1142640"/>
            <a:ext cx="335304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rafty than any beast of the fiel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6320" y="1143000"/>
            <a:ext cx="19047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p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334120" y="1143000"/>
            <a:ext cx="373356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is now made lower than all of the other animal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81080" y="2743200"/>
            <a:ext cx="335304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uises Christ on the heel..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320" y="2743200"/>
            <a:ext cx="190476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334120" y="2743200"/>
            <a:ext cx="37335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is  bruised on the hea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981080" y="3809880"/>
            <a:ext cx="335304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s to rule her husband..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76320" y="3809880"/>
            <a:ext cx="190476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5334120" y="3809880"/>
            <a:ext cx="373356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finds that he shall rule over her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981080" y="4876920"/>
            <a:ext cx="335304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dust who would rise to be like God..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6320" y="4876920"/>
            <a:ext cx="190476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334120" y="4876920"/>
            <a:ext cx="373356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is  returned to dust again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470000" y="6248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Warren Gage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7848360" cy="76212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s given: Abram called to leave his family.  Promise of Seed (12:1-3)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6320" y="6019920"/>
            <a:ext cx="7848360" cy="76176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s fulfilled: Isaac born; Hagar &amp; Ishmael sent out; Isaac offered on altar (21-22)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762120"/>
            <a:ext cx="7772400" cy="4572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journ in Egypt, “She is my sister” (12.10-20)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57200" y="5638680"/>
            <a:ext cx="7772400" cy="38124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journ in Gerar, “She is my sister” (20)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62120" y="1219320"/>
            <a:ext cx="7772400" cy="78732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 and Abram: Negotiations (13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m rescues Lot and people of Sodom (14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62120" y="4876920"/>
            <a:ext cx="7772400" cy="76176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and Abram: Negotiations (18:16-33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ls rescue Lot and destroy Sodom (19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066680" y="1981080"/>
            <a:ext cx="7620120" cy="78768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m prepares a sacrifice for a covenant ceremony: God promises descendants and the Land (15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066680" y="4089240"/>
            <a:ext cx="7620120" cy="78768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prepares a meal: God promises that Sarah will give birth to Isaac (18:1-15)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447920" y="2743200"/>
            <a:ext cx="7467480" cy="4572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gar and Ishmael (16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447920" y="3657600"/>
            <a:ext cx="7467480" cy="4572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and Ishmael circumcised (17:23-27)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1752480" y="3200400"/>
            <a:ext cx="7315200" cy="4572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2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ic Covenant (17:1-22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19520" y="2437920"/>
            <a:ext cx="586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ram / Abrah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533520" y="557280"/>
            <a:ext cx="62719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's in a Name?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2895480" y="2590920"/>
            <a:ext cx="335772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ot Motif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230_Jacob's_Well,_at_the_foot_of_Mount_Gerizimsr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638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y of concubine when there was no king in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ul and the men of Jabesh-gil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ul and Amalek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ul and the witch of E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ijah and Jerobo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2514600" y="60948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rn Cloak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 you have a favorite section of the Old Testamen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uteronomy &amp; the Suzerain Trea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5640" y="1905120"/>
            <a:ext cx="624852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storical Pro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i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osit and Reading of the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ses &amp; Bless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Poet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poetr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752480" y="39625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the nations in an uproar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oples devising a vain thing? (Psalm 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752480" y="396252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s of the earth take their stand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rulers take counsel together (Psalm 2:2a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752480" y="39625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sits in the heavens laughs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coffs at them. (Palm 2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95280" y="3200400"/>
            <a:ext cx="640080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followed by its opposite in the Second l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219320" y="48769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are not a God who takes pleasure in wickedness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vil dwells with You. (Psalm 5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219320" y="4038480"/>
            <a:ext cx="6400800" cy="17398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Second line continues and expands the thought begun the first l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90720" y="4267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crying to the LORD with my voice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answered me from His holy mountain. Selah. (Psalm 3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14400" y="4876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the deer pants for the water brooks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my soul pants for You, O God (Psalm 4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Narr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828800" y="50292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my shephe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hall not want. (Psalm 23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mac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ribe to the LORD, O sons of the migh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ribe to the LORD glory and streng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cribe to the LORD the glory due to His na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hip the LORD in holy ar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Prophec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057400" y="2362320"/>
            <a:ext cx="50958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&amp; Lo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rmin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hich came to Jeremiah from the LORD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Arise and go down to the potter’s house, and there I shall announce My words to you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I went down to the potter's house, and there he was, making something on the wheel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722600" y="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1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vessel that he was making of clay was spoiled in the hand of the potter; so he remade it into another vessel, as it pleased the potter to mak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word of the LORD came to me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Can I not, O house of Israel, deal with you as this potter does?” declares the LORD.  “Behold, like the clay in the potter's hand, so are you in My hand, O house of Israel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one moment I might speak concerning a nation or concerning a kingdom to uproot, to pull down, or to destroy i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at nation against which I have spoken turns from its evil, I will relent concerning the calamity I planned to bring on it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7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t another moment I might speak concerning a nation or concern-ing a kingdom to build up or to plant i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it does evil in My sight by not obeying My voice, then I will think better of the good with which I had promised to bless it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iterary theory has suggested that narrative can offer a more powerful medium of truth than propositions.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28195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is be the c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we look to construct our theology on the basis of st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of the idea of God as a character in the narrat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2895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peak concerning a nation to destr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8120" y="228600"/>
            <a:ext cx="30477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nting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42900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turn from their evi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095880" y="228600"/>
            <a:ext cx="30481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lfill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47712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lent of the calami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2666880" y="190512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5715000" y="190512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38088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peak concerning a nation to plant i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42900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do evil and do not obe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47712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think better of the go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2666880" y="472428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5715000" y="472428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040" y="2819520"/>
            <a:ext cx="789156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ditional Predictions:  “If… then”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qualified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irmed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orn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2057400" y="457200"/>
            <a:ext cx="5095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&amp; Lo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rmin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646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cel Instructor &amp; Course Evalu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Wisdo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Loyal Oppos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9810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6483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9810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9810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6483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648320" y="4800600"/>
            <a:ext cx="266688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2: God will also judge th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2971800" cy="3352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bservations made by Biblical write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638680" y="1600200"/>
            <a:ext cx="2971800" cy="3352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velation given by Go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276720" y="2895480"/>
            <a:ext cx="2514600" cy="685800"/>
          </a:xfrm>
          <a:prstGeom prst="leftRightArrow">
            <a:avLst>
              <a:gd name="adj1" fmla="val 50000"/>
              <a:gd name="adj2" fmla="val 72994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90360" y="22856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God is good and if God is all-powerful, then why does evil exi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3"/>
          <p:cNvSpPr txBox="1"/>
          <p:nvPr/>
        </p:nvSpPr>
        <p:spPr>
          <a:xfrm>
            <a:off x="838080" y="762120"/>
            <a:ext cx="2971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9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odicy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Picture 4" descr="bad_things_good_people_book"/>
          <p:cNvPicPr/>
          <p:nvPr/>
        </p:nvPicPr>
        <p:blipFill>
          <a:blip r:embed="rId1"/>
          <a:stretch/>
        </p:blipFill>
        <p:spPr>
          <a:xfrm>
            <a:off x="5562720" y="1371600"/>
            <a:ext cx="26812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905120" y="3352680"/>
            <a:ext cx="52578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logue &amp; Discour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1752840" cy="11458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pters 1-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1920" y="2133360"/>
            <a:ext cx="1752840" cy="1981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prologue: Job 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905120" y="990720"/>
            <a:ext cx="1752480" cy="11458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pters 3-3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905120" y="2133720"/>
            <a:ext cx="1752480" cy="144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’s three friend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657600" y="990720"/>
            <a:ext cx="1752480" cy="11458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pters 33-3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657600" y="2133720"/>
            <a:ext cx="1752480" cy="1287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hu’s speech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5410080" y="990720"/>
            <a:ext cx="1752840" cy="11458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pters 38-4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5410080" y="2133720"/>
            <a:ext cx="1752840" cy="144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peak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7162920" y="990720"/>
            <a:ext cx="1752480" cy="11458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pter 4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7162920" y="2133720"/>
            <a:ext cx="1752480" cy="1981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epilogue: Job Restor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WordArt 13"/>
          <p:cNvSpPr txBox="1"/>
          <p:nvPr/>
        </p:nvSpPr>
        <p:spPr>
          <a:xfrm>
            <a:off x="457200" y="15228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verview of the Book of Jo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533520" y="4495680"/>
            <a:ext cx="3276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se Se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3809880" y="4495680"/>
            <a:ext cx="48006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etry Se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533520" y="5105520"/>
            <a:ext cx="3276360" cy="609480"/>
          </a:xfrm>
          <a:prstGeom prst="rect">
            <a:avLst/>
          </a:prstGeom>
          <a:gradFill rotWithShape="0">
            <a:gsLst>
              <a:gs pos="0">
                <a:srgbClr val="007471"/>
              </a:gs>
              <a:gs pos="100000">
                <a:srgbClr val="0036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in languag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3809880" y="5105520"/>
            <a:ext cx="4800600" cy="609480"/>
          </a:xfrm>
          <a:prstGeom prst="rect">
            <a:avLst/>
          </a:prstGeom>
          <a:gradFill rotWithShape="0">
            <a:gsLst>
              <a:gs pos="0">
                <a:srgbClr val="007471"/>
              </a:gs>
              <a:gs pos="100000">
                <a:srgbClr val="0036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ornat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533520" y="5715000"/>
            <a:ext cx="3276360" cy="838080"/>
          </a:xfrm>
          <a:prstGeom prst="rect">
            <a:avLst/>
          </a:prstGeom>
          <a:gradFill rotWithShape="0">
            <a:gsLst>
              <a:gs pos="0">
                <a:srgbClr val="007471"/>
              </a:gs>
              <a:gs pos="100000">
                <a:srgbClr val="0036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pure Hebrew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809880" y="5715000"/>
            <a:ext cx="4800600" cy="838080"/>
          </a:xfrm>
          <a:prstGeom prst="rect">
            <a:avLst/>
          </a:prstGeom>
          <a:gradFill rotWithShape="0">
            <a:gsLst>
              <a:gs pos="0">
                <a:srgbClr val="007471"/>
              </a:gs>
              <a:gs pos="100000">
                <a:srgbClr val="0036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many expressions characteristic of Chaldae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re the proverbs…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2743200" cy="914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03056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952880" y="2057400"/>
            <a:ext cx="2743200" cy="914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ie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981080" y="3505320"/>
            <a:ext cx="5105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ingle Proverb contains all the truth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ust all be taken and weighed together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09480" y="1143000"/>
            <a:ext cx="3657600" cy="4419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pen is mightier than the sword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800600" y="1143000"/>
            <a:ext cx="3657600" cy="4419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334120" y="1676520"/>
            <a:ext cx="266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tions speak louder than words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put enm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you and the woma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tween your seed and her se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all bruise you on the hea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shall bruise him on the hee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09480" y="1143000"/>
            <a:ext cx="3657600" cy="4419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’re never too old to lear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800600" y="1143000"/>
            <a:ext cx="3657600" cy="4419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334120" y="1676520"/>
            <a:ext cx="266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 can’t teach an old dog new trick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6: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4114800" cy="2362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224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answer a fool according to his fol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will also be like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800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6:5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800600" y="1523880"/>
            <a:ext cx="4114800" cy="2362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224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a fool as his fol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not be wise in his own eye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17: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4114800" cy="3353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224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conceals a transgression seeks lo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ho repeats a matter separates intimate frie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800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8:2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800600" y="1523880"/>
            <a:ext cx="4114800" cy="3353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224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rebukes a man will afterward fi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vor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he who flatters with the tongu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cribes a situation in life without commenting on whether it is good or ba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WordArt 3"/>
          <p:cNvSpPr txBox="1"/>
          <p:nvPr/>
        </p:nvSpPr>
        <p:spPr>
          <a:xfrm>
            <a:off x="1523880" y="1981080"/>
            <a:ext cx="5929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1752120"/>
            <a:ext cx="6858000" cy="266724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53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bribe is a charm in the sight of its owner;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rever he turns, he prospers. (Proverbs 17: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2057400" y="533520"/>
            <a:ext cx="49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6553440" cy="266688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53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poor is hated even by his neighbor,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ut those who love the rich are many. (Proverbs 14: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2057400" y="533520"/>
            <a:ext cx="49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2"/>
          <p:cNvSpPr txBox="1"/>
          <p:nvPr/>
        </p:nvSpPr>
        <p:spPr>
          <a:xfrm>
            <a:off x="762120" y="2590920"/>
            <a:ext cx="74628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verbs as a Creation Ordin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57200" y="3200400"/>
            <a:ext cx="297180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b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 suff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410080" y="3200400"/>
            <a:ext cx="320040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lack of meaning to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514600" y="5334120"/>
            <a:ext cx="3886200" cy="1325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ng of Song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rrationality of lov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 rot="18666600">
            <a:off x="4914720" y="1485360"/>
            <a:ext cx="533160" cy="2286000"/>
          </a:xfrm>
          <a:prstGeom prst="downArrow">
            <a:avLst>
              <a:gd name="adj1" fmla="val 57741"/>
              <a:gd name="adj2" fmla="val 12148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 rot="2845200">
            <a:off x="3466800" y="1562040"/>
            <a:ext cx="533520" cy="2286000"/>
          </a:xfrm>
          <a:prstGeom prst="downArrow">
            <a:avLst>
              <a:gd name="adj1" fmla="val 57741"/>
              <a:gd name="adj2" fmla="val 12140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191120" y="2819520"/>
            <a:ext cx="533160" cy="2286000"/>
          </a:xfrm>
          <a:prstGeom prst="downArrow">
            <a:avLst>
              <a:gd name="adj1" fmla="val 57741"/>
              <a:gd name="adj2" fmla="val 12148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403884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Basic approach to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2895480" y="2057400"/>
            <a:ext cx="3048120" cy="76212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f76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gressive Revelat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Solomon know about the resurrection and life after dea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025440"/>
            <a:ext cx="8076960" cy="37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knows that the breath of man ascends upward and the breath of the beast descends downward to the earth? (Ecclesiastes 3:21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447920" y="3429000"/>
            <a:ext cx="26668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t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5410080" y="3429000"/>
            <a:ext cx="26672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us Chris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438280" y="990720"/>
            <a:ext cx="609840" cy="2666880"/>
          </a:xfrm>
          <a:prstGeom prst="downArrow">
            <a:avLst>
              <a:gd name="adj1" fmla="val 50000"/>
              <a:gd name="adj2" fmla="val 10932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400800" y="990720"/>
            <a:ext cx="609480" cy="2666880"/>
          </a:xfrm>
          <a:prstGeom prst="downArrow">
            <a:avLst>
              <a:gd name="adj1" fmla="val 50000"/>
              <a:gd name="adj2" fmla="val 10939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90720" y="4572000"/>
            <a:ext cx="3504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 head bruised on the cro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A fatal wound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029200" y="4572000"/>
            <a:ext cx="3505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 heel bruised on the cro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umanity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447920" y="3429000"/>
            <a:ext cx="26668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t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410080" y="3429000"/>
            <a:ext cx="26672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us Chris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438280" y="990720"/>
            <a:ext cx="609840" cy="2666880"/>
          </a:xfrm>
          <a:prstGeom prst="downArrow">
            <a:avLst>
              <a:gd name="adj1" fmla="val 50000"/>
              <a:gd name="adj2" fmla="val 10932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6400800" y="990720"/>
            <a:ext cx="609480" cy="2666880"/>
          </a:xfrm>
          <a:prstGeom prst="downArrow">
            <a:avLst>
              <a:gd name="adj1" fmla="val 50000"/>
              <a:gd name="adj2" fmla="val 10939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90720" y="45720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 head bruised on the cro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029200" y="4572000"/>
            <a:ext cx="3505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 heel bruised on the cro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1676520" y="5715000"/>
            <a:ext cx="198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61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tern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11"/>
          <p:cNvSpPr txBox="1"/>
          <p:nvPr/>
        </p:nvSpPr>
        <p:spPr>
          <a:xfrm>
            <a:off x="5638680" y="5791320"/>
            <a:ext cx="2438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mporary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5257800" y="1752480"/>
            <a:ext cx="2514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el &amp; S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6477120" y="990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828800" y="1752480"/>
            <a:ext cx="1752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2666880" y="22860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447920" y="3733920"/>
            <a:ext cx="24382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me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638680" y="28954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o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477120" y="2286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6477120" y="3429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5638680" y="3962520"/>
            <a:ext cx="16765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a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6477120" y="4495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5638680" y="502920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he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Freeform 15"/>
          <p:cNvSpPr/>
          <p:nvPr/>
        </p:nvSpPr>
        <p:spPr>
          <a:xfrm>
            <a:off x="2666880" y="4495680"/>
            <a:ext cx="3810240" cy="53352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1828800" y="502920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2666880" y="990720"/>
            <a:ext cx="3810240" cy="60948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47712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5638680" y="60958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raha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266688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1828800" y="60958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a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600200" y="25146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shma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562720" y="2514600"/>
            <a:ext cx="1676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saa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6400800" y="19051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2590920" y="1905120"/>
            <a:ext cx="3809880" cy="53316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5562720" y="1371600"/>
            <a:ext cx="1676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raha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40080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5562720" y="3733920"/>
            <a:ext cx="16761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acob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90920" y="3048120"/>
            <a:ext cx="3809880" cy="53316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1752480" y="3733920"/>
            <a:ext cx="16765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sau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3276720" y="5105520"/>
            <a:ext cx="26668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ose Se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re You?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11-15T20:50:02Z</dcterms:modified>
  <cp:revision>262</cp:revision>
  <dc:subject>Biblical Interpretation</dc:subject>
  <dc:title>Biblical Interpretation</dc:title>
</cp:coreProperties>
</file>