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BE4-59C0-4297-85AB-802B8353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5C7-1790-4842-8632-2165D145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D94-1CA7-403E-B073-7246FF50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908-E2D4-4931-A807-EA8F35B4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FC49-6A2C-4F2A-B27C-1E7700B0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A31-C42C-412E-864F-3DBD5A6F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D61-369A-41F8-81C6-AC927415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F95-A515-4BBD-943A-5706737A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5B88-F82D-4BC6-A490-E0850CEF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FEF-65E3-4F32-86C9-88AB3C41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9E8-FC93-4EB6-86B5-950EFE11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63D-DBCA-41E5-B496-8B025031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3C06-058D-41D6-AAAE-A8A61FE0A8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181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terpreting Prophe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61866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95280" y="2057400"/>
            <a:ext cx="648180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cal Interpret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25142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the book of Revelation relate to the prophecies of the Old Testa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ould the message of Revelation related to the believers of the first centur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these chapters relate to the issue of Christian discipleship now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00200" y="380880"/>
            <a:ext cx="3657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scussion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209680" cy="2112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600200" y="1295280"/>
            <a:ext cx="3657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stions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-360" y="1600200"/>
            <a:ext cx="152388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on of Jesus and Seven letters to seven church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90720"/>
            <a:ext cx="15238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990720"/>
            <a:ext cx="13716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1600200"/>
            <a:ext cx="137160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ne of God &amp; Scroll with seven se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990720"/>
            <a:ext cx="14479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1600200"/>
            <a:ext cx="144792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 trump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990720"/>
            <a:ext cx="1219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-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1600200"/>
            <a:ext cx="121932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, the Dragon &amp; the Seven Bow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990720"/>
            <a:ext cx="1218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-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1600200"/>
            <a:ext cx="121896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arlot on Seven Hills &amp; the B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990720"/>
            <a:ext cx="10670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1600200"/>
            <a:ext cx="106704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ing reig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990720"/>
            <a:ext cx="12952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-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600200"/>
            <a:ext cx="129528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ven &amp; New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267080"/>
            <a:ext cx="152388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ends with a promise of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4267080"/>
            <a:ext cx="137160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 wipes away every tear (7: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4267080"/>
            <a:ext cx="144792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 will reign forever &amp; ever (11:15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4267080"/>
            <a:ext cx="121932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l of the n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done” (16:17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4267080"/>
            <a:ext cx="121896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r on the White Horse (19:16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267080"/>
            <a:ext cx="106704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e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ke of F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4267080"/>
            <a:ext cx="129528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coming quickly (22: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124080" y="15228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vel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Symbolism in Revelation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 Testament Al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like the Son of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on of the Tribe of Jud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791320" y="1905120"/>
            <a:ext cx="2933640" cy="413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Symbolism in Revelation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 Testament Al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like the Son of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on of the Tribe of Jud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ur Horse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5486400" cy="2324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Symbolism in Revelation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 Testament Al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like the Son of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on of the Tribe of Jud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ur Horse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Wit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724280" y="3124080"/>
            <a:ext cx="3962520" cy="3043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Symbolism in Revelation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 Testament Al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like the Son of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on of the Tribe of Jud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ur Horse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Wit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e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2832120" cy="4048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Symbolism in Revelation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 Testament Al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like the Son of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on of the Tribe of Jud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ur Horse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Wit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e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with the Lampst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2970360" cy="434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Symbolism in Revelation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 Testament Al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like the Son of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on of the Tribe of Jud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ur Horse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Wit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e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with the Lampst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24 E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ystal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791320" y="3657600"/>
            <a:ext cx="2971800" cy="240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Symbolism in Revelation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 Testament Al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like the Son of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on of the Tribe of Jud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ur Horse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Wit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e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with the Lampst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24 E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ystal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rk of the cove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791320" y="2971800"/>
            <a:ext cx="2971800" cy="350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867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y gathered them together to the place which in Hebrew is called Har-Magedon. (Revelation 16:16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886200" y="2971800"/>
            <a:ext cx="18288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7680" y="1905120"/>
            <a:ext cx="373356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Book o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6781680" cy="4227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85800" y="1523880"/>
            <a:ext cx="2895480" cy="503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ubChord"/>
          <p:cNvSpPr/>
          <p:nvPr/>
        </p:nvSpPr>
        <p:spPr>
          <a:xfrm rot="21257400">
            <a:off x="7691400" y="3711240"/>
            <a:ext cx="3129120" cy="329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66" y="74"/>
                </a:moveTo>
                <a:arcTo wR="10800" hR="10800" stAng="-4996055" swAng="-10921957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572000"/>
            <a:ext cx="294804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14720" y="4572000"/>
            <a:ext cx="182880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43520" y="4572000"/>
            <a:ext cx="200664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28640" y="4921200"/>
            <a:ext cx="13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9160" y="3330720"/>
            <a:ext cx="12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Cloud"/>
          <p:cNvSpPr/>
          <p:nvPr/>
        </p:nvSpPr>
        <p:spPr>
          <a:xfrm>
            <a:off x="7010280" y="3352680"/>
            <a:ext cx="1600200" cy="762120"/>
          </a:xfrm>
          <a:prstGeom prst="pie">
            <a:avLst/>
          </a:prstGeom>
          <a:gradFill rotWithShape="0">
            <a:gsLst>
              <a:gs pos="0">
                <a:srgbClr val="9207fb"/>
              </a:gs>
              <a:gs pos="100000">
                <a:srgbClr val="3d02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89120" y="35082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66680" y="6172200"/>
            <a:ext cx="6782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toric Premillennia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457200"/>
            <a:ext cx="7696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chatological View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4952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lation 20 lite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s the language of “the last day” figurativ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5486400"/>
            <a:ext cx="294804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. 1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22640" y="5486400"/>
            <a:ext cx="192096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. 4-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5486400"/>
            <a:ext cx="198144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.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 rot="10800000">
            <a:off x="7695720" y="4038480"/>
            <a:ext cx="304920" cy="1905120"/>
          </a:xfrm>
          <a:prstGeom prst="downArrow">
            <a:avLst>
              <a:gd name="adj1" fmla="val 50000"/>
              <a:gd name="adj2" fmla="val 11098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87840" y="4952880"/>
            <a:ext cx="838440" cy="1067040"/>
          </a:xfrm>
          <a:prstGeom prst="uturnArrow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 rot="10800000">
            <a:off x="5703480" y="4038480"/>
            <a:ext cx="304920" cy="1905120"/>
          </a:xfrm>
          <a:prstGeom prst="downArrow">
            <a:avLst>
              <a:gd name="adj1" fmla="val 50000"/>
              <a:gd name="adj2" fmla="val 11098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7320" y="41148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Rapture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Cloud"/>
          <p:cNvSpPr/>
          <p:nvPr/>
        </p:nvSpPr>
        <p:spPr>
          <a:xfrm>
            <a:off x="5105520" y="3352680"/>
            <a:ext cx="1600200" cy="762120"/>
          </a:xfrm>
          <a:prstGeom prst="pie">
            <a:avLst/>
          </a:prstGeom>
          <a:gradFill rotWithShape="0">
            <a:gsLst>
              <a:gs pos="0">
                <a:srgbClr val="9207fb"/>
              </a:gs>
              <a:gs pos="100000">
                <a:srgbClr val="3d02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30200" y="504360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b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9000" y="502920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lenn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101448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843520" y="4572000"/>
            <a:ext cx="200664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14720" y="4572000"/>
            <a:ext cx="182880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4572000"/>
            <a:ext cx="294804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5486400"/>
            <a:ext cx="294804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. 1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22640" y="5486400"/>
            <a:ext cx="192096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. 4-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5486400"/>
            <a:ext cx="198144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.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1014480" cy="1524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rot="10800000">
            <a:off x="3659040" y="4038480"/>
            <a:ext cx="609840" cy="1067040"/>
          </a:xfrm>
          <a:prstGeom prst="uturnArrow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278160" y="3352680"/>
            <a:ext cx="1600200" cy="762120"/>
            <a:chOff x="3278160" y="3352680"/>
            <a:chExt cx="1600200" cy="762120"/>
          </a:xfrm>
        </p:grpSpPr>
        <p:sp>
          <p:nvSpPr>
            <p:cNvPr id="196" name="Cloud"/>
            <p:cNvSpPr/>
            <p:nvPr/>
          </p:nvSpPr>
          <p:spPr>
            <a:xfrm>
              <a:off x="3278160" y="3352680"/>
              <a:ext cx="1600200" cy="762120"/>
            </a:xfrm>
            <a:prstGeom prst="pie">
              <a:avLst/>
            </a:prstGeom>
            <a:gradFill rotWithShape="0">
              <a:gsLst>
                <a:gs pos="0">
                  <a:srgbClr val="9207fb"/>
                </a:gs>
                <a:gs pos="100000">
                  <a:srgbClr val="3d02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05600" y="3454560"/>
              <a:ext cx="146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apture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V="1">
            <a:off x="3887640" y="457200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87840" y="4952880"/>
            <a:ext cx="838440" cy="1067040"/>
          </a:xfrm>
          <a:prstGeom prst="uturnArrow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 rot="10800000">
            <a:off x="5703480" y="4038480"/>
            <a:ext cx="304920" cy="1905120"/>
          </a:xfrm>
          <a:prstGeom prst="downArrow">
            <a:avLst>
              <a:gd name="adj1" fmla="val 50000"/>
              <a:gd name="adj2" fmla="val 11098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30200" y="504360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b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9000" y="502920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lenn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535160" y="3564000"/>
            <a:ext cx="3441960" cy="3593880"/>
            <a:chOff x="7535160" y="3564000"/>
            <a:chExt cx="3441960" cy="3593880"/>
          </a:xfrm>
        </p:grpSpPr>
        <p:sp>
          <p:nvSpPr>
            <p:cNvPr id="204" name="PubChord"/>
            <p:cNvSpPr/>
            <p:nvPr/>
          </p:nvSpPr>
          <p:spPr>
            <a:xfrm rot="21257400">
              <a:off x="7691400" y="3711240"/>
              <a:ext cx="3129120" cy="329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066" y="74"/>
                  </a:moveTo>
                  <a:arcTo wR="10800" hR="10800" stAng="-4996055" swAng="-10921957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28640" y="4921200"/>
              <a:ext cx="130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tern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 flipV="1" rot="10800000">
            <a:off x="7697880" y="4076640"/>
            <a:ext cx="304560" cy="1905120"/>
          </a:xfrm>
          <a:prstGeom prst="downArrow">
            <a:avLst>
              <a:gd name="adj1" fmla="val 50000"/>
              <a:gd name="adj2" fmla="val 11111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105520" y="3330720"/>
            <a:ext cx="1600200" cy="825480"/>
            <a:chOff x="5105520" y="3330720"/>
            <a:chExt cx="1600200" cy="825480"/>
          </a:xfrm>
        </p:grpSpPr>
        <p:sp>
          <p:nvSpPr>
            <p:cNvPr id="208" name="Cloud"/>
            <p:cNvSpPr/>
            <p:nvPr/>
          </p:nvSpPr>
          <p:spPr>
            <a:xfrm>
              <a:off x="5105520" y="3352680"/>
              <a:ext cx="1600200" cy="762120"/>
            </a:xfrm>
            <a:prstGeom prst="pie">
              <a:avLst/>
            </a:prstGeom>
            <a:gradFill rotWithShape="0">
              <a:gsLst>
                <a:gs pos="0">
                  <a:srgbClr val="9207fb"/>
                </a:gs>
                <a:gs pos="100000">
                  <a:srgbClr val="3d02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9160" y="3330720"/>
              <a:ext cx="122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con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010280" y="3352680"/>
            <a:ext cx="1600200" cy="762120"/>
            <a:chOff x="7010280" y="3352680"/>
            <a:chExt cx="1600200" cy="762120"/>
          </a:xfrm>
        </p:grpSpPr>
        <p:sp>
          <p:nvSpPr>
            <p:cNvPr id="211" name="Cloud"/>
            <p:cNvSpPr/>
            <p:nvPr/>
          </p:nvSpPr>
          <p:spPr>
            <a:xfrm>
              <a:off x="7010280" y="3352680"/>
              <a:ext cx="1600200" cy="762120"/>
            </a:xfrm>
            <a:prstGeom prst="pie">
              <a:avLst/>
            </a:prstGeom>
            <a:gradFill rotWithShape="0">
              <a:gsLst>
                <a:gs pos="0">
                  <a:srgbClr val="9207fb"/>
                </a:gs>
                <a:gs pos="100000">
                  <a:srgbClr val="3d02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89120" y="350820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udg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"/>
          <p:cNvSpPr txBox="1"/>
          <p:nvPr/>
        </p:nvSpPr>
        <p:spPr>
          <a:xfrm>
            <a:off x="2362320" y="6172200"/>
            <a:ext cx="480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spensationa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457200"/>
            <a:ext cx="7696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chatological View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icially separates between different comings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es to segregate Israel and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066680" y="4114800"/>
            <a:ext cx="6782040" cy="19051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. 1-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56640" y="502920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illenn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ubChord"/>
          <p:cNvSpPr/>
          <p:nvPr/>
        </p:nvSpPr>
        <p:spPr>
          <a:xfrm rot="21257400">
            <a:off x="7691400" y="3711240"/>
            <a:ext cx="3129120" cy="329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66" y="74"/>
                </a:moveTo>
                <a:arcTo wR="10800" hR="10800" stAng="-4996055" swAng="-10921957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28640" y="4921200"/>
            <a:ext cx="13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362320" y="6172200"/>
            <a:ext cx="480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millennia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3355920" y="457200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ribul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480" y="457200"/>
            <a:ext cx="7696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chatological View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4952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s Revelation 20 as symbolic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s the language of “the last day” lite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1014480" cy="15242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467480" y="4952880"/>
            <a:ext cx="838440" cy="1067040"/>
          </a:xfrm>
          <a:prstGeom prst="uturnArrow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 rot="10800000">
            <a:off x="7683120" y="3504240"/>
            <a:ext cx="304920" cy="2438280"/>
          </a:xfrm>
          <a:prstGeom prst="downArrow">
            <a:avLst>
              <a:gd name="adj1" fmla="val 50000"/>
              <a:gd name="adj2" fmla="val 14204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Cloud"/>
          <p:cNvSpPr/>
          <p:nvPr/>
        </p:nvSpPr>
        <p:spPr>
          <a:xfrm>
            <a:off x="6934320" y="2895480"/>
            <a:ext cx="1600200" cy="762120"/>
          </a:xfrm>
          <a:prstGeom prst="pie">
            <a:avLst/>
          </a:prstGeom>
          <a:gradFill rotWithShape="0">
            <a:gsLst>
              <a:gs pos="0">
                <a:srgbClr val="9207fb"/>
              </a:gs>
              <a:gs pos="100000">
                <a:srgbClr val="3d02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167960" y="2873520"/>
            <a:ext cx="12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12800" y="40384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2440" y="3657600"/>
            <a:ext cx="14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tu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66680" y="4572000"/>
            <a:ext cx="441972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572000"/>
            <a:ext cx="236376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5486400"/>
            <a:ext cx="441972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. 1-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86400" y="5486400"/>
            <a:ext cx="236232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.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ubChord"/>
          <p:cNvSpPr/>
          <p:nvPr/>
        </p:nvSpPr>
        <p:spPr>
          <a:xfrm rot="21257400">
            <a:off x="7691400" y="3711240"/>
            <a:ext cx="3129120" cy="329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66" y="74"/>
                </a:moveTo>
                <a:arcTo wR="10800" hR="10800" stAng="-4996055" swAng="-10921957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1014480" cy="15242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642640" y="504360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lenn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600200" y="6172200"/>
            <a:ext cx="6248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stmillennia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"/>
          <p:cNvSpPr/>
          <p:nvPr/>
        </p:nvSpPr>
        <p:spPr>
          <a:xfrm>
            <a:off x="7467480" y="4952880"/>
            <a:ext cx="838440" cy="1067040"/>
          </a:xfrm>
          <a:prstGeom prst="uturnArrow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928640" y="4921200"/>
            <a:ext cx="13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 rot="10800000">
            <a:off x="7683120" y="3504240"/>
            <a:ext cx="304920" cy="2438280"/>
          </a:xfrm>
          <a:prstGeom prst="downArrow">
            <a:avLst>
              <a:gd name="adj1" fmla="val 50000"/>
              <a:gd name="adj2" fmla="val 14204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12440" y="3657600"/>
            <a:ext cx="14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tu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12800" y="40384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Cloud"/>
          <p:cNvSpPr/>
          <p:nvPr/>
        </p:nvSpPr>
        <p:spPr>
          <a:xfrm>
            <a:off x="6934320" y="2895480"/>
            <a:ext cx="1600200" cy="762120"/>
          </a:xfrm>
          <a:prstGeom prst="pie">
            <a:avLst/>
          </a:prstGeom>
          <a:gradFill rotWithShape="0">
            <a:gsLst>
              <a:gs pos="0">
                <a:srgbClr val="9207fb"/>
              </a:gs>
              <a:gs pos="100000">
                <a:srgbClr val="3d02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7960" y="2857680"/>
            <a:ext cx="12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480" y="457200"/>
            <a:ext cx="7696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chatological View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142640" y="1523880"/>
            <a:ext cx="5638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sions the gospel as being victor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s the language of “the last day” lite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066680" y="4572000"/>
            <a:ext cx="822960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1014480" cy="15242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055520" y="5165640"/>
            <a:ext cx="139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llenn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19520" y="6172200"/>
            <a:ext cx="3352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ter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/>
          <p:cNvSpPr/>
          <p:nvPr/>
        </p:nvSpPr>
        <p:spPr>
          <a:xfrm flipV="1" rot="10800000">
            <a:off x="2349000" y="3504240"/>
            <a:ext cx="304920" cy="2438280"/>
          </a:xfrm>
          <a:prstGeom prst="downArrow">
            <a:avLst>
              <a:gd name="adj1" fmla="val 50000"/>
              <a:gd name="adj2" fmla="val 14204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78680" y="3657600"/>
            <a:ext cx="14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tu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79040" y="40384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Cloud"/>
          <p:cNvSpPr/>
          <p:nvPr/>
        </p:nvSpPr>
        <p:spPr>
          <a:xfrm>
            <a:off x="1600200" y="2895480"/>
            <a:ext cx="1600200" cy="762120"/>
          </a:xfrm>
          <a:prstGeom prst="pie">
            <a:avLst/>
          </a:prstGeom>
          <a:gradFill rotWithShape="0">
            <a:gsLst>
              <a:gs pos="0">
                <a:srgbClr val="9207fb"/>
              </a:gs>
              <a:gs pos="100000">
                <a:srgbClr val="3d02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33840" y="2857680"/>
            <a:ext cx="12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69200" y="466236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50120" y="4800600"/>
            <a:ext cx="247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ternal St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16040" y="5378400"/>
            <a:ext cx="6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457200"/>
            <a:ext cx="7696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chatological View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428640" y="15238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ies any future Second Coming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rophecy fulfilled in the year 70 A.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6019920"/>
            <a:ext cx="1447920" cy="533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42840" y="149040"/>
            <a:ext cx="426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ate of Writ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120" y="4343040"/>
            <a:ext cx="5791320" cy="1066680"/>
          </a:xfrm>
          <a:prstGeom prst="rect">
            <a:avLst/>
          </a:prstGeom>
          <a:solidFill>
            <a:srgbClr val="660033"/>
          </a:solidFill>
          <a:ln w="9360">
            <a:solidFill>
              <a:srgbClr val="ff99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 of Acts took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562720"/>
            <a:ext cx="9296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604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5627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55627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5627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55627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55627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55627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05920" y="55627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55627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6936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008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7448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55627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4576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5556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4628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3664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3196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83960" y="3117960"/>
            <a:ext cx="1078200" cy="2288520"/>
          </a:xfrm>
          <a:prstGeom prst="rect">
            <a:avLst/>
          </a:prstGeom>
          <a:solidFill>
            <a:srgbClr val="660033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1905120"/>
            <a:ext cx="1524240" cy="838080"/>
          </a:xfrm>
          <a:prstGeom prst="wedgeRoundRectCallout">
            <a:avLst>
              <a:gd name="adj1" fmla="val 20416"/>
              <a:gd name="adj2" fmla="val 364962"/>
              <a:gd name="adj3" fmla="val 16667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ll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rusa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93680" y="4495680"/>
            <a:ext cx="695160" cy="1046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1066680"/>
            <a:ext cx="6781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5 A.D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od Agrippa dies (Acts 12:20-2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9 A.D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─ Claudius issues edict banning Jews from Rome (Acts 18: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362320"/>
            <a:ext cx="6095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 A.D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─ Gallio appointed prconsul of Achaia for a one-year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.D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─ Festus becomes procuator of Judea (Acts 24:2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bservations on Act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is a book of Vi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is essentially about the ministries of Peter and Pa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takes and suc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uragement and great cou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s are not necessarily norm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aching in the Book of 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yer in the Book of 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2819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uk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s with an address to most excellent Theophi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274680"/>
            <a:ext cx="2819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1066680"/>
            <a:ext cx="4495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s with an address to Theophi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438280"/>
            <a:ext cx="4114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uncement made by angel Gabr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438280"/>
            <a:ext cx="4495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uncement made by two ang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5053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s in 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35053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s in 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114800"/>
            <a:ext cx="4114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of Jesus as the Spirit comes on 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4114800"/>
            <a:ext cx="4495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of the Church as the Spirit comes on belie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562720"/>
            <a:ext cx="4114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 movement toward 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5562720"/>
            <a:ext cx="4495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 movement away from 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4864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itness to the Resurrec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Jesus God raised up again, to which we are all </a:t>
            </a: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witnesse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(Acts 2:3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ut you disowned the Holy and Righteous One, and asked for a murderer to be granted to you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but put to death the Prince of life, the one whom God raised from the dead, a fact to which we are </a:t>
            </a: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witnesse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 (Acts 3:14-1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ith great power the apostles were giving </a:t>
            </a: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witnes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to the resurrection of the Lord Jesus, and abundant grace was upon them all (4:3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we are </a:t>
            </a: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witnesse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of these things; and so is the Holy Spirit, whom God has given to those who obey Him. (Acts 5:3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96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089480" y="41911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15560" y="4421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4040" y="4357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d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91440" y="4381560"/>
            <a:ext cx="457200" cy="457200"/>
          </a:xfrm>
          <a:prstGeom prst="ellipse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013600" y="4216320"/>
            <a:ext cx="800280" cy="800280"/>
          </a:xfrm>
          <a:prstGeom prst="ellipse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94040" y="39625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990720"/>
            <a:ext cx="7238880" cy="2819160"/>
          </a:xfrm>
          <a:custGeom>
            <a:avLst/>
            <a:gdLst/>
            <a:ahLst/>
            <a:rect l="l" t="t" r="r" b="b"/>
            <a:pathLst>
              <a:path w="4464" h="1696">
                <a:moveTo>
                  <a:pt x="4464" y="1696"/>
                </a:moveTo>
                <a:cubicBezTo>
                  <a:pt x="4112" y="1420"/>
                  <a:pt x="3760" y="1144"/>
                  <a:pt x="3360" y="928"/>
                </a:cubicBezTo>
                <a:cubicBezTo>
                  <a:pt x="2960" y="712"/>
                  <a:pt x="2504" y="544"/>
                  <a:pt x="2064" y="400"/>
                </a:cubicBezTo>
                <a:cubicBezTo>
                  <a:pt x="1624" y="256"/>
                  <a:pt x="1040" y="128"/>
                  <a:pt x="720" y="64"/>
                </a:cubicBezTo>
                <a:cubicBezTo>
                  <a:pt x="400" y="0"/>
                  <a:pt x="264" y="24"/>
                  <a:pt x="144" y="16"/>
                </a:cubicBezTo>
                <a:cubicBezTo>
                  <a:pt x="24" y="8"/>
                  <a:pt x="12" y="12"/>
                  <a:pt x="0" y="16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29480" y="2238480"/>
            <a:ext cx="0" cy="0"/>
          </a:xfrm>
          <a:prstGeom prst="line">
            <a:avLst/>
          </a:prstGeom>
          <a:ln cap="rnd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29480" y="2238480"/>
            <a:ext cx="0" cy="0"/>
          </a:xfrm>
          <a:prstGeom prst="line">
            <a:avLst/>
          </a:prstGeom>
          <a:ln cap="rnd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6160" y="1947960"/>
            <a:ext cx="0" cy="0"/>
          </a:xfrm>
          <a:prstGeom prst="line">
            <a:avLst/>
          </a:prstGeom>
          <a:ln cap="rnd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29480" y="3110040"/>
            <a:ext cx="0" cy="0"/>
          </a:xfrm>
          <a:prstGeom prst="line">
            <a:avLst/>
          </a:prstGeom>
          <a:ln cap="rnd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29480" y="3400560"/>
            <a:ext cx="0" cy="0"/>
          </a:xfrm>
          <a:prstGeom prst="line">
            <a:avLst/>
          </a:prstGeom>
          <a:ln cap="rnd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29480" y="2819520"/>
            <a:ext cx="0" cy="0"/>
          </a:xfrm>
          <a:prstGeom prst="line">
            <a:avLst/>
          </a:prstGeom>
          <a:ln cap="rnd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29480" y="3110040"/>
            <a:ext cx="0" cy="0"/>
          </a:xfrm>
          <a:prstGeom prst="line">
            <a:avLst/>
          </a:prstGeom>
          <a:ln cap="rnd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8600" y="152280"/>
          <a:ext cx="8763120" cy="6553440"/>
        </p:xfrm>
        <a:graphic>
          <a:graphicData uri="http://schemas.openxmlformats.org/drawingml/2006/table">
            <a:tbl>
              <a:tblPr/>
              <a:tblGrid>
                <a:gridCol w="716040"/>
                <a:gridCol w="1950840"/>
                <a:gridCol w="1828800"/>
                <a:gridCol w="1852560"/>
                <a:gridCol w="2414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Primarily Pe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urch Establish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par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urch Foretol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urch Bor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urch Disper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urch Witness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urch Organiz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Peter &amp;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urch Scatte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urch Expand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urch Disper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entiles in the Chur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Primarily Pa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urch Extend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irst Missionary Jour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urch in Con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cond Missionary Jour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ird Missionary Jour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ul Imprison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ul in Jerusal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ul in Caesare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ul in Ro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895480" y="2971800"/>
            <a:ext cx="373392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vel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7680" y="1905120"/>
            <a:ext cx="373356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Book o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10-12-03T22:10:22Z</dcterms:modified>
  <cp:revision>252</cp:revision>
  <dc:subject>Biblical Interpretation</dc:subject>
  <dc:title>Biblical Interpretation</dc:title>
</cp:coreProperties>
</file>