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gif" ContentType="image/gif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53BB-F5B1-4996-AC7A-8A9FE6901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40AB-F98F-4F2B-91B8-14C153A0F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5B6F-7C1C-469E-9537-66F08C77F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A452-320A-4F2D-9687-D4555BE4E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580E-D98A-452F-BB1E-279CF243B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BBA9-811A-4094-A3C9-8EA6D5BD7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CDCB-481D-40BB-BC9E-10EBDAE8C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5D9C-5BBA-4CB3-A19F-0B23AE991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1FB9-8166-4FBC-8EE9-C65C51A42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3627-D3E2-4B9E-9F45-DCB5CED36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4B62-D813-4D20-BBF9-A7918CB30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DB4A-E741-471F-B6D9-227CD1C3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22D43-93B2-4AE6-B243-85D82C1572B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53341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Interpreting the New Testa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95480" y="618660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© John Stevenson,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295280" y="2057400"/>
            <a:ext cx="6481800" cy="971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iblical Interpretatio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2590920" cy="24685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atthew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533520"/>
            <a:ext cx="2590920" cy="24685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ar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3932280"/>
            <a:ext cx="2590920" cy="24685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Luk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3932280"/>
            <a:ext cx="2590920" cy="24685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Joh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371760" y="2556000"/>
            <a:ext cx="2400480" cy="17510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7316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How are the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imilar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2590920" cy="24685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atthew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533520"/>
            <a:ext cx="2590920" cy="24685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ar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295280" y="3932280"/>
            <a:ext cx="2590920" cy="24685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Luk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3932280"/>
            <a:ext cx="2590920" cy="24685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Joh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352680" y="2590920"/>
            <a:ext cx="2400480" cy="17510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7316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How are the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ifferent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3048120" y="2895480"/>
            <a:ext cx="2743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arable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133720" y="1752480"/>
            <a:ext cx="4800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nterpretation of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is a parable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2971440"/>
            <a:ext cx="70106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is the purpose for the Parable of the Good Samaritan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886200" y="228600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2514600" y="1143000"/>
            <a:ext cx="4038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uke 10:29-37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Matthew 13:10-11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838080" y="1371600"/>
            <a:ext cx="74678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 disciples came and said to Him, “Why do You speak to them in parables?”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Jesus answered them, “To you it has been granted to know the mysteries of the kingdom of heaven, but to them it has not been granted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1143000"/>
            <a:ext cx="7467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Matthew 13:12-13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838080" y="1371600"/>
            <a:ext cx="74678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whoever has, to him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or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ll be given, and he will have an abundance; but whoever does not have, even what he has shall be taken away from him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refore I speak to them in parables; because while seeing they do not see, and while hearing they do not hear, nor do they understand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143000"/>
            <a:ext cx="7467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409720" y="1294920"/>
            <a:ext cx="2667240" cy="16002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Illustrate Truth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10080" y="3352680"/>
            <a:ext cx="2667240" cy="16002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ide Trut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0991000">
            <a:off x="3124080" y="2057400"/>
            <a:ext cx="2514600" cy="609480"/>
          </a:xfrm>
          <a:prstGeom prst="rightArrow">
            <a:avLst>
              <a:gd name="adj1" fmla="val 43231"/>
              <a:gd name="adj2" fmla="val 123469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224600">
            <a:off x="3200040" y="3276360"/>
            <a:ext cx="2514600" cy="609480"/>
          </a:xfrm>
          <a:prstGeom prst="rightArrow">
            <a:avLst>
              <a:gd name="adj1" fmla="val 43231"/>
              <a:gd name="adj2" fmla="val 123469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Cloud"/>
          <p:cNvSpPr/>
          <p:nvPr/>
        </p:nvSpPr>
        <p:spPr>
          <a:xfrm>
            <a:off x="533520" y="2085840"/>
            <a:ext cx="3429000" cy="17989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295280" y="2514600"/>
            <a:ext cx="1895760" cy="874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785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arabl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Characteristics of Parables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true-to-life story that Communicates a Spiritual Tru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acters are usually Fictiti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er names and Specific Geographic Locations usually not mentio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olves a Compar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ually communicates one primary tru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2971440"/>
            <a:ext cx="70106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light does the context shed on the Parable of the Dinner Party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886200" y="228600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2514600" y="1143000"/>
            <a:ext cx="4038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uke 14:16-24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562720" y="3962520"/>
            <a:ext cx="2286000" cy="2286000"/>
          </a:xfrm>
          <a:prstGeom prst="rect">
            <a:avLst/>
          </a:prstGeom>
          <a:ln w="9360">
            <a:solidFill>
              <a:srgbClr val="65ffff"/>
            </a:solidFill>
            <a:miter/>
          </a:ln>
        </p:spPr>
      </p:pic>
      <p:sp>
        <p:nvSpPr>
          <p:cNvPr id="46" name=""/>
          <p:cNvSpPr txBox="1"/>
          <p:nvPr/>
        </p:nvSpPr>
        <p:spPr>
          <a:xfrm>
            <a:off x="1676520" y="685800"/>
            <a:ext cx="5843520" cy="744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Epistle as a Genr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914400" y="1981080"/>
            <a:ext cx="3657600" cy="2925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581280" y="2514600"/>
            <a:ext cx="2338560" cy="2338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2971440"/>
            <a:ext cx="70106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light does the context shed on the Parable of the Prodigal Son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886200" y="228600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2514600" y="1143000"/>
            <a:ext cx="4038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uke 15:11-3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4191120" cy="99036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llegor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380880" y="1066320"/>
            <a:ext cx="4191120" cy="25146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necessarily bound by realism within the narrative (talking trees, etc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76320"/>
            <a:ext cx="4191120" cy="99036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ar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1066680"/>
            <a:ext cx="4191120" cy="25146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s a story which, while it may not be true, is presented in such a way that it COULD be tru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3581280"/>
            <a:ext cx="4191120" cy="21337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ory makes no sense apart from the truth it pres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3581280"/>
            <a:ext cx="4191120" cy="21337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ory makes sense on its own apart from the truth which it illustra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5715000"/>
            <a:ext cx="419112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nds to have several points of tru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5715000"/>
            <a:ext cx="419112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ually has one major tru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781680" y="380880"/>
            <a:ext cx="2210040" cy="21132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65534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Identify the following from the allegory of the Good Shepherd in John 10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040" y="3200400"/>
            <a:ext cx="3429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ephe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ee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tekeep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181480" y="3200400"/>
            <a:ext cx="34290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b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an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l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re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Matthew 13:33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838080" y="1371600"/>
            <a:ext cx="74678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spoke another parable to them, “The kingdom of heaven is like leaven, which a woman took and hid in three pecks of flour until it was all leavened.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62120" y="1143000"/>
            <a:ext cx="7467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Matthew 13:44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38080" y="1371600"/>
            <a:ext cx="74678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kingdom of heaven is like a treasure hidden in the field, which a man found and hi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gai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; and from joy over it he goes and sells all that he has and buys that fiel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62120" y="1143000"/>
            <a:ext cx="7467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Matthew 13:45-46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838080" y="1371600"/>
            <a:ext cx="74678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ain, the kingdom of heaven is like a merchant seeking fine pearls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upon finding one pearl of great value, he went and sold all that he had and bought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1143000"/>
            <a:ext cx="7467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3429000" y="762120"/>
            <a:ext cx="2209680" cy="21128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8960" y="2971800"/>
            <a:ext cx="65530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Observe, Interpret, and Discuss the Parable of the Sower as found in Matthew 13:3-23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3276720" cy="99036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Ground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419720" y="1219320"/>
            <a:ext cx="4190760" cy="99036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esul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2209680"/>
            <a:ext cx="3276720" cy="10670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side the Ro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419720" y="2209680"/>
            <a:ext cx="4190760" cy="10670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il one snatches it a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" y="2209680"/>
            <a:ext cx="914400" cy="10670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143000" y="3276720"/>
            <a:ext cx="327672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cky pl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419720" y="3276720"/>
            <a:ext cx="419076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ecution causes him to fall a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" y="3276720"/>
            <a:ext cx="91440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4343400"/>
            <a:ext cx="327672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r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4343400"/>
            <a:ext cx="419076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ry of the world &amp; wealth choke hi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4343400"/>
            <a:ext cx="91440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43000" y="5410080"/>
            <a:ext cx="3276720" cy="10670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od so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419720" y="5410080"/>
            <a:ext cx="4190760" cy="10670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ars fruit and multipl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" y="5410080"/>
            <a:ext cx="914400" cy="10670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676520" y="380880"/>
            <a:ext cx="5348160" cy="897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arable of the Sower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676520"/>
            <a:ext cx="8534160" cy="3429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4120" y="1828800"/>
            <a:ext cx="341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Paul, an Apostle of Christ Jes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Roman Pris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35000" y="3733920"/>
            <a:ext cx="416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To the Saints &amp; Faithful 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Ephesus, Asia Min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077320" y="1828800"/>
            <a:ext cx="609480" cy="9144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8153280" y="1905120"/>
            <a:ext cx="457200" cy="685800"/>
            <a:chOff x="8153280" y="1905120"/>
            <a:chExt cx="457200" cy="685800"/>
          </a:xfrm>
        </p:grpSpPr>
        <p:sp>
          <p:nvSpPr>
            <p:cNvPr id="54" name=""/>
            <p:cNvSpPr/>
            <p:nvPr/>
          </p:nvSpPr>
          <p:spPr>
            <a:xfrm flipH="1">
              <a:off x="8167320" y="1948680"/>
              <a:ext cx="428760" cy="583560"/>
            </a:xfrm>
            <a:prstGeom prst="ellipse">
              <a:avLst/>
            </a:prstGeom>
            <a:solidFill>
              <a:srgbClr val="ffe70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8310600" y="2036160"/>
              <a:ext cx="257040" cy="248040"/>
              <a:chOff x="8310600" y="2036160"/>
              <a:chExt cx="257040" cy="248040"/>
            </a:xfrm>
          </p:grpSpPr>
          <p:sp>
            <p:nvSpPr>
              <p:cNvPr id="56" name=""/>
              <p:cNvSpPr/>
              <p:nvPr/>
            </p:nvSpPr>
            <p:spPr>
              <a:xfrm flipH="1">
                <a:off x="8424720" y="2036160"/>
                <a:ext cx="114120" cy="248040"/>
              </a:xfrm>
              <a:prstGeom prst="ellipse">
                <a:avLst/>
              </a:prstGeom>
              <a:solidFill>
                <a:srgbClr val="ffe701"/>
              </a:solidFill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8324640" y="2036160"/>
                <a:ext cx="114120" cy="248040"/>
              </a:xfrm>
              <a:prstGeom prst="ellipse">
                <a:avLst/>
              </a:prstGeom>
              <a:solidFill>
                <a:srgbClr val="ffe701"/>
              </a:solidFill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>
                <a:off x="8310600" y="2152800"/>
                <a:ext cx="257040" cy="29160"/>
              </a:xfrm>
              <a:custGeom>
                <a:avLst/>
                <a:gdLst/>
                <a:ahLst/>
                <a:rect l="l" t="t" r="r" b="b"/>
                <a:pathLst>
                  <a:path w="864" h="96">
                    <a:moveTo>
                      <a:pt x="0" y="0"/>
                    </a:moveTo>
                    <a:cubicBezTo>
                      <a:pt x="168" y="48"/>
                      <a:pt x="336" y="96"/>
                      <a:pt x="480" y="96"/>
                    </a:cubicBezTo>
                    <a:cubicBezTo>
                      <a:pt x="624" y="96"/>
                      <a:pt x="744" y="48"/>
                      <a:pt x="864" y="0"/>
                    </a:cubicBezTo>
                  </a:path>
                </a:pathLst>
              </a:custGeom>
              <a:noFill/>
              <a:ln w="2844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H="1">
                <a:off x="8481600" y="2167560"/>
                <a:ext cx="42840" cy="43560"/>
              </a:xfrm>
              <a:prstGeom prst="ellipse">
                <a:avLst/>
              </a:prstGeom>
              <a:solidFill>
                <a:srgbClr val="003366"/>
              </a:solidFill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8381520" y="2167560"/>
                <a:ext cx="42840" cy="43560"/>
              </a:xfrm>
              <a:prstGeom prst="ellipse">
                <a:avLst/>
              </a:prstGeom>
              <a:solidFill>
                <a:srgbClr val="003366"/>
              </a:solidFill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 flipH="1">
              <a:off x="8415360" y="2284560"/>
              <a:ext cx="109440" cy="60480"/>
            </a:xfrm>
            <a:custGeom>
              <a:avLst/>
              <a:gdLst/>
              <a:ahLst/>
              <a:rect l="l" t="t" r="r" b="b"/>
              <a:pathLst>
                <a:path w="368" h="200">
                  <a:moveTo>
                    <a:pt x="320" y="0"/>
                  </a:moveTo>
                  <a:cubicBezTo>
                    <a:pt x="192" y="8"/>
                    <a:pt x="64" y="16"/>
                    <a:pt x="32" y="48"/>
                  </a:cubicBezTo>
                  <a:cubicBezTo>
                    <a:pt x="0" y="80"/>
                    <a:pt x="72" y="184"/>
                    <a:pt x="128" y="192"/>
                  </a:cubicBezTo>
                  <a:cubicBezTo>
                    <a:pt x="184" y="200"/>
                    <a:pt x="328" y="112"/>
                    <a:pt x="368" y="96"/>
                  </a:cubicBezTo>
                </a:path>
              </a:pathLst>
            </a:custGeom>
            <a:noFill/>
            <a:ln w="381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8234280" y="2109240"/>
              <a:ext cx="32760" cy="135000"/>
            </a:xfrm>
            <a:custGeom>
              <a:avLst/>
              <a:gdLst/>
              <a:ahLst/>
              <a:rect l="l" t="t" r="r" b="b"/>
              <a:pathLst>
                <a:path w="111" h="445">
                  <a:moveTo>
                    <a:pt x="0" y="78"/>
                  </a:moveTo>
                  <a:cubicBezTo>
                    <a:pt x="26" y="0"/>
                    <a:pt x="0" y="4"/>
                    <a:pt x="55" y="22"/>
                  </a:cubicBezTo>
                  <a:cubicBezTo>
                    <a:pt x="94" y="61"/>
                    <a:pt x="75" y="35"/>
                    <a:pt x="100" y="111"/>
                  </a:cubicBezTo>
                  <a:cubicBezTo>
                    <a:pt x="104" y="122"/>
                    <a:pt x="111" y="145"/>
                    <a:pt x="111" y="145"/>
                  </a:cubicBezTo>
                  <a:cubicBezTo>
                    <a:pt x="104" y="221"/>
                    <a:pt x="92" y="383"/>
                    <a:pt x="33" y="445"/>
                  </a:cubicBezTo>
                  <a:cubicBezTo>
                    <a:pt x="21" y="408"/>
                    <a:pt x="11" y="372"/>
                    <a:pt x="11" y="333"/>
                  </a:cubicBezTo>
                </a:path>
              </a:pathLst>
            </a:custGeom>
            <a:noFill/>
            <a:ln w="381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8153280" y="1905120"/>
              <a:ext cx="457200" cy="481680"/>
            </a:xfrm>
            <a:custGeom>
              <a:avLst/>
              <a:gdLst/>
              <a:ahLst/>
              <a:rect l="l" t="t" r="r" b="b"/>
              <a:pathLst>
                <a:path w="1536" h="1584">
                  <a:moveTo>
                    <a:pt x="912" y="240"/>
                  </a:moveTo>
                  <a:lnTo>
                    <a:pt x="768" y="336"/>
                  </a:lnTo>
                  <a:lnTo>
                    <a:pt x="336" y="480"/>
                  </a:lnTo>
                  <a:lnTo>
                    <a:pt x="144" y="624"/>
                  </a:lnTo>
                  <a:lnTo>
                    <a:pt x="48" y="960"/>
                  </a:lnTo>
                  <a:lnTo>
                    <a:pt x="0" y="1008"/>
                  </a:lnTo>
                  <a:lnTo>
                    <a:pt x="0" y="912"/>
                  </a:lnTo>
                  <a:lnTo>
                    <a:pt x="0" y="768"/>
                  </a:lnTo>
                  <a:lnTo>
                    <a:pt x="0" y="432"/>
                  </a:lnTo>
                  <a:lnTo>
                    <a:pt x="240" y="192"/>
                  </a:lnTo>
                  <a:lnTo>
                    <a:pt x="528" y="48"/>
                  </a:lnTo>
                  <a:lnTo>
                    <a:pt x="816" y="0"/>
                  </a:lnTo>
                  <a:lnTo>
                    <a:pt x="1248" y="144"/>
                  </a:lnTo>
                  <a:lnTo>
                    <a:pt x="1392" y="384"/>
                  </a:lnTo>
                  <a:lnTo>
                    <a:pt x="1536" y="768"/>
                  </a:lnTo>
                  <a:lnTo>
                    <a:pt x="1536" y="1248"/>
                  </a:lnTo>
                  <a:lnTo>
                    <a:pt x="1440" y="1584"/>
                  </a:lnTo>
                  <a:lnTo>
                    <a:pt x="1344" y="1344"/>
                  </a:lnTo>
                  <a:lnTo>
                    <a:pt x="1248" y="1056"/>
                  </a:lnTo>
                  <a:lnTo>
                    <a:pt x="1248" y="864"/>
                  </a:lnTo>
                  <a:lnTo>
                    <a:pt x="1296" y="816"/>
                  </a:lnTo>
                  <a:lnTo>
                    <a:pt x="1248" y="720"/>
                  </a:lnTo>
                  <a:lnTo>
                    <a:pt x="1152" y="720"/>
                  </a:lnTo>
                  <a:lnTo>
                    <a:pt x="1152" y="816"/>
                  </a:lnTo>
                  <a:lnTo>
                    <a:pt x="1152" y="912"/>
                  </a:lnTo>
                  <a:lnTo>
                    <a:pt x="1056" y="672"/>
                  </a:lnTo>
                  <a:lnTo>
                    <a:pt x="912" y="432"/>
                  </a:lnTo>
                  <a:lnTo>
                    <a:pt x="816" y="336"/>
                  </a:lnTo>
                  <a:lnTo>
                    <a:pt x="864" y="288"/>
                  </a:lnTo>
                </a:path>
              </a:pathLst>
            </a:custGeom>
            <a:solidFill>
              <a:srgbClr val="6633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8238600" y="2211480"/>
              <a:ext cx="343080" cy="379440"/>
            </a:xfrm>
            <a:custGeom>
              <a:avLst/>
              <a:gdLst/>
              <a:ahLst/>
              <a:rect l="l" t="t" r="r" b="b"/>
              <a:pathLst>
                <a:path w="1152" h="1248">
                  <a:moveTo>
                    <a:pt x="1056" y="0"/>
                  </a:moveTo>
                  <a:lnTo>
                    <a:pt x="1008" y="336"/>
                  </a:lnTo>
                  <a:lnTo>
                    <a:pt x="816" y="432"/>
                  </a:lnTo>
                  <a:lnTo>
                    <a:pt x="720" y="384"/>
                  </a:lnTo>
                  <a:lnTo>
                    <a:pt x="624" y="384"/>
                  </a:lnTo>
                  <a:lnTo>
                    <a:pt x="432" y="432"/>
                  </a:lnTo>
                  <a:lnTo>
                    <a:pt x="384" y="480"/>
                  </a:lnTo>
                  <a:lnTo>
                    <a:pt x="240" y="528"/>
                  </a:lnTo>
                  <a:lnTo>
                    <a:pt x="96" y="432"/>
                  </a:lnTo>
                  <a:lnTo>
                    <a:pt x="0" y="384"/>
                  </a:lnTo>
                  <a:lnTo>
                    <a:pt x="96" y="720"/>
                  </a:lnTo>
                  <a:lnTo>
                    <a:pt x="192" y="960"/>
                  </a:lnTo>
                  <a:lnTo>
                    <a:pt x="432" y="1200"/>
                  </a:lnTo>
                  <a:lnTo>
                    <a:pt x="672" y="1248"/>
                  </a:lnTo>
                  <a:lnTo>
                    <a:pt x="1056" y="1104"/>
                  </a:lnTo>
                  <a:lnTo>
                    <a:pt x="1152" y="720"/>
                  </a:lnTo>
                  <a:lnTo>
                    <a:pt x="1104" y="288"/>
                  </a:lnTo>
                  <a:lnTo>
                    <a:pt x="1056" y="96"/>
                  </a:lnTo>
                </a:path>
              </a:pathLst>
            </a:custGeom>
            <a:solidFill>
              <a:srgbClr val="6633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8381880" y="2357280"/>
              <a:ext cx="100080" cy="583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96"/>
                  </a:moveTo>
                  <a:lnTo>
                    <a:pt x="144" y="96"/>
                  </a:lnTo>
                  <a:lnTo>
                    <a:pt x="240" y="0"/>
                  </a:lnTo>
                  <a:lnTo>
                    <a:pt x="288" y="144"/>
                  </a:lnTo>
                  <a:lnTo>
                    <a:pt x="144" y="192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7391520" y="1828800"/>
            <a:ext cx="609480" cy="9144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7543800" y="1905120"/>
            <a:ext cx="380880" cy="761400"/>
            <a:chOff x="7543800" y="1905120"/>
            <a:chExt cx="380880" cy="761400"/>
          </a:xfrm>
        </p:grpSpPr>
        <p:sp>
          <p:nvSpPr>
            <p:cNvPr id="68" name=""/>
            <p:cNvSpPr/>
            <p:nvPr/>
          </p:nvSpPr>
          <p:spPr>
            <a:xfrm>
              <a:off x="7812720" y="1935360"/>
              <a:ext cx="93960" cy="290520"/>
            </a:xfrm>
            <a:custGeom>
              <a:avLst/>
              <a:gdLst/>
              <a:ahLst/>
              <a:rect l="l" t="t" r="r" b="b"/>
              <a:pathLst>
                <a:path w="336" h="912">
                  <a:moveTo>
                    <a:pt x="48" y="0"/>
                  </a:moveTo>
                  <a:lnTo>
                    <a:pt x="240" y="192"/>
                  </a:lnTo>
                  <a:lnTo>
                    <a:pt x="336" y="432"/>
                  </a:lnTo>
                  <a:lnTo>
                    <a:pt x="336" y="720"/>
                  </a:lnTo>
                  <a:lnTo>
                    <a:pt x="240" y="912"/>
                  </a:lnTo>
                  <a:lnTo>
                    <a:pt x="192" y="528"/>
                  </a:lnTo>
                  <a:lnTo>
                    <a:pt x="48" y="240"/>
                  </a:lnTo>
                  <a:lnTo>
                    <a:pt x="0" y="96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543800" y="1935360"/>
              <a:ext cx="380880" cy="731160"/>
            </a:xfrm>
            <a:custGeom>
              <a:avLst/>
              <a:gdLst/>
              <a:ahLst/>
              <a:rect l="l" t="t" r="r" b="b"/>
              <a:pathLst>
                <a:path w="1360" h="2296">
                  <a:moveTo>
                    <a:pt x="160" y="624"/>
                  </a:moveTo>
                  <a:lnTo>
                    <a:pt x="256" y="240"/>
                  </a:lnTo>
                  <a:lnTo>
                    <a:pt x="496" y="48"/>
                  </a:lnTo>
                  <a:lnTo>
                    <a:pt x="784" y="0"/>
                  </a:lnTo>
                  <a:cubicBezTo>
                    <a:pt x="872" y="8"/>
                    <a:pt x="952" y="40"/>
                    <a:pt x="1024" y="96"/>
                  </a:cubicBezTo>
                  <a:cubicBezTo>
                    <a:pt x="1096" y="152"/>
                    <a:pt x="1176" y="224"/>
                    <a:pt x="1216" y="336"/>
                  </a:cubicBezTo>
                  <a:lnTo>
                    <a:pt x="1264" y="768"/>
                  </a:lnTo>
                  <a:cubicBezTo>
                    <a:pt x="1264" y="768"/>
                    <a:pt x="1272" y="1164"/>
                    <a:pt x="1264" y="1152"/>
                  </a:cubicBezTo>
                  <a:cubicBezTo>
                    <a:pt x="1256" y="1140"/>
                    <a:pt x="1360" y="1488"/>
                    <a:pt x="1360" y="1488"/>
                  </a:cubicBezTo>
                  <a:cubicBezTo>
                    <a:pt x="1360" y="1488"/>
                    <a:pt x="1312" y="1824"/>
                    <a:pt x="1312" y="1824"/>
                  </a:cubicBezTo>
                  <a:cubicBezTo>
                    <a:pt x="1312" y="1824"/>
                    <a:pt x="1256" y="1944"/>
                    <a:pt x="1168" y="2016"/>
                  </a:cubicBezTo>
                  <a:cubicBezTo>
                    <a:pt x="1080" y="2088"/>
                    <a:pt x="944" y="2220"/>
                    <a:pt x="784" y="2256"/>
                  </a:cubicBezTo>
                  <a:cubicBezTo>
                    <a:pt x="656" y="2288"/>
                    <a:pt x="520" y="2296"/>
                    <a:pt x="400" y="2208"/>
                  </a:cubicBezTo>
                  <a:cubicBezTo>
                    <a:pt x="280" y="2120"/>
                    <a:pt x="128" y="1888"/>
                    <a:pt x="64" y="1728"/>
                  </a:cubicBezTo>
                  <a:cubicBezTo>
                    <a:pt x="0" y="1568"/>
                    <a:pt x="0" y="1432"/>
                    <a:pt x="16" y="1248"/>
                  </a:cubicBezTo>
                  <a:cubicBezTo>
                    <a:pt x="32" y="1064"/>
                    <a:pt x="130" y="754"/>
                    <a:pt x="160" y="624"/>
                  </a:cubicBezTo>
                  <a:close/>
                </a:path>
              </a:pathLst>
            </a:custGeom>
            <a:solidFill>
              <a:srgbClr val="fbdc85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785720" y="2118960"/>
              <a:ext cx="40320" cy="60840"/>
            </a:xfrm>
            <a:prstGeom prst="ellipse">
              <a:avLst/>
            </a:prstGeom>
            <a:solidFill>
              <a:srgbClr val="33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678080" y="2118960"/>
              <a:ext cx="40320" cy="60840"/>
            </a:xfrm>
            <a:prstGeom prst="ellipse">
              <a:avLst/>
            </a:prstGeom>
            <a:solidFill>
              <a:srgbClr val="33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691760" y="2378880"/>
              <a:ext cx="120960" cy="6084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336" y="48"/>
                  </a:moveTo>
                  <a:lnTo>
                    <a:pt x="96" y="0"/>
                  </a:lnTo>
                  <a:lnTo>
                    <a:pt x="0" y="96"/>
                  </a:lnTo>
                  <a:lnTo>
                    <a:pt x="336" y="192"/>
                  </a:lnTo>
                  <a:lnTo>
                    <a:pt x="432" y="144"/>
                  </a:lnTo>
                  <a:lnTo>
                    <a:pt x="432" y="0"/>
                  </a:lnTo>
                  <a:lnTo>
                    <a:pt x="336" y="48"/>
                  </a:lnTo>
                  <a:close/>
                </a:path>
              </a:pathLst>
            </a:custGeom>
            <a:solidFill>
              <a:srgbClr val="3333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718400" y="2210760"/>
              <a:ext cx="136440" cy="124560"/>
            </a:xfrm>
            <a:custGeom>
              <a:avLst/>
              <a:gdLst/>
              <a:ahLst/>
              <a:rect l="l" t="t" r="r" b="b"/>
              <a:pathLst>
                <a:path w="488" h="472">
                  <a:moveTo>
                    <a:pt x="48" y="152"/>
                  </a:moveTo>
                  <a:cubicBezTo>
                    <a:pt x="156" y="76"/>
                    <a:pt x="264" y="0"/>
                    <a:pt x="336" y="8"/>
                  </a:cubicBezTo>
                  <a:cubicBezTo>
                    <a:pt x="408" y="16"/>
                    <a:pt x="488" y="128"/>
                    <a:pt x="480" y="200"/>
                  </a:cubicBezTo>
                  <a:cubicBezTo>
                    <a:pt x="472" y="272"/>
                    <a:pt x="368" y="408"/>
                    <a:pt x="288" y="440"/>
                  </a:cubicBezTo>
                  <a:cubicBezTo>
                    <a:pt x="208" y="472"/>
                    <a:pt x="104" y="432"/>
                    <a:pt x="0" y="392"/>
                  </a:cubicBezTo>
                </a:path>
              </a:pathLst>
            </a:custGeom>
            <a:noFill/>
            <a:ln w="324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543800" y="1905120"/>
              <a:ext cx="268920" cy="443160"/>
            </a:xfrm>
            <a:custGeom>
              <a:avLst/>
              <a:gdLst/>
              <a:ahLst/>
              <a:rect l="l" t="t" r="r" b="b"/>
              <a:pathLst>
                <a:path w="960" h="1392">
                  <a:moveTo>
                    <a:pt x="960" y="192"/>
                  </a:moveTo>
                  <a:lnTo>
                    <a:pt x="672" y="144"/>
                  </a:lnTo>
                  <a:lnTo>
                    <a:pt x="384" y="288"/>
                  </a:lnTo>
                  <a:lnTo>
                    <a:pt x="288" y="432"/>
                  </a:lnTo>
                  <a:lnTo>
                    <a:pt x="192" y="624"/>
                  </a:lnTo>
                  <a:lnTo>
                    <a:pt x="192" y="960"/>
                  </a:lnTo>
                  <a:lnTo>
                    <a:pt x="96" y="864"/>
                  </a:lnTo>
                  <a:lnTo>
                    <a:pt x="48" y="1152"/>
                  </a:lnTo>
                  <a:lnTo>
                    <a:pt x="0" y="1392"/>
                  </a:lnTo>
                  <a:lnTo>
                    <a:pt x="0" y="816"/>
                  </a:lnTo>
                  <a:lnTo>
                    <a:pt x="48" y="384"/>
                  </a:lnTo>
                  <a:lnTo>
                    <a:pt x="336" y="96"/>
                  </a:lnTo>
                  <a:lnTo>
                    <a:pt x="624" y="0"/>
                  </a:lnTo>
                  <a:lnTo>
                    <a:pt x="912" y="48"/>
                  </a:lnTo>
                  <a:lnTo>
                    <a:pt x="960" y="192"/>
                  </a:ln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7469280" y="2666880"/>
            <a:ext cx="109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ychicu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Onesimu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295280" y="762120"/>
            <a:ext cx="6681960" cy="914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tructure of an Epistl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191120" y="2255760"/>
            <a:ext cx="45720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lut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447920" y="2362320"/>
            <a:ext cx="2209680" cy="2209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1676520" y="609480"/>
            <a:ext cx="5919840" cy="914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ccasional Natur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209680" y="1600200"/>
            <a:ext cx="4853160" cy="914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f the Epistle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25146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Occasioned by specific questions, problems, and circumstanc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685800" y="609480"/>
            <a:ext cx="54864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omework Review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629400" y="304920"/>
            <a:ext cx="2209680" cy="21128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9880" y="2819520"/>
            <a:ext cx="50292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How does Philippians 2:1-4 relate to Philippians 2:5-11?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838080" y="2320920"/>
            <a:ext cx="2676600" cy="3467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86" name=""/>
          <p:cNvSpPr/>
          <p:nvPr/>
        </p:nvSpPr>
        <p:spPr>
          <a:xfrm>
            <a:off x="2438280" y="5597640"/>
            <a:ext cx="1219320" cy="33732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002f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Page 9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685800" y="609480"/>
            <a:ext cx="54864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omework Review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629400" y="304920"/>
            <a:ext cx="2209680" cy="21128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114800" y="2514240"/>
            <a:ext cx="44956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What is the connection between Ephesians 5:15-21 and Ephesians 5:22 – 6:9?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838080" y="2320920"/>
            <a:ext cx="2676600" cy="3467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91" name=""/>
          <p:cNvSpPr/>
          <p:nvPr/>
        </p:nvSpPr>
        <p:spPr>
          <a:xfrm>
            <a:off x="2438280" y="5597640"/>
            <a:ext cx="1219320" cy="33732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002f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Page 9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85800" y="609480"/>
            <a:ext cx="54864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omework Review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629400" y="304920"/>
            <a:ext cx="2209680" cy="2112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62160" y="2666880"/>
            <a:ext cx="46479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What role does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1 Corinthians 13 play in the larger unit of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1 Corinthians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12-14?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838080" y="2320920"/>
            <a:ext cx="2676600" cy="3467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96" name=""/>
          <p:cNvSpPr/>
          <p:nvPr/>
        </p:nvSpPr>
        <p:spPr>
          <a:xfrm>
            <a:off x="2438280" y="5597640"/>
            <a:ext cx="1219320" cy="33732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002f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Page 9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590920" y="2895480"/>
            <a:ext cx="3809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s a Genr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133720" y="1752480"/>
            <a:ext cx="4800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Gospel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JohnStevenson</cp:lastModifiedBy>
  <dcterms:modified xsi:type="dcterms:W3CDTF">2010-12-03T22:10:33Z</dcterms:modified>
  <cp:revision>255</cp:revision>
  <dc:subject>Biblical Interpretation</dc:subject>
  <dc:title>Biblical Interpretation</dc:title>
</cp:coreProperties>
</file>