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2F0-B033-407A-826F-6021EFEF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A05-D593-4CE3-AB97-3C148E68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AF7-3C49-4EF7-860D-23ACAB68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791-2229-4059-85B2-19CE3988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41D-482F-4917-9518-6883416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46C-F959-4771-8814-2C3DD54A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11D-9F73-4614-B266-CD754B9A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629-A9F1-4F05-9B8D-D4B23D8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8ED-801E-48B1-8D23-65C3656E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E87-6429-4DE7-9B84-2613F03B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FB3-C736-4911-AA4F-7C7FC41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546-9640-4F4F-A0D9-B219FBB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6B2D-6988-4163-8FE4-46450A1CD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25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SC024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aning and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95480" y="6186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447920" y="609480"/>
            <a:ext cx="62434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ical Narr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90360" y="22093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rratives are not written to answer all our Theological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rratives are not always Chronolog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piration does not Guarantee Truthfulness in Spe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s are sometimes rounded off or approxim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xtual transmission occasionally results in numerical dif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838080" y="457200"/>
            <a:ext cx="7462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alogies &amp; Number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3520" y="4495680"/>
            <a:ext cx="815328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struck down some of the men of Beth-shemesh because they had looked into the ark of the LORD. He struck down of all the people, 50,070 men (1 Samuel 6:1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s are sometimes rounded off or approxim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xtual transmission occasionally results in numerical dif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838080" y="457200"/>
            <a:ext cx="7462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alogies &amp; Number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572000"/>
            <a:ext cx="373356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hoiachin was eighteen years old when he became king (2 Kings 24: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952880" y="4572000"/>
            <a:ext cx="37339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hoiachin was eight years old when he became king (2 Chro. 36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191120" y="5029200"/>
            <a:ext cx="838080" cy="685800"/>
          </a:xfrm>
          <a:prstGeom prst="leftRightArrow">
            <a:avLst>
              <a:gd name="adj1" fmla="val 53407"/>
              <a:gd name="adj2" fmla="val 3564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s are sometimes rounded off or approxim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xtual transmission occasionally results in numerical dif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alogies are often styl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838080" y="457200"/>
            <a:ext cx="7462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alogies &amp; Number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the genealogy of Jesus Christ, the son of David, the son of Abraha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1066680" y="914400"/>
            <a:ext cx="701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76320" y="3886200"/>
            <a:ext cx="2057400" cy="2743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stating key figur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133720" y="4800600"/>
            <a:ext cx="1676160" cy="1828800"/>
          </a:xfrm>
          <a:prstGeom prst="rect">
            <a:avLst/>
          </a:prstGeom>
          <a:gradFill rotWithShape="0">
            <a:gsLst>
              <a:gs pos="0">
                <a:srgbClr val="00002e"/>
              </a:gs>
              <a:gs pos="50000">
                <a:srgbClr val="000099"/>
              </a:gs>
              <a:gs pos="100000">
                <a:srgbClr val="00002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 to Davi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09880" y="4800600"/>
            <a:ext cx="1600200" cy="1828800"/>
          </a:xfrm>
          <a:prstGeom prst="rect">
            <a:avLst/>
          </a:prstGeom>
          <a:gradFill rotWithShape="0">
            <a:gsLst>
              <a:gs pos="0">
                <a:srgbClr val="00002e"/>
              </a:gs>
              <a:gs pos="50000">
                <a:srgbClr val="000099"/>
              </a:gs>
              <a:gs pos="100000">
                <a:srgbClr val="00002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to Babylon Captiv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410080" y="4800600"/>
            <a:ext cx="1600200" cy="1828800"/>
          </a:xfrm>
          <a:prstGeom prst="rect">
            <a:avLst/>
          </a:prstGeom>
          <a:gradFill rotWithShape="0">
            <a:gsLst>
              <a:gs pos="0">
                <a:srgbClr val="00002e"/>
              </a:gs>
              <a:gs pos="50000">
                <a:srgbClr val="000099"/>
              </a:gs>
              <a:gs pos="100000">
                <a:srgbClr val="00002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from Babylon to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7010280" y="3886200"/>
            <a:ext cx="198144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and summary of numb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76320" y="3276720"/>
            <a:ext cx="8915400" cy="609480"/>
            <a:chOff x="76320" y="3276720"/>
            <a:chExt cx="8915400" cy="609480"/>
          </a:xfrm>
        </p:grpSpPr>
        <p:sp>
          <p:nvSpPr>
            <p:cNvPr id="97" name="Rectangle 11"/>
            <p:cNvSpPr/>
            <p:nvPr/>
          </p:nvSpPr>
          <p:spPr>
            <a:xfrm>
              <a:off x="76320" y="327672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270000"/>
                </a:gs>
                <a:gs pos="50000">
                  <a:srgbClr val="800000"/>
                </a:gs>
                <a:gs pos="100000">
                  <a:srgbClr val="27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1:1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133720" y="32767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270000"/>
                </a:gs>
                <a:gs pos="50000">
                  <a:srgbClr val="800000"/>
                </a:gs>
                <a:gs pos="100000">
                  <a:srgbClr val="27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1:2-6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3809880" y="3276720"/>
              <a:ext cx="1600200" cy="609480"/>
            </a:xfrm>
            <a:prstGeom prst="rect">
              <a:avLst/>
            </a:prstGeom>
            <a:gradFill rotWithShape="0">
              <a:gsLst>
                <a:gs pos="0">
                  <a:srgbClr val="270000"/>
                </a:gs>
                <a:gs pos="50000">
                  <a:srgbClr val="800000"/>
                </a:gs>
                <a:gs pos="100000">
                  <a:srgbClr val="27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1:6-11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5410080" y="3276720"/>
              <a:ext cx="1600200" cy="609480"/>
            </a:xfrm>
            <a:prstGeom prst="rect">
              <a:avLst/>
            </a:prstGeom>
            <a:gradFill rotWithShape="0">
              <a:gsLst>
                <a:gs pos="0">
                  <a:srgbClr val="270000"/>
                </a:gs>
                <a:gs pos="50000">
                  <a:srgbClr val="800000"/>
                </a:gs>
                <a:gs pos="100000">
                  <a:srgbClr val="27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1:12-16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7010280" y="327672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270000"/>
                </a:gs>
                <a:gs pos="50000">
                  <a:srgbClr val="800000"/>
                </a:gs>
                <a:gs pos="100000">
                  <a:srgbClr val="27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1:17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02" name="Rectangle 16"/>
          <p:cNvSpPr/>
          <p:nvPr/>
        </p:nvSpPr>
        <p:spPr>
          <a:xfrm>
            <a:off x="2133720" y="3886200"/>
            <a:ext cx="487656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3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Genealog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: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all the generations from Abraham to David are fourteen generations; and from David to the deportation to Babylon fourteen generations; and from the deportation to Babylon to the time of Christ fourteen gen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066680" y="914400"/>
            <a:ext cx="701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ames Omitt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47800" y="2438280"/>
            <a:ext cx="2590560" cy="6098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1152360" y="838080"/>
            <a:ext cx="701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47800" y="3429000"/>
            <a:ext cx="2590560" cy="609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zzia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47800" y="1447920"/>
            <a:ext cx="2590560" cy="609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hoshap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47800" y="4419720"/>
            <a:ext cx="2590560" cy="609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tha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47800" y="5410080"/>
            <a:ext cx="2590560" cy="6098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az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143080" y="20574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143080" y="30481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143080" y="403848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143080" y="5029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2143080" y="106668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143080" y="60199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62040" y="3235320"/>
            <a:ext cx="1447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552200" y="2163600"/>
            <a:ext cx="3579120" cy="2592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mitted Na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zia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alia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as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a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brew Letters have Numeric 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352680" y="198072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876920" y="220968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352680" y="274320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b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876920" y="29718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038480" y="289548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352680" y="342900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g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876920" y="36576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4038480" y="358128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352680" y="411480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876920" y="43434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4038480" y="426708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480060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h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876920" y="50292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038480" y="495288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3352680" y="548640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4876920" y="5715000"/>
            <a:ext cx="99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038480" y="563868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477480" y="2590920"/>
            <a:ext cx="19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avid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6477120" y="32767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dwd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4343400" cy="8575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4343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with Abraham and moves forward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495680" y="152280"/>
            <a:ext cx="4343400" cy="8575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uk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495680" y="990720"/>
            <a:ext cx="4343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s opposite way, beginning with Jesus and going to Ada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52280" y="2362320"/>
            <a:ext cx="434340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d into three groups of 1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495680" y="2362320"/>
            <a:ext cx="434340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divis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52280" y="3276720"/>
            <a:ext cx="4343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its certain names to keep the pattern of 14 nam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495680" y="3276720"/>
            <a:ext cx="4343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missions of which we are aware; Cainan added from the Septuagin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52280" y="4648320"/>
            <a:ext cx="4343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s the line through David and Solom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495680" y="4648320"/>
            <a:ext cx="4343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47"/>
              </a:gs>
              <a:gs pos="100000">
                <a:srgbClr val="000099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s the line through another of David’s so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Natha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1371600" y="6172200"/>
            <a:ext cx="198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sep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3"/>
          <p:cNvSpPr txBox="1"/>
          <p:nvPr/>
        </p:nvSpPr>
        <p:spPr>
          <a:xfrm>
            <a:off x="5867280" y="6172200"/>
            <a:ext cx="160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4038480" cy="9334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c000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3504960" cy="5333760"/>
          </a:xfrm>
          <a:prstGeom prst="rect">
            <a:avLst/>
          </a:prstGeom>
          <a:gradFill rotWithShape="0">
            <a:gsLst>
              <a:gs pos="0">
                <a:srgbClr val="254a93"/>
              </a:gs>
              <a:gs pos="100000">
                <a:srgbClr val="11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usel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m Ham Japhe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572000" y="304920"/>
            <a:ext cx="4086360" cy="9334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c000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181480" y="1219320"/>
            <a:ext cx="3505320" cy="5333760"/>
          </a:xfrm>
          <a:prstGeom prst="rect">
            <a:avLst/>
          </a:prstGeom>
          <a:gradFill rotWithShape="0">
            <a:gsLst>
              <a:gs pos="0">
                <a:srgbClr val="254a93"/>
              </a:gs>
              <a:gs pos="100000">
                <a:srgbClr val="11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phachsh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na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a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e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u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a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m Nahor Hara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038480" y="1219320"/>
            <a:ext cx="1143000" cy="5333760"/>
          </a:xfrm>
          <a:prstGeom prst="rect">
            <a:avLst/>
          </a:prstGeom>
          <a:solidFill>
            <a:srgbClr val="08112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1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057400" cy="10954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/>
          <p:cNvSpPr/>
          <p:nvPr/>
        </p:nvSpPr>
        <p:spPr>
          <a:xfrm>
            <a:off x="2362320" y="2057400"/>
            <a:ext cx="2361960" cy="1143000"/>
          </a:xfrm>
          <a:custGeom>
            <a:avLst/>
            <a:gdLst>
              <a:gd name="textAreaLeft" fmla="*/ 450720 w 2361960"/>
              <a:gd name="textAreaRight" fmla="*/ 1675080 w 23619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09480" y="182880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ollections translat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AutoShape 18"/>
          <p:cNvSpPr/>
          <p:nvPr/>
        </p:nvSpPr>
        <p:spPr>
          <a:xfrm rot="10800000">
            <a:off x="1371600" y="3309840"/>
            <a:ext cx="838080" cy="1067040"/>
          </a:xfrm>
          <a:prstGeom prst="downArrow">
            <a:avLst>
              <a:gd name="adj1" fmla="val 32194"/>
              <a:gd name="adj2" fmla="val 4244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9480" y="4114800"/>
            <a:ext cx="23623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ach book recognized as being from G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rot="7362600">
            <a:off x="2514600" y="4191120"/>
            <a:ext cx="1905120" cy="1752480"/>
          </a:xfrm>
          <a:custGeom>
            <a:avLst/>
            <a:gdLst>
              <a:gd name="textAreaLeft" fmla="*/ 279000 w 1905120"/>
              <a:gd name="textAreaRight" fmla="*/ 1626120 w 1905120"/>
              <a:gd name="textAreaTop" fmla="*/ 256320 h 1752480"/>
              <a:gd name="textAreaBottom" fmla="*/ 1496160 h 1752480"/>
            </a:gdLst>
            <a:ahLst/>
            <a:rect l="textAreaLeft" t="textAreaTop" r="textAreaRight" b="textAreaBottom"/>
            <a:pathLst>
              <a:path w="21600" h="21600">
                <a:moveTo>
                  <a:pt x="18089" y="10479"/>
                </a:moveTo>
                <a:cubicBezTo>
                  <a:pt x="17918" y="6577"/>
                  <a:pt x="14705" y="3503"/>
                  <a:pt x="10800" y="3503"/>
                </a:cubicBezTo>
                <a:cubicBezTo>
                  <a:pt x="10641" y="3502"/>
                  <a:pt x="10483" y="3508"/>
                  <a:pt x="10325" y="3518"/>
                </a:cubicBezTo>
                <a:lnTo>
                  <a:pt x="10098" y="22"/>
                </a:lnTo>
                <a:cubicBezTo>
                  <a:pt x="10331" y="7"/>
                  <a:pt x="10565" y="-1"/>
                  <a:pt x="10800" y="0"/>
                </a:cubicBezTo>
                <a:cubicBezTo>
                  <a:pt x="16579" y="0"/>
                  <a:pt x="21335" y="4550"/>
                  <a:pt x="21589" y="10324"/>
                </a:cubicBezTo>
                <a:lnTo>
                  <a:pt x="24286" y="10206"/>
                </a:lnTo>
                <a:lnTo>
                  <a:pt x="20036" y="14849"/>
                </a:lnTo>
                <a:lnTo>
                  <a:pt x="15392" y="10597"/>
                </a:lnTo>
                <a:lnTo>
                  <a:pt x="18089" y="1047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505320" y="502920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ies made of each bo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 rot="5593800">
            <a:off x="5181480" y="4191120"/>
            <a:ext cx="1905120" cy="1752480"/>
          </a:xfrm>
          <a:custGeom>
            <a:avLst/>
            <a:gdLst>
              <a:gd name="textAreaLeft" fmla="*/ 279000 w 1905120"/>
              <a:gd name="textAreaRight" fmla="*/ 1626120 w 1905120"/>
              <a:gd name="textAreaTop" fmla="*/ 256320 h 1752480"/>
              <a:gd name="textAreaBottom" fmla="*/ 1496160 h 1752480"/>
            </a:gdLst>
            <a:ahLst/>
            <a:rect l="textAreaLeft" t="textAreaTop" r="textAreaRight" b="textAreaBottom"/>
            <a:pathLst>
              <a:path w="21600" h="21600">
                <a:moveTo>
                  <a:pt x="18089" y="10479"/>
                </a:moveTo>
                <a:cubicBezTo>
                  <a:pt x="17918" y="6577"/>
                  <a:pt x="14705" y="3503"/>
                  <a:pt x="10800" y="3503"/>
                </a:cubicBezTo>
                <a:cubicBezTo>
                  <a:pt x="10641" y="3502"/>
                  <a:pt x="10483" y="3508"/>
                  <a:pt x="10325" y="3518"/>
                </a:cubicBezTo>
                <a:lnTo>
                  <a:pt x="10098" y="22"/>
                </a:lnTo>
                <a:cubicBezTo>
                  <a:pt x="10331" y="7"/>
                  <a:pt x="10565" y="-1"/>
                  <a:pt x="10800" y="0"/>
                </a:cubicBezTo>
                <a:cubicBezTo>
                  <a:pt x="16579" y="0"/>
                  <a:pt x="21335" y="4550"/>
                  <a:pt x="21589" y="10324"/>
                </a:cubicBezTo>
                <a:lnTo>
                  <a:pt x="24286" y="10206"/>
                </a:lnTo>
                <a:lnTo>
                  <a:pt x="20036" y="14849"/>
                </a:lnTo>
                <a:lnTo>
                  <a:pt x="15392" y="10597"/>
                </a:lnTo>
                <a:lnTo>
                  <a:pt x="18089" y="1047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477120" y="3962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written book of the Bib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7238880" y="2971800"/>
            <a:ext cx="838440" cy="1066680"/>
          </a:xfrm>
          <a:prstGeom prst="downArrow">
            <a:avLst>
              <a:gd name="adj1" fmla="val 32194"/>
              <a:gd name="adj2" fmla="val 4240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447920" y="609480"/>
            <a:ext cx="62434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mes and Plac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7124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people with the same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names with the same per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yal titles (Pharaoh, Abimele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791320" y="3962520"/>
            <a:ext cx="25146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lling A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2900400">
            <a:off x="4952880" y="3124080"/>
            <a:ext cx="1676160" cy="609480"/>
          </a:xfrm>
          <a:prstGeom prst="rightArrow">
            <a:avLst>
              <a:gd name="adj1" fmla="val 50000"/>
              <a:gd name="adj2" fmla="val 10078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352680" y="1981080"/>
            <a:ext cx="251460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ma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 rot="18597000">
            <a:off x="2743200" y="3124080"/>
            <a:ext cx="1676160" cy="609480"/>
          </a:xfrm>
          <a:prstGeom prst="rightArrow">
            <a:avLst>
              <a:gd name="adj1" fmla="val 50000"/>
              <a:gd name="adj2" fmla="val 10078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962160"/>
            <a:ext cx="25146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sing A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514600" y="5105520"/>
            <a:ext cx="358128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spel of Mark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WordArt 11"/>
          <p:cNvSpPr txBox="1"/>
          <p:nvPr/>
        </p:nvSpPr>
        <p:spPr>
          <a:xfrm>
            <a:off x="1219320" y="533520"/>
            <a:ext cx="664344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50000">
                      <a:srgbClr val="ffffff"/>
                    </a:gs>
                    <a:gs pos="100000">
                      <a:srgbClr val="ffe70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ing &amp; Falling Ac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50000">
                    <a:srgbClr val="ffffff"/>
                  </a:gs>
                  <a:gs pos="100000">
                    <a:srgbClr val="ffe70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391160" cy="102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eation comple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avens &amp; earth created; God finished His work (1-3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09692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eated: Formed from dust (4-9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38080" y="160164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&amp; Rivers in garden given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na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-14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295280" y="2100240"/>
            <a:ext cx="7391520" cy="947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 assigned task of guarding &amp; keeping the garden (15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752480" y="3046320"/>
            <a:ext cx="7391520" cy="687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bidden fruit (16-17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295280" y="3732120"/>
            <a:ext cx="7391520" cy="947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 in need of a helper: not good to be alone (18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38080" y="467676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in garden are given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nam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-20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57200" y="5180040"/>
            <a:ext cx="7391520" cy="534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o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eated: Formed from rib (21-24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76320" y="5713560"/>
            <a:ext cx="7391160" cy="102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eation comple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an &amp; woman naked &amp; unashamed in presence of God (25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-914400" y="0"/>
          <a:ext cx="11658600" cy="712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0"/>
                    <a:ext cx="11658600" cy="712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670536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uals:  Laws of the Offerings (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371600" y="1676520"/>
            <a:ext cx="640080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8-10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057400" y="2362320"/>
            <a:ext cx="617220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Purity (11-15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819520" y="30481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tonement (16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2057400" y="3733920"/>
            <a:ext cx="617220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Holiness (17-20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371600" y="4419720"/>
            <a:ext cx="640080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21-22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62120" y="5105520"/>
            <a:ext cx="670536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uals:  Appointed Times (23-25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62120" y="5791320"/>
            <a:ext cx="784836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ies and Vows (26-27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>
            <a:off x="1828800" y="2286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ltine of Levitic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5"/>
          <p:cNvSpPr txBox="1"/>
          <p:nvPr/>
        </p:nvSpPr>
        <p:spPr>
          <a:xfrm>
            <a:off x="609480" y="304920"/>
            <a:ext cx="4953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om the Gener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4191120" y="1295280"/>
            <a:ext cx="4343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the Specifi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638680" y="2666880"/>
            <a:ext cx="281952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stematic Theolo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124080" y="3429000"/>
            <a:ext cx="2667240" cy="685800"/>
          </a:xfrm>
          <a:prstGeom prst="rightArrow">
            <a:avLst>
              <a:gd name="adj1" fmla="val 50000"/>
              <a:gd name="adj2" fmla="val 97231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281952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egesi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3429000" y="4191120"/>
            <a:ext cx="2019240" cy="1904760"/>
            <a:chOff x="3429000" y="4191120"/>
            <a:chExt cx="2019240" cy="1904760"/>
          </a:xfrm>
        </p:grpSpPr>
        <p:sp>
          <p:nvSpPr>
            <p:cNvPr id="194" name="WordArt 9"/>
            <p:cNvSpPr txBox="1"/>
            <p:nvPr/>
          </p:nvSpPr>
          <p:spPr>
            <a:xfrm>
              <a:off x="3505320" y="4191120"/>
              <a:ext cx="17906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8039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Biblical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95" name="WordArt 10"/>
            <p:cNvSpPr txBox="1"/>
            <p:nvPr/>
          </p:nvSpPr>
          <p:spPr>
            <a:xfrm>
              <a:off x="3429000" y="5105520"/>
              <a:ext cx="201924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8421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Theology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2209320"/>
            <a:ext cx="5639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is God revealed in the Torah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6"/>
          <p:cNvGrpSpPr/>
          <p:nvPr/>
        </p:nvGrpSpPr>
        <p:grpSpPr>
          <a:xfrm>
            <a:off x="3429000" y="4191120"/>
            <a:ext cx="2019240" cy="1904760"/>
            <a:chOff x="3429000" y="4191120"/>
            <a:chExt cx="2019240" cy="1904760"/>
          </a:xfrm>
        </p:grpSpPr>
        <p:sp>
          <p:nvSpPr>
            <p:cNvPr id="199" name="WordArt 7"/>
            <p:cNvSpPr txBox="1"/>
            <p:nvPr/>
          </p:nvSpPr>
          <p:spPr>
            <a:xfrm>
              <a:off x="3505320" y="4191120"/>
              <a:ext cx="179064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8039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Biblical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00" name="WordArt 8"/>
            <p:cNvSpPr txBox="1"/>
            <p:nvPr/>
          </p:nvSpPr>
          <p:spPr>
            <a:xfrm>
              <a:off x="3429000" y="5105520"/>
              <a:ext cx="201924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8421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Theology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80920" y="457200"/>
            <a:ext cx="495324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answered, “Truly, truly, I say to you, unless one is born of water and the Spirit he cannot enter into the kingdom of God.” (John 3:5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210040" cy="21132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6"/>
          <p:cNvSpPr txBox="1"/>
          <p:nvPr/>
        </p:nvSpPr>
        <p:spPr>
          <a:xfrm>
            <a:off x="0" y="38088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s th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aning?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0920" y="457200"/>
            <a:ext cx="495324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ly I say to you, there are some of those who are standing here who will not taste death until they see the Son of Man coming in His kingdom.” (Matthew 16:28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210040" cy="21132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4"/>
          <p:cNvSpPr txBox="1"/>
          <p:nvPr/>
        </p:nvSpPr>
        <p:spPr>
          <a:xfrm>
            <a:off x="0" y="38088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s th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aning?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28600" y="228600"/>
            <a:ext cx="5943600" cy="222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hrist also died for sins once for all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just, in order that He might bring us to God, having been put to death in the flesh, but made alive in the spirit;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943600" y="99072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8-2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3520" y="2417760"/>
            <a:ext cx="26668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33520" y="2951280"/>
            <a:ext cx="548640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8080" y="3886200"/>
            <a:ext cx="15242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838080" y="4419720"/>
            <a:ext cx="685800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were disobedient, when the patience of God kept waiting in the days of Noah, during the construction of the ark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447920" y="5791320"/>
            <a:ext cx="68580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 few, that is, eight persons, were brought safely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3657600" y="2022480"/>
            <a:ext cx="19051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"/>
          <p:cNvSpPr/>
          <p:nvPr/>
        </p:nvSpPr>
        <p:spPr>
          <a:xfrm>
            <a:off x="3733920" y="563868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flipV="1" rot="4668600">
            <a:off x="2329560" y="4831920"/>
            <a:ext cx="1981080" cy="1154160"/>
          </a:xfrm>
          <a:custGeom>
            <a:avLst/>
            <a:gdLst>
              <a:gd name="textAreaLeft" fmla="*/ 378000 w 1981080"/>
              <a:gd name="textAreaRight" fmla="*/ 1405080 w 1981080"/>
              <a:gd name="textAreaTop" fmla="*/ 154440 h 1154160"/>
              <a:gd name="textAreaBottom" fmla="*/ 999720 h 1154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276720" y="4191120"/>
            <a:ext cx="2743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rpre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943600" y="312408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648320" y="2057400"/>
            <a:ext cx="2819160" cy="1143000"/>
          </a:xfrm>
          <a:custGeom>
            <a:avLst/>
            <a:gdLst>
              <a:gd name="textAreaLeft" fmla="*/ 537840 w 2819160"/>
              <a:gd name="textAreaRight" fmla="*/ 1999440 w 2819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3581280" y="2895480"/>
            <a:ext cx="2057400" cy="1095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 rot="5593800">
            <a:off x="5333400" y="2838240"/>
            <a:ext cx="1905120" cy="1752840"/>
          </a:xfrm>
          <a:custGeom>
            <a:avLst/>
            <a:gdLst>
              <a:gd name="textAreaLeft" fmla="*/ 279000 w 1905120"/>
              <a:gd name="textAreaRight" fmla="*/ 1626120 w 1905120"/>
              <a:gd name="textAreaTop" fmla="*/ 256680 h 1752840"/>
              <a:gd name="textAreaBottom" fmla="*/ 1496160 h 1752840"/>
            </a:gdLst>
            <a:ahLst/>
            <a:rect l="textAreaLeft" t="textAreaTop" r="textAreaRight" b="textAreaBottom"/>
            <a:pathLst>
              <a:path w="21600" h="21600">
                <a:moveTo>
                  <a:pt x="18089" y="10479"/>
                </a:moveTo>
                <a:cubicBezTo>
                  <a:pt x="17918" y="6577"/>
                  <a:pt x="14705" y="3503"/>
                  <a:pt x="10800" y="3503"/>
                </a:cubicBezTo>
                <a:cubicBezTo>
                  <a:pt x="10641" y="3502"/>
                  <a:pt x="10483" y="3508"/>
                  <a:pt x="10325" y="3518"/>
                </a:cubicBezTo>
                <a:lnTo>
                  <a:pt x="10098" y="22"/>
                </a:lnTo>
                <a:cubicBezTo>
                  <a:pt x="10331" y="7"/>
                  <a:pt x="10565" y="-1"/>
                  <a:pt x="10800" y="0"/>
                </a:cubicBezTo>
                <a:cubicBezTo>
                  <a:pt x="16579" y="0"/>
                  <a:pt x="21335" y="4550"/>
                  <a:pt x="21589" y="10324"/>
                </a:cubicBezTo>
                <a:lnTo>
                  <a:pt x="24286" y="10206"/>
                </a:lnTo>
                <a:lnTo>
                  <a:pt x="20036" y="14849"/>
                </a:lnTo>
                <a:lnTo>
                  <a:pt x="15392" y="10597"/>
                </a:lnTo>
                <a:lnTo>
                  <a:pt x="18089" y="1047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533520" y="609480"/>
            <a:ext cx="5638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Class Proj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ick out four key words from the passage on which you are doing your ALP &amp; look up the Greek word for ea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533520" y="609480"/>
            <a:ext cx="5638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Class Proj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2209680" cy="2112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library_clipart3"/>
          <p:cNvPicPr/>
          <p:nvPr/>
        </p:nvPicPr>
        <p:blipFill>
          <a:blip r:embed="rId4"/>
          <a:stretch/>
        </p:blipFill>
        <p:spPr>
          <a:xfrm>
            <a:off x="533520" y="2971800"/>
            <a:ext cx="4038480" cy="3086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1640" y="30477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man’s Greek Concor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ttel’s TD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n Brown’s Dictionary of NT 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828800" y="609480"/>
            <a:ext cx="56340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vels of Meaning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90360" y="2255760"/>
            <a:ext cx="7543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teral / Grammatical / Histo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urative / Symbolic / Typological / Spiritual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erology / Gemat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666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n a given passage have more than one mean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3886200" y="1371600"/>
            <a:ext cx="427356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" name="WordArt 5"/>
          <p:cNvSpPr txBox="1"/>
          <p:nvPr/>
        </p:nvSpPr>
        <p:spPr>
          <a:xfrm>
            <a:off x="533520" y="1219320"/>
            <a:ext cx="3352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29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 the woma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WordArt 6"/>
          <p:cNvSpPr txBox="1"/>
          <p:nvPr/>
        </p:nvSpPr>
        <p:spPr>
          <a:xfrm rot="21411600">
            <a:off x="609120" y="2133720"/>
            <a:ext cx="3353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766000"/>
                </a:gradFill>
                <a:latin typeface="Impact"/>
              </a:rPr>
              <a:t>young or old?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766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sages normally have one single mea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esus answered, “Truly, truly, I say to you, unless one is born of water and the Spirit he cannot enter into the kingdom of God.” (John 3:5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1452600" y="609480"/>
            <a:ext cx="62434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ical Narr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22093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rratives record what happened, not necessarily what should have happen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rratives are not Norm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of God is Complete, but not Exhaus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6-11-15T20:46:34Z</dcterms:modified>
  <cp:revision>257</cp:revision>
  <dc:subject>Biblical Interpretation</dc:subject>
  <dc:title>Biblical Interpretation</dc:title>
</cp:coreProperties>
</file>