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04C-5FB6-41F6-8CD7-E01CEF63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BDD-8039-4C6F-94FD-8263903C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ACC-32EB-4AC6-9829-83313A11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C6B-BC3F-4C70-9663-906F32D8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924-D649-4902-9ADA-D1A0DE7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CD6-851A-4B33-AC4A-CFE3971D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813-65EF-4355-AF5B-A5DF645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076-CF46-48A7-8EEC-C3532B4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CB6-C72A-45C2-8981-456676E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0BD-1F83-4A2A-A250-5839C1F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2B6-3799-4254-97BB-C4AA2BC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09D-DFC9-4DC7-BC89-688EA71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9E3-1440-40D5-A44F-B00D6B3D5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Issue of D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62625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al-Historical Contex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22920" y="1295280"/>
            <a:ext cx="3941640" cy="525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05520" y="2286000"/>
            <a:ext cx="3848040" cy="28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181240" cy="340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1752120"/>
            <a:ext cx="3429000" cy="838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RUN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9320" y="533520"/>
            <a:ext cx="672912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e Meaning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352680" y="3657600"/>
            <a:ext cx="2217960" cy="240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914400" y="4495680"/>
            <a:ext cx="2514600" cy="18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ords are more than the sum of their par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9320" y="838080"/>
            <a:ext cx="67291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tymological Fallac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2776680" cy="251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riginal meanings do not govern meaning in later tex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19320" y="838080"/>
            <a:ext cx="67291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egetical Fallac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k words that have later derived English meanings are not governed by those meanin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19320" y="838080"/>
            <a:ext cx="67291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egetical Fallac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34340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I am not ashamed of the gospel, for it is 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wer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God for salvation… (Romans 1:16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k words that have later derived English meanings are not governed by those meanin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19320" y="838080"/>
            <a:ext cx="67291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egetical Fallac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34340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merchants of the earth have become rich by 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ealth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her sensuality. (Revelation 18:3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trongest NIV Exhaustive Concorda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57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534160" cy="6577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04920"/>
            <a:ext cx="990720" cy="60948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9720"/>
            <a:ext cx="1676520" cy="60984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752480"/>
            <a:ext cx="4647960" cy="1447920"/>
          </a:xfrm>
          <a:prstGeom prst="wedgeEllipseCallout">
            <a:avLst>
              <a:gd name="adj1" fmla="val -47504"/>
              <a:gd name="adj2" fmla="val -100768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xical form of the Greek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69720"/>
            <a:ext cx="1676160" cy="60984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752480"/>
            <a:ext cx="4114800" cy="1447920"/>
          </a:xfrm>
          <a:prstGeom prst="wedgeEllipseCallout">
            <a:avLst>
              <a:gd name="adj1" fmla="val -43481"/>
              <a:gd name="adj2" fmla="val -10679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xical form transliter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001000" cy="500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446040"/>
            <a:ext cx="609480" cy="53352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752480"/>
            <a:ext cx="4343400" cy="1371600"/>
          </a:xfrm>
          <a:prstGeom prst="wedgeEllipseCallout">
            <a:avLst>
              <a:gd name="adj1" fmla="val -41046"/>
              <a:gd name="adj2" fmla="val -1019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rt of speech (ver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21080" y="403200"/>
            <a:ext cx="990720" cy="53352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1752480"/>
            <a:ext cx="4343400" cy="1371600"/>
          </a:xfrm>
          <a:prstGeom prst="wedgeEllipseCallout">
            <a:avLst>
              <a:gd name="adj1" fmla="val -26500"/>
              <a:gd name="adj2" fmla="val -105902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requency c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200"/>
            <a:ext cx="1447560" cy="53352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057400"/>
            <a:ext cx="3276720" cy="762120"/>
          </a:xfrm>
          <a:prstGeom prst="wedgeEllipseCallout">
            <a:avLst>
              <a:gd name="adj1" fmla="val -9546"/>
              <a:gd name="adj2" fmla="val -182083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ot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5481720"/>
            <a:ext cx="8610480" cy="1071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0" y="304920"/>
            <a:ext cx="14479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057400"/>
            <a:ext cx="3276720" cy="1371600"/>
          </a:xfrm>
          <a:prstGeom prst="wedgeEllipseCallout">
            <a:avLst>
              <a:gd name="adj1" fmla="val 20689"/>
              <a:gd name="adj2" fmla="val -128935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sic defin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23120" y="871560"/>
            <a:ext cx="22096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295280"/>
            <a:ext cx="16002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04920" y="838080"/>
            <a:ext cx="8343720" cy="1676520"/>
          </a:xfrm>
          <a:custGeom>
            <a:avLst/>
            <a:gdLst/>
            <a:ahLst/>
            <a:rect l="l" t="t" r="r" b="b"/>
            <a:pathLst>
              <a:path w="5256" h="1056">
                <a:moveTo>
                  <a:pt x="1200" y="0"/>
                </a:moveTo>
                <a:lnTo>
                  <a:pt x="4896" y="0"/>
                </a:lnTo>
                <a:lnTo>
                  <a:pt x="4999" y="21"/>
                </a:lnTo>
                <a:lnTo>
                  <a:pt x="5088" y="96"/>
                </a:lnTo>
                <a:cubicBezTo>
                  <a:pt x="5127" y="164"/>
                  <a:pt x="5208" y="328"/>
                  <a:pt x="5232" y="432"/>
                </a:cubicBezTo>
                <a:cubicBezTo>
                  <a:pt x="5256" y="536"/>
                  <a:pt x="5232" y="664"/>
                  <a:pt x="5232" y="720"/>
                </a:cubicBezTo>
                <a:lnTo>
                  <a:pt x="5232" y="768"/>
                </a:lnTo>
                <a:lnTo>
                  <a:pt x="5184" y="816"/>
                </a:lnTo>
                <a:lnTo>
                  <a:pt x="4080" y="816"/>
                </a:lnTo>
                <a:cubicBezTo>
                  <a:pt x="3784" y="816"/>
                  <a:pt x="3543" y="802"/>
                  <a:pt x="3408" y="816"/>
                </a:cubicBezTo>
                <a:cubicBezTo>
                  <a:pt x="3280" y="832"/>
                  <a:pt x="3319" y="858"/>
                  <a:pt x="3271" y="898"/>
                </a:cubicBezTo>
                <a:lnTo>
                  <a:pt x="3120" y="1056"/>
                </a:lnTo>
                <a:lnTo>
                  <a:pt x="96" y="1056"/>
                </a:lnTo>
                <a:lnTo>
                  <a:pt x="48" y="1056"/>
                </a:lnTo>
                <a:lnTo>
                  <a:pt x="0" y="864"/>
                </a:lnTo>
                <a:lnTo>
                  <a:pt x="0" y="288"/>
                </a:lnTo>
                <a:lnTo>
                  <a:pt x="96" y="240"/>
                </a:lnTo>
                <a:lnTo>
                  <a:pt x="1152" y="240"/>
                </a:lnTo>
                <a:lnTo>
                  <a:pt x="1200" y="192"/>
                </a:lnTo>
                <a:lnTo>
                  <a:pt x="1200" y="0"/>
                </a:lnTo>
                <a:close/>
              </a:path>
            </a:pathLst>
          </a:custGeom>
          <a:gradFill rotWithShape="0">
            <a:gsLst>
              <a:gs pos="0">
                <a:srgbClr val="800000">
                  <a:alpha val="22352"/>
                </a:srgbClr>
              </a:gs>
              <a:gs pos="100000">
                <a:srgbClr val="4d00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505320"/>
            <a:ext cx="4267080" cy="2057400"/>
          </a:xfrm>
          <a:prstGeom prst="wedgeEllipseCallout">
            <a:avLst>
              <a:gd name="adj1" fmla="val -5393"/>
              <a:gd name="adj2" fmla="val -9791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Various ways it is translated in the N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k up the word “world” as it is used in the NIV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ich Greek/Hebrew words is it transl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ther ways in which those words can be rende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various range of meanin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4400" y="685800"/>
            <a:ext cx="5638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k up the word “transformed” used in Romans 12: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37339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ich Greek word is it transl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ther ways in which that word is rendered in the NIV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other places is that Greek word used in the New Testa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914400" y="685800"/>
            <a:ext cx="5638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k up the word “love” as used in the New Testa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37339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ich Greek words is it transl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ther ways in which those words are rendered in the NIV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distinction in these various te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685800"/>
            <a:ext cx="5638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10666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ve you ever written a letter, a poem, or an article that was misinterpret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as Onesimu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Paul’s attitude toward slavery, as exhibited in this le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ultural practice of slavery in that da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Paul’s attitude differ from the cultural norm?  Would it lead to changes in the cultural norm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should we “apply” any theological principles given in this le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533520"/>
            <a:ext cx="58672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ilemon Ques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600200" cy="153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age 39 Work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800" y="2362320"/>
            <a:ext cx="551016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erary Gen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571500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2438280"/>
            <a:ext cx="3011760" cy="39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9084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352680" y="3962520"/>
            <a:ext cx="22734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97080" y="3809880"/>
            <a:ext cx="238932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3276720" cy="248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228600"/>
            <a:ext cx="3581280" cy="304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724280" y="2895480"/>
            <a:ext cx="4038840" cy="220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 Narr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e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sdom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phe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is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ocalyptic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685800"/>
            <a:ext cx="64864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Biblical Gen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828800" y="2362320"/>
            <a:ext cx="551016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Stud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1-10T17:14:35Z</dcterms:modified>
  <cp:revision>289</cp:revision>
  <dc:subject>Biblical Interpretation</dc:subject>
  <dc:title>Biblical Interpretation</dc:title>
</cp:coreProperties>
</file>