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wmf" ContentType="image/x-wmf"/>
  <Override PartName="/ppt/media/image18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4.png" ContentType="image/png"/>
  <Override PartName="/ppt/media/image38.jpeg" ContentType="image/jpeg"/>
  <Override PartName="/ppt/media/image13.png" ContentType="image/png"/>
  <Override PartName="/ppt/media/image37.jpeg" ContentType="image/jpeg"/>
  <Override PartName="/ppt/media/image7.wmf" ContentType="image/x-wmf"/>
  <Override PartName="/ppt/media/image30.gif" ContentType="image/gif"/>
  <Override PartName="/ppt/media/image16.wmf" ContentType="image/x-wmf"/>
  <Override PartName="/ppt/media/image31.jpeg" ContentType="image/jpeg"/>
  <Override PartName="/ppt/media/image41.png" ContentType="image/png"/>
  <Override PartName="/ppt/media/image40.png" ContentType="image/png"/>
  <Override PartName="/ppt/media/image42.jpeg" ContentType="image/jpeg"/>
  <Override PartName="/ppt/media/image43.png" ContentType="image/png"/>
  <Override PartName="/ppt/media/image44.png" ContentType="image/png"/>
  <Override PartName="/ppt/media/image8.png" ContentType="image/png"/>
  <Override PartName="/ppt/media/image39.jpeg" ContentType="image/jpeg"/>
  <Override PartName="/ppt/media/image4.wmf" ContentType="image/x-wmf"/>
  <Override PartName="/ppt/media/image11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33.png" ContentType="image/png"/>
  <Override PartName="/ppt/media/image3.png" ContentType="image/png"/>
  <Override PartName="/ppt/media/image12.png" ContentType="image/pn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3C7-7BC1-4B41-B9B6-3EF40141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54C-5CC1-49F0-8ECD-79120AD9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3FE-B1AA-4889-B987-415323A6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D87-FB6B-42E8-A1BF-8826ABDC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8BF-E5B9-4993-8340-96AB12EB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7C5-56F6-45DA-B641-8DFC867F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6EB-446A-4893-B717-0E097A4C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754-BF75-4924-9D93-2762123E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6DE-A007-401C-9292-44A59DC5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691-0361-4E34-8C8B-15895EAD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7B8-7D15-4A74-9F0C-A0207EBC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458-0996-4A53-8D00-BAFA1305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C43E-DE08-443C-829C-248D69574C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gif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SC024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Interpreta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w and 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2819520" y="62625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6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4876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tex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6"/>
          <p:cNvSpPr/>
          <p:nvPr/>
        </p:nvSpPr>
        <p:spPr>
          <a:xfrm>
            <a:off x="609480" y="3733920"/>
            <a:ext cx="32767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0199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d behold, two men were talking with Him; and they were Moses and Elijah,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31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who, appearing in glory, were speaking of His departure which He was about to accomplish at Jerusalem.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Luke 9:30-31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250164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6002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Bible is a Self-Interpreting Boo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21" name="Group 19"/>
          <p:cNvGrpSpPr/>
          <p:nvPr/>
        </p:nvGrpSpPr>
        <p:grpSpPr>
          <a:xfrm>
            <a:off x="838080" y="3276720"/>
            <a:ext cx="7239240" cy="1981080"/>
            <a:chOff x="838080" y="3276720"/>
            <a:chExt cx="7239240" cy="1981080"/>
          </a:xfrm>
        </p:grpSpPr>
        <p:sp>
          <p:nvSpPr>
            <p:cNvPr id="322" name="WordArt 12"/>
            <p:cNvSpPr txBox="1"/>
            <p:nvPr/>
          </p:nvSpPr>
          <p:spPr>
            <a:xfrm>
              <a:off x="838080" y="3581280"/>
              <a:ext cx="19814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19080">
                    <a:solidFill>
                      <a:srgbClr val="99ccff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Reformed</a:t>
              </a:r>
              <a:endPara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3" name="WordArt 13"/>
            <p:cNvSpPr txBox="1"/>
            <p:nvPr/>
          </p:nvSpPr>
          <p:spPr>
            <a:xfrm>
              <a:off x="860400" y="4267080"/>
              <a:ext cx="19051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19080">
                    <a:solidFill>
                      <a:srgbClr val="99ccff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Theology</a:t>
              </a:r>
              <a:endPara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4" name="WordArt 14"/>
            <p:cNvSpPr txBox="1"/>
            <p:nvPr/>
          </p:nvSpPr>
          <p:spPr>
            <a:xfrm>
              <a:off x="6226200" y="3962520"/>
              <a:ext cx="18288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19080">
                    <a:solidFill>
                      <a:srgbClr val="99ccff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Catholic</a:t>
              </a:r>
              <a:endPara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5" name="WordArt 15"/>
            <p:cNvSpPr txBox="1"/>
            <p:nvPr/>
          </p:nvSpPr>
          <p:spPr>
            <a:xfrm>
              <a:off x="6172200" y="4648320"/>
              <a:ext cx="19051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19080">
                    <a:solidFill>
                      <a:srgbClr val="99ccff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Theology</a:t>
              </a:r>
              <a:endPara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6" name="WordArt 16"/>
            <p:cNvSpPr txBox="1"/>
            <p:nvPr/>
          </p:nvSpPr>
          <p:spPr>
            <a:xfrm>
              <a:off x="6302520" y="3276720"/>
              <a:ext cx="152388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19080">
                    <a:solidFill>
                      <a:srgbClr val="99ccff"/>
                    </a:solidFill>
                    <a:miter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Roman</a:t>
              </a:r>
              <a:endPara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7" name="AutoShape 18"/>
            <p:cNvSpPr/>
            <p:nvPr/>
          </p:nvSpPr>
          <p:spPr>
            <a:xfrm>
              <a:off x="2971800" y="3962520"/>
              <a:ext cx="3124080" cy="685800"/>
            </a:xfrm>
            <a:prstGeom prst="leftRightArrow">
              <a:avLst>
                <a:gd name="adj1" fmla="val 50000"/>
                <a:gd name="adj2" fmla="val 90686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pic>
        <p:nvPicPr>
          <p:cNvPr id="328" name="Picture 20" descr=""/>
          <p:cNvPicPr/>
          <p:nvPr/>
        </p:nvPicPr>
        <p:blipFill>
          <a:blip r:embed="rId12"/>
          <a:stretch/>
        </p:blipFill>
        <p:spPr>
          <a:xfrm>
            <a:off x="3657600" y="3048120"/>
            <a:ext cx="1600200" cy="85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ruth Must Accord With Tru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WordArt 11"/>
          <p:cNvSpPr txBox="1"/>
          <p:nvPr/>
        </p:nvSpPr>
        <p:spPr>
          <a:xfrm>
            <a:off x="2514600" y="2971800"/>
            <a:ext cx="366228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tradictions?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ruth Must Accord With Tru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371600" y="2666880"/>
            <a:ext cx="6629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God commanded the man, saying, “From any tree of the garden you may eat freely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from the tree of the knowledge of good and evil you shall not eat, for in the day that you eat from it you will surely die.” (Genesis 2:16-1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text is 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52480" y="2971800"/>
            <a:ext cx="579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where two or three have gathered together in My name, I am there in their midst.”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tthew 18:20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text is 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838080" y="2438280"/>
            <a:ext cx="746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f we go on sinning willfully after receiving the knowledge of the truth, there no longer remains a sacrifice for sin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ut a terrifying expectation of judgment and the fury of a fire which will consume the adversaries. (Hebrews 10:26-27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text is 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838080" y="2438280"/>
            <a:ext cx="746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 do you not know that your body is a temple of the Holy Spirit who is in you, whom you have from God, and that you are not your own? 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you have been bought with a price: therefore glorify God in your body. (1 Corinthians 6:19-20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19"/>
          <p:cNvGrpSpPr/>
          <p:nvPr/>
        </p:nvGrpSpPr>
        <p:grpSpPr>
          <a:xfrm>
            <a:off x="1066680" y="152280"/>
            <a:ext cx="6934320" cy="6553440"/>
            <a:chOff x="1066680" y="152280"/>
            <a:chExt cx="6934320" cy="6553440"/>
          </a:xfrm>
        </p:grpSpPr>
        <p:sp>
          <p:nvSpPr>
            <p:cNvPr id="340" name="Oval 5"/>
            <p:cNvSpPr/>
            <p:nvPr/>
          </p:nvSpPr>
          <p:spPr>
            <a:xfrm>
              <a:off x="1066680" y="152280"/>
              <a:ext cx="6934320" cy="655344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41" name="WordArt 13"/>
            <p:cNvSpPr txBox="1"/>
            <p:nvPr/>
          </p:nvSpPr>
          <p:spPr>
            <a:xfrm>
              <a:off x="3200400" y="5562720"/>
              <a:ext cx="28670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cc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Rest of Bible</a:t>
              </a:r>
              <a:endParaRPr b="0" lang="en-US" sz="36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42" name="Group 18"/>
          <p:cNvGrpSpPr/>
          <p:nvPr/>
        </p:nvGrpSpPr>
        <p:grpSpPr>
          <a:xfrm>
            <a:off x="1600200" y="228600"/>
            <a:ext cx="5791320" cy="5486400"/>
            <a:chOff x="1600200" y="228600"/>
            <a:chExt cx="5791320" cy="5486400"/>
          </a:xfrm>
        </p:grpSpPr>
        <p:sp>
          <p:nvSpPr>
            <p:cNvPr id="343" name="Oval 6"/>
            <p:cNvSpPr/>
            <p:nvPr/>
          </p:nvSpPr>
          <p:spPr>
            <a:xfrm>
              <a:off x="1600200" y="228600"/>
              <a:ext cx="5791320" cy="548640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44" name="WordArt 12"/>
            <p:cNvSpPr txBox="1"/>
            <p:nvPr/>
          </p:nvSpPr>
          <p:spPr>
            <a:xfrm>
              <a:off x="3124080" y="4648320"/>
              <a:ext cx="28670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cc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Rest of Book</a:t>
              </a:r>
              <a:endParaRPr b="0" lang="en-US" sz="36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45" name="Group 17"/>
          <p:cNvGrpSpPr/>
          <p:nvPr/>
        </p:nvGrpSpPr>
        <p:grpSpPr>
          <a:xfrm>
            <a:off x="2198520" y="304920"/>
            <a:ext cx="4648320" cy="4495680"/>
            <a:chOff x="2198520" y="304920"/>
            <a:chExt cx="4648320" cy="4495680"/>
          </a:xfrm>
        </p:grpSpPr>
        <p:sp>
          <p:nvSpPr>
            <p:cNvPr id="346" name="Oval 7"/>
            <p:cNvSpPr/>
            <p:nvPr/>
          </p:nvSpPr>
          <p:spPr>
            <a:xfrm>
              <a:off x="2198520" y="304920"/>
              <a:ext cx="4648320" cy="449568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47" name="WordArt 10"/>
            <p:cNvSpPr txBox="1"/>
            <p:nvPr/>
          </p:nvSpPr>
          <p:spPr>
            <a:xfrm>
              <a:off x="3124080" y="3657600"/>
              <a:ext cx="28670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cc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Larger Section</a:t>
              </a:r>
              <a:endParaRPr b="0" lang="en-US" sz="36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48" name="Group 16"/>
          <p:cNvGrpSpPr/>
          <p:nvPr/>
        </p:nvGrpSpPr>
        <p:grpSpPr>
          <a:xfrm>
            <a:off x="2743200" y="457200"/>
            <a:ext cx="3592440" cy="3429000"/>
            <a:chOff x="2743200" y="457200"/>
            <a:chExt cx="3592440" cy="3429000"/>
          </a:xfrm>
        </p:grpSpPr>
        <p:sp>
          <p:nvSpPr>
            <p:cNvPr id="349" name="Oval 8"/>
            <p:cNvSpPr/>
            <p:nvPr/>
          </p:nvSpPr>
          <p:spPr>
            <a:xfrm>
              <a:off x="2743200" y="457200"/>
              <a:ext cx="3592440" cy="342900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50" name="WordArt 11"/>
            <p:cNvSpPr txBox="1"/>
            <p:nvPr/>
          </p:nvSpPr>
          <p:spPr>
            <a:xfrm>
              <a:off x="3124080" y="2438280"/>
              <a:ext cx="28670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cc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Immediate Context</a:t>
              </a:r>
              <a:endParaRPr b="0" lang="en-US" sz="36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51" name="Group 15"/>
          <p:cNvGrpSpPr/>
          <p:nvPr/>
        </p:nvGrpSpPr>
        <p:grpSpPr>
          <a:xfrm>
            <a:off x="3352680" y="609480"/>
            <a:ext cx="2362320" cy="2057400"/>
            <a:chOff x="3352680" y="609480"/>
            <a:chExt cx="2362320" cy="2057400"/>
          </a:xfrm>
        </p:grpSpPr>
        <p:sp>
          <p:nvSpPr>
            <p:cNvPr id="352" name="Oval 4"/>
            <p:cNvSpPr/>
            <p:nvPr/>
          </p:nvSpPr>
          <p:spPr>
            <a:xfrm>
              <a:off x="3352680" y="609480"/>
              <a:ext cx="2362320" cy="205740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53" name="WordArt 14"/>
            <p:cNvSpPr txBox="1"/>
            <p:nvPr/>
          </p:nvSpPr>
          <p:spPr>
            <a:xfrm>
              <a:off x="3657600" y="1219320"/>
              <a:ext cx="1724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cc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Passage</a:t>
              </a:r>
              <a:endParaRPr b="0" lang="en-US" sz="36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354" name="Text Box 20"/>
          <p:cNvSpPr/>
          <p:nvPr/>
        </p:nvSpPr>
        <p:spPr>
          <a:xfrm>
            <a:off x="6324480" y="65530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Page 122, Duval &amp; Hays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WordArt 7"/>
          <p:cNvSpPr txBox="1"/>
          <p:nvPr/>
        </p:nvSpPr>
        <p:spPr>
          <a:xfrm>
            <a:off x="1981080" y="1066680"/>
            <a:ext cx="50292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Class Assignmen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1600200"/>
            <a:ext cx="57150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rite a doctrinal statement of Scripture: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“The Bible is…”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57" name="Picture 9" descr="BS00979_"/>
          <p:cNvPicPr/>
          <p:nvPr/>
        </p:nvPicPr>
        <p:blipFill>
          <a:blip r:embed="rId1"/>
          <a:stretch/>
        </p:blipFill>
        <p:spPr>
          <a:xfrm>
            <a:off x="609480" y="2362320"/>
            <a:ext cx="242892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4"/>
          <p:cNvSpPr txBox="1"/>
          <p:nvPr/>
        </p:nvSpPr>
        <p:spPr>
          <a:xfrm>
            <a:off x="2971800" y="1828800"/>
            <a:ext cx="32907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ature o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WordArt 5"/>
          <p:cNvSpPr txBox="1"/>
          <p:nvPr/>
        </p:nvSpPr>
        <p:spPr>
          <a:xfrm>
            <a:off x="1676520" y="3048120"/>
            <a:ext cx="595764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gressive Revela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6765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True Object of Speech is the Impartation of Though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8539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0"/>
          <p:cNvGrpSpPr/>
          <p:nvPr/>
        </p:nvGrpSpPr>
        <p:grpSpPr>
          <a:xfrm>
            <a:off x="4876920" y="4495680"/>
            <a:ext cx="3276000" cy="1851120"/>
            <a:chOff x="4876920" y="4495680"/>
            <a:chExt cx="3276000" cy="1851120"/>
          </a:xfrm>
        </p:grpSpPr>
        <p:sp>
          <p:nvSpPr>
            <p:cNvPr id="49" name="Freeform 11"/>
            <p:cNvSpPr/>
            <p:nvPr/>
          </p:nvSpPr>
          <p:spPr>
            <a:xfrm>
              <a:off x="5768640" y="4495680"/>
              <a:ext cx="2384280" cy="1851120"/>
            </a:xfrm>
            <a:custGeom>
              <a:avLst/>
              <a:gdLst/>
              <a:ahLst/>
              <a:rect l="l" t="t" r="r" b="b"/>
              <a:pathLst>
                <a:path w="11071" h="7950">
                  <a:moveTo>
                    <a:pt x="9205" y="6364"/>
                  </a:moveTo>
                  <a:lnTo>
                    <a:pt x="9205" y="6173"/>
                  </a:lnTo>
                  <a:lnTo>
                    <a:pt x="9218" y="5982"/>
                  </a:lnTo>
                  <a:lnTo>
                    <a:pt x="9234" y="5797"/>
                  </a:lnTo>
                  <a:lnTo>
                    <a:pt x="9252" y="5611"/>
                  </a:lnTo>
                  <a:lnTo>
                    <a:pt x="9269" y="5426"/>
                  </a:lnTo>
                  <a:lnTo>
                    <a:pt x="9292" y="5240"/>
                  </a:lnTo>
                  <a:lnTo>
                    <a:pt x="9304" y="5060"/>
                  </a:lnTo>
                  <a:lnTo>
                    <a:pt x="9316" y="4880"/>
                  </a:lnTo>
                  <a:lnTo>
                    <a:pt x="9316" y="4824"/>
                  </a:lnTo>
                  <a:lnTo>
                    <a:pt x="9322" y="4768"/>
                  </a:lnTo>
                  <a:lnTo>
                    <a:pt x="9333" y="4701"/>
                  </a:lnTo>
                  <a:lnTo>
                    <a:pt x="9345" y="4639"/>
                  </a:lnTo>
                  <a:lnTo>
                    <a:pt x="9345" y="4571"/>
                  </a:lnTo>
                  <a:lnTo>
                    <a:pt x="9350" y="4503"/>
                  </a:lnTo>
                  <a:lnTo>
                    <a:pt x="9345" y="4436"/>
                  </a:lnTo>
                  <a:lnTo>
                    <a:pt x="9339" y="4380"/>
                  </a:lnTo>
                  <a:lnTo>
                    <a:pt x="9322" y="4341"/>
                  </a:lnTo>
                  <a:lnTo>
                    <a:pt x="9299" y="4307"/>
                  </a:lnTo>
                  <a:lnTo>
                    <a:pt x="9269" y="4262"/>
                  </a:lnTo>
                  <a:lnTo>
                    <a:pt x="9246" y="4223"/>
                  </a:lnTo>
                  <a:lnTo>
                    <a:pt x="9218" y="4177"/>
                  </a:lnTo>
                  <a:lnTo>
                    <a:pt x="9188" y="4144"/>
                  </a:lnTo>
                  <a:lnTo>
                    <a:pt x="9159" y="4105"/>
                  </a:lnTo>
                  <a:lnTo>
                    <a:pt x="9142" y="4082"/>
                  </a:lnTo>
                  <a:lnTo>
                    <a:pt x="9119" y="4122"/>
                  </a:lnTo>
                  <a:lnTo>
                    <a:pt x="9112" y="4172"/>
                  </a:lnTo>
                  <a:lnTo>
                    <a:pt x="9107" y="4233"/>
                  </a:lnTo>
                  <a:lnTo>
                    <a:pt x="9107" y="4301"/>
                  </a:lnTo>
                  <a:lnTo>
                    <a:pt x="9107" y="4363"/>
                  </a:lnTo>
                  <a:lnTo>
                    <a:pt x="9112" y="4425"/>
                  </a:lnTo>
                  <a:lnTo>
                    <a:pt x="9112" y="4481"/>
                  </a:lnTo>
                  <a:lnTo>
                    <a:pt x="9112" y="4537"/>
                  </a:lnTo>
                  <a:lnTo>
                    <a:pt x="9101" y="4655"/>
                  </a:lnTo>
                  <a:lnTo>
                    <a:pt x="9101" y="4779"/>
                  </a:lnTo>
                  <a:lnTo>
                    <a:pt x="9101" y="4892"/>
                  </a:lnTo>
                  <a:lnTo>
                    <a:pt x="9107" y="5010"/>
                  </a:lnTo>
                  <a:lnTo>
                    <a:pt x="9107" y="5122"/>
                  </a:lnTo>
                  <a:lnTo>
                    <a:pt x="9112" y="5240"/>
                  </a:lnTo>
                  <a:lnTo>
                    <a:pt x="9112" y="5358"/>
                  </a:lnTo>
                  <a:lnTo>
                    <a:pt x="9112" y="5488"/>
                  </a:lnTo>
                  <a:lnTo>
                    <a:pt x="9101" y="5577"/>
                  </a:lnTo>
                  <a:lnTo>
                    <a:pt x="9101" y="5673"/>
                  </a:lnTo>
                  <a:lnTo>
                    <a:pt x="9095" y="5775"/>
                  </a:lnTo>
                  <a:lnTo>
                    <a:pt x="9095" y="5876"/>
                  </a:lnTo>
                  <a:lnTo>
                    <a:pt x="9095" y="5971"/>
                  </a:lnTo>
                  <a:lnTo>
                    <a:pt x="9101" y="6067"/>
                  </a:lnTo>
                  <a:lnTo>
                    <a:pt x="9107" y="6157"/>
                  </a:lnTo>
                  <a:lnTo>
                    <a:pt x="9124" y="6246"/>
                  </a:lnTo>
                  <a:lnTo>
                    <a:pt x="9130" y="6286"/>
                  </a:lnTo>
                  <a:lnTo>
                    <a:pt x="9147" y="6325"/>
                  </a:lnTo>
                  <a:lnTo>
                    <a:pt x="9165" y="6348"/>
                  </a:lnTo>
                  <a:lnTo>
                    <a:pt x="9205" y="6364"/>
                  </a:lnTo>
                  <a:lnTo>
                    <a:pt x="9177" y="6573"/>
                  </a:lnTo>
                  <a:lnTo>
                    <a:pt x="9048" y="6567"/>
                  </a:lnTo>
                  <a:lnTo>
                    <a:pt x="8932" y="6567"/>
                  </a:lnTo>
                  <a:lnTo>
                    <a:pt x="8816" y="6562"/>
                  </a:lnTo>
                  <a:lnTo>
                    <a:pt x="8711" y="6562"/>
                  </a:lnTo>
                  <a:lnTo>
                    <a:pt x="8595" y="6550"/>
                  </a:lnTo>
                  <a:lnTo>
                    <a:pt x="8485" y="6545"/>
                  </a:lnTo>
                  <a:lnTo>
                    <a:pt x="8363" y="6539"/>
                  </a:lnTo>
                  <a:lnTo>
                    <a:pt x="8247" y="6533"/>
                  </a:lnTo>
                  <a:lnTo>
                    <a:pt x="8212" y="6528"/>
                  </a:lnTo>
                  <a:lnTo>
                    <a:pt x="8171" y="6528"/>
                  </a:lnTo>
                  <a:lnTo>
                    <a:pt x="8125" y="6533"/>
                  </a:lnTo>
                  <a:lnTo>
                    <a:pt x="8078" y="6539"/>
                  </a:lnTo>
                  <a:lnTo>
                    <a:pt x="8026" y="6539"/>
                  </a:lnTo>
                  <a:lnTo>
                    <a:pt x="7974" y="6539"/>
                  </a:lnTo>
                  <a:lnTo>
                    <a:pt x="7921" y="6533"/>
                  </a:lnTo>
                  <a:lnTo>
                    <a:pt x="7887" y="6533"/>
                  </a:lnTo>
                  <a:lnTo>
                    <a:pt x="7852" y="6506"/>
                  </a:lnTo>
                  <a:lnTo>
                    <a:pt x="7834" y="6477"/>
                  </a:lnTo>
                  <a:lnTo>
                    <a:pt x="7817" y="6432"/>
                  </a:lnTo>
                  <a:lnTo>
                    <a:pt x="7804" y="6393"/>
                  </a:lnTo>
                  <a:lnTo>
                    <a:pt x="7764" y="6381"/>
                  </a:lnTo>
                  <a:lnTo>
                    <a:pt x="7723" y="6376"/>
                  </a:lnTo>
                  <a:lnTo>
                    <a:pt x="7683" y="6376"/>
                  </a:lnTo>
                  <a:lnTo>
                    <a:pt x="7649" y="6381"/>
                  </a:lnTo>
                  <a:lnTo>
                    <a:pt x="7665" y="6196"/>
                  </a:lnTo>
                  <a:lnTo>
                    <a:pt x="7689" y="6011"/>
                  </a:lnTo>
                  <a:lnTo>
                    <a:pt x="7706" y="5825"/>
                  </a:lnTo>
                  <a:lnTo>
                    <a:pt x="7723" y="5640"/>
                  </a:lnTo>
                  <a:lnTo>
                    <a:pt x="7730" y="5449"/>
                  </a:lnTo>
                  <a:lnTo>
                    <a:pt x="7747" y="5263"/>
                  </a:lnTo>
                  <a:lnTo>
                    <a:pt x="7753" y="5066"/>
                  </a:lnTo>
                  <a:lnTo>
                    <a:pt x="7770" y="4870"/>
                  </a:lnTo>
                  <a:lnTo>
                    <a:pt x="7770" y="4802"/>
                  </a:lnTo>
                  <a:lnTo>
                    <a:pt x="7781" y="4740"/>
                  </a:lnTo>
                  <a:lnTo>
                    <a:pt x="7793" y="4661"/>
                  </a:lnTo>
                  <a:lnTo>
                    <a:pt x="7804" y="4588"/>
                  </a:lnTo>
                  <a:lnTo>
                    <a:pt x="7811" y="4510"/>
                  </a:lnTo>
                  <a:lnTo>
                    <a:pt x="7817" y="4442"/>
                  </a:lnTo>
                  <a:lnTo>
                    <a:pt x="7811" y="4375"/>
                  </a:lnTo>
                  <a:lnTo>
                    <a:pt x="7804" y="4329"/>
                  </a:lnTo>
                  <a:lnTo>
                    <a:pt x="7788" y="4329"/>
                  </a:lnTo>
                  <a:lnTo>
                    <a:pt x="7770" y="4329"/>
                  </a:lnTo>
                  <a:lnTo>
                    <a:pt x="7730" y="4262"/>
                  </a:lnTo>
                  <a:lnTo>
                    <a:pt x="7695" y="4200"/>
                  </a:lnTo>
                  <a:lnTo>
                    <a:pt x="7660" y="4138"/>
                  </a:lnTo>
                  <a:lnTo>
                    <a:pt x="7624" y="4088"/>
                  </a:lnTo>
                  <a:lnTo>
                    <a:pt x="7578" y="4026"/>
                  </a:lnTo>
                  <a:lnTo>
                    <a:pt x="7538" y="3975"/>
                  </a:lnTo>
                  <a:lnTo>
                    <a:pt x="7492" y="3924"/>
                  </a:lnTo>
                  <a:lnTo>
                    <a:pt x="7444" y="3880"/>
                  </a:lnTo>
                  <a:lnTo>
                    <a:pt x="7444" y="3958"/>
                  </a:lnTo>
                  <a:lnTo>
                    <a:pt x="7433" y="4037"/>
                  </a:lnTo>
                  <a:lnTo>
                    <a:pt x="7410" y="4105"/>
                  </a:lnTo>
                  <a:lnTo>
                    <a:pt x="7381" y="4155"/>
                  </a:lnTo>
                  <a:lnTo>
                    <a:pt x="7328" y="4183"/>
                  </a:lnTo>
                  <a:lnTo>
                    <a:pt x="7276" y="4200"/>
                  </a:lnTo>
                  <a:lnTo>
                    <a:pt x="7206" y="4189"/>
                  </a:lnTo>
                  <a:lnTo>
                    <a:pt x="7131" y="4161"/>
                  </a:lnTo>
                  <a:lnTo>
                    <a:pt x="7125" y="4172"/>
                  </a:lnTo>
                  <a:lnTo>
                    <a:pt x="7125" y="4200"/>
                  </a:lnTo>
                  <a:lnTo>
                    <a:pt x="7125" y="4228"/>
                  </a:lnTo>
                  <a:lnTo>
                    <a:pt x="7131" y="4240"/>
                  </a:lnTo>
                  <a:lnTo>
                    <a:pt x="7131" y="4335"/>
                  </a:lnTo>
                  <a:lnTo>
                    <a:pt x="7131" y="4431"/>
                  </a:lnTo>
                  <a:lnTo>
                    <a:pt x="7131" y="4515"/>
                  </a:lnTo>
                  <a:lnTo>
                    <a:pt x="7137" y="4605"/>
                  </a:lnTo>
                  <a:lnTo>
                    <a:pt x="7142" y="4689"/>
                  </a:lnTo>
                  <a:lnTo>
                    <a:pt x="7148" y="4779"/>
                  </a:lnTo>
                  <a:lnTo>
                    <a:pt x="7154" y="4863"/>
                  </a:lnTo>
                  <a:lnTo>
                    <a:pt x="7165" y="4965"/>
                  </a:lnTo>
                  <a:lnTo>
                    <a:pt x="7172" y="5100"/>
                  </a:lnTo>
                  <a:lnTo>
                    <a:pt x="7188" y="5246"/>
                  </a:lnTo>
                  <a:lnTo>
                    <a:pt x="7206" y="5398"/>
                  </a:lnTo>
                  <a:lnTo>
                    <a:pt x="7229" y="5550"/>
                  </a:lnTo>
                  <a:lnTo>
                    <a:pt x="7236" y="5701"/>
                  </a:lnTo>
                  <a:lnTo>
                    <a:pt x="7247" y="5859"/>
                  </a:lnTo>
                  <a:lnTo>
                    <a:pt x="7241" y="6011"/>
                  </a:lnTo>
                  <a:lnTo>
                    <a:pt x="7236" y="6163"/>
                  </a:lnTo>
                  <a:lnTo>
                    <a:pt x="7271" y="6168"/>
                  </a:lnTo>
                  <a:lnTo>
                    <a:pt x="7305" y="6173"/>
                  </a:lnTo>
                  <a:lnTo>
                    <a:pt x="7340" y="6179"/>
                  </a:lnTo>
                  <a:lnTo>
                    <a:pt x="7375" y="6185"/>
                  </a:lnTo>
                  <a:lnTo>
                    <a:pt x="7410" y="6190"/>
                  </a:lnTo>
                  <a:lnTo>
                    <a:pt x="7444" y="6196"/>
                  </a:lnTo>
                  <a:lnTo>
                    <a:pt x="7479" y="6202"/>
                  </a:lnTo>
                  <a:lnTo>
                    <a:pt x="7526" y="6212"/>
                  </a:lnTo>
                  <a:lnTo>
                    <a:pt x="7526" y="6286"/>
                  </a:lnTo>
                  <a:lnTo>
                    <a:pt x="7509" y="6292"/>
                  </a:lnTo>
                  <a:lnTo>
                    <a:pt x="7509" y="6314"/>
                  </a:lnTo>
                  <a:lnTo>
                    <a:pt x="7515" y="6331"/>
                  </a:lnTo>
                  <a:lnTo>
                    <a:pt x="7526" y="6342"/>
                  </a:lnTo>
                  <a:lnTo>
                    <a:pt x="7503" y="6376"/>
                  </a:lnTo>
                  <a:lnTo>
                    <a:pt x="7479" y="6404"/>
                  </a:lnTo>
                  <a:lnTo>
                    <a:pt x="7451" y="6415"/>
                  </a:lnTo>
                  <a:lnTo>
                    <a:pt x="7421" y="6421"/>
                  </a:lnTo>
                  <a:lnTo>
                    <a:pt x="7381" y="6415"/>
                  </a:lnTo>
                  <a:lnTo>
                    <a:pt x="7345" y="6415"/>
                  </a:lnTo>
                  <a:lnTo>
                    <a:pt x="7294" y="6415"/>
                  </a:lnTo>
                  <a:lnTo>
                    <a:pt x="7247" y="6415"/>
                  </a:lnTo>
                  <a:lnTo>
                    <a:pt x="7247" y="6444"/>
                  </a:lnTo>
                  <a:lnTo>
                    <a:pt x="7247" y="6466"/>
                  </a:lnTo>
                  <a:lnTo>
                    <a:pt x="7206" y="6489"/>
                  </a:lnTo>
                  <a:lnTo>
                    <a:pt x="7172" y="6506"/>
                  </a:lnTo>
                  <a:lnTo>
                    <a:pt x="7137" y="6511"/>
                  </a:lnTo>
                  <a:lnTo>
                    <a:pt x="7102" y="6516"/>
                  </a:lnTo>
                  <a:lnTo>
                    <a:pt x="7056" y="6511"/>
                  </a:lnTo>
                  <a:lnTo>
                    <a:pt x="7015" y="6506"/>
                  </a:lnTo>
                  <a:lnTo>
                    <a:pt x="6968" y="6494"/>
                  </a:lnTo>
                  <a:lnTo>
                    <a:pt x="6927" y="6494"/>
                  </a:lnTo>
                  <a:lnTo>
                    <a:pt x="6846" y="6483"/>
                  </a:lnTo>
                  <a:lnTo>
                    <a:pt x="6770" y="6477"/>
                  </a:lnTo>
                  <a:lnTo>
                    <a:pt x="6695" y="6466"/>
                  </a:lnTo>
                  <a:lnTo>
                    <a:pt x="6625" y="6460"/>
                  </a:lnTo>
                  <a:lnTo>
                    <a:pt x="6549" y="6455"/>
                  </a:lnTo>
                  <a:lnTo>
                    <a:pt x="6480" y="6449"/>
                  </a:lnTo>
                  <a:lnTo>
                    <a:pt x="6410" y="6444"/>
                  </a:lnTo>
                  <a:lnTo>
                    <a:pt x="6358" y="6444"/>
                  </a:lnTo>
                  <a:lnTo>
                    <a:pt x="6352" y="6393"/>
                  </a:lnTo>
                  <a:lnTo>
                    <a:pt x="6352" y="6359"/>
                  </a:lnTo>
                  <a:lnTo>
                    <a:pt x="6352" y="6331"/>
                  </a:lnTo>
                  <a:lnTo>
                    <a:pt x="6352" y="6314"/>
                  </a:lnTo>
                  <a:lnTo>
                    <a:pt x="6334" y="6297"/>
                  </a:lnTo>
                  <a:lnTo>
                    <a:pt x="6323" y="6286"/>
                  </a:lnTo>
                  <a:lnTo>
                    <a:pt x="6294" y="6269"/>
                  </a:lnTo>
                  <a:lnTo>
                    <a:pt x="6265" y="6263"/>
                  </a:lnTo>
                  <a:lnTo>
                    <a:pt x="6247" y="6196"/>
                  </a:lnTo>
                  <a:lnTo>
                    <a:pt x="6253" y="6106"/>
                  </a:lnTo>
                  <a:lnTo>
                    <a:pt x="6260" y="6016"/>
                  </a:lnTo>
                  <a:lnTo>
                    <a:pt x="6265" y="5920"/>
                  </a:lnTo>
                  <a:lnTo>
                    <a:pt x="6276" y="5831"/>
                  </a:lnTo>
                  <a:lnTo>
                    <a:pt x="6276" y="5729"/>
                  </a:lnTo>
                  <a:lnTo>
                    <a:pt x="6283" y="5645"/>
                  </a:lnTo>
                  <a:lnTo>
                    <a:pt x="6283" y="5561"/>
                  </a:lnTo>
                  <a:lnTo>
                    <a:pt x="6288" y="5499"/>
                  </a:lnTo>
                  <a:lnTo>
                    <a:pt x="6283" y="5476"/>
                  </a:lnTo>
                  <a:lnTo>
                    <a:pt x="6283" y="5442"/>
                  </a:lnTo>
                  <a:lnTo>
                    <a:pt x="6276" y="5409"/>
                  </a:lnTo>
                  <a:lnTo>
                    <a:pt x="6276" y="5398"/>
                  </a:lnTo>
                  <a:lnTo>
                    <a:pt x="6276" y="5370"/>
                  </a:lnTo>
                  <a:lnTo>
                    <a:pt x="6288" y="5319"/>
                  </a:lnTo>
                  <a:lnTo>
                    <a:pt x="6294" y="5240"/>
                  </a:lnTo>
                  <a:lnTo>
                    <a:pt x="6311" y="5155"/>
                  </a:lnTo>
                  <a:lnTo>
                    <a:pt x="6318" y="5060"/>
                  </a:lnTo>
                  <a:lnTo>
                    <a:pt x="6323" y="4971"/>
                  </a:lnTo>
                  <a:lnTo>
                    <a:pt x="6323" y="4897"/>
                  </a:lnTo>
                  <a:lnTo>
                    <a:pt x="6329" y="4858"/>
                  </a:lnTo>
                  <a:lnTo>
                    <a:pt x="6311" y="4802"/>
                  </a:lnTo>
                  <a:lnTo>
                    <a:pt x="6294" y="4751"/>
                  </a:lnTo>
                  <a:lnTo>
                    <a:pt x="6271" y="4694"/>
                  </a:lnTo>
                  <a:lnTo>
                    <a:pt x="6253" y="4644"/>
                  </a:lnTo>
                  <a:lnTo>
                    <a:pt x="6230" y="4588"/>
                  </a:lnTo>
                  <a:lnTo>
                    <a:pt x="6212" y="4532"/>
                  </a:lnTo>
                  <a:lnTo>
                    <a:pt x="6201" y="4476"/>
                  </a:lnTo>
                  <a:lnTo>
                    <a:pt x="6207" y="4419"/>
                  </a:lnTo>
                  <a:lnTo>
                    <a:pt x="6219" y="4363"/>
                  </a:lnTo>
                  <a:lnTo>
                    <a:pt x="6253" y="4318"/>
                  </a:lnTo>
                  <a:lnTo>
                    <a:pt x="6288" y="4273"/>
                  </a:lnTo>
                  <a:lnTo>
                    <a:pt x="6318" y="4240"/>
                  </a:lnTo>
                  <a:lnTo>
                    <a:pt x="6323" y="4149"/>
                  </a:lnTo>
                  <a:lnTo>
                    <a:pt x="6323" y="4065"/>
                  </a:lnTo>
                  <a:lnTo>
                    <a:pt x="6306" y="3975"/>
                  </a:lnTo>
                  <a:lnTo>
                    <a:pt x="6288" y="3891"/>
                  </a:lnTo>
                  <a:lnTo>
                    <a:pt x="6260" y="3801"/>
                  </a:lnTo>
                  <a:lnTo>
                    <a:pt x="6230" y="3728"/>
                  </a:lnTo>
                  <a:lnTo>
                    <a:pt x="6207" y="3661"/>
                  </a:lnTo>
                  <a:lnTo>
                    <a:pt x="6195" y="3610"/>
                  </a:lnTo>
                  <a:lnTo>
                    <a:pt x="6114" y="3615"/>
                  </a:lnTo>
                  <a:lnTo>
                    <a:pt x="6050" y="3637"/>
                  </a:lnTo>
                  <a:lnTo>
                    <a:pt x="5981" y="3654"/>
                  </a:lnTo>
                  <a:lnTo>
                    <a:pt x="5922" y="3683"/>
                  </a:lnTo>
                  <a:lnTo>
                    <a:pt x="5852" y="3705"/>
                  </a:lnTo>
                  <a:lnTo>
                    <a:pt x="5789" y="3728"/>
                  </a:lnTo>
                  <a:lnTo>
                    <a:pt x="5718" y="3750"/>
                  </a:lnTo>
                  <a:lnTo>
                    <a:pt x="5649" y="3779"/>
                  </a:lnTo>
                  <a:lnTo>
                    <a:pt x="5626" y="4042"/>
                  </a:lnTo>
                  <a:lnTo>
                    <a:pt x="5626" y="4324"/>
                  </a:lnTo>
                  <a:lnTo>
                    <a:pt x="5637" y="4616"/>
                  </a:lnTo>
                  <a:lnTo>
                    <a:pt x="5667" y="4920"/>
                  </a:lnTo>
                  <a:lnTo>
                    <a:pt x="5695" y="5218"/>
                  </a:lnTo>
                  <a:lnTo>
                    <a:pt x="5736" y="5510"/>
                  </a:lnTo>
                  <a:lnTo>
                    <a:pt x="5776" y="5792"/>
                  </a:lnTo>
                  <a:lnTo>
                    <a:pt x="5824" y="6055"/>
                  </a:lnTo>
                  <a:lnTo>
                    <a:pt x="5789" y="6072"/>
                  </a:lnTo>
                  <a:lnTo>
                    <a:pt x="5771" y="6089"/>
                  </a:lnTo>
                  <a:lnTo>
                    <a:pt x="5753" y="6112"/>
                  </a:lnTo>
                  <a:lnTo>
                    <a:pt x="5742" y="6146"/>
                  </a:lnTo>
                  <a:lnTo>
                    <a:pt x="5672" y="6140"/>
                  </a:lnTo>
                  <a:lnTo>
                    <a:pt x="5579" y="6140"/>
                  </a:lnTo>
                  <a:lnTo>
                    <a:pt x="5474" y="6134"/>
                  </a:lnTo>
                  <a:lnTo>
                    <a:pt x="5365" y="6134"/>
                  </a:lnTo>
                  <a:lnTo>
                    <a:pt x="5254" y="6129"/>
                  </a:lnTo>
                  <a:lnTo>
                    <a:pt x="5155" y="6123"/>
                  </a:lnTo>
                  <a:lnTo>
                    <a:pt x="5079" y="6106"/>
                  </a:lnTo>
                  <a:lnTo>
                    <a:pt x="5039" y="6095"/>
                  </a:lnTo>
                  <a:lnTo>
                    <a:pt x="4980" y="5999"/>
                  </a:lnTo>
                  <a:lnTo>
                    <a:pt x="4945" y="5836"/>
                  </a:lnTo>
                  <a:lnTo>
                    <a:pt x="4922" y="5616"/>
                  </a:lnTo>
                  <a:lnTo>
                    <a:pt x="4917" y="5375"/>
                  </a:lnTo>
                  <a:lnTo>
                    <a:pt x="4905" y="5111"/>
                  </a:lnTo>
                  <a:lnTo>
                    <a:pt x="4894" y="4870"/>
                  </a:lnTo>
                  <a:lnTo>
                    <a:pt x="4876" y="4661"/>
                  </a:lnTo>
                  <a:lnTo>
                    <a:pt x="4853" y="4510"/>
                  </a:lnTo>
                  <a:lnTo>
                    <a:pt x="4841" y="4481"/>
                  </a:lnTo>
                  <a:lnTo>
                    <a:pt x="4835" y="4453"/>
                  </a:lnTo>
                  <a:lnTo>
                    <a:pt x="4823" y="4425"/>
                  </a:lnTo>
                  <a:lnTo>
                    <a:pt x="4823" y="4402"/>
                  </a:lnTo>
                  <a:lnTo>
                    <a:pt x="4812" y="4358"/>
                  </a:lnTo>
                  <a:lnTo>
                    <a:pt x="4812" y="4346"/>
                  </a:lnTo>
                  <a:lnTo>
                    <a:pt x="4806" y="4296"/>
                  </a:lnTo>
                  <a:lnTo>
                    <a:pt x="4806" y="4250"/>
                  </a:lnTo>
                  <a:lnTo>
                    <a:pt x="4800" y="4206"/>
                  </a:lnTo>
                  <a:lnTo>
                    <a:pt x="4800" y="4166"/>
                  </a:lnTo>
                  <a:lnTo>
                    <a:pt x="4789" y="4127"/>
                  </a:lnTo>
                  <a:lnTo>
                    <a:pt x="4783" y="4088"/>
                  </a:lnTo>
                  <a:lnTo>
                    <a:pt x="4777" y="4054"/>
                  </a:lnTo>
                  <a:lnTo>
                    <a:pt x="4772" y="4020"/>
                  </a:lnTo>
                  <a:lnTo>
                    <a:pt x="4737" y="4037"/>
                  </a:lnTo>
                  <a:lnTo>
                    <a:pt x="4702" y="4059"/>
                  </a:lnTo>
                  <a:lnTo>
                    <a:pt x="4719" y="4149"/>
                  </a:lnTo>
                  <a:lnTo>
                    <a:pt x="4737" y="4257"/>
                  </a:lnTo>
                  <a:lnTo>
                    <a:pt x="4742" y="4368"/>
                  </a:lnTo>
                  <a:lnTo>
                    <a:pt x="4754" y="4498"/>
                  </a:lnTo>
                  <a:lnTo>
                    <a:pt x="4754" y="4622"/>
                  </a:lnTo>
                  <a:lnTo>
                    <a:pt x="4754" y="4751"/>
                  </a:lnTo>
                  <a:lnTo>
                    <a:pt x="4748" y="4870"/>
                  </a:lnTo>
                  <a:lnTo>
                    <a:pt x="4742" y="4988"/>
                  </a:lnTo>
                  <a:lnTo>
                    <a:pt x="4731" y="5049"/>
                  </a:lnTo>
                  <a:lnTo>
                    <a:pt x="4731" y="5145"/>
                  </a:lnTo>
                  <a:lnTo>
                    <a:pt x="4725" y="5257"/>
                  </a:lnTo>
                  <a:lnTo>
                    <a:pt x="4731" y="5386"/>
                  </a:lnTo>
                  <a:lnTo>
                    <a:pt x="4731" y="5505"/>
                  </a:lnTo>
                  <a:lnTo>
                    <a:pt x="4737" y="5623"/>
                  </a:lnTo>
                  <a:lnTo>
                    <a:pt x="4748" y="5712"/>
                  </a:lnTo>
                  <a:lnTo>
                    <a:pt x="4772" y="5775"/>
                  </a:lnTo>
                  <a:lnTo>
                    <a:pt x="4777" y="5780"/>
                  </a:lnTo>
                  <a:lnTo>
                    <a:pt x="4800" y="5785"/>
                  </a:lnTo>
                  <a:lnTo>
                    <a:pt x="4818" y="5785"/>
                  </a:lnTo>
                  <a:lnTo>
                    <a:pt x="4835" y="5797"/>
                  </a:lnTo>
                  <a:lnTo>
                    <a:pt x="4853" y="5831"/>
                  </a:lnTo>
                  <a:lnTo>
                    <a:pt x="4871" y="5881"/>
                  </a:lnTo>
                  <a:lnTo>
                    <a:pt x="4882" y="5932"/>
                  </a:lnTo>
                  <a:lnTo>
                    <a:pt x="4905" y="5982"/>
                  </a:lnTo>
                  <a:lnTo>
                    <a:pt x="4876" y="6005"/>
                  </a:lnTo>
                  <a:lnTo>
                    <a:pt x="4853" y="6033"/>
                  </a:lnTo>
                  <a:lnTo>
                    <a:pt x="4789" y="6038"/>
                  </a:lnTo>
                  <a:lnTo>
                    <a:pt x="4731" y="6045"/>
                  </a:lnTo>
                  <a:lnTo>
                    <a:pt x="4661" y="6033"/>
                  </a:lnTo>
                  <a:lnTo>
                    <a:pt x="4592" y="6028"/>
                  </a:lnTo>
                  <a:lnTo>
                    <a:pt x="4521" y="6011"/>
                  </a:lnTo>
                  <a:lnTo>
                    <a:pt x="4463" y="5999"/>
                  </a:lnTo>
                  <a:lnTo>
                    <a:pt x="4405" y="5994"/>
                  </a:lnTo>
                  <a:lnTo>
                    <a:pt x="4370" y="5994"/>
                  </a:lnTo>
                  <a:lnTo>
                    <a:pt x="4289" y="5988"/>
                  </a:lnTo>
                  <a:lnTo>
                    <a:pt x="4207" y="5994"/>
                  </a:lnTo>
                  <a:lnTo>
                    <a:pt x="4121" y="5994"/>
                  </a:lnTo>
                  <a:lnTo>
                    <a:pt x="4039" y="6005"/>
                  </a:lnTo>
                  <a:lnTo>
                    <a:pt x="3952" y="6011"/>
                  </a:lnTo>
                  <a:lnTo>
                    <a:pt x="3865" y="6016"/>
                  </a:lnTo>
                  <a:lnTo>
                    <a:pt x="3778" y="6016"/>
                  </a:lnTo>
                  <a:lnTo>
                    <a:pt x="3702" y="6016"/>
                  </a:lnTo>
                  <a:lnTo>
                    <a:pt x="3696" y="5949"/>
                  </a:lnTo>
                  <a:lnTo>
                    <a:pt x="3708" y="5903"/>
                  </a:lnTo>
                  <a:lnTo>
                    <a:pt x="3725" y="5870"/>
                  </a:lnTo>
                  <a:lnTo>
                    <a:pt x="3761" y="5853"/>
                  </a:lnTo>
                  <a:lnTo>
                    <a:pt x="3789" y="5831"/>
                  </a:lnTo>
                  <a:lnTo>
                    <a:pt x="3836" y="5819"/>
                  </a:lnTo>
                  <a:lnTo>
                    <a:pt x="3888" y="5808"/>
                  </a:lnTo>
                  <a:lnTo>
                    <a:pt x="3946" y="5797"/>
                  </a:lnTo>
                  <a:lnTo>
                    <a:pt x="3941" y="5696"/>
                  </a:lnTo>
                  <a:lnTo>
                    <a:pt x="3941" y="5601"/>
                  </a:lnTo>
                  <a:lnTo>
                    <a:pt x="3929" y="5505"/>
                  </a:lnTo>
                  <a:lnTo>
                    <a:pt x="3923" y="5415"/>
                  </a:lnTo>
                  <a:lnTo>
                    <a:pt x="3911" y="5319"/>
                  </a:lnTo>
                  <a:lnTo>
                    <a:pt x="3900" y="5229"/>
                  </a:lnTo>
                  <a:lnTo>
                    <a:pt x="3882" y="5145"/>
                  </a:lnTo>
                  <a:lnTo>
                    <a:pt x="3877" y="5066"/>
                  </a:lnTo>
                  <a:lnTo>
                    <a:pt x="3859" y="4931"/>
                  </a:lnTo>
                  <a:lnTo>
                    <a:pt x="3853" y="4802"/>
                  </a:lnTo>
                  <a:lnTo>
                    <a:pt x="3853" y="4672"/>
                  </a:lnTo>
                  <a:lnTo>
                    <a:pt x="3859" y="4549"/>
                  </a:lnTo>
                  <a:lnTo>
                    <a:pt x="3859" y="4425"/>
                  </a:lnTo>
                  <a:lnTo>
                    <a:pt x="3865" y="4307"/>
                  </a:lnTo>
                  <a:lnTo>
                    <a:pt x="3859" y="4189"/>
                  </a:lnTo>
                  <a:lnTo>
                    <a:pt x="3853" y="4082"/>
                  </a:lnTo>
                  <a:lnTo>
                    <a:pt x="3830" y="4088"/>
                  </a:lnTo>
                  <a:lnTo>
                    <a:pt x="3795" y="4098"/>
                  </a:lnTo>
                  <a:lnTo>
                    <a:pt x="3754" y="4110"/>
                  </a:lnTo>
                  <a:lnTo>
                    <a:pt x="3743" y="4127"/>
                  </a:lnTo>
                  <a:lnTo>
                    <a:pt x="3725" y="4166"/>
                  </a:lnTo>
                  <a:lnTo>
                    <a:pt x="3731" y="4211"/>
                  </a:lnTo>
                  <a:lnTo>
                    <a:pt x="3737" y="4257"/>
                  </a:lnTo>
                  <a:lnTo>
                    <a:pt x="3743" y="4301"/>
                  </a:lnTo>
                  <a:lnTo>
                    <a:pt x="3708" y="4363"/>
                  </a:lnTo>
                  <a:lnTo>
                    <a:pt x="3655" y="4431"/>
                  </a:lnTo>
                  <a:lnTo>
                    <a:pt x="3586" y="4498"/>
                  </a:lnTo>
                  <a:lnTo>
                    <a:pt x="3510" y="4566"/>
                  </a:lnTo>
                  <a:lnTo>
                    <a:pt x="3429" y="4633"/>
                  </a:lnTo>
                  <a:lnTo>
                    <a:pt x="3365" y="4701"/>
                  </a:lnTo>
                  <a:lnTo>
                    <a:pt x="3313" y="4757"/>
                  </a:lnTo>
                  <a:lnTo>
                    <a:pt x="3289" y="4819"/>
                  </a:lnTo>
                  <a:lnTo>
                    <a:pt x="3277" y="4875"/>
                  </a:lnTo>
                  <a:lnTo>
                    <a:pt x="3272" y="4920"/>
                  </a:lnTo>
                  <a:lnTo>
                    <a:pt x="3272" y="4954"/>
                  </a:lnTo>
                  <a:lnTo>
                    <a:pt x="3272" y="4993"/>
                  </a:lnTo>
                  <a:lnTo>
                    <a:pt x="3266" y="5021"/>
                  </a:lnTo>
                  <a:lnTo>
                    <a:pt x="3261" y="5055"/>
                  </a:lnTo>
                  <a:lnTo>
                    <a:pt x="3237" y="5088"/>
                  </a:lnTo>
                  <a:lnTo>
                    <a:pt x="3214" y="5145"/>
                  </a:lnTo>
                  <a:lnTo>
                    <a:pt x="3150" y="5128"/>
                  </a:lnTo>
                  <a:lnTo>
                    <a:pt x="3097" y="5116"/>
                  </a:lnTo>
                  <a:lnTo>
                    <a:pt x="3046" y="5094"/>
                  </a:lnTo>
                  <a:lnTo>
                    <a:pt x="3011" y="5077"/>
                  </a:lnTo>
                  <a:lnTo>
                    <a:pt x="2981" y="5049"/>
                  </a:lnTo>
                  <a:lnTo>
                    <a:pt x="2958" y="5021"/>
                  </a:lnTo>
                  <a:lnTo>
                    <a:pt x="2940" y="4981"/>
                  </a:lnTo>
                  <a:lnTo>
                    <a:pt x="2924" y="4948"/>
                  </a:lnTo>
                  <a:lnTo>
                    <a:pt x="2906" y="4903"/>
                  </a:lnTo>
                  <a:lnTo>
                    <a:pt x="2894" y="4870"/>
                  </a:lnTo>
                  <a:lnTo>
                    <a:pt x="2883" y="4829"/>
                  </a:lnTo>
                  <a:lnTo>
                    <a:pt x="2877" y="4796"/>
                  </a:lnTo>
                  <a:lnTo>
                    <a:pt x="2801" y="4813"/>
                  </a:lnTo>
                  <a:lnTo>
                    <a:pt x="2726" y="4829"/>
                  </a:lnTo>
                  <a:lnTo>
                    <a:pt x="2650" y="4829"/>
                  </a:lnTo>
                  <a:lnTo>
                    <a:pt x="2587" y="4824"/>
                  </a:lnTo>
                  <a:lnTo>
                    <a:pt x="2522" y="4790"/>
                  </a:lnTo>
                  <a:lnTo>
                    <a:pt x="2476" y="4745"/>
                  </a:lnTo>
                  <a:lnTo>
                    <a:pt x="2447" y="4667"/>
                  </a:lnTo>
                  <a:lnTo>
                    <a:pt x="2453" y="4559"/>
                  </a:lnTo>
                  <a:lnTo>
                    <a:pt x="2418" y="4554"/>
                  </a:lnTo>
                  <a:lnTo>
                    <a:pt x="2395" y="4554"/>
                  </a:lnTo>
                  <a:lnTo>
                    <a:pt x="2365" y="4549"/>
                  </a:lnTo>
                  <a:lnTo>
                    <a:pt x="2331" y="4549"/>
                  </a:lnTo>
                  <a:lnTo>
                    <a:pt x="2331" y="4487"/>
                  </a:lnTo>
                  <a:lnTo>
                    <a:pt x="2331" y="4442"/>
                  </a:lnTo>
                  <a:lnTo>
                    <a:pt x="2324" y="4409"/>
                  </a:lnTo>
                  <a:lnTo>
                    <a:pt x="2319" y="4397"/>
                  </a:lnTo>
                  <a:lnTo>
                    <a:pt x="2296" y="4380"/>
                  </a:lnTo>
                  <a:lnTo>
                    <a:pt x="2266" y="4380"/>
                  </a:lnTo>
                  <a:lnTo>
                    <a:pt x="2232" y="4385"/>
                  </a:lnTo>
                  <a:lnTo>
                    <a:pt x="2185" y="4397"/>
                  </a:lnTo>
                  <a:lnTo>
                    <a:pt x="1976" y="4402"/>
                  </a:lnTo>
                  <a:lnTo>
                    <a:pt x="1831" y="4375"/>
                  </a:lnTo>
                  <a:lnTo>
                    <a:pt x="1733" y="4313"/>
                  </a:lnTo>
                  <a:lnTo>
                    <a:pt x="1674" y="4223"/>
                  </a:lnTo>
                  <a:lnTo>
                    <a:pt x="1639" y="4098"/>
                  </a:lnTo>
                  <a:lnTo>
                    <a:pt x="1634" y="3958"/>
                  </a:lnTo>
                  <a:lnTo>
                    <a:pt x="1634" y="3789"/>
                  </a:lnTo>
                  <a:lnTo>
                    <a:pt x="1639" y="3610"/>
                  </a:lnTo>
                  <a:lnTo>
                    <a:pt x="1593" y="3598"/>
                  </a:lnTo>
                  <a:lnTo>
                    <a:pt x="1551" y="3593"/>
                  </a:lnTo>
                  <a:lnTo>
                    <a:pt x="1517" y="3581"/>
                  </a:lnTo>
                  <a:lnTo>
                    <a:pt x="1488" y="3581"/>
                  </a:lnTo>
                  <a:lnTo>
                    <a:pt x="1453" y="3570"/>
                  </a:lnTo>
                  <a:lnTo>
                    <a:pt x="1418" y="3565"/>
                  </a:lnTo>
                  <a:lnTo>
                    <a:pt x="1378" y="3559"/>
                  </a:lnTo>
                  <a:lnTo>
                    <a:pt x="1337" y="3559"/>
                  </a:lnTo>
                  <a:lnTo>
                    <a:pt x="1320" y="3470"/>
                  </a:lnTo>
                  <a:lnTo>
                    <a:pt x="1308" y="3368"/>
                  </a:lnTo>
                  <a:lnTo>
                    <a:pt x="1290" y="3261"/>
                  </a:lnTo>
                  <a:lnTo>
                    <a:pt x="1285" y="3154"/>
                  </a:lnTo>
                  <a:lnTo>
                    <a:pt x="1267" y="3041"/>
                  </a:lnTo>
                  <a:lnTo>
                    <a:pt x="1249" y="2940"/>
                  </a:lnTo>
                  <a:lnTo>
                    <a:pt x="1226" y="2840"/>
                  </a:lnTo>
                  <a:lnTo>
                    <a:pt x="1203" y="2761"/>
                  </a:lnTo>
                  <a:lnTo>
                    <a:pt x="1145" y="2783"/>
                  </a:lnTo>
                  <a:lnTo>
                    <a:pt x="1092" y="2823"/>
                  </a:lnTo>
                  <a:lnTo>
                    <a:pt x="1041" y="2857"/>
                  </a:lnTo>
                  <a:lnTo>
                    <a:pt x="1000" y="2884"/>
                  </a:lnTo>
                  <a:lnTo>
                    <a:pt x="942" y="2890"/>
                  </a:lnTo>
                  <a:lnTo>
                    <a:pt x="884" y="2896"/>
                  </a:lnTo>
                  <a:lnTo>
                    <a:pt x="831" y="2884"/>
                  </a:lnTo>
                  <a:lnTo>
                    <a:pt x="790" y="2874"/>
                  </a:lnTo>
                  <a:lnTo>
                    <a:pt x="750" y="2857"/>
                  </a:lnTo>
                  <a:lnTo>
                    <a:pt x="721" y="2857"/>
                  </a:lnTo>
                  <a:lnTo>
                    <a:pt x="692" y="2850"/>
                  </a:lnTo>
                  <a:lnTo>
                    <a:pt x="674" y="2845"/>
                  </a:lnTo>
                  <a:lnTo>
                    <a:pt x="656" y="2828"/>
                  </a:lnTo>
                  <a:lnTo>
                    <a:pt x="645" y="2817"/>
                  </a:lnTo>
                  <a:lnTo>
                    <a:pt x="628" y="2794"/>
                  </a:lnTo>
                  <a:lnTo>
                    <a:pt x="616" y="2772"/>
                  </a:lnTo>
                  <a:lnTo>
                    <a:pt x="547" y="2772"/>
                  </a:lnTo>
                  <a:lnTo>
                    <a:pt x="476" y="2772"/>
                  </a:lnTo>
                  <a:lnTo>
                    <a:pt x="407" y="2766"/>
                  </a:lnTo>
                  <a:lnTo>
                    <a:pt x="337" y="2766"/>
                  </a:lnTo>
                  <a:lnTo>
                    <a:pt x="268" y="2755"/>
                  </a:lnTo>
                  <a:lnTo>
                    <a:pt x="198" y="2755"/>
                  </a:lnTo>
                  <a:lnTo>
                    <a:pt x="128" y="2744"/>
                  </a:lnTo>
                  <a:lnTo>
                    <a:pt x="70" y="2744"/>
                  </a:lnTo>
                  <a:lnTo>
                    <a:pt x="65" y="2732"/>
                  </a:lnTo>
                  <a:lnTo>
                    <a:pt x="58" y="2715"/>
                  </a:lnTo>
                  <a:lnTo>
                    <a:pt x="53" y="2693"/>
                  </a:lnTo>
                  <a:lnTo>
                    <a:pt x="53" y="2682"/>
                  </a:lnTo>
                  <a:lnTo>
                    <a:pt x="53" y="2570"/>
                  </a:lnTo>
                  <a:lnTo>
                    <a:pt x="47" y="2457"/>
                  </a:lnTo>
                  <a:lnTo>
                    <a:pt x="35" y="2339"/>
                  </a:lnTo>
                  <a:lnTo>
                    <a:pt x="23" y="2221"/>
                  </a:lnTo>
                  <a:lnTo>
                    <a:pt x="6" y="2097"/>
                  </a:lnTo>
                  <a:lnTo>
                    <a:pt x="0" y="1979"/>
                  </a:lnTo>
                  <a:lnTo>
                    <a:pt x="6" y="1866"/>
                  </a:lnTo>
                  <a:lnTo>
                    <a:pt x="30" y="1766"/>
                  </a:lnTo>
                  <a:lnTo>
                    <a:pt x="35" y="1743"/>
                  </a:lnTo>
                  <a:lnTo>
                    <a:pt x="65" y="1721"/>
                  </a:lnTo>
                  <a:lnTo>
                    <a:pt x="88" y="1692"/>
                  </a:lnTo>
                  <a:lnTo>
                    <a:pt x="111" y="1675"/>
                  </a:lnTo>
                  <a:lnTo>
                    <a:pt x="116" y="1641"/>
                  </a:lnTo>
                  <a:lnTo>
                    <a:pt x="122" y="1614"/>
                  </a:lnTo>
                  <a:lnTo>
                    <a:pt x="99" y="1586"/>
                  </a:lnTo>
                  <a:lnTo>
                    <a:pt x="81" y="1563"/>
                  </a:lnTo>
                  <a:lnTo>
                    <a:pt x="53" y="1501"/>
                  </a:lnTo>
                  <a:lnTo>
                    <a:pt x="53" y="1451"/>
                  </a:lnTo>
                  <a:lnTo>
                    <a:pt x="58" y="1395"/>
                  </a:lnTo>
                  <a:lnTo>
                    <a:pt x="93" y="1344"/>
                  </a:lnTo>
                  <a:lnTo>
                    <a:pt x="146" y="1282"/>
                  </a:lnTo>
                  <a:lnTo>
                    <a:pt x="192" y="1265"/>
                  </a:lnTo>
                  <a:lnTo>
                    <a:pt x="227" y="1282"/>
                  </a:lnTo>
                  <a:lnTo>
                    <a:pt x="261" y="1327"/>
                  </a:lnTo>
                  <a:lnTo>
                    <a:pt x="279" y="1378"/>
                  </a:lnTo>
                  <a:lnTo>
                    <a:pt x="296" y="1439"/>
                  </a:lnTo>
                  <a:lnTo>
                    <a:pt x="308" y="1496"/>
                  </a:lnTo>
                  <a:lnTo>
                    <a:pt x="319" y="1546"/>
                  </a:lnTo>
                  <a:lnTo>
                    <a:pt x="360" y="1563"/>
                  </a:lnTo>
                  <a:lnTo>
                    <a:pt x="390" y="1580"/>
                  </a:lnTo>
                  <a:lnTo>
                    <a:pt x="402" y="1580"/>
                  </a:lnTo>
                  <a:lnTo>
                    <a:pt x="418" y="1591"/>
                  </a:lnTo>
                  <a:lnTo>
                    <a:pt x="436" y="1597"/>
                  </a:lnTo>
                  <a:lnTo>
                    <a:pt x="471" y="1608"/>
                  </a:lnTo>
                  <a:lnTo>
                    <a:pt x="506" y="1586"/>
                  </a:lnTo>
                  <a:lnTo>
                    <a:pt x="494" y="1546"/>
                  </a:lnTo>
                  <a:lnTo>
                    <a:pt x="494" y="1501"/>
                  </a:lnTo>
                  <a:lnTo>
                    <a:pt x="494" y="1456"/>
                  </a:lnTo>
                  <a:lnTo>
                    <a:pt x="512" y="1417"/>
                  </a:lnTo>
                  <a:lnTo>
                    <a:pt x="517" y="1371"/>
                  </a:lnTo>
                  <a:lnTo>
                    <a:pt x="535" y="1344"/>
                  </a:lnTo>
                  <a:lnTo>
                    <a:pt x="552" y="1316"/>
                  </a:lnTo>
                  <a:lnTo>
                    <a:pt x="575" y="1305"/>
                  </a:lnTo>
                  <a:lnTo>
                    <a:pt x="633" y="1276"/>
                  </a:lnTo>
                  <a:lnTo>
                    <a:pt x="681" y="1288"/>
                  </a:lnTo>
                  <a:lnTo>
                    <a:pt x="709" y="1310"/>
                  </a:lnTo>
                  <a:lnTo>
                    <a:pt x="732" y="1349"/>
                  </a:lnTo>
                  <a:lnTo>
                    <a:pt x="750" y="1371"/>
                  </a:lnTo>
                  <a:lnTo>
                    <a:pt x="773" y="1383"/>
                  </a:lnTo>
                  <a:lnTo>
                    <a:pt x="796" y="1366"/>
                  </a:lnTo>
                  <a:lnTo>
                    <a:pt x="843" y="1316"/>
                  </a:lnTo>
                  <a:lnTo>
                    <a:pt x="861" y="1282"/>
                  </a:lnTo>
                  <a:lnTo>
                    <a:pt x="889" y="1271"/>
                  </a:lnTo>
                  <a:lnTo>
                    <a:pt x="924" y="1265"/>
                  </a:lnTo>
                  <a:lnTo>
                    <a:pt x="960" y="1276"/>
                  </a:lnTo>
                  <a:lnTo>
                    <a:pt x="988" y="1288"/>
                  </a:lnTo>
                  <a:lnTo>
                    <a:pt x="1018" y="1310"/>
                  </a:lnTo>
                  <a:lnTo>
                    <a:pt x="1034" y="1339"/>
                  </a:lnTo>
                  <a:lnTo>
                    <a:pt x="1052" y="1378"/>
                  </a:lnTo>
                  <a:lnTo>
                    <a:pt x="1052" y="1411"/>
                  </a:lnTo>
                  <a:lnTo>
                    <a:pt x="1041" y="1462"/>
                  </a:lnTo>
                  <a:lnTo>
                    <a:pt x="1029" y="1513"/>
                  </a:lnTo>
                  <a:lnTo>
                    <a:pt x="1029" y="1574"/>
                  </a:lnTo>
                  <a:lnTo>
                    <a:pt x="1023" y="1574"/>
                  </a:lnTo>
                  <a:lnTo>
                    <a:pt x="1018" y="1591"/>
                  </a:lnTo>
                  <a:lnTo>
                    <a:pt x="1011" y="1608"/>
                  </a:lnTo>
                  <a:lnTo>
                    <a:pt x="1011" y="1625"/>
                  </a:lnTo>
                  <a:lnTo>
                    <a:pt x="1052" y="1641"/>
                  </a:lnTo>
                  <a:lnTo>
                    <a:pt x="1075" y="1648"/>
                  </a:lnTo>
                  <a:lnTo>
                    <a:pt x="1099" y="1648"/>
                  </a:lnTo>
                  <a:lnTo>
                    <a:pt x="1133" y="1648"/>
                  </a:lnTo>
                  <a:lnTo>
                    <a:pt x="1099" y="1597"/>
                  </a:lnTo>
                  <a:lnTo>
                    <a:pt x="1081" y="1546"/>
                  </a:lnTo>
                  <a:lnTo>
                    <a:pt x="1069" y="1496"/>
                  </a:lnTo>
                  <a:lnTo>
                    <a:pt x="1069" y="1451"/>
                  </a:lnTo>
                  <a:lnTo>
                    <a:pt x="1069" y="1400"/>
                  </a:lnTo>
                  <a:lnTo>
                    <a:pt x="1081" y="1356"/>
                  </a:lnTo>
                  <a:lnTo>
                    <a:pt x="1099" y="1310"/>
                  </a:lnTo>
                  <a:lnTo>
                    <a:pt x="1133" y="1265"/>
                  </a:lnTo>
                  <a:lnTo>
                    <a:pt x="1145" y="1260"/>
                  </a:lnTo>
                  <a:lnTo>
                    <a:pt x="1180" y="1254"/>
                  </a:lnTo>
                  <a:lnTo>
                    <a:pt x="1221" y="1243"/>
                  </a:lnTo>
                  <a:lnTo>
                    <a:pt x="1267" y="1248"/>
                  </a:lnTo>
                  <a:lnTo>
                    <a:pt x="1290" y="1260"/>
                  </a:lnTo>
                  <a:lnTo>
                    <a:pt x="1320" y="1293"/>
                  </a:lnTo>
                  <a:lnTo>
                    <a:pt x="1348" y="1316"/>
                  </a:lnTo>
                  <a:lnTo>
                    <a:pt x="1389" y="1327"/>
                  </a:lnTo>
                  <a:lnTo>
                    <a:pt x="1401" y="1316"/>
                  </a:lnTo>
                  <a:lnTo>
                    <a:pt x="1429" y="1305"/>
                  </a:lnTo>
                  <a:lnTo>
                    <a:pt x="1523" y="1271"/>
                  </a:lnTo>
                  <a:lnTo>
                    <a:pt x="1599" y="1282"/>
                  </a:lnTo>
                  <a:lnTo>
                    <a:pt x="1650" y="1316"/>
                  </a:lnTo>
                  <a:lnTo>
                    <a:pt x="1685" y="1383"/>
                  </a:lnTo>
                  <a:lnTo>
                    <a:pt x="1703" y="1456"/>
                  </a:lnTo>
                  <a:lnTo>
                    <a:pt x="1703" y="1546"/>
                  </a:lnTo>
                  <a:lnTo>
                    <a:pt x="1691" y="1636"/>
                  </a:lnTo>
                  <a:lnTo>
                    <a:pt x="1680" y="1726"/>
                  </a:lnTo>
                  <a:lnTo>
                    <a:pt x="1715" y="1760"/>
                  </a:lnTo>
                  <a:lnTo>
                    <a:pt x="1756" y="1800"/>
                  </a:lnTo>
                  <a:lnTo>
                    <a:pt x="1790" y="1839"/>
                  </a:lnTo>
                  <a:lnTo>
                    <a:pt x="1825" y="1883"/>
                  </a:lnTo>
                  <a:lnTo>
                    <a:pt x="1819" y="1822"/>
                  </a:lnTo>
                  <a:lnTo>
                    <a:pt x="1814" y="1732"/>
                  </a:lnTo>
                  <a:lnTo>
                    <a:pt x="1796" y="1625"/>
                  </a:lnTo>
                  <a:lnTo>
                    <a:pt x="1802" y="1518"/>
                  </a:lnTo>
                  <a:lnTo>
                    <a:pt x="1814" y="1417"/>
                  </a:lnTo>
                  <a:lnTo>
                    <a:pt x="1860" y="1344"/>
                  </a:lnTo>
                  <a:lnTo>
                    <a:pt x="1929" y="1316"/>
                  </a:lnTo>
                  <a:lnTo>
                    <a:pt x="2040" y="1344"/>
                  </a:lnTo>
                  <a:lnTo>
                    <a:pt x="2070" y="1366"/>
                  </a:lnTo>
                  <a:lnTo>
                    <a:pt x="2110" y="1405"/>
                  </a:lnTo>
                  <a:lnTo>
                    <a:pt x="2139" y="1451"/>
                  </a:lnTo>
                  <a:lnTo>
                    <a:pt x="2162" y="1496"/>
                  </a:lnTo>
                  <a:lnTo>
                    <a:pt x="2167" y="1546"/>
                  </a:lnTo>
                  <a:lnTo>
                    <a:pt x="2167" y="1602"/>
                  </a:lnTo>
                  <a:lnTo>
                    <a:pt x="2156" y="1641"/>
                  </a:lnTo>
                  <a:lnTo>
                    <a:pt x="2144" y="1687"/>
                  </a:lnTo>
                  <a:lnTo>
                    <a:pt x="2127" y="1726"/>
                  </a:lnTo>
                  <a:lnTo>
                    <a:pt x="2127" y="1766"/>
                  </a:lnTo>
                  <a:lnTo>
                    <a:pt x="2133" y="1800"/>
                  </a:lnTo>
                  <a:lnTo>
                    <a:pt x="2162" y="1844"/>
                  </a:lnTo>
                  <a:lnTo>
                    <a:pt x="2179" y="1856"/>
                  </a:lnTo>
                  <a:lnTo>
                    <a:pt x="2215" y="1889"/>
                  </a:lnTo>
                  <a:lnTo>
                    <a:pt x="2261" y="1912"/>
                  </a:lnTo>
                  <a:lnTo>
                    <a:pt x="2319" y="1940"/>
                  </a:lnTo>
                  <a:lnTo>
                    <a:pt x="2359" y="1951"/>
                  </a:lnTo>
                  <a:lnTo>
                    <a:pt x="2400" y="1945"/>
                  </a:lnTo>
                  <a:lnTo>
                    <a:pt x="2418" y="1912"/>
                  </a:lnTo>
                  <a:lnTo>
                    <a:pt x="2423" y="1856"/>
                  </a:lnTo>
                  <a:lnTo>
                    <a:pt x="2400" y="1810"/>
                  </a:lnTo>
                  <a:lnTo>
                    <a:pt x="2365" y="1783"/>
                  </a:lnTo>
                  <a:lnTo>
                    <a:pt x="2319" y="1749"/>
                  </a:lnTo>
                  <a:lnTo>
                    <a:pt x="2290" y="1715"/>
                  </a:lnTo>
                  <a:lnTo>
                    <a:pt x="2261" y="1608"/>
                  </a:lnTo>
                  <a:lnTo>
                    <a:pt x="2261" y="1506"/>
                  </a:lnTo>
                  <a:lnTo>
                    <a:pt x="2284" y="1400"/>
                  </a:lnTo>
                  <a:lnTo>
                    <a:pt x="2331" y="1310"/>
                  </a:lnTo>
                  <a:lnTo>
                    <a:pt x="2389" y="1231"/>
                  </a:lnTo>
                  <a:lnTo>
                    <a:pt x="2470" y="1187"/>
                  </a:lnTo>
                  <a:lnTo>
                    <a:pt x="2557" y="1170"/>
                  </a:lnTo>
                  <a:lnTo>
                    <a:pt x="2668" y="1197"/>
                  </a:lnTo>
                  <a:lnTo>
                    <a:pt x="2749" y="1248"/>
                  </a:lnTo>
                  <a:lnTo>
                    <a:pt x="2790" y="1316"/>
                  </a:lnTo>
                  <a:lnTo>
                    <a:pt x="2795" y="1383"/>
                  </a:lnTo>
                  <a:lnTo>
                    <a:pt x="2790" y="1467"/>
                  </a:lnTo>
                  <a:lnTo>
                    <a:pt x="2755" y="1540"/>
                  </a:lnTo>
                  <a:lnTo>
                    <a:pt x="2726" y="1619"/>
                  </a:lnTo>
                  <a:lnTo>
                    <a:pt x="2691" y="1687"/>
                  </a:lnTo>
                  <a:lnTo>
                    <a:pt x="2679" y="1754"/>
                  </a:lnTo>
                  <a:lnTo>
                    <a:pt x="2679" y="1777"/>
                  </a:lnTo>
                  <a:lnTo>
                    <a:pt x="2697" y="1827"/>
                  </a:lnTo>
                  <a:lnTo>
                    <a:pt x="2720" y="1883"/>
                  </a:lnTo>
                  <a:lnTo>
                    <a:pt x="2749" y="1934"/>
                  </a:lnTo>
                  <a:lnTo>
                    <a:pt x="2778" y="1991"/>
                  </a:lnTo>
                  <a:lnTo>
                    <a:pt x="2807" y="2041"/>
                  </a:lnTo>
                  <a:lnTo>
                    <a:pt x="2836" y="2097"/>
                  </a:lnTo>
                  <a:lnTo>
                    <a:pt x="2866" y="2153"/>
                  </a:lnTo>
                  <a:lnTo>
                    <a:pt x="2894" y="2215"/>
                  </a:lnTo>
                  <a:lnTo>
                    <a:pt x="2900" y="2249"/>
                  </a:lnTo>
                  <a:lnTo>
                    <a:pt x="2912" y="2300"/>
                  </a:lnTo>
                  <a:lnTo>
                    <a:pt x="2917" y="2345"/>
                  </a:lnTo>
                  <a:lnTo>
                    <a:pt x="2929" y="2396"/>
                  </a:lnTo>
                  <a:lnTo>
                    <a:pt x="2935" y="2440"/>
                  </a:lnTo>
                  <a:lnTo>
                    <a:pt x="2947" y="2485"/>
                  </a:lnTo>
                  <a:lnTo>
                    <a:pt x="2964" y="2524"/>
                  </a:lnTo>
                  <a:lnTo>
                    <a:pt x="2988" y="2563"/>
                  </a:lnTo>
                  <a:lnTo>
                    <a:pt x="2993" y="2570"/>
                  </a:lnTo>
                  <a:lnTo>
                    <a:pt x="3016" y="2575"/>
                  </a:lnTo>
                  <a:lnTo>
                    <a:pt x="3034" y="2580"/>
                  </a:lnTo>
                  <a:lnTo>
                    <a:pt x="3051" y="2592"/>
                  </a:lnTo>
                  <a:lnTo>
                    <a:pt x="3051" y="2558"/>
                  </a:lnTo>
                  <a:lnTo>
                    <a:pt x="3051" y="2530"/>
                  </a:lnTo>
                  <a:lnTo>
                    <a:pt x="3051" y="2496"/>
                  </a:lnTo>
                  <a:lnTo>
                    <a:pt x="3057" y="2469"/>
                  </a:lnTo>
                  <a:lnTo>
                    <a:pt x="3057" y="2428"/>
                  </a:lnTo>
                  <a:lnTo>
                    <a:pt x="3057" y="2396"/>
                  </a:lnTo>
                  <a:lnTo>
                    <a:pt x="3057" y="2362"/>
                  </a:lnTo>
                  <a:lnTo>
                    <a:pt x="3063" y="2334"/>
                  </a:lnTo>
                  <a:lnTo>
                    <a:pt x="3069" y="2249"/>
                  </a:lnTo>
                  <a:lnTo>
                    <a:pt x="3086" y="2187"/>
                  </a:lnTo>
                  <a:lnTo>
                    <a:pt x="3109" y="2131"/>
                  </a:lnTo>
                  <a:lnTo>
                    <a:pt x="3145" y="2086"/>
                  </a:lnTo>
                  <a:lnTo>
                    <a:pt x="3168" y="2035"/>
                  </a:lnTo>
                  <a:lnTo>
                    <a:pt x="3191" y="1996"/>
                  </a:lnTo>
                  <a:lnTo>
                    <a:pt x="3208" y="1957"/>
                  </a:lnTo>
                  <a:lnTo>
                    <a:pt x="3226" y="1923"/>
                  </a:lnTo>
                  <a:lnTo>
                    <a:pt x="3219" y="1866"/>
                  </a:lnTo>
                  <a:lnTo>
                    <a:pt x="3208" y="1817"/>
                  </a:lnTo>
                  <a:lnTo>
                    <a:pt x="3185" y="1766"/>
                  </a:lnTo>
                  <a:lnTo>
                    <a:pt x="3173" y="1715"/>
                  </a:lnTo>
                  <a:lnTo>
                    <a:pt x="3162" y="1619"/>
                  </a:lnTo>
                  <a:lnTo>
                    <a:pt x="3168" y="1523"/>
                  </a:lnTo>
                  <a:lnTo>
                    <a:pt x="3191" y="1428"/>
                  </a:lnTo>
                  <a:lnTo>
                    <a:pt x="3231" y="1344"/>
                  </a:lnTo>
                  <a:lnTo>
                    <a:pt x="3284" y="1276"/>
                  </a:lnTo>
                  <a:lnTo>
                    <a:pt x="3353" y="1237"/>
                  </a:lnTo>
                  <a:lnTo>
                    <a:pt x="3434" y="1231"/>
                  </a:lnTo>
                  <a:lnTo>
                    <a:pt x="3533" y="1276"/>
                  </a:lnTo>
                  <a:lnTo>
                    <a:pt x="3568" y="1310"/>
                  </a:lnTo>
                  <a:lnTo>
                    <a:pt x="3609" y="1366"/>
                  </a:lnTo>
                  <a:lnTo>
                    <a:pt x="3639" y="1439"/>
                  </a:lnTo>
                  <a:lnTo>
                    <a:pt x="3662" y="1523"/>
                  </a:lnTo>
                  <a:lnTo>
                    <a:pt x="3673" y="1602"/>
                  </a:lnTo>
                  <a:lnTo>
                    <a:pt x="3673" y="1687"/>
                  </a:lnTo>
                  <a:lnTo>
                    <a:pt x="3662" y="1766"/>
                  </a:lnTo>
                  <a:lnTo>
                    <a:pt x="3639" y="1832"/>
                  </a:lnTo>
                  <a:lnTo>
                    <a:pt x="3604" y="1861"/>
                  </a:lnTo>
                  <a:lnTo>
                    <a:pt x="3563" y="1889"/>
                  </a:lnTo>
                  <a:lnTo>
                    <a:pt x="3516" y="1917"/>
                  </a:lnTo>
                  <a:lnTo>
                    <a:pt x="3475" y="1945"/>
                  </a:lnTo>
                  <a:lnTo>
                    <a:pt x="3499" y="1991"/>
                  </a:lnTo>
                  <a:lnTo>
                    <a:pt x="3528" y="2041"/>
                  </a:lnTo>
                  <a:lnTo>
                    <a:pt x="3551" y="2097"/>
                  </a:lnTo>
                  <a:lnTo>
                    <a:pt x="3586" y="2153"/>
                  </a:lnTo>
                  <a:lnTo>
                    <a:pt x="3614" y="2204"/>
                  </a:lnTo>
                  <a:lnTo>
                    <a:pt x="3650" y="2261"/>
                  </a:lnTo>
                  <a:lnTo>
                    <a:pt x="3685" y="2317"/>
                  </a:lnTo>
                  <a:lnTo>
                    <a:pt x="3720" y="2373"/>
                  </a:lnTo>
                  <a:lnTo>
                    <a:pt x="3748" y="2350"/>
                  </a:lnTo>
                  <a:lnTo>
                    <a:pt x="3784" y="2334"/>
                  </a:lnTo>
                  <a:lnTo>
                    <a:pt x="3819" y="2311"/>
                  </a:lnTo>
                  <a:lnTo>
                    <a:pt x="3853" y="2294"/>
                  </a:lnTo>
                  <a:lnTo>
                    <a:pt x="3882" y="2271"/>
                  </a:lnTo>
                  <a:lnTo>
                    <a:pt x="3918" y="2254"/>
                  </a:lnTo>
                  <a:lnTo>
                    <a:pt x="3952" y="2232"/>
                  </a:lnTo>
                  <a:lnTo>
                    <a:pt x="3987" y="2215"/>
                  </a:lnTo>
                  <a:lnTo>
                    <a:pt x="3958" y="2143"/>
                  </a:lnTo>
                  <a:lnTo>
                    <a:pt x="3935" y="2075"/>
                  </a:lnTo>
                  <a:lnTo>
                    <a:pt x="3905" y="1996"/>
                  </a:lnTo>
                  <a:lnTo>
                    <a:pt x="3882" y="1923"/>
                  </a:lnTo>
                  <a:lnTo>
                    <a:pt x="3859" y="1832"/>
                  </a:lnTo>
                  <a:lnTo>
                    <a:pt x="3847" y="1749"/>
                  </a:lnTo>
                  <a:lnTo>
                    <a:pt x="3847" y="1653"/>
                  </a:lnTo>
                  <a:lnTo>
                    <a:pt x="3865" y="1563"/>
                  </a:lnTo>
                  <a:lnTo>
                    <a:pt x="3865" y="1518"/>
                  </a:lnTo>
                  <a:lnTo>
                    <a:pt x="3877" y="1479"/>
                  </a:lnTo>
                  <a:lnTo>
                    <a:pt x="3882" y="1439"/>
                  </a:lnTo>
                  <a:lnTo>
                    <a:pt x="3900" y="1405"/>
                  </a:lnTo>
                  <a:lnTo>
                    <a:pt x="3905" y="1366"/>
                  </a:lnTo>
                  <a:lnTo>
                    <a:pt x="3923" y="1339"/>
                  </a:lnTo>
                  <a:lnTo>
                    <a:pt x="3941" y="1310"/>
                  </a:lnTo>
                  <a:lnTo>
                    <a:pt x="3969" y="1293"/>
                  </a:lnTo>
                  <a:lnTo>
                    <a:pt x="4010" y="1265"/>
                  </a:lnTo>
                  <a:lnTo>
                    <a:pt x="4062" y="1260"/>
                  </a:lnTo>
                  <a:lnTo>
                    <a:pt x="4115" y="1260"/>
                  </a:lnTo>
                  <a:lnTo>
                    <a:pt x="4172" y="1276"/>
                  </a:lnTo>
                  <a:lnTo>
                    <a:pt x="4260" y="1322"/>
                  </a:lnTo>
                  <a:lnTo>
                    <a:pt x="4329" y="1411"/>
                  </a:lnTo>
                  <a:lnTo>
                    <a:pt x="4370" y="1518"/>
                  </a:lnTo>
                  <a:lnTo>
                    <a:pt x="4400" y="1648"/>
                  </a:lnTo>
                  <a:lnTo>
                    <a:pt x="4400" y="1783"/>
                  </a:lnTo>
                  <a:lnTo>
                    <a:pt x="4387" y="1917"/>
                  </a:lnTo>
                  <a:lnTo>
                    <a:pt x="4364" y="2041"/>
                  </a:lnTo>
                  <a:lnTo>
                    <a:pt x="4329" y="2153"/>
                  </a:lnTo>
                  <a:lnTo>
                    <a:pt x="4376" y="2187"/>
                  </a:lnTo>
                  <a:lnTo>
                    <a:pt x="4423" y="2232"/>
                  </a:lnTo>
                  <a:lnTo>
                    <a:pt x="4435" y="2249"/>
                  </a:lnTo>
                  <a:lnTo>
                    <a:pt x="4452" y="2266"/>
                  </a:lnTo>
                  <a:lnTo>
                    <a:pt x="4469" y="2283"/>
                  </a:lnTo>
                  <a:lnTo>
                    <a:pt x="4504" y="2311"/>
                  </a:lnTo>
                  <a:lnTo>
                    <a:pt x="4534" y="2328"/>
                  </a:lnTo>
                  <a:lnTo>
                    <a:pt x="4557" y="2345"/>
                  </a:lnTo>
                  <a:lnTo>
                    <a:pt x="4562" y="2345"/>
                  </a:lnTo>
                  <a:lnTo>
                    <a:pt x="4568" y="2345"/>
                  </a:lnTo>
                  <a:lnTo>
                    <a:pt x="4620" y="2396"/>
                  </a:lnTo>
                  <a:lnTo>
                    <a:pt x="4673" y="2440"/>
                  </a:lnTo>
                  <a:lnTo>
                    <a:pt x="4702" y="2452"/>
                  </a:lnTo>
                  <a:lnTo>
                    <a:pt x="4737" y="2469"/>
                  </a:lnTo>
                  <a:lnTo>
                    <a:pt x="4772" y="2485"/>
                  </a:lnTo>
                  <a:lnTo>
                    <a:pt x="4823" y="2502"/>
                  </a:lnTo>
                  <a:lnTo>
                    <a:pt x="4853" y="2435"/>
                  </a:lnTo>
                  <a:lnTo>
                    <a:pt x="4888" y="2384"/>
                  </a:lnTo>
                  <a:lnTo>
                    <a:pt x="4929" y="2334"/>
                  </a:lnTo>
                  <a:lnTo>
                    <a:pt x="4975" y="2283"/>
                  </a:lnTo>
                  <a:lnTo>
                    <a:pt x="5021" y="2232"/>
                  </a:lnTo>
                  <a:lnTo>
                    <a:pt x="5068" y="2187"/>
                  </a:lnTo>
                  <a:lnTo>
                    <a:pt x="5114" y="2143"/>
                  </a:lnTo>
                  <a:lnTo>
                    <a:pt x="5167" y="2102"/>
                  </a:lnTo>
                  <a:lnTo>
                    <a:pt x="5143" y="2052"/>
                  </a:lnTo>
                  <a:lnTo>
                    <a:pt x="5120" y="2013"/>
                  </a:lnTo>
                  <a:lnTo>
                    <a:pt x="5091" y="1974"/>
                  </a:lnTo>
                  <a:lnTo>
                    <a:pt x="5062" y="1940"/>
                  </a:lnTo>
                  <a:lnTo>
                    <a:pt x="5028" y="1900"/>
                  </a:lnTo>
                  <a:lnTo>
                    <a:pt x="5003" y="1861"/>
                  </a:lnTo>
                  <a:lnTo>
                    <a:pt x="4980" y="1822"/>
                  </a:lnTo>
                  <a:lnTo>
                    <a:pt x="4969" y="1777"/>
                  </a:lnTo>
                  <a:lnTo>
                    <a:pt x="4952" y="1675"/>
                  </a:lnTo>
                  <a:lnTo>
                    <a:pt x="4969" y="1580"/>
                  </a:lnTo>
                  <a:lnTo>
                    <a:pt x="4992" y="1496"/>
                  </a:lnTo>
                  <a:lnTo>
                    <a:pt x="5039" y="1422"/>
                  </a:lnTo>
                  <a:lnTo>
                    <a:pt x="5085" y="1356"/>
                  </a:lnTo>
                  <a:lnTo>
                    <a:pt x="5155" y="1305"/>
                  </a:lnTo>
                  <a:lnTo>
                    <a:pt x="5224" y="1265"/>
                  </a:lnTo>
                  <a:lnTo>
                    <a:pt x="5307" y="1248"/>
                  </a:lnTo>
                  <a:lnTo>
                    <a:pt x="5353" y="1231"/>
                  </a:lnTo>
                  <a:lnTo>
                    <a:pt x="5405" y="1226"/>
                  </a:lnTo>
                  <a:lnTo>
                    <a:pt x="5446" y="1226"/>
                  </a:lnTo>
                  <a:lnTo>
                    <a:pt x="5487" y="1231"/>
                  </a:lnTo>
                  <a:lnTo>
                    <a:pt x="5521" y="1237"/>
                  </a:lnTo>
                  <a:lnTo>
                    <a:pt x="5556" y="1254"/>
                  </a:lnTo>
                  <a:lnTo>
                    <a:pt x="5579" y="1282"/>
                  </a:lnTo>
                  <a:lnTo>
                    <a:pt x="5608" y="1327"/>
                  </a:lnTo>
                  <a:lnTo>
                    <a:pt x="5626" y="1378"/>
                  </a:lnTo>
                  <a:lnTo>
                    <a:pt x="5649" y="1445"/>
                  </a:lnTo>
                  <a:lnTo>
                    <a:pt x="5667" y="1523"/>
                  </a:lnTo>
                  <a:lnTo>
                    <a:pt x="5690" y="1614"/>
                  </a:lnTo>
                  <a:lnTo>
                    <a:pt x="5690" y="1692"/>
                  </a:lnTo>
                  <a:lnTo>
                    <a:pt x="5690" y="1777"/>
                  </a:lnTo>
                  <a:lnTo>
                    <a:pt x="5672" y="1856"/>
                  </a:lnTo>
                  <a:lnTo>
                    <a:pt x="5649" y="1923"/>
                  </a:lnTo>
                  <a:lnTo>
                    <a:pt x="5619" y="1940"/>
                  </a:lnTo>
                  <a:lnTo>
                    <a:pt x="5596" y="1962"/>
                  </a:lnTo>
                  <a:lnTo>
                    <a:pt x="5561" y="1979"/>
                  </a:lnTo>
                  <a:lnTo>
                    <a:pt x="5533" y="2001"/>
                  </a:lnTo>
                  <a:lnTo>
                    <a:pt x="5498" y="2018"/>
                  </a:lnTo>
                  <a:lnTo>
                    <a:pt x="5480" y="2047"/>
                  </a:lnTo>
                  <a:lnTo>
                    <a:pt x="5462" y="2075"/>
                  </a:lnTo>
                  <a:lnTo>
                    <a:pt x="5462" y="2126"/>
                  </a:lnTo>
                  <a:lnTo>
                    <a:pt x="5469" y="2159"/>
                  </a:lnTo>
                  <a:lnTo>
                    <a:pt x="5492" y="2198"/>
                  </a:lnTo>
                  <a:lnTo>
                    <a:pt x="5521" y="2227"/>
                  </a:lnTo>
                  <a:lnTo>
                    <a:pt x="5561" y="2254"/>
                  </a:lnTo>
                  <a:lnTo>
                    <a:pt x="5596" y="2278"/>
                  </a:lnTo>
                  <a:lnTo>
                    <a:pt x="5637" y="2305"/>
                  </a:lnTo>
                  <a:lnTo>
                    <a:pt x="5667" y="2334"/>
                  </a:lnTo>
                  <a:lnTo>
                    <a:pt x="5690" y="2373"/>
                  </a:lnTo>
                  <a:lnTo>
                    <a:pt x="5701" y="2440"/>
                  </a:lnTo>
                  <a:lnTo>
                    <a:pt x="5707" y="2530"/>
                  </a:lnTo>
                  <a:lnTo>
                    <a:pt x="5695" y="2626"/>
                  </a:lnTo>
                  <a:lnTo>
                    <a:pt x="5690" y="2744"/>
                  </a:lnTo>
                  <a:lnTo>
                    <a:pt x="5672" y="2857"/>
                  </a:lnTo>
                  <a:lnTo>
                    <a:pt x="5667" y="2969"/>
                  </a:lnTo>
                  <a:lnTo>
                    <a:pt x="5660" y="3081"/>
                  </a:lnTo>
                  <a:lnTo>
                    <a:pt x="5667" y="3183"/>
                  </a:lnTo>
                  <a:lnTo>
                    <a:pt x="5667" y="3216"/>
                  </a:lnTo>
                  <a:lnTo>
                    <a:pt x="5672" y="3255"/>
                  </a:lnTo>
                  <a:lnTo>
                    <a:pt x="5684" y="3272"/>
                  </a:lnTo>
                  <a:lnTo>
                    <a:pt x="5695" y="3295"/>
                  </a:lnTo>
                  <a:lnTo>
                    <a:pt x="5718" y="3306"/>
                  </a:lnTo>
                  <a:lnTo>
                    <a:pt x="5730" y="3311"/>
                  </a:lnTo>
                  <a:lnTo>
                    <a:pt x="5759" y="3295"/>
                  </a:lnTo>
                  <a:lnTo>
                    <a:pt x="5800" y="3278"/>
                  </a:lnTo>
                  <a:lnTo>
                    <a:pt x="5835" y="3261"/>
                  </a:lnTo>
                  <a:lnTo>
                    <a:pt x="5882" y="3250"/>
                  </a:lnTo>
                  <a:lnTo>
                    <a:pt x="5922" y="3233"/>
                  </a:lnTo>
                  <a:lnTo>
                    <a:pt x="5963" y="3227"/>
                  </a:lnTo>
                  <a:lnTo>
                    <a:pt x="5997" y="3216"/>
                  </a:lnTo>
                  <a:lnTo>
                    <a:pt x="6038" y="3222"/>
                  </a:lnTo>
                  <a:lnTo>
                    <a:pt x="6067" y="3227"/>
                  </a:lnTo>
                  <a:lnTo>
                    <a:pt x="6096" y="3239"/>
                  </a:lnTo>
                  <a:lnTo>
                    <a:pt x="6131" y="3239"/>
                  </a:lnTo>
                  <a:lnTo>
                    <a:pt x="6184" y="3233"/>
                  </a:lnTo>
                  <a:lnTo>
                    <a:pt x="6184" y="3183"/>
                  </a:lnTo>
                  <a:lnTo>
                    <a:pt x="6189" y="3132"/>
                  </a:lnTo>
                  <a:lnTo>
                    <a:pt x="6189" y="3070"/>
                  </a:lnTo>
                  <a:lnTo>
                    <a:pt x="6195" y="3014"/>
                  </a:lnTo>
                  <a:lnTo>
                    <a:pt x="6195" y="2952"/>
                  </a:lnTo>
                  <a:lnTo>
                    <a:pt x="6195" y="2896"/>
                  </a:lnTo>
                  <a:lnTo>
                    <a:pt x="6195" y="2840"/>
                  </a:lnTo>
                  <a:lnTo>
                    <a:pt x="6195" y="2794"/>
                  </a:lnTo>
                  <a:lnTo>
                    <a:pt x="6184" y="2755"/>
                  </a:lnTo>
                  <a:lnTo>
                    <a:pt x="6172" y="2715"/>
                  </a:lnTo>
                  <a:lnTo>
                    <a:pt x="6154" y="2676"/>
                  </a:lnTo>
                  <a:lnTo>
                    <a:pt x="6143" y="2637"/>
                  </a:lnTo>
                  <a:lnTo>
                    <a:pt x="6126" y="2592"/>
                  </a:lnTo>
                  <a:lnTo>
                    <a:pt x="6120" y="2547"/>
                  </a:lnTo>
                  <a:lnTo>
                    <a:pt x="6114" y="2502"/>
                  </a:lnTo>
                  <a:lnTo>
                    <a:pt x="6131" y="2462"/>
                  </a:lnTo>
                  <a:lnTo>
                    <a:pt x="6154" y="2423"/>
                  </a:lnTo>
                  <a:lnTo>
                    <a:pt x="6195" y="2389"/>
                  </a:lnTo>
                  <a:lnTo>
                    <a:pt x="6235" y="2356"/>
                  </a:lnTo>
                  <a:lnTo>
                    <a:pt x="6276" y="2322"/>
                  </a:lnTo>
                  <a:lnTo>
                    <a:pt x="6288" y="2271"/>
                  </a:lnTo>
                  <a:lnTo>
                    <a:pt x="6294" y="2232"/>
                  </a:lnTo>
                  <a:lnTo>
                    <a:pt x="6300" y="2187"/>
                  </a:lnTo>
                  <a:lnTo>
                    <a:pt x="6318" y="2143"/>
                  </a:lnTo>
                  <a:lnTo>
                    <a:pt x="6126" y="2018"/>
                  </a:lnTo>
                  <a:lnTo>
                    <a:pt x="6062" y="1817"/>
                  </a:lnTo>
                  <a:lnTo>
                    <a:pt x="6096" y="1569"/>
                  </a:lnTo>
                  <a:lnTo>
                    <a:pt x="6207" y="1332"/>
                  </a:lnTo>
                  <a:lnTo>
                    <a:pt x="6364" y="1147"/>
                  </a:lnTo>
                  <a:lnTo>
                    <a:pt x="6544" y="1079"/>
                  </a:lnTo>
                  <a:lnTo>
                    <a:pt x="6719" y="1158"/>
                  </a:lnTo>
                  <a:lnTo>
                    <a:pt x="6876" y="1445"/>
                  </a:lnTo>
                  <a:lnTo>
                    <a:pt x="6876" y="1451"/>
                  </a:lnTo>
                  <a:lnTo>
                    <a:pt x="6876" y="1479"/>
                  </a:lnTo>
                  <a:lnTo>
                    <a:pt x="6876" y="1506"/>
                  </a:lnTo>
                  <a:lnTo>
                    <a:pt x="6876" y="1535"/>
                  </a:lnTo>
                  <a:lnTo>
                    <a:pt x="6869" y="1597"/>
                  </a:lnTo>
                  <a:lnTo>
                    <a:pt x="6869" y="1658"/>
                  </a:lnTo>
                  <a:lnTo>
                    <a:pt x="6863" y="1721"/>
                  </a:lnTo>
                  <a:lnTo>
                    <a:pt x="6863" y="1783"/>
                  </a:lnTo>
                  <a:lnTo>
                    <a:pt x="6851" y="1839"/>
                  </a:lnTo>
                  <a:lnTo>
                    <a:pt x="6840" y="1895"/>
                  </a:lnTo>
                  <a:lnTo>
                    <a:pt x="6823" y="1945"/>
                  </a:lnTo>
                  <a:lnTo>
                    <a:pt x="6805" y="1996"/>
                  </a:lnTo>
                  <a:lnTo>
                    <a:pt x="6765" y="2035"/>
                  </a:lnTo>
                  <a:lnTo>
                    <a:pt x="6719" y="2080"/>
                  </a:lnTo>
                  <a:lnTo>
                    <a:pt x="6671" y="2126"/>
                  </a:lnTo>
                  <a:lnTo>
                    <a:pt x="6648" y="2182"/>
                  </a:lnTo>
                  <a:lnTo>
                    <a:pt x="6648" y="2204"/>
                  </a:lnTo>
                  <a:lnTo>
                    <a:pt x="6671" y="2254"/>
                  </a:lnTo>
                  <a:lnTo>
                    <a:pt x="6706" y="2311"/>
                  </a:lnTo>
                  <a:lnTo>
                    <a:pt x="6742" y="2362"/>
                  </a:lnTo>
                  <a:lnTo>
                    <a:pt x="6782" y="2413"/>
                  </a:lnTo>
                  <a:lnTo>
                    <a:pt x="6823" y="2462"/>
                  </a:lnTo>
                  <a:lnTo>
                    <a:pt x="6863" y="2513"/>
                  </a:lnTo>
                  <a:lnTo>
                    <a:pt x="6893" y="2563"/>
                  </a:lnTo>
                  <a:lnTo>
                    <a:pt x="6927" y="2631"/>
                  </a:lnTo>
                  <a:lnTo>
                    <a:pt x="6950" y="2705"/>
                  </a:lnTo>
                  <a:lnTo>
                    <a:pt x="6974" y="2789"/>
                  </a:lnTo>
                  <a:lnTo>
                    <a:pt x="6991" y="2879"/>
                  </a:lnTo>
                  <a:lnTo>
                    <a:pt x="7015" y="2969"/>
                  </a:lnTo>
                  <a:lnTo>
                    <a:pt x="7033" y="3053"/>
                  </a:lnTo>
                  <a:lnTo>
                    <a:pt x="7049" y="3137"/>
                  </a:lnTo>
                  <a:lnTo>
                    <a:pt x="7067" y="3210"/>
                  </a:lnTo>
                  <a:lnTo>
                    <a:pt x="7102" y="3284"/>
                  </a:lnTo>
                  <a:lnTo>
                    <a:pt x="7148" y="3284"/>
                  </a:lnTo>
                  <a:lnTo>
                    <a:pt x="7201" y="3289"/>
                  </a:lnTo>
                  <a:lnTo>
                    <a:pt x="7224" y="3284"/>
                  </a:lnTo>
                  <a:lnTo>
                    <a:pt x="7253" y="3284"/>
                  </a:lnTo>
                  <a:lnTo>
                    <a:pt x="7282" y="3284"/>
                  </a:lnTo>
                  <a:lnTo>
                    <a:pt x="7317" y="3284"/>
                  </a:lnTo>
                  <a:lnTo>
                    <a:pt x="7335" y="3250"/>
                  </a:lnTo>
                  <a:lnTo>
                    <a:pt x="7352" y="3222"/>
                  </a:lnTo>
                  <a:lnTo>
                    <a:pt x="7410" y="3075"/>
                  </a:lnTo>
                  <a:lnTo>
                    <a:pt x="7474" y="2940"/>
                  </a:lnTo>
                  <a:lnTo>
                    <a:pt x="7532" y="2806"/>
                  </a:lnTo>
                  <a:lnTo>
                    <a:pt x="7596" y="2688"/>
                  </a:lnTo>
                  <a:lnTo>
                    <a:pt x="7654" y="2563"/>
                  </a:lnTo>
                  <a:lnTo>
                    <a:pt x="7730" y="2452"/>
                  </a:lnTo>
                  <a:lnTo>
                    <a:pt x="7804" y="2350"/>
                  </a:lnTo>
                  <a:lnTo>
                    <a:pt x="7903" y="2254"/>
                  </a:lnTo>
                  <a:lnTo>
                    <a:pt x="7898" y="2215"/>
                  </a:lnTo>
                  <a:lnTo>
                    <a:pt x="7875" y="2176"/>
                  </a:lnTo>
                  <a:lnTo>
                    <a:pt x="7840" y="2136"/>
                  </a:lnTo>
                  <a:lnTo>
                    <a:pt x="7822" y="2114"/>
                  </a:lnTo>
                  <a:lnTo>
                    <a:pt x="7747" y="1991"/>
                  </a:lnTo>
                  <a:lnTo>
                    <a:pt x="7695" y="1849"/>
                  </a:lnTo>
                  <a:lnTo>
                    <a:pt x="7665" y="1692"/>
                  </a:lnTo>
                  <a:lnTo>
                    <a:pt x="7660" y="1540"/>
                  </a:lnTo>
                  <a:lnTo>
                    <a:pt x="7677" y="1388"/>
                  </a:lnTo>
                  <a:lnTo>
                    <a:pt x="7730" y="1254"/>
                  </a:lnTo>
                  <a:lnTo>
                    <a:pt x="7817" y="1147"/>
                  </a:lnTo>
                  <a:lnTo>
                    <a:pt x="7938" y="1074"/>
                  </a:lnTo>
                  <a:lnTo>
                    <a:pt x="7968" y="1057"/>
                  </a:lnTo>
                  <a:lnTo>
                    <a:pt x="8002" y="1040"/>
                  </a:lnTo>
                  <a:lnTo>
                    <a:pt x="8037" y="1029"/>
                  </a:lnTo>
                  <a:lnTo>
                    <a:pt x="8072" y="1029"/>
                  </a:lnTo>
                  <a:lnTo>
                    <a:pt x="8107" y="1023"/>
                  </a:lnTo>
                  <a:lnTo>
                    <a:pt x="8142" y="1029"/>
                  </a:lnTo>
                  <a:lnTo>
                    <a:pt x="8177" y="1029"/>
                  </a:lnTo>
                  <a:lnTo>
                    <a:pt x="8217" y="1045"/>
                  </a:lnTo>
                  <a:lnTo>
                    <a:pt x="8247" y="1057"/>
                  </a:lnTo>
                  <a:lnTo>
                    <a:pt x="8275" y="1074"/>
                  </a:lnTo>
                  <a:lnTo>
                    <a:pt x="8299" y="1096"/>
                  </a:lnTo>
                  <a:lnTo>
                    <a:pt x="8328" y="1125"/>
                  </a:lnTo>
                  <a:lnTo>
                    <a:pt x="8346" y="1147"/>
                  </a:lnTo>
                  <a:lnTo>
                    <a:pt x="8363" y="1180"/>
                  </a:lnTo>
                  <a:lnTo>
                    <a:pt x="8374" y="1214"/>
                  </a:lnTo>
                  <a:lnTo>
                    <a:pt x="8392" y="1248"/>
                  </a:lnTo>
                  <a:lnTo>
                    <a:pt x="8409" y="1344"/>
                  </a:lnTo>
                  <a:lnTo>
                    <a:pt x="8427" y="1445"/>
                  </a:lnTo>
                  <a:lnTo>
                    <a:pt x="8433" y="1552"/>
                  </a:lnTo>
                  <a:lnTo>
                    <a:pt x="8433" y="1665"/>
                  </a:lnTo>
                  <a:lnTo>
                    <a:pt x="8415" y="1766"/>
                  </a:lnTo>
                  <a:lnTo>
                    <a:pt x="8404" y="1872"/>
                  </a:lnTo>
                  <a:lnTo>
                    <a:pt x="8369" y="1962"/>
                  </a:lnTo>
                  <a:lnTo>
                    <a:pt x="8339" y="2047"/>
                  </a:lnTo>
                  <a:lnTo>
                    <a:pt x="8311" y="2075"/>
                  </a:lnTo>
                  <a:lnTo>
                    <a:pt x="8270" y="2114"/>
                  </a:lnTo>
                  <a:lnTo>
                    <a:pt x="8235" y="2148"/>
                  </a:lnTo>
                  <a:lnTo>
                    <a:pt x="8217" y="2182"/>
                  </a:lnTo>
                  <a:lnTo>
                    <a:pt x="8217" y="2221"/>
                  </a:lnTo>
                  <a:lnTo>
                    <a:pt x="8235" y="2278"/>
                  </a:lnTo>
                  <a:lnTo>
                    <a:pt x="8252" y="2322"/>
                  </a:lnTo>
                  <a:lnTo>
                    <a:pt x="8275" y="2362"/>
                  </a:lnTo>
                  <a:lnTo>
                    <a:pt x="8316" y="2350"/>
                  </a:lnTo>
                  <a:lnTo>
                    <a:pt x="8374" y="2356"/>
                  </a:lnTo>
                  <a:lnTo>
                    <a:pt x="8438" y="2362"/>
                  </a:lnTo>
                  <a:lnTo>
                    <a:pt x="8508" y="2384"/>
                  </a:lnTo>
                  <a:lnTo>
                    <a:pt x="8572" y="2401"/>
                  </a:lnTo>
                  <a:lnTo>
                    <a:pt x="8630" y="2428"/>
                  </a:lnTo>
                  <a:lnTo>
                    <a:pt x="8676" y="2457"/>
                  </a:lnTo>
                  <a:lnTo>
                    <a:pt x="8711" y="2491"/>
                  </a:lnTo>
                  <a:lnTo>
                    <a:pt x="8734" y="2536"/>
                  </a:lnTo>
                  <a:lnTo>
                    <a:pt x="8764" y="2592"/>
                  </a:lnTo>
                  <a:lnTo>
                    <a:pt x="8787" y="2659"/>
                  </a:lnTo>
                  <a:lnTo>
                    <a:pt x="8816" y="2727"/>
                  </a:lnTo>
                  <a:lnTo>
                    <a:pt x="8833" y="2794"/>
                  </a:lnTo>
                  <a:lnTo>
                    <a:pt x="8856" y="2862"/>
                  </a:lnTo>
                  <a:lnTo>
                    <a:pt x="8874" y="2918"/>
                  </a:lnTo>
                  <a:lnTo>
                    <a:pt x="8898" y="2980"/>
                  </a:lnTo>
                  <a:lnTo>
                    <a:pt x="8909" y="2867"/>
                  </a:lnTo>
                  <a:lnTo>
                    <a:pt x="8921" y="2755"/>
                  </a:lnTo>
                  <a:lnTo>
                    <a:pt x="8932" y="2637"/>
                  </a:lnTo>
                  <a:lnTo>
                    <a:pt x="8950" y="2519"/>
                  </a:lnTo>
                  <a:lnTo>
                    <a:pt x="8967" y="2401"/>
                  </a:lnTo>
                  <a:lnTo>
                    <a:pt x="8985" y="2288"/>
                  </a:lnTo>
                  <a:lnTo>
                    <a:pt x="9002" y="2187"/>
                  </a:lnTo>
                  <a:lnTo>
                    <a:pt x="9031" y="2102"/>
                  </a:lnTo>
                  <a:lnTo>
                    <a:pt x="9061" y="2047"/>
                  </a:lnTo>
                  <a:lnTo>
                    <a:pt x="9136" y="1979"/>
                  </a:lnTo>
                  <a:lnTo>
                    <a:pt x="9234" y="1895"/>
                  </a:lnTo>
                  <a:lnTo>
                    <a:pt x="9350" y="1817"/>
                  </a:lnTo>
                  <a:lnTo>
                    <a:pt x="9467" y="1732"/>
                  </a:lnTo>
                  <a:lnTo>
                    <a:pt x="9589" y="1665"/>
                  </a:lnTo>
                  <a:lnTo>
                    <a:pt x="9682" y="1614"/>
                  </a:lnTo>
                  <a:lnTo>
                    <a:pt x="9763" y="1586"/>
                  </a:lnTo>
                  <a:lnTo>
                    <a:pt x="9763" y="1552"/>
                  </a:lnTo>
                  <a:lnTo>
                    <a:pt x="9781" y="1535"/>
                  </a:lnTo>
                  <a:lnTo>
                    <a:pt x="9763" y="1496"/>
                  </a:lnTo>
                  <a:lnTo>
                    <a:pt x="9752" y="1462"/>
                  </a:lnTo>
                  <a:lnTo>
                    <a:pt x="9735" y="1428"/>
                  </a:lnTo>
                  <a:lnTo>
                    <a:pt x="9717" y="1400"/>
                  </a:lnTo>
                  <a:lnTo>
                    <a:pt x="9694" y="1366"/>
                  </a:lnTo>
                  <a:lnTo>
                    <a:pt x="9670" y="1339"/>
                  </a:lnTo>
                  <a:lnTo>
                    <a:pt x="9641" y="1305"/>
                  </a:lnTo>
                  <a:lnTo>
                    <a:pt x="9618" y="1271"/>
                  </a:lnTo>
                  <a:lnTo>
                    <a:pt x="9601" y="1243"/>
                  </a:lnTo>
                  <a:lnTo>
                    <a:pt x="9583" y="1204"/>
                  </a:lnTo>
                  <a:lnTo>
                    <a:pt x="9560" y="1147"/>
                  </a:lnTo>
                  <a:lnTo>
                    <a:pt x="9543" y="1091"/>
                  </a:lnTo>
                  <a:lnTo>
                    <a:pt x="9514" y="1029"/>
                  </a:lnTo>
                  <a:lnTo>
                    <a:pt x="9490" y="978"/>
                  </a:lnTo>
                  <a:lnTo>
                    <a:pt x="9472" y="934"/>
                  </a:lnTo>
                  <a:lnTo>
                    <a:pt x="9467" y="917"/>
                  </a:lnTo>
                  <a:lnTo>
                    <a:pt x="9444" y="860"/>
                  </a:lnTo>
                  <a:lnTo>
                    <a:pt x="9444" y="792"/>
                  </a:lnTo>
                  <a:lnTo>
                    <a:pt x="9449" y="714"/>
                  </a:lnTo>
                  <a:lnTo>
                    <a:pt x="9467" y="635"/>
                  </a:lnTo>
                  <a:lnTo>
                    <a:pt x="9484" y="551"/>
                  </a:lnTo>
                  <a:lnTo>
                    <a:pt x="9502" y="489"/>
                  </a:lnTo>
                  <a:lnTo>
                    <a:pt x="9514" y="444"/>
                  </a:lnTo>
                  <a:lnTo>
                    <a:pt x="9525" y="433"/>
                  </a:lnTo>
                  <a:lnTo>
                    <a:pt x="9525" y="416"/>
                  </a:lnTo>
                  <a:lnTo>
                    <a:pt x="9531" y="382"/>
                  </a:lnTo>
                  <a:lnTo>
                    <a:pt x="9537" y="338"/>
                  </a:lnTo>
                  <a:lnTo>
                    <a:pt x="9555" y="309"/>
                  </a:lnTo>
                  <a:lnTo>
                    <a:pt x="9566" y="282"/>
                  </a:lnTo>
                  <a:lnTo>
                    <a:pt x="9601" y="236"/>
                  </a:lnTo>
                  <a:lnTo>
                    <a:pt x="9641" y="186"/>
                  </a:lnTo>
                  <a:lnTo>
                    <a:pt x="9705" y="135"/>
                  </a:lnTo>
                  <a:lnTo>
                    <a:pt x="9769" y="79"/>
                  </a:lnTo>
                  <a:lnTo>
                    <a:pt x="9839" y="34"/>
                  </a:lnTo>
                  <a:lnTo>
                    <a:pt x="9903" y="5"/>
                  </a:lnTo>
                  <a:lnTo>
                    <a:pt x="9966" y="0"/>
                  </a:lnTo>
                  <a:lnTo>
                    <a:pt x="10065" y="12"/>
                  </a:lnTo>
                  <a:lnTo>
                    <a:pt x="10164" y="45"/>
                  </a:lnTo>
                  <a:lnTo>
                    <a:pt x="10245" y="90"/>
                  </a:lnTo>
                  <a:lnTo>
                    <a:pt x="10333" y="152"/>
                  </a:lnTo>
                  <a:lnTo>
                    <a:pt x="10402" y="219"/>
                  </a:lnTo>
                  <a:lnTo>
                    <a:pt x="10461" y="299"/>
                  </a:lnTo>
                  <a:lnTo>
                    <a:pt x="10501" y="382"/>
                  </a:lnTo>
                  <a:lnTo>
                    <a:pt x="10536" y="466"/>
                  </a:lnTo>
                  <a:lnTo>
                    <a:pt x="10536" y="517"/>
                  </a:lnTo>
                  <a:lnTo>
                    <a:pt x="10536" y="574"/>
                  </a:lnTo>
                  <a:lnTo>
                    <a:pt x="10536" y="624"/>
                  </a:lnTo>
                  <a:lnTo>
                    <a:pt x="10554" y="675"/>
                  </a:lnTo>
                  <a:lnTo>
                    <a:pt x="10566" y="680"/>
                  </a:lnTo>
                  <a:lnTo>
                    <a:pt x="10589" y="692"/>
                  </a:lnTo>
                  <a:lnTo>
                    <a:pt x="10607" y="697"/>
                  </a:lnTo>
                  <a:lnTo>
                    <a:pt x="10630" y="709"/>
                  </a:lnTo>
                  <a:lnTo>
                    <a:pt x="10630" y="736"/>
                  </a:lnTo>
                  <a:lnTo>
                    <a:pt x="10630" y="770"/>
                  </a:lnTo>
                  <a:lnTo>
                    <a:pt x="10630" y="809"/>
                  </a:lnTo>
                  <a:lnTo>
                    <a:pt x="10635" y="849"/>
                  </a:lnTo>
                  <a:lnTo>
                    <a:pt x="10635" y="888"/>
                  </a:lnTo>
                  <a:lnTo>
                    <a:pt x="10635" y="927"/>
                  </a:lnTo>
                  <a:lnTo>
                    <a:pt x="10630" y="961"/>
                  </a:lnTo>
                  <a:lnTo>
                    <a:pt x="10630" y="995"/>
                  </a:lnTo>
                  <a:lnTo>
                    <a:pt x="10607" y="1012"/>
                  </a:lnTo>
                  <a:lnTo>
                    <a:pt x="10577" y="1035"/>
                  </a:lnTo>
                  <a:lnTo>
                    <a:pt x="10548" y="1052"/>
                  </a:lnTo>
                  <a:lnTo>
                    <a:pt x="10524" y="1074"/>
                  </a:lnTo>
                  <a:lnTo>
                    <a:pt x="10496" y="1108"/>
                  </a:lnTo>
                  <a:lnTo>
                    <a:pt x="10484" y="1153"/>
                  </a:lnTo>
                  <a:lnTo>
                    <a:pt x="10461" y="1192"/>
                  </a:lnTo>
                  <a:lnTo>
                    <a:pt x="10443" y="1237"/>
                  </a:lnTo>
                  <a:lnTo>
                    <a:pt x="10409" y="1265"/>
                  </a:lnTo>
                  <a:lnTo>
                    <a:pt x="10374" y="1299"/>
                  </a:lnTo>
                  <a:lnTo>
                    <a:pt x="10339" y="1327"/>
                  </a:lnTo>
                  <a:lnTo>
                    <a:pt x="10303" y="1361"/>
                  </a:lnTo>
                  <a:lnTo>
                    <a:pt x="10269" y="1388"/>
                  </a:lnTo>
                  <a:lnTo>
                    <a:pt x="10245" y="1422"/>
                  </a:lnTo>
                  <a:lnTo>
                    <a:pt x="10222" y="1456"/>
                  </a:lnTo>
                  <a:lnTo>
                    <a:pt x="10217" y="1513"/>
                  </a:lnTo>
                  <a:lnTo>
                    <a:pt x="10275" y="1546"/>
                  </a:lnTo>
                  <a:lnTo>
                    <a:pt x="10362" y="1608"/>
                  </a:lnTo>
                  <a:lnTo>
                    <a:pt x="10461" y="1675"/>
                  </a:lnTo>
                  <a:lnTo>
                    <a:pt x="10571" y="1760"/>
                  </a:lnTo>
                  <a:lnTo>
                    <a:pt x="10670" y="1832"/>
                  </a:lnTo>
                  <a:lnTo>
                    <a:pt x="10762" y="1912"/>
                  </a:lnTo>
                  <a:lnTo>
                    <a:pt x="10827" y="1979"/>
                  </a:lnTo>
                  <a:lnTo>
                    <a:pt x="10868" y="2035"/>
                  </a:lnTo>
                  <a:lnTo>
                    <a:pt x="10896" y="2119"/>
                  </a:lnTo>
                  <a:lnTo>
                    <a:pt x="10919" y="2210"/>
                  </a:lnTo>
                  <a:lnTo>
                    <a:pt x="10932" y="2305"/>
                  </a:lnTo>
                  <a:lnTo>
                    <a:pt x="10944" y="2406"/>
                  </a:lnTo>
                  <a:lnTo>
                    <a:pt x="10944" y="2502"/>
                  </a:lnTo>
                  <a:lnTo>
                    <a:pt x="10944" y="2604"/>
                  </a:lnTo>
                  <a:lnTo>
                    <a:pt x="10949" y="2699"/>
                  </a:lnTo>
                  <a:lnTo>
                    <a:pt x="10967" y="2794"/>
                  </a:lnTo>
                  <a:lnTo>
                    <a:pt x="10967" y="2850"/>
                  </a:lnTo>
                  <a:lnTo>
                    <a:pt x="10984" y="2918"/>
                  </a:lnTo>
                  <a:lnTo>
                    <a:pt x="11001" y="2991"/>
                  </a:lnTo>
                  <a:lnTo>
                    <a:pt x="11018" y="3070"/>
                  </a:lnTo>
                  <a:lnTo>
                    <a:pt x="11030" y="3143"/>
                  </a:lnTo>
                  <a:lnTo>
                    <a:pt x="11048" y="3216"/>
                  </a:lnTo>
                  <a:lnTo>
                    <a:pt x="11059" y="3278"/>
                  </a:lnTo>
                  <a:lnTo>
                    <a:pt x="11071" y="3340"/>
                  </a:lnTo>
                  <a:lnTo>
                    <a:pt x="11066" y="3362"/>
                  </a:lnTo>
                  <a:lnTo>
                    <a:pt x="11059" y="3396"/>
                  </a:lnTo>
                  <a:lnTo>
                    <a:pt x="11048" y="3430"/>
                  </a:lnTo>
                  <a:lnTo>
                    <a:pt x="11036" y="3470"/>
                  </a:lnTo>
                  <a:lnTo>
                    <a:pt x="11018" y="3502"/>
                  </a:lnTo>
                  <a:lnTo>
                    <a:pt x="11001" y="3542"/>
                  </a:lnTo>
                  <a:lnTo>
                    <a:pt x="10990" y="3576"/>
                  </a:lnTo>
                  <a:lnTo>
                    <a:pt x="10990" y="3610"/>
                  </a:lnTo>
                  <a:lnTo>
                    <a:pt x="10978" y="3654"/>
                  </a:lnTo>
                  <a:lnTo>
                    <a:pt x="10972" y="3705"/>
                  </a:lnTo>
                  <a:lnTo>
                    <a:pt x="10972" y="3756"/>
                  </a:lnTo>
                  <a:lnTo>
                    <a:pt x="10972" y="3812"/>
                  </a:lnTo>
                  <a:lnTo>
                    <a:pt x="10967" y="3857"/>
                  </a:lnTo>
                  <a:lnTo>
                    <a:pt x="10967" y="3907"/>
                  </a:lnTo>
                  <a:lnTo>
                    <a:pt x="10967" y="3958"/>
                  </a:lnTo>
                  <a:lnTo>
                    <a:pt x="10967" y="4009"/>
                  </a:lnTo>
                  <a:lnTo>
                    <a:pt x="10955" y="4161"/>
                  </a:lnTo>
                  <a:lnTo>
                    <a:pt x="10955" y="4313"/>
                  </a:lnTo>
                  <a:lnTo>
                    <a:pt x="10960" y="4459"/>
                  </a:lnTo>
                  <a:lnTo>
                    <a:pt x="10972" y="4605"/>
                  </a:lnTo>
                  <a:lnTo>
                    <a:pt x="10978" y="4740"/>
                  </a:lnTo>
                  <a:lnTo>
                    <a:pt x="10984" y="4880"/>
                  </a:lnTo>
                  <a:lnTo>
                    <a:pt x="10978" y="5015"/>
                  </a:lnTo>
                  <a:lnTo>
                    <a:pt x="10978" y="5155"/>
                  </a:lnTo>
                  <a:lnTo>
                    <a:pt x="10937" y="5426"/>
                  </a:lnTo>
                  <a:lnTo>
                    <a:pt x="10903" y="5712"/>
                  </a:lnTo>
                  <a:lnTo>
                    <a:pt x="10856" y="6005"/>
                  </a:lnTo>
                  <a:lnTo>
                    <a:pt x="10827" y="6303"/>
                  </a:lnTo>
                  <a:lnTo>
                    <a:pt x="10804" y="6595"/>
                  </a:lnTo>
                  <a:lnTo>
                    <a:pt x="10810" y="6888"/>
                  </a:lnTo>
                  <a:lnTo>
                    <a:pt x="10838" y="7175"/>
                  </a:lnTo>
                  <a:lnTo>
                    <a:pt x="10908" y="7461"/>
                  </a:lnTo>
                  <a:lnTo>
                    <a:pt x="10861" y="7461"/>
                  </a:lnTo>
                  <a:lnTo>
                    <a:pt x="10821" y="7467"/>
                  </a:lnTo>
                  <a:lnTo>
                    <a:pt x="10780" y="7467"/>
                  </a:lnTo>
                  <a:lnTo>
                    <a:pt x="10739" y="7472"/>
                  </a:lnTo>
                  <a:lnTo>
                    <a:pt x="10693" y="7467"/>
                  </a:lnTo>
                  <a:lnTo>
                    <a:pt x="10653" y="7461"/>
                  </a:lnTo>
                  <a:lnTo>
                    <a:pt x="10607" y="7455"/>
                  </a:lnTo>
                  <a:lnTo>
                    <a:pt x="10566" y="7450"/>
                  </a:lnTo>
                  <a:lnTo>
                    <a:pt x="10566" y="7461"/>
                  </a:lnTo>
                  <a:lnTo>
                    <a:pt x="10566" y="7484"/>
                  </a:lnTo>
                  <a:lnTo>
                    <a:pt x="10566" y="7506"/>
                  </a:lnTo>
                  <a:lnTo>
                    <a:pt x="10566" y="7523"/>
                  </a:lnTo>
                  <a:lnTo>
                    <a:pt x="10612" y="7523"/>
                  </a:lnTo>
                  <a:lnTo>
                    <a:pt x="10658" y="7534"/>
                  </a:lnTo>
                  <a:lnTo>
                    <a:pt x="10705" y="7540"/>
                  </a:lnTo>
                  <a:lnTo>
                    <a:pt x="10751" y="7551"/>
                  </a:lnTo>
                  <a:lnTo>
                    <a:pt x="10792" y="7556"/>
                  </a:lnTo>
                  <a:lnTo>
                    <a:pt x="10838" y="7568"/>
                  </a:lnTo>
                  <a:lnTo>
                    <a:pt x="10879" y="7573"/>
                  </a:lnTo>
                  <a:lnTo>
                    <a:pt x="10926" y="7590"/>
                  </a:lnTo>
                  <a:lnTo>
                    <a:pt x="10926" y="7619"/>
                  </a:lnTo>
                  <a:lnTo>
                    <a:pt x="10926" y="7647"/>
                  </a:lnTo>
                  <a:lnTo>
                    <a:pt x="10926" y="7669"/>
                  </a:lnTo>
                  <a:lnTo>
                    <a:pt x="10932" y="7698"/>
                  </a:lnTo>
                  <a:lnTo>
                    <a:pt x="10932" y="7742"/>
                  </a:lnTo>
                  <a:lnTo>
                    <a:pt x="10949" y="7798"/>
                  </a:lnTo>
                  <a:lnTo>
                    <a:pt x="10850" y="7798"/>
                  </a:lnTo>
                  <a:lnTo>
                    <a:pt x="10705" y="7810"/>
                  </a:lnTo>
                  <a:lnTo>
                    <a:pt x="10536" y="7821"/>
                  </a:lnTo>
                  <a:lnTo>
                    <a:pt x="10356" y="7838"/>
                  </a:lnTo>
                  <a:lnTo>
                    <a:pt x="10176" y="7838"/>
                  </a:lnTo>
                  <a:lnTo>
                    <a:pt x="10031" y="7832"/>
                  </a:lnTo>
                  <a:lnTo>
                    <a:pt x="9915" y="7815"/>
                  </a:lnTo>
                  <a:lnTo>
                    <a:pt x="9868" y="7781"/>
                  </a:lnTo>
                  <a:lnTo>
                    <a:pt x="9851" y="7747"/>
                  </a:lnTo>
                  <a:lnTo>
                    <a:pt x="9845" y="7715"/>
                  </a:lnTo>
                  <a:lnTo>
                    <a:pt x="9845" y="7681"/>
                  </a:lnTo>
                  <a:lnTo>
                    <a:pt x="9845" y="7647"/>
                  </a:lnTo>
                  <a:lnTo>
                    <a:pt x="9839" y="7613"/>
                  </a:lnTo>
                  <a:lnTo>
                    <a:pt x="9839" y="7580"/>
                  </a:lnTo>
                  <a:lnTo>
                    <a:pt x="9834" y="7551"/>
                  </a:lnTo>
                  <a:lnTo>
                    <a:pt x="9834" y="7534"/>
                  </a:lnTo>
                  <a:lnTo>
                    <a:pt x="9816" y="7580"/>
                  </a:lnTo>
                  <a:lnTo>
                    <a:pt x="9804" y="7630"/>
                  </a:lnTo>
                  <a:lnTo>
                    <a:pt x="9786" y="7686"/>
                  </a:lnTo>
                  <a:lnTo>
                    <a:pt x="9775" y="7742"/>
                  </a:lnTo>
                  <a:lnTo>
                    <a:pt x="9758" y="7793"/>
                  </a:lnTo>
                  <a:lnTo>
                    <a:pt x="9746" y="7849"/>
                  </a:lnTo>
                  <a:lnTo>
                    <a:pt x="9735" y="7899"/>
                  </a:lnTo>
                  <a:lnTo>
                    <a:pt x="9728" y="7950"/>
                  </a:lnTo>
                  <a:lnTo>
                    <a:pt x="9682" y="7945"/>
                  </a:lnTo>
                  <a:lnTo>
                    <a:pt x="9636" y="7939"/>
                  </a:lnTo>
                  <a:lnTo>
                    <a:pt x="9595" y="7933"/>
                  </a:lnTo>
                  <a:lnTo>
                    <a:pt x="9566" y="7933"/>
                  </a:lnTo>
                  <a:lnTo>
                    <a:pt x="9555" y="7933"/>
                  </a:lnTo>
                  <a:lnTo>
                    <a:pt x="9531" y="7939"/>
                  </a:lnTo>
                  <a:lnTo>
                    <a:pt x="9502" y="7933"/>
                  </a:lnTo>
                  <a:lnTo>
                    <a:pt x="9472" y="7933"/>
                  </a:lnTo>
                  <a:lnTo>
                    <a:pt x="9438" y="7911"/>
                  </a:lnTo>
                  <a:lnTo>
                    <a:pt x="9415" y="7882"/>
                  </a:lnTo>
                  <a:lnTo>
                    <a:pt x="9391" y="7843"/>
                  </a:lnTo>
                  <a:lnTo>
                    <a:pt x="9368" y="7821"/>
                  </a:lnTo>
                  <a:lnTo>
                    <a:pt x="9304" y="7781"/>
                  </a:lnTo>
                  <a:lnTo>
                    <a:pt x="9246" y="7754"/>
                  </a:lnTo>
                  <a:lnTo>
                    <a:pt x="9188" y="7720"/>
                  </a:lnTo>
                  <a:lnTo>
                    <a:pt x="9142" y="7681"/>
                  </a:lnTo>
                  <a:lnTo>
                    <a:pt x="9142" y="7658"/>
                  </a:lnTo>
                  <a:lnTo>
                    <a:pt x="9147" y="7619"/>
                  </a:lnTo>
                  <a:lnTo>
                    <a:pt x="9159" y="7563"/>
                  </a:lnTo>
                  <a:lnTo>
                    <a:pt x="9170" y="7501"/>
                  </a:lnTo>
                  <a:lnTo>
                    <a:pt x="9170" y="7433"/>
                  </a:lnTo>
                  <a:lnTo>
                    <a:pt x="9177" y="7366"/>
                  </a:lnTo>
                  <a:lnTo>
                    <a:pt x="9170" y="7298"/>
                  </a:lnTo>
                  <a:lnTo>
                    <a:pt x="9165" y="7254"/>
                  </a:lnTo>
                  <a:lnTo>
                    <a:pt x="9142" y="7225"/>
                  </a:lnTo>
                  <a:lnTo>
                    <a:pt x="9112" y="7208"/>
                  </a:lnTo>
                  <a:lnTo>
                    <a:pt x="9095" y="7191"/>
                  </a:lnTo>
                  <a:lnTo>
                    <a:pt x="9089" y="7180"/>
                  </a:lnTo>
                  <a:lnTo>
                    <a:pt x="9084" y="7158"/>
                  </a:lnTo>
                  <a:lnTo>
                    <a:pt x="9084" y="7135"/>
                  </a:lnTo>
                  <a:lnTo>
                    <a:pt x="9084" y="7068"/>
                  </a:lnTo>
                  <a:lnTo>
                    <a:pt x="9095" y="7006"/>
                  </a:lnTo>
                  <a:lnTo>
                    <a:pt x="9101" y="6933"/>
                  </a:lnTo>
                  <a:lnTo>
                    <a:pt x="9119" y="6859"/>
                  </a:lnTo>
                  <a:lnTo>
                    <a:pt x="9130" y="6781"/>
                  </a:lnTo>
                  <a:lnTo>
                    <a:pt x="9147" y="6707"/>
                  </a:lnTo>
                  <a:lnTo>
                    <a:pt x="9159" y="6634"/>
                  </a:lnTo>
                  <a:lnTo>
                    <a:pt x="9177" y="6573"/>
                  </a:lnTo>
                  <a:lnTo>
                    <a:pt x="9205" y="6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5820120" y="4852800"/>
              <a:ext cx="122760" cy="278640"/>
            </a:xfrm>
            <a:custGeom>
              <a:avLst/>
              <a:gdLst/>
              <a:ahLst/>
              <a:rect l="l" t="t" r="r" b="b"/>
              <a:pathLst>
                <a:path w="575" h="1197">
                  <a:moveTo>
                    <a:pt x="291" y="106"/>
                  </a:moveTo>
                  <a:lnTo>
                    <a:pt x="314" y="140"/>
                  </a:lnTo>
                  <a:lnTo>
                    <a:pt x="349" y="157"/>
                  </a:lnTo>
                  <a:lnTo>
                    <a:pt x="390" y="157"/>
                  </a:lnTo>
                  <a:lnTo>
                    <a:pt x="431" y="147"/>
                  </a:lnTo>
                  <a:lnTo>
                    <a:pt x="466" y="118"/>
                  </a:lnTo>
                  <a:lnTo>
                    <a:pt x="506" y="84"/>
                  </a:lnTo>
                  <a:lnTo>
                    <a:pt x="535" y="39"/>
                  </a:lnTo>
                  <a:lnTo>
                    <a:pt x="565" y="0"/>
                  </a:lnTo>
                  <a:lnTo>
                    <a:pt x="565" y="34"/>
                  </a:lnTo>
                  <a:lnTo>
                    <a:pt x="570" y="79"/>
                  </a:lnTo>
                  <a:lnTo>
                    <a:pt x="570" y="118"/>
                  </a:lnTo>
                  <a:lnTo>
                    <a:pt x="575" y="140"/>
                  </a:lnTo>
                  <a:lnTo>
                    <a:pt x="541" y="157"/>
                  </a:lnTo>
                  <a:lnTo>
                    <a:pt x="517" y="186"/>
                  </a:lnTo>
                  <a:lnTo>
                    <a:pt x="494" y="214"/>
                  </a:lnTo>
                  <a:lnTo>
                    <a:pt x="471" y="242"/>
                  </a:lnTo>
                  <a:lnTo>
                    <a:pt x="425" y="275"/>
                  </a:lnTo>
                  <a:lnTo>
                    <a:pt x="384" y="321"/>
                  </a:lnTo>
                  <a:lnTo>
                    <a:pt x="349" y="371"/>
                  </a:lnTo>
                  <a:lnTo>
                    <a:pt x="337" y="427"/>
                  </a:lnTo>
                  <a:lnTo>
                    <a:pt x="332" y="461"/>
                  </a:lnTo>
                  <a:lnTo>
                    <a:pt x="332" y="506"/>
                  </a:lnTo>
                  <a:lnTo>
                    <a:pt x="332" y="545"/>
                  </a:lnTo>
                  <a:lnTo>
                    <a:pt x="337" y="596"/>
                  </a:lnTo>
                  <a:lnTo>
                    <a:pt x="337" y="641"/>
                  </a:lnTo>
                  <a:lnTo>
                    <a:pt x="344" y="686"/>
                  </a:lnTo>
                  <a:lnTo>
                    <a:pt x="344" y="731"/>
                  </a:lnTo>
                  <a:lnTo>
                    <a:pt x="349" y="776"/>
                  </a:lnTo>
                  <a:lnTo>
                    <a:pt x="355" y="776"/>
                  </a:lnTo>
                  <a:lnTo>
                    <a:pt x="378" y="776"/>
                  </a:lnTo>
                  <a:lnTo>
                    <a:pt x="395" y="782"/>
                  </a:lnTo>
                  <a:lnTo>
                    <a:pt x="413" y="787"/>
                  </a:lnTo>
                  <a:lnTo>
                    <a:pt x="413" y="793"/>
                  </a:lnTo>
                  <a:lnTo>
                    <a:pt x="418" y="815"/>
                  </a:lnTo>
                  <a:lnTo>
                    <a:pt x="418" y="832"/>
                  </a:lnTo>
                  <a:lnTo>
                    <a:pt x="413" y="838"/>
                  </a:lnTo>
                  <a:lnTo>
                    <a:pt x="395" y="961"/>
                  </a:lnTo>
                  <a:lnTo>
                    <a:pt x="384" y="1062"/>
                  </a:lnTo>
                  <a:lnTo>
                    <a:pt x="367" y="1124"/>
                  </a:lnTo>
                  <a:lnTo>
                    <a:pt x="344" y="1170"/>
                  </a:lnTo>
                  <a:lnTo>
                    <a:pt x="291" y="1192"/>
                  </a:lnTo>
                  <a:lnTo>
                    <a:pt x="221" y="1197"/>
                  </a:lnTo>
                  <a:lnTo>
                    <a:pt x="129" y="1187"/>
                  </a:lnTo>
                  <a:lnTo>
                    <a:pt x="0" y="1175"/>
                  </a:lnTo>
                  <a:lnTo>
                    <a:pt x="0" y="1119"/>
                  </a:lnTo>
                  <a:lnTo>
                    <a:pt x="7" y="1062"/>
                  </a:lnTo>
                  <a:lnTo>
                    <a:pt x="7" y="1006"/>
                  </a:lnTo>
                  <a:lnTo>
                    <a:pt x="12" y="950"/>
                  </a:lnTo>
                  <a:lnTo>
                    <a:pt x="12" y="888"/>
                  </a:lnTo>
                  <a:lnTo>
                    <a:pt x="12" y="832"/>
                  </a:lnTo>
                  <a:lnTo>
                    <a:pt x="18" y="770"/>
                  </a:lnTo>
                  <a:lnTo>
                    <a:pt x="30" y="719"/>
                  </a:lnTo>
                  <a:lnTo>
                    <a:pt x="65" y="714"/>
                  </a:lnTo>
                  <a:lnTo>
                    <a:pt x="99" y="709"/>
                  </a:lnTo>
                  <a:lnTo>
                    <a:pt x="81" y="608"/>
                  </a:lnTo>
                  <a:lnTo>
                    <a:pt x="76" y="523"/>
                  </a:lnTo>
                  <a:lnTo>
                    <a:pt x="76" y="439"/>
                  </a:lnTo>
                  <a:lnTo>
                    <a:pt x="88" y="371"/>
                  </a:lnTo>
                  <a:lnTo>
                    <a:pt x="99" y="297"/>
                  </a:lnTo>
                  <a:lnTo>
                    <a:pt x="122" y="236"/>
                  </a:lnTo>
                  <a:lnTo>
                    <a:pt x="157" y="174"/>
                  </a:lnTo>
                  <a:lnTo>
                    <a:pt x="198" y="118"/>
                  </a:lnTo>
                  <a:lnTo>
                    <a:pt x="291" y="106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7823520" y="4511520"/>
              <a:ext cx="204120" cy="305640"/>
            </a:xfrm>
            <a:custGeom>
              <a:avLst/>
              <a:gdLst/>
              <a:ahLst/>
              <a:rect l="l" t="t" r="r" b="b"/>
              <a:pathLst>
                <a:path w="947" h="1310">
                  <a:moveTo>
                    <a:pt x="412" y="0"/>
                  </a:moveTo>
                  <a:lnTo>
                    <a:pt x="243" y="79"/>
                  </a:lnTo>
                  <a:lnTo>
                    <a:pt x="116" y="253"/>
                  </a:lnTo>
                  <a:lnTo>
                    <a:pt x="28" y="477"/>
                  </a:lnTo>
                  <a:lnTo>
                    <a:pt x="0" y="731"/>
                  </a:lnTo>
                  <a:lnTo>
                    <a:pt x="17" y="967"/>
                  </a:lnTo>
                  <a:lnTo>
                    <a:pt x="110" y="1163"/>
                  </a:lnTo>
                  <a:lnTo>
                    <a:pt x="266" y="1288"/>
                  </a:lnTo>
                  <a:lnTo>
                    <a:pt x="517" y="1310"/>
                  </a:lnTo>
                  <a:lnTo>
                    <a:pt x="732" y="1214"/>
                  </a:lnTo>
                  <a:lnTo>
                    <a:pt x="877" y="1040"/>
                  </a:lnTo>
                  <a:lnTo>
                    <a:pt x="941" y="809"/>
                  </a:lnTo>
                  <a:lnTo>
                    <a:pt x="947" y="567"/>
                  </a:lnTo>
                  <a:lnTo>
                    <a:pt x="883" y="331"/>
                  </a:lnTo>
                  <a:lnTo>
                    <a:pt x="773" y="140"/>
                  </a:lnTo>
                  <a:lnTo>
                    <a:pt x="610" y="16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7431840" y="4748040"/>
              <a:ext cx="140760" cy="251280"/>
            </a:xfrm>
            <a:custGeom>
              <a:avLst/>
              <a:gdLst/>
              <a:ahLst/>
              <a:rect l="l" t="t" r="r" b="b"/>
              <a:pathLst>
                <a:path w="651" h="1080">
                  <a:moveTo>
                    <a:pt x="390" y="0"/>
                  </a:moveTo>
                  <a:lnTo>
                    <a:pt x="215" y="45"/>
                  </a:lnTo>
                  <a:lnTo>
                    <a:pt x="99" y="158"/>
                  </a:lnTo>
                  <a:lnTo>
                    <a:pt x="24" y="310"/>
                  </a:lnTo>
                  <a:lnTo>
                    <a:pt x="0" y="495"/>
                  </a:lnTo>
                  <a:lnTo>
                    <a:pt x="0" y="675"/>
                  </a:lnTo>
                  <a:lnTo>
                    <a:pt x="53" y="849"/>
                  </a:lnTo>
                  <a:lnTo>
                    <a:pt x="129" y="990"/>
                  </a:lnTo>
                  <a:lnTo>
                    <a:pt x="245" y="1080"/>
                  </a:lnTo>
                  <a:lnTo>
                    <a:pt x="256" y="1080"/>
                  </a:lnTo>
                  <a:lnTo>
                    <a:pt x="274" y="1080"/>
                  </a:lnTo>
                  <a:lnTo>
                    <a:pt x="286" y="1080"/>
                  </a:lnTo>
                  <a:lnTo>
                    <a:pt x="297" y="1080"/>
                  </a:lnTo>
                  <a:lnTo>
                    <a:pt x="448" y="1029"/>
                  </a:lnTo>
                  <a:lnTo>
                    <a:pt x="558" y="906"/>
                  </a:lnTo>
                  <a:lnTo>
                    <a:pt x="623" y="725"/>
                  </a:lnTo>
                  <a:lnTo>
                    <a:pt x="651" y="529"/>
                  </a:lnTo>
                  <a:lnTo>
                    <a:pt x="634" y="326"/>
                  </a:lnTo>
                  <a:lnTo>
                    <a:pt x="588" y="158"/>
                  </a:lnTo>
                  <a:lnTo>
                    <a:pt x="501" y="34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7101000" y="4766760"/>
              <a:ext cx="134280" cy="217800"/>
            </a:xfrm>
            <a:custGeom>
              <a:avLst/>
              <a:gdLst/>
              <a:ahLst/>
              <a:rect l="l" t="t" r="r" b="b"/>
              <a:pathLst>
                <a:path w="622" h="938">
                  <a:moveTo>
                    <a:pt x="325" y="0"/>
                  </a:moveTo>
                  <a:lnTo>
                    <a:pt x="221" y="50"/>
                  </a:lnTo>
                  <a:lnTo>
                    <a:pt x="129" y="175"/>
                  </a:lnTo>
                  <a:lnTo>
                    <a:pt x="46" y="332"/>
                  </a:lnTo>
                  <a:lnTo>
                    <a:pt x="6" y="511"/>
                  </a:lnTo>
                  <a:lnTo>
                    <a:pt x="0" y="680"/>
                  </a:lnTo>
                  <a:lnTo>
                    <a:pt x="46" y="827"/>
                  </a:lnTo>
                  <a:lnTo>
                    <a:pt x="152" y="916"/>
                  </a:lnTo>
                  <a:lnTo>
                    <a:pt x="337" y="938"/>
                  </a:lnTo>
                  <a:lnTo>
                    <a:pt x="466" y="877"/>
                  </a:lnTo>
                  <a:lnTo>
                    <a:pt x="558" y="753"/>
                  </a:lnTo>
                  <a:lnTo>
                    <a:pt x="605" y="590"/>
                  </a:lnTo>
                  <a:lnTo>
                    <a:pt x="622" y="416"/>
                  </a:lnTo>
                  <a:lnTo>
                    <a:pt x="593" y="241"/>
                  </a:lnTo>
                  <a:lnTo>
                    <a:pt x="541" y="101"/>
                  </a:lnTo>
                  <a:lnTo>
                    <a:pt x="448" y="11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6273720" y="4780080"/>
              <a:ext cx="82440" cy="135360"/>
            </a:xfrm>
            <a:custGeom>
              <a:avLst/>
              <a:gdLst/>
              <a:ahLst/>
              <a:rect l="l" t="t" r="r" b="b"/>
              <a:pathLst>
                <a:path w="384" h="579">
                  <a:moveTo>
                    <a:pt x="209" y="0"/>
                  </a:moveTo>
                  <a:lnTo>
                    <a:pt x="133" y="22"/>
                  </a:lnTo>
                  <a:lnTo>
                    <a:pt x="70" y="90"/>
                  </a:lnTo>
                  <a:lnTo>
                    <a:pt x="24" y="174"/>
                  </a:lnTo>
                  <a:lnTo>
                    <a:pt x="6" y="280"/>
                  </a:lnTo>
                  <a:lnTo>
                    <a:pt x="0" y="382"/>
                  </a:lnTo>
                  <a:lnTo>
                    <a:pt x="24" y="478"/>
                  </a:lnTo>
                  <a:lnTo>
                    <a:pt x="75" y="545"/>
                  </a:lnTo>
                  <a:lnTo>
                    <a:pt x="168" y="579"/>
                  </a:lnTo>
                  <a:lnTo>
                    <a:pt x="239" y="551"/>
                  </a:lnTo>
                  <a:lnTo>
                    <a:pt x="302" y="489"/>
                  </a:lnTo>
                  <a:lnTo>
                    <a:pt x="349" y="393"/>
                  </a:lnTo>
                  <a:lnTo>
                    <a:pt x="384" y="287"/>
                  </a:lnTo>
                  <a:lnTo>
                    <a:pt x="384" y="174"/>
                  </a:lnTo>
                  <a:lnTo>
                    <a:pt x="361" y="84"/>
                  </a:lnTo>
                  <a:lnTo>
                    <a:pt x="302" y="17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5315040" y="4793760"/>
              <a:ext cx="309960" cy="337320"/>
            </a:xfrm>
            <a:custGeom>
              <a:avLst/>
              <a:gdLst/>
              <a:ahLst/>
              <a:rect l="l" t="t" r="r" b="b"/>
              <a:pathLst>
                <a:path w="1442" h="1450">
                  <a:moveTo>
                    <a:pt x="541" y="0"/>
                  </a:moveTo>
                  <a:lnTo>
                    <a:pt x="564" y="17"/>
                  </a:lnTo>
                  <a:lnTo>
                    <a:pt x="588" y="45"/>
                  </a:lnTo>
                  <a:lnTo>
                    <a:pt x="599" y="79"/>
                  </a:lnTo>
                  <a:lnTo>
                    <a:pt x="611" y="118"/>
                  </a:lnTo>
                  <a:lnTo>
                    <a:pt x="616" y="157"/>
                  </a:lnTo>
                  <a:lnTo>
                    <a:pt x="623" y="202"/>
                  </a:lnTo>
                  <a:lnTo>
                    <a:pt x="623" y="248"/>
                  </a:lnTo>
                  <a:lnTo>
                    <a:pt x="640" y="292"/>
                  </a:lnTo>
                  <a:lnTo>
                    <a:pt x="669" y="219"/>
                  </a:lnTo>
                  <a:lnTo>
                    <a:pt x="704" y="163"/>
                  </a:lnTo>
                  <a:lnTo>
                    <a:pt x="750" y="123"/>
                  </a:lnTo>
                  <a:lnTo>
                    <a:pt x="803" y="96"/>
                  </a:lnTo>
                  <a:lnTo>
                    <a:pt x="854" y="67"/>
                  </a:lnTo>
                  <a:lnTo>
                    <a:pt x="907" y="50"/>
                  </a:lnTo>
                  <a:lnTo>
                    <a:pt x="960" y="28"/>
                  </a:lnTo>
                  <a:lnTo>
                    <a:pt x="1011" y="11"/>
                  </a:lnTo>
                  <a:lnTo>
                    <a:pt x="1034" y="34"/>
                  </a:lnTo>
                  <a:lnTo>
                    <a:pt x="1064" y="62"/>
                  </a:lnTo>
                  <a:lnTo>
                    <a:pt x="1082" y="96"/>
                  </a:lnTo>
                  <a:lnTo>
                    <a:pt x="1105" y="135"/>
                  </a:lnTo>
                  <a:lnTo>
                    <a:pt x="1174" y="62"/>
                  </a:lnTo>
                  <a:lnTo>
                    <a:pt x="1232" y="50"/>
                  </a:lnTo>
                  <a:lnTo>
                    <a:pt x="1267" y="84"/>
                  </a:lnTo>
                  <a:lnTo>
                    <a:pt x="1297" y="157"/>
                  </a:lnTo>
                  <a:lnTo>
                    <a:pt x="1308" y="236"/>
                  </a:lnTo>
                  <a:lnTo>
                    <a:pt x="1313" y="320"/>
                  </a:lnTo>
                  <a:lnTo>
                    <a:pt x="1320" y="388"/>
                  </a:lnTo>
                  <a:lnTo>
                    <a:pt x="1331" y="433"/>
                  </a:lnTo>
                  <a:lnTo>
                    <a:pt x="1343" y="461"/>
                  </a:lnTo>
                  <a:lnTo>
                    <a:pt x="1378" y="506"/>
                  </a:lnTo>
                  <a:lnTo>
                    <a:pt x="1407" y="550"/>
                  </a:lnTo>
                  <a:lnTo>
                    <a:pt x="1430" y="601"/>
                  </a:lnTo>
                  <a:lnTo>
                    <a:pt x="1419" y="641"/>
                  </a:lnTo>
                  <a:lnTo>
                    <a:pt x="1407" y="675"/>
                  </a:lnTo>
                  <a:lnTo>
                    <a:pt x="1384" y="702"/>
                  </a:lnTo>
                  <a:lnTo>
                    <a:pt x="1372" y="731"/>
                  </a:lnTo>
                  <a:lnTo>
                    <a:pt x="1366" y="753"/>
                  </a:lnTo>
                  <a:lnTo>
                    <a:pt x="1372" y="787"/>
                  </a:lnTo>
                  <a:lnTo>
                    <a:pt x="1378" y="827"/>
                  </a:lnTo>
                  <a:lnTo>
                    <a:pt x="1389" y="866"/>
                  </a:lnTo>
                  <a:lnTo>
                    <a:pt x="1401" y="900"/>
                  </a:lnTo>
                  <a:lnTo>
                    <a:pt x="1412" y="939"/>
                  </a:lnTo>
                  <a:lnTo>
                    <a:pt x="1419" y="967"/>
                  </a:lnTo>
                  <a:lnTo>
                    <a:pt x="1430" y="1001"/>
                  </a:lnTo>
                  <a:lnTo>
                    <a:pt x="1436" y="1063"/>
                  </a:lnTo>
                  <a:lnTo>
                    <a:pt x="1442" y="1124"/>
                  </a:lnTo>
                  <a:lnTo>
                    <a:pt x="1436" y="1187"/>
                  </a:lnTo>
                  <a:lnTo>
                    <a:pt x="1436" y="1254"/>
                  </a:lnTo>
                  <a:lnTo>
                    <a:pt x="1419" y="1310"/>
                  </a:lnTo>
                  <a:lnTo>
                    <a:pt x="1396" y="1361"/>
                  </a:lnTo>
                  <a:lnTo>
                    <a:pt x="1361" y="1394"/>
                  </a:lnTo>
                  <a:lnTo>
                    <a:pt x="1320" y="1428"/>
                  </a:lnTo>
                  <a:lnTo>
                    <a:pt x="1267" y="1433"/>
                  </a:lnTo>
                  <a:lnTo>
                    <a:pt x="1204" y="1445"/>
                  </a:lnTo>
                  <a:lnTo>
                    <a:pt x="1133" y="1445"/>
                  </a:lnTo>
                  <a:lnTo>
                    <a:pt x="1059" y="1450"/>
                  </a:lnTo>
                  <a:lnTo>
                    <a:pt x="977" y="1445"/>
                  </a:lnTo>
                  <a:lnTo>
                    <a:pt x="907" y="1440"/>
                  </a:lnTo>
                  <a:lnTo>
                    <a:pt x="837" y="1423"/>
                  </a:lnTo>
                  <a:lnTo>
                    <a:pt x="791" y="1411"/>
                  </a:lnTo>
                  <a:lnTo>
                    <a:pt x="762" y="1400"/>
                  </a:lnTo>
                  <a:lnTo>
                    <a:pt x="732" y="1389"/>
                  </a:lnTo>
                  <a:lnTo>
                    <a:pt x="704" y="1372"/>
                  </a:lnTo>
                  <a:lnTo>
                    <a:pt x="692" y="1361"/>
                  </a:lnTo>
                  <a:lnTo>
                    <a:pt x="681" y="1310"/>
                  </a:lnTo>
                  <a:lnTo>
                    <a:pt x="686" y="1271"/>
                  </a:lnTo>
                  <a:lnTo>
                    <a:pt x="692" y="1226"/>
                  </a:lnTo>
                  <a:lnTo>
                    <a:pt x="709" y="1192"/>
                  </a:lnTo>
                  <a:lnTo>
                    <a:pt x="721" y="1146"/>
                  </a:lnTo>
                  <a:lnTo>
                    <a:pt x="732" y="1107"/>
                  </a:lnTo>
                  <a:lnTo>
                    <a:pt x="739" y="1068"/>
                  </a:lnTo>
                  <a:lnTo>
                    <a:pt x="745" y="1029"/>
                  </a:lnTo>
                  <a:lnTo>
                    <a:pt x="732" y="989"/>
                  </a:lnTo>
                  <a:lnTo>
                    <a:pt x="721" y="956"/>
                  </a:lnTo>
                  <a:lnTo>
                    <a:pt x="704" y="922"/>
                  </a:lnTo>
                  <a:lnTo>
                    <a:pt x="692" y="888"/>
                  </a:lnTo>
                  <a:lnTo>
                    <a:pt x="674" y="849"/>
                  </a:lnTo>
                  <a:lnTo>
                    <a:pt x="657" y="815"/>
                  </a:lnTo>
                  <a:lnTo>
                    <a:pt x="640" y="776"/>
                  </a:lnTo>
                  <a:lnTo>
                    <a:pt x="628" y="742"/>
                  </a:lnTo>
                  <a:lnTo>
                    <a:pt x="535" y="736"/>
                  </a:lnTo>
                  <a:lnTo>
                    <a:pt x="459" y="736"/>
                  </a:lnTo>
                  <a:lnTo>
                    <a:pt x="384" y="726"/>
                  </a:lnTo>
                  <a:lnTo>
                    <a:pt x="314" y="714"/>
                  </a:lnTo>
                  <a:lnTo>
                    <a:pt x="245" y="692"/>
                  </a:lnTo>
                  <a:lnTo>
                    <a:pt x="175" y="675"/>
                  </a:lnTo>
                  <a:lnTo>
                    <a:pt x="99" y="658"/>
                  </a:lnTo>
                  <a:lnTo>
                    <a:pt x="30" y="641"/>
                  </a:lnTo>
                  <a:lnTo>
                    <a:pt x="18" y="579"/>
                  </a:lnTo>
                  <a:lnTo>
                    <a:pt x="12" y="523"/>
                  </a:lnTo>
                  <a:lnTo>
                    <a:pt x="0" y="467"/>
                  </a:lnTo>
                  <a:lnTo>
                    <a:pt x="0" y="410"/>
                  </a:lnTo>
                  <a:lnTo>
                    <a:pt x="7" y="388"/>
                  </a:lnTo>
                  <a:lnTo>
                    <a:pt x="23" y="343"/>
                  </a:lnTo>
                  <a:lnTo>
                    <a:pt x="41" y="287"/>
                  </a:lnTo>
                  <a:lnTo>
                    <a:pt x="58" y="258"/>
                  </a:lnTo>
                  <a:lnTo>
                    <a:pt x="58" y="208"/>
                  </a:lnTo>
                  <a:lnTo>
                    <a:pt x="58" y="174"/>
                  </a:lnTo>
                  <a:lnTo>
                    <a:pt x="58" y="140"/>
                  </a:lnTo>
                  <a:lnTo>
                    <a:pt x="58" y="123"/>
                  </a:lnTo>
                  <a:lnTo>
                    <a:pt x="58" y="101"/>
                  </a:lnTo>
                  <a:lnTo>
                    <a:pt x="81" y="84"/>
                  </a:lnTo>
                  <a:lnTo>
                    <a:pt x="116" y="74"/>
                  </a:lnTo>
                  <a:lnTo>
                    <a:pt x="175" y="62"/>
                  </a:lnTo>
                  <a:lnTo>
                    <a:pt x="198" y="101"/>
                  </a:lnTo>
                  <a:lnTo>
                    <a:pt x="221" y="169"/>
                  </a:lnTo>
                  <a:lnTo>
                    <a:pt x="238" y="241"/>
                  </a:lnTo>
                  <a:lnTo>
                    <a:pt x="256" y="332"/>
                  </a:lnTo>
                  <a:lnTo>
                    <a:pt x="261" y="416"/>
                  </a:lnTo>
                  <a:lnTo>
                    <a:pt x="274" y="511"/>
                  </a:lnTo>
                  <a:lnTo>
                    <a:pt x="279" y="596"/>
                  </a:lnTo>
                  <a:lnTo>
                    <a:pt x="291" y="675"/>
                  </a:lnTo>
                  <a:lnTo>
                    <a:pt x="291" y="646"/>
                  </a:lnTo>
                  <a:lnTo>
                    <a:pt x="309" y="601"/>
                  </a:lnTo>
                  <a:lnTo>
                    <a:pt x="326" y="540"/>
                  </a:lnTo>
                  <a:lnTo>
                    <a:pt x="344" y="478"/>
                  </a:lnTo>
                  <a:lnTo>
                    <a:pt x="355" y="410"/>
                  </a:lnTo>
                  <a:lnTo>
                    <a:pt x="372" y="349"/>
                  </a:lnTo>
                  <a:lnTo>
                    <a:pt x="384" y="304"/>
                  </a:lnTo>
                  <a:lnTo>
                    <a:pt x="402" y="287"/>
                  </a:lnTo>
                  <a:lnTo>
                    <a:pt x="425" y="236"/>
                  </a:lnTo>
                  <a:lnTo>
                    <a:pt x="431" y="197"/>
                  </a:lnTo>
                  <a:lnTo>
                    <a:pt x="431" y="169"/>
                  </a:lnTo>
                  <a:lnTo>
                    <a:pt x="431" y="146"/>
                  </a:lnTo>
                  <a:lnTo>
                    <a:pt x="431" y="106"/>
                  </a:lnTo>
                  <a:lnTo>
                    <a:pt x="443" y="74"/>
                  </a:lnTo>
                  <a:lnTo>
                    <a:pt x="448" y="40"/>
                  </a:lnTo>
                  <a:lnTo>
                    <a:pt x="477" y="28"/>
                  </a:lnTo>
                  <a:lnTo>
                    <a:pt x="506" y="11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5628960" y="4790160"/>
              <a:ext cx="113760" cy="349920"/>
            </a:xfrm>
            <a:custGeom>
              <a:avLst/>
              <a:gdLst/>
              <a:ahLst/>
              <a:rect l="l" t="t" r="r" b="b"/>
              <a:pathLst>
                <a:path w="528" h="1501">
                  <a:moveTo>
                    <a:pt x="87" y="410"/>
                  </a:moveTo>
                  <a:lnTo>
                    <a:pt x="70" y="383"/>
                  </a:lnTo>
                  <a:lnTo>
                    <a:pt x="41" y="332"/>
                  </a:lnTo>
                  <a:lnTo>
                    <a:pt x="23" y="298"/>
                  </a:lnTo>
                  <a:lnTo>
                    <a:pt x="11" y="265"/>
                  </a:lnTo>
                  <a:lnTo>
                    <a:pt x="0" y="236"/>
                  </a:lnTo>
                  <a:lnTo>
                    <a:pt x="6" y="219"/>
                  </a:lnTo>
                  <a:lnTo>
                    <a:pt x="6" y="186"/>
                  </a:lnTo>
                  <a:lnTo>
                    <a:pt x="23" y="152"/>
                  </a:lnTo>
                  <a:lnTo>
                    <a:pt x="41" y="118"/>
                  </a:lnTo>
                  <a:lnTo>
                    <a:pt x="70" y="84"/>
                  </a:lnTo>
                  <a:lnTo>
                    <a:pt x="93" y="51"/>
                  </a:lnTo>
                  <a:lnTo>
                    <a:pt x="122" y="23"/>
                  </a:lnTo>
                  <a:lnTo>
                    <a:pt x="151" y="6"/>
                  </a:lnTo>
                  <a:lnTo>
                    <a:pt x="180" y="0"/>
                  </a:lnTo>
                  <a:lnTo>
                    <a:pt x="244" y="0"/>
                  </a:lnTo>
                  <a:lnTo>
                    <a:pt x="302" y="40"/>
                  </a:lnTo>
                  <a:lnTo>
                    <a:pt x="343" y="96"/>
                  </a:lnTo>
                  <a:lnTo>
                    <a:pt x="378" y="174"/>
                  </a:lnTo>
                  <a:lnTo>
                    <a:pt x="389" y="248"/>
                  </a:lnTo>
                  <a:lnTo>
                    <a:pt x="384" y="326"/>
                  </a:lnTo>
                  <a:lnTo>
                    <a:pt x="360" y="376"/>
                  </a:lnTo>
                  <a:lnTo>
                    <a:pt x="325" y="410"/>
                  </a:lnTo>
                  <a:lnTo>
                    <a:pt x="279" y="410"/>
                  </a:lnTo>
                  <a:lnTo>
                    <a:pt x="256" y="400"/>
                  </a:lnTo>
                  <a:lnTo>
                    <a:pt x="221" y="383"/>
                  </a:lnTo>
                  <a:lnTo>
                    <a:pt x="175" y="376"/>
                  </a:lnTo>
                  <a:lnTo>
                    <a:pt x="256" y="478"/>
                  </a:lnTo>
                  <a:lnTo>
                    <a:pt x="262" y="495"/>
                  </a:lnTo>
                  <a:lnTo>
                    <a:pt x="274" y="523"/>
                  </a:lnTo>
                  <a:lnTo>
                    <a:pt x="285" y="557"/>
                  </a:lnTo>
                  <a:lnTo>
                    <a:pt x="302" y="601"/>
                  </a:lnTo>
                  <a:lnTo>
                    <a:pt x="320" y="652"/>
                  </a:lnTo>
                  <a:lnTo>
                    <a:pt x="348" y="702"/>
                  </a:lnTo>
                  <a:lnTo>
                    <a:pt x="373" y="743"/>
                  </a:lnTo>
                  <a:lnTo>
                    <a:pt x="384" y="759"/>
                  </a:lnTo>
                  <a:lnTo>
                    <a:pt x="413" y="753"/>
                  </a:lnTo>
                  <a:lnTo>
                    <a:pt x="436" y="759"/>
                  </a:lnTo>
                  <a:lnTo>
                    <a:pt x="454" y="759"/>
                  </a:lnTo>
                  <a:lnTo>
                    <a:pt x="471" y="776"/>
                  </a:lnTo>
                  <a:lnTo>
                    <a:pt x="494" y="804"/>
                  </a:lnTo>
                  <a:lnTo>
                    <a:pt x="528" y="849"/>
                  </a:lnTo>
                  <a:lnTo>
                    <a:pt x="512" y="878"/>
                  </a:lnTo>
                  <a:lnTo>
                    <a:pt x="500" y="905"/>
                  </a:lnTo>
                  <a:lnTo>
                    <a:pt x="482" y="922"/>
                  </a:lnTo>
                  <a:lnTo>
                    <a:pt x="477" y="945"/>
                  </a:lnTo>
                  <a:lnTo>
                    <a:pt x="454" y="956"/>
                  </a:lnTo>
                  <a:lnTo>
                    <a:pt x="430" y="967"/>
                  </a:lnTo>
                  <a:lnTo>
                    <a:pt x="396" y="973"/>
                  </a:lnTo>
                  <a:lnTo>
                    <a:pt x="355" y="979"/>
                  </a:lnTo>
                  <a:lnTo>
                    <a:pt x="360" y="1046"/>
                  </a:lnTo>
                  <a:lnTo>
                    <a:pt x="366" y="1114"/>
                  </a:lnTo>
                  <a:lnTo>
                    <a:pt x="366" y="1180"/>
                  </a:lnTo>
                  <a:lnTo>
                    <a:pt x="378" y="1248"/>
                  </a:lnTo>
                  <a:lnTo>
                    <a:pt x="389" y="1305"/>
                  </a:lnTo>
                  <a:lnTo>
                    <a:pt x="407" y="1366"/>
                  </a:lnTo>
                  <a:lnTo>
                    <a:pt x="424" y="1417"/>
                  </a:lnTo>
                  <a:lnTo>
                    <a:pt x="459" y="1467"/>
                  </a:lnTo>
                  <a:lnTo>
                    <a:pt x="401" y="1479"/>
                  </a:lnTo>
                  <a:lnTo>
                    <a:pt x="343" y="1490"/>
                  </a:lnTo>
                  <a:lnTo>
                    <a:pt x="285" y="1496"/>
                  </a:lnTo>
                  <a:lnTo>
                    <a:pt x="233" y="1501"/>
                  </a:lnTo>
                  <a:lnTo>
                    <a:pt x="175" y="1496"/>
                  </a:lnTo>
                  <a:lnTo>
                    <a:pt x="122" y="1496"/>
                  </a:lnTo>
                  <a:lnTo>
                    <a:pt x="70" y="1479"/>
                  </a:lnTo>
                  <a:lnTo>
                    <a:pt x="23" y="1467"/>
                  </a:lnTo>
                  <a:lnTo>
                    <a:pt x="18" y="1400"/>
                  </a:lnTo>
                  <a:lnTo>
                    <a:pt x="23" y="1332"/>
                  </a:lnTo>
                  <a:lnTo>
                    <a:pt x="29" y="1265"/>
                  </a:lnTo>
                  <a:lnTo>
                    <a:pt x="46" y="1204"/>
                  </a:lnTo>
                  <a:lnTo>
                    <a:pt x="59" y="1136"/>
                  </a:lnTo>
                  <a:lnTo>
                    <a:pt x="70" y="1069"/>
                  </a:lnTo>
                  <a:lnTo>
                    <a:pt x="70" y="1001"/>
                  </a:lnTo>
                  <a:lnTo>
                    <a:pt x="76" y="939"/>
                  </a:lnTo>
                  <a:lnTo>
                    <a:pt x="64" y="883"/>
                  </a:lnTo>
                  <a:lnTo>
                    <a:pt x="52" y="832"/>
                  </a:lnTo>
                  <a:lnTo>
                    <a:pt x="41" y="782"/>
                  </a:lnTo>
                  <a:lnTo>
                    <a:pt x="35" y="731"/>
                  </a:lnTo>
                  <a:lnTo>
                    <a:pt x="23" y="680"/>
                  </a:lnTo>
                  <a:lnTo>
                    <a:pt x="23" y="630"/>
                  </a:lnTo>
                  <a:lnTo>
                    <a:pt x="23" y="579"/>
                  </a:lnTo>
                  <a:lnTo>
                    <a:pt x="46" y="528"/>
                  </a:lnTo>
                  <a:lnTo>
                    <a:pt x="52" y="501"/>
                  </a:lnTo>
                  <a:lnTo>
                    <a:pt x="70" y="456"/>
                  </a:lnTo>
                  <a:lnTo>
                    <a:pt x="87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5641920" y="4892400"/>
              <a:ext cx="81000" cy="238680"/>
            </a:xfrm>
            <a:custGeom>
              <a:avLst/>
              <a:gdLst/>
              <a:ahLst/>
              <a:rect l="l" t="t" r="r" b="b"/>
              <a:pathLst>
                <a:path w="377" h="1028">
                  <a:moveTo>
                    <a:pt x="58" y="5"/>
                  </a:moveTo>
                  <a:lnTo>
                    <a:pt x="40" y="62"/>
                  </a:lnTo>
                  <a:lnTo>
                    <a:pt x="28" y="118"/>
                  </a:lnTo>
                  <a:lnTo>
                    <a:pt x="17" y="168"/>
                  </a:lnTo>
                  <a:lnTo>
                    <a:pt x="17" y="224"/>
                  </a:lnTo>
                  <a:lnTo>
                    <a:pt x="17" y="275"/>
                  </a:lnTo>
                  <a:lnTo>
                    <a:pt x="23" y="331"/>
                  </a:lnTo>
                  <a:lnTo>
                    <a:pt x="34" y="382"/>
                  </a:lnTo>
                  <a:lnTo>
                    <a:pt x="51" y="449"/>
                  </a:lnTo>
                  <a:lnTo>
                    <a:pt x="51" y="466"/>
                  </a:lnTo>
                  <a:lnTo>
                    <a:pt x="58" y="500"/>
                  </a:lnTo>
                  <a:lnTo>
                    <a:pt x="63" y="523"/>
                  </a:lnTo>
                  <a:lnTo>
                    <a:pt x="69" y="540"/>
                  </a:lnTo>
                  <a:lnTo>
                    <a:pt x="58" y="550"/>
                  </a:lnTo>
                  <a:lnTo>
                    <a:pt x="46" y="596"/>
                  </a:lnTo>
                  <a:lnTo>
                    <a:pt x="34" y="658"/>
                  </a:lnTo>
                  <a:lnTo>
                    <a:pt x="28" y="731"/>
                  </a:lnTo>
                  <a:lnTo>
                    <a:pt x="11" y="804"/>
                  </a:lnTo>
                  <a:lnTo>
                    <a:pt x="5" y="876"/>
                  </a:lnTo>
                  <a:lnTo>
                    <a:pt x="0" y="933"/>
                  </a:lnTo>
                  <a:lnTo>
                    <a:pt x="0" y="978"/>
                  </a:lnTo>
                  <a:lnTo>
                    <a:pt x="17" y="989"/>
                  </a:lnTo>
                  <a:lnTo>
                    <a:pt x="46" y="1001"/>
                  </a:lnTo>
                  <a:lnTo>
                    <a:pt x="75" y="1011"/>
                  </a:lnTo>
                  <a:lnTo>
                    <a:pt x="98" y="1028"/>
                  </a:lnTo>
                  <a:lnTo>
                    <a:pt x="150" y="1028"/>
                  </a:lnTo>
                  <a:lnTo>
                    <a:pt x="208" y="1023"/>
                  </a:lnTo>
                  <a:lnTo>
                    <a:pt x="255" y="1011"/>
                  </a:lnTo>
                  <a:lnTo>
                    <a:pt x="307" y="1006"/>
                  </a:lnTo>
                  <a:lnTo>
                    <a:pt x="289" y="933"/>
                  </a:lnTo>
                  <a:lnTo>
                    <a:pt x="284" y="859"/>
                  </a:lnTo>
                  <a:lnTo>
                    <a:pt x="278" y="781"/>
                  </a:lnTo>
                  <a:lnTo>
                    <a:pt x="272" y="714"/>
                  </a:lnTo>
                  <a:lnTo>
                    <a:pt x="255" y="641"/>
                  </a:lnTo>
                  <a:lnTo>
                    <a:pt x="238" y="584"/>
                  </a:lnTo>
                  <a:lnTo>
                    <a:pt x="197" y="534"/>
                  </a:lnTo>
                  <a:lnTo>
                    <a:pt x="150" y="511"/>
                  </a:lnTo>
                  <a:lnTo>
                    <a:pt x="162" y="461"/>
                  </a:lnTo>
                  <a:lnTo>
                    <a:pt x="203" y="461"/>
                  </a:lnTo>
                  <a:lnTo>
                    <a:pt x="249" y="466"/>
                  </a:lnTo>
                  <a:lnTo>
                    <a:pt x="284" y="472"/>
                  </a:lnTo>
                  <a:lnTo>
                    <a:pt x="307" y="478"/>
                  </a:lnTo>
                  <a:lnTo>
                    <a:pt x="342" y="461"/>
                  </a:lnTo>
                  <a:lnTo>
                    <a:pt x="360" y="455"/>
                  </a:lnTo>
                  <a:lnTo>
                    <a:pt x="360" y="444"/>
                  </a:lnTo>
                  <a:lnTo>
                    <a:pt x="365" y="427"/>
                  </a:lnTo>
                  <a:lnTo>
                    <a:pt x="365" y="405"/>
                  </a:lnTo>
                  <a:lnTo>
                    <a:pt x="377" y="371"/>
                  </a:lnTo>
                  <a:lnTo>
                    <a:pt x="337" y="371"/>
                  </a:lnTo>
                  <a:lnTo>
                    <a:pt x="296" y="376"/>
                  </a:lnTo>
                  <a:lnTo>
                    <a:pt x="255" y="382"/>
                  </a:lnTo>
                  <a:lnTo>
                    <a:pt x="215" y="388"/>
                  </a:lnTo>
                  <a:lnTo>
                    <a:pt x="203" y="382"/>
                  </a:lnTo>
                  <a:lnTo>
                    <a:pt x="191" y="382"/>
                  </a:lnTo>
                  <a:lnTo>
                    <a:pt x="162" y="376"/>
                  </a:lnTo>
                  <a:lnTo>
                    <a:pt x="132" y="371"/>
                  </a:lnTo>
                  <a:lnTo>
                    <a:pt x="121" y="314"/>
                  </a:lnTo>
                  <a:lnTo>
                    <a:pt x="116" y="263"/>
                  </a:lnTo>
                  <a:lnTo>
                    <a:pt x="116" y="219"/>
                  </a:lnTo>
                  <a:lnTo>
                    <a:pt x="121" y="196"/>
                  </a:lnTo>
                  <a:lnTo>
                    <a:pt x="121" y="179"/>
                  </a:lnTo>
                  <a:lnTo>
                    <a:pt x="127" y="191"/>
                  </a:lnTo>
                  <a:lnTo>
                    <a:pt x="139" y="230"/>
                  </a:lnTo>
                  <a:lnTo>
                    <a:pt x="162" y="309"/>
                  </a:lnTo>
                  <a:lnTo>
                    <a:pt x="180" y="320"/>
                  </a:lnTo>
                  <a:lnTo>
                    <a:pt x="215" y="331"/>
                  </a:lnTo>
                  <a:lnTo>
                    <a:pt x="215" y="314"/>
                  </a:lnTo>
                  <a:lnTo>
                    <a:pt x="215" y="297"/>
                  </a:lnTo>
                  <a:lnTo>
                    <a:pt x="208" y="280"/>
                  </a:lnTo>
                  <a:lnTo>
                    <a:pt x="203" y="280"/>
                  </a:lnTo>
                  <a:lnTo>
                    <a:pt x="203" y="258"/>
                  </a:lnTo>
                  <a:lnTo>
                    <a:pt x="203" y="241"/>
                  </a:lnTo>
                  <a:lnTo>
                    <a:pt x="191" y="185"/>
                  </a:lnTo>
                  <a:lnTo>
                    <a:pt x="185" y="128"/>
                  </a:lnTo>
                  <a:lnTo>
                    <a:pt x="180" y="79"/>
                  </a:lnTo>
                  <a:lnTo>
                    <a:pt x="180" y="39"/>
                  </a:lnTo>
                  <a:lnTo>
                    <a:pt x="157" y="28"/>
                  </a:lnTo>
                  <a:lnTo>
                    <a:pt x="116" y="11"/>
                  </a:lnTo>
                  <a:lnTo>
                    <a:pt x="75" y="0"/>
                  </a:lnTo>
                  <a:lnTo>
                    <a:pt x="58" y="5"/>
                  </a:lnTo>
                  <a:close/>
                </a:path>
              </a:pathLst>
            </a:custGeom>
            <a:solidFill>
              <a:srgbClr val="be6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5234760" y="4804920"/>
              <a:ext cx="69480" cy="147600"/>
            </a:xfrm>
            <a:custGeom>
              <a:avLst/>
              <a:gdLst/>
              <a:ahLst/>
              <a:rect l="l" t="t" r="r" b="b"/>
              <a:pathLst>
                <a:path w="319" h="635">
                  <a:moveTo>
                    <a:pt x="133" y="0"/>
                  </a:moveTo>
                  <a:lnTo>
                    <a:pt x="162" y="24"/>
                  </a:lnTo>
                  <a:lnTo>
                    <a:pt x="198" y="73"/>
                  </a:lnTo>
                  <a:lnTo>
                    <a:pt x="221" y="119"/>
                  </a:lnTo>
                  <a:lnTo>
                    <a:pt x="249" y="164"/>
                  </a:lnTo>
                  <a:lnTo>
                    <a:pt x="249" y="198"/>
                  </a:lnTo>
                  <a:lnTo>
                    <a:pt x="244" y="237"/>
                  </a:lnTo>
                  <a:lnTo>
                    <a:pt x="232" y="265"/>
                  </a:lnTo>
                  <a:lnTo>
                    <a:pt x="221" y="287"/>
                  </a:lnTo>
                  <a:lnTo>
                    <a:pt x="232" y="338"/>
                  </a:lnTo>
                  <a:lnTo>
                    <a:pt x="261" y="400"/>
                  </a:lnTo>
                  <a:lnTo>
                    <a:pt x="284" y="461"/>
                  </a:lnTo>
                  <a:lnTo>
                    <a:pt x="313" y="524"/>
                  </a:lnTo>
                  <a:lnTo>
                    <a:pt x="319" y="568"/>
                  </a:lnTo>
                  <a:lnTo>
                    <a:pt x="307" y="608"/>
                  </a:lnTo>
                  <a:lnTo>
                    <a:pt x="261" y="630"/>
                  </a:lnTo>
                  <a:lnTo>
                    <a:pt x="186" y="635"/>
                  </a:lnTo>
                  <a:lnTo>
                    <a:pt x="133" y="630"/>
                  </a:lnTo>
                  <a:lnTo>
                    <a:pt x="81" y="635"/>
                  </a:lnTo>
                  <a:lnTo>
                    <a:pt x="34" y="630"/>
                  </a:lnTo>
                  <a:lnTo>
                    <a:pt x="0" y="625"/>
                  </a:lnTo>
                  <a:lnTo>
                    <a:pt x="5" y="585"/>
                  </a:lnTo>
                  <a:lnTo>
                    <a:pt x="23" y="546"/>
                  </a:lnTo>
                  <a:lnTo>
                    <a:pt x="41" y="495"/>
                  </a:lnTo>
                  <a:lnTo>
                    <a:pt x="58" y="445"/>
                  </a:lnTo>
                  <a:lnTo>
                    <a:pt x="69" y="394"/>
                  </a:lnTo>
                  <a:lnTo>
                    <a:pt x="87" y="343"/>
                  </a:lnTo>
                  <a:lnTo>
                    <a:pt x="92" y="299"/>
                  </a:lnTo>
                  <a:lnTo>
                    <a:pt x="99" y="265"/>
                  </a:lnTo>
                  <a:lnTo>
                    <a:pt x="87" y="208"/>
                  </a:lnTo>
                  <a:lnTo>
                    <a:pt x="75" y="174"/>
                  </a:lnTo>
                  <a:lnTo>
                    <a:pt x="58" y="141"/>
                  </a:lnTo>
                  <a:lnTo>
                    <a:pt x="52" y="113"/>
                  </a:lnTo>
                  <a:lnTo>
                    <a:pt x="46" y="85"/>
                  </a:lnTo>
                  <a:lnTo>
                    <a:pt x="58" y="63"/>
                  </a:lnTo>
                  <a:lnTo>
                    <a:pt x="81" y="29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6856920" y="4799880"/>
              <a:ext cx="124920" cy="154800"/>
            </a:xfrm>
            <a:custGeom>
              <a:avLst/>
              <a:gdLst/>
              <a:ahLst/>
              <a:rect l="l" t="t" r="r" b="b"/>
              <a:pathLst>
                <a:path w="586" h="669">
                  <a:moveTo>
                    <a:pt x="342" y="0"/>
                  </a:moveTo>
                  <a:lnTo>
                    <a:pt x="208" y="27"/>
                  </a:lnTo>
                  <a:lnTo>
                    <a:pt x="109" y="106"/>
                  </a:lnTo>
                  <a:lnTo>
                    <a:pt x="40" y="201"/>
                  </a:lnTo>
                  <a:lnTo>
                    <a:pt x="5" y="314"/>
                  </a:lnTo>
                  <a:lnTo>
                    <a:pt x="0" y="421"/>
                  </a:lnTo>
                  <a:lnTo>
                    <a:pt x="40" y="527"/>
                  </a:lnTo>
                  <a:lnTo>
                    <a:pt x="122" y="612"/>
                  </a:lnTo>
                  <a:lnTo>
                    <a:pt x="256" y="669"/>
                  </a:lnTo>
                  <a:lnTo>
                    <a:pt x="400" y="662"/>
                  </a:lnTo>
                  <a:lnTo>
                    <a:pt x="505" y="595"/>
                  </a:lnTo>
                  <a:lnTo>
                    <a:pt x="563" y="488"/>
                  </a:lnTo>
                  <a:lnTo>
                    <a:pt x="586" y="360"/>
                  </a:lnTo>
                  <a:lnTo>
                    <a:pt x="568" y="218"/>
                  </a:lnTo>
                  <a:lnTo>
                    <a:pt x="517" y="100"/>
                  </a:lnTo>
                  <a:lnTo>
                    <a:pt x="441" y="17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5418360" y="4802400"/>
              <a:ext cx="24120" cy="45360"/>
            </a:xfrm>
            <a:custGeom>
              <a:avLst/>
              <a:gdLst/>
              <a:ahLst/>
              <a:rect l="l" t="t" r="r" b="b"/>
              <a:pathLst>
                <a:path w="116" h="197">
                  <a:moveTo>
                    <a:pt x="58" y="0"/>
                  </a:moveTo>
                  <a:lnTo>
                    <a:pt x="29" y="28"/>
                  </a:lnTo>
                  <a:lnTo>
                    <a:pt x="12" y="55"/>
                  </a:lnTo>
                  <a:lnTo>
                    <a:pt x="0" y="79"/>
                  </a:lnTo>
                  <a:lnTo>
                    <a:pt x="0" y="101"/>
                  </a:lnTo>
                  <a:lnTo>
                    <a:pt x="0" y="118"/>
                  </a:lnTo>
                  <a:lnTo>
                    <a:pt x="17" y="140"/>
                  </a:lnTo>
                  <a:lnTo>
                    <a:pt x="40" y="163"/>
                  </a:lnTo>
                  <a:lnTo>
                    <a:pt x="81" y="197"/>
                  </a:lnTo>
                  <a:lnTo>
                    <a:pt x="98" y="157"/>
                  </a:lnTo>
                  <a:lnTo>
                    <a:pt x="111" y="135"/>
                  </a:lnTo>
                  <a:lnTo>
                    <a:pt x="111" y="106"/>
                  </a:lnTo>
                  <a:lnTo>
                    <a:pt x="116" y="89"/>
                  </a:lnTo>
                  <a:lnTo>
                    <a:pt x="105" y="67"/>
                  </a:lnTo>
                  <a:lnTo>
                    <a:pt x="93" y="50"/>
                  </a:lnTo>
                  <a:lnTo>
                    <a:pt x="75" y="2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6011640" y="4802400"/>
              <a:ext cx="42480" cy="64800"/>
            </a:xfrm>
            <a:custGeom>
              <a:avLst/>
              <a:gdLst/>
              <a:ahLst/>
              <a:rect l="l" t="t" r="r" b="b"/>
              <a:pathLst>
                <a:path w="197" h="286">
                  <a:moveTo>
                    <a:pt x="46" y="0"/>
                  </a:moveTo>
                  <a:lnTo>
                    <a:pt x="23" y="28"/>
                  </a:lnTo>
                  <a:lnTo>
                    <a:pt x="12" y="79"/>
                  </a:lnTo>
                  <a:lnTo>
                    <a:pt x="0" y="135"/>
                  </a:lnTo>
                  <a:lnTo>
                    <a:pt x="5" y="197"/>
                  </a:lnTo>
                  <a:lnTo>
                    <a:pt x="12" y="241"/>
                  </a:lnTo>
                  <a:lnTo>
                    <a:pt x="35" y="275"/>
                  </a:lnTo>
                  <a:lnTo>
                    <a:pt x="70" y="286"/>
                  </a:lnTo>
                  <a:lnTo>
                    <a:pt x="128" y="270"/>
                  </a:lnTo>
                  <a:lnTo>
                    <a:pt x="169" y="224"/>
                  </a:lnTo>
                  <a:lnTo>
                    <a:pt x="197" y="190"/>
                  </a:lnTo>
                  <a:lnTo>
                    <a:pt x="197" y="146"/>
                  </a:lnTo>
                  <a:lnTo>
                    <a:pt x="197" y="112"/>
                  </a:lnTo>
                  <a:lnTo>
                    <a:pt x="169" y="72"/>
                  </a:lnTo>
                  <a:lnTo>
                    <a:pt x="139" y="45"/>
                  </a:lnTo>
                  <a:lnTo>
                    <a:pt x="93" y="1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6069600" y="4800960"/>
              <a:ext cx="56520" cy="91080"/>
            </a:xfrm>
            <a:custGeom>
              <a:avLst/>
              <a:gdLst/>
              <a:ahLst/>
              <a:rect l="l" t="t" r="r" b="b"/>
              <a:pathLst>
                <a:path w="261" h="394">
                  <a:moveTo>
                    <a:pt x="122" y="6"/>
                  </a:moveTo>
                  <a:lnTo>
                    <a:pt x="46" y="22"/>
                  </a:lnTo>
                  <a:lnTo>
                    <a:pt x="11" y="61"/>
                  </a:lnTo>
                  <a:lnTo>
                    <a:pt x="0" y="118"/>
                  </a:lnTo>
                  <a:lnTo>
                    <a:pt x="11" y="186"/>
                  </a:lnTo>
                  <a:lnTo>
                    <a:pt x="28" y="247"/>
                  </a:lnTo>
                  <a:lnTo>
                    <a:pt x="69" y="309"/>
                  </a:lnTo>
                  <a:lnTo>
                    <a:pt x="104" y="360"/>
                  </a:lnTo>
                  <a:lnTo>
                    <a:pt x="145" y="394"/>
                  </a:lnTo>
                  <a:lnTo>
                    <a:pt x="168" y="360"/>
                  </a:lnTo>
                  <a:lnTo>
                    <a:pt x="203" y="338"/>
                  </a:lnTo>
                  <a:lnTo>
                    <a:pt x="226" y="304"/>
                  </a:lnTo>
                  <a:lnTo>
                    <a:pt x="249" y="276"/>
                  </a:lnTo>
                  <a:lnTo>
                    <a:pt x="256" y="220"/>
                  </a:lnTo>
                  <a:lnTo>
                    <a:pt x="261" y="169"/>
                  </a:lnTo>
                  <a:lnTo>
                    <a:pt x="256" y="124"/>
                  </a:lnTo>
                  <a:lnTo>
                    <a:pt x="244" y="85"/>
                  </a:lnTo>
                  <a:lnTo>
                    <a:pt x="221" y="46"/>
                  </a:lnTo>
                  <a:lnTo>
                    <a:pt x="198" y="17"/>
                  </a:lnTo>
                  <a:lnTo>
                    <a:pt x="162" y="0"/>
                  </a:lnTo>
                  <a:lnTo>
                    <a:pt x="122" y="6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6611400" y="4803480"/>
              <a:ext cx="90360" cy="184680"/>
            </a:xfrm>
            <a:custGeom>
              <a:avLst/>
              <a:gdLst/>
              <a:ahLst/>
              <a:rect l="l" t="t" r="r" b="b"/>
              <a:pathLst>
                <a:path w="425" h="787">
                  <a:moveTo>
                    <a:pt x="151" y="0"/>
                  </a:moveTo>
                  <a:lnTo>
                    <a:pt x="105" y="73"/>
                  </a:lnTo>
                  <a:lnTo>
                    <a:pt x="58" y="191"/>
                  </a:lnTo>
                  <a:lnTo>
                    <a:pt x="18" y="326"/>
                  </a:lnTo>
                  <a:lnTo>
                    <a:pt x="0" y="473"/>
                  </a:lnTo>
                  <a:lnTo>
                    <a:pt x="0" y="601"/>
                  </a:lnTo>
                  <a:lnTo>
                    <a:pt x="41" y="708"/>
                  </a:lnTo>
                  <a:lnTo>
                    <a:pt x="122" y="775"/>
                  </a:lnTo>
                  <a:lnTo>
                    <a:pt x="261" y="787"/>
                  </a:lnTo>
                  <a:lnTo>
                    <a:pt x="332" y="748"/>
                  </a:lnTo>
                  <a:lnTo>
                    <a:pt x="384" y="691"/>
                  </a:lnTo>
                  <a:lnTo>
                    <a:pt x="413" y="607"/>
                  </a:lnTo>
                  <a:lnTo>
                    <a:pt x="425" y="512"/>
                  </a:lnTo>
                  <a:lnTo>
                    <a:pt x="418" y="405"/>
                  </a:lnTo>
                  <a:lnTo>
                    <a:pt x="402" y="309"/>
                  </a:lnTo>
                  <a:lnTo>
                    <a:pt x="378" y="219"/>
                  </a:lnTo>
                  <a:lnTo>
                    <a:pt x="355" y="157"/>
                  </a:lnTo>
                  <a:lnTo>
                    <a:pt x="314" y="101"/>
                  </a:lnTo>
                  <a:lnTo>
                    <a:pt x="268" y="61"/>
                  </a:lnTo>
                  <a:lnTo>
                    <a:pt x="210" y="2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5663880" y="4808520"/>
              <a:ext cx="38520" cy="67320"/>
            </a:xfrm>
            <a:custGeom>
              <a:avLst/>
              <a:gdLst/>
              <a:ahLst/>
              <a:rect l="l" t="t" r="r" b="b"/>
              <a:pathLst>
                <a:path w="180" h="292">
                  <a:moveTo>
                    <a:pt x="28" y="0"/>
                  </a:moveTo>
                  <a:lnTo>
                    <a:pt x="12" y="51"/>
                  </a:lnTo>
                  <a:lnTo>
                    <a:pt x="5" y="107"/>
                  </a:lnTo>
                  <a:lnTo>
                    <a:pt x="0" y="140"/>
                  </a:lnTo>
                  <a:lnTo>
                    <a:pt x="12" y="179"/>
                  </a:lnTo>
                  <a:lnTo>
                    <a:pt x="23" y="208"/>
                  </a:lnTo>
                  <a:lnTo>
                    <a:pt x="53" y="236"/>
                  </a:lnTo>
                  <a:lnTo>
                    <a:pt x="93" y="258"/>
                  </a:lnTo>
                  <a:lnTo>
                    <a:pt x="151" y="292"/>
                  </a:lnTo>
                  <a:lnTo>
                    <a:pt x="162" y="242"/>
                  </a:lnTo>
                  <a:lnTo>
                    <a:pt x="180" y="196"/>
                  </a:lnTo>
                  <a:lnTo>
                    <a:pt x="174" y="146"/>
                  </a:lnTo>
                  <a:lnTo>
                    <a:pt x="174" y="107"/>
                  </a:lnTo>
                  <a:lnTo>
                    <a:pt x="151" y="67"/>
                  </a:lnTo>
                  <a:lnTo>
                    <a:pt x="122" y="34"/>
                  </a:lnTo>
                  <a:lnTo>
                    <a:pt x="81" y="1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5795640" y="4808520"/>
              <a:ext cx="30960" cy="54000"/>
            </a:xfrm>
            <a:custGeom>
              <a:avLst/>
              <a:gdLst/>
              <a:ahLst/>
              <a:rect l="l" t="t" r="r" b="b"/>
              <a:pathLst>
                <a:path w="145" h="230">
                  <a:moveTo>
                    <a:pt x="34" y="0"/>
                  </a:moveTo>
                  <a:lnTo>
                    <a:pt x="6" y="73"/>
                  </a:lnTo>
                  <a:lnTo>
                    <a:pt x="0" y="129"/>
                  </a:lnTo>
                  <a:lnTo>
                    <a:pt x="6" y="169"/>
                  </a:lnTo>
                  <a:lnTo>
                    <a:pt x="29" y="202"/>
                  </a:lnTo>
                  <a:lnTo>
                    <a:pt x="70" y="230"/>
                  </a:lnTo>
                  <a:lnTo>
                    <a:pt x="87" y="230"/>
                  </a:lnTo>
                  <a:lnTo>
                    <a:pt x="117" y="196"/>
                  </a:lnTo>
                  <a:lnTo>
                    <a:pt x="140" y="169"/>
                  </a:lnTo>
                  <a:lnTo>
                    <a:pt x="145" y="135"/>
                  </a:lnTo>
                  <a:lnTo>
                    <a:pt x="145" y="107"/>
                  </a:lnTo>
                  <a:lnTo>
                    <a:pt x="128" y="73"/>
                  </a:lnTo>
                  <a:lnTo>
                    <a:pt x="105" y="39"/>
                  </a:lnTo>
                  <a:lnTo>
                    <a:pt x="70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6466320" y="4808520"/>
              <a:ext cx="77400" cy="125640"/>
            </a:xfrm>
            <a:custGeom>
              <a:avLst/>
              <a:gdLst/>
              <a:ahLst/>
              <a:rect l="l" t="t" r="r" b="b"/>
              <a:pathLst>
                <a:path w="355" h="539">
                  <a:moveTo>
                    <a:pt x="157" y="0"/>
                  </a:moveTo>
                  <a:lnTo>
                    <a:pt x="87" y="27"/>
                  </a:lnTo>
                  <a:lnTo>
                    <a:pt x="41" y="101"/>
                  </a:lnTo>
                  <a:lnTo>
                    <a:pt x="6" y="191"/>
                  </a:lnTo>
                  <a:lnTo>
                    <a:pt x="0" y="297"/>
                  </a:lnTo>
                  <a:lnTo>
                    <a:pt x="11" y="393"/>
                  </a:lnTo>
                  <a:lnTo>
                    <a:pt x="46" y="478"/>
                  </a:lnTo>
                  <a:lnTo>
                    <a:pt x="99" y="528"/>
                  </a:lnTo>
                  <a:lnTo>
                    <a:pt x="180" y="539"/>
                  </a:lnTo>
                  <a:lnTo>
                    <a:pt x="256" y="495"/>
                  </a:lnTo>
                  <a:lnTo>
                    <a:pt x="313" y="422"/>
                  </a:lnTo>
                  <a:lnTo>
                    <a:pt x="343" y="326"/>
                  </a:lnTo>
                  <a:lnTo>
                    <a:pt x="355" y="230"/>
                  </a:lnTo>
                  <a:lnTo>
                    <a:pt x="331" y="129"/>
                  </a:lnTo>
                  <a:lnTo>
                    <a:pt x="297" y="51"/>
                  </a:lnTo>
                  <a:lnTo>
                    <a:pt x="232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5511240" y="4811040"/>
              <a:ext cx="29880" cy="51480"/>
            </a:xfrm>
            <a:custGeom>
              <a:avLst/>
              <a:gdLst/>
              <a:ahLst/>
              <a:rect l="l" t="t" r="r" b="b"/>
              <a:pathLst>
                <a:path w="139" h="218">
                  <a:moveTo>
                    <a:pt x="64" y="0"/>
                  </a:moveTo>
                  <a:lnTo>
                    <a:pt x="23" y="39"/>
                  </a:lnTo>
                  <a:lnTo>
                    <a:pt x="6" y="89"/>
                  </a:lnTo>
                  <a:lnTo>
                    <a:pt x="0" y="111"/>
                  </a:lnTo>
                  <a:lnTo>
                    <a:pt x="0" y="145"/>
                  </a:lnTo>
                  <a:lnTo>
                    <a:pt x="0" y="174"/>
                  </a:lnTo>
                  <a:lnTo>
                    <a:pt x="6" y="218"/>
                  </a:lnTo>
                  <a:lnTo>
                    <a:pt x="17" y="213"/>
                  </a:lnTo>
                  <a:lnTo>
                    <a:pt x="47" y="213"/>
                  </a:lnTo>
                  <a:lnTo>
                    <a:pt x="70" y="207"/>
                  </a:lnTo>
                  <a:lnTo>
                    <a:pt x="75" y="207"/>
                  </a:lnTo>
                  <a:lnTo>
                    <a:pt x="93" y="174"/>
                  </a:lnTo>
                  <a:lnTo>
                    <a:pt x="116" y="145"/>
                  </a:lnTo>
                  <a:lnTo>
                    <a:pt x="128" y="117"/>
                  </a:lnTo>
                  <a:lnTo>
                    <a:pt x="139" y="95"/>
                  </a:lnTo>
                  <a:lnTo>
                    <a:pt x="133" y="66"/>
                  </a:lnTo>
                  <a:lnTo>
                    <a:pt x="121" y="44"/>
                  </a:lnTo>
                  <a:lnTo>
                    <a:pt x="98" y="2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5893920" y="4811040"/>
              <a:ext cx="33480" cy="5868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34" y="0"/>
                  </a:moveTo>
                  <a:lnTo>
                    <a:pt x="16" y="32"/>
                  </a:lnTo>
                  <a:lnTo>
                    <a:pt x="11" y="83"/>
                  </a:lnTo>
                  <a:lnTo>
                    <a:pt x="0" y="134"/>
                  </a:lnTo>
                  <a:lnTo>
                    <a:pt x="5" y="184"/>
                  </a:lnTo>
                  <a:lnTo>
                    <a:pt x="5" y="218"/>
                  </a:lnTo>
                  <a:lnTo>
                    <a:pt x="28" y="246"/>
                  </a:lnTo>
                  <a:lnTo>
                    <a:pt x="51" y="252"/>
                  </a:lnTo>
                  <a:lnTo>
                    <a:pt x="99" y="241"/>
                  </a:lnTo>
                  <a:lnTo>
                    <a:pt x="133" y="207"/>
                  </a:lnTo>
                  <a:lnTo>
                    <a:pt x="156" y="174"/>
                  </a:lnTo>
                  <a:lnTo>
                    <a:pt x="156" y="140"/>
                  </a:lnTo>
                  <a:lnTo>
                    <a:pt x="156" y="106"/>
                  </a:lnTo>
                  <a:lnTo>
                    <a:pt x="133" y="72"/>
                  </a:lnTo>
                  <a:lnTo>
                    <a:pt x="110" y="44"/>
                  </a:lnTo>
                  <a:lnTo>
                    <a:pt x="69" y="1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5255280" y="4813200"/>
              <a:ext cx="25560" cy="41760"/>
            </a:xfrm>
            <a:custGeom>
              <a:avLst/>
              <a:gdLst/>
              <a:ahLst/>
              <a:rect l="l" t="t" r="r" b="b"/>
              <a:pathLst>
                <a:path w="122" h="180">
                  <a:moveTo>
                    <a:pt x="53" y="0"/>
                  </a:moveTo>
                  <a:lnTo>
                    <a:pt x="23" y="29"/>
                  </a:lnTo>
                  <a:lnTo>
                    <a:pt x="12" y="51"/>
                  </a:lnTo>
                  <a:lnTo>
                    <a:pt x="0" y="68"/>
                  </a:lnTo>
                  <a:lnTo>
                    <a:pt x="7" y="90"/>
                  </a:lnTo>
                  <a:lnTo>
                    <a:pt x="7" y="101"/>
                  </a:lnTo>
                  <a:lnTo>
                    <a:pt x="12" y="124"/>
                  </a:lnTo>
                  <a:lnTo>
                    <a:pt x="23" y="140"/>
                  </a:lnTo>
                  <a:lnTo>
                    <a:pt x="41" y="180"/>
                  </a:lnTo>
                  <a:lnTo>
                    <a:pt x="88" y="180"/>
                  </a:lnTo>
                  <a:lnTo>
                    <a:pt x="117" y="174"/>
                  </a:lnTo>
                  <a:lnTo>
                    <a:pt x="122" y="152"/>
                  </a:lnTo>
                  <a:lnTo>
                    <a:pt x="117" y="130"/>
                  </a:lnTo>
                  <a:lnTo>
                    <a:pt x="94" y="96"/>
                  </a:lnTo>
                  <a:lnTo>
                    <a:pt x="76" y="62"/>
                  </a:lnTo>
                  <a:lnTo>
                    <a:pt x="58" y="2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5955840" y="4813200"/>
              <a:ext cx="24480" cy="66600"/>
            </a:xfrm>
            <a:custGeom>
              <a:avLst/>
              <a:gdLst/>
              <a:ahLst/>
              <a:rect l="l" t="t" r="r" b="b"/>
              <a:pathLst>
                <a:path w="111" h="282">
                  <a:moveTo>
                    <a:pt x="35" y="0"/>
                  </a:moveTo>
                  <a:lnTo>
                    <a:pt x="17" y="39"/>
                  </a:lnTo>
                  <a:lnTo>
                    <a:pt x="6" y="79"/>
                  </a:lnTo>
                  <a:lnTo>
                    <a:pt x="0" y="113"/>
                  </a:lnTo>
                  <a:lnTo>
                    <a:pt x="0" y="152"/>
                  </a:lnTo>
                  <a:lnTo>
                    <a:pt x="0" y="186"/>
                  </a:lnTo>
                  <a:lnTo>
                    <a:pt x="12" y="220"/>
                  </a:lnTo>
                  <a:lnTo>
                    <a:pt x="29" y="248"/>
                  </a:lnTo>
                  <a:lnTo>
                    <a:pt x="63" y="282"/>
                  </a:lnTo>
                  <a:lnTo>
                    <a:pt x="75" y="242"/>
                  </a:lnTo>
                  <a:lnTo>
                    <a:pt x="88" y="203"/>
                  </a:lnTo>
                  <a:lnTo>
                    <a:pt x="98" y="164"/>
                  </a:lnTo>
                  <a:lnTo>
                    <a:pt x="111" y="130"/>
                  </a:lnTo>
                  <a:lnTo>
                    <a:pt x="104" y="90"/>
                  </a:lnTo>
                  <a:lnTo>
                    <a:pt x="98" y="56"/>
                  </a:lnTo>
                  <a:lnTo>
                    <a:pt x="70" y="2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5148000" y="4817160"/>
              <a:ext cx="72360" cy="158760"/>
            </a:xfrm>
            <a:custGeom>
              <a:avLst/>
              <a:gdLst/>
              <a:ahLst/>
              <a:rect l="l" t="t" r="r" b="b"/>
              <a:pathLst>
                <a:path w="332" h="685">
                  <a:moveTo>
                    <a:pt x="152" y="0"/>
                  </a:moveTo>
                  <a:lnTo>
                    <a:pt x="180" y="5"/>
                  </a:lnTo>
                  <a:lnTo>
                    <a:pt x="215" y="17"/>
                  </a:lnTo>
                  <a:lnTo>
                    <a:pt x="238" y="27"/>
                  </a:lnTo>
                  <a:lnTo>
                    <a:pt x="268" y="50"/>
                  </a:lnTo>
                  <a:lnTo>
                    <a:pt x="286" y="95"/>
                  </a:lnTo>
                  <a:lnTo>
                    <a:pt x="286" y="152"/>
                  </a:lnTo>
                  <a:lnTo>
                    <a:pt x="286" y="174"/>
                  </a:lnTo>
                  <a:lnTo>
                    <a:pt x="286" y="208"/>
                  </a:lnTo>
                  <a:lnTo>
                    <a:pt x="286" y="236"/>
                  </a:lnTo>
                  <a:lnTo>
                    <a:pt x="291" y="270"/>
                  </a:lnTo>
                  <a:lnTo>
                    <a:pt x="297" y="314"/>
                  </a:lnTo>
                  <a:lnTo>
                    <a:pt x="314" y="382"/>
                  </a:lnTo>
                  <a:lnTo>
                    <a:pt x="320" y="449"/>
                  </a:lnTo>
                  <a:lnTo>
                    <a:pt x="332" y="522"/>
                  </a:lnTo>
                  <a:lnTo>
                    <a:pt x="326" y="579"/>
                  </a:lnTo>
                  <a:lnTo>
                    <a:pt x="303" y="630"/>
                  </a:lnTo>
                  <a:lnTo>
                    <a:pt x="256" y="663"/>
                  </a:lnTo>
                  <a:lnTo>
                    <a:pt x="187" y="685"/>
                  </a:lnTo>
                  <a:lnTo>
                    <a:pt x="81" y="669"/>
                  </a:lnTo>
                  <a:lnTo>
                    <a:pt x="30" y="640"/>
                  </a:lnTo>
                  <a:lnTo>
                    <a:pt x="0" y="589"/>
                  </a:lnTo>
                  <a:lnTo>
                    <a:pt x="7" y="528"/>
                  </a:lnTo>
                  <a:lnTo>
                    <a:pt x="18" y="461"/>
                  </a:lnTo>
                  <a:lnTo>
                    <a:pt x="41" y="393"/>
                  </a:lnTo>
                  <a:lnTo>
                    <a:pt x="65" y="331"/>
                  </a:lnTo>
                  <a:lnTo>
                    <a:pt x="81" y="287"/>
                  </a:lnTo>
                  <a:lnTo>
                    <a:pt x="81" y="230"/>
                  </a:lnTo>
                  <a:lnTo>
                    <a:pt x="88" y="191"/>
                  </a:lnTo>
                  <a:lnTo>
                    <a:pt x="88" y="157"/>
                  </a:lnTo>
                  <a:lnTo>
                    <a:pt x="93" y="123"/>
                  </a:lnTo>
                  <a:lnTo>
                    <a:pt x="93" y="89"/>
                  </a:lnTo>
                  <a:lnTo>
                    <a:pt x="111" y="61"/>
                  </a:lnTo>
                  <a:lnTo>
                    <a:pt x="123" y="27"/>
                  </a:lnTo>
                  <a:lnTo>
                    <a:pt x="15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5335560" y="4817160"/>
              <a:ext cx="14040" cy="33120"/>
            </a:xfrm>
            <a:custGeom>
              <a:avLst/>
              <a:gdLst/>
              <a:ahLst/>
              <a:rect l="l" t="t" r="r" b="b"/>
              <a:pathLst>
                <a:path w="71" h="145">
                  <a:moveTo>
                    <a:pt x="29" y="0"/>
                  </a:moveTo>
                  <a:lnTo>
                    <a:pt x="6" y="44"/>
                  </a:lnTo>
                  <a:lnTo>
                    <a:pt x="0" y="73"/>
                  </a:lnTo>
                  <a:lnTo>
                    <a:pt x="13" y="101"/>
                  </a:lnTo>
                  <a:lnTo>
                    <a:pt x="29" y="145"/>
                  </a:lnTo>
                  <a:lnTo>
                    <a:pt x="41" y="112"/>
                  </a:lnTo>
                  <a:lnTo>
                    <a:pt x="47" y="89"/>
                  </a:lnTo>
                  <a:lnTo>
                    <a:pt x="53" y="56"/>
                  </a:lnTo>
                  <a:lnTo>
                    <a:pt x="71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6166440" y="4817160"/>
              <a:ext cx="56520" cy="79920"/>
            </a:xfrm>
            <a:custGeom>
              <a:avLst/>
              <a:gdLst/>
              <a:ahLst/>
              <a:rect l="l" t="t" r="r" b="b"/>
              <a:pathLst>
                <a:path w="262" h="348">
                  <a:moveTo>
                    <a:pt x="70" y="0"/>
                  </a:moveTo>
                  <a:lnTo>
                    <a:pt x="40" y="50"/>
                  </a:lnTo>
                  <a:lnTo>
                    <a:pt x="24" y="118"/>
                  </a:lnTo>
                  <a:lnTo>
                    <a:pt x="0" y="185"/>
                  </a:lnTo>
                  <a:lnTo>
                    <a:pt x="0" y="253"/>
                  </a:lnTo>
                  <a:lnTo>
                    <a:pt x="6" y="304"/>
                  </a:lnTo>
                  <a:lnTo>
                    <a:pt x="29" y="337"/>
                  </a:lnTo>
                  <a:lnTo>
                    <a:pt x="81" y="348"/>
                  </a:lnTo>
                  <a:lnTo>
                    <a:pt x="163" y="326"/>
                  </a:lnTo>
                  <a:lnTo>
                    <a:pt x="215" y="287"/>
                  </a:lnTo>
                  <a:lnTo>
                    <a:pt x="250" y="241"/>
                  </a:lnTo>
                  <a:lnTo>
                    <a:pt x="262" y="196"/>
                  </a:lnTo>
                  <a:lnTo>
                    <a:pt x="256" y="152"/>
                  </a:lnTo>
                  <a:lnTo>
                    <a:pt x="227" y="101"/>
                  </a:lnTo>
                  <a:lnTo>
                    <a:pt x="192" y="56"/>
                  </a:lnTo>
                  <a:lnTo>
                    <a:pt x="134" y="2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5640480" y="4820760"/>
              <a:ext cx="12600" cy="44280"/>
            </a:xfrm>
            <a:custGeom>
              <a:avLst/>
              <a:gdLst/>
              <a:ahLst/>
              <a:rect l="l" t="t" r="r" b="b"/>
              <a:pathLst>
                <a:path w="58" h="191">
                  <a:moveTo>
                    <a:pt x="47" y="0"/>
                  </a:moveTo>
                  <a:lnTo>
                    <a:pt x="18" y="16"/>
                  </a:lnTo>
                  <a:lnTo>
                    <a:pt x="7" y="39"/>
                  </a:lnTo>
                  <a:lnTo>
                    <a:pt x="0" y="67"/>
                  </a:lnTo>
                  <a:lnTo>
                    <a:pt x="12" y="101"/>
                  </a:lnTo>
                  <a:lnTo>
                    <a:pt x="35" y="151"/>
                  </a:lnTo>
                  <a:lnTo>
                    <a:pt x="58" y="191"/>
                  </a:lnTo>
                  <a:lnTo>
                    <a:pt x="53" y="168"/>
                  </a:lnTo>
                  <a:lnTo>
                    <a:pt x="53" y="140"/>
                  </a:lnTo>
                  <a:lnTo>
                    <a:pt x="53" y="106"/>
                  </a:lnTo>
                  <a:lnTo>
                    <a:pt x="53" y="78"/>
                  </a:lnTo>
                  <a:lnTo>
                    <a:pt x="47" y="44"/>
                  </a:lnTo>
                  <a:lnTo>
                    <a:pt x="47" y="1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8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5466240" y="4823280"/>
              <a:ext cx="32040" cy="64800"/>
            </a:xfrm>
            <a:custGeom>
              <a:avLst/>
              <a:gdLst/>
              <a:ahLst/>
              <a:rect l="l" t="t" r="r" b="b"/>
              <a:pathLst>
                <a:path w="145" h="287">
                  <a:moveTo>
                    <a:pt x="87" y="0"/>
                  </a:moveTo>
                  <a:lnTo>
                    <a:pt x="35" y="46"/>
                  </a:lnTo>
                  <a:lnTo>
                    <a:pt x="11" y="91"/>
                  </a:lnTo>
                  <a:lnTo>
                    <a:pt x="0" y="135"/>
                  </a:lnTo>
                  <a:lnTo>
                    <a:pt x="11" y="186"/>
                  </a:lnTo>
                  <a:lnTo>
                    <a:pt x="23" y="220"/>
                  </a:lnTo>
                  <a:lnTo>
                    <a:pt x="35" y="253"/>
                  </a:lnTo>
                  <a:lnTo>
                    <a:pt x="46" y="277"/>
                  </a:lnTo>
                  <a:lnTo>
                    <a:pt x="58" y="287"/>
                  </a:lnTo>
                  <a:lnTo>
                    <a:pt x="87" y="253"/>
                  </a:lnTo>
                  <a:lnTo>
                    <a:pt x="116" y="226"/>
                  </a:lnTo>
                  <a:lnTo>
                    <a:pt x="127" y="197"/>
                  </a:lnTo>
                  <a:lnTo>
                    <a:pt x="139" y="175"/>
                  </a:lnTo>
                  <a:lnTo>
                    <a:pt x="139" y="135"/>
                  </a:lnTo>
                  <a:lnTo>
                    <a:pt x="145" y="101"/>
                  </a:lnTo>
                  <a:lnTo>
                    <a:pt x="139" y="57"/>
                  </a:lnTo>
                  <a:lnTo>
                    <a:pt x="139" y="1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5559120" y="4824360"/>
              <a:ext cx="34560" cy="59040"/>
            </a:xfrm>
            <a:custGeom>
              <a:avLst/>
              <a:gdLst/>
              <a:ahLst/>
              <a:rect l="l" t="t" r="r" b="b"/>
              <a:pathLst>
                <a:path w="164" h="248">
                  <a:moveTo>
                    <a:pt x="41" y="0"/>
                  </a:moveTo>
                  <a:lnTo>
                    <a:pt x="24" y="28"/>
                  </a:lnTo>
                  <a:lnTo>
                    <a:pt x="12" y="79"/>
                  </a:lnTo>
                  <a:lnTo>
                    <a:pt x="0" y="123"/>
                  </a:lnTo>
                  <a:lnTo>
                    <a:pt x="0" y="174"/>
                  </a:lnTo>
                  <a:lnTo>
                    <a:pt x="0" y="208"/>
                  </a:lnTo>
                  <a:lnTo>
                    <a:pt x="18" y="236"/>
                  </a:lnTo>
                  <a:lnTo>
                    <a:pt x="47" y="248"/>
                  </a:lnTo>
                  <a:lnTo>
                    <a:pt x="94" y="248"/>
                  </a:lnTo>
                  <a:lnTo>
                    <a:pt x="134" y="219"/>
                  </a:lnTo>
                  <a:lnTo>
                    <a:pt x="157" y="191"/>
                  </a:lnTo>
                  <a:lnTo>
                    <a:pt x="164" y="152"/>
                  </a:lnTo>
                  <a:lnTo>
                    <a:pt x="164" y="118"/>
                  </a:lnTo>
                  <a:lnTo>
                    <a:pt x="140" y="79"/>
                  </a:lnTo>
                  <a:lnTo>
                    <a:pt x="111" y="50"/>
                  </a:lnTo>
                  <a:lnTo>
                    <a:pt x="76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5175360" y="4831920"/>
              <a:ext cx="21960" cy="3420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29" y="0"/>
                  </a:moveTo>
                  <a:lnTo>
                    <a:pt x="11" y="28"/>
                  </a:lnTo>
                  <a:lnTo>
                    <a:pt x="6" y="61"/>
                  </a:lnTo>
                  <a:lnTo>
                    <a:pt x="0" y="85"/>
                  </a:lnTo>
                  <a:lnTo>
                    <a:pt x="6" y="107"/>
                  </a:lnTo>
                  <a:lnTo>
                    <a:pt x="6" y="118"/>
                  </a:lnTo>
                  <a:lnTo>
                    <a:pt x="23" y="129"/>
                  </a:lnTo>
                  <a:lnTo>
                    <a:pt x="46" y="141"/>
                  </a:lnTo>
                  <a:lnTo>
                    <a:pt x="81" y="152"/>
                  </a:lnTo>
                  <a:lnTo>
                    <a:pt x="87" y="118"/>
                  </a:lnTo>
                  <a:lnTo>
                    <a:pt x="99" y="95"/>
                  </a:lnTo>
                  <a:lnTo>
                    <a:pt x="99" y="78"/>
                  </a:lnTo>
                  <a:lnTo>
                    <a:pt x="104" y="61"/>
                  </a:lnTo>
                  <a:lnTo>
                    <a:pt x="99" y="45"/>
                  </a:lnTo>
                  <a:lnTo>
                    <a:pt x="87" y="28"/>
                  </a:lnTo>
                  <a:lnTo>
                    <a:pt x="64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7881840" y="4831920"/>
              <a:ext cx="78840" cy="116640"/>
            </a:xfrm>
            <a:custGeom>
              <a:avLst/>
              <a:gdLst/>
              <a:ahLst/>
              <a:rect l="l" t="t" r="r" b="b"/>
              <a:pathLst>
                <a:path w="367" h="500">
                  <a:moveTo>
                    <a:pt x="222" y="0"/>
                  </a:moveTo>
                  <a:lnTo>
                    <a:pt x="99" y="22"/>
                  </a:lnTo>
                  <a:lnTo>
                    <a:pt x="36" y="73"/>
                  </a:lnTo>
                  <a:lnTo>
                    <a:pt x="0" y="135"/>
                  </a:lnTo>
                  <a:lnTo>
                    <a:pt x="7" y="213"/>
                  </a:lnTo>
                  <a:lnTo>
                    <a:pt x="30" y="287"/>
                  </a:lnTo>
                  <a:lnTo>
                    <a:pt x="65" y="365"/>
                  </a:lnTo>
                  <a:lnTo>
                    <a:pt x="106" y="438"/>
                  </a:lnTo>
                  <a:lnTo>
                    <a:pt x="146" y="500"/>
                  </a:lnTo>
                  <a:lnTo>
                    <a:pt x="164" y="478"/>
                  </a:lnTo>
                  <a:lnTo>
                    <a:pt x="193" y="461"/>
                  </a:lnTo>
                  <a:lnTo>
                    <a:pt x="228" y="433"/>
                  </a:lnTo>
                  <a:lnTo>
                    <a:pt x="263" y="404"/>
                  </a:lnTo>
                  <a:lnTo>
                    <a:pt x="314" y="343"/>
                  </a:lnTo>
                  <a:lnTo>
                    <a:pt x="355" y="298"/>
                  </a:lnTo>
                  <a:lnTo>
                    <a:pt x="362" y="242"/>
                  </a:lnTo>
                  <a:lnTo>
                    <a:pt x="367" y="191"/>
                  </a:lnTo>
                  <a:lnTo>
                    <a:pt x="362" y="135"/>
                  </a:lnTo>
                  <a:lnTo>
                    <a:pt x="350" y="90"/>
                  </a:lnTo>
                  <a:lnTo>
                    <a:pt x="327" y="45"/>
                  </a:lnTo>
                  <a:lnTo>
                    <a:pt x="297" y="17"/>
                  </a:lnTo>
                  <a:lnTo>
                    <a:pt x="263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5094000" y="4834440"/>
              <a:ext cx="50400" cy="135360"/>
            </a:xfrm>
            <a:custGeom>
              <a:avLst/>
              <a:gdLst/>
              <a:ahLst/>
              <a:rect l="l" t="t" r="r" b="b"/>
              <a:pathLst>
                <a:path w="232" h="579">
                  <a:moveTo>
                    <a:pt x="122" y="0"/>
                  </a:moveTo>
                  <a:lnTo>
                    <a:pt x="140" y="34"/>
                  </a:lnTo>
                  <a:lnTo>
                    <a:pt x="168" y="113"/>
                  </a:lnTo>
                  <a:lnTo>
                    <a:pt x="197" y="209"/>
                  </a:lnTo>
                  <a:lnTo>
                    <a:pt x="227" y="321"/>
                  </a:lnTo>
                  <a:lnTo>
                    <a:pt x="232" y="422"/>
                  </a:lnTo>
                  <a:lnTo>
                    <a:pt x="227" y="511"/>
                  </a:lnTo>
                  <a:lnTo>
                    <a:pt x="186" y="568"/>
                  </a:lnTo>
                  <a:lnTo>
                    <a:pt x="110" y="579"/>
                  </a:lnTo>
                  <a:lnTo>
                    <a:pt x="52" y="557"/>
                  </a:lnTo>
                  <a:lnTo>
                    <a:pt x="17" y="523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6" y="388"/>
                  </a:lnTo>
                  <a:lnTo>
                    <a:pt x="23" y="337"/>
                  </a:lnTo>
                  <a:lnTo>
                    <a:pt x="34" y="287"/>
                  </a:lnTo>
                  <a:lnTo>
                    <a:pt x="46" y="248"/>
                  </a:lnTo>
                  <a:lnTo>
                    <a:pt x="34" y="197"/>
                  </a:lnTo>
                  <a:lnTo>
                    <a:pt x="23" y="146"/>
                  </a:lnTo>
                  <a:lnTo>
                    <a:pt x="17" y="90"/>
                  </a:lnTo>
                  <a:lnTo>
                    <a:pt x="46" y="40"/>
                  </a:lnTo>
                  <a:lnTo>
                    <a:pt x="52" y="28"/>
                  </a:lnTo>
                  <a:lnTo>
                    <a:pt x="82" y="17"/>
                  </a:lnTo>
                  <a:lnTo>
                    <a:pt x="105" y="6"/>
                  </a:lnTo>
                  <a:lnTo>
                    <a:pt x="12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4899960" y="4840560"/>
              <a:ext cx="192240" cy="119520"/>
            </a:xfrm>
            <a:custGeom>
              <a:avLst/>
              <a:gdLst/>
              <a:ahLst/>
              <a:rect l="l" t="t" r="r" b="b"/>
              <a:pathLst>
                <a:path w="895" h="517">
                  <a:moveTo>
                    <a:pt x="773" y="5"/>
                  </a:moveTo>
                  <a:lnTo>
                    <a:pt x="826" y="0"/>
                  </a:lnTo>
                  <a:lnTo>
                    <a:pt x="866" y="22"/>
                  </a:lnTo>
                  <a:lnTo>
                    <a:pt x="889" y="56"/>
                  </a:lnTo>
                  <a:lnTo>
                    <a:pt x="895" y="101"/>
                  </a:lnTo>
                  <a:lnTo>
                    <a:pt x="889" y="140"/>
                  </a:lnTo>
                  <a:lnTo>
                    <a:pt x="884" y="179"/>
                  </a:lnTo>
                  <a:lnTo>
                    <a:pt x="872" y="203"/>
                  </a:lnTo>
                  <a:lnTo>
                    <a:pt x="877" y="213"/>
                  </a:lnTo>
                  <a:lnTo>
                    <a:pt x="877" y="242"/>
                  </a:lnTo>
                  <a:lnTo>
                    <a:pt x="884" y="275"/>
                  </a:lnTo>
                  <a:lnTo>
                    <a:pt x="884" y="314"/>
                  </a:lnTo>
                  <a:lnTo>
                    <a:pt x="884" y="360"/>
                  </a:lnTo>
                  <a:lnTo>
                    <a:pt x="877" y="399"/>
                  </a:lnTo>
                  <a:lnTo>
                    <a:pt x="877" y="438"/>
                  </a:lnTo>
                  <a:lnTo>
                    <a:pt x="872" y="478"/>
                  </a:lnTo>
                  <a:lnTo>
                    <a:pt x="866" y="517"/>
                  </a:lnTo>
                  <a:lnTo>
                    <a:pt x="819" y="512"/>
                  </a:lnTo>
                  <a:lnTo>
                    <a:pt x="778" y="512"/>
                  </a:lnTo>
                  <a:lnTo>
                    <a:pt x="732" y="505"/>
                  </a:lnTo>
                  <a:lnTo>
                    <a:pt x="692" y="505"/>
                  </a:lnTo>
                  <a:lnTo>
                    <a:pt x="680" y="455"/>
                  </a:lnTo>
                  <a:lnTo>
                    <a:pt x="646" y="455"/>
                  </a:lnTo>
                  <a:lnTo>
                    <a:pt x="610" y="478"/>
                  </a:lnTo>
                  <a:lnTo>
                    <a:pt x="575" y="500"/>
                  </a:lnTo>
                  <a:lnTo>
                    <a:pt x="547" y="517"/>
                  </a:lnTo>
                  <a:lnTo>
                    <a:pt x="489" y="512"/>
                  </a:lnTo>
                  <a:lnTo>
                    <a:pt x="453" y="495"/>
                  </a:lnTo>
                  <a:lnTo>
                    <a:pt x="418" y="472"/>
                  </a:lnTo>
                  <a:lnTo>
                    <a:pt x="395" y="466"/>
                  </a:lnTo>
                  <a:lnTo>
                    <a:pt x="349" y="455"/>
                  </a:lnTo>
                  <a:lnTo>
                    <a:pt x="302" y="455"/>
                  </a:lnTo>
                  <a:lnTo>
                    <a:pt x="256" y="455"/>
                  </a:lnTo>
                  <a:lnTo>
                    <a:pt x="210" y="461"/>
                  </a:lnTo>
                  <a:lnTo>
                    <a:pt x="157" y="455"/>
                  </a:lnTo>
                  <a:lnTo>
                    <a:pt x="111" y="455"/>
                  </a:lnTo>
                  <a:lnTo>
                    <a:pt x="64" y="455"/>
                  </a:lnTo>
                  <a:lnTo>
                    <a:pt x="23" y="455"/>
                  </a:lnTo>
                  <a:lnTo>
                    <a:pt x="5" y="387"/>
                  </a:lnTo>
                  <a:lnTo>
                    <a:pt x="0" y="321"/>
                  </a:lnTo>
                  <a:lnTo>
                    <a:pt x="0" y="247"/>
                  </a:lnTo>
                  <a:lnTo>
                    <a:pt x="17" y="191"/>
                  </a:lnTo>
                  <a:lnTo>
                    <a:pt x="35" y="140"/>
                  </a:lnTo>
                  <a:lnTo>
                    <a:pt x="70" y="118"/>
                  </a:lnTo>
                  <a:lnTo>
                    <a:pt x="116" y="118"/>
                  </a:lnTo>
                  <a:lnTo>
                    <a:pt x="185" y="157"/>
                  </a:lnTo>
                  <a:lnTo>
                    <a:pt x="210" y="112"/>
                  </a:lnTo>
                  <a:lnTo>
                    <a:pt x="238" y="84"/>
                  </a:lnTo>
                  <a:lnTo>
                    <a:pt x="268" y="61"/>
                  </a:lnTo>
                  <a:lnTo>
                    <a:pt x="296" y="56"/>
                  </a:lnTo>
                  <a:lnTo>
                    <a:pt x="319" y="56"/>
                  </a:lnTo>
                  <a:lnTo>
                    <a:pt x="342" y="73"/>
                  </a:lnTo>
                  <a:lnTo>
                    <a:pt x="367" y="107"/>
                  </a:lnTo>
                  <a:lnTo>
                    <a:pt x="395" y="157"/>
                  </a:lnTo>
                  <a:lnTo>
                    <a:pt x="441" y="112"/>
                  </a:lnTo>
                  <a:lnTo>
                    <a:pt x="489" y="84"/>
                  </a:lnTo>
                  <a:lnTo>
                    <a:pt x="523" y="61"/>
                  </a:lnTo>
                  <a:lnTo>
                    <a:pt x="564" y="61"/>
                  </a:lnTo>
                  <a:lnTo>
                    <a:pt x="593" y="67"/>
                  </a:lnTo>
                  <a:lnTo>
                    <a:pt x="628" y="9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5034600" y="4841640"/>
              <a:ext cx="30960" cy="50400"/>
            </a:xfrm>
            <a:custGeom>
              <a:avLst/>
              <a:gdLst/>
              <a:ahLst/>
              <a:rect l="l" t="t" r="r" b="b"/>
              <a:pathLst>
                <a:path w="145" h="220">
                  <a:moveTo>
                    <a:pt x="0" y="90"/>
                  </a:moveTo>
                  <a:lnTo>
                    <a:pt x="23" y="141"/>
                  </a:lnTo>
                  <a:lnTo>
                    <a:pt x="52" y="220"/>
                  </a:lnTo>
                  <a:lnTo>
                    <a:pt x="52" y="169"/>
                  </a:lnTo>
                  <a:lnTo>
                    <a:pt x="64" y="124"/>
                  </a:lnTo>
                  <a:lnTo>
                    <a:pt x="76" y="79"/>
                  </a:lnTo>
                  <a:lnTo>
                    <a:pt x="92" y="51"/>
                  </a:lnTo>
                  <a:lnTo>
                    <a:pt x="110" y="17"/>
                  </a:lnTo>
                  <a:lnTo>
                    <a:pt x="14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5113440" y="4852800"/>
              <a:ext cx="12600" cy="2232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" y="0"/>
                  </a:moveTo>
                  <a:lnTo>
                    <a:pt x="0" y="39"/>
                  </a:lnTo>
                  <a:lnTo>
                    <a:pt x="0" y="67"/>
                  </a:lnTo>
                  <a:lnTo>
                    <a:pt x="5" y="84"/>
                  </a:lnTo>
                  <a:lnTo>
                    <a:pt x="12" y="96"/>
                  </a:lnTo>
                  <a:lnTo>
                    <a:pt x="17" y="90"/>
                  </a:lnTo>
                  <a:lnTo>
                    <a:pt x="29" y="90"/>
                  </a:lnTo>
                  <a:lnTo>
                    <a:pt x="58" y="84"/>
                  </a:lnTo>
                  <a:lnTo>
                    <a:pt x="47" y="51"/>
                  </a:lnTo>
                  <a:lnTo>
                    <a:pt x="17" y="1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5324040" y="4852800"/>
              <a:ext cx="34560" cy="30960"/>
            </a:xfrm>
            <a:custGeom>
              <a:avLst/>
              <a:gdLst/>
              <a:ahLst/>
              <a:rect l="l" t="t" r="r" b="b"/>
              <a:pathLst>
                <a:path w="163" h="130">
                  <a:moveTo>
                    <a:pt x="146" y="0"/>
                  </a:moveTo>
                  <a:lnTo>
                    <a:pt x="128" y="5"/>
                  </a:lnTo>
                  <a:lnTo>
                    <a:pt x="99" y="22"/>
                  </a:lnTo>
                  <a:lnTo>
                    <a:pt x="65" y="39"/>
                  </a:lnTo>
                  <a:lnTo>
                    <a:pt x="35" y="62"/>
                  </a:lnTo>
                  <a:lnTo>
                    <a:pt x="6" y="79"/>
                  </a:lnTo>
                  <a:lnTo>
                    <a:pt x="0" y="101"/>
                  </a:lnTo>
                  <a:lnTo>
                    <a:pt x="12" y="118"/>
                  </a:lnTo>
                  <a:lnTo>
                    <a:pt x="52" y="130"/>
                  </a:lnTo>
                  <a:lnTo>
                    <a:pt x="99" y="123"/>
                  </a:lnTo>
                  <a:lnTo>
                    <a:pt x="134" y="118"/>
                  </a:lnTo>
                  <a:lnTo>
                    <a:pt x="151" y="101"/>
                  </a:lnTo>
                  <a:lnTo>
                    <a:pt x="163" y="84"/>
                  </a:lnTo>
                  <a:lnTo>
                    <a:pt x="157" y="39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7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5985720" y="4852800"/>
              <a:ext cx="95400" cy="156600"/>
            </a:xfrm>
            <a:custGeom>
              <a:avLst/>
              <a:gdLst/>
              <a:ahLst/>
              <a:rect l="l" t="t" r="r" b="b"/>
              <a:pathLst>
                <a:path w="442" h="669">
                  <a:moveTo>
                    <a:pt x="349" y="0"/>
                  </a:moveTo>
                  <a:lnTo>
                    <a:pt x="332" y="22"/>
                  </a:lnTo>
                  <a:lnTo>
                    <a:pt x="326" y="51"/>
                  </a:lnTo>
                  <a:lnTo>
                    <a:pt x="302" y="73"/>
                  </a:lnTo>
                  <a:lnTo>
                    <a:pt x="279" y="90"/>
                  </a:lnTo>
                  <a:lnTo>
                    <a:pt x="238" y="106"/>
                  </a:lnTo>
                  <a:lnTo>
                    <a:pt x="198" y="123"/>
                  </a:lnTo>
                  <a:lnTo>
                    <a:pt x="152" y="140"/>
                  </a:lnTo>
                  <a:lnTo>
                    <a:pt x="122" y="169"/>
                  </a:lnTo>
                  <a:lnTo>
                    <a:pt x="88" y="202"/>
                  </a:lnTo>
                  <a:lnTo>
                    <a:pt x="70" y="258"/>
                  </a:lnTo>
                  <a:lnTo>
                    <a:pt x="47" y="314"/>
                  </a:lnTo>
                  <a:lnTo>
                    <a:pt x="35" y="382"/>
                  </a:lnTo>
                  <a:lnTo>
                    <a:pt x="18" y="444"/>
                  </a:lnTo>
                  <a:lnTo>
                    <a:pt x="12" y="512"/>
                  </a:lnTo>
                  <a:lnTo>
                    <a:pt x="0" y="579"/>
                  </a:lnTo>
                  <a:lnTo>
                    <a:pt x="0" y="647"/>
                  </a:lnTo>
                  <a:lnTo>
                    <a:pt x="23" y="647"/>
                  </a:lnTo>
                  <a:lnTo>
                    <a:pt x="53" y="658"/>
                  </a:lnTo>
                  <a:lnTo>
                    <a:pt x="81" y="663"/>
                  </a:lnTo>
                  <a:lnTo>
                    <a:pt x="111" y="669"/>
                  </a:lnTo>
                  <a:lnTo>
                    <a:pt x="117" y="624"/>
                  </a:lnTo>
                  <a:lnTo>
                    <a:pt x="134" y="579"/>
                  </a:lnTo>
                  <a:lnTo>
                    <a:pt x="146" y="528"/>
                  </a:lnTo>
                  <a:lnTo>
                    <a:pt x="175" y="489"/>
                  </a:lnTo>
                  <a:lnTo>
                    <a:pt x="198" y="456"/>
                  </a:lnTo>
                  <a:lnTo>
                    <a:pt x="245" y="422"/>
                  </a:lnTo>
                  <a:lnTo>
                    <a:pt x="291" y="388"/>
                  </a:lnTo>
                  <a:lnTo>
                    <a:pt x="337" y="360"/>
                  </a:lnTo>
                  <a:lnTo>
                    <a:pt x="378" y="314"/>
                  </a:lnTo>
                  <a:lnTo>
                    <a:pt x="413" y="275"/>
                  </a:lnTo>
                  <a:lnTo>
                    <a:pt x="436" y="225"/>
                  </a:lnTo>
                  <a:lnTo>
                    <a:pt x="442" y="180"/>
                  </a:lnTo>
                  <a:lnTo>
                    <a:pt x="425" y="147"/>
                  </a:lnTo>
                  <a:lnTo>
                    <a:pt x="395" y="101"/>
                  </a:lnTo>
                  <a:lnTo>
                    <a:pt x="360" y="51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d9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5060160" y="4854240"/>
              <a:ext cx="19080" cy="17280"/>
            </a:xfrm>
            <a:custGeom>
              <a:avLst/>
              <a:gdLst/>
              <a:ahLst/>
              <a:rect l="l" t="t" r="r" b="b"/>
              <a:pathLst>
                <a:path w="93" h="74">
                  <a:moveTo>
                    <a:pt x="41" y="6"/>
                  </a:moveTo>
                  <a:lnTo>
                    <a:pt x="11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7" y="46"/>
                  </a:lnTo>
                  <a:lnTo>
                    <a:pt x="46" y="62"/>
                  </a:lnTo>
                  <a:lnTo>
                    <a:pt x="64" y="74"/>
                  </a:lnTo>
                  <a:lnTo>
                    <a:pt x="82" y="46"/>
                  </a:lnTo>
                  <a:lnTo>
                    <a:pt x="93" y="23"/>
                  </a:lnTo>
                  <a:lnTo>
                    <a:pt x="87" y="6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5513760" y="4855320"/>
              <a:ext cx="34560" cy="41760"/>
            </a:xfrm>
            <a:custGeom>
              <a:avLst/>
              <a:gdLst/>
              <a:ahLst/>
              <a:rect l="l" t="t" r="r" b="b"/>
              <a:pathLst>
                <a:path w="162" h="180">
                  <a:moveTo>
                    <a:pt x="145" y="0"/>
                  </a:moveTo>
                  <a:lnTo>
                    <a:pt x="104" y="17"/>
                  </a:lnTo>
                  <a:lnTo>
                    <a:pt x="69" y="34"/>
                  </a:lnTo>
                  <a:lnTo>
                    <a:pt x="40" y="51"/>
                  </a:lnTo>
                  <a:lnTo>
                    <a:pt x="17" y="68"/>
                  </a:lnTo>
                  <a:lnTo>
                    <a:pt x="0" y="85"/>
                  </a:lnTo>
                  <a:lnTo>
                    <a:pt x="5" y="107"/>
                  </a:lnTo>
                  <a:lnTo>
                    <a:pt x="23" y="124"/>
                  </a:lnTo>
                  <a:lnTo>
                    <a:pt x="63" y="158"/>
                  </a:lnTo>
                  <a:lnTo>
                    <a:pt x="104" y="175"/>
                  </a:lnTo>
                  <a:lnTo>
                    <a:pt x="134" y="180"/>
                  </a:lnTo>
                  <a:lnTo>
                    <a:pt x="150" y="169"/>
                  </a:lnTo>
                  <a:lnTo>
                    <a:pt x="162" y="152"/>
                  </a:lnTo>
                  <a:lnTo>
                    <a:pt x="157" y="119"/>
                  </a:lnTo>
                  <a:lnTo>
                    <a:pt x="157" y="85"/>
                  </a:lnTo>
                  <a:lnTo>
                    <a:pt x="150" y="4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5394960" y="4860360"/>
              <a:ext cx="45360" cy="32040"/>
            </a:xfrm>
            <a:custGeom>
              <a:avLst/>
              <a:gdLst/>
              <a:ahLst/>
              <a:rect l="l" t="t" r="r" b="b"/>
              <a:pathLst>
                <a:path w="210" h="141">
                  <a:moveTo>
                    <a:pt x="111" y="0"/>
                  </a:moveTo>
                  <a:lnTo>
                    <a:pt x="82" y="17"/>
                  </a:lnTo>
                  <a:lnTo>
                    <a:pt x="53" y="45"/>
                  </a:lnTo>
                  <a:lnTo>
                    <a:pt x="23" y="73"/>
                  </a:lnTo>
                  <a:lnTo>
                    <a:pt x="12" y="107"/>
                  </a:lnTo>
                  <a:lnTo>
                    <a:pt x="0" y="124"/>
                  </a:lnTo>
                  <a:lnTo>
                    <a:pt x="12" y="141"/>
                  </a:lnTo>
                  <a:lnTo>
                    <a:pt x="35" y="141"/>
                  </a:lnTo>
                  <a:lnTo>
                    <a:pt x="94" y="129"/>
                  </a:lnTo>
                  <a:lnTo>
                    <a:pt x="140" y="102"/>
                  </a:lnTo>
                  <a:lnTo>
                    <a:pt x="175" y="85"/>
                  </a:lnTo>
                  <a:lnTo>
                    <a:pt x="198" y="68"/>
                  </a:lnTo>
                  <a:lnTo>
                    <a:pt x="210" y="56"/>
                  </a:lnTo>
                  <a:lnTo>
                    <a:pt x="203" y="39"/>
                  </a:lnTo>
                  <a:lnTo>
                    <a:pt x="186" y="28"/>
                  </a:lnTo>
                  <a:lnTo>
                    <a:pt x="152" y="11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b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5784120" y="4865400"/>
              <a:ext cx="73440" cy="144000"/>
            </a:xfrm>
            <a:custGeom>
              <a:avLst/>
              <a:gdLst/>
              <a:ahLst/>
              <a:rect l="l" t="t" r="r" b="b"/>
              <a:pathLst>
                <a:path w="337" h="613">
                  <a:moveTo>
                    <a:pt x="203" y="6"/>
                  </a:moveTo>
                  <a:lnTo>
                    <a:pt x="134" y="34"/>
                  </a:lnTo>
                  <a:lnTo>
                    <a:pt x="86" y="91"/>
                  </a:lnTo>
                  <a:lnTo>
                    <a:pt x="46" y="158"/>
                  </a:lnTo>
                  <a:lnTo>
                    <a:pt x="29" y="241"/>
                  </a:lnTo>
                  <a:lnTo>
                    <a:pt x="5" y="326"/>
                  </a:lnTo>
                  <a:lnTo>
                    <a:pt x="5" y="427"/>
                  </a:lnTo>
                  <a:lnTo>
                    <a:pt x="0" y="518"/>
                  </a:lnTo>
                  <a:lnTo>
                    <a:pt x="17" y="613"/>
                  </a:lnTo>
                  <a:lnTo>
                    <a:pt x="52" y="613"/>
                  </a:lnTo>
                  <a:lnTo>
                    <a:pt x="93" y="607"/>
                  </a:lnTo>
                  <a:lnTo>
                    <a:pt x="122" y="602"/>
                  </a:lnTo>
                  <a:lnTo>
                    <a:pt x="151" y="602"/>
                  </a:lnTo>
                  <a:lnTo>
                    <a:pt x="192" y="591"/>
                  </a:lnTo>
                  <a:lnTo>
                    <a:pt x="192" y="506"/>
                  </a:lnTo>
                  <a:lnTo>
                    <a:pt x="203" y="439"/>
                  </a:lnTo>
                  <a:lnTo>
                    <a:pt x="220" y="371"/>
                  </a:lnTo>
                  <a:lnTo>
                    <a:pt x="238" y="304"/>
                  </a:lnTo>
                  <a:lnTo>
                    <a:pt x="255" y="236"/>
                  </a:lnTo>
                  <a:lnTo>
                    <a:pt x="279" y="180"/>
                  </a:lnTo>
                  <a:lnTo>
                    <a:pt x="302" y="113"/>
                  </a:lnTo>
                  <a:lnTo>
                    <a:pt x="337" y="57"/>
                  </a:lnTo>
                  <a:lnTo>
                    <a:pt x="308" y="34"/>
                  </a:lnTo>
                  <a:lnTo>
                    <a:pt x="279" y="11"/>
                  </a:lnTo>
                  <a:lnTo>
                    <a:pt x="238" y="0"/>
                  </a:lnTo>
                  <a:lnTo>
                    <a:pt x="203" y="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4946400" y="4871520"/>
              <a:ext cx="27000" cy="64800"/>
            </a:xfrm>
            <a:custGeom>
              <a:avLst/>
              <a:gdLst/>
              <a:ahLst/>
              <a:rect l="l" t="t" r="r" b="b"/>
              <a:pathLst>
                <a:path w="121" h="281">
                  <a:moveTo>
                    <a:pt x="58" y="0"/>
                  </a:moveTo>
                  <a:lnTo>
                    <a:pt x="29" y="39"/>
                  </a:lnTo>
                  <a:lnTo>
                    <a:pt x="12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79"/>
                  </a:lnTo>
                  <a:lnTo>
                    <a:pt x="12" y="213"/>
                  </a:lnTo>
                  <a:lnTo>
                    <a:pt x="23" y="247"/>
                  </a:lnTo>
                  <a:lnTo>
                    <a:pt x="47" y="281"/>
                  </a:lnTo>
                  <a:lnTo>
                    <a:pt x="40" y="281"/>
                  </a:lnTo>
                  <a:lnTo>
                    <a:pt x="58" y="281"/>
                  </a:lnTo>
                  <a:lnTo>
                    <a:pt x="75" y="281"/>
                  </a:lnTo>
                  <a:lnTo>
                    <a:pt x="98" y="281"/>
                  </a:lnTo>
                  <a:lnTo>
                    <a:pt x="98" y="247"/>
                  </a:lnTo>
                  <a:lnTo>
                    <a:pt x="111" y="218"/>
                  </a:lnTo>
                  <a:lnTo>
                    <a:pt x="111" y="186"/>
                  </a:lnTo>
                  <a:lnTo>
                    <a:pt x="121" y="157"/>
                  </a:lnTo>
                  <a:lnTo>
                    <a:pt x="121" y="118"/>
                  </a:lnTo>
                  <a:lnTo>
                    <a:pt x="121" y="84"/>
                  </a:lnTo>
                  <a:lnTo>
                    <a:pt x="116" y="51"/>
                  </a:lnTo>
                  <a:lnTo>
                    <a:pt x="111" y="22"/>
                  </a:lnTo>
                  <a:lnTo>
                    <a:pt x="81" y="1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bf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4994280" y="4871520"/>
              <a:ext cx="34560" cy="74880"/>
            </a:xfrm>
            <a:custGeom>
              <a:avLst/>
              <a:gdLst/>
              <a:ahLst/>
              <a:rect l="l" t="t" r="r" b="b"/>
              <a:pathLst>
                <a:path w="164" h="320">
                  <a:moveTo>
                    <a:pt x="106" y="0"/>
                  </a:moveTo>
                  <a:lnTo>
                    <a:pt x="59" y="34"/>
                  </a:lnTo>
                  <a:lnTo>
                    <a:pt x="30" y="68"/>
                  </a:lnTo>
                  <a:lnTo>
                    <a:pt x="12" y="101"/>
                  </a:lnTo>
                  <a:lnTo>
                    <a:pt x="7" y="140"/>
                  </a:lnTo>
                  <a:lnTo>
                    <a:pt x="0" y="174"/>
                  </a:lnTo>
                  <a:lnTo>
                    <a:pt x="12" y="218"/>
                  </a:lnTo>
                  <a:lnTo>
                    <a:pt x="24" y="264"/>
                  </a:lnTo>
                  <a:lnTo>
                    <a:pt x="53" y="320"/>
                  </a:lnTo>
                  <a:lnTo>
                    <a:pt x="106" y="292"/>
                  </a:lnTo>
                  <a:lnTo>
                    <a:pt x="146" y="258"/>
                  </a:lnTo>
                  <a:lnTo>
                    <a:pt x="157" y="218"/>
                  </a:lnTo>
                  <a:lnTo>
                    <a:pt x="164" y="179"/>
                  </a:lnTo>
                  <a:lnTo>
                    <a:pt x="146" y="129"/>
                  </a:lnTo>
                  <a:lnTo>
                    <a:pt x="134" y="84"/>
                  </a:lnTo>
                  <a:lnTo>
                    <a:pt x="117" y="3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4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7699320" y="4876200"/>
              <a:ext cx="435240" cy="766440"/>
            </a:xfrm>
            <a:custGeom>
              <a:avLst/>
              <a:gdLst/>
              <a:ahLst/>
              <a:rect l="l" t="t" r="r" b="b"/>
              <a:pathLst>
                <a:path w="2023" h="3289">
                  <a:moveTo>
                    <a:pt x="1262" y="0"/>
                  </a:moveTo>
                  <a:lnTo>
                    <a:pt x="1262" y="17"/>
                  </a:lnTo>
                  <a:lnTo>
                    <a:pt x="1267" y="56"/>
                  </a:lnTo>
                  <a:lnTo>
                    <a:pt x="1273" y="96"/>
                  </a:lnTo>
                  <a:lnTo>
                    <a:pt x="1278" y="118"/>
                  </a:lnTo>
                  <a:lnTo>
                    <a:pt x="1227" y="164"/>
                  </a:lnTo>
                  <a:lnTo>
                    <a:pt x="1179" y="225"/>
                  </a:lnTo>
                  <a:lnTo>
                    <a:pt x="1133" y="281"/>
                  </a:lnTo>
                  <a:lnTo>
                    <a:pt x="1093" y="331"/>
                  </a:lnTo>
                  <a:lnTo>
                    <a:pt x="1047" y="360"/>
                  </a:lnTo>
                  <a:lnTo>
                    <a:pt x="999" y="372"/>
                  </a:lnTo>
                  <a:lnTo>
                    <a:pt x="941" y="348"/>
                  </a:lnTo>
                  <a:lnTo>
                    <a:pt x="890" y="287"/>
                  </a:lnTo>
                  <a:lnTo>
                    <a:pt x="849" y="230"/>
                  </a:lnTo>
                  <a:lnTo>
                    <a:pt x="814" y="181"/>
                  </a:lnTo>
                  <a:lnTo>
                    <a:pt x="796" y="147"/>
                  </a:lnTo>
                  <a:lnTo>
                    <a:pt x="779" y="118"/>
                  </a:lnTo>
                  <a:lnTo>
                    <a:pt x="768" y="85"/>
                  </a:lnTo>
                  <a:lnTo>
                    <a:pt x="761" y="56"/>
                  </a:lnTo>
                  <a:lnTo>
                    <a:pt x="686" y="90"/>
                  </a:lnTo>
                  <a:lnTo>
                    <a:pt x="599" y="141"/>
                  </a:lnTo>
                  <a:lnTo>
                    <a:pt x="505" y="191"/>
                  </a:lnTo>
                  <a:lnTo>
                    <a:pt x="419" y="253"/>
                  </a:lnTo>
                  <a:lnTo>
                    <a:pt x="325" y="315"/>
                  </a:lnTo>
                  <a:lnTo>
                    <a:pt x="251" y="377"/>
                  </a:lnTo>
                  <a:lnTo>
                    <a:pt x="186" y="439"/>
                  </a:lnTo>
                  <a:lnTo>
                    <a:pt x="145" y="507"/>
                  </a:lnTo>
                  <a:lnTo>
                    <a:pt x="111" y="574"/>
                  </a:lnTo>
                  <a:lnTo>
                    <a:pt x="87" y="675"/>
                  </a:lnTo>
                  <a:lnTo>
                    <a:pt x="71" y="799"/>
                  </a:lnTo>
                  <a:lnTo>
                    <a:pt x="53" y="939"/>
                  </a:lnTo>
                  <a:lnTo>
                    <a:pt x="35" y="1074"/>
                  </a:lnTo>
                  <a:lnTo>
                    <a:pt x="23" y="1209"/>
                  </a:lnTo>
                  <a:lnTo>
                    <a:pt x="12" y="1327"/>
                  </a:lnTo>
                  <a:lnTo>
                    <a:pt x="12" y="1429"/>
                  </a:lnTo>
                  <a:lnTo>
                    <a:pt x="0" y="1564"/>
                  </a:lnTo>
                  <a:lnTo>
                    <a:pt x="0" y="1682"/>
                  </a:lnTo>
                  <a:lnTo>
                    <a:pt x="6" y="1783"/>
                  </a:lnTo>
                  <a:lnTo>
                    <a:pt x="29" y="1890"/>
                  </a:lnTo>
                  <a:lnTo>
                    <a:pt x="53" y="1979"/>
                  </a:lnTo>
                  <a:lnTo>
                    <a:pt x="94" y="2075"/>
                  </a:lnTo>
                  <a:lnTo>
                    <a:pt x="140" y="2170"/>
                  </a:lnTo>
                  <a:lnTo>
                    <a:pt x="198" y="2283"/>
                  </a:lnTo>
                  <a:lnTo>
                    <a:pt x="226" y="2339"/>
                  </a:lnTo>
                  <a:lnTo>
                    <a:pt x="256" y="2401"/>
                  </a:lnTo>
                  <a:lnTo>
                    <a:pt x="285" y="2457"/>
                  </a:lnTo>
                  <a:lnTo>
                    <a:pt x="320" y="2513"/>
                  </a:lnTo>
                  <a:lnTo>
                    <a:pt x="343" y="2457"/>
                  </a:lnTo>
                  <a:lnTo>
                    <a:pt x="372" y="2406"/>
                  </a:lnTo>
                  <a:lnTo>
                    <a:pt x="408" y="2356"/>
                  </a:lnTo>
                  <a:lnTo>
                    <a:pt x="442" y="2305"/>
                  </a:lnTo>
                  <a:lnTo>
                    <a:pt x="477" y="2255"/>
                  </a:lnTo>
                  <a:lnTo>
                    <a:pt x="512" y="2204"/>
                  </a:lnTo>
                  <a:lnTo>
                    <a:pt x="553" y="2160"/>
                  </a:lnTo>
                  <a:lnTo>
                    <a:pt x="599" y="2126"/>
                  </a:lnTo>
                  <a:lnTo>
                    <a:pt x="564" y="2047"/>
                  </a:lnTo>
                  <a:lnTo>
                    <a:pt x="523" y="1968"/>
                  </a:lnTo>
                  <a:lnTo>
                    <a:pt x="471" y="1883"/>
                  </a:lnTo>
                  <a:lnTo>
                    <a:pt x="424" y="1800"/>
                  </a:lnTo>
                  <a:lnTo>
                    <a:pt x="372" y="1715"/>
                  </a:lnTo>
                  <a:lnTo>
                    <a:pt x="337" y="1631"/>
                  </a:lnTo>
                  <a:lnTo>
                    <a:pt x="314" y="1552"/>
                  </a:lnTo>
                  <a:lnTo>
                    <a:pt x="320" y="1484"/>
                  </a:lnTo>
                  <a:lnTo>
                    <a:pt x="320" y="1451"/>
                  </a:lnTo>
                  <a:lnTo>
                    <a:pt x="325" y="1405"/>
                  </a:lnTo>
                  <a:lnTo>
                    <a:pt x="332" y="1361"/>
                  </a:lnTo>
                  <a:lnTo>
                    <a:pt x="349" y="1327"/>
                  </a:lnTo>
                  <a:lnTo>
                    <a:pt x="366" y="1277"/>
                  </a:lnTo>
                  <a:lnTo>
                    <a:pt x="383" y="1287"/>
                  </a:lnTo>
                  <a:lnTo>
                    <a:pt x="401" y="1333"/>
                  </a:lnTo>
                  <a:lnTo>
                    <a:pt x="419" y="1412"/>
                  </a:lnTo>
                  <a:lnTo>
                    <a:pt x="431" y="1496"/>
                  </a:lnTo>
                  <a:lnTo>
                    <a:pt x="442" y="1586"/>
                  </a:lnTo>
                  <a:lnTo>
                    <a:pt x="459" y="1659"/>
                  </a:lnTo>
                  <a:lnTo>
                    <a:pt x="477" y="1715"/>
                  </a:lnTo>
                  <a:lnTo>
                    <a:pt x="500" y="1755"/>
                  </a:lnTo>
                  <a:lnTo>
                    <a:pt x="535" y="1800"/>
                  </a:lnTo>
                  <a:lnTo>
                    <a:pt x="570" y="1844"/>
                  </a:lnTo>
                  <a:lnTo>
                    <a:pt x="604" y="1895"/>
                  </a:lnTo>
                  <a:lnTo>
                    <a:pt x="634" y="1934"/>
                  </a:lnTo>
                  <a:lnTo>
                    <a:pt x="662" y="1979"/>
                  </a:lnTo>
                  <a:lnTo>
                    <a:pt x="692" y="2025"/>
                  </a:lnTo>
                  <a:lnTo>
                    <a:pt x="715" y="2075"/>
                  </a:lnTo>
                  <a:lnTo>
                    <a:pt x="715" y="2097"/>
                  </a:lnTo>
                  <a:lnTo>
                    <a:pt x="721" y="2120"/>
                  </a:lnTo>
                  <a:lnTo>
                    <a:pt x="715" y="2143"/>
                  </a:lnTo>
                  <a:lnTo>
                    <a:pt x="715" y="2153"/>
                  </a:lnTo>
                  <a:lnTo>
                    <a:pt x="715" y="2170"/>
                  </a:lnTo>
                  <a:lnTo>
                    <a:pt x="715" y="2193"/>
                  </a:lnTo>
                  <a:lnTo>
                    <a:pt x="727" y="2199"/>
                  </a:lnTo>
                  <a:lnTo>
                    <a:pt x="733" y="2216"/>
                  </a:lnTo>
                  <a:lnTo>
                    <a:pt x="750" y="2249"/>
                  </a:lnTo>
                  <a:lnTo>
                    <a:pt x="779" y="2283"/>
                  </a:lnTo>
                  <a:lnTo>
                    <a:pt x="796" y="2322"/>
                  </a:lnTo>
                  <a:lnTo>
                    <a:pt x="826" y="2361"/>
                  </a:lnTo>
                  <a:lnTo>
                    <a:pt x="842" y="2395"/>
                  </a:lnTo>
                  <a:lnTo>
                    <a:pt x="860" y="2440"/>
                  </a:lnTo>
                  <a:lnTo>
                    <a:pt x="872" y="2491"/>
                  </a:lnTo>
                  <a:lnTo>
                    <a:pt x="890" y="2541"/>
                  </a:lnTo>
                  <a:lnTo>
                    <a:pt x="890" y="2643"/>
                  </a:lnTo>
                  <a:lnTo>
                    <a:pt x="872" y="2722"/>
                  </a:lnTo>
                  <a:lnTo>
                    <a:pt x="837" y="2778"/>
                  </a:lnTo>
                  <a:lnTo>
                    <a:pt x="785" y="2817"/>
                  </a:lnTo>
                  <a:lnTo>
                    <a:pt x="715" y="2828"/>
                  </a:lnTo>
                  <a:lnTo>
                    <a:pt x="639" y="2828"/>
                  </a:lnTo>
                  <a:lnTo>
                    <a:pt x="553" y="2817"/>
                  </a:lnTo>
                  <a:lnTo>
                    <a:pt x="465" y="2795"/>
                  </a:lnTo>
                  <a:lnTo>
                    <a:pt x="448" y="2834"/>
                  </a:lnTo>
                  <a:lnTo>
                    <a:pt x="442" y="2891"/>
                  </a:lnTo>
                  <a:lnTo>
                    <a:pt x="431" y="2947"/>
                  </a:lnTo>
                  <a:lnTo>
                    <a:pt x="431" y="3014"/>
                  </a:lnTo>
                  <a:lnTo>
                    <a:pt x="431" y="3070"/>
                  </a:lnTo>
                  <a:lnTo>
                    <a:pt x="431" y="3132"/>
                  </a:lnTo>
                  <a:lnTo>
                    <a:pt x="431" y="3183"/>
                  </a:lnTo>
                  <a:lnTo>
                    <a:pt x="436" y="3234"/>
                  </a:lnTo>
                  <a:lnTo>
                    <a:pt x="505" y="3234"/>
                  </a:lnTo>
                  <a:lnTo>
                    <a:pt x="593" y="3244"/>
                  </a:lnTo>
                  <a:lnTo>
                    <a:pt x="674" y="3256"/>
                  </a:lnTo>
                  <a:lnTo>
                    <a:pt x="761" y="3267"/>
                  </a:lnTo>
                  <a:lnTo>
                    <a:pt x="842" y="3273"/>
                  </a:lnTo>
                  <a:lnTo>
                    <a:pt x="930" y="3278"/>
                  </a:lnTo>
                  <a:lnTo>
                    <a:pt x="1017" y="3284"/>
                  </a:lnTo>
                  <a:lnTo>
                    <a:pt x="1105" y="3289"/>
                  </a:lnTo>
                  <a:lnTo>
                    <a:pt x="1156" y="3284"/>
                  </a:lnTo>
                  <a:lnTo>
                    <a:pt x="1220" y="3289"/>
                  </a:lnTo>
                  <a:lnTo>
                    <a:pt x="1273" y="3289"/>
                  </a:lnTo>
                  <a:lnTo>
                    <a:pt x="1331" y="3289"/>
                  </a:lnTo>
                  <a:lnTo>
                    <a:pt x="1366" y="3273"/>
                  </a:lnTo>
                  <a:lnTo>
                    <a:pt x="1442" y="3239"/>
                  </a:lnTo>
                  <a:lnTo>
                    <a:pt x="1541" y="3188"/>
                  </a:lnTo>
                  <a:lnTo>
                    <a:pt x="1656" y="3143"/>
                  </a:lnTo>
                  <a:lnTo>
                    <a:pt x="1767" y="3087"/>
                  </a:lnTo>
                  <a:lnTo>
                    <a:pt x="1860" y="3048"/>
                  </a:lnTo>
                  <a:lnTo>
                    <a:pt x="1929" y="3014"/>
                  </a:lnTo>
                  <a:lnTo>
                    <a:pt x="1959" y="3003"/>
                  </a:lnTo>
                  <a:lnTo>
                    <a:pt x="1970" y="2935"/>
                  </a:lnTo>
                  <a:lnTo>
                    <a:pt x="1977" y="2862"/>
                  </a:lnTo>
                  <a:lnTo>
                    <a:pt x="1965" y="2783"/>
                  </a:lnTo>
                  <a:lnTo>
                    <a:pt x="1959" y="2710"/>
                  </a:lnTo>
                  <a:lnTo>
                    <a:pt x="1941" y="2637"/>
                  </a:lnTo>
                  <a:lnTo>
                    <a:pt x="1924" y="2570"/>
                  </a:lnTo>
                  <a:lnTo>
                    <a:pt x="1906" y="2513"/>
                  </a:lnTo>
                  <a:lnTo>
                    <a:pt x="1901" y="2474"/>
                  </a:lnTo>
                  <a:lnTo>
                    <a:pt x="1894" y="2502"/>
                  </a:lnTo>
                  <a:lnTo>
                    <a:pt x="1894" y="2536"/>
                  </a:lnTo>
                  <a:lnTo>
                    <a:pt x="1889" y="2564"/>
                  </a:lnTo>
                  <a:lnTo>
                    <a:pt x="1889" y="2597"/>
                  </a:lnTo>
                  <a:lnTo>
                    <a:pt x="1883" y="2626"/>
                  </a:lnTo>
                  <a:lnTo>
                    <a:pt x="1883" y="2654"/>
                  </a:lnTo>
                  <a:lnTo>
                    <a:pt x="1871" y="2688"/>
                  </a:lnTo>
                  <a:lnTo>
                    <a:pt x="1866" y="2722"/>
                  </a:lnTo>
                  <a:lnTo>
                    <a:pt x="1843" y="2749"/>
                  </a:lnTo>
                  <a:lnTo>
                    <a:pt x="1825" y="2773"/>
                  </a:lnTo>
                  <a:lnTo>
                    <a:pt x="1808" y="2778"/>
                  </a:lnTo>
                  <a:lnTo>
                    <a:pt x="1790" y="2783"/>
                  </a:lnTo>
                  <a:lnTo>
                    <a:pt x="1761" y="2778"/>
                  </a:lnTo>
                  <a:lnTo>
                    <a:pt x="1738" y="2778"/>
                  </a:lnTo>
                  <a:lnTo>
                    <a:pt x="1709" y="2778"/>
                  </a:lnTo>
                  <a:lnTo>
                    <a:pt x="1680" y="2783"/>
                  </a:lnTo>
                  <a:lnTo>
                    <a:pt x="1622" y="2795"/>
                  </a:lnTo>
                  <a:lnTo>
                    <a:pt x="1569" y="2817"/>
                  </a:lnTo>
                  <a:lnTo>
                    <a:pt x="1506" y="2840"/>
                  </a:lnTo>
                  <a:lnTo>
                    <a:pt x="1453" y="2857"/>
                  </a:lnTo>
                  <a:lnTo>
                    <a:pt x="1395" y="2857"/>
                  </a:lnTo>
                  <a:lnTo>
                    <a:pt x="1349" y="2840"/>
                  </a:lnTo>
                  <a:lnTo>
                    <a:pt x="1302" y="2795"/>
                  </a:lnTo>
                  <a:lnTo>
                    <a:pt x="1278" y="2722"/>
                  </a:lnTo>
                  <a:lnTo>
                    <a:pt x="1267" y="2665"/>
                  </a:lnTo>
                  <a:lnTo>
                    <a:pt x="1267" y="2614"/>
                  </a:lnTo>
                  <a:lnTo>
                    <a:pt x="1267" y="2564"/>
                  </a:lnTo>
                  <a:lnTo>
                    <a:pt x="1278" y="2513"/>
                  </a:lnTo>
                  <a:lnTo>
                    <a:pt x="1285" y="2462"/>
                  </a:lnTo>
                  <a:lnTo>
                    <a:pt x="1302" y="2418"/>
                  </a:lnTo>
                  <a:lnTo>
                    <a:pt x="1313" y="2378"/>
                  </a:lnTo>
                  <a:lnTo>
                    <a:pt x="1331" y="2345"/>
                  </a:lnTo>
                  <a:lnTo>
                    <a:pt x="1366" y="2210"/>
                  </a:lnTo>
                  <a:lnTo>
                    <a:pt x="1412" y="2092"/>
                  </a:lnTo>
                  <a:lnTo>
                    <a:pt x="1459" y="1968"/>
                  </a:lnTo>
                  <a:lnTo>
                    <a:pt x="1500" y="1844"/>
                  </a:lnTo>
                  <a:lnTo>
                    <a:pt x="1529" y="1709"/>
                  </a:lnTo>
                  <a:lnTo>
                    <a:pt x="1546" y="1574"/>
                  </a:lnTo>
                  <a:lnTo>
                    <a:pt x="1552" y="1422"/>
                  </a:lnTo>
                  <a:lnTo>
                    <a:pt x="1541" y="1265"/>
                  </a:lnTo>
                  <a:lnTo>
                    <a:pt x="1534" y="1254"/>
                  </a:lnTo>
                  <a:lnTo>
                    <a:pt x="1534" y="1231"/>
                  </a:lnTo>
                  <a:lnTo>
                    <a:pt x="1529" y="1204"/>
                  </a:lnTo>
                  <a:lnTo>
                    <a:pt x="1529" y="1187"/>
                  </a:lnTo>
                  <a:lnTo>
                    <a:pt x="1534" y="1175"/>
                  </a:lnTo>
                  <a:lnTo>
                    <a:pt x="1552" y="1170"/>
                  </a:lnTo>
                  <a:lnTo>
                    <a:pt x="1564" y="1164"/>
                  </a:lnTo>
                  <a:lnTo>
                    <a:pt x="1569" y="1175"/>
                  </a:lnTo>
                  <a:lnTo>
                    <a:pt x="1599" y="1175"/>
                  </a:lnTo>
                  <a:lnTo>
                    <a:pt x="1599" y="1226"/>
                  </a:lnTo>
                  <a:lnTo>
                    <a:pt x="1610" y="1282"/>
                  </a:lnTo>
                  <a:lnTo>
                    <a:pt x="1622" y="1344"/>
                  </a:lnTo>
                  <a:lnTo>
                    <a:pt x="1640" y="1412"/>
                  </a:lnTo>
                  <a:lnTo>
                    <a:pt x="1645" y="1473"/>
                  </a:lnTo>
                  <a:lnTo>
                    <a:pt x="1651" y="1540"/>
                  </a:lnTo>
                  <a:lnTo>
                    <a:pt x="1651" y="1608"/>
                  </a:lnTo>
                  <a:lnTo>
                    <a:pt x="1651" y="1675"/>
                  </a:lnTo>
                  <a:lnTo>
                    <a:pt x="1633" y="1721"/>
                  </a:lnTo>
                  <a:lnTo>
                    <a:pt x="1610" y="1783"/>
                  </a:lnTo>
                  <a:lnTo>
                    <a:pt x="1581" y="1861"/>
                  </a:lnTo>
                  <a:lnTo>
                    <a:pt x="1552" y="1945"/>
                  </a:lnTo>
                  <a:lnTo>
                    <a:pt x="1517" y="2025"/>
                  </a:lnTo>
                  <a:lnTo>
                    <a:pt x="1483" y="2109"/>
                  </a:lnTo>
                  <a:lnTo>
                    <a:pt x="1453" y="2182"/>
                  </a:lnTo>
                  <a:lnTo>
                    <a:pt x="1435" y="2244"/>
                  </a:lnTo>
                  <a:lnTo>
                    <a:pt x="1483" y="2271"/>
                  </a:lnTo>
                  <a:lnTo>
                    <a:pt x="1534" y="2305"/>
                  </a:lnTo>
                  <a:lnTo>
                    <a:pt x="1581" y="2345"/>
                  </a:lnTo>
                  <a:lnTo>
                    <a:pt x="1622" y="2384"/>
                  </a:lnTo>
                  <a:lnTo>
                    <a:pt x="1640" y="2412"/>
                  </a:lnTo>
                  <a:lnTo>
                    <a:pt x="1663" y="2446"/>
                  </a:lnTo>
                  <a:lnTo>
                    <a:pt x="1680" y="2479"/>
                  </a:lnTo>
                  <a:lnTo>
                    <a:pt x="1697" y="2513"/>
                  </a:lnTo>
                  <a:lnTo>
                    <a:pt x="1709" y="2541"/>
                  </a:lnTo>
                  <a:lnTo>
                    <a:pt x="1732" y="2570"/>
                  </a:lnTo>
                  <a:lnTo>
                    <a:pt x="1755" y="2597"/>
                  </a:lnTo>
                  <a:lnTo>
                    <a:pt x="1795" y="2631"/>
                  </a:lnTo>
                  <a:lnTo>
                    <a:pt x="1820" y="2525"/>
                  </a:lnTo>
                  <a:lnTo>
                    <a:pt x="1854" y="2418"/>
                  </a:lnTo>
                  <a:lnTo>
                    <a:pt x="1889" y="2305"/>
                  </a:lnTo>
                  <a:lnTo>
                    <a:pt x="1929" y="2193"/>
                  </a:lnTo>
                  <a:lnTo>
                    <a:pt x="1959" y="2075"/>
                  </a:lnTo>
                  <a:lnTo>
                    <a:pt x="1988" y="1968"/>
                  </a:lnTo>
                  <a:lnTo>
                    <a:pt x="2005" y="1861"/>
                  </a:lnTo>
                  <a:lnTo>
                    <a:pt x="2023" y="1766"/>
                  </a:lnTo>
                  <a:lnTo>
                    <a:pt x="2017" y="1692"/>
                  </a:lnTo>
                  <a:lnTo>
                    <a:pt x="2011" y="1619"/>
                  </a:lnTo>
                  <a:lnTo>
                    <a:pt x="2000" y="1540"/>
                  </a:lnTo>
                  <a:lnTo>
                    <a:pt x="1988" y="1462"/>
                  </a:lnTo>
                  <a:lnTo>
                    <a:pt x="1970" y="1378"/>
                  </a:lnTo>
                  <a:lnTo>
                    <a:pt x="1952" y="1299"/>
                  </a:lnTo>
                  <a:lnTo>
                    <a:pt x="1936" y="1221"/>
                  </a:lnTo>
                  <a:lnTo>
                    <a:pt x="1929" y="1158"/>
                  </a:lnTo>
                  <a:lnTo>
                    <a:pt x="1912" y="1063"/>
                  </a:lnTo>
                  <a:lnTo>
                    <a:pt x="1912" y="973"/>
                  </a:lnTo>
                  <a:lnTo>
                    <a:pt x="1906" y="877"/>
                  </a:lnTo>
                  <a:lnTo>
                    <a:pt x="1906" y="787"/>
                  </a:lnTo>
                  <a:lnTo>
                    <a:pt x="1894" y="698"/>
                  </a:lnTo>
                  <a:lnTo>
                    <a:pt x="1889" y="613"/>
                  </a:lnTo>
                  <a:lnTo>
                    <a:pt x="1866" y="534"/>
                  </a:lnTo>
                  <a:lnTo>
                    <a:pt x="1837" y="466"/>
                  </a:lnTo>
                  <a:lnTo>
                    <a:pt x="1790" y="399"/>
                  </a:lnTo>
                  <a:lnTo>
                    <a:pt x="1732" y="338"/>
                  </a:lnTo>
                  <a:lnTo>
                    <a:pt x="1663" y="270"/>
                  </a:lnTo>
                  <a:lnTo>
                    <a:pt x="1581" y="208"/>
                  </a:lnTo>
                  <a:lnTo>
                    <a:pt x="1494" y="141"/>
                  </a:lnTo>
                  <a:lnTo>
                    <a:pt x="1412" y="85"/>
                  </a:lnTo>
                  <a:lnTo>
                    <a:pt x="1326" y="34"/>
                  </a:lnTo>
                  <a:lnTo>
                    <a:pt x="1262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5245200" y="4880160"/>
              <a:ext cx="47520" cy="68400"/>
            </a:xfrm>
            <a:custGeom>
              <a:avLst/>
              <a:gdLst/>
              <a:ahLst/>
              <a:rect l="l" t="t" r="r" b="b"/>
              <a:pathLst>
                <a:path w="221" h="297">
                  <a:moveTo>
                    <a:pt x="99" y="0"/>
                  </a:moveTo>
                  <a:lnTo>
                    <a:pt x="69" y="39"/>
                  </a:lnTo>
                  <a:lnTo>
                    <a:pt x="41" y="95"/>
                  </a:lnTo>
                  <a:lnTo>
                    <a:pt x="18" y="152"/>
                  </a:lnTo>
                  <a:lnTo>
                    <a:pt x="6" y="213"/>
                  </a:lnTo>
                  <a:lnTo>
                    <a:pt x="0" y="258"/>
                  </a:lnTo>
                  <a:lnTo>
                    <a:pt x="18" y="292"/>
                  </a:lnTo>
                  <a:lnTo>
                    <a:pt x="53" y="297"/>
                  </a:lnTo>
                  <a:lnTo>
                    <a:pt x="116" y="275"/>
                  </a:lnTo>
                  <a:lnTo>
                    <a:pt x="175" y="280"/>
                  </a:lnTo>
                  <a:lnTo>
                    <a:pt x="209" y="269"/>
                  </a:lnTo>
                  <a:lnTo>
                    <a:pt x="221" y="241"/>
                  </a:lnTo>
                  <a:lnTo>
                    <a:pt x="221" y="196"/>
                  </a:lnTo>
                  <a:lnTo>
                    <a:pt x="192" y="140"/>
                  </a:lnTo>
                  <a:lnTo>
                    <a:pt x="168" y="89"/>
                  </a:lnTo>
                  <a:lnTo>
                    <a:pt x="134" y="3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3f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5391000" y="4880160"/>
              <a:ext cx="75960" cy="79920"/>
            </a:xfrm>
            <a:custGeom>
              <a:avLst/>
              <a:gdLst/>
              <a:ahLst/>
              <a:rect l="l" t="t" r="r" b="b"/>
              <a:pathLst>
                <a:path w="354" h="348">
                  <a:moveTo>
                    <a:pt x="273" y="0"/>
                  </a:moveTo>
                  <a:lnTo>
                    <a:pt x="256" y="34"/>
                  </a:lnTo>
                  <a:lnTo>
                    <a:pt x="244" y="67"/>
                  </a:lnTo>
                  <a:lnTo>
                    <a:pt x="215" y="73"/>
                  </a:lnTo>
                  <a:lnTo>
                    <a:pt x="186" y="84"/>
                  </a:lnTo>
                  <a:lnTo>
                    <a:pt x="157" y="89"/>
                  </a:lnTo>
                  <a:lnTo>
                    <a:pt x="128" y="95"/>
                  </a:lnTo>
                  <a:lnTo>
                    <a:pt x="70" y="112"/>
                  </a:lnTo>
                  <a:lnTo>
                    <a:pt x="35" y="145"/>
                  </a:lnTo>
                  <a:lnTo>
                    <a:pt x="12" y="174"/>
                  </a:lnTo>
                  <a:lnTo>
                    <a:pt x="5" y="208"/>
                  </a:lnTo>
                  <a:lnTo>
                    <a:pt x="0" y="241"/>
                  </a:lnTo>
                  <a:lnTo>
                    <a:pt x="5" y="280"/>
                  </a:lnTo>
                  <a:lnTo>
                    <a:pt x="29" y="326"/>
                  </a:lnTo>
                  <a:lnTo>
                    <a:pt x="76" y="348"/>
                  </a:lnTo>
                  <a:lnTo>
                    <a:pt x="128" y="336"/>
                  </a:lnTo>
                  <a:lnTo>
                    <a:pt x="186" y="319"/>
                  </a:lnTo>
                  <a:lnTo>
                    <a:pt x="233" y="297"/>
                  </a:lnTo>
                  <a:lnTo>
                    <a:pt x="279" y="269"/>
                  </a:lnTo>
                  <a:lnTo>
                    <a:pt x="308" y="230"/>
                  </a:lnTo>
                  <a:lnTo>
                    <a:pt x="337" y="184"/>
                  </a:lnTo>
                  <a:lnTo>
                    <a:pt x="354" y="135"/>
                  </a:lnTo>
                  <a:lnTo>
                    <a:pt x="354" y="78"/>
                  </a:lnTo>
                  <a:lnTo>
                    <a:pt x="337" y="56"/>
                  </a:lnTo>
                  <a:lnTo>
                    <a:pt x="314" y="34"/>
                  </a:lnTo>
                  <a:lnTo>
                    <a:pt x="285" y="1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4912920" y="4883760"/>
              <a:ext cx="14040" cy="45360"/>
            </a:xfrm>
            <a:custGeom>
              <a:avLst/>
              <a:gdLst/>
              <a:ahLst/>
              <a:rect l="l" t="t" r="r" b="b"/>
              <a:pathLst>
                <a:path w="64" h="201">
                  <a:moveTo>
                    <a:pt x="17" y="0"/>
                  </a:moveTo>
                  <a:lnTo>
                    <a:pt x="6" y="17"/>
                  </a:lnTo>
                  <a:lnTo>
                    <a:pt x="6" y="56"/>
                  </a:lnTo>
                  <a:lnTo>
                    <a:pt x="0" y="89"/>
                  </a:lnTo>
                  <a:lnTo>
                    <a:pt x="0" y="135"/>
                  </a:lnTo>
                  <a:lnTo>
                    <a:pt x="0" y="162"/>
                  </a:lnTo>
                  <a:lnTo>
                    <a:pt x="6" y="191"/>
                  </a:lnTo>
                  <a:lnTo>
                    <a:pt x="24" y="201"/>
                  </a:lnTo>
                  <a:lnTo>
                    <a:pt x="52" y="201"/>
                  </a:lnTo>
                  <a:lnTo>
                    <a:pt x="58" y="184"/>
                  </a:lnTo>
                  <a:lnTo>
                    <a:pt x="64" y="157"/>
                  </a:lnTo>
                  <a:lnTo>
                    <a:pt x="58" y="123"/>
                  </a:lnTo>
                  <a:lnTo>
                    <a:pt x="58" y="95"/>
                  </a:lnTo>
                  <a:lnTo>
                    <a:pt x="47" y="61"/>
                  </a:lnTo>
                  <a:lnTo>
                    <a:pt x="47" y="27"/>
                  </a:lnTo>
                  <a:lnTo>
                    <a:pt x="47" y="5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4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5162400" y="4883760"/>
              <a:ext cx="43920" cy="75960"/>
            </a:xfrm>
            <a:custGeom>
              <a:avLst/>
              <a:gdLst/>
              <a:ahLst/>
              <a:rect l="l" t="t" r="r" b="b"/>
              <a:pathLst>
                <a:path w="203" h="331">
                  <a:moveTo>
                    <a:pt x="69" y="0"/>
                  </a:moveTo>
                  <a:lnTo>
                    <a:pt x="46" y="33"/>
                  </a:lnTo>
                  <a:lnTo>
                    <a:pt x="28" y="84"/>
                  </a:lnTo>
                  <a:lnTo>
                    <a:pt x="11" y="140"/>
                  </a:lnTo>
                  <a:lnTo>
                    <a:pt x="0" y="201"/>
                  </a:lnTo>
                  <a:lnTo>
                    <a:pt x="0" y="252"/>
                  </a:lnTo>
                  <a:lnTo>
                    <a:pt x="16" y="297"/>
                  </a:lnTo>
                  <a:lnTo>
                    <a:pt x="51" y="326"/>
                  </a:lnTo>
                  <a:lnTo>
                    <a:pt x="122" y="331"/>
                  </a:lnTo>
                  <a:lnTo>
                    <a:pt x="162" y="309"/>
                  </a:lnTo>
                  <a:lnTo>
                    <a:pt x="185" y="280"/>
                  </a:lnTo>
                  <a:lnTo>
                    <a:pt x="198" y="230"/>
                  </a:lnTo>
                  <a:lnTo>
                    <a:pt x="203" y="184"/>
                  </a:lnTo>
                  <a:lnTo>
                    <a:pt x="191" y="128"/>
                  </a:lnTo>
                  <a:lnTo>
                    <a:pt x="180" y="78"/>
                  </a:lnTo>
                  <a:lnTo>
                    <a:pt x="168" y="27"/>
                  </a:lnTo>
                  <a:lnTo>
                    <a:pt x="162" y="0"/>
                  </a:lnTo>
                  <a:lnTo>
                    <a:pt x="11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b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5905440" y="4884840"/>
              <a:ext cx="113400" cy="271080"/>
            </a:xfrm>
            <a:custGeom>
              <a:avLst/>
              <a:gdLst/>
              <a:ahLst/>
              <a:rect l="l" t="t" r="r" b="b"/>
              <a:pathLst>
                <a:path w="524" h="1164">
                  <a:moveTo>
                    <a:pt x="321" y="5"/>
                  </a:moveTo>
                  <a:lnTo>
                    <a:pt x="245" y="17"/>
                  </a:lnTo>
                  <a:lnTo>
                    <a:pt x="181" y="51"/>
                  </a:lnTo>
                  <a:lnTo>
                    <a:pt x="123" y="96"/>
                  </a:lnTo>
                  <a:lnTo>
                    <a:pt x="82" y="162"/>
                  </a:lnTo>
                  <a:lnTo>
                    <a:pt x="42" y="236"/>
                  </a:lnTo>
                  <a:lnTo>
                    <a:pt x="17" y="321"/>
                  </a:lnTo>
                  <a:lnTo>
                    <a:pt x="0" y="405"/>
                  </a:lnTo>
                  <a:lnTo>
                    <a:pt x="0" y="495"/>
                  </a:lnTo>
                  <a:lnTo>
                    <a:pt x="0" y="528"/>
                  </a:lnTo>
                  <a:lnTo>
                    <a:pt x="17" y="551"/>
                  </a:lnTo>
                  <a:lnTo>
                    <a:pt x="42" y="557"/>
                  </a:lnTo>
                  <a:lnTo>
                    <a:pt x="82" y="574"/>
                  </a:lnTo>
                  <a:lnTo>
                    <a:pt x="76" y="534"/>
                  </a:lnTo>
                  <a:lnTo>
                    <a:pt x="70" y="500"/>
                  </a:lnTo>
                  <a:lnTo>
                    <a:pt x="70" y="461"/>
                  </a:lnTo>
                  <a:lnTo>
                    <a:pt x="70" y="427"/>
                  </a:lnTo>
                  <a:lnTo>
                    <a:pt x="70" y="388"/>
                  </a:lnTo>
                  <a:lnTo>
                    <a:pt x="70" y="354"/>
                  </a:lnTo>
                  <a:lnTo>
                    <a:pt x="70" y="314"/>
                  </a:lnTo>
                  <a:lnTo>
                    <a:pt x="70" y="275"/>
                  </a:lnTo>
                  <a:lnTo>
                    <a:pt x="123" y="264"/>
                  </a:lnTo>
                  <a:lnTo>
                    <a:pt x="123" y="292"/>
                  </a:lnTo>
                  <a:lnTo>
                    <a:pt x="128" y="338"/>
                  </a:lnTo>
                  <a:lnTo>
                    <a:pt x="134" y="388"/>
                  </a:lnTo>
                  <a:lnTo>
                    <a:pt x="146" y="444"/>
                  </a:lnTo>
                  <a:lnTo>
                    <a:pt x="151" y="489"/>
                  </a:lnTo>
                  <a:lnTo>
                    <a:pt x="164" y="534"/>
                  </a:lnTo>
                  <a:lnTo>
                    <a:pt x="169" y="562"/>
                  </a:lnTo>
                  <a:lnTo>
                    <a:pt x="174" y="574"/>
                  </a:lnTo>
                  <a:lnTo>
                    <a:pt x="164" y="584"/>
                  </a:lnTo>
                  <a:lnTo>
                    <a:pt x="151" y="613"/>
                  </a:lnTo>
                  <a:lnTo>
                    <a:pt x="140" y="641"/>
                  </a:lnTo>
                  <a:lnTo>
                    <a:pt x="134" y="664"/>
                  </a:lnTo>
                  <a:lnTo>
                    <a:pt x="111" y="675"/>
                  </a:lnTo>
                  <a:lnTo>
                    <a:pt x="82" y="675"/>
                  </a:lnTo>
                  <a:lnTo>
                    <a:pt x="76" y="714"/>
                  </a:lnTo>
                  <a:lnTo>
                    <a:pt x="76" y="765"/>
                  </a:lnTo>
                  <a:lnTo>
                    <a:pt x="76" y="815"/>
                  </a:lnTo>
                  <a:lnTo>
                    <a:pt x="76" y="866"/>
                  </a:lnTo>
                  <a:lnTo>
                    <a:pt x="76" y="905"/>
                  </a:lnTo>
                  <a:lnTo>
                    <a:pt x="76" y="950"/>
                  </a:lnTo>
                  <a:lnTo>
                    <a:pt x="76" y="989"/>
                  </a:lnTo>
                  <a:lnTo>
                    <a:pt x="82" y="1023"/>
                  </a:lnTo>
                  <a:lnTo>
                    <a:pt x="76" y="1074"/>
                  </a:lnTo>
                  <a:lnTo>
                    <a:pt x="88" y="1119"/>
                  </a:lnTo>
                  <a:lnTo>
                    <a:pt x="93" y="1130"/>
                  </a:lnTo>
                  <a:lnTo>
                    <a:pt x="116" y="1141"/>
                  </a:lnTo>
                  <a:lnTo>
                    <a:pt x="146" y="1153"/>
                  </a:lnTo>
                  <a:lnTo>
                    <a:pt x="187" y="1164"/>
                  </a:lnTo>
                  <a:lnTo>
                    <a:pt x="233" y="1164"/>
                  </a:lnTo>
                  <a:lnTo>
                    <a:pt x="285" y="1153"/>
                  </a:lnTo>
                  <a:lnTo>
                    <a:pt x="326" y="1130"/>
                  </a:lnTo>
                  <a:lnTo>
                    <a:pt x="372" y="1113"/>
                  </a:lnTo>
                  <a:lnTo>
                    <a:pt x="407" y="1085"/>
                  </a:lnTo>
                  <a:lnTo>
                    <a:pt x="448" y="1057"/>
                  </a:lnTo>
                  <a:lnTo>
                    <a:pt x="483" y="1029"/>
                  </a:lnTo>
                  <a:lnTo>
                    <a:pt x="524" y="1012"/>
                  </a:lnTo>
                  <a:lnTo>
                    <a:pt x="501" y="956"/>
                  </a:lnTo>
                  <a:lnTo>
                    <a:pt x="494" y="910"/>
                  </a:lnTo>
                  <a:lnTo>
                    <a:pt x="494" y="860"/>
                  </a:lnTo>
                  <a:lnTo>
                    <a:pt x="501" y="821"/>
                  </a:lnTo>
                  <a:lnTo>
                    <a:pt x="501" y="770"/>
                  </a:lnTo>
                  <a:lnTo>
                    <a:pt x="506" y="726"/>
                  </a:lnTo>
                  <a:lnTo>
                    <a:pt x="506" y="675"/>
                  </a:lnTo>
                  <a:lnTo>
                    <a:pt x="512" y="624"/>
                  </a:lnTo>
                  <a:lnTo>
                    <a:pt x="471" y="635"/>
                  </a:lnTo>
                  <a:lnTo>
                    <a:pt x="448" y="641"/>
                  </a:lnTo>
                  <a:lnTo>
                    <a:pt x="419" y="641"/>
                  </a:lnTo>
                  <a:lnTo>
                    <a:pt x="402" y="641"/>
                  </a:lnTo>
                  <a:lnTo>
                    <a:pt x="355" y="618"/>
                  </a:lnTo>
                  <a:lnTo>
                    <a:pt x="308" y="584"/>
                  </a:lnTo>
                  <a:lnTo>
                    <a:pt x="314" y="523"/>
                  </a:lnTo>
                  <a:lnTo>
                    <a:pt x="331" y="461"/>
                  </a:lnTo>
                  <a:lnTo>
                    <a:pt x="337" y="393"/>
                  </a:lnTo>
                  <a:lnTo>
                    <a:pt x="355" y="338"/>
                  </a:lnTo>
                  <a:lnTo>
                    <a:pt x="361" y="270"/>
                  </a:lnTo>
                  <a:lnTo>
                    <a:pt x="372" y="213"/>
                  </a:lnTo>
                  <a:lnTo>
                    <a:pt x="384" y="157"/>
                  </a:lnTo>
                  <a:lnTo>
                    <a:pt x="402" y="107"/>
                  </a:lnTo>
                  <a:lnTo>
                    <a:pt x="384" y="79"/>
                  </a:lnTo>
                  <a:lnTo>
                    <a:pt x="390" y="45"/>
                  </a:lnTo>
                  <a:lnTo>
                    <a:pt x="379" y="28"/>
                  </a:lnTo>
                  <a:lnTo>
                    <a:pt x="372" y="12"/>
                  </a:lnTo>
                  <a:lnTo>
                    <a:pt x="349" y="0"/>
                  </a:lnTo>
                  <a:lnTo>
                    <a:pt x="321" y="5"/>
                  </a:lnTo>
                  <a:close/>
                </a:path>
              </a:pathLst>
            </a:custGeom>
            <a:solidFill>
              <a:srgbClr val="fdb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5055120" y="4892400"/>
              <a:ext cx="20160" cy="51480"/>
            </a:xfrm>
            <a:custGeom>
              <a:avLst/>
              <a:gdLst/>
              <a:ahLst/>
              <a:rect l="l" t="t" r="r" b="b"/>
              <a:pathLst>
                <a:path w="99" h="219">
                  <a:moveTo>
                    <a:pt x="35" y="0"/>
                  </a:moveTo>
                  <a:lnTo>
                    <a:pt x="12" y="45"/>
                  </a:lnTo>
                  <a:lnTo>
                    <a:pt x="7" y="96"/>
                  </a:lnTo>
                  <a:lnTo>
                    <a:pt x="0" y="118"/>
                  </a:lnTo>
                  <a:lnTo>
                    <a:pt x="0" y="145"/>
                  </a:lnTo>
                  <a:lnTo>
                    <a:pt x="0" y="179"/>
                  </a:lnTo>
                  <a:lnTo>
                    <a:pt x="12" y="219"/>
                  </a:lnTo>
                  <a:lnTo>
                    <a:pt x="41" y="213"/>
                  </a:lnTo>
                  <a:lnTo>
                    <a:pt x="76" y="219"/>
                  </a:lnTo>
                  <a:lnTo>
                    <a:pt x="83" y="174"/>
                  </a:lnTo>
                  <a:lnTo>
                    <a:pt x="88" y="140"/>
                  </a:lnTo>
                  <a:lnTo>
                    <a:pt x="94" y="106"/>
                  </a:lnTo>
                  <a:lnTo>
                    <a:pt x="99" y="89"/>
                  </a:lnTo>
                  <a:lnTo>
                    <a:pt x="76" y="4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4f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5105520" y="4892400"/>
              <a:ext cx="26640" cy="62280"/>
            </a:xfrm>
            <a:custGeom>
              <a:avLst/>
              <a:gdLst/>
              <a:ahLst/>
              <a:rect l="l" t="t" r="r" b="b"/>
              <a:pathLst>
                <a:path w="123" h="270">
                  <a:moveTo>
                    <a:pt x="41" y="0"/>
                  </a:moveTo>
                  <a:lnTo>
                    <a:pt x="25" y="45"/>
                  </a:lnTo>
                  <a:lnTo>
                    <a:pt x="13" y="84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0" y="179"/>
                  </a:lnTo>
                  <a:lnTo>
                    <a:pt x="13" y="208"/>
                  </a:lnTo>
                  <a:lnTo>
                    <a:pt x="36" y="236"/>
                  </a:lnTo>
                  <a:lnTo>
                    <a:pt x="76" y="270"/>
                  </a:lnTo>
                  <a:lnTo>
                    <a:pt x="88" y="219"/>
                  </a:lnTo>
                  <a:lnTo>
                    <a:pt x="106" y="185"/>
                  </a:lnTo>
                  <a:lnTo>
                    <a:pt x="117" y="152"/>
                  </a:lnTo>
                  <a:lnTo>
                    <a:pt x="123" y="118"/>
                  </a:lnTo>
                  <a:lnTo>
                    <a:pt x="117" y="84"/>
                  </a:lnTo>
                  <a:lnTo>
                    <a:pt x="106" y="56"/>
                  </a:lnTo>
                  <a:lnTo>
                    <a:pt x="76" y="28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a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5330520" y="4892400"/>
              <a:ext cx="37440" cy="43920"/>
            </a:xfrm>
            <a:custGeom>
              <a:avLst/>
              <a:gdLst/>
              <a:ahLst/>
              <a:rect l="l" t="t" r="r" b="b"/>
              <a:pathLst>
                <a:path w="175" h="191">
                  <a:moveTo>
                    <a:pt x="134" y="0"/>
                  </a:moveTo>
                  <a:lnTo>
                    <a:pt x="94" y="0"/>
                  </a:lnTo>
                  <a:lnTo>
                    <a:pt x="64" y="5"/>
                  </a:lnTo>
                  <a:lnTo>
                    <a:pt x="41" y="11"/>
                  </a:lnTo>
                  <a:lnTo>
                    <a:pt x="23" y="28"/>
                  </a:lnTo>
                  <a:lnTo>
                    <a:pt x="6" y="45"/>
                  </a:lnTo>
                  <a:lnTo>
                    <a:pt x="0" y="73"/>
                  </a:lnTo>
                  <a:lnTo>
                    <a:pt x="0" y="106"/>
                  </a:lnTo>
                  <a:lnTo>
                    <a:pt x="0" y="162"/>
                  </a:lnTo>
                  <a:lnTo>
                    <a:pt x="52" y="179"/>
                  </a:lnTo>
                  <a:lnTo>
                    <a:pt x="70" y="185"/>
                  </a:lnTo>
                  <a:lnTo>
                    <a:pt x="87" y="185"/>
                  </a:lnTo>
                  <a:lnTo>
                    <a:pt x="105" y="191"/>
                  </a:lnTo>
                  <a:lnTo>
                    <a:pt x="128" y="179"/>
                  </a:lnTo>
                  <a:lnTo>
                    <a:pt x="151" y="162"/>
                  </a:lnTo>
                  <a:lnTo>
                    <a:pt x="163" y="140"/>
                  </a:lnTo>
                  <a:lnTo>
                    <a:pt x="175" y="118"/>
                  </a:lnTo>
                  <a:lnTo>
                    <a:pt x="175" y="84"/>
                  </a:lnTo>
                  <a:lnTo>
                    <a:pt x="175" y="56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5464800" y="4897080"/>
              <a:ext cx="91800" cy="221760"/>
            </a:xfrm>
            <a:custGeom>
              <a:avLst/>
              <a:gdLst/>
              <a:ahLst/>
              <a:rect l="l" t="t" r="r" b="b"/>
              <a:pathLst>
                <a:path w="425" h="956">
                  <a:moveTo>
                    <a:pt x="169" y="0"/>
                  </a:moveTo>
                  <a:lnTo>
                    <a:pt x="123" y="6"/>
                  </a:lnTo>
                  <a:lnTo>
                    <a:pt x="99" y="34"/>
                  </a:lnTo>
                  <a:lnTo>
                    <a:pt x="83" y="62"/>
                  </a:lnTo>
                  <a:lnTo>
                    <a:pt x="65" y="106"/>
                  </a:lnTo>
                  <a:lnTo>
                    <a:pt x="35" y="152"/>
                  </a:lnTo>
                  <a:lnTo>
                    <a:pt x="18" y="202"/>
                  </a:lnTo>
                  <a:lnTo>
                    <a:pt x="0" y="248"/>
                  </a:lnTo>
                  <a:lnTo>
                    <a:pt x="0" y="298"/>
                  </a:lnTo>
                  <a:lnTo>
                    <a:pt x="0" y="343"/>
                  </a:lnTo>
                  <a:lnTo>
                    <a:pt x="12" y="388"/>
                  </a:lnTo>
                  <a:lnTo>
                    <a:pt x="30" y="439"/>
                  </a:lnTo>
                  <a:lnTo>
                    <a:pt x="65" y="489"/>
                  </a:lnTo>
                  <a:lnTo>
                    <a:pt x="71" y="501"/>
                  </a:lnTo>
                  <a:lnTo>
                    <a:pt x="88" y="518"/>
                  </a:lnTo>
                  <a:lnTo>
                    <a:pt x="106" y="528"/>
                  </a:lnTo>
                  <a:lnTo>
                    <a:pt x="117" y="540"/>
                  </a:lnTo>
                  <a:lnTo>
                    <a:pt x="117" y="579"/>
                  </a:lnTo>
                  <a:lnTo>
                    <a:pt x="111" y="624"/>
                  </a:lnTo>
                  <a:lnTo>
                    <a:pt x="99" y="663"/>
                  </a:lnTo>
                  <a:lnTo>
                    <a:pt x="94" y="714"/>
                  </a:lnTo>
                  <a:lnTo>
                    <a:pt x="76" y="753"/>
                  </a:lnTo>
                  <a:lnTo>
                    <a:pt x="65" y="798"/>
                  </a:lnTo>
                  <a:lnTo>
                    <a:pt x="48" y="844"/>
                  </a:lnTo>
                  <a:lnTo>
                    <a:pt x="48" y="888"/>
                  </a:lnTo>
                  <a:lnTo>
                    <a:pt x="88" y="905"/>
                  </a:lnTo>
                  <a:lnTo>
                    <a:pt x="134" y="928"/>
                  </a:lnTo>
                  <a:lnTo>
                    <a:pt x="152" y="933"/>
                  </a:lnTo>
                  <a:lnTo>
                    <a:pt x="181" y="945"/>
                  </a:lnTo>
                  <a:lnTo>
                    <a:pt x="210" y="950"/>
                  </a:lnTo>
                  <a:lnTo>
                    <a:pt x="251" y="956"/>
                  </a:lnTo>
                  <a:lnTo>
                    <a:pt x="286" y="956"/>
                  </a:lnTo>
                  <a:lnTo>
                    <a:pt x="326" y="956"/>
                  </a:lnTo>
                  <a:lnTo>
                    <a:pt x="367" y="956"/>
                  </a:lnTo>
                  <a:lnTo>
                    <a:pt x="408" y="956"/>
                  </a:lnTo>
                  <a:lnTo>
                    <a:pt x="408" y="945"/>
                  </a:lnTo>
                  <a:lnTo>
                    <a:pt x="413" y="928"/>
                  </a:lnTo>
                  <a:lnTo>
                    <a:pt x="413" y="900"/>
                  </a:lnTo>
                  <a:lnTo>
                    <a:pt x="425" y="888"/>
                  </a:lnTo>
                  <a:lnTo>
                    <a:pt x="420" y="815"/>
                  </a:lnTo>
                  <a:lnTo>
                    <a:pt x="413" y="748"/>
                  </a:lnTo>
                  <a:lnTo>
                    <a:pt x="408" y="675"/>
                  </a:lnTo>
                  <a:lnTo>
                    <a:pt x="408" y="602"/>
                  </a:lnTo>
                  <a:lnTo>
                    <a:pt x="402" y="518"/>
                  </a:lnTo>
                  <a:lnTo>
                    <a:pt x="402" y="439"/>
                  </a:lnTo>
                  <a:lnTo>
                    <a:pt x="408" y="360"/>
                  </a:lnTo>
                  <a:lnTo>
                    <a:pt x="425" y="287"/>
                  </a:lnTo>
                  <a:lnTo>
                    <a:pt x="408" y="275"/>
                  </a:lnTo>
                  <a:lnTo>
                    <a:pt x="396" y="270"/>
                  </a:lnTo>
                  <a:lnTo>
                    <a:pt x="378" y="258"/>
                  </a:lnTo>
                  <a:lnTo>
                    <a:pt x="373" y="258"/>
                  </a:lnTo>
                  <a:lnTo>
                    <a:pt x="367" y="225"/>
                  </a:lnTo>
                  <a:lnTo>
                    <a:pt x="378" y="186"/>
                  </a:lnTo>
                  <a:lnTo>
                    <a:pt x="385" y="140"/>
                  </a:lnTo>
                  <a:lnTo>
                    <a:pt x="385" y="106"/>
                  </a:lnTo>
                  <a:lnTo>
                    <a:pt x="367" y="91"/>
                  </a:lnTo>
                  <a:lnTo>
                    <a:pt x="349" y="74"/>
                  </a:lnTo>
                  <a:lnTo>
                    <a:pt x="314" y="57"/>
                  </a:lnTo>
                  <a:lnTo>
                    <a:pt x="286" y="40"/>
                  </a:lnTo>
                  <a:lnTo>
                    <a:pt x="245" y="23"/>
                  </a:lnTo>
                  <a:lnTo>
                    <a:pt x="216" y="11"/>
                  </a:lnTo>
                  <a:lnTo>
                    <a:pt x="181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aa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5558040" y="4897080"/>
              <a:ext cx="54000" cy="219240"/>
            </a:xfrm>
            <a:custGeom>
              <a:avLst/>
              <a:gdLst/>
              <a:ahLst/>
              <a:rect l="l" t="t" r="r" b="b"/>
              <a:pathLst>
                <a:path w="250" h="939">
                  <a:moveTo>
                    <a:pt x="162" y="0"/>
                  </a:moveTo>
                  <a:lnTo>
                    <a:pt x="122" y="0"/>
                  </a:lnTo>
                  <a:lnTo>
                    <a:pt x="88" y="11"/>
                  </a:lnTo>
                  <a:lnTo>
                    <a:pt x="52" y="23"/>
                  </a:lnTo>
                  <a:lnTo>
                    <a:pt x="17" y="28"/>
                  </a:lnTo>
                  <a:lnTo>
                    <a:pt x="17" y="51"/>
                  </a:lnTo>
                  <a:lnTo>
                    <a:pt x="17" y="7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12" y="174"/>
                  </a:lnTo>
                  <a:lnTo>
                    <a:pt x="17" y="197"/>
                  </a:lnTo>
                  <a:lnTo>
                    <a:pt x="58" y="208"/>
                  </a:lnTo>
                  <a:lnTo>
                    <a:pt x="46" y="265"/>
                  </a:lnTo>
                  <a:lnTo>
                    <a:pt x="35" y="360"/>
                  </a:lnTo>
                  <a:lnTo>
                    <a:pt x="17" y="478"/>
                  </a:lnTo>
                  <a:lnTo>
                    <a:pt x="12" y="608"/>
                  </a:lnTo>
                  <a:lnTo>
                    <a:pt x="5" y="726"/>
                  </a:lnTo>
                  <a:lnTo>
                    <a:pt x="23" y="832"/>
                  </a:lnTo>
                  <a:lnTo>
                    <a:pt x="52" y="905"/>
                  </a:lnTo>
                  <a:lnTo>
                    <a:pt x="111" y="939"/>
                  </a:lnTo>
                  <a:lnTo>
                    <a:pt x="180" y="917"/>
                  </a:lnTo>
                  <a:lnTo>
                    <a:pt x="227" y="854"/>
                  </a:lnTo>
                  <a:lnTo>
                    <a:pt x="244" y="759"/>
                  </a:lnTo>
                  <a:lnTo>
                    <a:pt x="250" y="647"/>
                  </a:lnTo>
                  <a:lnTo>
                    <a:pt x="233" y="528"/>
                  </a:lnTo>
                  <a:lnTo>
                    <a:pt x="209" y="427"/>
                  </a:lnTo>
                  <a:lnTo>
                    <a:pt x="180" y="349"/>
                  </a:lnTo>
                  <a:lnTo>
                    <a:pt x="162" y="309"/>
                  </a:lnTo>
                  <a:lnTo>
                    <a:pt x="197" y="258"/>
                  </a:lnTo>
                  <a:lnTo>
                    <a:pt x="233" y="219"/>
                  </a:lnTo>
                  <a:lnTo>
                    <a:pt x="233" y="202"/>
                  </a:lnTo>
                  <a:lnTo>
                    <a:pt x="233" y="174"/>
                  </a:lnTo>
                  <a:lnTo>
                    <a:pt x="233" y="140"/>
                  </a:lnTo>
                  <a:lnTo>
                    <a:pt x="233" y="130"/>
                  </a:lnTo>
                  <a:lnTo>
                    <a:pt x="215" y="96"/>
                  </a:lnTo>
                  <a:lnTo>
                    <a:pt x="203" y="51"/>
                  </a:lnTo>
                  <a:lnTo>
                    <a:pt x="180" y="23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62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6024600" y="4907160"/>
              <a:ext cx="114840" cy="410040"/>
            </a:xfrm>
            <a:custGeom>
              <a:avLst/>
              <a:gdLst/>
              <a:ahLst/>
              <a:rect l="l" t="t" r="r" b="b"/>
              <a:pathLst>
                <a:path w="529" h="1765">
                  <a:moveTo>
                    <a:pt x="314" y="0"/>
                  </a:moveTo>
                  <a:lnTo>
                    <a:pt x="309" y="22"/>
                  </a:lnTo>
                  <a:lnTo>
                    <a:pt x="303" y="66"/>
                  </a:lnTo>
                  <a:lnTo>
                    <a:pt x="297" y="106"/>
                  </a:lnTo>
                  <a:lnTo>
                    <a:pt x="291" y="146"/>
                  </a:lnTo>
                  <a:lnTo>
                    <a:pt x="262" y="162"/>
                  </a:lnTo>
                  <a:lnTo>
                    <a:pt x="227" y="185"/>
                  </a:lnTo>
                  <a:lnTo>
                    <a:pt x="187" y="201"/>
                  </a:lnTo>
                  <a:lnTo>
                    <a:pt x="146" y="225"/>
                  </a:lnTo>
                  <a:lnTo>
                    <a:pt x="99" y="242"/>
                  </a:lnTo>
                  <a:lnTo>
                    <a:pt x="65" y="264"/>
                  </a:lnTo>
                  <a:lnTo>
                    <a:pt x="35" y="286"/>
                  </a:lnTo>
                  <a:lnTo>
                    <a:pt x="23" y="326"/>
                  </a:lnTo>
                  <a:lnTo>
                    <a:pt x="12" y="360"/>
                  </a:lnTo>
                  <a:lnTo>
                    <a:pt x="7" y="427"/>
                  </a:lnTo>
                  <a:lnTo>
                    <a:pt x="0" y="500"/>
                  </a:lnTo>
                  <a:lnTo>
                    <a:pt x="0" y="590"/>
                  </a:lnTo>
                  <a:lnTo>
                    <a:pt x="0" y="669"/>
                  </a:lnTo>
                  <a:lnTo>
                    <a:pt x="0" y="753"/>
                  </a:lnTo>
                  <a:lnTo>
                    <a:pt x="7" y="809"/>
                  </a:lnTo>
                  <a:lnTo>
                    <a:pt x="12" y="848"/>
                  </a:lnTo>
                  <a:lnTo>
                    <a:pt x="41" y="848"/>
                  </a:lnTo>
                  <a:lnTo>
                    <a:pt x="76" y="860"/>
                  </a:lnTo>
                  <a:lnTo>
                    <a:pt x="111" y="865"/>
                  </a:lnTo>
                  <a:lnTo>
                    <a:pt x="146" y="877"/>
                  </a:lnTo>
                  <a:lnTo>
                    <a:pt x="111" y="949"/>
                  </a:lnTo>
                  <a:lnTo>
                    <a:pt x="99" y="1045"/>
                  </a:lnTo>
                  <a:lnTo>
                    <a:pt x="94" y="1157"/>
                  </a:lnTo>
                  <a:lnTo>
                    <a:pt x="111" y="1282"/>
                  </a:lnTo>
                  <a:lnTo>
                    <a:pt x="129" y="1400"/>
                  </a:lnTo>
                  <a:lnTo>
                    <a:pt x="146" y="1518"/>
                  </a:lnTo>
                  <a:lnTo>
                    <a:pt x="164" y="1630"/>
                  </a:lnTo>
                  <a:lnTo>
                    <a:pt x="180" y="1726"/>
                  </a:lnTo>
                  <a:lnTo>
                    <a:pt x="221" y="1731"/>
                  </a:lnTo>
                  <a:lnTo>
                    <a:pt x="268" y="1743"/>
                  </a:lnTo>
                  <a:lnTo>
                    <a:pt x="309" y="1748"/>
                  </a:lnTo>
                  <a:lnTo>
                    <a:pt x="355" y="1765"/>
                  </a:lnTo>
                  <a:lnTo>
                    <a:pt x="360" y="1765"/>
                  </a:lnTo>
                  <a:lnTo>
                    <a:pt x="390" y="1765"/>
                  </a:lnTo>
                  <a:lnTo>
                    <a:pt x="419" y="1765"/>
                  </a:lnTo>
                  <a:lnTo>
                    <a:pt x="436" y="1765"/>
                  </a:lnTo>
                  <a:lnTo>
                    <a:pt x="436" y="1731"/>
                  </a:lnTo>
                  <a:lnTo>
                    <a:pt x="448" y="1692"/>
                  </a:lnTo>
                  <a:lnTo>
                    <a:pt x="459" y="1641"/>
                  </a:lnTo>
                  <a:lnTo>
                    <a:pt x="471" y="1596"/>
                  </a:lnTo>
                  <a:lnTo>
                    <a:pt x="477" y="1540"/>
                  </a:lnTo>
                  <a:lnTo>
                    <a:pt x="483" y="1489"/>
                  </a:lnTo>
                  <a:lnTo>
                    <a:pt x="477" y="1439"/>
                  </a:lnTo>
                  <a:lnTo>
                    <a:pt x="477" y="1394"/>
                  </a:lnTo>
                  <a:lnTo>
                    <a:pt x="459" y="1371"/>
                  </a:lnTo>
                  <a:lnTo>
                    <a:pt x="443" y="1354"/>
                  </a:lnTo>
                  <a:lnTo>
                    <a:pt x="413" y="1332"/>
                  </a:lnTo>
                  <a:lnTo>
                    <a:pt x="408" y="1315"/>
                  </a:lnTo>
                  <a:lnTo>
                    <a:pt x="390" y="1258"/>
                  </a:lnTo>
                  <a:lnTo>
                    <a:pt x="372" y="1208"/>
                  </a:lnTo>
                  <a:lnTo>
                    <a:pt x="355" y="1152"/>
                  </a:lnTo>
                  <a:lnTo>
                    <a:pt x="337" y="1101"/>
                  </a:lnTo>
                  <a:lnTo>
                    <a:pt x="320" y="1045"/>
                  </a:lnTo>
                  <a:lnTo>
                    <a:pt x="303" y="995"/>
                  </a:lnTo>
                  <a:lnTo>
                    <a:pt x="291" y="949"/>
                  </a:lnTo>
                  <a:lnTo>
                    <a:pt x="291" y="916"/>
                  </a:lnTo>
                  <a:lnTo>
                    <a:pt x="279" y="797"/>
                  </a:lnTo>
                  <a:lnTo>
                    <a:pt x="286" y="686"/>
                  </a:lnTo>
                  <a:lnTo>
                    <a:pt x="303" y="573"/>
                  </a:lnTo>
                  <a:lnTo>
                    <a:pt x="344" y="478"/>
                  </a:lnTo>
                  <a:lnTo>
                    <a:pt x="378" y="377"/>
                  </a:lnTo>
                  <a:lnTo>
                    <a:pt x="425" y="292"/>
                  </a:lnTo>
                  <a:lnTo>
                    <a:pt x="477" y="213"/>
                  </a:lnTo>
                  <a:lnTo>
                    <a:pt x="529" y="157"/>
                  </a:lnTo>
                  <a:lnTo>
                    <a:pt x="517" y="146"/>
                  </a:lnTo>
                  <a:lnTo>
                    <a:pt x="500" y="117"/>
                  </a:lnTo>
                  <a:lnTo>
                    <a:pt x="477" y="83"/>
                  </a:lnTo>
                  <a:lnTo>
                    <a:pt x="459" y="66"/>
                  </a:lnTo>
                  <a:lnTo>
                    <a:pt x="431" y="34"/>
                  </a:lnTo>
                  <a:lnTo>
                    <a:pt x="413" y="17"/>
                  </a:lnTo>
                  <a:lnTo>
                    <a:pt x="378" y="0"/>
                  </a:lnTo>
                  <a:lnTo>
                    <a:pt x="332" y="0"/>
                  </a:lnTo>
                  <a:lnTo>
                    <a:pt x="32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82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6183360" y="4913280"/>
              <a:ext cx="34560" cy="30600"/>
            </a:xfrm>
            <a:custGeom>
              <a:avLst/>
              <a:gdLst/>
              <a:ahLst/>
              <a:rect l="l" t="t" r="r" b="b"/>
              <a:pathLst>
                <a:path w="157" h="130">
                  <a:moveTo>
                    <a:pt x="58" y="0"/>
                  </a:moveTo>
                  <a:lnTo>
                    <a:pt x="12" y="34"/>
                  </a:lnTo>
                  <a:lnTo>
                    <a:pt x="0" y="79"/>
                  </a:lnTo>
                  <a:lnTo>
                    <a:pt x="0" y="90"/>
                  </a:lnTo>
                  <a:lnTo>
                    <a:pt x="24" y="107"/>
                  </a:lnTo>
                  <a:lnTo>
                    <a:pt x="53" y="119"/>
                  </a:lnTo>
                  <a:lnTo>
                    <a:pt x="99" y="130"/>
                  </a:lnTo>
                  <a:lnTo>
                    <a:pt x="134" y="119"/>
                  </a:lnTo>
                  <a:lnTo>
                    <a:pt x="157" y="107"/>
                  </a:lnTo>
                  <a:lnTo>
                    <a:pt x="157" y="90"/>
                  </a:lnTo>
                  <a:lnTo>
                    <a:pt x="146" y="73"/>
                  </a:lnTo>
                  <a:lnTo>
                    <a:pt x="123" y="46"/>
                  </a:lnTo>
                  <a:lnTo>
                    <a:pt x="99" y="29"/>
                  </a:lnTo>
                  <a:lnTo>
                    <a:pt x="70" y="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6306120" y="4917960"/>
              <a:ext cx="27000" cy="36720"/>
            </a:xfrm>
            <a:custGeom>
              <a:avLst/>
              <a:gdLst/>
              <a:ahLst/>
              <a:rect l="l" t="t" r="r" b="b"/>
              <a:pathLst>
                <a:path w="122" h="157">
                  <a:moveTo>
                    <a:pt x="116" y="0"/>
                  </a:moveTo>
                  <a:lnTo>
                    <a:pt x="76" y="10"/>
                  </a:lnTo>
                  <a:lnTo>
                    <a:pt x="47" y="22"/>
                  </a:lnTo>
                  <a:lnTo>
                    <a:pt x="23" y="32"/>
                  </a:lnTo>
                  <a:lnTo>
                    <a:pt x="12" y="49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5" y="157"/>
                  </a:lnTo>
                  <a:lnTo>
                    <a:pt x="47" y="140"/>
                  </a:lnTo>
                  <a:lnTo>
                    <a:pt x="81" y="128"/>
                  </a:lnTo>
                  <a:lnTo>
                    <a:pt x="99" y="111"/>
                  </a:lnTo>
                  <a:lnTo>
                    <a:pt x="116" y="100"/>
                  </a:lnTo>
                  <a:lnTo>
                    <a:pt x="116" y="78"/>
                  </a:lnTo>
                  <a:lnTo>
                    <a:pt x="122" y="61"/>
                  </a:lnTo>
                  <a:lnTo>
                    <a:pt x="116" y="27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6100560" y="4946760"/>
              <a:ext cx="73440" cy="268560"/>
            </a:xfrm>
            <a:custGeom>
              <a:avLst/>
              <a:gdLst/>
              <a:ahLst/>
              <a:rect l="l" t="t" r="r" b="b"/>
              <a:pathLst>
                <a:path w="337" h="1158">
                  <a:moveTo>
                    <a:pt x="308" y="0"/>
                  </a:moveTo>
                  <a:lnTo>
                    <a:pt x="273" y="0"/>
                  </a:lnTo>
                  <a:lnTo>
                    <a:pt x="244" y="17"/>
                  </a:lnTo>
                  <a:lnTo>
                    <a:pt x="215" y="33"/>
                  </a:lnTo>
                  <a:lnTo>
                    <a:pt x="197" y="62"/>
                  </a:lnTo>
                  <a:lnTo>
                    <a:pt x="180" y="90"/>
                  </a:lnTo>
                  <a:lnTo>
                    <a:pt x="162" y="118"/>
                  </a:lnTo>
                  <a:lnTo>
                    <a:pt x="145" y="146"/>
                  </a:lnTo>
                  <a:lnTo>
                    <a:pt x="134" y="180"/>
                  </a:lnTo>
                  <a:lnTo>
                    <a:pt x="93" y="236"/>
                  </a:lnTo>
                  <a:lnTo>
                    <a:pt x="64" y="304"/>
                  </a:lnTo>
                  <a:lnTo>
                    <a:pt x="35" y="371"/>
                  </a:lnTo>
                  <a:lnTo>
                    <a:pt x="17" y="455"/>
                  </a:lnTo>
                  <a:lnTo>
                    <a:pt x="0" y="535"/>
                  </a:lnTo>
                  <a:lnTo>
                    <a:pt x="5" y="624"/>
                  </a:lnTo>
                  <a:lnTo>
                    <a:pt x="5" y="709"/>
                  </a:lnTo>
                  <a:lnTo>
                    <a:pt x="29" y="810"/>
                  </a:lnTo>
                  <a:lnTo>
                    <a:pt x="70" y="810"/>
                  </a:lnTo>
                  <a:lnTo>
                    <a:pt x="111" y="821"/>
                  </a:lnTo>
                  <a:lnTo>
                    <a:pt x="134" y="832"/>
                  </a:lnTo>
                  <a:lnTo>
                    <a:pt x="157" y="860"/>
                  </a:lnTo>
                  <a:lnTo>
                    <a:pt x="157" y="889"/>
                  </a:lnTo>
                  <a:lnTo>
                    <a:pt x="157" y="933"/>
                  </a:lnTo>
                  <a:lnTo>
                    <a:pt x="151" y="984"/>
                  </a:lnTo>
                  <a:lnTo>
                    <a:pt x="145" y="1057"/>
                  </a:lnTo>
                  <a:lnTo>
                    <a:pt x="139" y="1085"/>
                  </a:lnTo>
                  <a:lnTo>
                    <a:pt x="145" y="1119"/>
                  </a:lnTo>
                  <a:lnTo>
                    <a:pt x="162" y="1141"/>
                  </a:lnTo>
                  <a:lnTo>
                    <a:pt x="187" y="1158"/>
                  </a:lnTo>
                  <a:lnTo>
                    <a:pt x="203" y="1158"/>
                  </a:lnTo>
                  <a:lnTo>
                    <a:pt x="233" y="1153"/>
                  </a:lnTo>
                  <a:lnTo>
                    <a:pt x="256" y="1131"/>
                  </a:lnTo>
                  <a:lnTo>
                    <a:pt x="279" y="1097"/>
                  </a:lnTo>
                  <a:lnTo>
                    <a:pt x="302" y="972"/>
                  </a:lnTo>
                  <a:lnTo>
                    <a:pt x="314" y="844"/>
                  </a:lnTo>
                  <a:lnTo>
                    <a:pt x="308" y="703"/>
                  </a:lnTo>
                  <a:lnTo>
                    <a:pt x="302" y="568"/>
                  </a:lnTo>
                  <a:lnTo>
                    <a:pt x="285" y="422"/>
                  </a:lnTo>
                  <a:lnTo>
                    <a:pt x="285" y="287"/>
                  </a:lnTo>
                  <a:lnTo>
                    <a:pt x="296" y="163"/>
                  </a:lnTo>
                  <a:lnTo>
                    <a:pt x="331" y="62"/>
                  </a:lnTo>
                  <a:lnTo>
                    <a:pt x="326" y="45"/>
                  </a:lnTo>
                  <a:lnTo>
                    <a:pt x="337" y="23"/>
                  </a:lnTo>
                  <a:lnTo>
                    <a:pt x="337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3f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6444360" y="4948920"/>
              <a:ext cx="106920" cy="317880"/>
            </a:xfrm>
            <a:custGeom>
              <a:avLst/>
              <a:gdLst/>
              <a:ahLst/>
              <a:rect l="l" t="t" r="r" b="b"/>
              <a:pathLst>
                <a:path w="501" h="1366">
                  <a:moveTo>
                    <a:pt x="151" y="0"/>
                  </a:moveTo>
                  <a:lnTo>
                    <a:pt x="81" y="135"/>
                  </a:lnTo>
                  <a:lnTo>
                    <a:pt x="30" y="309"/>
                  </a:lnTo>
                  <a:lnTo>
                    <a:pt x="0" y="500"/>
                  </a:lnTo>
                  <a:lnTo>
                    <a:pt x="0" y="703"/>
                  </a:lnTo>
                  <a:lnTo>
                    <a:pt x="18" y="889"/>
                  </a:lnTo>
                  <a:lnTo>
                    <a:pt x="76" y="1063"/>
                  </a:lnTo>
                  <a:lnTo>
                    <a:pt x="164" y="1198"/>
                  </a:lnTo>
                  <a:lnTo>
                    <a:pt x="285" y="1305"/>
                  </a:lnTo>
                  <a:lnTo>
                    <a:pt x="314" y="1316"/>
                  </a:lnTo>
                  <a:lnTo>
                    <a:pt x="349" y="1333"/>
                  </a:lnTo>
                  <a:lnTo>
                    <a:pt x="384" y="1350"/>
                  </a:lnTo>
                  <a:lnTo>
                    <a:pt x="418" y="1366"/>
                  </a:lnTo>
                  <a:lnTo>
                    <a:pt x="418" y="1350"/>
                  </a:lnTo>
                  <a:lnTo>
                    <a:pt x="418" y="1339"/>
                  </a:lnTo>
                  <a:lnTo>
                    <a:pt x="418" y="1322"/>
                  </a:lnTo>
                  <a:lnTo>
                    <a:pt x="418" y="1316"/>
                  </a:lnTo>
                  <a:lnTo>
                    <a:pt x="407" y="1231"/>
                  </a:lnTo>
                  <a:lnTo>
                    <a:pt x="395" y="1170"/>
                  </a:lnTo>
                  <a:lnTo>
                    <a:pt x="372" y="1113"/>
                  </a:lnTo>
                  <a:lnTo>
                    <a:pt x="355" y="1079"/>
                  </a:lnTo>
                  <a:lnTo>
                    <a:pt x="326" y="1040"/>
                  </a:lnTo>
                  <a:lnTo>
                    <a:pt x="296" y="1007"/>
                  </a:lnTo>
                  <a:lnTo>
                    <a:pt x="268" y="968"/>
                  </a:lnTo>
                  <a:lnTo>
                    <a:pt x="250" y="929"/>
                  </a:lnTo>
                  <a:lnTo>
                    <a:pt x="233" y="889"/>
                  </a:lnTo>
                  <a:lnTo>
                    <a:pt x="233" y="855"/>
                  </a:lnTo>
                  <a:lnTo>
                    <a:pt x="233" y="816"/>
                  </a:lnTo>
                  <a:lnTo>
                    <a:pt x="233" y="777"/>
                  </a:lnTo>
                  <a:lnTo>
                    <a:pt x="227" y="737"/>
                  </a:lnTo>
                  <a:lnTo>
                    <a:pt x="227" y="698"/>
                  </a:lnTo>
                  <a:lnTo>
                    <a:pt x="227" y="659"/>
                  </a:lnTo>
                  <a:lnTo>
                    <a:pt x="233" y="608"/>
                  </a:lnTo>
                  <a:lnTo>
                    <a:pt x="227" y="591"/>
                  </a:lnTo>
                  <a:lnTo>
                    <a:pt x="222" y="596"/>
                  </a:lnTo>
                  <a:lnTo>
                    <a:pt x="204" y="557"/>
                  </a:lnTo>
                  <a:lnTo>
                    <a:pt x="204" y="529"/>
                  </a:lnTo>
                  <a:lnTo>
                    <a:pt x="198" y="500"/>
                  </a:lnTo>
                  <a:lnTo>
                    <a:pt x="204" y="483"/>
                  </a:lnTo>
                  <a:lnTo>
                    <a:pt x="227" y="451"/>
                  </a:lnTo>
                  <a:lnTo>
                    <a:pt x="273" y="417"/>
                  </a:lnTo>
                  <a:lnTo>
                    <a:pt x="285" y="507"/>
                  </a:lnTo>
                  <a:lnTo>
                    <a:pt x="296" y="596"/>
                  </a:lnTo>
                  <a:lnTo>
                    <a:pt x="303" y="681"/>
                  </a:lnTo>
                  <a:lnTo>
                    <a:pt x="319" y="765"/>
                  </a:lnTo>
                  <a:lnTo>
                    <a:pt x="332" y="838"/>
                  </a:lnTo>
                  <a:lnTo>
                    <a:pt x="361" y="912"/>
                  </a:lnTo>
                  <a:lnTo>
                    <a:pt x="402" y="978"/>
                  </a:lnTo>
                  <a:lnTo>
                    <a:pt x="460" y="1046"/>
                  </a:lnTo>
                  <a:lnTo>
                    <a:pt x="453" y="985"/>
                  </a:lnTo>
                  <a:lnTo>
                    <a:pt x="448" y="922"/>
                  </a:lnTo>
                  <a:lnTo>
                    <a:pt x="436" y="855"/>
                  </a:lnTo>
                  <a:lnTo>
                    <a:pt x="436" y="794"/>
                  </a:lnTo>
                  <a:lnTo>
                    <a:pt x="430" y="726"/>
                  </a:lnTo>
                  <a:lnTo>
                    <a:pt x="430" y="664"/>
                  </a:lnTo>
                  <a:lnTo>
                    <a:pt x="430" y="596"/>
                  </a:lnTo>
                  <a:lnTo>
                    <a:pt x="448" y="546"/>
                  </a:lnTo>
                  <a:lnTo>
                    <a:pt x="471" y="512"/>
                  </a:lnTo>
                  <a:lnTo>
                    <a:pt x="501" y="478"/>
                  </a:lnTo>
                  <a:lnTo>
                    <a:pt x="489" y="444"/>
                  </a:lnTo>
                  <a:lnTo>
                    <a:pt x="460" y="389"/>
                  </a:lnTo>
                  <a:lnTo>
                    <a:pt x="425" y="309"/>
                  </a:lnTo>
                  <a:lnTo>
                    <a:pt x="384" y="237"/>
                  </a:lnTo>
                  <a:lnTo>
                    <a:pt x="332" y="152"/>
                  </a:lnTo>
                  <a:lnTo>
                    <a:pt x="291" y="85"/>
                  </a:lnTo>
                  <a:lnTo>
                    <a:pt x="262" y="34"/>
                  </a:lnTo>
                  <a:lnTo>
                    <a:pt x="250" y="17"/>
                  </a:lnTo>
                  <a:lnTo>
                    <a:pt x="222" y="6"/>
                  </a:lnTo>
                  <a:lnTo>
                    <a:pt x="198" y="0"/>
                  </a:lnTo>
                  <a:lnTo>
                    <a:pt x="169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6127920" y="4955040"/>
              <a:ext cx="166320" cy="548640"/>
            </a:xfrm>
            <a:custGeom>
              <a:avLst/>
              <a:gdLst/>
              <a:ahLst/>
              <a:rect l="l" t="t" r="r" b="b"/>
              <a:pathLst>
                <a:path w="773" h="2355">
                  <a:moveTo>
                    <a:pt x="494" y="0"/>
                  </a:moveTo>
                  <a:lnTo>
                    <a:pt x="448" y="0"/>
                  </a:lnTo>
                  <a:lnTo>
                    <a:pt x="407" y="0"/>
                  </a:lnTo>
                  <a:lnTo>
                    <a:pt x="372" y="5"/>
                  </a:lnTo>
                  <a:lnTo>
                    <a:pt x="343" y="22"/>
                  </a:lnTo>
                  <a:lnTo>
                    <a:pt x="308" y="34"/>
                  </a:lnTo>
                  <a:lnTo>
                    <a:pt x="291" y="56"/>
                  </a:lnTo>
                  <a:lnTo>
                    <a:pt x="268" y="78"/>
                  </a:lnTo>
                  <a:lnTo>
                    <a:pt x="261" y="112"/>
                  </a:lnTo>
                  <a:lnTo>
                    <a:pt x="238" y="202"/>
                  </a:lnTo>
                  <a:lnTo>
                    <a:pt x="227" y="314"/>
                  </a:lnTo>
                  <a:lnTo>
                    <a:pt x="227" y="432"/>
                  </a:lnTo>
                  <a:lnTo>
                    <a:pt x="233" y="562"/>
                  </a:lnTo>
                  <a:lnTo>
                    <a:pt x="233" y="685"/>
                  </a:lnTo>
                  <a:lnTo>
                    <a:pt x="238" y="809"/>
                  </a:lnTo>
                  <a:lnTo>
                    <a:pt x="233" y="927"/>
                  </a:lnTo>
                  <a:lnTo>
                    <a:pt x="227" y="1028"/>
                  </a:lnTo>
                  <a:lnTo>
                    <a:pt x="209" y="1062"/>
                  </a:lnTo>
                  <a:lnTo>
                    <a:pt x="192" y="1096"/>
                  </a:lnTo>
                  <a:lnTo>
                    <a:pt x="163" y="1124"/>
                  </a:lnTo>
                  <a:lnTo>
                    <a:pt x="139" y="1158"/>
                  </a:lnTo>
                  <a:lnTo>
                    <a:pt x="111" y="1180"/>
                  </a:lnTo>
                  <a:lnTo>
                    <a:pt x="88" y="1214"/>
                  </a:lnTo>
                  <a:lnTo>
                    <a:pt x="65" y="1242"/>
                  </a:lnTo>
                  <a:lnTo>
                    <a:pt x="52" y="1276"/>
                  </a:lnTo>
                  <a:lnTo>
                    <a:pt x="35" y="1337"/>
                  </a:lnTo>
                  <a:lnTo>
                    <a:pt x="17" y="1445"/>
                  </a:lnTo>
                  <a:lnTo>
                    <a:pt x="6" y="1574"/>
                  </a:lnTo>
                  <a:lnTo>
                    <a:pt x="6" y="1726"/>
                  </a:lnTo>
                  <a:lnTo>
                    <a:pt x="0" y="1872"/>
                  </a:lnTo>
                  <a:lnTo>
                    <a:pt x="0" y="2018"/>
                  </a:lnTo>
                  <a:lnTo>
                    <a:pt x="6" y="2136"/>
                  </a:lnTo>
                  <a:lnTo>
                    <a:pt x="23" y="2226"/>
                  </a:lnTo>
                  <a:lnTo>
                    <a:pt x="40" y="2271"/>
                  </a:lnTo>
                  <a:lnTo>
                    <a:pt x="75" y="2305"/>
                  </a:lnTo>
                  <a:lnTo>
                    <a:pt x="122" y="2322"/>
                  </a:lnTo>
                  <a:lnTo>
                    <a:pt x="186" y="2344"/>
                  </a:lnTo>
                  <a:lnTo>
                    <a:pt x="250" y="2344"/>
                  </a:lnTo>
                  <a:lnTo>
                    <a:pt x="319" y="2350"/>
                  </a:lnTo>
                  <a:lnTo>
                    <a:pt x="390" y="2350"/>
                  </a:lnTo>
                  <a:lnTo>
                    <a:pt x="465" y="2355"/>
                  </a:lnTo>
                  <a:lnTo>
                    <a:pt x="453" y="2305"/>
                  </a:lnTo>
                  <a:lnTo>
                    <a:pt x="453" y="2259"/>
                  </a:lnTo>
                  <a:lnTo>
                    <a:pt x="442" y="2215"/>
                  </a:lnTo>
                  <a:lnTo>
                    <a:pt x="442" y="2170"/>
                  </a:lnTo>
                  <a:lnTo>
                    <a:pt x="436" y="2114"/>
                  </a:lnTo>
                  <a:lnTo>
                    <a:pt x="430" y="2063"/>
                  </a:lnTo>
                  <a:lnTo>
                    <a:pt x="425" y="2007"/>
                  </a:lnTo>
                  <a:lnTo>
                    <a:pt x="425" y="1957"/>
                  </a:lnTo>
                  <a:lnTo>
                    <a:pt x="418" y="1894"/>
                  </a:lnTo>
                  <a:lnTo>
                    <a:pt x="418" y="1849"/>
                  </a:lnTo>
                  <a:lnTo>
                    <a:pt x="418" y="1815"/>
                  </a:lnTo>
                  <a:lnTo>
                    <a:pt x="430" y="1793"/>
                  </a:lnTo>
                  <a:lnTo>
                    <a:pt x="436" y="1771"/>
                  </a:lnTo>
                  <a:lnTo>
                    <a:pt x="459" y="1759"/>
                  </a:lnTo>
                  <a:lnTo>
                    <a:pt x="483" y="1754"/>
                  </a:lnTo>
                  <a:lnTo>
                    <a:pt x="517" y="1754"/>
                  </a:lnTo>
                  <a:lnTo>
                    <a:pt x="511" y="1822"/>
                  </a:lnTo>
                  <a:lnTo>
                    <a:pt x="511" y="1900"/>
                  </a:lnTo>
                  <a:lnTo>
                    <a:pt x="511" y="1979"/>
                  </a:lnTo>
                  <a:lnTo>
                    <a:pt x="523" y="2057"/>
                  </a:lnTo>
                  <a:lnTo>
                    <a:pt x="523" y="2124"/>
                  </a:lnTo>
                  <a:lnTo>
                    <a:pt x="534" y="2198"/>
                  </a:lnTo>
                  <a:lnTo>
                    <a:pt x="534" y="2266"/>
                  </a:lnTo>
                  <a:lnTo>
                    <a:pt x="547" y="2327"/>
                  </a:lnTo>
                  <a:lnTo>
                    <a:pt x="575" y="2327"/>
                  </a:lnTo>
                  <a:lnTo>
                    <a:pt x="610" y="2327"/>
                  </a:lnTo>
                  <a:lnTo>
                    <a:pt x="645" y="2327"/>
                  </a:lnTo>
                  <a:lnTo>
                    <a:pt x="680" y="2327"/>
                  </a:lnTo>
                  <a:lnTo>
                    <a:pt x="680" y="2259"/>
                  </a:lnTo>
                  <a:lnTo>
                    <a:pt x="691" y="2198"/>
                  </a:lnTo>
                  <a:lnTo>
                    <a:pt x="709" y="2131"/>
                  </a:lnTo>
                  <a:lnTo>
                    <a:pt x="727" y="2063"/>
                  </a:lnTo>
                  <a:lnTo>
                    <a:pt x="739" y="1996"/>
                  </a:lnTo>
                  <a:lnTo>
                    <a:pt x="750" y="1928"/>
                  </a:lnTo>
                  <a:lnTo>
                    <a:pt x="762" y="1866"/>
                  </a:lnTo>
                  <a:lnTo>
                    <a:pt x="773" y="1815"/>
                  </a:lnTo>
                  <a:lnTo>
                    <a:pt x="767" y="1765"/>
                  </a:lnTo>
                  <a:lnTo>
                    <a:pt x="762" y="1714"/>
                  </a:lnTo>
                  <a:lnTo>
                    <a:pt x="750" y="1663"/>
                  </a:lnTo>
                  <a:lnTo>
                    <a:pt x="739" y="1619"/>
                  </a:lnTo>
                  <a:lnTo>
                    <a:pt x="721" y="1568"/>
                  </a:lnTo>
                  <a:lnTo>
                    <a:pt x="709" y="1523"/>
                  </a:lnTo>
                  <a:lnTo>
                    <a:pt x="691" y="1479"/>
                  </a:lnTo>
                  <a:lnTo>
                    <a:pt x="691" y="1439"/>
                  </a:lnTo>
                  <a:lnTo>
                    <a:pt x="674" y="1344"/>
                  </a:lnTo>
                  <a:lnTo>
                    <a:pt x="663" y="1253"/>
                  </a:lnTo>
                  <a:lnTo>
                    <a:pt x="651" y="1158"/>
                  </a:lnTo>
                  <a:lnTo>
                    <a:pt x="651" y="1067"/>
                  </a:lnTo>
                  <a:lnTo>
                    <a:pt x="640" y="972"/>
                  </a:lnTo>
                  <a:lnTo>
                    <a:pt x="633" y="876"/>
                  </a:lnTo>
                  <a:lnTo>
                    <a:pt x="628" y="781"/>
                  </a:lnTo>
                  <a:lnTo>
                    <a:pt x="622" y="691"/>
                  </a:lnTo>
                  <a:lnTo>
                    <a:pt x="610" y="613"/>
                  </a:lnTo>
                  <a:lnTo>
                    <a:pt x="610" y="534"/>
                  </a:lnTo>
                  <a:lnTo>
                    <a:pt x="605" y="449"/>
                  </a:lnTo>
                  <a:lnTo>
                    <a:pt x="605" y="365"/>
                  </a:lnTo>
                  <a:lnTo>
                    <a:pt x="605" y="275"/>
                  </a:lnTo>
                  <a:lnTo>
                    <a:pt x="605" y="185"/>
                  </a:lnTo>
                  <a:lnTo>
                    <a:pt x="605" y="101"/>
                  </a:lnTo>
                  <a:lnTo>
                    <a:pt x="610" y="22"/>
                  </a:lnTo>
                  <a:lnTo>
                    <a:pt x="575" y="10"/>
                  </a:lnTo>
                  <a:lnTo>
                    <a:pt x="552" y="5"/>
                  </a:lnTo>
                  <a:lnTo>
                    <a:pt x="523" y="0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8e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6268680" y="4957560"/>
              <a:ext cx="191160" cy="639720"/>
            </a:xfrm>
            <a:custGeom>
              <a:avLst/>
              <a:gdLst/>
              <a:ahLst/>
              <a:rect l="l" t="t" r="r" b="b"/>
              <a:pathLst>
                <a:path w="890" h="2744">
                  <a:moveTo>
                    <a:pt x="367" y="0"/>
                  </a:moveTo>
                  <a:lnTo>
                    <a:pt x="326" y="7"/>
                  </a:lnTo>
                  <a:lnTo>
                    <a:pt x="286" y="12"/>
                  </a:lnTo>
                  <a:lnTo>
                    <a:pt x="245" y="17"/>
                  </a:lnTo>
                  <a:lnTo>
                    <a:pt x="205" y="24"/>
                  </a:lnTo>
                  <a:lnTo>
                    <a:pt x="157" y="24"/>
                  </a:lnTo>
                  <a:lnTo>
                    <a:pt x="117" y="29"/>
                  </a:lnTo>
                  <a:lnTo>
                    <a:pt x="71" y="34"/>
                  </a:lnTo>
                  <a:lnTo>
                    <a:pt x="35" y="40"/>
                  </a:lnTo>
                  <a:lnTo>
                    <a:pt x="12" y="220"/>
                  </a:lnTo>
                  <a:lnTo>
                    <a:pt x="7" y="412"/>
                  </a:lnTo>
                  <a:lnTo>
                    <a:pt x="0" y="613"/>
                  </a:lnTo>
                  <a:lnTo>
                    <a:pt x="12" y="816"/>
                  </a:lnTo>
                  <a:lnTo>
                    <a:pt x="24" y="1007"/>
                  </a:lnTo>
                  <a:lnTo>
                    <a:pt x="53" y="1204"/>
                  </a:lnTo>
                  <a:lnTo>
                    <a:pt x="83" y="1390"/>
                  </a:lnTo>
                  <a:lnTo>
                    <a:pt x="129" y="1564"/>
                  </a:lnTo>
                  <a:lnTo>
                    <a:pt x="157" y="1542"/>
                  </a:lnTo>
                  <a:lnTo>
                    <a:pt x="175" y="1535"/>
                  </a:lnTo>
                  <a:lnTo>
                    <a:pt x="192" y="1542"/>
                  </a:lnTo>
                  <a:lnTo>
                    <a:pt x="233" y="1564"/>
                  </a:lnTo>
                  <a:lnTo>
                    <a:pt x="210" y="1626"/>
                  </a:lnTo>
                  <a:lnTo>
                    <a:pt x="187" y="1738"/>
                  </a:lnTo>
                  <a:lnTo>
                    <a:pt x="152" y="1873"/>
                  </a:lnTo>
                  <a:lnTo>
                    <a:pt x="123" y="2030"/>
                  </a:lnTo>
                  <a:lnTo>
                    <a:pt x="88" y="2177"/>
                  </a:lnTo>
                  <a:lnTo>
                    <a:pt x="76" y="2317"/>
                  </a:lnTo>
                  <a:lnTo>
                    <a:pt x="71" y="2425"/>
                  </a:lnTo>
                  <a:lnTo>
                    <a:pt x="88" y="2497"/>
                  </a:lnTo>
                  <a:lnTo>
                    <a:pt x="111" y="2514"/>
                  </a:lnTo>
                  <a:lnTo>
                    <a:pt x="164" y="2548"/>
                  </a:lnTo>
                  <a:lnTo>
                    <a:pt x="228" y="2582"/>
                  </a:lnTo>
                  <a:lnTo>
                    <a:pt x="309" y="2615"/>
                  </a:lnTo>
                  <a:lnTo>
                    <a:pt x="385" y="2649"/>
                  </a:lnTo>
                  <a:lnTo>
                    <a:pt x="466" y="2683"/>
                  </a:lnTo>
                  <a:lnTo>
                    <a:pt x="524" y="2710"/>
                  </a:lnTo>
                  <a:lnTo>
                    <a:pt x="570" y="2744"/>
                  </a:lnTo>
                  <a:lnTo>
                    <a:pt x="588" y="2710"/>
                  </a:lnTo>
                  <a:lnTo>
                    <a:pt x="611" y="2677"/>
                  </a:lnTo>
                  <a:lnTo>
                    <a:pt x="634" y="2649"/>
                  </a:lnTo>
                  <a:lnTo>
                    <a:pt x="657" y="2621"/>
                  </a:lnTo>
                  <a:lnTo>
                    <a:pt x="681" y="2587"/>
                  </a:lnTo>
                  <a:lnTo>
                    <a:pt x="704" y="2553"/>
                  </a:lnTo>
                  <a:lnTo>
                    <a:pt x="727" y="2526"/>
                  </a:lnTo>
                  <a:lnTo>
                    <a:pt x="756" y="2497"/>
                  </a:lnTo>
                  <a:lnTo>
                    <a:pt x="785" y="2447"/>
                  </a:lnTo>
                  <a:lnTo>
                    <a:pt x="814" y="2401"/>
                  </a:lnTo>
                  <a:lnTo>
                    <a:pt x="838" y="2357"/>
                  </a:lnTo>
                  <a:lnTo>
                    <a:pt x="867" y="2312"/>
                  </a:lnTo>
                  <a:lnTo>
                    <a:pt x="879" y="2256"/>
                  </a:lnTo>
                  <a:lnTo>
                    <a:pt x="890" y="2205"/>
                  </a:lnTo>
                  <a:lnTo>
                    <a:pt x="890" y="2148"/>
                  </a:lnTo>
                  <a:lnTo>
                    <a:pt x="890" y="2098"/>
                  </a:lnTo>
                  <a:lnTo>
                    <a:pt x="867" y="2025"/>
                  </a:lnTo>
                  <a:lnTo>
                    <a:pt x="849" y="1974"/>
                  </a:lnTo>
                  <a:lnTo>
                    <a:pt x="821" y="1923"/>
                  </a:lnTo>
                  <a:lnTo>
                    <a:pt x="797" y="1879"/>
                  </a:lnTo>
                  <a:lnTo>
                    <a:pt x="762" y="1834"/>
                  </a:lnTo>
                  <a:lnTo>
                    <a:pt x="733" y="1788"/>
                  </a:lnTo>
                  <a:lnTo>
                    <a:pt x="704" y="1738"/>
                  </a:lnTo>
                  <a:lnTo>
                    <a:pt x="687" y="1687"/>
                  </a:lnTo>
                  <a:lnTo>
                    <a:pt x="657" y="1597"/>
                  </a:lnTo>
                  <a:lnTo>
                    <a:pt x="640" y="1513"/>
                  </a:lnTo>
                  <a:lnTo>
                    <a:pt x="628" y="1423"/>
                  </a:lnTo>
                  <a:lnTo>
                    <a:pt x="628" y="1334"/>
                  </a:lnTo>
                  <a:lnTo>
                    <a:pt x="628" y="1238"/>
                  </a:lnTo>
                  <a:lnTo>
                    <a:pt x="628" y="1142"/>
                  </a:lnTo>
                  <a:lnTo>
                    <a:pt x="628" y="1040"/>
                  </a:lnTo>
                  <a:lnTo>
                    <a:pt x="634" y="946"/>
                  </a:lnTo>
                  <a:lnTo>
                    <a:pt x="535" y="929"/>
                  </a:lnTo>
                  <a:lnTo>
                    <a:pt x="460" y="917"/>
                  </a:lnTo>
                  <a:lnTo>
                    <a:pt x="390" y="906"/>
                  </a:lnTo>
                  <a:lnTo>
                    <a:pt x="337" y="895"/>
                  </a:lnTo>
                  <a:lnTo>
                    <a:pt x="286" y="866"/>
                  </a:lnTo>
                  <a:lnTo>
                    <a:pt x="245" y="833"/>
                  </a:lnTo>
                  <a:lnTo>
                    <a:pt x="210" y="777"/>
                  </a:lnTo>
                  <a:lnTo>
                    <a:pt x="180" y="709"/>
                  </a:lnTo>
                  <a:lnTo>
                    <a:pt x="187" y="698"/>
                  </a:lnTo>
                  <a:lnTo>
                    <a:pt x="205" y="687"/>
                  </a:lnTo>
                  <a:lnTo>
                    <a:pt x="222" y="675"/>
                  </a:lnTo>
                  <a:lnTo>
                    <a:pt x="233" y="670"/>
                  </a:lnTo>
                  <a:lnTo>
                    <a:pt x="251" y="726"/>
                  </a:lnTo>
                  <a:lnTo>
                    <a:pt x="286" y="777"/>
                  </a:lnTo>
                  <a:lnTo>
                    <a:pt x="326" y="810"/>
                  </a:lnTo>
                  <a:lnTo>
                    <a:pt x="378" y="833"/>
                  </a:lnTo>
                  <a:lnTo>
                    <a:pt x="431" y="844"/>
                  </a:lnTo>
                  <a:lnTo>
                    <a:pt x="501" y="856"/>
                  </a:lnTo>
                  <a:lnTo>
                    <a:pt x="570" y="861"/>
                  </a:lnTo>
                  <a:lnTo>
                    <a:pt x="651" y="878"/>
                  </a:lnTo>
                  <a:lnTo>
                    <a:pt x="640" y="844"/>
                  </a:lnTo>
                  <a:lnTo>
                    <a:pt x="634" y="810"/>
                  </a:lnTo>
                  <a:lnTo>
                    <a:pt x="623" y="777"/>
                  </a:lnTo>
                  <a:lnTo>
                    <a:pt x="623" y="748"/>
                  </a:lnTo>
                  <a:lnTo>
                    <a:pt x="646" y="738"/>
                  </a:lnTo>
                  <a:lnTo>
                    <a:pt x="687" y="721"/>
                  </a:lnTo>
                  <a:lnTo>
                    <a:pt x="722" y="698"/>
                  </a:lnTo>
                  <a:lnTo>
                    <a:pt x="739" y="692"/>
                  </a:lnTo>
                  <a:lnTo>
                    <a:pt x="739" y="670"/>
                  </a:lnTo>
                  <a:lnTo>
                    <a:pt x="727" y="653"/>
                  </a:lnTo>
                  <a:lnTo>
                    <a:pt x="710" y="642"/>
                  </a:lnTo>
                  <a:lnTo>
                    <a:pt x="681" y="630"/>
                  </a:lnTo>
                  <a:lnTo>
                    <a:pt x="651" y="620"/>
                  </a:lnTo>
                  <a:lnTo>
                    <a:pt x="616" y="608"/>
                  </a:lnTo>
                  <a:lnTo>
                    <a:pt x="588" y="603"/>
                  </a:lnTo>
                  <a:lnTo>
                    <a:pt x="565" y="596"/>
                  </a:lnTo>
                  <a:lnTo>
                    <a:pt x="553" y="596"/>
                  </a:lnTo>
                  <a:lnTo>
                    <a:pt x="512" y="574"/>
                  </a:lnTo>
                  <a:lnTo>
                    <a:pt x="507" y="574"/>
                  </a:lnTo>
                  <a:lnTo>
                    <a:pt x="512" y="579"/>
                  </a:lnTo>
                  <a:lnTo>
                    <a:pt x="535" y="591"/>
                  </a:lnTo>
                  <a:lnTo>
                    <a:pt x="553" y="596"/>
                  </a:lnTo>
                  <a:lnTo>
                    <a:pt x="565" y="603"/>
                  </a:lnTo>
                  <a:lnTo>
                    <a:pt x="559" y="596"/>
                  </a:lnTo>
                  <a:lnTo>
                    <a:pt x="542" y="579"/>
                  </a:lnTo>
                  <a:lnTo>
                    <a:pt x="535" y="574"/>
                  </a:lnTo>
                  <a:lnTo>
                    <a:pt x="530" y="569"/>
                  </a:lnTo>
                  <a:lnTo>
                    <a:pt x="494" y="540"/>
                  </a:lnTo>
                  <a:lnTo>
                    <a:pt x="448" y="507"/>
                  </a:lnTo>
                  <a:lnTo>
                    <a:pt x="396" y="468"/>
                  </a:lnTo>
                  <a:lnTo>
                    <a:pt x="349" y="429"/>
                  </a:lnTo>
                  <a:lnTo>
                    <a:pt x="297" y="383"/>
                  </a:lnTo>
                  <a:lnTo>
                    <a:pt x="263" y="338"/>
                  </a:lnTo>
                  <a:lnTo>
                    <a:pt x="233" y="294"/>
                  </a:lnTo>
                  <a:lnTo>
                    <a:pt x="233" y="260"/>
                  </a:lnTo>
                  <a:lnTo>
                    <a:pt x="245" y="237"/>
                  </a:lnTo>
                  <a:lnTo>
                    <a:pt x="251" y="220"/>
                  </a:lnTo>
                  <a:lnTo>
                    <a:pt x="286" y="231"/>
                  </a:lnTo>
                  <a:lnTo>
                    <a:pt x="320" y="260"/>
                  </a:lnTo>
                  <a:lnTo>
                    <a:pt x="355" y="294"/>
                  </a:lnTo>
                  <a:lnTo>
                    <a:pt x="396" y="327"/>
                  </a:lnTo>
                  <a:lnTo>
                    <a:pt x="431" y="361"/>
                  </a:lnTo>
                  <a:lnTo>
                    <a:pt x="471" y="395"/>
                  </a:lnTo>
                  <a:lnTo>
                    <a:pt x="512" y="429"/>
                  </a:lnTo>
                  <a:lnTo>
                    <a:pt x="553" y="461"/>
                  </a:lnTo>
                  <a:lnTo>
                    <a:pt x="535" y="412"/>
                  </a:lnTo>
                  <a:lnTo>
                    <a:pt x="535" y="378"/>
                  </a:lnTo>
                  <a:lnTo>
                    <a:pt x="524" y="338"/>
                  </a:lnTo>
                  <a:lnTo>
                    <a:pt x="517" y="299"/>
                  </a:lnTo>
                  <a:lnTo>
                    <a:pt x="494" y="254"/>
                  </a:lnTo>
                  <a:lnTo>
                    <a:pt x="477" y="214"/>
                  </a:lnTo>
                  <a:lnTo>
                    <a:pt x="460" y="175"/>
                  </a:lnTo>
                  <a:lnTo>
                    <a:pt x="443" y="142"/>
                  </a:lnTo>
                  <a:lnTo>
                    <a:pt x="419" y="102"/>
                  </a:lnTo>
                  <a:lnTo>
                    <a:pt x="402" y="68"/>
                  </a:lnTo>
                  <a:lnTo>
                    <a:pt x="385" y="34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6810120" y="4967640"/>
              <a:ext cx="244080" cy="485280"/>
            </a:xfrm>
            <a:custGeom>
              <a:avLst/>
              <a:gdLst/>
              <a:ahLst/>
              <a:rect l="l" t="t" r="r" b="b"/>
              <a:pathLst>
                <a:path w="1134" h="2086">
                  <a:moveTo>
                    <a:pt x="401" y="0"/>
                  </a:moveTo>
                  <a:lnTo>
                    <a:pt x="378" y="85"/>
                  </a:lnTo>
                  <a:lnTo>
                    <a:pt x="343" y="158"/>
                  </a:lnTo>
                  <a:lnTo>
                    <a:pt x="302" y="225"/>
                  </a:lnTo>
                  <a:lnTo>
                    <a:pt x="256" y="293"/>
                  </a:lnTo>
                  <a:lnTo>
                    <a:pt x="204" y="349"/>
                  </a:lnTo>
                  <a:lnTo>
                    <a:pt x="157" y="411"/>
                  </a:lnTo>
                  <a:lnTo>
                    <a:pt x="110" y="478"/>
                  </a:lnTo>
                  <a:lnTo>
                    <a:pt x="82" y="556"/>
                  </a:lnTo>
                  <a:lnTo>
                    <a:pt x="53" y="647"/>
                  </a:lnTo>
                  <a:lnTo>
                    <a:pt x="36" y="776"/>
                  </a:lnTo>
                  <a:lnTo>
                    <a:pt x="18" y="939"/>
                  </a:lnTo>
                  <a:lnTo>
                    <a:pt x="11" y="1119"/>
                  </a:lnTo>
                  <a:lnTo>
                    <a:pt x="0" y="1299"/>
                  </a:lnTo>
                  <a:lnTo>
                    <a:pt x="0" y="1478"/>
                  </a:lnTo>
                  <a:lnTo>
                    <a:pt x="0" y="1642"/>
                  </a:lnTo>
                  <a:lnTo>
                    <a:pt x="0" y="1788"/>
                  </a:lnTo>
                  <a:lnTo>
                    <a:pt x="87" y="1811"/>
                  </a:lnTo>
                  <a:lnTo>
                    <a:pt x="181" y="1850"/>
                  </a:lnTo>
                  <a:lnTo>
                    <a:pt x="267" y="1883"/>
                  </a:lnTo>
                  <a:lnTo>
                    <a:pt x="355" y="1929"/>
                  </a:lnTo>
                  <a:lnTo>
                    <a:pt x="436" y="1968"/>
                  </a:lnTo>
                  <a:lnTo>
                    <a:pt x="523" y="2007"/>
                  </a:lnTo>
                  <a:lnTo>
                    <a:pt x="611" y="2047"/>
                  </a:lnTo>
                  <a:lnTo>
                    <a:pt x="710" y="2086"/>
                  </a:lnTo>
                  <a:lnTo>
                    <a:pt x="710" y="2052"/>
                  </a:lnTo>
                  <a:lnTo>
                    <a:pt x="715" y="2018"/>
                  </a:lnTo>
                  <a:lnTo>
                    <a:pt x="715" y="1979"/>
                  </a:lnTo>
                  <a:lnTo>
                    <a:pt x="721" y="1946"/>
                  </a:lnTo>
                  <a:lnTo>
                    <a:pt x="721" y="1907"/>
                  </a:lnTo>
                  <a:lnTo>
                    <a:pt x="726" y="1867"/>
                  </a:lnTo>
                  <a:lnTo>
                    <a:pt x="726" y="1828"/>
                  </a:lnTo>
                  <a:lnTo>
                    <a:pt x="733" y="1788"/>
                  </a:lnTo>
                  <a:lnTo>
                    <a:pt x="680" y="1760"/>
                  </a:lnTo>
                  <a:lnTo>
                    <a:pt x="645" y="1738"/>
                  </a:lnTo>
                  <a:lnTo>
                    <a:pt x="611" y="1709"/>
                  </a:lnTo>
                  <a:lnTo>
                    <a:pt x="581" y="1687"/>
                  </a:lnTo>
                  <a:lnTo>
                    <a:pt x="546" y="1659"/>
                  </a:lnTo>
                  <a:lnTo>
                    <a:pt x="518" y="1630"/>
                  </a:lnTo>
                  <a:lnTo>
                    <a:pt x="482" y="1603"/>
                  </a:lnTo>
                  <a:lnTo>
                    <a:pt x="454" y="1574"/>
                  </a:lnTo>
                  <a:lnTo>
                    <a:pt x="431" y="1557"/>
                  </a:lnTo>
                  <a:lnTo>
                    <a:pt x="407" y="1546"/>
                  </a:lnTo>
                  <a:lnTo>
                    <a:pt x="384" y="1535"/>
                  </a:lnTo>
                  <a:lnTo>
                    <a:pt x="373" y="1524"/>
                  </a:lnTo>
                  <a:lnTo>
                    <a:pt x="349" y="1429"/>
                  </a:lnTo>
                  <a:lnTo>
                    <a:pt x="332" y="1327"/>
                  </a:lnTo>
                  <a:lnTo>
                    <a:pt x="320" y="1220"/>
                  </a:lnTo>
                  <a:lnTo>
                    <a:pt x="320" y="1113"/>
                  </a:lnTo>
                  <a:lnTo>
                    <a:pt x="314" y="1000"/>
                  </a:lnTo>
                  <a:lnTo>
                    <a:pt x="314" y="899"/>
                  </a:lnTo>
                  <a:lnTo>
                    <a:pt x="308" y="799"/>
                  </a:lnTo>
                  <a:lnTo>
                    <a:pt x="308" y="720"/>
                  </a:lnTo>
                  <a:lnTo>
                    <a:pt x="308" y="708"/>
                  </a:lnTo>
                  <a:lnTo>
                    <a:pt x="308" y="681"/>
                  </a:lnTo>
                  <a:lnTo>
                    <a:pt x="308" y="647"/>
                  </a:lnTo>
                  <a:lnTo>
                    <a:pt x="308" y="619"/>
                  </a:lnTo>
                  <a:lnTo>
                    <a:pt x="361" y="590"/>
                  </a:lnTo>
                  <a:lnTo>
                    <a:pt x="366" y="691"/>
                  </a:lnTo>
                  <a:lnTo>
                    <a:pt x="378" y="793"/>
                  </a:lnTo>
                  <a:lnTo>
                    <a:pt x="389" y="899"/>
                  </a:lnTo>
                  <a:lnTo>
                    <a:pt x="401" y="1007"/>
                  </a:lnTo>
                  <a:lnTo>
                    <a:pt x="401" y="1102"/>
                  </a:lnTo>
                  <a:lnTo>
                    <a:pt x="413" y="1198"/>
                  </a:lnTo>
                  <a:lnTo>
                    <a:pt x="424" y="1287"/>
                  </a:lnTo>
                  <a:lnTo>
                    <a:pt x="442" y="1378"/>
                  </a:lnTo>
                  <a:lnTo>
                    <a:pt x="447" y="1422"/>
                  </a:lnTo>
                  <a:lnTo>
                    <a:pt x="459" y="1463"/>
                  </a:lnTo>
                  <a:lnTo>
                    <a:pt x="477" y="1495"/>
                  </a:lnTo>
                  <a:lnTo>
                    <a:pt x="495" y="1529"/>
                  </a:lnTo>
                  <a:lnTo>
                    <a:pt x="512" y="1552"/>
                  </a:lnTo>
                  <a:lnTo>
                    <a:pt x="541" y="1580"/>
                  </a:lnTo>
                  <a:lnTo>
                    <a:pt x="570" y="1603"/>
                  </a:lnTo>
                  <a:lnTo>
                    <a:pt x="604" y="1637"/>
                  </a:lnTo>
                  <a:lnTo>
                    <a:pt x="627" y="1653"/>
                  </a:lnTo>
                  <a:lnTo>
                    <a:pt x="657" y="1670"/>
                  </a:lnTo>
                  <a:lnTo>
                    <a:pt x="692" y="1676"/>
                  </a:lnTo>
                  <a:lnTo>
                    <a:pt x="726" y="1687"/>
                  </a:lnTo>
                  <a:lnTo>
                    <a:pt x="756" y="1687"/>
                  </a:lnTo>
                  <a:lnTo>
                    <a:pt x="797" y="1687"/>
                  </a:lnTo>
                  <a:lnTo>
                    <a:pt x="832" y="1681"/>
                  </a:lnTo>
                  <a:lnTo>
                    <a:pt x="883" y="1676"/>
                  </a:lnTo>
                  <a:lnTo>
                    <a:pt x="977" y="1647"/>
                  </a:lnTo>
                  <a:lnTo>
                    <a:pt x="1040" y="1625"/>
                  </a:lnTo>
                  <a:lnTo>
                    <a:pt x="1081" y="1597"/>
                  </a:lnTo>
                  <a:lnTo>
                    <a:pt x="1104" y="1569"/>
                  </a:lnTo>
                  <a:lnTo>
                    <a:pt x="1111" y="1524"/>
                  </a:lnTo>
                  <a:lnTo>
                    <a:pt x="1116" y="1468"/>
                  </a:lnTo>
                  <a:lnTo>
                    <a:pt x="1116" y="1395"/>
                  </a:lnTo>
                  <a:lnTo>
                    <a:pt x="1134" y="1304"/>
                  </a:lnTo>
                  <a:lnTo>
                    <a:pt x="1087" y="1311"/>
                  </a:lnTo>
                  <a:lnTo>
                    <a:pt x="1047" y="1321"/>
                  </a:lnTo>
                  <a:lnTo>
                    <a:pt x="1000" y="1327"/>
                  </a:lnTo>
                  <a:lnTo>
                    <a:pt x="959" y="1344"/>
                  </a:lnTo>
                  <a:lnTo>
                    <a:pt x="907" y="1350"/>
                  </a:lnTo>
                  <a:lnTo>
                    <a:pt x="866" y="1355"/>
                  </a:lnTo>
                  <a:lnTo>
                    <a:pt x="814" y="1361"/>
                  </a:lnTo>
                  <a:lnTo>
                    <a:pt x="773" y="1367"/>
                  </a:lnTo>
                  <a:lnTo>
                    <a:pt x="773" y="1260"/>
                  </a:lnTo>
                  <a:lnTo>
                    <a:pt x="779" y="1125"/>
                  </a:lnTo>
                  <a:lnTo>
                    <a:pt x="784" y="967"/>
                  </a:lnTo>
                  <a:lnTo>
                    <a:pt x="797" y="810"/>
                  </a:lnTo>
                  <a:lnTo>
                    <a:pt x="797" y="647"/>
                  </a:lnTo>
                  <a:lnTo>
                    <a:pt x="802" y="506"/>
                  </a:lnTo>
                  <a:lnTo>
                    <a:pt x="791" y="394"/>
                  </a:lnTo>
                  <a:lnTo>
                    <a:pt x="773" y="338"/>
                  </a:lnTo>
                  <a:lnTo>
                    <a:pt x="744" y="304"/>
                  </a:lnTo>
                  <a:lnTo>
                    <a:pt x="715" y="276"/>
                  </a:lnTo>
                  <a:lnTo>
                    <a:pt x="675" y="254"/>
                  </a:lnTo>
                  <a:lnTo>
                    <a:pt x="639" y="237"/>
                  </a:lnTo>
                  <a:lnTo>
                    <a:pt x="593" y="220"/>
                  </a:lnTo>
                  <a:lnTo>
                    <a:pt x="553" y="203"/>
                  </a:lnTo>
                  <a:lnTo>
                    <a:pt x="506" y="191"/>
                  </a:lnTo>
                  <a:lnTo>
                    <a:pt x="472" y="180"/>
                  </a:lnTo>
                  <a:lnTo>
                    <a:pt x="472" y="158"/>
                  </a:lnTo>
                  <a:lnTo>
                    <a:pt x="472" y="141"/>
                  </a:lnTo>
                  <a:lnTo>
                    <a:pt x="500" y="141"/>
                  </a:lnTo>
                  <a:lnTo>
                    <a:pt x="530" y="146"/>
                  </a:lnTo>
                  <a:lnTo>
                    <a:pt x="541" y="146"/>
                  </a:lnTo>
                  <a:lnTo>
                    <a:pt x="558" y="141"/>
                  </a:lnTo>
                  <a:lnTo>
                    <a:pt x="564" y="119"/>
                  </a:lnTo>
                  <a:lnTo>
                    <a:pt x="570" y="95"/>
                  </a:lnTo>
                  <a:lnTo>
                    <a:pt x="570" y="62"/>
                  </a:lnTo>
                  <a:lnTo>
                    <a:pt x="576" y="23"/>
                  </a:lnTo>
                  <a:lnTo>
                    <a:pt x="518" y="17"/>
                  </a:lnTo>
                  <a:lnTo>
                    <a:pt x="482" y="11"/>
                  </a:lnTo>
                  <a:lnTo>
                    <a:pt x="442" y="6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6553080" y="4998240"/>
              <a:ext cx="248040" cy="421200"/>
            </a:xfrm>
            <a:custGeom>
              <a:avLst/>
              <a:gdLst/>
              <a:ahLst/>
              <a:rect l="l" t="t" r="r" b="b"/>
              <a:pathLst>
                <a:path w="1151" h="1811">
                  <a:moveTo>
                    <a:pt x="540" y="6"/>
                  </a:moveTo>
                  <a:lnTo>
                    <a:pt x="500" y="6"/>
                  </a:lnTo>
                  <a:lnTo>
                    <a:pt x="465" y="23"/>
                  </a:lnTo>
                  <a:lnTo>
                    <a:pt x="436" y="39"/>
                  </a:lnTo>
                  <a:lnTo>
                    <a:pt x="406" y="68"/>
                  </a:lnTo>
                  <a:lnTo>
                    <a:pt x="348" y="119"/>
                  </a:lnTo>
                  <a:lnTo>
                    <a:pt x="302" y="163"/>
                  </a:lnTo>
                  <a:lnTo>
                    <a:pt x="261" y="180"/>
                  </a:lnTo>
                  <a:lnTo>
                    <a:pt x="226" y="197"/>
                  </a:lnTo>
                  <a:lnTo>
                    <a:pt x="180" y="220"/>
                  </a:lnTo>
                  <a:lnTo>
                    <a:pt x="145" y="242"/>
                  </a:lnTo>
                  <a:lnTo>
                    <a:pt x="99" y="264"/>
                  </a:lnTo>
                  <a:lnTo>
                    <a:pt x="64" y="293"/>
                  </a:lnTo>
                  <a:lnTo>
                    <a:pt x="35" y="320"/>
                  </a:lnTo>
                  <a:lnTo>
                    <a:pt x="23" y="354"/>
                  </a:lnTo>
                  <a:lnTo>
                    <a:pt x="6" y="394"/>
                  </a:lnTo>
                  <a:lnTo>
                    <a:pt x="6" y="472"/>
                  </a:lnTo>
                  <a:lnTo>
                    <a:pt x="0" y="568"/>
                  </a:lnTo>
                  <a:lnTo>
                    <a:pt x="6" y="681"/>
                  </a:lnTo>
                  <a:lnTo>
                    <a:pt x="6" y="787"/>
                  </a:lnTo>
                  <a:lnTo>
                    <a:pt x="18" y="899"/>
                  </a:lnTo>
                  <a:lnTo>
                    <a:pt x="29" y="995"/>
                  </a:lnTo>
                  <a:lnTo>
                    <a:pt x="46" y="1074"/>
                  </a:lnTo>
                  <a:lnTo>
                    <a:pt x="58" y="1113"/>
                  </a:lnTo>
                  <a:lnTo>
                    <a:pt x="76" y="1159"/>
                  </a:lnTo>
                  <a:lnTo>
                    <a:pt x="99" y="1203"/>
                  </a:lnTo>
                  <a:lnTo>
                    <a:pt x="122" y="1254"/>
                  </a:lnTo>
                  <a:lnTo>
                    <a:pt x="145" y="1299"/>
                  </a:lnTo>
                  <a:lnTo>
                    <a:pt x="168" y="1350"/>
                  </a:lnTo>
                  <a:lnTo>
                    <a:pt x="192" y="1394"/>
                  </a:lnTo>
                  <a:lnTo>
                    <a:pt x="221" y="1439"/>
                  </a:lnTo>
                  <a:lnTo>
                    <a:pt x="238" y="1485"/>
                  </a:lnTo>
                  <a:lnTo>
                    <a:pt x="256" y="1546"/>
                  </a:lnTo>
                  <a:lnTo>
                    <a:pt x="279" y="1613"/>
                  </a:lnTo>
                  <a:lnTo>
                    <a:pt x="314" y="1681"/>
                  </a:lnTo>
                  <a:lnTo>
                    <a:pt x="337" y="1726"/>
                  </a:lnTo>
                  <a:lnTo>
                    <a:pt x="372" y="1760"/>
                  </a:lnTo>
                  <a:lnTo>
                    <a:pt x="401" y="1760"/>
                  </a:lnTo>
                  <a:lnTo>
                    <a:pt x="436" y="1721"/>
                  </a:lnTo>
                  <a:lnTo>
                    <a:pt x="447" y="1681"/>
                  </a:lnTo>
                  <a:lnTo>
                    <a:pt x="477" y="1647"/>
                  </a:lnTo>
                  <a:lnTo>
                    <a:pt x="494" y="1613"/>
                  </a:lnTo>
                  <a:lnTo>
                    <a:pt x="512" y="1591"/>
                  </a:lnTo>
                  <a:lnTo>
                    <a:pt x="512" y="1518"/>
                  </a:lnTo>
                  <a:lnTo>
                    <a:pt x="500" y="1445"/>
                  </a:lnTo>
                  <a:lnTo>
                    <a:pt x="471" y="1367"/>
                  </a:lnTo>
                  <a:lnTo>
                    <a:pt x="442" y="1287"/>
                  </a:lnTo>
                  <a:lnTo>
                    <a:pt x="395" y="1209"/>
                  </a:lnTo>
                  <a:lnTo>
                    <a:pt x="360" y="1136"/>
                  </a:lnTo>
                  <a:lnTo>
                    <a:pt x="325" y="1068"/>
                  </a:lnTo>
                  <a:lnTo>
                    <a:pt x="314" y="1012"/>
                  </a:lnTo>
                  <a:lnTo>
                    <a:pt x="297" y="956"/>
                  </a:lnTo>
                  <a:lnTo>
                    <a:pt x="291" y="906"/>
                  </a:lnTo>
                  <a:lnTo>
                    <a:pt x="279" y="849"/>
                  </a:lnTo>
                  <a:lnTo>
                    <a:pt x="279" y="798"/>
                  </a:lnTo>
                  <a:lnTo>
                    <a:pt x="274" y="737"/>
                  </a:lnTo>
                  <a:lnTo>
                    <a:pt x="274" y="681"/>
                  </a:lnTo>
                  <a:lnTo>
                    <a:pt x="274" y="624"/>
                  </a:lnTo>
                  <a:lnTo>
                    <a:pt x="274" y="573"/>
                  </a:lnTo>
                  <a:lnTo>
                    <a:pt x="308" y="590"/>
                  </a:lnTo>
                  <a:lnTo>
                    <a:pt x="332" y="607"/>
                  </a:lnTo>
                  <a:lnTo>
                    <a:pt x="337" y="613"/>
                  </a:lnTo>
                  <a:lnTo>
                    <a:pt x="343" y="630"/>
                  </a:lnTo>
                  <a:lnTo>
                    <a:pt x="348" y="647"/>
                  </a:lnTo>
                  <a:lnTo>
                    <a:pt x="355" y="686"/>
                  </a:lnTo>
                  <a:lnTo>
                    <a:pt x="360" y="793"/>
                  </a:lnTo>
                  <a:lnTo>
                    <a:pt x="378" y="906"/>
                  </a:lnTo>
                  <a:lnTo>
                    <a:pt x="395" y="1024"/>
                  </a:lnTo>
                  <a:lnTo>
                    <a:pt x="431" y="1147"/>
                  </a:lnTo>
                  <a:lnTo>
                    <a:pt x="454" y="1260"/>
                  </a:lnTo>
                  <a:lnTo>
                    <a:pt x="494" y="1367"/>
                  </a:lnTo>
                  <a:lnTo>
                    <a:pt x="528" y="1456"/>
                  </a:lnTo>
                  <a:lnTo>
                    <a:pt x="581" y="1541"/>
                  </a:lnTo>
                  <a:lnTo>
                    <a:pt x="604" y="1557"/>
                  </a:lnTo>
                  <a:lnTo>
                    <a:pt x="639" y="1580"/>
                  </a:lnTo>
                  <a:lnTo>
                    <a:pt x="669" y="1597"/>
                  </a:lnTo>
                  <a:lnTo>
                    <a:pt x="697" y="1620"/>
                  </a:lnTo>
                  <a:lnTo>
                    <a:pt x="756" y="1811"/>
                  </a:lnTo>
                  <a:lnTo>
                    <a:pt x="768" y="1805"/>
                  </a:lnTo>
                  <a:lnTo>
                    <a:pt x="802" y="1805"/>
                  </a:lnTo>
                  <a:lnTo>
                    <a:pt x="854" y="1799"/>
                  </a:lnTo>
                  <a:lnTo>
                    <a:pt x="924" y="1794"/>
                  </a:lnTo>
                  <a:lnTo>
                    <a:pt x="982" y="1782"/>
                  </a:lnTo>
                  <a:lnTo>
                    <a:pt x="1034" y="1782"/>
                  </a:lnTo>
                  <a:lnTo>
                    <a:pt x="1075" y="1772"/>
                  </a:lnTo>
                  <a:lnTo>
                    <a:pt x="1098" y="1772"/>
                  </a:lnTo>
                  <a:lnTo>
                    <a:pt x="1104" y="1698"/>
                  </a:lnTo>
                  <a:lnTo>
                    <a:pt x="1116" y="1546"/>
                  </a:lnTo>
                  <a:lnTo>
                    <a:pt x="1121" y="1333"/>
                  </a:lnTo>
                  <a:lnTo>
                    <a:pt x="1133" y="1102"/>
                  </a:lnTo>
                  <a:lnTo>
                    <a:pt x="1139" y="860"/>
                  </a:lnTo>
                  <a:lnTo>
                    <a:pt x="1145" y="658"/>
                  </a:lnTo>
                  <a:lnTo>
                    <a:pt x="1145" y="506"/>
                  </a:lnTo>
                  <a:lnTo>
                    <a:pt x="1151" y="455"/>
                  </a:lnTo>
                  <a:lnTo>
                    <a:pt x="1139" y="445"/>
                  </a:lnTo>
                  <a:lnTo>
                    <a:pt x="1128" y="433"/>
                  </a:lnTo>
                  <a:lnTo>
                    <a:pt x="1104" y="404"/>
                  </a:lnTo>
                  <a:lnTo>
                    <a:pt x="1121" y="416"/>
                  </a:lnTo>
                  <a:lnTo>
                    <a:pt x="1133" y="433"/>
                  </a:lnTo>
                  <a:lnTo>
                    <a:pt x="1110" y="421"/>
                  </a:lnTo>
                  <a:lnTo>
                    <a:pt x="1081" y="399"/>
                  </a:lnTo>
                  <a:lnTo>
                    <a:pt x="1058" y="399"/>
                  </a:lnTo>
                  <a:lnTo>
                    <a:pt x="1034" y="399"/>
                  </a:lnTo>
                  <a:lnTo>
                    <a:pt x="1005" y="394"/>
                  </a:lnTo>
                  <a:lnTo>
                    <a:pt x="976" y="377"/>
                  </a:lnTo>
                  <a:lnTo>
                    <a:pt x="953" y="360"/>
                  </a:lnTo>
                  <a:lnTo>
                    <a:pt x="918" y="332"/>
                  </a:lnTo>
                  <a:lnTo>
                    <a:pt x="890" y="310"/>
                  </a:lnTo>
                  <a:lnTo>
                    <a:pt x="854" y="281"/>
                  </a:lnTo>
                  <a:lnTo>
                    <a:pt x="825" y="254"/>
                  </a:lnTo>
                  <a:lnTo>
                    <a:pt x="796" y="230"/>
                  </a:lnTo>
                  <a:lnTo>
                    <a:pt x="779" y="214"/>
                  </a:lnTo>
                  <a:lnTo>
                    <a:pt x="732" y="163"/>
                  </a:lnTo>
                  <a:lnTo>
                    <a:pt x="692" y="107"/>
                  </a:lnTo>
                  <a:lnTo>
                    <a:pt x="645" y="56"/>
                  </a:lnTo>
                  <a:lnTo>
                    <a:pt x="593" y="23"/>
                  </a:lnTo>
                  <a:lnTo>
                    <a:pt x="593" y="11"/>
                  </a:lnTo>
                  <a:lnTo>
                    <a:pt x="593" y="6"/>
                  </a:lnTo>
                  <a:lnTo>
                    <a:pt x="563" y="0"/>
                  </a:lnTo>
                  <a:lnTo>
                    <a:pt x="540" y="6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7108920" y="4996800"/>
              <a:ext cx="184320" cy="950040"/>
            </a:xfrm>
            <a:custGeom>
              <a:avLst/>
              <a:gdLst/>
              <a:ahLst/>
              <a:rect l="l" t="t" r="r" b="b"/>
              <a:pathLst>
                <a:path w="855" h="4083">
                  <a:moveTo>
                    <a:pt x="209" y="12"/>
                  </a:moveTo>
                  <a:lnTo>
                    <a:pt x="168" y="40"/>
                  </a:lnTo>
                  <a:lnTo>
                    <a:pt x="157" y="91"/>
                  </a:lnTo>
                  <a:lnTo>
                    <a:pt x="151" y="135"/>
                  </a:lnTo>
                  <a:lnTo>
                    <a:pt x="157" y="158"/>
                  </a:lnTo>
                  <a:lnTo>
                    <a:pt x="110" y="186"/>
                  </a:lnTo>
                  <a:lnTo>
                    <a:pt x="70" y="236"/>
                  </a:lnTo>
                  <a:lnTo>
                    <a:pt x="29" y="287"/>
                  </a:lnTo>
                  <a:lnTo>
                    <a:pt x="11" y="338"/>
                  </a:lnTo>
                  <a:lnTo>
                    <a:pt x="0" y="383"/>
                  </a:lnTo>
                  <a:lnTo>
                    <a:pt x="6" y="451"/>
                  </a:lnTo>
                  <a:lnTo>
                    <a:pt x="11" y="523"/>
                  </a:lnTo>
                  <a:lnTo>
                    <a:pt x="29" y="602"/>
                  </a:lnTo>
                  <a:lnTo>
                    <a:pt x="41" y="670"/>
                  </a:lnTo>
                  <a:lnTo>
                    <a:pt x="59" y="731"/>
                  </a:lnTo>
                  <a:lnTo>
                    <a:pt x="70" y="770"/>
                  </a:lnTo>
                  <a:lnTo>
                    <a:pt x="76" y="787"/>
                  </a:lnTo>
                  <a:lnTo>
                    <a:pt x="41" y="979"/>
                  </a:lnTo>
                  <a:lnTo>
                    <a:pt x="47" y="996"/>
                  </a:lnTo>
                  <a:lnTo>
                    <a:pt x="76" y="1047"/>
                  </a:lnTo>
                  <a:lnTo>
                    <a:pt x="87" y="1074"/>
                  </a:lnTo>
                  <a:lnTo>
                    <a:pt x="99" y="1102"/>
                  </a:lnTo>
                  <a:lnTo>
                    <a:pt x="105" y="1131"/>
                  </a:lnTo>
                  <a:lnTo>
                    <a:pt x="117" y="1158"/>
                  </a:lnTo>
                  <a:lnTo>
                    <a:pt x="110" y="1187"/>
                  </a:lnTo>
                  <a:lnTo>
                    <a:pt x="105" y="1238"/>
                  </a:lnTo>
                  <a:lnTo>
                    <a:pt x="87" y="1288"/>
                  </a:lnTo>
                  <a:lnTo>
                    <a:pt x="76" y="1349"/>
                  </a:lnTo>
                  <a:lnTo>
                    <a:pt x="59" y="1400"/>
                  </a:lnTo>
                  <a:lnTo>
                    <a:pt x="47" y="1445"/>
                  </a:lnTo>
                  <a:lnTo>
                    <a:pt x="41" y="1479"/>
                  </a:lnTo>
                  <a:lnTo>
                    <a:pt x="52" y="1496"/>
                  </a:lnTo>
                  <a:lnTo>
                    <a:pt x="64" y="1552"/>
                  </a:lnTo>
                  <a:lnTo>
                    <a:pt x="82" y="1626"/>
                  </a:lnTo>
                  <a:lnTo>
                    <a:pt x="105" y="1699"/>
                  </a:lnTo>
                  <a:lnTo>
                    <a:pt x="134" y="1783"/>
                  </a:lnTo>
                  <a:lnTo>
                    <a:pt x="151" y="1861"/>
                  </a:lnTo>
                  <a:lnTo>
                    <a:pt x="168" y="1940"/>
                  </a:lnTo>
                  <a:lnTo>
                    <a:pt x="168" y="2013"/>
                  </a:lnTo>
                  <a:lnTo>
                    <a:pt x="168" y="2087"/>
                  </a:lnTo>
                  <a:lnTo>
                    <a:pt x="145" y="2131"/>
                  </a:lnTo>
                  <a:lnTo>
                    <a:pt x="105" y="2182"/>
                  </a:lnTo>
                  <a:lnTo>
                    <a:pt x="87" y="2210"/>
                  </a:lnTo>
                  <a:lnTo>
                    <a:pt x="70" y="2244"/>
                  </a:lnTo>
                  <a:lnTo>
                    <a:pt x="59" y="2289"/>
                  </a:lnTo>
                  <a:lnTo>
                    <a:pt x="64" y="2345"/>
                  </a:lnTo>
                  <a:lnTo>
                    <a:pt x="64" y="2384"/>
                  </a:lnTo>
                  <a:lnTo>
                    <a:pt x="82" y="2430"/>
                  </a:lnTo>
                  <a:lnTo>
                    <a:pt x="99" y="2469"/>
                  </a:lnTo>
                  <a:lnTo>
                    <a:pt x="122" y="2514"/>
                  </a:lnTo>
                  <a:lnTo>
                    <a:pt x="140" y="2553"/>
                  </a:lnTo>
                  <a:lnTo>
                    <a:pt x="157" y="2592"/>
                  </a:lnTo>
                  <a:lnTo>
                    <a:pt x="168" y="2626"/>
                  </a:lnTo>
                  <a:lnTo>
                    <a:pt x="186" y="2666"/>
                  </a:lnTo>
                  <a:lnTo>
                    <a:pt x="186" y="2710"/>
                  </a:lnTo>
                  <a:lnTo>
                    <a:pt x="186" y="2761"/>
                  </a:lnTo>
                  <a:lnTo>
                    <a:pt x="181" y="2818"/>
                  </a:lnTo>
                  <a:lnTo>
                    <a:pt x="175" y="2879"/>
                  </a:lnTo>
                  <a:lnTo>
                    <a:pt x="163" y="2930"/>
                  </a:lnTo>
                  <a:lnTo>
                    <a:pt x="151" y="2986"/>
                  </a:lnTo>
                  <a:lnTo>
                    <a:pt x="145" y="3036"/>
                  </a:lnTo>
                  <a:lnTo>
                    <a:pt x="145" y="3093"/>
                  </a:lnTo>
                  <a:lnTo>
                    <a:pt x="134" y="3200"/>
                  </a:lnTo>
                  <a:lnTo>
                    <a:pt x="128" y="3318"/>
                  </a:lnTo>
                  <a:lnTo>
                    <a:pt x="122" y="3436"/>
                  </a:lnTo>
                  <a:lnTo>
                    <a:pt x="122" y="3554"/>
                  </a:lnTo>
                  <a:lnTo>
                    <a:pt x="117" y="3672"/>
                  </a:lnTo>
                  <a:lnTo>
                    <a:pt x="117" y="3790"/>
                  </a:lnTo>
                  <a:lnTo>
                    <a:pt x="117" y="3909"/>
                  </a:lnTo>
                  <a:lnTo>
                    <a:pt x="117" y="4032"/>
                  </a:lnTo>
                  <a:lnTo>
                    <a:pt x="163" y="4049"/>
                  </a:lnTo>
                  <a:lnTo>
                    <a:pt x="216" y="4066"/>
                  </a:lnTo>
                  <a:lnTo>
                    <a:pt x="274" y="4071"/>
                  </a:lnTo>
                  <a:lnTo>
                    <a:pt x="343" y="4083"/>
                  </a:lnTo>
                  <a:lnTo>
                    <a:pt x="407" y="4083"/>
                  </a:lnTo>
                  <a:lnTo>
                    <a:pt x="471" y="4083"/>
                  </a:lnTo>
                  <a:lnTo>
                    <a:pt x="535" y="4076"/>
                  </a:lnTo>
                  <a:lnTo>
                    <a:pt x="599" y="4071"/>
                  </a:lnTo>
                  <a:lnTo>
                    <a:pt x="634" y="4043"/>
                  </a:lnTo>
                  <a:lnTo>
                    <a:pt x="657" y="4004"/>
                  </a:lnTo>
                  <a:lnTo>
                    <a:pt x="657" y="3948"/>
                  </a:lnTo>
                  <a:lnTo>
                    <a:pt x="657" y="3885"/>
                  </a:lnTo>
                  <a:lnTo>
                    <a:pt x="639" y="3813"/>
                  </a:lnTo>
                  <a:lnTo>
                    <a:pt x="627" y="3745"/>
                  </a:lnTo>
                  <a:lnTo>
                    <a:pt x="616" y="3678"/>
                  </a:lnTo>
                  <a:lnTo>
                    <a:pt x="622" y="3622"/>
                  </a:lnTo>
                  <a:lnTo>
                    <a:pt x="627" y="3543"/>
                  </a:lnTo>
                  <a:lnTo>
                    <a:pt x="652" y="3470"/>
                  </a:lnTo>
                  <a:lnTo>
                    <a:pt x="680" y="3391"/>
                  </a:lnTo>
                  <a:lnTo>
                    <a:pt x="715" y="3323"/>
                  </a:lnTo>
                  <a:lnTo>
                    <a:pt x="744" y="3250"/>
                  </a:lnTo>
                  <a:lnTo>
                    <a:pt x="773" y="3178"/>
                  </a:lnTo>
                  <a:lnTo>
                    <a:pt x="802" y="3110"/>
                  </a:lnTo>
                  <a:lnTo>
                    <a:pt x="825" y="3042"/>
                  </a:lnTo>
                  <a:lnTo>
                    <a:pt x="843" y="2891"/>
                  </a:lnTo>
                  <a:lnTo>
                    <a:pt x="855" y="2727"/>
                  </a:lnTo>
                  <a:lnTo>
                    <a:pt x="849" y="2548"/>
                  </a:lnTo>
                  <a:lnTo>
                    <a:pt x="849" y="2367"/>
                  </a:lnTo>
                  <a:lnTo>
                    <a:pt x="837" y="2176"/>
                  </a:lnTo>
                  <a:lnTo>
                    <a:pt x="832" y="1996"/>
                  </a:lnTo>
                  <a:lnTo>
                    <a:pt x="825" y="1817"/>
                  </a:lnTo>
                  <a:lnTo>
                    <a:pt x="825" y="1659"/>
                  </a:lnTo>
                  <a:lnTo>
                    <a:pt x="756" y="1636"/>
                  </a:lnTo>
                  <a:lnTo>
                    <a:pt x="686" y="1614"/>
                  </a:lnTo>
                  <a:lnTo>
                    <a:pt x="611" y="1592"/>
                  </a:lnTo>
                  <a:lnTo>
                    <a:pt x="535" y="1575"/>
                  </a:lnTo>
                  <a:lnTo>
                    <a:pt x="454" y="1552"/>
                  </a:lnTo>
                  <a:lnTo>
                    <a:pt x="384" y="1541"/>
                  </a:lnTo>
                  <a:lnTo>
                    <a:pt x="314" y="1530"/>
                  </a:lnTo>
                  <a:lnTo>
                    <a:pt x="250" y="1530"/>
                  </a:lnTo>
                  <a:lnTo>
                    <a:pt x="221" y="1366"/>
                  </a:lnTo>
                  <a:lnTo>
                    <a:pt x="209" y="1204"/>
                  </a:lnTo>
                  <a:lnTo>
                    <a:pt x="198" y="1040"/>
                  </a:lnTo>
                  <a:lnTo>
                    <a:pt x="198" y="883"/>
                  </a:lnTo>
                  <a:lnTo>
                    <a:pt x="198" y="721"/>
                  </a:lnTo>
                  <a:lnTo>
                    <a:pt x="204" y="557"/>
                  </a:lnTo>
                  <a:lnTo>
                    <a:pt x="216" y="394"/>
                  </a:lnTo>
                  <a:lnTo>
                    <a:pt x="239" y="243"/>
                  </a:lnTo>
                  <a:lnTo>
                    <a:pt x="262" y="236"/>
                  </a:lnTo>
                  <a:lnTo>
                    <a:pt x="308" y="231"/>
                  </a:lnTo>
                  <a:lnTo>
                    <a:pt x="355" y="220"/>
                  </a:lnTo>
                  <a:lnTo>
                    <a:pt x="384" y="220"/>
                  </a:lnTo>
                  <a:lnTo>
                    <a:pt x="401" y="220"/>
                  </a:lnTo>
                  <a:lnTo>
                    <a:pt x="424" y="231"/>
                  </a:lnTo>
                  <a:lnTo>
                    <a:pt x="407" y="192"/>
                  </a:lnTo>
                  <a:lnTo>
                    <a:pt x="396" y="158"/>
                  </a:lnTo>
                  <a:lnTo>
                    <a:pt x="378" y="113"/>
                  </a:lnTo>
                  <a:lnTo>
                    <a:pt x="366" y="79"/>
                  </a:lnTo>
                  <a:lnTo>
                    <a:pt x="338" y="40"/>
                  </a:lnTo>
                  <a:lnTo>
                    <a:pt x="302" y="17"/>
                  </a:lnTo>
                  <a:lnTo>
                    <a:pt x="262" y="0"/>
                  </a:lnTo>
                  <a:lnTo>
                    <a:pt x="209" y="12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7478640" y="5018040"/>
              <a:ext cx="55080" cy="46800"/>
            </a:xfrm>
            <a:custGeom>
              <a:avLst/>
              <a:gdLst/>
              <a:ahLst/>
              <a:rect l="l" t="t" r="r" b="b"/>
              <a:pathLst>
                <a:path w="256" h="201">
                  <a:moveTo>
                    <a:pt x="94" y="0"/>
                  </a:moveTo>
                  <a:lnTo>
                    <a:pt x="64" y="34"/>
                  </a:lnTo>
                  <a:lnTo>
                    <a:pt x="36" y="73"/>
                  </a:lnTo>
                  <a:lnTo>
                    <a:pt x="12" y="106"/>
                  </a:lnTo>
                  <a:lnTo>
                    <a:pt x="0" y="140"/>
                  </a:lnTo>
                  <a:lnTo>
                    <a:pt x="0" y="162"/>
                  </a:lnTo>
                  <a:lnTo>
                    <a:pt x="23" y="184"/>
                  </a:lnTo>
                  <a:lnTo>
                    <a:pt x="71" y="196"/>
                  </a:lnTo>
                  <a:lnTo>
                    <a:pt x="152" y="201"/>
                  </a:lnTo>
                  <a:lnTo>
                    <a:pt x="204" y="191"/>
                  </a:lnTo>
                  <a:lnTo>
                    <a:pt x="244" y="169"/>
                  </a:lnTo>
                  <a:lnTo>
                    <a:pt x="256" y="135"/>
                  </a:lnTo>
                  <a:lnTo>
                    <a:pt x="251" y="101"/>
                  </a:lnTo>
                  <a:lnTo>
                    <a:pt x="228" y="61"/>
                  </a:lnTo>
                  <a:lnTo>
                    <a:pt x="193" y="34"/>
                  </a:lnTo>
                  <a:lnTo>
                    <a:pt x="146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5795640" y="5028120"/>
              <a:ext cx="16920" cy="83520"/>
            </a:xfrm>
            <a:custGeom>
              <a:avLst/>
              <a:gdLst/>
              <a:ahLst/>
              <a:rect l="l" t="t" r="r" b="b"/>
              <a:pathLst>
                <a:path w="76" h="360">
                  <a:moveTo>
                    <a:pt x="6" y="0"/>
                  </a:moveTo>
                  <a:lnTo>
                    <a:pt x="0" y="34"/>
                  </a:lnTo>
                  <a:lnTo>
                    <a:pt x="0" y="73"/>
                  </a:lnTo>
                  <a:lnTo>
                    <a:pt x="0" y="113"/>
                  </a:lnTo>
                  <a:lnTo>
                    <a:pt x="0" y="157"/>
                  </a:lnTo>
                  <a:lnTo>
                    <a:pt x="0" y="191"/>
                  </a:lnTo>
                  <a:lnTo>
                    <a:pt x="0" y="241"/>
                  </a:lnTo>
                  <a:lnTo>
                    <a:pt x="0" y="287"/>
                  </a:lnTo>
                  <a:lnTo>
                    <a:pt x="6" y="348"/>
                  </a:lnTo>
                  <a:lnTo>
                    <a:pt x="46" y="360"/>
                  </a:lnTo>
                  <a:lnTo>
                    <a:pt x="46" y="321"/>
                  </a:lnTo>
                  <a:lnTo>
                    <a:pt x="52" y="280"/>
                  </a:lnTo>
                  <a:lnTo>
                    <a:pt x="59" y="236"/>
                  </a:lnTo>
                  <a:lnTo>
                    <a:pt x="64" y="196"/>
                  </a:lnTo>
                  <a:lnTo>
                    <a:pt x="64" y="145"/>
                  </a:lnTo>
                  <a:lnTo>
                    <a:pt x="70" y="101"/>
                  </a:lnTo>
                  <a:lnTo>
                    <a:pt x="70" y="56"/>
                  </a:lnTo>
                  <a:lnTo>
                    <a:pt x="76" y="11"/>
                  </a:lnTo>
                  <a:lnTo>
                    <a:pt x="59" y="5"/>
                  </a:lnTo>
                  <a:lnTo>
                    <a:pt x="41" y="5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7362000" y="5057640"/>
              <a:ext cx="366840" cy="416160"/>
            </a:xfrm>
            <a:custGeom>
              <a:avLst/>
              <a:gdLst/>
              <a:ahLst/>
              <a:rect l="l" t="t" r="r" b="b"/>
              <a:pathLst>
                <a:path w="1703" h="1787">
                  <a:moveTo>
                    <a:pt x="982" y="0"/>
                  </a:moveTo>
                  <a:lnTo>
                    <a:pt x="948" y="10"/>
                  </a:lnTo>
                  <a:lnTo>
                    <a:pt x="907" y="44"/>
                  </a:lnTo>
                  <a:lnTo>
                    <a:pt x="860" y="78"/>
                  </a:lnTo>
                  <a:lnTo>
                    <a:pt x="819" y="100"/>
                  </a:lnTo>
                  <a:lnTo>
                    <a:pt x="756" y="100"/>
                  </a:lnTo>
                  <a:lnTo>
                    <a:pt x="697" y="100"/>
                  </a:lnTo>
                  <a:lnTo>
                    <a:pt x="639" y="89"/>
                  </a:lnTo>
                  <a:lnTo>
                    <a:pt x="588" y="83"/>
                  </a:lnTo>
                  <a:lnTo>
                    <a:pt x="529" y="66"/>
                  </a:lnTo>
                  <a:lnTo>
                    <a:pt x="477" y="66"/>
                  </a:lnTo>
                  <a:lnTo>
                    <a:pt x="424" y="66"/>
                  </a:lnTo>
                  <a:lnTo>
                    <a:pt x="383" y="89"/>
                  </a:lnTo>
                  <a:lnTo>
                    <a:pt x="337" y="111"/>
                  </a:lnTo>
                  <a:lnTo>
                    <a:pt x="308" y="150"/>
                  </a:lnTo>
                  <a:lnTo>
                    <a:pt x="274" y="196"/>
                  </a:lnTo>
                  <a:lnTo>
                    <a:pt x="251" y="252"/>
                  </a:lnTo>
                  <a:lnTo>
                    <a:pt x="226" y="302"/>
                  </a:lnTo>
                  <a:lnTo>
                    <a:pt x="203" y="365"/>
                  </a:lnTo>
                  <a:lnTo>
                    <a:pt x="186" y="415"/>
                  </a:lnTo>
                  <a:lnTo>
                    <a:pt x="168" y="471"/>
                  </a:lnTo>
                  <a:lnTo>
                    <a:pt x="145" y="505"/>
                  </a:lnTo>
                  <a:lnTo>
                    <a:pt x="122" y="550"/>
                  </a:lnTo>
                  <a:lnTo>
                    <a:pt x="99" y="595"/>
                  </a:lnTo>
                  <a:lnTo>
                    <a:pt x="76" y="645"/>
                  </a:lnTo>
                  <a:lnTo>
                    <a:pt x="46" y="691"/>
                  </a:lnTo>
                  <a:lnTo>
                    <a:pt x="29" y="741"/>
                  </a:lnTo>
                  <a:lnTo>
                    <a:pt x="12" y="787"/>
                  </a:lnTo>
                  <a:lnTo>
                    <a:pt x="6" y="837"/>
                  </a:lnTo>
                  <a:lnTo>
                    <a:pt x="0" y="961"/>
                  </a:lnTo>
                  <a:lnTo>
                    <a:pt x="35" y="1089"/>
                  </a:lnTo>
                  <a:lnTo>
                    <a:pt x="87" y="1219"/>
                  </a:lnTo>
                  <a:lnTo>
                    <a:pt x="157" y="1354"/>
                  </a:lnTo>
                  <a:lnTo>
                    <a:pt x="226" y="1478"/>
                  </a:lnTo>
                  <a:lnTo>
                    <a:pt x="308" y="1596"/>
                  </a:lnTo>
                  <a:lnTo>
                    <a:pt x="378" y="1697"/>
                  </a:lnTo>
                  <a:lnTo>
                    <a:pt x="448" y="1787"/>
                  </a:lnTo>
                  <a:lnTo>
                    <a:pt x="512" y="1646"/>
                  </a:lnTo>
                  <a:lnTo>
                    <a:pt x="552" y="1551"/>
                  </a:lnTo>
                  <a:lnTo>
                    <a:pt x="558" y="1472"/>
                  </a:lnTo>
                  <a:lnTo>
                    <a:pt x="546" y="1416"/>
                  </a:lnTo>
                  <a:lnTo>
                    <a:pt x="512" y="1354"/>
                  </a:lnTo>
                  <a:lnTo>
                    <a:pt x="465" y="1287"/>
                  </a:lnTo>
                  <a:lnTo>
                    <a:pt x="401" y="1202"/>
                  </a:lnTo>
                  <a:lnTo>
                    <a:pt x="343" y="1096"/>
                  </a:lnTo>
                  <a:lnTo>
                    <a:pt x="343" y="1000"/>
                  </a:lnTo>
                  <a:lnTo>
                    <a:pt x="395" y="1045"/>
                  </a:lnTo>
                  <a:lnTo>
                    <a:pt x="448" y="1096"/>
                  </a:lnTo>
                  <a:lnTo>
                    <a:pt x="500" y="1157"/>
                  </a:lnTo>
                  <a:lnTo>
                    <a:pt x="552" y="1224"/>
                  </a:lnTo>
                  <a:lnTo>
                    <a:pt x="593" y="1292"/>
                  </a:lnTo>
                  <a:lnTo>
                    <a:pt x="639" y="1366"/>
                  </a:lnTo>
                  <a:lnTo>
                    <a:pt x="674" y="1433"/>
                  </a:lnTo>
                  <a:lnTo>
                    <a:pt x="715" y="1506"/>
                  </a:lnTo>
                  <a:lnTo>
                    <a:pt x="738" y="1501"/>
                  </a:lnTo>
                  <a:lnTo>
                    <a:pt x="768" y="1501"/>
                  </a:lnTo>
                  <a:lnTo>
                    <a:pt x="796" y="1501"/>
                  </a:lnTo>
                  <a:lnTo>
                    <a:pt x="808" y="1506"/>
                  </a:lnTo>
                  <a:lnTo>
                    <a:pt x="907" y="1528"/>
                  </a:lnTo>
                  <a:lnTo>
                    <a:pt x="1011" y="1557"/>
                  </a:lnTo>
                  <a:lnTo>
                    <a:pt x="1098" y="1568"/>
                  </a:lnTo>
                  <a:lnTo>
                    <a:pt x="1174" y="1568"/>
                  </a:lnTo>
                  <a:lnTo>
                    <a:pt x="1227" y="1535"/>
                  </a:lnTo>
                  <a:lnTo>
                    <a:pt x="1262" y="1478"/>
                  </a:lnTo>
                  <a:lnTo>
                    <a:pt x="1267" y="1383"/>
                  </a:lnTo>
                  <a:lnTo>
                    <a:pt x="1250" y="1248"/>
                  </a:lnTo>
                  <a:lnTo>
                    <a:pt x="1232" y="1185"/>
                  </a:lnTo>
                  <a:lnTo>
                    <a:pt x="1220" y="1123"/>
                  </a:lnTo>
                  <a:lnTo>
                    <a:pt x="1204" y="1057"/>
                  </a:lnTo>
                  <a:lnTo>
                    <a:pt x="1192" y="994"/>
                  </a:lnTo>
                  <a:lnTo>
                    <a:pt x="1174" y="922"/>
                  </a:lnTo>
                  <a:lnTo>
                    <a:pt x="1163" y="854"/>
                  </a:lnTo>
                  <a:lnTo>
                    <a:pt x="1156" y="787"/>
                  </a:lnTo>
                  <a:lnTo>
                    <a:pt x="1156" y="730"/>
                  </a:lnTo>
                  <a:lnTo>
                    <a:pt x="1156" y="713"/>
                  </a:lnTo>
                  <a:lnTo>
                    <a:pt x="1163" y="691"/>
                  </a:lnTo>
                  <a:lnTo>
                    <a:pt x="1163" y="674"/>
                  </a:lnTo>
                  <a:lnTo>
                    <a:pt x="1168" y="668"/>
                  </a:lnTo>
                  <a:lnTo>
                    <a:pt x="1174" y="668"/>
                  </a:lnTo>
                  <a:lnTo>
                    <a:pt x="1192" y="674"/>
                  </a:lnTo>
                  <a:lnTo>
                    <a:pt x="1209" y="674"/>
                  </a:lnTo>
                  <a:lnTo>
                    <a:pt x="1220" y="679"/>
                  </a:lnTo>
                  <a:lnTo>
                    <a:pt x="1232" y="787"/>
                  </a:lnTo>
                  <a:lnTo>
                    <a:pt x="1250" y="898"/>
                  </a:lnTo>
                  <a:lnTo>
                    <a:pt x="1273" y="1011"/>
                  </a:lnTo>
                  <a:lnTo>
                    <a:pt x="1302" y="1123"/>
                  </a:lnTo>
                  <a:lnTo>
                    <a:pt x="1325" y="1231"/>
                  </a:lnTo>
                  <a:lnTo>
                    <a:pt x="1354" y="1343"/>
                  </a:lnTo>
                  <a:lnTo>
                    <a:pt x="1377" y="1450"/>
                  </a:lnTo>
                  <a:lnTo>
                    <a:pt x="1407" y="1557"/>
                  </a:lnTo>
                  <a:lnTo>
                    <a:pt x="1442" y="1545"/>
                  </a:lnTo>
                  <a:lnTo>
                    <a:pt x="1482" y="1545"/>
                  </a:lnTo>
                  <a:lnTo>
                    <a:pt x="1517" y="1545"/>
                  </a:lnTo>
                  <a:lnTo>
                    <a:pt x="1557" y="1551"/>
                  </a:lnTo>
                  <a:lnTo>
                    <a:pt x="1592" y="1551"/>
                  </a:lnTo>
                  <a:lnTo>
                    <a:pt x="1627" y="1562"/>
                  </a:lnTo>
                  <a:lnTo>
                    <a:pt x="1663" y="1568"/>
                  </a:lnTo>
                  <a:lnTo>
                    <a:pt x="1703" y="1584"/>
                  </a:lnTo>
                  <a:lnTo>
                    <a:pt x="1680" y="1540"/>
                  </a:lnTo>
                  <a:lnTo>
                    <a:pt x="1663" y="1494"/>
                  </a:lnTo>
                  <a:lnTo>
                    <a:pt x="1627" y="1427"/>
                  </a:lnTo>
                  <a:lnTo>
                    <a:pt x="1598" y="1366"/>
                  </a:lnTo>
                  <a:lnTo>
                    <a:pt x="1557" y="1292"/>
                  </a:lnTo>
                  <a:lnTo>
                    <a:pt x="1523" y="1224"/>
                  </a:lnTo>
                  <a:lnTo>
                    <a:pt x="1488" y="1152"/>
                  </a:lnTo>
                  <a:lnTo>
                    <a:pt x="1458" y="1079"/>
                  </a:lnTo>
                  <a:lnTo>
                    <a:pt x="1435" y="1011"/>
                  </a:lnTo>
                  <a:lnTo>
                    <a:pt x="1435" y="949"/>
                  </a:lnTo>
                  <a:lnTo>
                    <a:pt x="1442" y="888"/>
                  </a:lnTo>
                  <a:lnTo>
                    <a:pt x="1470" y="831"/>
                  </a:lnTo>
                  <a:lnTo>
                    <a:pt x="1476" y="797"/>
                  </a:lnTo>
                  <a:lnTo>
                    <a:pt x="1488" y="770"/>
                  </a:lnTo>
                  <a:lnTo>
                    <a:pt x="1488" y="736"/>
                  </a:lnTo>
                  <a:lnTo>
                    <a:pt x="1488" y="707"/>
                  </a:lnTo>
                  <a:lnTo>
                    <a:pt x="1476" y="691"/>
                  </a:lnTo>
                  <a:lnTo>
                    <a:pt x="1447" y="662"/>
                  </a:lnTo>
                  <a:lnTo>
                    <a:pt x="1418" y="635"/>
                  </a:lnTo>
                  <a:lnTo>
                    <a:pt x="1407" y="618"/>
                  </a:lnTo>
                  <a:lnTo>
                    <a:pt x="1372" y="533"/>
                  </a:lnTo>
                  <a:lnTo>
                    <a:pt x="1354" y="454"/>
                  </a:lnTo>
                  <a:lnTo>
                    <a:pt x="1331" y="370"/>
                  </a:lnTo>
                  <a:lnTo>
                    <a:pt x="1313" y="297"/>
                  </a:lnTo>
                  <a:lnTo>
                    <a:pt x="1278" y="224"/>
                  </a:lnTo>
                  <a:lnTo>
                    <a:pt x="1250" y="162"/>
                  </a:lnTo>
                  <a:lnTo>
                    <a:pt x="1204" y="106"/>
                  </a:lnTo>
                  <a:lnTo>
                    <a:pt x="1145" y="61"/>
                  </a:lnTo>
                  <a:lnTo>
                    <a:pt x="1110" y="39"/>
                  </a:lnTo>
                  <a:lnTo>
                    <a:pt x="1070" y="15"/>
                  </a:lnTo>
                  <a:lnTo>
                    <a:pt x="1024" y="0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7166880" y="5064840"/>
              <a:ext cx="200160" cy="310320"/>
            </a:xfrm>
            <a:custGeom>
              <a:avLst/>
              <a:gdLst/>
              <a:ahLst/>
              <a:rect l="l" t="t" r="r" b="b"/>
              <a:pathLst>
                <a:path w="930" h="1334">
                  <a:moveTo>
                    <a:pt x="23" y="0"/>
                  </a:moveTo>
                  <a:lnTo>
                    <a:pt x="7" y="130"/>
                  </a:lnTo>
                  <a:lnTo>
                    <a:pt x="0" y="270"/>
                  </a:lnTo>
                  <a:lnTo>
                    <a:pt x="0" y="422"/>
                  </a:lnTo>
                  <a:lnTo>
                    <a:pt x="0" y="574"/>
                  </a:lnTo>
                  <a:lnTo>
                    <a:pt x="0" y="726"/>
                  </a:lnTo>
                  <a:lnTo>
                    <a:pt x="18" y="878"/>
                  </a:lnTo>
                  <a:lnTo>
                    <a:pt x="30" y="1018"/>
                  </a:lnTo>
                  <a:lnTo>
                    <a:pt x="53" y="1165"/>
                  </a:lnTo>
                  <a:lnTo>
                    <a:pt x="146" y="1192"/>
                  </a:lnTo>
                  <a:lnTo>
                    <a:pt x="251" y="1226"/>
                  </a:lnTo>
                  <a:lnTo>
                    <a:pt x="355" y="1249"/>
                  </a:lnTo>
                  <a:lnTo>
                    <a:pt x="471" y="1271"/>
                  </a:lnTo>
                  <a:lnTo>
                    <a:pt x="588" y="1288"/>
                  </a:lnTo>
                  <a:lnTo>
                    <a:pt x="704" y="1305"/>
                  </a:lnTo>
                  <a:lnTo>
                    <a:pt x="814" y="1317"/>
                  </a:lnTo>
                  <a:lnTo>
                    <a:pt x="930" y="1334"/>
                  </a:lnTo>
                  <a:lnTo>
                    <a:pt x="919" y="1317"/>
                  </a:lnTo>
                  <a:lnTo>
                    <a:pt x="919" y="1288"/>
                  </a:lnTo>
                  <a:lnTo>
                    <a:pt x="913" y="1266"/>
                  </a:lnTo>
                  <a:lnTo>
                    <a:pt x="907" y="1232"/>
                  </a:lnTo>
                  <a:lnTo>
                    <a:pt x="902" y="1216"/>
                  </a:lnTo>
                  <a:lnTo>
                    <a:pt x="884" y="1170"/>
                  </a:lnTo>
                  <a:lnTo>
                    <a:pt x="872" y="1131"/>
                  </a:lnTo>
                  <a:lnTo>
                    <a:pt x="861" y="1091"/>
                  </a:lnTo>
                  <a:lnTo>
                    <a:pt x="854" y="1057"/>
                  </a:lnTo>
                  <a:lnTo>
                    <a:pt x="844" y="1018"/>
                  </a:lnTo>
                  <a:lnTo>
                    <a:pt x="837" y="979"/>
                  </a:lnTo>
                  <a:lnTo>
                    <a:pt x="826" y="946"/>
                  </a:lnTo>
                  <a:lnTo>
                    <a:pt x="826" y="917"/>
                  </a:lnTo>
                  <a:lnTo>
                    <a:pt x="756" y="917"/>
                  </a:lnTo>
                  <a:lnTo>
                    <a:pt x="692" y="929"/>
                  </a:lnTo>
                  <a:lnTo>
                    <a:pt x="628" y="929"/>
                  </a:lnTo>
                  <a:lnTo>
                    <a:pt x="565" y="940"/>
                  </a:lnTo>
                  <a:lnTo>
                    <a:pt x="494" y="940"/>
                  </a:lnTo>
                  <a:lnTo>
                    <a:pt x="436" y="946"/>
                  </a:lnTo>
                  <a:lnTo>
                    <a:pt x="372" y="946"/>
                  </a:lnTo>
                  <a:lnTo>
                    <a:pt x="314" y="946"/>
                  </a:lnTo>
                  <a:lnTo>
                    <a:pt x="337" y="923"/>
                  </a:lnTo>
                  <a:lnTo>
                    <a:pt x="396" y="895"/>
                  </a:lnTo>
                  <a:lnTo>
                    <a:pt x="378" y="788"/>
                  </a:lnTo>
                  <a:lnTo>
                    <a:pt x="360" y="675"/>
                  </a:lnTo>
                  <a:lnTo>
                    <a:pt x="337" y="563"/>
                  </a:lnTo>
                  <a:lnTo>
                    <a:pt x="320" y="456"/>
                  </a:lnTo>
                  <a:lnTo>
                    <a:pt x="291" y="344"/>
                  </a:lnTo>
                  <a:lnTo>
                    <a:pt x="268" y="248"/>
                  </a:lnTo>
                  <a:lnTo>
                    <a:pt x="233" y="159"/>
                  </a:lnTo>
                  <a:lnTo>
                    <a:pt x="198" y="85"/>
                  </a:lnTo>
                  <a:lnTo>
                    <a:pt x="164" y="34"/>
                  </a:lnTo>
                  <a:lnTo>
                    <a:pt x="134" y="17"/>
                  </a:lnTo>
                  <a:lnTo>
                    <a:pt x="111" y="7"/>
                  </a:lnTo>
                  <a:lnTo>
                    <a:pt x="94" y="7"/>
                  </a:lnTo>
                  <a:lnTo>
                    <a:pt x="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7226280" y="5080680"/>
              <a:ext cx="54000" cy="186120"/>
            </a:xfrm>
            <a:custGeom>
              <a:avLst/>
              <a:gdLst/>
              <a:ahLst/>
              <a:rect l="l" t="t" r="r" b="b"/>
              <a:pathLst>
                <a:path w="250" h="798">
                  <a:moveTo>
                    <a:pt x="0" y="0"/>
                  </a:moveTo>
                  <a:lnTo>
                    <a:pt x="24" y="91"/>
                  </a:lnTo>
                  <a:lnTo>
                    <a:pt x="47" y="192"/>
                  </a:lnTo>
                  <a:lnTo>
                    <a:pt x="65" y="293"/>
                  </a:lnTo>
                  <a:lnTo>
                    <a:pt x="88" y="400"/>
                  </a:lnTo>
                  <a:lnTo>
                    <a:pt x="106" y="501"/>
                  </a:lnTo>
                  <a:lnTo>
                    <a:pt x="129" y="602"/>
                  </a:lnTo>
                  <a:lnTo>
                    <a:pt x="152" y="697"/>
                  </a:lnTo>
                  <a:lnTo>
                    <a:pt x="187" y="798"/>
                  </a:lnTo>
                  <a:lnTo>
                    <a:pt x="215" y="793"/>
                  </a:lnTo>
                  <a:lnTo>
                    <a:pt x="250" y="798"/>
                  </a:lnTo>
                  <a:lnTo>
                    <a:pt x="227" y="687"/>
                  </a:lnTo>
                  <a:lnTo>
                    <a:pt x="210" y="574"/>
                  </a:lnTo>
                  <a:lnTo>
                    <a:pt x="187" y="461"/>
                  </a:lnTo>
                  <a:lnTo>
                    <a:pt x="164" y="361"/>
                  </a:lnTo>
                  <a:lnTo>
                    <a:pt x="129" y="253"/>
                  </a:lnTo>
                  <a:lnTo>
                    <a:pt x="93" y="158"/>
                  </a:lnTo>
                  <a:lnTo>
                    <a:pt x="4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6418800" y="5174280"/>
              <a:ext cx="26640" cy="194760"/>
            </a:xfrm>
            <a:custGeom>
              <a:avLst/>
              <a:gdLst/>
              <a:ahLst/>
              <a:rect l="l" t="t" r="r" b="b"/>
              <a:pathLst>
                <a:path w="129" h="837">
                  <a:moveTo>
                    <a:pt x="76" y="0"/>
                  </a:moveTo>
                  <a:lnTo>
                    <a:pt x="30" y="56"/>
                  </a:lnTo>
                  <a:lnTo>
                    <a:pt x="7" y="152"/>
                  </a:lnTo>
                  <a:lnTo>
                    <a:pt x="0" y="258"/>
                  </a:lnTo>
                  <a:lnTo>
                    <a:pt x="7" y="382"/>
                  </a:lnTo>
                  <a:lnTo>
                    <a:pt x="18" y="500"/>
                  </a:lnTo>
                  <a:lnTo>
                    <a:pt x="41" y="618"/>
                  </a:lnTo>
                  <a:lnTo>
                    <a:pt x="70" y="714"/>
                  </a:lnTo>
                  <a:lnTo>
                    <a:pt x="99" y="798"/>
                  </a:lnTo>
                  <a:lnTo>
                    <a:pt x="111" y="815"/>
                  </a:lnTo>
                  <a:lnTo>
                    <a:pt x="129" y="837"/>
                  </a:lnTo>
                  <a:lnTo>
                    <a:pt x="122" y="724"/>
                  </a:lnTo>
                  <a:lnTo>
                    <a:pt x="122" y="613"/>
                  </a:lnTo>
                  <a:lnTo>
                    <a:pt x="116" y="494"/>
                  </a:lnTo>
                  <a:lnTo>
                    <a:pt x="116" y="382"/>
                  </a:lnTo>
                  <a:lnTo>
                    <a:pt x="105" y="263"/>
                  </a:lnTo>
                  <a:lnTo>
                    <a:pt x="99" y="162"/>
                  </a:lnTo>
                  <a:lnTo>
                    <a:pt x="88" y="7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6409440" y="5233680"/>
              <a:ext cx="161280" cy="395640"/>
            </a:xfrm>
            <a:custGeom>
              <a:avLst/>
              <a:gdLst/>
              <a:ahLst/>
              <a:rect l="l" t="t" r="r" b="b"/>
              <a:pathLst>
                <a:path w="750" h="1699">
                  <a:moveTo>
                    <a:pt x="228" y="0"/>
                  </a:moveTo>
                  <a:lnTo>
                    <a:pt x="216" y="101"/>
                  </a:lnTo>
                  <a:lnTo>
                    <a:pt x="216" y="236"/>
                  </a:lnTo>
                  <a:lnTo>
                    <a:pt x="221" y="394"/>
                  </a:lnTo>
                  <a:lnTo>
                    <a:pt x="239" y="557"/>
                  </a:lnTo>
                  <a:lnTo>
                    <a:pt x="256" y="709"/>
                  </a:lnTo>
                  <a:lnTo>
                    <a:pt x="286" y="849"/>
                  </a:lnTo>
                  <a:lnTo>
                    <a:pt x="320" y="956"/>
                  </a:lnTo>
                  <a:lnTo>
                    <a:pt x="367" y="1018"/>
                  </a:lnTo>
                  <a:lnTo>
                    <a:pt x="327" y="1091"/>
                  </a:lnTo>
                  <a:lnTo>
                    <a:pt x="286" y="1164"/>
                  </a:lnTo>
                  <a:lnTo>
                    <a:pt x="239" y="1226"/>
                  </a:lnTo>
                  <a:lnTo>
                    <a:pt x="193" y="1293"/>
                  </a:lnTo>
                  <a:lnTo>
                    <a:pt x="140" y="1356"/>
                  </a:lnTo>
                  <a:lnTo>
                    <a:pt x="94" y="1417"/>
                  </a:lnTo>
                  <a:lnTo>
                    <a:pt x="41" y="1484"/>
                  </a:lnTo>
                  <a:lnTo>
                    <a:pt x="0" y="1557"/>
                  </a:lnTo>
                  <a:lnTo>
                    <a:pt x="13" y="1586"/>
                  </a:lnTo>
                  <a:lnTo>
                    <a:pt x="30" y="1619"/>
                  </a:lnTo>
                  <a:lnTo>
                    <a:pt x="48" y="1648"/>
                  </a:lnTo>
                  <a:lnTo>
                    <a:pt x="76" y="1675"/>
                  </a:lnTo>
                  <a:lnTo>
                    <a:pt x="129" y="1699"/>
                  </a:lnTo>
                  <a:lnTo>
                    <a:pt x="175" y="1682"/>
                  </a:lnTo>
                  <a:lnTo>
                    <a:pt x="216" y="1642"/>
                  </a:lnTo>
                  <a:lnTo>
                    <a:pt x="262" y="1597"/>
                  </a:lnTo>
                  <a:lnTo>
                    <a:pt x="297" y="1552"/>
                  </a:lnTo>
                  <a:lnTo>
                    <a:pt x="350" y="1501"/>
                  </a:lnTo>
                  <a:lnTo>
                    <a:pt x="413" y="1439"/>
                  </a:lnTo>
                  <a:lnTo>
                    <a:pt x="489" y="1378"/>
                  </a:lnTo>
                  <a:lnTo>
                    <a:pt x="553" y="1310"/>
                  </a:lnTo>
                  <a:lnTo>
                    <a:pt x="611" y="1248"/>
                  </a:lnTo>
                  <a:lnTo>
                    <a:pt x="652" y="1192"/>
                  </a:lnTo>
                  <a:lnTo>
                    <a:pt x="675" y="1158"/>
                  </a:lnTo>
                  <a:lnTo>
                    <a:pt x="675" y="1108"/>
                  </a:lnTo>
                  <a:lnTo>
                    <a:pt x="669" y="1057"/>
                  </a:lnTo>
                  <a:lnTo>
                    <a:pt x="657" y="995"/>
                  </a:lnTo>
                  <a:lnTo>
                    <a:pt x="664" y="939"/>
                  </a:lnTo>
                  <a:lnTo>
                    <a:pt x="669" y="871"/>
                  </a:lnTo>
                  <a:lnTo>
                    <a:pt x="680" y="804"/>
                  </a:lnTo>
                  <a:lnTo>
                    <a:pt x="698" y="726"/>
                  </a:lnTo>
                  <a:lnTo>
                    <a:pt x="721" y="647"/>
                  </a:lnTo>
                  <a:lnTo>
                    <a:pt x="733" y="562"/>
                  </a:lnTo>
                  <a:lnTo>
                    <a:pt x="750" y="478"/>
                  </a:lnTo>
                  <a:lnTo>
                    <a:pt x="750" y="394"/>
                  </a:lnTo>
                  <a:lnTo>
                    <a:pt x="745" y="321"/>
                  </a:lnTo>
                  <a:lnTo>
                    <a:pt x="692" y="242"/>
                  </a:lnTo>
                  <a:lnTo>
                    <a:pt x="639" y="225"/>
                  </a:lnTo>
                  <a:lnTo>
                    <a:pt x="599" y="220"/>
                  </a:lnTo>
                  <a:lnTo>
                    <a:pt x="553" y="214"/>
                  </a:lnTo>
                  <a:lnTo>
                    <a:pt x="518" y="208"/>
                  </a:lnTo>
                  <a:lnTo>
                    <a:pt x="471" y="180"/>
                  </a:lnTo>
                  <a:lnTo>
                    <a:pt x="436" y="157"/>
                  </a:lnTo>
                  <a:lnTo>
                    <a:pt x="401" y="130"/>
                  </a:lnTo>
                  <a:lnTo>
                    <a:pt x="367" y="101"/>
                  </a:lnTo>
                  <a:lnTo>
                    <a:pt x="332" y="73"/>
                  </a:lnTo>
                  <a:lnTo>
                    <a:pt x="297" y="45"/>
                  </a:lnTo>
                  <a:lnTo>
                    <a:pt x="262" y="17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7060680" y="5264280"/>
              <a:ext cx="59400" cy="60120"/>
            </a:xfrm>
            <a:custGeom>
              <a:avLst/>
              <a:gdLst/>
              <a:ahLst/>
              <a:rect l="l" t="t" r="r" b="b"/>
              <a:pathLst>
                <a:path w="272" h="258">
                  <a:moveTo>
                    <a:pt x="180" y="0"/>
                  </a:moveTo>
                  <a:lnTo>
                    <a:pt x="122" y="10"/>
                  </a:lnTo>
                  <a:lnTo>
                    <a:pt x="69" y="50"/>
                  </a:lnTo>
                  <a:lnTo>
                    <a:pt x="23" y="95"/>
                  </a:lnTo>
                  <a:lnTo>
                    <a:pt x="5" y="152"/>
                  </a:lnTo>
                  <a:lnTo>
                    <a:pt x="0" y="196"/>
                  </a:lnTo>
                  <a:lnTo>
                    <a:pt x="11" y="235"/>
                  </a:lnTo>
                  <a:lnTo>
                    <a:pt x="34" y="252"/>
                  </a:lnTo>
                  <a:lnTo>
                    <a:pt x="86" y="258"/>
                  </a:lnTo>
                  <a:lnTo>
                    <a:pt x="92" y="252"/>
                  </a:lnTo>
                  <a:lnTo>
                    <a:pt x="104" y="252"/>
                  </a:lnTo>
                  <a:lnTo>
                    <a:pt x="110" y="247"/>
                  </a:lnTo>
                  <a:lnTo>
                    <a:pt x="99" y="247"/>
                  </a:lnTo>
                  <a:lnTo>
                    <a:pt x="157" y="218"/>
                  </a:lnTo>
                  <a:lnTo>
                    <a:pt x="208" y="186"/>
                  </a:lnTo>
                  <a:lnTo>
                    <a:pt x="243" y="140"/>
                  </a:lnTo>
                  <a:lnTo>
                    <a:pt x="267" y="101"/>
                  </a:lnTo>
                  <a:lnTo>
                    <a:pt x="272" y="56"/>
                  </a:lnTo>
                  <a:lnTo>
                    <a:pt x="261" y="22"/>
                  </a:lnTo>
                  <a:lnTo>
                    <a:pt x="22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6660000" y="5378040"/>
              <a:ext cx="38880" cy="39240"/>
            </a:xfrm>
            <a:custGeom>
              <a:avLst/>
              <a:gdLst/>
              <a:ahLst/>
              <a:rect l="l" t="t" r="r" b="b"/>
              <a:pathLst>
                <a:path w="186" h="169">
                  <a:moveTo>
                    <a:pt x="76" y="0"/>
                  </a:moveTo>
                  <a:lnTo>
                    <a:pt x="52" y="29"/>
                  </a:lnTo>
                  <a:lnTo>
                    <a:pt x="29" y="57"/>
                  </a:lnTo>
                  <a:lnTo>
                    <a:pt x="11" y="85"/>
                  </a:lnTo>
                  <a:lnTo>
                    <a:pt x="6" y="118"/>
                  </a:lnTo>
                  <a:lnTo>
                    <a:pt x="0" y="135"/>
                  </a:lnTo>
                  <a:lnTo>
                    <a:pt x="11" y="159"/>
                  </a:lnTo>
                  <a:lnTo>
                    <a:pt x="41" y="164"/>
                  </a:lnTo>
                  <a:lnTo>
                    <a:pt x="99" y="169"/>
                  </a:lnTo>
                  <a:lnTo>
                    <a:pt x="151" y="152"/>
                  </a:lnTo>
                  <a:lnTo>
                    <a:pt x="180" y="135"/>
                  </a:lnTo>
                  <a:lnTo>
                    <a:pt x="186" y="108"/>
                  </a:lnTo>
                  <a:lnTo>
                    <a:pt x="180" y="85"/>
                  </a:lnTo>
                  <a:lnTo>
                    <a:pt x="157" y="57"/>
                  </a:lnTo>
                  <a:lnTo>
                    <a:pt x="133" y="34"/>
                  </a:lnTo>
                  <a:lnTo>
                    <a:pt x="99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6595560" y="5380560"/>
              <a:ext cx="16560" cy="34200"/>
            </a:xfrm>
            <a:custGeom>
              <a:avLst/>
              <a:gdLst/>
              <a:ahLst/>
              <a:rect l="l" t="t" r="r" b="b"/>
              <a:pathLst>
                <a:path w="76" h="147">
                  <a:moveTo>
                    <a:pt x="23" y="0"/>
                  </a:moveTo>
                  <a:lnTo>
                    <a:pt x="11" y="51"/>
                  </a:lnTo>
                  <a:lnTo>
                    <a:pt x="0" y="106"/>
                  </a:lnTo>
                  <a:lnTo>
                    <a:pt x="0" y="123"/>
                  </a:lnTo>
                  <a:lnTo>
                    <a:pt x="5" y="140"/>
                  </a:lnTo>
                  <a:lnTo>
                    <a:pt x="17" y="147"/>
                  </a:lnTo>
                  <a:lnTo>
                    <a:pt x="51" y="147"/>
                  </a:lnTo>
                  <a:lnTo>
                    <a:pt x="76" y="113"/>
                  </a:lnTo>
                  <a:lnTo>
                    <a:pt x="69" y="73"/>
                  </a:lnTo>
                  <a:lnTo>
                    <a:pt x="4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7323480" y="5390280"/>
              <a:ext cx="33120" cy="68760"/>
            </a:xfrm>
            <a:custGeom>
              <a:avLst/>
              <a:gdLst/>
              <a:ahLst/>
              <a:rect l="l" t="t" r="r" b="b"/>
              <a:pathLst>
                <a:path w="157" h="298">
                  <a:moveTo>
                    <a:pt x="41" y="0"/>
                  </a:moveTo>
                  <a:lnTo>
                    <a:pt x="0" y="298"/>
                  </a:lnTo>
                  <a:lnTo>
                    <a:pt x="29" y="292"/>
                  </a:lnTo>
                  <a:lnTo>
                    <a:pt x="58" y="287"/>
                  </a:lnTo>
                  <a:lnTo>
                    <a:pt x="87" y="287"/>
                  </a:lnTo>
                  <a:lnTo>
                    <a:pt x="110" y="287"/>
                  </a:lnTo>
                  <a:lnTo>
                    <a:pt x="127" y="236"/>
                  </a:lnTo>
                  <a:lnTo>
                    <a:pt x="145" y="186"/>
                  </a:lnTo>
                  <a:lnTo>
                    <a:pt x="152" y="141"/>
                  </a:lnTo>
                  <a:lnTo>
                    <a:pt x="157" y="108"/>
                  </a:lnTo>
                  <a:lnTo>
                    <a:pt x="140" y="67"/>
                  </a:lnTo>
                  <a:lnTo>
                    <a:pt x="122" y="40"/>
                  </a:lnTo>
                  <a:lnTo>
                    <a:pt x="87" y="1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7300080" y="5392800"/>
              <a:ext cx="11520" cy="33120"/>
            </a:xfrm>
            <a:custGeom>
              <a:avLst/>
              <a:gdLst/>
              <a:ahLst/>
              <a:rect l="l" t="t" r="r" b="b"/>
              <a:pathLst>
                <a:path w="51" h="145">
                  <a:moveTo>
                    <a:pt x="17" y="0"/>
                  </a:moveTo>
                  <a:lnTo>
                    <a:pt x="5" y="3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28" y="145"/>
                  </a:lnTo>
                  <a:lnTo>
                    <a:pt x="51" y="101"/>
                  </a:lnTo>
                  <a:lnTo>
                    <a:pt x="46" y="62"/>
                  </a:lnTo>
                  <a:lnTo>
                    <a:pt x="23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7788600" y="5392800"/>
              <a:ext cx="83880" cy="126720"/>
            </a:xfrm>
            <a:custGeom>
              <a:avLst/>
              <a:gdLst/>
              <a:ahLst/>
              <a:rect l="l" t="t" r="r" b="b"/>
              <a:pathLst>
                <a:path w="389" h="545">
                  <a:moveTo>
                    <a:pt x="215" y="0"/>
                  </a:moveTo>
                  <a:lnTo>
                    <a:pt x="175" y="33"/>
                  </a:lnTo>
                  <a:lnTo>
                    <a:pt x="140" y="72"/>
                  </a:lnTo>
                  <a:lnTo>
                    <a:pt x="104" y="118"/>
                  </a:lnTo>
                  <a:lnTo>
                    <a:pt x="81" y="168"/>
                  </a:lnTo>
                  <a:lnTo>
                    <a:pt x="52" y="213"/>
                  </a:lnTo>
                  <a:lnTo>
                    <a:pt x="35" y="263"/>
                  </a:lnTo>
                  <a:lnTo>
                    <a:pt x="18" y="320"/>
                  </a:lnTo>
                  <a:lnTo>
                    <a:pt x="0" y="376"/>
                  </a:lnTo>
                  <a:lnTo>
                    <a:pt x="52" y="415"/>
                  </a:lnTo>
                  <a:lnTo>
                    <a:pt x="104" y="455"/>
                  </a:lnTo>
                  <a:lnTo>
                    <a:pt x="127" y="472"/>
                  </a:lnTo>
                  <a:lnTo>
                    <a:pt x="157" y="489"/>
                  </a:lnTo>
                  <a:lnTo>
                    <a:pt x="186" y="506"/>
                  </a:lnTo>
                  <a:lnTo>
                    <a:pt x="226" y="528"/>
                  </a:lnTo>
                  <a:lnTo>
                    <a:pt x="290" y="545"/>
                  </a:lnTo>
                  <a:lnTo>
                    <a:pt x="343" y="533"/>
                  </a:lnTo>
                  <a:lnTo>
                    <a:pt x="372" y="494"/>
                  </a:lnTo>
                  <a:lnTo>
                    <a:pt x="389" y="444"/>
                  </a:lnTo>
                  <a:lnTo>
                    <a:pt x="389" y="376"/>
                  </a:lnTo>
                  <a:lnTo>
                    <a:pt x="383" y="309"/>
                  </a:lnTo>
                  <a:lnTo>
                    <a:pt x="366" y="236"/>
                  </a:lnTo>
                  <a:lnTo>
                    <a:pt x="348" y="179"/>
                  </a:lnTo>
                  <a:lnTo>
                    <a:pt x="314" y="129"/>
                  </a:lnTo>
                  <a:lnTo>
                    <a:pt x="279" y="89"/>
                  </a:lnTo>
                  <a:lnTo>
                    <a:pt x="244" y="3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6810120" y="5405040"/>
              <a:ext cx="188640" cy="479160"/>
            </a:xfrm>
            <a:custGeom>
              <a:avLst/>
              <a:gdLst/>
              <a:ahLst/>
              <a:rect l="l" t="t" r="r" b="b"/>
              <a:pathLst>
                <a:path w="878" h="2059">
                  <a:moveTo>
                    <a:pt x="0" y="0"/>
                  </a:moveTo>
                  <a:lnTo>
                    <a:pt x="0" y="51"/>
                  </a:lnTo>
                  <a:lnTo>
                    <a:pt x="0" y="102"/>
                  </a:lnTo>
                  <a:lnTo>
                    <a:pt x="0" y="158"/>
                  </a:lnTo>
                  <a:lnTo>
                    <a:pt x="6" y="220"/>
                  </a:lnTo>
                  <a:lnTo>
                    <a:pt x="6" y="270"/>
                  </a:lnTo>
                  <a:lnTo>
                    <a:pt x="18" y="326"/>
                  </a:lnTo>
                  <a:lnTo>
                    <a:pt x="24" y="383"/>
                  </a:lnTo>
                  <a:lnTo>
                    <a:pt x="41" y="439"/>
                  </a:lnTo>
                  <a:lnTo>
                    <a:pt x="47" y="461"/>
                  </a:lnTo>
                  <a:lnTo>
                    <a:pt x="59" y="490"/>
                  </a:lnTo>
                  <a:lnTo>
                    <a:pt x="76" y="524"/>
                  </a:lnTo>
                  <a:lnTo>
                    <a:pt x="94" y="557"/>
                  </a:lnTo>
                  <a:lnTo>
                    <a:pt x="105" y="591"/>
                  </a:lnTo>
                  <a:lnTo>
                    <a:pt x="117" y="625"/>
                  </a:lnTo>
                  <a:lnTo>
                    <a:pt x="122" y="664"/>
                  </a:lnTo>
                  <a:lnTo>
                    <a:pt x="134" y="709"/>
                  </a:lnTo>
                  <a:lnTo>
                    <a:pt x="140" y="861"/>
                  </a:lnTo>
                  <a:lnTo>
                    <a:pt x="145" y="1024"/>
                  </a:lnTo>
                  <a:lnTo>
                    <a:pt x="151" y="1187"/>
                  </a:lnTo>
                  <a:lnTo>
                    <a:pt x="163" y="1356"/>
                  </a:lnTo>
                  <a:lnTo>
                    <a:pt x="168" y="1513"/>
                  </a:lnTo>
                  <a:lnTo>
                    <a:pt x="181" y="1677"/>
                  </a:lnTo>
                  <a:lnTo>
                    <a:pt x="198" y="1828"/>
                  </a:lnTo>
                  <a:lnTo>
                    <a:pt x="216" y="1980"/>
                  </a:lnTo>
                  <a:lnTo>
                    <a:pt x="297" y="1963"/>
                  </a:lnTo>
                  <a:lnTo>
                    <a:pt x="384" y="1963"/>
                  </a:lnTo>
                  <a:lnTo>
                    <a:pt x="459" y="1963"/>
                  </a:lnTo>
                  <a:lnTo>
                    <a:pt x="535" y="1980"/>
                  </a:lnTo>
                  <a:lnTo>
                    <a:pt x="604" y="1991"/>
                  </a:lnTo>
                  <a:lnTo>
                    <a:pt x="675" y="2008"/>
                  </a:lnTo>
                  <a:lnTo>
                    <a:pt x="744" y="2030"/>
                  </a:lnTo>
                  <a:lnTo>
                    <a:pt x="814" y="2059"/>
                  </a:lnTo>
                  <a:lnTo>
                    <a:pt x="825" y="2047"/>
                  </a:lnTo>
                  <a:lnTo>
                    <a:pt x="855" y="2030"/>
                  </a:lnTo>
                  <a:lnTo>
                    <a:pt x="878" y="1996"/>
                  </a:lnTo>
                  <a:lnTo>
                    <a:pt x="866" y="1969"/>
                  </a:lnTo>
                  <a:lnTo>
                    <a:pt x="837" y="1895"/>
                  </a:lnTo>
                  <a:lnTo>
                    <a:pt x="814" y="1743"/>
                  </a:lnTo>
                  <a:lnTo>
                    <a:pt x="784" y="1530"/>
                  </a:lnTo>
                  <a:lnTo>
                    <a:pt x="761" y="1294"/>
                  </a:lnTo>
                  <a:lnTo>
                    <a:pt x="733" y="1047"/>
                  </a:lnTo>
                  <a:lnTo>
                    <a:pt x="715" y="821"/>
                  </a:lnTo>
                  <a:lnTo>
                    <a:pt x="698" y="642"/>
                  </a:lnTo>
                  <a:lnTo>
                    <a:pt x="692" y="541"/>
                  </a:lnTo>
                  <a:lnTo>
                    <a:pt x="686" y="502"/>
                  </a:lnTo>
                  <a:lnTo>
                    <a:pt x="686" y="468"/>
                  </a:lnTo>
                  <a:lnTo>
                    <a:pt x="686" y="434"/>
                  </a:lnTo>
                  <a:lnTo>
                    <a:pt x="692" y="400"/>
                  </a:lnTo>
                  <a:lnTo>
                    <a:pt x="686" y="366"/>
                  </a:lnTo>
                  <a:lnTo>
                    <a:pt x="686" y="333"/>
                  </a:lnTo>
                  <a:lnTo>
                    <a:pt x="675" y="299"/>
                  </a:lnTo>
                  <a:lnTo>
                    <a:pt x="669" y="282"/>
                  </a:lnTo>
                  <a:lnTo>
                    <a:pt x="622" y="242"/>
                  </a:lnTo>
                  <a:lnTo>
                    <a:pt x="553" y="203"/>
                  </a:lnTo>
                  <a:lnTo>
                    <a:pt x="465" y="158"/>
                  </a:lnTo>
                  <a:lnTo>
                    <a:pt x="366" y="119"/>
                  </a:lnTo>
                  <a:lnTo>
                    <a:pt x="256" y="80"/>
                  </a:lnTo>
                  <a:lnTo>
                    <a:pt x="157" y="46"/>
                  </a:lnTo>
                  <a:lnTo>
                    <a:pt x="6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7983720" y="5422320"/>
              <a:ext cx="70920" cy="103320"/>
            </a:xfrm>
            <a:custGeom>
              <a:avLst/>
              <a:gdLst/>
              <a:ahLst/>
              <a:rect l="l" t="t" r="r" b="b"/>
              <a:pathLst>
                <a:path w="332" h="444">
                  <a:moveTo>
                    <a:pt x="105" y="0"/>
                  </a:moveTo>
                  <a:lnTo>
                    <a:pt x="65" y="45"/>
                  </a:lnTo>
                  <a:lnTo>
                    <a:pt x="30" y="117"/>
                  </a:lnTo>
                  <a:lnTo>
                    <a:pt x="7" y="196"/>
                  </a:lnTo>
                  <a:lnTo>
                    <a:pt x="0" y="286"/>
                  </a:lnTo>
                  <a:lnTo>
                    <a:pt x="7" y="360"/>
                  </a:lnTo>
                  <a:lnTo>
                    <a:pt x="47" y="416"/>
                  </a:lnTo>
                  <a:lnTo>
                    <a:pt x="116" y="444"/>
                  </a:lnTo>
                  <a:lnTo>
                    <a:pt x="222" y="438"/>
                  </a:lnTo>
                  <a:lnTo>
                    <a:pt x="296" y="394"/>
                  </a:lnTo>
                  <a:lnTo>
                    <a:pt x="332" y="343"/>
                  </a:lnTo>
                  <a:lnTo>
                    <a:pt x="326" y="281"/>
                  </a:lnTo>
                  <a:lnTo>
                    <a:pt x="303" y="219"/>
                  </a:lnTo>
                  <a:lnTo>
                    <a:pt x="256" y="151"/>
                  </a:lnTo>
                  <a:lnTo>
                    <a:pt x="204" y="90"/>
                  </a:lnTo>
                  <a:lnTo>
                    <a:pt x="146" y="3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6616440" y="5432040"/>
              <a:ext cx="163800" cy="410040"/>
            </a:xfrm>
            <a:custGeom>
              <a:avLst/>
              <a:gdLst/>
              <a:ahLst/>
              <a:rect l="l" t="t" r="r" b="b"/>
              <a:pathLst>
                <a:path w="767" h="1765">
                  <a:moveTo>
                    <a:pt x="581" y="0"/>
                  </a:moveTo>
                  <a:lnTo>
                    <a:pt x="505" y="0"/>
                  </a:lnTo>
                  <a:lnTo>
                    <a:pt x="429" y="11"/>
                  </a:lnTo>
                  <a:lnTo>
                    <a:pt x="354" y="17"/>
                  </a:lnTo>
                  <a:lnTo>
                    <a:pt x="284" y="28"/>
                  </a:lnTo>
                  <a:lnTo>
                    <a:pt x="209" y="28"/>
                  </a:lnTo>
                  <a:lnTo>
                    <a:pt x="140" y="34"/>
                  </a:lnTo>
                  <a:lnTo>
                    <a:pt x="75" y="22"/>
                  </a:lnTo>
                  <a:lnTo>
                    <a:pt x="23" y="11"/>
                  </a:lnTo>
                  <a:lnTo>
                    <a:pt x="6" y="135"/>
                  </a:lnTo>
                  <a:lnTo>
                    <a:pt x="0" y="287"/>
                  </a:lnTo>
                  <a:lnTo>
                    <a:pt x="0" y="461"/>
                  </a:lnTo>
                  <a:lnTo>
                    <a:pt x="0" y="652"/>
                  </a:lnTo>
                  <a:lnTo>
                    <a:pt x="0" y="838"/>
                  </a:lnTo>
                  <a:lnTo>
                    <a:pt x="6" y="1029"/>
                  </a:lnTo>
                  <a:lnTo>
                    <a:pt x="17" y="1209"/>
                  </a:lnTo>
                  <a:lnTo>
                    <a:pt x="34" y="1378"/>
                  </a:lnTo>
                  <a:lnTo>
                    <a:pt x="34" y="1422"/>
                  </a:lnTo>
                  <a:lnTo>
                    <a:pt x="46" y="1468"/>
                  </a:lnTo>
                  <a:lnTo>
                    <a:pt x="52" y="1513"/>
                  </a:lnTo>
                  <a:lnTo>
                    <a:pt x="64" y="1564"/>
                  </a:lnTo>
                  <a:lnTo>
                    <a:pt x="69" y="1608"/>
                  </a:lnTo>
                  <a:lnTo>
                    <a:pt x="75" y="1653"/>
                  </a:lnTo>
                  <a:lnTo>
                    <a:pt x="75" y="1704"/>
                  </a:lnTo>
                  <a:lnTo>
                    <a:pt x="75" y="1755"/>
                  </a:lnTo>
                  <a:lnTo>
                    <a:pt x="92" y="1748"/>
                  </a:lnTo>
                  <a:lnTo>
                    <a:pt x="127" y="1748"/>
                  </a:lnTo>
                  <a:lnTo>
                    <a:pt x="163" y="1743"/>
                  </a:lnTo>
                  <a:lnTo>
                    <a:pt x="197" y="1743"/>
                  </a:lnTo>
                  <a:lnTo>
                    <a:pt x="232" y="1743"/>
                  </a:lnTo>
                  <a:lnTo>
                    <a:pt x="272" y="1743"/>
                  </a:lnTo>
                  <a:lnTo>
                    <a:pt x="308" y="1743"/>
                  </a:lnTo>
                  <a:lnTo>
                    <a:pt x="354" y="1743"/>
                  </a:lnTo>
                  <a:lnTo>
                    <a:pt x="348" y="1704"/>
                  </a:lnTo>
                  <a:lnTo>
                    <a:pt x="348" y="1659"/>
                  </a:lnTo>
                  <a:lnTo>
                    <a:pt x="348" y="1608"/>
                  </a:lnTo>
                  <a:lnTo>
                    <a:pt x="354" y="1564"/>
                  </a:lnTo>
                  <a:lnTo>
                    <a:pt x="354" y="1513"/>
                  </a:lnTo>
                  <a:lnTo>
                    <a:pt x="354" y="1462"/>
                  </a:lnTo>
                  <a:lnTo>
                    <a:pt x="354" y="1412"/>
                  </a:lnTo>
                  <a:lnTo>
                    <a:pt x="354" y="1366"/>
                  </a:lnTo>
                  <a:lnTo>
                    <a:pt x="343" y="1282"/>
                  </a:lnTo>
                  <a:lnTo>
                    <a:pt x="336" y="1198"/>
                  </a:lnTo>
                  <a:lnTo>
                    <a:pt x="331" y="1113"/>
                  </a:lnTo>
                  <a:lnTo>
                    <a:pt x="331" y="1029"/>
                  </a:lnTo>
                  <a:lnTo>
                    <a:pt x="325" y="939"/>
                  </a:lnTo>
                  <a:lnTo>
                    <a:pt x="325" y="850"/>
                  </a:lnTo>
                  <a:lnTo>
                    <a:pt x="320" y="754"/>
                  </a:lnTo>
                  <a:lnTo>
                    <a:pt x="320" y="658"/>
                  </a:lnTo>
                  <a:lnTo>
                    <a:pt x="313" y="619"/>
                  </a:lnTo>
                  <a:lnTo>
                    <a:pt x="313" y="585"/>
                  </a:lnTo>
                  <a:lnTo>
                    <a:pt x="313" y="563"/>
                  </a:lnTo>
                  <a:lnTo>
                    <a:pt x="320" y="546"/>
                  </a:lnTo>
                  <a:lnTo>
                    <a:pt x="343" y="517"/>
                  </a:lnTo>
                  <a:lnTo>
                    <a:pt x="383" y="490"/>
                  </a:lnTo>
                  <a:lnTo>
                    <a:pt x="406" y="635"/>
                  </a:lnTo>
                  <a:lnTo>
                    <a:pt x="429" y="799"/>
                  </a:lnTo>
                  <a:lnTo>
                    <a:pt x="441" y="973"/>
                  </a:lnTo>
                  <a:lnTo>
                    <a:pt x="452" y="1152"/>
                  </a:lnTo>
                  <a:lnTo>
                    <a:pt x="452" y="1327"/>
                  </a:lnTo>
                  <a:lnTo>
                    <a:pt x="452" y="1496"/>
                  </a:lnTo>
                  <a:lnTo>
                    <a:pt x="452" y="1642"/>
                  </a:lnTo>
                  <a:lnTo>
                    <a:pt x="465" y="1765"/>
                  </a:lnTo>
                  <a:lnTo>
                    <a:pt x="493" y="1760"/>
                  </a:lnTo>
                  <a:lnTo>
                    <a:pt x="528" y="1755"/>
                  </a:lnTo>
                  <a:lnTo>
                    <a:pt x="563" y="1748"/>
                  </a:lnTo>
                  <a:lnTo>
                    <a:pt x="604" y="1748"/>
                  </a:lnTo>
                  <a:lnTo>
                    <a:pt x="639" y="1743"/>
                  </a:lnTo>
                  <a:lnTo>
                    <a:pt x="680" y="1743"/>
                  </a:lnTo>
                  <a:lnTo>
                    <a:pt x="720" y="1743"/>
                  </a:lnTo>
                  <a:lnTo>
                    <a:pt x="767" y="1743"/>
                  </a:lnTo>
                  <a:lnTo>
                    <a:pt x="761" y="1496"/>
                  </a:lnTo>
                  <a:lnTo>
                    <a:pt x="756" y="1265"/>
                  </a:lnTo>
                  <a:lnTo>
                    <a:pt x="743" y="1046"/>
                  </a:lnTo>
                  <a:lnTo>
                    <a:pt x="731" y="843"/>
                  </a:lnTo>
                  <a:lnTo>
                    <a:pt x="714" y="635"/>
                  </a:lnTo>
                  <a:lnTo>
                    <a:pt x="708" y="433"/>
                  </a:lnTo>
                  <a:lnTo>
                    <a:pt x="703" y="225"/>
                  </a:lnTo>
                  <a:lnTo>
                    <a:pt x="703" y="11"/>
                  </a:lnTo>
                  <a:lnTo>
                    <a:pt x="673" y="6"/>
                  </a:lnTo>
                  <a:lnTo>
                    <a:pt x="645" y="6"/>
                  </a:lnTo>
                  <a:lnTo>
                    <a:pt x="609" y="0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7555680" y="5438160"/>
              <a:ext cx="54360" cy="77400"/>
            </a:xfrm>
            <a:custGeom>
              <a:avLst/>
              <a:gdLst/>
              <a:ahLst/>
              <a:rect l="l" t="t" r="r" b="b"/>
              <a:pathLst>
                <a:path w="250" h="332">
                  <a:moveTo>
                    <a:pt x="0" y="0"/>
                  </a:moveTo>
                  <a:lnTo>
                    <a:pt x="6" y="34"/>
                  </a:lnTo>
                  <a:lnTo>
                    <a:pt x="12" y="79"/>
                  </a:lnTo>
                  <a:lnTo>
                    <a:pt x="12" y="124"/>
                  </a:lnTo>
                  <a:lnTo>
                    <a:pt x="29" y="163"/>
                  </a:lnTo>
                  <a:lnTo>
                    <a:pt x="40" y="180"/>
                  </a:lnTo>
                  <a:lnTo>
                    <a:pt x="64" y="209"/>
                  </a:lnTo>
                  <a:lnTo>
                    <a:pt x="98" y="231"/>
                  </a:lnTo>
                  <a:lnTo>
                    <a:pt x="134" y="259"/>
                  </a:lnTo>
                  <a:lnTo>
                    <a:pt x="163" y="281"/>
                  </a:lnTo>
                  <a:lnTo>
                    <a:pt x="197" y="304"/>
                  </a:lnTo>
                  <a:lnTo>
                    <a:pt x="220" y="315"/>
                  </a:lnTo>
                  <a:lnTo>
                    <a:pt x="244" y="332"/>
                  </a:lnTo>
                  <a:lnTo>
                    <a:pt x="250" y="236"/>
                  </a:lnTo>
                  <a:lnTo>
                    <a:pt x="250" y="169"/>
                  </a:lnTo>
                  <a:lnTo>
                    <a:pt x="244" y="113"/>
                  </a:lnTo>
                  <a:lnTo>
                    <a:pt x="227" y="74"/>
                  </a:lnTo>
                  <a:lnTo>
                    <a:pt x="192" y="40"/>
                  </a:lnTo>
                  <a:lnTo>
                    <a:pt x="146" y="23"/>
                  </a:lnTo>
                  <a:lnTo>
                    <a:pt x="7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7435800" y="5438160"/>
              <a:ext cx="282960" cy="527400"/>
            </a:xfrm>
            <a:custGeom>
              <a:avLst/>
              <a:gdLst/>
              <a:ahLst/>
              <a:rect l="l" t="t" r="r" b="b"/>
              <a:pathLst>
                <a:path w="1313" h="2266">
                  <a:moveTo>
                    <a:pt x="930" y="0"/>
                  </a:moveTo>
                  <a:lnTo>
                    <a:pt x="907" y="17"/>
                  </a:lnTo>
                  <a:lnTo>
                    <a:pt x="889" y="62"/>
                  </a:lnTo>
                  <a:lnTo>
                    <a:pt x="872" y="107"/>
                  </a:lnTo>
                  <a:lnTo>
                    <a:pt x="866" y="175"/>
                  </a:lnTo>
                  <a:lnTo>
                    <a:pt x="854" y="236"/>
                  </a:lnTo>
                  <a:lnTo>
                    <a:pt x="854" y="298"/>
                  </a:lnTo>
                  <a:lnTo>
                    <a:pt x="854" y="349"/>
                  </a:lnTo>
                  <a:lnTo>
                    <a:pt x="866" y="400"/>
                  </a:lnTo>
                  <a:lnTo>
                    <a:pt x="872" y="411"/>
                  </a:lnTo>
                  <a:lnTo>
                    <a:pt x="889" y="439"/>
                  </a:lnTo>
                  <a:lnTo>
                    <a:pt x="919" y="462"/>
                  </a:lnTo>
                  <a:lnTo>
                    <a:pt x="953" y="496"/>
                  </a:lnTo>
                  <a:lnTo>
                    <a:pt x="982" y="523"/>
                  </a:lnTo>
                  <a:lnTo>
                    <a:pt x="1017" y="551"/>
                  </a:lnTo>
                  <a:lnTo>
                    <a:pt x="1034" y="568"/>
                  </a:lnTo>
                  <a:lnTo>
                    <a:pt x="1052" y="591"/>
                  </a:lnTo>
                  <a:lnTo>
                    <a:pt x="1052" y="619"/>
                  </a:lnTo>
                  <a:lnTo>
                    <a:pt x="1052" y="670"/>
                  </a:lnTo>
                  <a:lnTo>
                    <a:pt x="1046" y="697"/>
                  </a:lnTo>
                  <a:lnTo>
                    <a:pt x="1046" y="726"/>
                  </a:lnTo>
                  <a:lnTo>
                    <a:pt x="1046" y="754"/>
                  </a:lnTo>
                  <a:lnTo>
                    <a:pt x="1052" y="781"/>
                  </a:lnTo>
                  <a:lnTo>
                    <a:pt x="1052" y="815"/>
                  </a:lnTo>
                  <a:lnTo>
                    <a:pt x="1064" y="861"/>
                  </a:lnTo>
                  <a:lnTo>
                    <a:pt x="1069" y="894"/>
                  </a:lnTo>
                  <a:lnTo>
                    <a:pt x="1081" y="940"/>
                  </a:lnTo>
                  <a:lnTo>
                    <a:pt x="1092" y="973"/>
                  </a:lnTo>
                  <a:lnTo>
                    <a:pt x="1104" y="1018"/>
                  </a:lnTo>
                  <a:lnTo>
                    <a:pt x="1115" y="1052"/>
                  </a:lnTo>
                  <a:lnTo>
                    <a:pt x="1133" y="1097"/>
                  </a:lnTo>
                  <a:lnTo>
                    <a:pt x="1069" y="1107"/>
                  </a:lnTo>
                  <a:lnTo>
                    <a:pt x="1023" y="1119"/>
                  </a:lnTo>
                  <a:lnTo>
                    <a:pt x="970" y="1124"/>
                  </a:lnTo>
                  <a:lnTo>
                    <a:pt x="930" y="1131"/>
                  </a:lnTo>
                  <a:lnTo>
                    <a:pt x="884" y="1131"/>
                  </a:lnTo>
                  <a:lnTo>
                    <a:pt x="836" y="1131"/>
                  </a:lnTo>
                  <a:lnTo>
                    <a:pt x="790" y="1136"/>
                  </a:lnTo>
                  <a:lnTo>
                    <a:pt x="744" y="1147"/>
                  </a:lnTo>
                  <a:lnTo>
                    <a:pt x="732" y="1259"/>
                  </a:lnTo>
                  <a:lnTo>
                    <a:pt x="732" y="1389"/>
                  </a:lnTo>
                  <a:lnTo>
                    <a:pt x="738" y="1524"/>
                  </a:lnTo>
                  <a:lnTo>
                    <a:pt x="744" y="1670"/>
                  </a:lnTo>
                  <a:lnTo>
                    <a:pt x="744" y="1805"/>
                  </a:lnTo>
                  <a:lnTo>
                    <a:pt x="744" y="1940"/>
                  </a:lnTo>
                  <a:lnTo>
                    <a:pt x="738" y="2058"/>
                  </a:lnTo>
                  <a:lnTo>
                    <a:pt x="732" y="2164"/>
                  </a:lnTo>
                  <a:lnTo>
                    <a:pt x="709" y="2120"/>
                  </a:lnTo>
                  <a:lnTo>
                    <a:pt x="692" y="2075"/>
                  </a:lnTo>
                  <a:lnTo>
                    <a:pt x="681" y="2019"/>
                  </a:lnTo>
                  <a:lnTo>
                    <a:pt x="681" y="1968"/>
                  </a:lnTo>
                  <a:lnTo>
                    <a:pt x="681" y="1906"/>
                  </a:lnTo>
                  <a:lnTo>
                    <a:pt x="681" y="1850"/>
                  </a:lnTo>
                  <a:lnTo>
                    <a:pt x="681" y="1788"/>
                  </a:lnTo>
                  <a:lnTo>
                    <a:pt x="681" y="1727"/>
                  </a:lnTo>
                  <a:lnTo>
                    <a:pt x="668" y="1648"/>
                  </a:lnTo>
                  <a:lnTo>
                    <a:pt x="663" y="1563"/>
                  </a:lnTo>
                  <a:lnTo>
                    <a:pt x="651" y="1473"/>
                  </a:lnTo>
                  <a:lnTo>
                    <a:pt x="651" y="1389"/>
                  </a:lnTo>
                  <a:lnTo>
                    <a:pt x="651" y="1293"/>
                  </a:lnTo>
                  <a:lnTo>
                    <a:pt x="651" y="1209"/>
                  </a:lnTo>
                  <a:lnTo>
                    <a:pt x="651" y="1119"/>
                  </a:lnTo>
                  <a:lnTo>
                    <a:pt x="663" y="1040"/>
                  </a:lnTo>
                  <a:lnTo>
                    <a:pt x="697" y="1029"/>
                  </a:lnTo>
                  <a:lnTo>
                    <a:pt x="721" y="1024"/>
                  </a:lnTo>
                  <a:lnTo>
                    <a:pt x="732" y="1012"/>
                  </a:lnTo>
                  <a:lnTo>
                    <a:pt x="738" y="1001"/>
                  </a:lnTo>
                  <a:lnTo>
                    <a:pt x="732" y="979"/>
                  </a:lnTo>
                  <a:lnTo>
                    <a:pt x="732" y="957"/>
                  </a:lnTo>
                  <a:lnTo>
                    <a:pt x="732" y="923"/>
                  </a:lnTo>
                  <a:lnTo>
                    <a:pt x="744" y="889"/>
                  </a:lnTo>
                  <a:lnTo>
                    <a:pt x="778" y="877"/>
                  </a:lnTo>
                  <a:lnTo>
                    <a:pt x="808" y="866"/>
                  </a:lnTo>
                  <a:lnTo>
                    <a:pt x="831" y="849"/>
                  </a:lnTo>
                  <a:lnTo>
                    <a:pt x="854" y="832"/>
                  </a:lnTo>
                  <a:lnTo>
                    <a:pt x="861" y="805"/>
                  </a:lnTo>
                  <a:lnTo>
                    <a:pt x="877" y="776"/>
                  </a:lnTo>
                  <a:lnTo>
                    <a:pt x="889" y="742"/>
                  </a:lnTo>
                  <a:lnTo>
                    <a:pt x="907" y="709"/>
                  </a:lnTo>
                  <a:lnTo>
                    <a:pt x="912" y="653"/>
                  </a:lnTo>
                  <a:lnTo>
                    <a:pt x="907" y="613"/>
                  </a:lnTo>
                  <a:lnTo>
                    <a:pt x="889" y="574"/>
                  </a:lnTo>
                  <a:lnTo>
                    <a:pt x="877" y="545"/>
                  </a:lnTo>
                  <a:lnTo>
                    <a:pt x="849" y="511"/>
                  </a:lnTo>
                  <a:lnTo>
                    <a:pt x="820" y="479"/>
                  </a:lnTo>
                  <a:lnTo>
                    <a:pt x="790" y="445"/>
                  </a:lnTo>
                  <a:lnTo>
                    <a:pt x="773" y="411"/>
                  </a:lnTo>
                  <a:lnTo>
                    <a:pt x="715" y="416"/>
                  </a:lnTo>
                  <a:lnTo>
                    <a:pt x="656" y="422"/>
                  </a:lnTo>
                  <a:lnTo>
                    <a:pt x="598" y="416"/>
                  </a:lnTo>
                  <a:lnTo>
                    <a:pt x="547" y="416"/>
                  </a:lnTo>
                  <a:lnTo>
                    <a:pt x="488" y="405"/>
                  </a:lnTo>
                  <a:lnTo>
                    <a:pt x="430" y="394"/>
                  </a:lnTo>
                  <a:lnTo>
                    <a:pt x="372" y="377"/>
                  </a:lnTo>
                  <a:lnTo>
                    <a:pt x="319" y="371"/>
                  </a:lnTo>
                  <a:lnTo>
                    <a:pt x="261" y="366"/>
                  </a:lnTo>
                  <a:lnTo>
                    <a:pt x="227" y="388"/>
                  </a:lnTo>
                  <a:lnTo>
                    <a:pt x="203" y="422"/>
                  </a:lnTo>
                  <a:lnTo>
                    <a:pt x="192" y="472"/>
                  </a:lnTo>
                  <a:lnTo>
                    <a:pt x="180" y="523"/>
                  </a:lnTo>
                  <a:lnTo>
                    <a:pt x="180" y="585"/>
                  </a:lnTo>
                  <a:lnTo>
                    <a:pt x="174" y="646"/>
                  </a:lnTo>
                  <a:lnTo>
                    <a:pt x="174" y="709"/>
                  </a:lnTo>
                  <a:lnTo>
                    <a:pt x="146" y="894"/>
                  </a:lnTo>
                  <a:lnTo>
                    <a:pt x="116" y="1080"/>
                  </a:lnTo>
                  <a:lnTo>
                    <a:pt x="81" y="1266"/>
                  </a:lnTo>
                  <a:lnTo>
                    <a:pt x="58" y="1451"/>
                  </a:lnTo>
                  <a:lnTo>
                    <a:pt x="29" y="1636"/>
                  </a:lnTo>
                  <a:lnTo>
                    <a:pt x="12" y="1833"/>
                  </a:lnTo>
                  <a:lnTo>
                    <a:pt x="0" y="2030"/>
                  </a:lnTo>
                  <a:lnTo>
                    <a:pt x="0" y="2238"/>
                  </a:lnTo>
                  <a:lnTo>
                    <a:pt x="52" y="2221"/>
                  </a:lnTo>
                  <a:lnTo>
                    <a:pt x="116" y="2205"/>
                  </a:lnTo>
                  <a:lnTo>
                    <a:pt x="180" y="2188"/>
                  </a:lnTo>
                  <a:lnTo>
                    <a:pt x="250" y="2171"/>
                  </a:lnTo>
                  <a:lnTo>
                    <a:pt x="314" y="2154"/>
                  </a:lnTo>
                  <a:lnTo>
                    <a:pt x="384" y="2148"/>
                  </a:lnTo>
                  <a:lnTo>
                    <a:pt x="448" y="2142"/>
                  </a:lnTo>
                  <a:lnTo>
                    <a:pt x="517" y="2148"/>
                  </a:lnTo>
                  <a:lnTo>
                    <a:pt x="552" y="2148"/>
                  </a:lnTo>
                  <a:lnTo>
                    <a:pt x="598" y="2164"/>
                  </a:lnTo>
                  <a:lnTo>
                    <a:pt x="645" y="2181"/>
                  </a:lnTo>
                  <a:lnTo>
                    <a:pt x="697" y="2205"/>
                  </a:lnTo>
                  <a:lnTo>
                    <a:pt x="744" y="2221"/>
                  </a:lnTo>
                  <a:lnTo>
                    <a:pt x="790" y="2238"/>
                  </a:lnTo>
                  <a:lnTo>
                    <a:pt x="836" y="2249"/>
                  </a:lnTo>
                  <a:lnTo>
                    <a:pt x="889" y="2266"/>
                  </a:lnTo>
                  <a:lnTo>
                    <a:pt x="930" y="2266"/>
                  </a:lnTo>
                  <a:lnTo>
                    <a:pt x="970" y="2266"/>
                  </a:lnTo>
                  <a:lnTo>
                    <a:pt x="1011" y="2266"/>
                  </a:lnTo>
                  <a:lnTo>
                    <a:pt x="1052" y="2266"/>
                  </a:lnTo>
                  <a:lnTo>
                    <a:pt x="1087" y="2260"/>
                  </a:lnTo>
                  <a:lnTo>
                    <a:pt x="1127" y="2260"/>
                  </a:lnTo>
                  <a:lnTo>
                    <a:pt x="1163" y="2260"/>
                  </a:lnTo>
                  <a:lnTo>
                    <a:pt x="1214" y="2266"/>
                  </a:lnTo>
                  <a:lnTo>
                    <a:pt x="1209" y="2221"/>
                  </a:lnTo>
                  <a:lnTo>
                    <a:pt x="1214" y="2176"/>
                  </a:lnTo>
                  <a:lnTo>
                    <a:pt x="1221" y="2171"/>
                  </a:lnTo>
                  <a:lnTo>
                    <a:pt x="1249" y="2164"/>
                  </a:lnTo>
                  <a:lnTo>
                    <a:pt x="1267" y="2164"/>
                  </a:lnTo>
                  <a:lnTo>
                    <a:pt x="1267" y="2176"/>
                  </a:lnTo>
                  <a:lnTo>
                    <a:pt x="1267" y="2188"/>
                  </a:lnTo>
                  <a:lnTo>
                    <a:pt x="1284" y="2210"/>
                  </a:lnTo>
                  <a:lnTo>
                    <a:pt x="1290" y="2227"/>
                  </a:lnTo>
                  <a:lnTo>
                    <a:pt x="1302" y="2238"/>
                  </a:lnTo>
                  <a:lnTo>
                    <a:pt x="1284" y="1997"/>
                  </a:lnTo>
                  <a:lnTo>
                    <a:pt x="1290" y="1749"/>
                  </a:lnTo>
                  <a:lnTo>
                    <a:pt x="1297" y="1485"/>
                  </a:lnTo>
                  <a:lnTo>
                    <a:pt x="1307" y="1226"/>
                  </a:lnTo>
                  <a:lnTo>
                    <a:pt x="1313" y="957"/>
                  </a:lnTo>
                  <a:lnTo>
                    <a:pt x="1313" y="709"/>
                  </a:lnTo>
                  <a:lnTo>
                    <a:pt x="1307" y="467"/>
                  </a:lnTo>
                  <a:lnTo>
                    <a:pt x="1290" y="253"/>
                  </a:lnTo>
                  <a:lnTo>
                    <a:pt x="1244" y="276"/>
                  </a:lnTo>
                  <a:lnTo>
                    <a:pt x="1186" y="310"/>
                  </a:lnTo>
                  <a:lnTo>
                    <a:pt x="1122" y="344"/>
                  </a:lnTo>
                  <a:lnTo>
                    <a:pt x="1064" y="371"/>
                  </a:lnTo>
                  <a:lnTo>
                    <a:pt x="1006" y="377"/>
                  </a:lnTo>
                  <a:lnTo>
                    <a:pt x="965" y="361"/>
                  </a:lnTo>
                  <a:lnTo>
                    <a:pt x="942" y="304"/>
                  </a:lnTo>
                  <a:lnTo>
                    <a:pt x="947" y="219"/>
                  </a:lnTo>
                  <a:lnTo>
                    <a:pt x="953" y="185"/>
                  </a:lnTo>
                  <a:lnTo>
                    <a:pt x="970" y="158"/>
                  </a:lnTo>
                  <a:lnTo>
                    <a:pt x="988" y="118"/>
                  </a:lnTo>
                  <a:lnTo>
                    <a:pt x="1000" y="79"/>
                  </a:lnTo>
                  <a:lnTo>
                    <a:pt x="982" y="50"/>
                  </a:lnTo>
                  <a:lnTo>
                    <a:pt x="965" y="28"/>
                  </a:lnTo>
                  <a:lnTo>
                    <a:pt x="935" y="11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7659360" y="5435640"/>
              <a:ext cx="50400" cy="65160"/>
            </a:xfrm>
            <a:custGeom>
              <a:avLst/>
              <a:gdLst/>
              <a:ahLst/>
              <a:rect l="l" t="t" r="r" b="b"/>
              <a:pathLst>
                <a:path w="231" h="281">
                  <a:moveTo>
                    <a:pt x="104" y="11"/>
                  </a:moveTo>
                  <a:lnTo>
                    <a:pt x="74" y="22"/>
                  </a:lnTo>
                  <a:lnTo>
                    <a:pt x="46" y="68"/>
                  </a:lnTo>
                  <a:lnTo>
                    <a:pt x="17" y="118"/>
                  </a:lnTo>
                  <a:lnTo>
                    <a:pt x="5" y="180"/>
                  </a:lnTo>
                  <a:lnTo>
                    <a:pt x="0" y="225"/>
                  </a:lnTo>
                  <a:lnTo>
                    <a:pt x="11" y="264"/>
                  </a:lnTo>
                  <a:lnTo>
                    <a:pt x="46" y="281"/>
                  </a:lnTo>
                  <a:lnTo>
                    <a:pt x="104" y="264"/>
                  </a:lnTo>
                  <a:lnTo>
                    <a:pt x="133" y="236"/>
                  </a:lnTo>
                  <a:lnTo>
                    <a:pt x="168" y="196"/>
                  </a:lnTo>
                  <a:lnTo>
                    <a:pt x="197" y="146"/>
                  </a:lnTo>
                  <a:lnTo>
                    <a:pt x="226" y="101"/>
                  </a:lnTo>
                  <a:lnTo>
                    <a:pt x="231" y="51"/>
                  </a:lnTo>
                  <a:lnTo>
                    <a:pt x="220" y="22"/>
                  </a:lnTo>
                  <a:lnTo>
                    <a:pt x="180" y="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7488720" y="5459400"/>
              <a:ext cx="88920" cy="62640"/>
            </a:xfrm>
            <a:custGeom>
              <a:avLst/>
              <a:gdLst/>
              <a:ahLst/>
              <a:rect l="l" t="t" r="r" b="b"/>
              <a:pathLst>
                <a:path w="418" h="271">
                  <a:moveTo>
                    <a:pt x="23" y="0"/>
                  </a:moveTo>
                  <a:lnTo>
                    <a:pt x="0" y="68"/>
                  </a:lnTo>
                  <a:lnTo>
                    <a:pt x="0" y="119"/>
                  </a:lnTo>
                  <a:lnTo>
                    <a:pt x="11" y="158"/>
                  </a:lnTo>
                  <a:lnTo>
                    <a:pt x="40" y="197"/>
                  </a:lnTo>
                  <a:lnTo>
                    <a:pt x="74" y="214"/>
                  </a:lnTo>
                  <a:lnTo>
                    <a:pt x="127" y="237"/>
                  </a:lnTo>
                  <a:lnTo>
                    <a:pt x="185" y="254"/>
                  </a:lnTo>
                  <a:lnTo>
                    <a:pt x="261" y="271"/>
                  </a:lnTo>
                  <a:lnTo>
                    <a:pt x="295" y="271"/>
                  </a:lnTo>
                  <a:lnTo>
                    <a:pt x="337" y="271"/>
                  </a:lnTo>
                  <a:lnTo>
                    <a:pt x="365" y="271"/>
                  </a:lnTo>
                  <a:lnTo>
                    <a:pt x="383" y="271"/>
                  </a:lnTo>
                  <a:lnTo>
                    <a:pt x="400" y="264"/>
                  </a:lnTo>
                  <a:lnTo>
                    <a:pt x="418" y="254"/>
                  </a:lnTo>
                  <a:lnTo>
                    <a:pt x="411" y="242"/>
                  </a:lnTo>
                  <a:lnTo>
                    <a:pt x="406" y="242"/>
                  </a:lnTo>
                  <a:lnTo>
                    <a:pt x="365" y="191"/>
                  </a:lnTo>
                  <a:lnTo>
                    <a:pt x="330" y="152"/>
                  </a:lnTo>
                  <a:lnTo>
                    <a:pt x="284" y="112"/>
                  </a:lnTo>
                  <a:lnTo>
                    <a:pt x="238" y="79"/>
                  </a:lnTo>
                  <a:lnTo>
                    <a:pt x="185" y="45"/>
                  </a:lnTo>
                  <a:lnTo>
                    <a:pt x="132" y="23"/>
                  </a:lnTo>
                  <a:lnTo>
                    <a:pt x="7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2" name="Freeform 94"/>
            <p:cNvSpPr/>
            <p:nvPr/>
          </p:nvSpPr>
          <p:spPr>
            <a:xfrm>
              <a:off x="6307560" y="5566680"/>
              <a:ext cx="56520" cy="4032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0" y="0"/>
                  </a:moveTo>
                  <a:lnTo>
                    <a:pt x="7" y="17"/>
                  </a:lnTo>
                  <a:lnTo>
                    <a:pt x="12" y="51"/>
                  </a:lnTo>
                  <a:lnTo>
                    <a:pt x="18" y="85"/>
                  </a:lnTo>
                  <a:lnTo>
                    <a:pt x="30" y="129"/>
                  </a:lnTo>
                  <a:lnTo>
                    <a:pt x="53" y="158"/>
                  </a:lnTo>
                  <a:lnTo>
                    <a:pt x="94" y="175"/>
                  </a:lnTo>
                  <a:lnTo>
                    <a:pt x="157" y="175"/>
                  </a:lnTo>
                  <a:lnTo>
                    <a:pt x="256" y="158"/>
                  </a:lnTo>
                  <a:lnTo>
                    <a:pt x="263" y="135"/>
                  </a:lnTo>
                  <a:lnTo>
                    <a:pt x="251" y="119"/>
                  </a:lnTo>
                  <a:lnTo>
                    <a:pt x="222" y="95"/>
                  </a:lnTo>
                  <a:lnTo>
                    <a:pt x="182" y="73"/>
                  </a:lnTo>
                  <a:lnTo>
                    <a:pt x="129" y="45"/>
                  </a:lnTo>
                  <a:lnTo>
                    <a:pt x="76" y="28"/>
                  </a:lnTo>
                  <a:lnTo>
                    <a:pt x="3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3" name="Freeform 95"/>
            <p:cNvSpPr/>
            <p:nvPr/>
          </p:nvSpPr>
          <p:spPr>
            <a:xfrm>
              <a:off x="6924960" y="5603400"/>
              <a:ext cx="37440" cy="204480"/>
            </a:xfrm>
            <a:custGeom>
              <a:avLst/>
              <a:gdLst/>
              <a:ahLst/>
              <a:rect l="l" t="t" r="r" b="b"/>
              <a:pathLst>
                <a:path w="175" h="876">
                  <a:moveTo>
                    <a:pt x="11" y="0"/>
                  </a:moveTo>
                  <a:lnTo>
                    <a:pt x="64" y="11"/>
                  </a:lnTo>
                  <a:lnTo>
                    <a:pt x="122" y="22"/>
                  </a:lnTo>
                  <a:lnTo>
                    <a:pt x="122" y="123"/>
                  </a:lnTo>
                  <a:lnTo>
                    <a:pt x="128" y="224"/>
                  </a:lnTo>
                  <a:lnTo>
                    <a:pt x="134" y="326"/>
                  </a:lnTo>
                  <a:lnTo>
                    <a:pt x="145" y="427"/>
                  </a:lnTo>
                  <a:lnTo>
                    <a:pt x="151" y="523"/>
                  </a:lnTo>
                  <a:lnTo>
                    <a:pt x="163" y="618"/>
                  </a:lnTo>
                  <a:lnTo>
                    <a:pt x="168" y="719"/>
                  </a:lnTo>
                  <a:lnTo>
                    <a:pt x="175" y="820"/>
                  </a:lnTo>
                  <a:lnTo>
                    <a:pt x="168" y="854"/>
                  </a:lnTo>
                  <a:lnTo>
                    <a:pt x="157" y="876"/>
                  </a:lnTo>
                  <a:lnTo>
                    <a:pt x="128" y="849"/>
                  </a:lnTo>
                  <a:lnTo>
                    <a:pt x="104" y="770"/>
                  </a:lnTo>
                  <a:lnTo>
                    <a:pt x="81" y="652"/>
                  </a:lnTo>
                  <a:lnTo>
                    <a:pt x="58" y="517"/>
                  </a:lnTo>
                  <a:lnTo>
                    <a:pt x="35" y="365"/>
                  </a:lnTo>
                  <a:lnTo>
                    <a:pt x="18" y="231"/>
                  </a:lnTo>
                  <a:lnTo>
                    <a:pt x="0" y="11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6" y="17"/>
                  </a:lnTo>
                  <a:lnTo>
                    <a:pt x="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4" name="Freeform 96"/>
            <p:cNvSpPr/>
            <p:nvPr/>
          </p:nvSpPr>
          <p:spPr>
            <a:xfrm>
              <a:off x="7634520" y="5629320"/>
              <a:ext cx="16920" cy="60120"/>
            </a:xfrm>
            <a:custGeom>
              <a:avLst/>
              <a:gdLst/>
              <a:ahLst/>
              <a:rect l="l" t="t" r="r" b="b"/>
              <a:pathLst>
                <a:path w="76" h="258">
                  <a:moveTo>
                    <a:pt x="35" y="0"/>
                  </a:moveTo>
                  <a:lnTo>
                    <a:pt x="11" y="55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0" y="185"/>
                  </a:lnTo>
                  <a:lnTo>
                    <a:pt x="6" y="218"/>
                  </a:lnTo>
                  <a:lnTo>
                    <a:pt x="23" y="258"/>
                  </a:lnTo>
                  <a:lnTo>
                    <a:pt x="29" y="230"/>
                  </a:lnTo>
                  <a:lnTo>
                    <a:pt x="41" y="202"/>
                  </a:lnTo>
                  <a:lnTo>
                    <a:pt x="46" y="174"/>
                  </a:lnTo>
                  <a:lnTo>
                    <a:pt x="58" y="145"/>
                  </a:lnTo>
                  <a:lnTo>
                    <a:pt x="64" y="111"/>
                  </a:lnTo>
                  <a:lnTo>
                    <a:pt x="69" y="78"/>
                  </a:lnTo>
                  <a:lnTo>
                    <a:pt x="69" y="39"/>
                  </a:lnTo>
                  <a:lnTo>
                    <a:pt x="76" y="0"/>
                  </a:lnTo>
                  <a:lnTo>
                    <a:pt x="5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5" name="Freeform 97"/>
            <p:cNvSpPr/>
            <p:nvPr/>
          </p:nvSpPr>
          <p:spPr>
            <a:xfrm>
              <a:off x="7739640" y="5629320"/>
              <a:ext cx="363960" cy="604800"/>
            </a:xfrm>
            <a:custGeom>
              <a:avLst/>
              <a:gdLst/>
              <a:ahLst/>
              <a:rect l="l" t="t" r="r" b="b"/>
              <a:pathLst>
                <a:path w="1692" h="2597">
                  <a:moveTo>
                    <a:pt x="1680" y="0"/>
                  </a:moveTo>
                  <a:lnTo>
                    <a:pt x="1604" y="10"/>
                  </a:lnTo>
                  <a:lnTo>
                    <a:pt x="1528" y="33"/>
                  </a:lnTo>
                  <a:lnTo>
                    <a:pt x="1454" y="50"/>
                  </a:lnTo>
                  <a:lnTo>
                    <a:pt x="1383" y="78"/>
                  </a:lnTo>
                  <a:lnTo>
                    <a:pt x="1308" y="95"/>
                  </a:lnTo>
                  <a:lnTo>
                    <a:pt x="1238" y="118"/>
                  </a:lnTo>
                  <a:lnTo>
                    <a:pt x="1168" y="135"/>
                  </a:lnTo>
                  <a:lnTo>
                    <a:pt x="1104" y="145"/>
                  </a:lnTo>
                  <a:lnTo>
                    <a:pt x="1000" y="145"/>
                  </a:lnTo>
                  <a:lnTo>
                    <a:pt x="895" y="145"/>
                  </a:lnTo>
                  <a:lnTo>
                    <a:pt x="785" y="145"/>
                  </a:lnTo>
                  <a:lnTo>
                    <a:pt x="674" y="145"/>
                  </a:lnTo>
                  <a:lnTo>
                    <a:pt x="564" y="140"/>
                  </a:lnTo>
                  <a:lnTo>
                    <a:pt x="453" y="135"/>
                  </a:lnTo>
                  <a:lnTo>
                    <a:pt x="349" y="123"/>
                  </a:lnTo>
                  <a:lnTo>
                    <a:pt x="250" y="118"/>
                  </a:lnTo>
                  <a:lnTo>
                    <a:pt x="227" y="190"/>
                  </a:lnTo>
                  <a:lnTo>
                    <a:pt x="210" y="292"/>
                  </a:lnTo>
                  <a:lnTo>
                    <a:pt x="192" y="415"/>
                  </a:lnTo>
                  <a:lnTo>
                    <a:pt x="180" y="550"/>
                  </a:lnTo>
                  <a:lnTo>
                    <a:pt x="163" y="680"/>
                  </a:lnTo>
                  <a:lnTo>
                    <a:pt x="151" y="803"/>
                  </a:lnTo>
                  <a:lnTo>
                    <a:pt x="146" y="910"/>
                  </a:lnTo>
                  <a:lnTo>
                    <a:pt x="146" y="994"/>
                  </a:lnTo>
                  <a:lnTo>
                    <a:pt x="139" y="1050"/>
                  </a:lnTo>
                  <a:lnTo>
                    <a:pt x="139" y="1118"/>
                  </a:lnTo>
                  <a:lnTo>
                    <a:pt x="139" y="1185"/>
                  </a:lnTo>
                  <a:lnTo>
                    <a:pt x="139" y="1259"/>
                  </a:lnTo>
                  <a:lnTo>
                    <a:pt x="139" y="1326"/>
                  </a:lnTo>
                  <a:lnTo>
                    <a:pt x="139" y="1399"/>
                  </a:lnTo>
                  <a:lnTo>
                    <a:pt x="146" y="1467"/>
                  </a:lnTo>
                  <a:lnTo>
                    <a:pt x="163" y="1534"/>
                  </a:lnTo>
                  <a:lnTo>
                    <a:pt x="169" y="1557"/>
                  </a:lnTo>
                  <a:lnTo>
                    <a:pt x="174" y="1574"/>
                  </a:lnTo>
                  <a:lnTo>
                    <a:pt x="151" y="1607"/>
                  </a:lnTo>
                  <a:lnTo>
                    <a:pt x="128" y="1680"/>
                  </a:lnTo>
                  <a:lnTo>
                    <a:pt x="99" y="1781"/>
                  </a:lnTo>
                  <a:lnTo>
                    <a:pt x="76" y="1899"/>
                  </a:lnTo>
                  <a:lnTo>
                    <a:pt x="40" y="2018"/>
                  </a:lnTo>
                  <a:lnTo>
                    <a:pt x="24" y="2130"/>
                  </a:lnTo>
                  <a:lnTo>
                    <a:pt x="6" y="2220"/>
                  </a:lnTo>
                  <a:lnTo>
                    <a:pt x="0" y="2282"/>
                  </a:lnTo>
                  <a:lnTo>
                    <a:pt x="52" y="2316"/>
                  </a:lnTo>
                  <a:lnTo>
                    <a:pt x="111" y="2350"/>
                  </a:lnTo>
                  <a:lnTo>
                    <a:pt x="169" y="2384"/>
                  </a:lnTo>
                  <a:lnTo>
                    <a:pt x="233" y="2416"/>
                  </a:lnTo>
                  <a:lnTo>
                    <a:pt x="291" y="2445"/>
                  </a:lnTo>
                  <a:lnTo>
                    <a:pt x="354" y="2479"/>
                  </a:lnTo>
                  <a:lnTo>
                    <a:pt x="413" y="2512"/>
                  </a:lnTo>
                  <a:lnTo>
                    <a:pt x="476" y="2551"/>
                  </a:lnTo>
                  <a:lnTo>
                    <a:pt x="575" y="2585"/>
                  </a:lnTo>
                  <a:lnTo>
                    <a:pt x="715" y="2597"/>
                  </a:lnTo>
                  <a:lnTo>
                    <a:pt x="878" y="2591"/>
                  </a:lnTo>
                  <a:lnTo>
                    <a:pt x="1052" y="2575"/>
                  </a:lnTo>
                  <a:lnTo>
                    <a:pt x="1226" y="2546"/>
                  </a:lnTo>
                  <a:lnTo>
                    <a:pt x="1395" y="2524"/>
                  </a:lnTo>
                  <a:lnTo>
                    <a:pt x="1535" y="2496"/>
                  </a:lnTo>
                  <a:lnTo>
                    <a:pt x="1651" y="2490"/>
                  </a:lnTo>
                  <a:lnTo>
                    <a:pt x="1639" y="2433"/>
                  </a:lnTo>
                  <a:lnTo>
                    <a:pt x="1634" y="2384"/>
                  </a:lnTo>
                  <a:lnTo>
                    <a:pt x="1634" y="2327"/>
                  </a:lnTo>
                  <a:lnTo>
                    <a:pt x="1634" y="2276"/>
                  </a:lnTo>
                  <a:lnTo>
                    <a:pt x="1627" y="2215"/>
                  </a:lnTo>
                  <a:lnTo>
                    <a:pt x="1627" y="2158"/>
                  </a:lnTo>
                  <a:lnTo>
                    <a:pt x="1627" y="2102"/>
                  </a:lnTo>
                  <a:lnTo>
                    <a:pt x="1627" y="2046"/>
                  </a:lnTo>
                  <a:lnTo>
                    <a:pt x="1609" y="1972"/>
                  </a:lnTo>
                  <a:lnTo>
                    <a:pt x="1593" y="1939"/>
                  </a:lnTo>
                  <a:lnTo>
                    <a:pt x="1569" y="1928"/>
                  </a:lnTo>
                  <a:lnTo>
                    <a:pt x="1552" y="1939"/>
                  </a:lnTo>
                  <a:lnTo>
                    <a:pt x="1528" y="1962"/>
                  </a:lnTo>
                  <a:lnTo>
                    <a:pt x="1505" y="2006"/>
                  </a:lnTo>
                  <a:lnTo>
                    <a:pt x="1488" y="2051"/>
                  </a:lnTo>
                  <a:lnTo>
                    <a:pt x="1477" y="2102"/>
                  </a:lnTo>
                  <a:lnTo>
                    <a:pt x="1459" y="2085"/>
                  </a:lnTo>
                  <a:lnTo>
                    <a:pt x="1447" y="2068"/>
                  </a:lnTo>
                  <a:lnTo>
                    <a:pt x="1429" y="2051"/>
                  </a:lnTo>
                  <a:lnTo>
                    <a:pt x="1424" y="2046"/>
                  </a:lnTo>
                  <a:lnTo>
                    <a:pt x="1436" y="2012"/>
                  </a:lnTo>
                  <a:lnTo>
                    <a:pt x="1454" y="1979"/>
                  </a:lnTo>
                  <a:lnTo>
                    <a:pt x="1470" y="1945"/>
                  </a:lnTo>
                  <a:lnTo>
                    <a:pt x="1488" y="1916"/>
                  </a:lnTo>
                  <a:lnTo>
                    <a:pt x="1500" y="1877"/>
                  </a:lnTo>
                  <a:lnTo>
                    <a:pt x="1517" y="1844"/>
                  </a:lnTo>
                  <a:lnTo>
                    <a:pt x="1528" y="1810"/>
                  </a:lnTo>
                  <a:lnTo>
                    <a:pt x="1546" y="1781"/>
                  </a:lnTo>
                  <a:lnTo>
                    <a:pt x="1552" y="1692"/>
                  </a:lnTo>
                  <a:lnTo>
                    <a:pt x="1563" y="1613"/>
                  </a:lnTo>
                  <a:lnTo>
                    <a:pt x="1569" y="1540"/>
                  </a:lnTo>
                  <a:lnTo>
                    <a:pt x="1575" y="1467"/>
                  </a:lnTo>
                  <a:lnTo>
                    <a:pt x="1575" y="1388"/>
                  </a:lnTo>
                  <a:lnTo>
                    <a:pt x="1581" y="1309"/>
                  </a:lnTo>
                  <a:lnTo>
                    <a:pt x="1581" y="1225"/>
                  </a:lnTo>
                  <a:lnTo>
                    <a:pt x="1598" y="1146"/>
                  </a:lnTo>
                  <a:lnTo>
                    <a:pt x="1616" y="1000"/>
                  </a:lnTo>
                  <a:lnTo>
                    <a:pt x="1634" y="854"/>
                  </a:lnTo>
                  <a:lnTo>
                    <a:pt x="1651" y="702"/>
                  </a:lnTo>
                  <a:lnTo>
                    <a:pt x="1674" y="550"/>
                  </a:lnTo>
                  <a:lnTo>
                    <a:pt x="1680" y="393"/>
                  </a:lnTo>
                  <a:lnTo>
                    <a:pt x="1692" y="246"/>
                  </a:lnTo>
                  <a:lnTo>
                    <a:pt x="1685" y="111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6" name="Freeform 98"/>
            <p:cNvSpPr/>
            <p:nvPr/>
          </p:nvSpPr>
          <p:spPr>
            <a:xfrm>
              <a:off x="6412320" y="5635800"/>
              <a:ext cx="52920" cy="37800"/>
            </a:xfrm>
            <a:custGeom>
              <a:avLst/>
              <a:gdLst/>
              <a:ahLst/>
              <a:rect l="l" t="t" r="r" b="b"/>
              <a:pathLst>
                <a:path w="249" h="163">
                  <a:moveTo>
                    <a:pt x="0" y="0"/>
                  </a:moveTo>
                  <a:lnTo>
                    <a:pt x="11" y="28"/>
                  </a:lnTo>
                  <a:lnTo>
                    <a:pt x="35" y="68"/>
                  </a:lnTo>
                  <a:lnTo>
                    <a:pt x="69" y="108"/>
                  </a:lnTo>
                  <a:lnTo>
                    <a:pt x="104" y="141"/>
                  </a:lnTo>
                  <a:lnTo>
                    <a:pt x="139" y="158"/>
                  </a:lnTo>
                  <a:lnTo>
                    <a:pt x="180" y="163"/>
                  </a:lnTo>
                  <a:lnTo>
                    <a:pt x="208" y="147"/>
                  </a:lnTo>
                  <a:lnTo>
                    <a:pt x="238" y="101"/>
                  </a:lnTo>
                  <a:lnTo>
                    <a:pt x="238" y="79"/>
                  </a:lnTo>
                  <a:lnTo>
                    <a:pt x="243" y="57"/>
                  </a:lnTo>
                  <a:lnTo>
                    <a:pt x="243" y="28"/>
                  </a:lnTo>
                  <a:lnTo>
                    <a:pt x="249" y="0"/>
                  </a:lnTo>
                  <a:lnTo>
                    <a:pt x="215" y="12"/>
                  </a:lnTo>
                  <a:lnTo>
                    <a:pt x="180" y="28"/>
                  </a:lnTo>
                  <a:lnTo>
                    <a:pt x="150" y="34"/>
                  </a:lnTo>
                  <a:lnTo>
                    <a:pt x="121" y="40"/>
                  </a:lnTo>
                  <a:lnTo>
                    <a:pt x="86" y="28"/>
                  </a:lnTo>
                  <a:lnTo>
                    <a:pt x="58" y="23"/>
                  </a:lnTo>
                  <a:lnTo>
                    <a:pt x="2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7" name="Freeform 99"/>
            <p:cNvSpPr/>
            <p:nvPr/>
          </p:nvSpPr>
          <p:spPr>
            <a:xfrm>
              <a:off x="7262640" y="5719320"/>
              <a:ext cx="55440" cy="204480"/>
            </a:xfrm>
            <a:custGeom>
              <a:avLst/>
              <a:gdLst/>
              <a:ahLst/>
              <a:rect l="l" t="t" r="r" b="b"/>
              <a:pathLst>
                <a:path w="256" h="877">
                  <a:moveTo>
                    <a:pt x="192" y="0"/>
                  </a:moveTo>
                  <a:lnTo>
                    <a:pt x="163" y="50"/>
                  </a:lnTo>
                  <a:lnTo>
                    <a:pt x="128" y="158"/>
                  </a:lnTo>
                  <a:lnTo>
                    <a:pt x="81" y="298"/>
                  </a:lnTo>
                  <a:lnTo>
                    <a:pt x="41" y="455"/>
                  </a:lnTo>
                  <a:lnTo>
                    <a:pt x="6" y="602"/>
                  </a:lnTo>
                  <a:lnTo>
                    <a:pt x="0" y="737"/>
                  </a:lnTo>
                  <a:lnTo>
                    <a:pt x="18" y="832"/>
                  </a:lnTo>
                  <a:lnTo>
                    <a:pt x="81" y="877"/>
                  </a:lnTo>
                  <a:lnTo>
                    <a:pt x="110" y="866"/>
                  </a:lnTo>
                  <a:lnTo>
                    <a:pt x="163" y="861"/>
                  </a:lnTo>
                  <a:lnTo>
                    <a:pt x="203" y="849"/>
                  </a:lnTo>
                  <a:lnTo>
                    <a:pt x="244" y="849"/>
                  </a:lnTo>
                  <a:lnTo>
                    <a:pt x="249" y="737"/>
                  </a:lnTo>
                  <a:lnTo>
                    <a:pt x="256" y="624"/>
                  </a:lnTo>
                  <a:lnTo>
                    <a:pt x="249" y="511"/>
                  </a:lnTo>
                  <a:lnTo>
                    <a:pt x="249" y="405"/>
                  </a:lnTo>
                  <a:lnTo>
                    <a:pt x="233" y="293"/>
                  </a:lnTo>
                  <a:lnTo>
                    <a:pt x="221" y="192"/>
                  </a:lnTo>
                  <a:lnTo>
                    <a:pt x="203" y="9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8" name="Freeform 100"/>
            <p:cNvSpPr/>
            <p:nvPr/>
          </p:nvSpPr>
          <p:spPr>
            <a:xfrm>
              <a:off x="6715800" y="5851080"/>
              <a:ext cx="81360" cy="33120"/>
            </a:xfrm>
            <a:custGeom>
              <a:avLst/>
              <a:gdLst/>
              <a:ahLst/>
              <a:rect l="l" t="t" r="r" b="b"/>
              <a:pathLst>
                <a:path w="377" h="147">
                  <a:moveTo>
                    <a:pt x="302" y="6"/>
                  </a:moveTo>
                  <a:lnTo>
                    <a:pt x="261" y="0"/>
                  </a:lnTo>
                  <a:lnTo>
                    <a:pt x="226" y="0"/>
                  </a:lnTo>
                  <a:lnTo>
                    <a:pt x="185" y="6"/>
                  </a:lnTo>
                  <a:lnTo>
                    <a:pt x="151" y="17"/>
                  </a:lnTo>
                  <a:lnTo>
                    <a:pt x="104" y="17"/>
                  </a:lnTo>
                  <a:lnTo>
                    <a:pt x="63" y="28"/>
                  </a:lnTo>
                  <a:lnTo>
                    <a:pt x="28" y="34"/>
                  </a:lnTo>
                  <a:lnTo>
                    <a:pt x="0" y="45"/>
                  </a:lnTo>
                  <a:lnTo>
                    <a:pt x="5" y="68"/>
                  </a:lnTo>
                  <a:lnTo>
                    <a:pt x="12" y="91"/>
                  </a:lnTo>
                  <a:lnTo>
                    <a:pt x="12" y="96"/>
                  </a:lnTo>
                  <a:lnTo>
                    <a:pt x="23" y="108"/>
                  </a:lnTo>
                  <a:lnTo>
                    <a:pt x="40" y="113"/>
                  </a:lnTo>
                  <a:lnTo>
                    <a:pt x="58" y="118"/>
                  </a:lnTo>
                  <a:lnTo>
                    <a:pt x="93" y="135"/>
                  </a:lnTo>
                  <a:lnTo>
                    <a:pt x="93" y="124"/>
                  </a:lnTo>
                  <a:lnTo>
                    <a:pt x="121" y="124"/>
                  </a:lnTo>
                  <a:lnTo>
                    <a:pt x="151" y="130"/>
                  </a:lnTo>
                  <a:lnTo>
                    <a:pt x="185" y="130"/>
                  </a:lnTo>
                  <a:lnTo>
                    <a:pt x="220" y="135"/>
                  </a:lnTo>
                  <a:lnTo>
                    <a:pt x="249" y="135"/>
                  </a:lnTo>
                  <a:lnTo>
                    <a:pt x="284" y="135"/>
                  </a:lnTo>
                  <a:lnTo>
                    <a:pt x="319" y="141"/>
                  </a:lnTo>
                  <a:lnTo>
                    <a:pt x="354" y="147"/>
                  </a:lnTo>
                  <a:lnTo>
                    <a:pt x="365" y="96"/>
                  </a:lnTo>
                  <a:lnTo>
                    <a:pt x="377" y="51"/>
                  </a:lnTo>
                  <a:lnTo>
                    <a:pt x="365" y="34"/>
                  </a:lnTo>
                  <a:lnTo>
                    <a:pt x="354" y="17"/>
                  </a:lnTo>
                  <a:lnTo>
                    <a:pt x="331" y="6"/>
                  </a:lnTo>
                  <a:lnTo>
                    <a:pt x="302" y="6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9" name="Freeform 101"/>
            <p:cNvSpPr/>
            <p:nvPr/>
          </p:nvSpPr>
          <p:spPr>
            <a:xfrm>
              <a:off x="6582960" y="5855040"/>
              <a:ext cx="116280" cy="29160"/>
            </a:xfrm>
            <a:custGeom>
              <a:avLst/>
              <a:gdLst/>
              <a:ahLst/>
              <a:rect l="l" t="t" r="r" b="b"/>
              <a:pathLst>
                <a:path w="540" h="130">
                  <a:moveTo>
                    <a:pt x="418" y="0"/>
                  </a:moveTo>
                  <a:lnTo>
                    <a:pt x="360" y="0"/>
                  </a:lnTo>
                  <a:lnTo>
                    <a:pt x="284" y="23"/>
                  </a:lnTo>
                  <a:lnTo>
                    <a:pt x="191" y="45"/>
                  </a:lnTo>
                  <a:lnTo>
                    <a:pt x="104" y="74"/>
                  </a:lnTo>
                  <a:lnTo>
                    <a:pt x="29" y="91"/>
                  </a:lnTo>
                  <a:lnTo>
                    <a:pt x="0" y="113"/>
                  </a:lnTo>
                  <a:lnTo>
                    <a:pt x="29" y="124"/>
                  </a:lnTo>
                  <a:lnTo>
                    <a:pt x="127" y="130"/>
                  </a:lnTo>
                  <a:lnTo>
                    <a:pt x="180" y="124"/>
                  </a:lnTo>
                  <a:lnTo>
                    <a:pt x="238" y="118"/>
                  </a:lnTo>
                  <a:lnTo>
                    <a:pt x="284" y="113"/>
                  </a:lnTo>
                  <a:lnTo>
                    <a:pt x="331" y="113"/>
                  </a:lnTo>
                  <a:lnTo>
                    <a:pt x="371" y="107"/>
                  </a:lnTo>
                  <a:lnTo>
                    <a:pt x="424" y="107"/>
                  </a:lnTo>
                  <a:lnTo>
                    <a:pt x="477" y="107"/>
                  </a:lnTo>
                  <a:lnTo>
                    <a:pt x="540" y="107"/>
                  </a:lnTo>
                  <a:lnTo>
                    <a:pt x="523" y="57"/>
                  </a:lnTo>
                  <a:lnTo>
                    <a:pt x="511" y="11"/>
                  </a:lnTo>
                  <a:lnTo>
                    <a:pt x="488" y="6"/>
                  </a:lnTo>
                  <a:lnTo>
                    <a:pt x="465" y="0"/>
                  </a:lnTo>
                  <a:lnTo>
                    <a:pt x="441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6864480" y="5871960"/>
              <a:ext cx="113400" cy="33120"/>
            </a:xfrm>
            <a:custGeom>
              <a:avLst/>
              <a:gdLst/>
              <a:ahLst/>
              <a:rect l="l" t="t" r="r" b="b"/>
              <a:pathLst>
                <a:path w="528" h="145">
                  <a:moveTo>
                    <a:pt x="105" y="5"/>
                  </a:moveTo>
                  <a:lnTo>
                    <a:pt x="58" y="10"/>
                  </a:lnTo>
                  <a:lnTo>
                    <a:pt x="0" y="33"/>
                  </a:lnTo>
                  <a:lnTo>
                    <a:pt x="18" y="78"/>
                  </a:lnTo>
                  <a:lnTo>
                    <a:pt x="52" y="112"/>
                  </a:lnTo>
                  <a:lnTo>
                    <a:pt x="93" y="135"/>
                  </a:lnTo>
                  <a:lnTo>
                    <a:pt x="157" y="145"/>
                  </a:lnTo>
                  <a:lnTo>
                    <a:pt x="221" y="145"/>
                  </a:lnTo>
                  <a:lnTo>
                    <a:pt x="302" y="145"/>
                  </a:lnTo>
                  <a:lnTo>
                    <a:pt x="378" y="140"/>
                  </a:lnTo>
                  <a:lnTo>
                    <a:pt x="465" y="145"/>
                  </a:lnTo>
                  <a:lnTo>
                    <a:pt x="523" y="135"/>
                  </a:lnTo>
                  <a:lnTo>
                    <a:pt x="528" y="123"/>
                  </a:lnTo>
                  <a:lnTo>
                    <a:pt x="494" y="95"/>
                  </a:lnTo>
                  <a:lnTo>
                    <a:pt x="430" y="67"/>
                  </a:lnTo>
                  <a:lnTo>
                    <a:pt x="343" y="33"/>
                  </a:lnTo>
                  <a:lnTo>
                    <a:pt x="256" y="17"/>
                  </a:lnTo>
                  <a:lnTo>
                    <a:pt x="168" y="0"/>
                  </a:lnTo>
                  <a:lnTo>
                    <a:pt x="105" y="5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7268760" y="5933880"/>
              <a:ext cx="104760" cy="41760"/>
            </a:xfrm>
            <a:custGeom>
              <a:avLst/>
              <a:gdLst/>
              <a:ahLst/>
              <a:rect l="l" t="t" r="r" b="b"/>
              <a:pathLst>
                <a:path w="483" h="181">
                  <a:moveTo>
                    <a:pt x="81" y="0"/>
                  </a:moveTo>
                  <a:lnTo>
                    <a:pt x="65" y="0"/>
                  </a:lnTo>
                  <a:lnTo>
                    <a:pt x="40" y="12"/>
                  </a:lnTo>
                  <a:lnTo>
                    <a:pt x="12" y="17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6" y="80"/>
                  </a:lnTo>
                  <a:lnTo>
                    <a:pt x="6" y="96"/>
                  </a:lnTo>
                  <a:lnTo>
                    <a:pt x="12" y="130"/>
                  </a:lnTo>
                  <a:lnTo>
                    <a:pt x="40" y="124"/>
                  </a:lnTo>
                  <a:lnTo>
                    <a:pt x="76" y="124"/>
                  </a:lnTo>
                  <a:lnTo>
                    <a:pt x="105" y="119"/>
                  </a:lnTo>
                  <a:lnTo>
                    <a:pt x="139" y="119"/>
                  </a:lnTo>
                  <a:lnTo>
                    <a:pt x="197" y="119"/>
                  </a:lnTo>
                  <a:lnTo>
                    <a:pt x="250" y="130"/>
                  </a:lnTo>
                  <a:lnTo>
                    <a:pt x="261" y="135"/>
                  </a:lnTo>
                  <a:lnTo>
                    <a:pt x="279" y="152"/>
                  </a:lnTo>
                  <a:lnTo>
                    <a:pt x="291" y="158"/>
                  </a:lnTo>
                  <a:lnTo>
                    <a:pt x="308" y="169"/>
                  </a:lnTo>
                  <a:lnTo>
                    <a:pt x="331" y="175"/>
                  </a:lnTo>
                  <a:lnTo>
                    <a:pt x="372" y="181"/>
                  </a:lnTo>
                  <a:lnTo>
                    <a:pt x="453" y="169"/>
                  </a:lnTo>
                  <a:lnTo>
                    <a:pt x="483" y="147"/>
                  </a:lnTo>
                  <a:lnTo>
                    <a:pt x="453" y="113"/>
                  </a:lnTo>
                  <a:lnTo>
                    <a:pt x="395" y="80"/>
                  </a:lnTo>
                  <a:lnTo>
                    <a:pt x="308" y="46"/>
                  </a:lnTo>
                  <a:lnTo>
                    <a:pt x="220" y="17"/>
                  </a:lnTo>
                  <a:lnTo>
                    <a:pt x="139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7464240" y="5954760"/>
              <a:ext cx="147240" cy="54000"/>
            </a:xfrm>
            <a:custGeom>
              <a:avLst/>
              <a:gdLst/>
              <a:ahLst/>
              <a:rect l="l" t="t" r="r" b="b"/>
              <a:pathLst>
                <a:path w="679" h="236">
                  <a:moveTo>
                    <a:pt x="197" y="12"/>
                  </a:moveTo>
                  <a:lnTo>
                    <a:pt x="151" y="17"/>
                  </a:lnTo>
                  <a:lnTo>
                    <a:pt x="104" y="34"/>
                  </a:lnTo>
                  <a:lnTo>
                    <a:pt x="52" y="45"/>
                  </a:lnTo>
                  <a:lnTo>
                    <a:pt x="0" y="62"/>
                  </a:lnTo>
                  <a:lnTo>
                    <a:pt x="23" y="130"/>
                  </a:lnTo>
                  <a:lnTo>
                    <a:pt x="63" y="181"/>
                  </a:lnTo>
                  <a:lnTo>
                    <a:pt x="116" y="209"/>
                  </a:lnTo>
                  <a:lnTo>
                    <a:pt x="180" y="226"/>
                  </a:lnTo>
                  <a:lnTo>
                    <a:pt x="243" y="226"/>
                  </a:lnTo>
                  <a:lnTo>
                    <a:pt x="325" y="226"/>
                  </a:lnTo>
                  <a:lnTo>
                    <a:pt x="406" y="226"/>
                  </a:lnTo>
                  <a:lnTo>
                    <a:pt x="505" y="231"/>
                  </a:lnTo>
                  <a:lnTo>
                    <a:pt x="552" y="231"/>
                  </a:lnTo>
                  <a:lnTo>
                    <a:pt x="593" y="236"/>
                  </a:lnTo>
                  <a:lnTo>
                    <a:pt x="628" y="231"/>
                  </a:lnTo>
                  <a:lnTo>
                    <a:pt x="651" y="226"/>
                  </a:lnTo>
                  <a:lnTo>
                    <a:pt x="662" y="203"/>
                  </a:lnTo>
                  <a:lnTo>
                    <a:pt x="674" y="181"/>
                  </a:lnTo>
                  <a:lnTo>
                    <a:pt x="674" y="141"/>
                  </a:lnTo>
                  <a:lnTo>
                    <a:pt x="679" y="91"/>
                  </a:lnTo>
                  <a:lnTo>
                    <a:pt x="621" y="74"/>
                  </a:lnTo>
                  <a:lnTo>
                    <a:pt x="563" y="57"/>
                  </a:lnTo>
                  <a:lnTo>
                    <a:pt x="505" y="40"/>
                  </a:lnTo>
                  <a:lnTo>
                    <a:pt x="453" y="23"/>
                  </a:lnTo>
                  <a:lnTo>
                    <a:pt x="390" y="6"/>
                  </a:lnTo>
                  <a:lnTo>
                    <a:pt x="331" y="0"/>
                  </a:lnTo>
                  <a:lnTo>
                    <a:pt x="261" y="0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7151400" y="5959440"/>
              <a:ext cx="154800" cy="38160"/>
            </a:xfrm>
            <a:custGeom>
              <a:avLst/>
              <a:gdLst/>
              <a:ahLst/>
              <a:rect l="l" t="t" r="r" b="b"/>
              <a:pathLst>
                <a:path w="720" h="163">
                  <a:moveTo>
                    <a:pt x="0" y="0"/>
                  </a:moveTo>
                  <a:lnTo>
                    <a:pt x="0" y="45"/>
                  </a:lnTo>
                  <a:lnTo>
                    <a:pt x="0" y="95"/>
                  </a:lnTo>
                  <a:lnTo>
                    <a:pt x="69" y="95"/>
                  </a:lnTo>
                  <a:lnTo>
                    <a:pt x="157" y="107"/>
                  </a:lnTo>
                  <a:lnTo>
                    <a:pt x="249" y="124"/>
                  </a:lnTo>
                  <a:lnTo>
                    <a:pt x="355" y="141"/>
                  </a:lnTo>
                  <a:lnTo>
                    <a:pt x="447" y="152"/>
                  </a:lnTo>
                  <a:lnTo>
                    <a:pt x="540" y="163"/>
                  </a:lnTo>
                  <a:lnTo>
                    <a:pt x="622" y="163"/>
                  </a:lnTo>
                  <a:lnTo>
                    <a:pt x="692" y="158"/>
                  </a:lnTo>
                  <a:lnTo>
                    <a:pt x="720" y="124"/>
                  </a:lnTo>
                  <a:lnTo>
                    <a:pt x="680" y="102"/>
                  </a:lnTo>
                  <a:lnTo>
                    <a:pt x="586" y="73"/>
                  </a:lnTo>
                  <a:lnTo>
                    <a:pt x="459" y="51"/>
                  </a:lnTo>
                  <a:lnTo>
                    <a:pt x="314" y="28"/>
                  </a:lnTo>
                  <a:lnTo>
                    <a:pt x="175" y="17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7626960" y="5978160"/>
              <a:ext cx="132840" cy="31680"/>
            </a:xfrm>
            <a:custGeom>
              <a:avLst/>
              <a:gdLst/>
              <a:ahLst/>
              <a:rect l="l" t="t" r="r" b="b"/>
              <a:pathLst>
                <a:path w="616" h="142">
                  <a:moveTo>
                    <a:pt x="0" y="0"/>
                  </a:moveTo>
                  <a:lnTo>
                    <a:pt x="30" y="119"/>
                  </a:lnTo>
                  <a:lnTo>
                    <a:pt x="93" y="119"/>
                  </a:lnTo>
                  <a:lnTo>
                    <a:pt x="169" y="125"/>
                  </a:lnTo>
                  <a:lnTo>
                    <a:pt x="244" y="125"/>
                  </a:lnTo>
                  <a:lnTo>
                    <a:pt x="325" y="130"/>
                  </a:lnTo>
                  <a:lnTo>
                    <a:pt x="401" y="130"/>
                  </a:lnTo>
                  <a:lnTo>
                    <a:pt x="477" y="130"/>
                  </a:lnTo>
                  <a:lnTo>
                    <a:pt x="547" y="135"/>
                  </a:lnTo>
                  <a:lnTo>
                    <a:pt x="616" y="142"/>
                  </a:lnTo>
                  <a:lnTo>
                    <a:pt x="563" y="80"/>
                  </a:lnTo>
                  <a:lnTo>
                    <a:pt x="506" y="40"/>
                  </a:lnTo>
                  <a:lnTo>
                    <a:pt x="436" y="12"/>
                  </a:lnTo>
                  <a:lnTo>
                    <a:pt x="360" y="7"/>
                  </a:lnTo>
                  <a:lnTo>
                    <a:pt x="268" y="0"/>
                  </a:lnTo>
                  <a:lnTo>
                    <a:pt x="180" y="0"/>
                  </a:ln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5" name="Freeform 107"/>
            <p:cNvSpPr/>
            <p:nvPr/>
          </p:nvSpPr>
          <p:spPr>
            <a:xfrm>
              <a:off x="7756200" y="6199920"/>
              <a:ext cx="109800" cy="127080"/>
            </a:xfrm>
            <a:custGeom>
              <a:avLst/>
              <a:gdLst/>
              <a:ahLst/>
              <a:rect l="l" t="t" r="r" b="b"/>
              <a:pathLst>
                <a:path w="511" h="546">
                  <a:moveTo>
                    <a:pt x="17" y="0"/>
                  </a:moveTo>
                  <a:lnTo>
                    <a:pt x="5" y="34"/>
                  </a:lnTo>
                  <a:lnTo>
                    <a:pt x="5" y="85"/>
                  </a:lnTo>
                  <a:lnTo>
                    <a:pt x="0" y="130"/>
                  </a:lnTo>
                  <a:lnTo>
                    <a:pt x="0" y="186"/>
                  </a:lnTo>
                  <a:lnTo>
                    <a:pt x="0" y="236"/>
                  </a:lnTo>
                  <a:lnTo>
                    <a:pt x="5" y="287"/>
                  </a:lnTo>
                  <a:lnTo>
                    <a:pt x="12" y="332"/>
                  </a:lnTo>
                  <a:lnTo>
                    <a:pt x="29" y="371"/>
                  </a:lnTo>
                  <a:lnTo>
                    <a:pt x="52" y="395"/>
                  </a:lnTo>
                  <a:lnTo>
                    <a:pt x="104" y="427"/>
                  </a:lnTo>
                  <a:lnTo>
                    <a:pt x="162" y="467"/>
                  </a:lnTo>
                  <a:lnTo>
                    <a:pt x="238" y="506"/>
                  </a:lnTo>
                  <a:lnTo>
                    <a:pt x="302" y="529"/>
                  </a:lnTo>
                  <a:lnTo>
                    <a:pt x="372" y="546"/>
                  </a:lnTo>
                  <a:lnTo>
                    <a:pt x="418" y="546"/>
                  </a:lnTo>
                  <a:lnTo>
                    <a:pt x="453" y="529"/>
                  </a:lnTo>
                  <a:lnTo>
                    <a:pt x="459" y="495"/>
                  </a:lnTo>
                  <a:lnTo>
                    <a:pt x="471" y="461"/>
                  </a:lnTo>
                  <a:lnTo>
                    <a:pt x="476" y="427"/>
                  </a:lnTo>
                  <a:lnTo>
                    <a:pt x="488" y="395"/>
                  </a:lnTo>
                  <a:lnTo>
                    <a:pt x="494" y="355"/>
                  </a:lnTo>
                  <a:lnTo>
                    <a:pt x="499" y="316"/>
                  </a:lnTo>
                  <a:lnTo>
                    <a:pt x="506" y="277"/>
                  </a:lnTo>
                  <a:lnTo>
                    <a:pt x="511" y="243"/>
                  </a:lnTo>
                  <a:lnTo>
                    <a:pt x="441" y="214"/>
                  </a:lnTo>
                  <a:lnTo>
                    <a:pt x="377" y="186"/>
                  </a:lnTo>
                  <a:lnTo>
                    <a:pt x="314" y="158"/>
                  </a:lnTo>
                  <a:lnTo>
                    <a:pt x="255" y="130"/>
                  </a:lnTo>
                  <a:lnTo>
                    <a:pt x="197" y="96"/>
                  </a:lnTo>
                  <a:lnTo>
                    <a:pt x="139" y="62"/>
                  </a:lnTo>
                  <a:lnTo>
                    <a:pt x="75" y="2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6" name="Freeform 108"/>
            <p:cNvSpPr/>
            <p:nvPr/>
          </p:nvSpPr>
          <p:spPr>
            <a:xfrm>
              <a:off x="8017560" y="6235560"/>
              <a:ext cx="9000" cy="864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lnTo>
                    <a:pt x="0" y="17"/>
                  </a:lnTo>
                  <a:lnTo>
                    <a:pt x="0" y="40"/>
                  </a:lnTo>
                  <a:lnTo>
                    <a:pt x="7" y="34"/>
                  </a:lnTo>
                  <a:lnTo>
                    <a:pt x="30" y="34"/>
                  </a:lnTo>
                  <a:lnTo>
                    <a:pt x="41" y="29"/>
                  </a:lnTo>
                  <a:lnTo>
                    <a:pt x="3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7" name="Freeform 109"/>
            <p:cNvSpPr/>
            <p:nvPr/>
          </p:nvSpPr>
          <p:spPr>
            <a:xfrm>
              <a:off x="7902360" y="6239520"/>
              <a:ext cx="203040" cy="66600"/>
            </a:xfrm>
            <a:custGeom>
              <a:avLst/>
              <a:gdLst/>
              <a:ahLst/>
              <a:rect l="l" t="t" r="r" b="b"/>
              <a:pathLst>
                <a:path w="942" h="287">
                  <a:moveTo>
                    <a:pt x="99" y="12"/>
                  </a:moveTo>
                  <a:lnTo>
                    <a:pt x="58" y="12"/>
                  </a:lnTo>
                  <a:lnTo>
                    <a:pt x="35" y="28"/>
                  </a:lnTo>
                  <a:lnTo>
                    <a:pt x="18" y="45"/>
                  </a:lnTo>
                  <a:lnTo>
                    <a:pt x="12" y="74"/>
                  </a:lnTo>
                  <a:lnTo>
                    <a:pt x="0" y="96"/>
                  </a:lnTo>
                  <a:lnTo>
                    <a:pt x="7" y="124"/>
                  </a:lnTo>
                  <a:lnTo>
                    <a:pt x="7" y="158"/>
                  </a:lnTo>
                  <a:lnTo>
                    <a:pt x="18" y="192"/>
                  </a:lnTo>
                  <a:lnTo>
                    <a:pt x="18" y="226"/>
                  </a:lnTo>
                  <a:lnTo>
                    <a:pt x="18" y="265"/>
                  </a:lnTo>
                  <a:lnTo>
                    <a:pt x="111" y="270"/>
                  </a:lnTo>
                  <a:lnTo>
                    <a:pt x="215" y="282"/>
                  </a:lnTo>
                  <a:lnTo>
                    <a:pt x="321" y="282"/>
                  </a:lnTo>
                  <a:lnTo>
                    <a:pt x="431" y="287"/>
                  </a:lnTo>
                  <a:lnTo>
                    <a:pt x="542" y="275"/>
                  </a:lnTo>
                  <a:lnTo>
                    <a:pt x="651" y="270"/>
                  </a:lnTo>
                  <a:lnTo>
                    <a:pt x="762" y="258"/>
                  </a:lnTo>
                  <a:lnTo>
                    <a:pt x="872" y="253"/>
                  </a:lnTo>
                  <a:lnTo>
                    <a:pt x="902" y="243"/>
                  </a:lnTo>
                  <a:lnTo>
                    <a:pt x="925" y="236"/>
                  </a:lnTo>
                  <a:lnTo>
                    <a:pt x="937" y="226"/>
                  </a:lnTo>
                  <a:lnTo>
                    <a:pt x="942" y="214"/>
                  </a:lnTo>
                  <a:lnTo>
                    <a:pt x="937" y="175"/>
                  </a:lnTo>
                  <a:lnTo>
                    <a:pt x="937" y="141"/>
                  </a:lnTo>
                  <a:lnTo>
                    <a:pt x="797" y="130"/>
                  </a:lnTo>
                  <a:lnTo>
                    <a:pt x="686" y="113"/>
                  </a:lnTo>
                  <a:lnTo>
                    <a:pt x="576" y="84"/>
                  </a:lnTo>
                  <a:lnTo>
                    <a:pt x="489" y="57"/>
                  </a:lnTo>
                  <a:lnTo>
                    <a:pt x="395" y="23"/>
                  </a:lnTo>
                  <a:lnTo>
                    <a:pt x="303" y="6"/>
                  </a:lnTo>
                  <a:lnTo>
                    <a:pt x="204" y="0"/>
                  </a:lnTo>
                  <a:lnTo>
                    <a:pt x="99" y="12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8" name="Freeform 110"/>
            <p:cNvSpPr/>
            <p:nvPr/>
          </p:nvSpPr>
          <p:spPr>
            <a:xfrm>
              <a:off x="8033040" y="4663080"/>
              <a:ext cx="17640" cy="70200"/>
            </a:xfrm>
            <a:custGeom>
              <a:avLst/>
              <a:gdLst/>
              <a:ahLst/>
              <a:rect l="l" t="t" r="r" b="b"/>
              <a:pathLst>
                <a:path w="87" h="299">
                  <a:moveTo>
                    <a:pt x="18" y="0"/>
                  </a:moveTo>
                  <a:lnTo>
                    <a:pt x="81" y="17"/>
                  </a:lnTo>
                  <a:lnTo>
                    <a:pt x="87" y="265"/>
                  </a:lnTo>
                  <a:lnTo>
                    <a:pt x="76" y="265"/>
                  </a:lnTo>
                  <a:lnTo>
                    <a:pt x="53" y="282"/>
                  </a:lnTo>
                  <a:lnTo>
                    <a:pt x="23" y="287"/>
                  </a:lnTo>
                  <a:lnTo>
                    <a:pt x="6" y="299"/>
                  </a:lnTo>
                  <a:lnTo>
                    <a:pt x="0" y="282"/>
                  </a:lnTo>
                  <a:lnTo>
                    <a:pt x="0" y="248"/>
                  </a:lnTo>
                  <a:lnTo>
                    <a:pt x="6" y="203"/>
                  </a:lnTo>
                  <a:lnTo>
                    <a:pt x="18" y="152"/>
                  </a:lnTo>
                  <a:lnTo>
                    <a:pt x="18" y="96"/>
                  </a:lnTo>
                  <a:lnTo>
                    <a:pt x="23" y="51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>
              <a:off x="5172840" y="5018040"/>
              <a:ext cx="252000" cy="199800"/>
            </a:xfrm>
            <a:custGeom>
              <a:avLst/>
              <a:gdLst/>
              <a:ahLst/>
              <a:rect l="l" t="t" r="r" b="b"/>
              <a:pathLst>
                <a:path w="1174" h="854">
                  <a:moveTo>
                    <a:pt x="0" y="10"/>
                  </a:moveTo>
                  <a:lnTo>
                    <a:pt x="1174" y="0"/>
                  </a:lnTo>
                  <a:lnTo>
                    <a:pt x="436" y="780"/>
                  </a:lnTo>
                  <a:lnTo>
                    <a:pt x="994" y="854"/>
                  </a:lnTo>
                  <a:lnTo>
                    <a:pt x="552" y="736"/>
                  </a:lnTo>
                  <a:lnTo>
                    <a:pt x="1139" y="6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0" name="Freeform 112"/>
            <p:cNvSpPr/>
            <p:nvPr/>
          </p:nvSpPr>
          <p:spPr>
            <a:xfrm>
              <a:off x="5907960" y="5482800"/>
              <a:ext cx="426240" cy="310320"/>
            </a:xfrm>
            <a:custGeom>
              <a:avLst/>
              <a:gdLst/>
              <a:ahLst/>
              <a:rect l="l" t="t" r="r" b="b"/>
              <a:pathLst>
                <a:path w="1976" h="1332">
                  <a:moveTo>
                    <a:pt x="291" y="0"/>
                  </a:moveTo>
                  <a:lnTo>
                    <a:pt x="0" y="421"/>
                  </a:lnTo>
                  <a:lnTo>
                    <a:pt x="1976" y="1332"/>
                  </a:lnTo>
                  <a:lnTo>
                    <a:pt x="81" y="42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1" name="Freeform 113"/>
            <p:cNvSpPr/>
            <p:nvPr/>
          </p:nvSpPr>
          <p:spPr>
            <a:xfrm>
              <a:off x="5847480" y="4703760"/>
              <a:ext cx="714240" cy="34200"/>
            </a:xfrm>
            <a:custGeom>
              <a:avLst/>
              <a:gdLst/>
              <a:ahLst/>
              <a:rect l="l" t="t" r="r" b="b"/>
              <a:pathLst>
                <a:path w="3318" h="146">
                  <a:moveTo>
                    <a:pt x="0" y="146"/>
                  </a:moveTo>
                  <a:lnTo>
                    <a:pt x="2277" y="45"/>
                  </a:lnTo>
                  <a:lnTo>
                    <a:pt x="3318" y="135"/>
                  </a:lnTo>
                  <a:lnTo>
                    <a:pt x="2306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2" name="Freeform 114"/>
            <p:cNvSpPr/>
            <p:nvPr/>
          </p:nvSpPr>
          <p:spPr>
            <a:xfrm>
              <a:off x="4876920" y="4817160"/>
              <a:ext cx="48960" cy="73440"/>
            </a:xfrm>
            <a:custGeom>
              <a:avLst/>
              <a:gdLst/>
              <a:ahLst/>
              <a:rect l="l" t="t" r="r" b="b"/>
              <a:pathLst>
                <a:path w="226" h="320">
                  <a:moveTo>
                    <a:pt x="226" y="0"/>
                  </a:moveTo>
                  <a:lnTo>
                    <a:pt x="81" y="101"/>
                  </a:lnTo>
                  <a:lnTo>
                    <a:pt x="0" y="320"/>
                  </a:lnTo>
                  <a:lnTo>
                    <a:pt x="17" y="10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53" name="AutoShape 116"/>
          <p:cNvSpPr/>
          <p:nvPr/>
        </p:nvSpPr>
        <p:spPr>
          <a:xfrm>
            <a:off x="1371600" y="2971800"/>
            <a:ext cx="3276720" cy="1143000"/>
          </a:xfrm>
          <a:prstGeom prst="cloudCallout">
            <a:avLst>
              <a:gd name="adj1" fmla="val -30666"/>
              <a:gd name="adj2" fmla="val 6361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54" name="Group 124"/>
          <p:cNvGrpSpPr/>
          <p:nvPr/>
        </p:nvGrpSpPr>
        <p:grpSpPr>
          <a:xfrm>
            <a:off x="4267080" y="2971800"/>
            <a:ext cx="3276720" cy="1752480"/>
            <a:chOff x="4267080" y="2971800"/>
            <a:chExt cx="3276720" cy="1752480"/>
          </a:xfrm>
        </p:grpSpPr>
        <p:sp>
          <p:nvSpPr>
            <p:cNvPr id="155" name="AutoShape 117"/>
            <p:cNvSpPr/>
            <p:nvPr/>
          </p:nvSpPr>
          <p:spPr>
            <a:xfrm>
              <a:off x="4267080" y="2971800"/>
              <a:ext cx="3276720" cy="1143000"/>
            </a:xfrm>
            <a:prstGeom prst="cloudCallout">
              <a:avLst>
                <a:gd name="adj1" fmla="val 56638"/>
                <a:gd name="adj2" fmla="val 82083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Thought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6" name="Oval 118"/>
            <p:cNvSpPr/>
            <p:nvPr/>
          </p:nvSpPr>
          <p:spPr>
            <a:xfrm>
              <a:off x="5867280" y="4191120"/>
              <a:ext cx="53352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7" name="Oval 119"/>
            <p:cNvSpPr/>
            <p:nvPr/>
          </p:nvSpPr>
          <p:spPr>
            <a:xfrm>
              <a:off x="6248520" y="4440240"/>
              <a:ext cx="380880" cy="15228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8" name="Oval 120"/>
            <p:cNvSpPr/>
            <p:nvPr/>
          </p:nvSpPr>
          <p:spPr>
            <a:xfrm>
              <a:off x="6477120" y="4648320"/>
              <a:ext cx="228600" cy="7596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9" name="Oval 121"/>
            <p:cNvSpPr/>
            <p:nvPr/>
          </p:nvSpPr>
          <p:spPr>
            <a:xfrm>
              <a:off x="5105520" y="4114800"/>
              <a:ext cx="53316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0" name="Oval 122"/>
            <p:cNvSpPr/>
            <p:nvPr/>
          </p:nvSpPr>
          <p:spPr>
            <a:xfrm>
              <a:off x="5334120" y="4419720"/>
              <a:ext cx="380880" cy="15228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1" name="Oval 123"/>
            <p:cNvSpPr/>
            <p:nvPr/>
          </p:nvSpPr>
          <p:spPr>
            <a:xfrm>
              <a:off x="5562720" y="4648320"/>
              <a:ext cx="228600" cy="7596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img2528_rch"/>
          <p:cNvPicPr/>
          <p:nvPr/>
        </p:nvPicPr>
        <p:blipFill>
          <a:blip r:embed="rId1"/>
          <a:stretch/>
        </p:blipFill>
        <p:spPr>
          <a:xfrm>
            <a:off x="0" y="0"/>
            <a:ext cx="9524880" cy="682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img2528_rch"/>
          <p:cNvPicPr/>
          <p:nvPr/>
        </p:nvPicPr>
        <p:blipFill>
          <a:blip r:embed="rId1"/>
          <a:stretch/>
        </p:blipFill>
        <p:spPr>
          <a:xfrm>
            <a:off x="0" y="0"/>
            <a:ext cx="9524880" cy="682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img2528_rc"/>
          <p:cNvPicPr/>
          <p:nvPr/>
        </p:nvPicPr>
        <p:blipFill>
          <a:blip r:embed="rId1"/>
          <a:stretch/>
        </p:blipFill>
        <p:spPr>
          <a:xfrm>
            <a:off x="0" y="0"/>
            <a:ext cx="9524880" cy="682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img2528_rd"/>
          <p:cNvPicPr/>
          <p:nvPr/>
        </p:nvPicPr>
        <p:blipFill>
          <a:blip r:embed="rId1"/>
          <a:stretch/>
        </p:blipFill>
        <p:spPr>
          <a:xfrm>
            <a:off x="0" y="0"/>
            <a:ext cx="9524880" cy="682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img2528_re"/>
          <p:cNvPicPr/>
          <p:nvPr/>
        </p:nvPicPr>
        <p:blipFill>
          <a:blip r:embed="rId1"/>
          <a:stretch/>
        </p:blipFill>
        <p:spPr>
          <a:xfrm>
            <a:off x="0" y="0"/>
            <a:ext cx="9601200" cy="687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img2528_r"/>
          <p:cNvPicPr/>
          <p:nvPr/>
        </p:nvPicPr>
        <p:blipFill>
          <a:blip r:embed="rId1"/>
          <a:stretch/>
        </p:blipFill>
        <p:spPr>
          <a:xfrm>
            <a:off x="0" y="0"/>
            <a:ext cx="9601200" cy="687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213336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4560" y="1752480"/>
            <a:ext cx="8381880" cy="609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 -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438280" y="2362320"/>
            <a:ext cx="198144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al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4419720" y="2362320"/>
            <a:ext cx="213336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loo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WordArt 6"/>
          <p:cNvSpPr txBox="1"/>
          <p:nvPr/>
        </p:nvSpPr>
        <p:spPr>
          <a:xfrm>
            <a:off x="2362320" y="6094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-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Picture 7" descr="eartspi2"/>
          <p:cNvPicPr/>
          <p:nvPr/>
        </p:nvPicPr>
        <p:blipFill>
          <a:blip r:embed="rId3"/>
          <a:stretch/>
        </p:blipFill>
        <p:spPr>
          <a:xfrm>
            <a:off x="762120" y="38098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"/>
          <p:cNvPicPr/>
          <p:nvPr/>
        </p:nvPicPr>
        <p:blipFill>
          <a:blip r:embed="rId4"/>
          <a:stretch/>
        </p:blipFill>
        <p:spPr>
          <a:xfrm>
            <a:off x="2438280" y="3678120"/>
            <a:ext cx="1981440" cy="15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73" name="Picture 9" descr=""/>
          <p:cNvPicPr/>
          <p:nvPr/>
        </p:nvPicPr>
        <p:blipFill>
          <a:blip r:embed="rId5"/>
          <a:stretch/>
        </p:blipFill>
        <p:spPr>
          <a:xfrm>
            <a:off x="4440240" y="3678120"/>
            <a:ext cx="2112840" cy="15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74" name="Picture 10" descr="clip_image004"/>
          <p:cNvPicPr/>
          <p:nvPr/>
        </p:nvPicPr>
        <p:blipFill>
          <a:blip r:embed="rId6"/>
          <a:stretch/>
        </p:blipFill>
        <p:spPr>
          <a:xfrm>
            <a:off x="6553080" y="3657600"/>
            <a:ext cx="213372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75" name="Rectangle 11"/>
          <p:cNvSpPr/>
          <p:nvPr/>
        </p:nvSpPr>
        <p:spPr>
          <a:xfrm>
            <a:off x="6553080" y="2362320"/>
            <a:ext cx="213372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wer of Bab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4267080" y="3886200"/>
            <a:ext cx="4876920" cy="2311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istorical Book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320" y="1752120"/>
            <a:ext cx="274320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000 - 15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0" y="2438280"/>
            <a:ext cx="281952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of the 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2819520" y="1752480"/>
            <a:ext cx="304776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500 - 10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5867280" y="1752480"/>
            <a:ext cx="281952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000 - 5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1" name="WordArt 7"/>
          <p:cNvSpPr txBox="1"/>
          <p:nvPr/>
        </p:nvSpPr>
        <p:spPr>
          <a:xfrm>
            <a:off x="914400" y="609480"/>
            <a:ext cx="7010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 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8686800" y="1752480"/>
            <a:ext cx="45720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-17640" y="1752480"/>
            <a:ext cx="7956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2819520" y="2438280"/>
            <a:ext cx="144756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dus and Sinai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4267080" y="2438280"/>
            <a:ext cx="16002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5867280" y="2438280"/>
            <a:ext cx="266724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s of Israel and Juda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 rot="16200000">
            <a:off x="8115120" y="2857320"/>
            <a:ext cx="14479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8" name="Text Box 14"/>
          <p:cNvSpPr/>
          <p:nvPr/>
        </p:nvSpPr>
        <p:spPr>
          <a:xfrm>
            <a:off x="5867280" y="4530600"/>
            <a:ext cx="2590920" cy="581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oetic Book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9" name="Text Box 15"/>
          <p:cNvSpPr/>
          <p:nvPr/>
        </p:nvSpPr>
        <p:spPr>
          <a:xfrm>
            <a:off x="0" y="3886200"/>
            <a:ext cx="4267080" cy="2311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ra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6400800" y="5110200"/>
            <a:ext cx="2743200" cy="1068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phetic Book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327672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5 B.C. – 30 A.D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0" y="2438280"/>
            <a:ext cx="3276720" cy="3657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of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3276720" y="1752480"/>
            <a:ext cx="304776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0 – 70 A.D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6324480" y="1752480"/>
            <a:ext cx="281952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70 – 100 A.D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5" name="WordArt 7"/>
          <p:cNvSpPr txBox="1"/>
          <p:nvPr/>
        </p:nvSpPr>
        <p:spPr>
          <a:xfrm>
            <a:off x="914400" y="609480"/>
            <a:ext cx="7010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Testament 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3276720" y="2438280"/>
            <a:ext cx="5867280" cy="3657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ly Churc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0" y="3429000"/>
            <a:ext cx="32767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ew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276720" y="4648320"/>
            <a:ext cx="243828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 rot="16200000">
            <a:off x="7391160" y="3886200"/>
            <a:ext cx="228600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lation?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2209680" y="4043520"/>
            <a:ext cx="1067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1" name="Rectangle 18"/>
          <p:cNvSpPr/>
          <p:nvPr/>
        </p:nvSpPr>
        <p:spPr>
          <a:xfrm>
            <a:off x="0" y="4648320"/>
            <a:ext cx="32767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k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2" name="Rectangle 19"/>
          <p:cNvSpPr/>
          <p:nvPr/>
        </p:nvSpPr>
        <p:spPr>
          <a:xfrm>
            <a:off x="2209680" y="5248440"/>
            <a:ext cx="1067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4114800" y="5257800"/>
            <a:ext cx="182880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stl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2"/>
          <p:cNvSpPr txBox="1"/>
          <p:nvPr/>
        </p:nvSpPr>
        <p:spPr>
          <a:xfrm>
            <a:off x="1981080" y="228600"/>
            <a:ext cx="52657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ovenantal 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36680" y="1066680"/>
            <a:ext cx="205740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reation Covena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06" name="Picture 4" descr="eartspi2"/>
          <p:cNvPicPr/>
          <p:nvPr/>
        </p:nvPicPr>
        <p:blipFill>
          <a:blip r:embed="rId1"/>
          <a:stretch/>
        </p:blipFill>
        <p:spPr>
          <a:xfrm>
            <a:off x="893880" y="24382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512640" y="370188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od gives a l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3581280" y="1371600"/>
            <a:ext cx="4953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like Adam they have transgressed the covenant;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re they have dealt treacherously against Me. (Hosea 6:7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6765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nguage is a Reliable Means of Communic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8539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4"/>
          <p:cNvGrpSpPr/>
          <p:nvPr/>
        </p:nvGrpSpPr>
        <p:grpSpPr>
          <a:xfrm>
            <a:off x="4876920" y="4495680"/>
            <a:ext cx="3276000" cy="1851120"/>
            <a:chOff x="4876920" y="4495680"/>
            <a:chExt cx="3276000" cy="1851120"/>
          </a:xfrm>
        </p:grpSpPr>
        <p:sp>
          <p:nvSpPr>
            <p:cNvPr id="165" name="Freeform 5"/>
            <p:cNvSpPr/>
            <p:nvPr/>
          </p:nvSpPr>
          <p:spPr>
            <a:xfrm>
              <a:off x="5768640" y="4495680"/>
              <a:ext cx="2384280" cy="1851120"/>
            </a:xfrm>
            <a:custGeom>
              <a:avLst/>
              <a:gdLst/>
              <a:ahLst/>
              <a:rect l="l" t="t" r="r" b="b"/>
              <a:pathLst>
                <a:path w="11071" h="7950">
                  <a:moveTo>
                    <a:pt x="9205" y="6364"/>
                  </a:moveTo>
                  <a:lnTo>
                    <a:pt x="9205" y="6173"/>
                  </a:lnTo>
                  <a:lnTo>
                    <a:pt x="9218" y="5982"/>
                  </a:lnTo>
                  <a:lnTo>
                    <a:pt x="9234" y="5797"/>
                  </a:lnTo>
                  <a:lnTo>
                    <a:pt x="9252" y="5611"/>
                  </a:lnTo>
                  <a:lnTo>
                    <a:pt x="9269" y="5426"/>
                  </a:lnTo>
                  <a:lnTo>
                    <a:pt x="9292" y="5240"/>
                  </a:lnTo>
                  <a:lnTo>
                    <a:pt x="9304" y="5060"/>
                  </a:lnTo>
                  <a:lnTo>
                    <a:pt x="9316" y="4880"/>
                  </a:lnTo>
                  <a:lnTo>
                    <a:pt x="9316" y="4824"/>
                  </a:lnTo>
                  <a:lnTo>
                    <a:pt x="9322" y="4768"/>
                  </a:lnTo>
                  <a:lnTo>
                    <a:pt x="9333" y="4701"/>
                  </a:lnTo>
                  <a:lnTo>
                    <a:pt x="9345" y="4639"/>
                  </a:lnTo>
                  <a:lnTo>
                    <a:pt x="9345" y="4571"/>
                  </a:lnTo>
                  <a:lnTo>
                    <a:pt x="9350" y="4503"/>
                  </a:lnTo>
                  <a:lnTo>
                    <a:pt x="9345" y="4436"/>
                  </a:lnTo>
                  <a:lnTo>
                    <a:pt x="9339" y="4380"/>
                  </a:lnTo>
                  <a:lnTo>
                    <a:pt x="9322" y="4341"/>
                  </a:lnTo>
                  <a:lnTo>
                    <a:pt x="9299" y="4307"/>
                  </a:lnTo>
                  <a:lnTo>
                    <a:pt x="9269" y="4262"/>
                  </a:lnTo>
                  <a:lnTo>
                    <a:pt x="9246" y="4223"/>
                  </a:lnTo>
                  <a:lnTo>
                    <a:pt x="9218" y="4177"/>
                  </a:lnTo>
                  <a:lnTo>
                    <a:pt x="9188" y="4144"/>
                  </a:lnTo>
                  <a:lnTo>
                    <a:pt x="9159" y="4105"/>
                  </a:lnTo>
                  <a:lnTo>
                    <a:pt x="9142" y="4082"/>
                  </a:lnTo>
                  <a:lnTo>
                    <a:pt x="9119" y="4122"/>
                  </a:lnTo>
                  <a:lnTo>
                    <a:pt x="9112" y="4172"/>
                  </a:lnTo>
                  <a:lnTo>
                    <a:pt x="9107" y="4233"/>
                  </a:lnTo>
                  <a:lnTo>
                    <a:pt x="9107" y="4301"/>
                  </a:lnTo>
                  <a:lnTo>
                    <a:pt x="9107" y="4363"/>
                  </a:lnTo>
                  <a:lnTo>
                    <a:pt x="9112" y="4425"/>
                  </a:lnTo>
                  <a:lnTo>
                    <a:pt x="9112" y="4481"/>
                  </a:lnTo>
                  <a:lnTo>
                    <a:pt x="9112" y="4537"/>
                  </a:lnTo>
                  <a:lnTo>
                    <a:pt x="9101" y="4655"/>
                  </a:lnTo>
                  <a:lnTo>
                    <a:pt x="9101" y="4779"/>
                  </a:lnTo>
                  <a:lnTo>
                    <a:pt x="9101" y="4892"/>
                  </a:lnTo>
                  <a:lnTo>
                    <a:pt x="9107" y="5010"/>
                  </a:lnTo>
                  <a:lnTo>
                    <a:pt x="9107" y="5122"/>
                  </a:lnTo>
                  <a:lnTo>
                    <a:pt x="9112" y="5240"/>
                  </a:lnTo>
                  <a:lnTo>
                    <a:pt x="9112" y="5358"/>
                  </a:lnTo>
                  <a:lnTo>
                    <a:pt x="9112" y="5488"/>
                  </a:lnTo>
                  <a:lnTo>
                    <a:pt x="9101" y="5577"/>
                  </a:lnTo>
                  <a:lnTo>
                    <a:pt x="9101" y="5673"/>
                  </a:lnTo>
                  <a:lnTo>
                    <a:pt x="9095" y="5775"/>
                  </a:lnTo>
                  <a:lnTo>
                    <a:pt x="9095" y="5876"/>
                  </a:lnTo>
                  <a:lnTo>
                    <a:pt x="9095" y="5971"/>
                  </a:lnTo>
                  <a:lnTo>
                    <a:pt x="9101" y="6067"/>
                  </a:lnTo>
                  <a:lnTo>
                    <a:pt x="9107" y="6157"/>
                  </a:lnTo>
                  <a:lnTo>
                    <a:pt x="9124" y="6246"/>
                  </a:lnTo>
                  <a:lnTo>
                    <a:pt x="9130" y="6286"/>
                  </a:lnTo>
                  <a:lnTo>
                    <a:pt x="9147" y="6325"/>
                  </a:lnTo>
                  <a:lnTo>
                    <a:pt x="9165" y="6348"/>
                  </a:lnTo>
                  <a:lnTo>
                    <a:pt x="9205" y="6364"/>
                  </a:lnTo>
                  <a:lnTo>
                    <a:pt x="9177" y="6573"/>
                  </a:lnTo>
                  <a:lnTo>
                    <a:pt x="9048" y="6567"/>
                  </a:lnTo>
                  <a:lnTo>
                    <a:pt x="8932" y="6567"/>
                  </a:lnTo>
                  <a:lnTo>
                    <a:pt x="8816" y="6562"/>
                  </a:lnTo>
                  <a:lnTo>
                    <a:pt x="8711" y="6562"/>
                  </a:lnTo>
                  <a:lnTo>
                    <a:pt x="8595" y="6550"/>
                  </a:lnTo>
                  <a:lnTo>
                    <a:pt x="8485" y="6545"/>
                  </a:lnTo>
                  <a:lnTo>
                    <a:pt x="8363" y="6539"/>
                  </a:lnTo>
                  <a:lnTo>
                    <a:pt x="8247" y="6533"/>
                  </a:lnTo>
                  <a:lnTo>
                    <a:pt x="8212" y="6528"/>
                  </a:lnTo>
                  <a:lnTo>
                    <a:pt x="8171" y="6528"/>
                  </a:lnTo>
                  <a:lnTo>
                    <a:pt x="8125" y="6533"/>
                  </a:lnTo>
                  <a:lnTo>
                    <a:pt x="8078" y="6539"/>
                  </a:lnTo>
                  <a:lnTo>
                    <a:pt x="8026" y="6539"/>
                  </a:lnTo>
                  <a:lnTo>
                    <a:pt x="7974" y="6539"/>
                  </a:lnTo>
                  <a:lnTo>
                    <a:pt x="7921" y="6533"/>
                  </a:lnTo>
                  <a:lnTo>
                    <a:pt x="7887" y="6533"/>
                  </a:lnTo>
                  <a:lnTo>
                    <a:pt x="7852" y="6506"/>
                  </a:lnTo>
                  <a:lnTo>
                    <a:pt x="7834" y="6477"/>
                  </a:lnTo>
                  <a:lnTo>
                    <a:pt x="7817" y="6432"/>
                  </a:lnTo>
                  <a:lnTo>
                    <a:pt x="7804" y="6393"/>
                  </a:lnTo>
                  <a:lnTo>
                    <a:pt x="7764" y="6381"/>
                  </a:lnTo>
                  <a:lnTo>
                    <a:pt x="7723" y="6376"/>
                  </a:lnTo>
                  <a:lnTo>
                    <a:pt x="7683" y="6376"/>
                  </a:lnTo>
                  <a:lnTo>
                    <a:pt x="7649" y="6381"/>
                  </a:lnTo>
                  <a:lnTo>
                    <a:pt x="7665" y="6196"/>
                  </a:lnTo>
                  <a:lnTo>
                    <a:pt x="7689" y="6011"/>
                  </a:lnTo>
                  <a:lnTo>
                    <a:pt x="7706" y="5825"/>
                  </a:lnTo>
                  <a:lnTo>
                    <a:pt x="7723" y="5640"/>
                  </a:lnTo>
                  <a:lnTo>
                    <a:pt x="7730" y="5449"/>
                  </a:lnTo>
                  <a:lnTo>
                    <a:pt x="7747" y="5263"/>
                  </a:lnTo>
                  <a:lnTo>
                    <a:pt x="7753" y="5066"/>
                  </a:lnTo>
                  <a:lnTo>
                    <a:pt x="7770" y="4870"/>
                  </a:lnTo>
                  <a:lnTo>
                    <a:pt x="7770" y="4802"/>
                  </a:lnTo>
                  <a:lnTo>
                    <a:pt x="7781" y="4740"/>
                  </a:lnTo>
                  <a:lnTo>
                    <a:pt x="7793" y="4661"/>
                  </a:lnTo>
                  <a:lnTo>
                    <a:pt x="7804" y="4588"/>
                  </a:lnTo>
                  <a:lnTo>
                    <a:pt x="7811" y="4510"/>
                  </a:lnTo>
                  <a:lnTo>
                    <a:pt x="7817" y="4442"/>
                  </a:lnTo>
                  <a:lnTo>
                    <a:pt x="7811" y="4375"/>
                  </a:lnTo>
                  <a:lnTo>
                    <a:pt x="7804" y="4329"/>
                  </a:lnTo>
                  <a:lnTo>
                    <a:pt x="7788" y="4329"/>
                  </a:lnTo>
                  <a:lnTo>
                    <a:pt x="7770" y="4329"/>
                  </a:lnTo>
                  <a:lnTo>
                    <a:pt x="7730" y="4262"/>
                  </a:lnTo>
                  <a:lnTo>
                    <a:pt x="7695" y="4200"/>
                  </a:lnTo>
                  <a:lnTo>
                    <a:pt x="7660" y="4138"/>
                  </a:lnTo>
                  <a:lnTo>
                    <a:pt x="7624" y="4088"/>
                  </a:lnTo>
                  <a:lnTo>
                    <a:pt x="7578" y="4026"/>
                  </a:lnTo>
                  <a:lnTo>
                    <a:pt x="7538" y="3975"/>
                  </a:lnTo>
                  <a:lnTo>
                    <a:pt x="7492" y="3924"/>
                  </a:lnTo>
                  <a:lnTo>
                    <a:pt x="7444" y="3880"/>
                  </a:lnTo>
                  <a:lnTo>
                    <a:pt x="7444" y="3958"/>
                  </a:lnTo>
                  <a:lnTo>
                    <a:pt x="7433" y="4037"/>
                  </a:lnTo>
                  <a:lnTo>
                    <a:pt x="7410" y="4105"/>
                  </a:lnTo>
                  <a:lnTo>
                    <a:pt x="7381" y="4155"/>
                  </a:lnTo>
                  <a:lnTo>
                    <a:pt x="7328" y="4183"/>
                  </a:lnTo>
                  <a:lnTo>
                    <a:pt x="7276" y="4200"/>
                  </a:lnTo>
                  <a:lnTo>
                    <a:pt x="7206" y="4189"/>
                  </a:lnTo>
                  <a:lnTo>
                    <a:pt x="7131" y="4161"/>
                  </a:lnTo>
                  <a:lnTo>
                    <a:pt x="7125" y="4172"/>
                  </a:lnTo>
                  <a:lnTo>
                    <a:pt x="7125" y="4200"/>
                  </a:lnTo>
                  <a:lnTo>
                    <a:pt x="7125" y="4228"/>
                  </a:lnTo>
                  <a:lnTo>
                    <a:pt x="7131" y="4240"/>
                  </a:lnTo>
                  <a:lnTo>
                    <a:pt x="7131" y="4335"/>
                  </a:lnTo>
                  <a:lnTo>
                    <a:pt x="7131" y="4431"/>
                  </a:lnTo>
                  <a:lnTo>
                    <a:pt x="7131" y="4515"/>
                  </a:lnTo>
                  <a:lnTo>
                    <a:pt x="7137" y="4605"/>
                  </a:lnTo>
                  <a:lnTo>
                    <a:pt x="7142" y="4689"/>
                  </a:lnTo>
                  <a:lnTo>
                    <a:pt x="7148" y="4779"/>
                  </a:lnTo>
                  <a:lnTo>
                    <a:pt x="7154" y="4863"/>
                  </a:lnTo>
                  <a:lnTo>
                    <a:pt x="7165" y="4965"/>
                  </a:lnTo>
                  <a:lnTo>
                    <a:pt x="7172" y="5100"/>
                  </a:lnTo>
                  <a:lnTo>
                    <a:pt x="7188" y="5246"/>
                  </a:lnTo>
                  <a:lnTo>
                    <a:pt x="7206" y="5398"/>
                  </a:lnTo>
                  <a:lnTo>
                    <a:pt x="7229" y="5550"/>
                  </a:lnTo>
                  <a:lnTo>
                    <a:pt x="7236" y="5701"/>
                  </a:lnTo>
                  <a:lnTo>
                    <a:pt x="7247" y="5859"/>
                  </a:lnTo>
                  <a:lnTo>
                    <a:pt x="7241" y="6011"/>
                  </a:lnTo>
                  <a:lnTo>
                    <a:pt x="7236" y="6163"/>
                  </a:lnTo>
                  <a:lnTo>
                    <a:pt x="7271" y="6168"/>
                  </a:lnTo>
                  <a:lnTo>
                    <a:pt x="7305" y="6173"/>
                  </a:lnTo>
                  <a:lnTo>
                    <a:pt x="7340" y="6179"/>
                  </a:lnTo>
                  <a:lnTo>
                    <a:pt x="7375" y="6185"/>
                  </a:lnTo>
                  <a:lnTo>
                    <a:pt x="7410" y="6190"/>
                  </a:lnTo>
                  <a:lnTo>
                    <a:pt x="7444" y="6196"/>
                  </a:lnTo>
                  <a:lnTo>
                    <a:pt x="7479" y="6202"/>
                  </a:lnTo>
                  <a:lnTo>
                    <a:pt x="7526" y="6212"/>
                  </a:lnTo>
                  <a:lnTo>
                    <a:pt x="7526" y="6286"/>
                  </a:lnTo>
                  <a:lnTo>
                    <a:pt x="7509" y="6292"/>
                  </a:lnTo>
                  <a:lnTo>
                    <a:pt x="7509" y="6314"/>
                  </a:lnTo>
                  <a:lnTo>
                    <a:pt x="7515" y="6331"/>
                  </a:lnTo>
                  <a:lnTo>
                    <a:pt x="7526" y="6342"/>
                  </a:lnTo>
                  <a:lnTo>
                    <a:pt x="7503" y="6376"/>
                  </a:lnTo>
                  <a:lnTo>
                    <a:pt x="7479" y="6404"/>
                  </a:lnTo>
                  <a:lnTo>
                    <a:pt x="7451" y="6415"/>
                  </a:lnTo>
                  <a:lnTo>
                    <a:pt x="7421" y="6421"/>
                  </a:lnTo>
                  <a:lnTo>
                    <a:pt x="7381" y="6415"/>
                  </a:lnTo>
                  <a:lnTo>
                    <a:pt x="7345" y="6415"/>
                  </a:lnTo>
                  <a:lnTo>
                    <a:pt x="7294" y="6415"/>
                  </a:lnTo>
                  <a:lnTo>
                    <a:pt x="7247" y="6415"/>
                  </a:lnTo>
                  <a:lnTo>
                    <a:pt x="7247" y="6444"/>
                  </a:lnTo>
                  <a:lnTo>
                    <a:pt x="7247" y="6466"/>
                  </a:lnTo>
                  <a:lnTo>
                    <a:pt x="7206" y="6489"/>
                  </a:lnTo>
                  <a:lnTo>
                    <a:pt x="7172" y="6506"/>
                  </a:lnTo>
                  <a:lnTo>
                    <a:pt x="7137" y="6511"/>
                  </a:lnTo>
                  <a:lnTo>
                    <a:pt x="7102" y="6516"/>
                  </a:lnTo>
                  <a:lnTo>
                    <a:pt x="7056" y="6511"/>
                  </a:lnTo>
                  <a:lnTo>
                    <a:pt x="7015" y="6506"/>
                  </a:lnTo>
                  <a:lnTo>
                    <a:pt x="6968" y="6494"/>
                  </a:lnTo>
                  <a:lnTo>
                    <a:pt x="6927" y="6494"/>
                  </a:lnTo>
                  <a:lnTo>
                    <a:pt x="6846" y="6483"/>
                  </a:lnTo>
                  <a:lnTo>
                    <a:pt x="6770" y="6477"/>
                  </a:lnTo>
                  <a:lnTo>
                    <a:pt x="6695" y="6466"/>
                  </a:lnTo>
                  <a:lnTo>
                    <a:pt x="6625" y="6460"/>
                  </a:lnTo>
                  <a:lnTo>
                    <a:pt x="6549" y="6455"/>
                  </a:lnTo>
                  <a:lnTo>
                    <a:pt x="6480" y="6449"/>
                  </a:lnTo>
                  <a:lnTo>
                    <a:pt x="6410" y="6444"/>
                  </a:lnTo>
                  <a:lnTo>
                    <a:pt x="6358" y="6444"/>
                  </a:lnTo>
                  <a:lnTo>
                    <a:pt x="6352" y="6393"/>
                  </a:lnTo>
                  <a:lnTo>
                    <a:pt x="6352" y="6359"/>
                  </a:lnTo>
                  <a:lnTo>
                    <a:pt x="6352" y="6331"/>
                  </a:lnTo>
                  <a:lnTo>
                    <a:pt x="6352" y="6314"/>
                  </a:lnTo>
                  <a:lnTo>
                    <a:pt x="6334" y="6297"/>
                  </a:lnTo>
                  <a:lnTo>
                    <a:pt x="6323" y="6286"/>
                  </a:lnTo>
                  <a:lnTo>
                    <a:pt x="6294" y="6269"/>
                  </a:lnTo>
                  <a:lnTo>
                    <a:pt x="6265" y="6263"/>
                  </a:lnTo>
                  <a:lnTo>
                    <a:pt x="6247" y="6196"/>
                  </a:lnTo>
                  <a:lnTo>
                    <a:pt x="6253" y="6106"/>
                  </a:lnTo>
                  <a:lnTo>
                    <a:pt x="6260" y="6016"/>
                  </a:lnTo>
                  <a:lnTo>
                    <a:pt x="6265" y="5920"/>
                  </a:lnTo>
                  <a:lnTo>
                    <a:pt x="6276" y="5831"/>
                  </a:lnTo>
                  <a:lnTo>
                    <a:pt x="6276" y="5729"/>
                  </a:lnTo>
                  <a:lnTo>
                    <a:pt x="6283" y="5645"/>
                  </a:lnTo>
                  <a:lnTo>
                    <a:pt x="6283" y="5561"/>
                  </a:lnTo>
                  <a:lnTo>
                    <a:pt x="6288" y="5499"/>
                  </a:lnTo>
                  <a:lnTo>
                    <a:pt x="6283" y="5476"/>
                  </a:lnTo>
                  <a:lnTo>
                    <a:pt x="6283" y="5442"/>
                  </a:lnTo>
                  <a:lnTo>
                    <a:pt x="6276" y="5409"/>
                  </a:lnTo>
                  <a:lnTo>
                    <a:pt x="6276" y="5398"/>
                  </a:lnTo>
                  <a:lnTo>
                    <a:pt x="6276" y="5370"/>
                  </a:lnTo>
                  <a:lnTo>
                    <a:pt x="6288" y="5319"/>
                  </a:lnTo>
                  <a:lnTo>
                    <a:pt x="6294" y="5240"/>
                  </a:lnTo>
                  <a:lnTo>
                    <a:pt x="6311" y="5155"/>
                  </a:lnTo>
                  <a:lnTo>
                    <a:pt x="6318" y="5060"/>
                  </a:lnTo>
                  <a:lnTo>
                    <a:pt x="6323" y="4971"/>
                  </a:lnTo>
                  <a:lnTo>
                    <a:pt x="6323" y="4897"/>
                  </a:lnTo>
                  <a:lnTo>
                    <a:pt x="6329" y="4858"/>
                  </a:lnTo>
                  <a:lnTo>
                    <a:pt x="6311" y="4802"/>
                  </a:lnTo>
                  <a:lnTo>
                    <a:pt x="6294" y="4751"/>
                  </a:lnTo>
                  <a:lnTo>
                    <a:pt x="6271" y="4694"/>
                  </a:lnTo>
                  <a:lnTo>
                    <a:pt x="6253" y="4644"/>
                  </a:lnTo>
                  <a:lnTo>
                    <a:pt x="6230" y="4588"/>
                  </a:lnTo>
                  <a:lnTo>
                    <a:pt x="6212" y="4532"/>
                  </a:lnTo>
                  <a:lnTo>
                    <a:pt x="6201" y="4476"/>
                  </a:lnTo>
                  <a:lnTo>
                    <a:pt x="6207" y="4419"/>
                  </a:lnTo>
                  <a:lnTo>
                    <a:pt x="6219" y="4363"/>
                  </a:lnTo>
                  <a:lnTo>
                    <a:pt x="6253" y="4318"/>
                  </a:lnTo>
                  <a:lnTo>
                    <a:pt x="6288" y="4273"/>
                  </a:lnTo>
                  <a:lnTo>
                    <a:pt x="6318" y="4240"/>
                  </a:lnTo>
                  <a:lnTo>
                    <a:pt x="6323" y="4149"/>
                  </a:lnTo>
                  <a:lnTo>
                    <a:pt x="6323" y="4065"/>
                  </a:lnTo>
                  <a:lnTo>
                    <a:pt x="6306" y="3975"/>
                  </a:lnTo>
                  <a:lnTo>
                    <a:pt x="6288" y="3891"/>
                  </a:lnTo>
                  <a:lnTo>
                    <a:pt x="6260" y="3801"/>
                  </a:lnTo>
                  <a:lnTo>
                    <a:pt x="6230" y="3728"/>
                  </a:lnTo>
                  <a:lnTo>
                    <a:pt x="6207" y="3661"/>
                  </a:lnTo>
                  <a:lnTo>
                    <a:pt x="6195" y="3610"/>
                  </a:lnTo>
                  <a:lnTo>
                    <a:pt x="6114" y="3615"/>
                  </a:lnTo>
                  <a:lnTo>
                    <a:pt x="6050" y="3637"/>
                  </a:lnTo>
                  <a:lnTo>
                    <a:pt x="5981" y="3654"/>
                  </a:lnTo>
                  <a:lnTo>
                    <a:pt x="5922" y="3683"/>
                  </a:lnTo>
                  <a:lnTo>
                    <a:pt x="5852" y="3705"/>
                  </a:lnTo>
                  <a:lnTo>
                    <a:pt x="5789" y="3728"/>
                  </a:lnTo>
                  <a:lnTo>
                    <a:pt x="5718" y="3750"/>
                  </a:lnTo>
                  <a:lnTo>
                    <a:pt x="5649" y="3779"/>
                  </a:lnTo>
                  <a:lnTo>
                    <a:pt x="5626" y="4042"/>
                  </a:lnTo>
                  <a:lnTo>
                    <a:pt x="5626" y="4324"/>
                  </a:lnTo>
                  <a:lnTo>
                    <a:pt x="5637" y="4616"/>
                  </a:lnTo>
                  <a:lnTo>
                    <a:pt x="5667" y="4920"/>
                  </a:lnTo>
                  <a:lnTo>
                    <a:pt x="5695" y="5218"/>
                  </a:lnTo>
                  <a:lnTo>
                    <a:pt x="5736" y="5510"/>
                  </a:lnTo>
                  <a:lnTo>
                    <a:pt x="5776" y="5792"/>
                  </a:lnTo>
                  <a:lnTo>
                    <a:pt x="5824" y="6055"/>
                  </a:lnTo>
                  <a:lnTo>
                    <a:pt x="5789" y="6072"/>
                  </a:lnTo>
                  <a:lnTo>
                    <a:pt x="5771" y="6089"/>
                  </a:lnTo>
                  <a:lnTo>
                    <a:pt x="5753" y="6112"/>
                  </a:lnTo>
                  <a:lnTo>
                    <a:pt x="5742" y="6146"/>
                  </a:lnTo>
                  <a:lnTo>
                    <a:pt x="5672" y="6140"/>
                  </a:lnTo>
                  <a:lnTo>
                    <a:pt x="5579" y="6140"/>
                  </a:lnTo>
                  <a:lnTo>
                    <a:pt x="5474" y="6134"/>
                  </a:lnTo>
                  <a:lnTo>
                    <a:pt x="5365" y="6134"/>
                  </a:lnTo>
                  <a:lnTo>
                    <a:pt x="5254" y="6129"/>
                  </a:lnTo>
                  <a:lnTo>
                    <a:pt x="5155" y="6123"/>
                  </a:lnTo>
                  <a:lnTo>
                    <a:pt x="5079" y="6106"/>
                  </a:lnTo>
                  <a:lnTo>
                    <a:pt x="5039" y="6095"/>
                  </a:lnTo>
                  <a:lnTo>
                    <a:pt x="4980" y="5999"/>
                  </a:lnTo>
                  <a:lnTo>
                    <a:pt x="4945" y="5836"/>
                  </a:lnTo>
                  <a:lnTo>
                    <a:pt x="4922" y="5616"/>
                  </a:lnTo>
                  <a:lnTo>
                    <a:pt x="4917" y="5375"/>
                  </a:lnTo>
                  <a:lnTo>
                    <a:pt x="4905" y="5111"/>
                  </a:lnTo>
                  <a:lnTo>
                    <a:pt x="4894" y="4870"/>
                  </a:lnTo>
                  <a:lnTo>
                    <a:pt x="4876" y="4661"/>
                  </a:lnTo>
                  <a:lnTo>
                    <a:pt x="4853" y="4510"/>
                  </a:lnTo>
                  <a:lnTo>
                    <a:pt x="4841" y="4481"/>
                  </a:lnTo>
                  <a:lnTo>
                    <a:pt x="4835" y="4453"/>
                  </a:lnTo>
                  <a:lnTo>
                    <a:pt x="4823" y="4425"/>
                  </a:lnTo>
                  <a:lnTo>
                    <a:pt x="4823" y="4402"/>
                  </a:lnTo>
                  <a:lnTo>
                    <a:pt x="4812" y="4358"/>
                  </a:lnTo>
                  <a:lnTo>
                    <a:pt x="4812" y="4346"/>
                  </a:lnTo>
                  <a:lnTo>
                    <a:pt x="4806" y="4296"/>
                  </a:lnTo>
                  <a:lnTo>
                    <a:pt x="4806" y="4250"/>
                  </a:lnTo>
                  <a:lnTo>
                    <a:pt x="4800" y="4206"/>
                  </a:lnTo>
                  <a:lnTo>
                    <a:pt x="4800" y="4166"/>
                  </a:lnTo>
                  <a:lnTo>
                    <a:pt x="4789" y="4127"/>
                  </a:lnTo>
                  <a:lnTo>
                    <a:pt x="4783" y="4088"/>
                  </a:lnTo>
                  <a:lnTo>
                    <a:pt x="4777" y="4054"/>
                  </a:lnTo>
                  <a:lnTo>
                    <a:pt x="4772" y="4020"/>
                  </a:lnTo>
                  <a:lnTo>
                    <a:pt x="4737" y="4037"/>
                  </a:lnTo>
                  <a:lnTo>
                    <a:pt x="4702" y="4059"/>
                  </a:lnTo>
                  <a:lnTo>
                    <a:pt x="4719" y="4149"/>
                  </a:lnTo>
                  <a:lnTo>
                    <a:pt x="4737" y="4257"/>
                  </a:lnTo>
                  <a:lnTo>
                    <a:pt x="4742" y="4368"/>
                  </a:lnTo>
                  <a:lnTo>
                    <a:pt x="4754" y="4498"/>
                  </a:lnTo>
                  <a:lnTo>
                    <a:pt x="4754" y="4622"/>
                  </a:lnTo>
                  <a:lnTo>
                    <a:pt x="4754" y="4751"/>
                  </a:lnTo>
                  <a:lnTo>
                    <a:pt x="4748" y="4870"/>
                  </a:lnTo>
                  <a:lnTo>
                    <a:pt x="4742" y="4988"/>
                  </a:lnTo>
                  <a:lnTo>
                    <a:pt x="4731" y="5049"/>
                  </a:lnTo>
                  <a:lnTo>
                    <a:pt x="4731" y="5145"/>
                  </a:lnTo>
                  <a:lnTo>
                    <a:pt x="4725" y="5257"/>
                  </a:lnTo>
                  <a:lnTo>
                    <a:pt x="4731" y="5386"/>
                  </a:lnTo>
                  <a:lnTo>
                    <a:pt x="4731" y="5505"/>
                  </a:lnTo>
                  <a:lnTo>
                    <a:pt x="4737" y="5623"/>
                  </a:lnTo>
                  <a:lnTo>
                    <a:pt x="4748" y="5712"/>
                  </a:lnTo>
                  <a:lnTo>
                    <a:pt x="4772" y="5775"/>
                  </a:lnTo>
                  <a:lnTo>
                    <a:pt x="4777" y="5780"/>
                  </a:lnTo>
                  <a:lnTo>
                    <a:pt x="4800" y="5785"/>
                  </a:lnTo>
                  <a:lnTo>
                    <a:pt x="4818" y="5785"/>
                  </a:lnTo>
                  <a:lnTo>
                    <a:pt x="4835" y="5797"/>
                  </a:lnTo>
                  <a:lnTo>
                    <a:pt x="4853" y="5831"/>
                  </a:lnTo>
                  <a:lnTo>
                    <a:pt x="4871" y="5881"/>
                  </a:lnTo>
                  <a:lnTo>
                    <a:pt x="4882" y="5932"/>
                  </a:lnTo>
                  <a:lnTo>
                    <a:pt x="4905" y="5982"/>
                  </a:lnTo>
                  <a:lnTo>
                    <a:pt x="4876" y="6005"/>
                  </a:lnTo>
                  <a:lnTo>
                    <a:pt x="4853" y="6033"/>
                  </a:lnTo>
                  <a:lnTo>
                    <a:pt x="4789" y="6038"/>
                  </a:lnTo>
                  <a:lnTo>
                    <a:pt x="4731" y="6045"/>
                  </a:lnTo>
                  <a:lnTo>
                    <a:pt x="4661" y="6033"/>
                  </a:lnTo>
                  <a:lnTo>
                    <a:pt x="4592" y="6028"/>
                  </a:lnTo>
                  <a:lnTo>
                    <a:pt x="4521" y="6011"/>
                  </a:lnTo>
                  <a:lnTo>
                    <a:pt x="4463" y="5999"/>
                  </a:lnTo>
                  <a:lnTo>
                    <a:pt x="4405" y="5994"/>
                  </a:lnTo>
                  <a:lnTo>
                    <a:pt x="4370" y="5994"/>
                  </a:lnTo>
                  <a:lnTo>
                    <a:pt x="4289" y="5988"/>
                  </a:lnTo>
                  <a:lnTo>
                    <a:pt x="4207" y="5994"/>
                  </a:lnTo>
                  <a:lnTo>
                    <a:pt x="4121" y="5994"/>
                  </a:lnTo>
                  <a:lnTo>
                    <a:pt x="4039" y="6005"/>
                  </a:lnTo>
                  <a:lnTo>
                    <a:pt x="3952" y="6011"/>
                  </a:lnTo>
                  <a:lnTo>
                    <a:pt x="3865" y="6016"/>
                  </a:lnTo>
                  <a:lnTo>
                    <a:pt x="3778" y="6016"/>
                  </a:lnTo>
                  <a:lnTo>
                    <a:pt x="3702" y="6016"/>
                  </a:lnTo>
                  <a:lnTo>
                    <a:pt x="3696" y="5949"/>
                  </a:lnTo>
                  <a:lnTo>
                    <a:pt x="3708" y="5903"/>
                  </a:lnTo>
                  <a:lnTo>
                    <a:pt x="3725" y="5870"/>
                  </a:lnTo>
                  <a:lnTo>
                    <a:pt x="3761" y="5853"/>
                  </a:lnTo>
                  <a:lnTo>
                    <a:pt x="3789" y="5831"/>
                  </a:lnTo>
                  <a:lnTo>
                    <a:pt x="3836" y="5819"/>
                  </a:lnTo>
                  <a:lnTo>
                    <a:pt x="3888" y="5808"/>
                  </a:lnTo>
                  <a:lnTo>
                    <a:pt x="3946" y="5797"/>
                  </a:lnTo>
                  <a:lnTo>
                    <a:pt x="3941" y="5696"/>
                  </a:lnTo>
                  <a:lnTo>
                    <a:pt x="3941" y="5601"/>
                  </a:lnTo>
                  <a:lnTo>
                    <a:pt x="3929" y="5505"/>
                  </a:lnTo>
                  <a:lnTo>
                    <a:pt x="3923" y="5415"/>
                  </a:lnTo>
                  <a:lnTo>
                    <a:pt x="3911" y="5319"/>
                  </a:lnTo>
                  <a:lnTo>
                    <a:pt x="3900" y="5229"/>
                  </a:lnTo>
                  <a:lnTo>
                    <a:pt x="3882" y="5145"/>
                  </a:lnTo>
                  <a:lnTo>
                    <a:pt x="3877" y="5066"/>
                  </a:lnTo>
                  <a:lnTo>
                    <a:pt x="3859" y="4931"/>
                  </a:lnTo>
                  <a:lnTo>
                    <a:pt x="3853" y="4802"/>
                  </a:lnTo>
                  <a:lnTo>
                    <a:pt x="3853" y="4672"/>
                  </a:lnTo>
                  <a:lnTo>
                    <a:pt x="3859" y="4549"/>
                  </a:lnTo>
                  <a:lnTo>
                    <a:pt x="3859" y="4425"/>
                  </a:lnTo>
                  <a:lnTo>
                    <a:pt x="3865" y="4307"/>
                  </a:lnTo>
                  <a:lnTo>
                    <a:pt x="3859" y="4189"/>
                  </a:lnTo>
                  <a:lnTo>
                    <a:pt x="3853" y="4082"/>
                  </a:lnTo>
                  <a:lnTo>
                    <a:pt x="3830" y="4088"/>
                  </a:lnTo>
                  <a:lnTo>
                    <a:pt x="3795" y="4098"/>
                  </a:lnTo>
                  <a:lnTo>
                    <a:pt x="3754" y="4110"/>
                  </a:lnTo>
                  <a:lnTo>
                    <a:pt x="3743" y="4127"/>
                  </a:lnTo>
                  <a:lnTo>
                    <a:pt x="3725" y="4166"/>
                  </a:lnTo>
                  <a:lnTo>
                    <a:pt x="3731" y="4211"/>
                  </a:lnTo>
                  <a:lnTo>
                    <a:pt x="3737" y="4257"/>
                  </a:lnTo>
                  <a:lnTo>
                    <a:pt x="3743" y="4301"/>
                  </a:lnTo>
                  <a:lnTo>
                    <a:pt x="3708" y="4363"/>
                  </a:lnTo>
                  <a:lnTo>
                    <a:pt x="3655" y="4431"/>
                  </a:lnTo>
                  <a:lnTo>
                    <a:pt x="3586" y="4498"/>
                  </a:lnTo>
                  <a:lnTo>
                    <a:pt x="3510" y="4566"/>
                  </a:lnTo>
                  <a:lnTo>
                    <a:pt x="3429" y="4633"/>
                  </a:lnTo>
                  <a:lnTo>
                    <a:pt x="3365" y="4701"/>
                  </a:lnTo>
                  <a:lnTo>
                    <a:pt x="3313" y="4757"/>
                  </a:lnTo>
                  <a:lnTo>
                    <a:pt x="3289" y="4819"/>
                  </a:lnTo>
                  <a:lnTo>
                    <a:pt x="3277" y="4875"/>
                  </a:lnTo>
                  <a:lnTo>
                    <a:pt x="3272" y="4920"/>
                  </a:lnTo>
                  <a:lnTo>
                    <a:pt x="3272" y="4954"/>
                  </a:lnTo>
                  <a:lnTo>
                    <a:pt x="3272" y="4993"/>
                  </a:lnTo>
                  <a:lnTo>
                    <a:pt x="3266" y="5021"/>
                  </a:lnTo>
                  <a:lnTo>
                    <a:pt x="3261" y="5055"/>
                  </a:lnTo>
                  <a:lnTo>
                    <a:pt x="3237" y="5088"/>
                  </a:lnTo>
                  <a:lnTo>
                    <a:pt x="3214" y="5145"/>
                  </a:lnTo>
                  <a:lnTo>
                    <a:pt x="3150" y="5128"/>
                  </a:lnTo>
                  <a:lnTo>
                    <a:pt x="3097" y="5116"/>
                  </a:lnTo>
                  <a:lnTo>
                    <a:pt x="3046" y="5094"/>
                  </a:lnTo>
                  <a:lnTo>
                    <a:pt x="3011" y="5077"/>
                  </a:lnTo>
                  <a:lnTo>
                    <a:pt x="2981" y="5049"/>
                  </a:lnTo>
                  <a:lnTo>
                    <a:pt x="2958" y="5021"/>
                  </a:lnTo>
                  <a:lnTo>
                    <a:pt x="2940" y="4981"/>
                  </a:lnTo>
                  <a:lnTo>
                    <a:pt x="2924" y="4948"/>
                  </a:lnTo>
                  <a:lnTo>
                    <a:pt x="2906" y="4903"/>
                  </a:lnTo>
                  <a:lnTo>
                    <a:pt x="2894" y="4870"/>
                  </a:lnTo>
                  <a:lnTo>
                    <a:pt x="2883" y="4829"/>
                  </a:lnTo>
                  <a:lnTo>
                    <a:pt x="2877" y="4796"/>
                  </a:lnTo>
                  <a:lnTo>
                    <a:pt x="2801" y="4813"/>
                  </a:lnTo>
                  <a:lnTo>
                    <a:pt x="2726" y="4829"/>
                  </a:lnTo>
                  <a:lnTo>
                    <a:pt x="2650" y="4829"/>
                  </a:lnTo>
                  <a:lnTo>
                    <a:pt x="2587" y="4824"/>
                  </a:lnTo>
                  <a:lnTo>
                    <a:pt x="2522" y="4790"/>
                  </a:lnTo>
                  <a:lnTo>
                    <a:pt x="2476" y="4745"/>
                  </a:lnTo>
                  <a:lnTo>
                    <a:pt x="2447" y="4667"/>
                  </a:lnTo>
                  <a:lnTo>
                    <a:pt x="2453" y="4559"/>
                  </a:lnTo>
                  <a:lnTo>
                    <a:pt x="2418" y="4554"/>
                  </a:lnTo>
                  <a:lnTo>
                    <a:pt x="2395" y="4554"/>
                  </a:lnTo>
                  <a:lnTo>
                    <a:pt x="2365" y="4549"/>
                  </a:lnTo>
                  <a:lnTo>
                    <a:pt x="2331" y="4549"/>
                  </a:lnTo>
                  <a:lnTo>
                    <a:pt x="2331" y="4487"/>
                  </a:lnTo>
                  <a:lnTo>
                    <a:pt x="2331" y="4442"/>
                  </a:lnTo>
                  <a:lnTo>
                    <a:pt x="2324" y="4409"/>
                  </a:lnTo>
                  <a:lnTo>
                    <a:pt x="2319" y="4397"/>
                  </a:lnTo>
                  <a:lnTo>
                    <a:pt x="2296" y="4380"/>
                  </a:lnTo>
                  <a:lnTo>
                    <a:pt x="2266" y="4380"/>
                  </a:lnTo>
                  <a:lnTo>
                    <a:pt x="2232" y="4385"/>
                  </a:lnTo>
                  <a:lnTo>
                    <a:pt x="2185" y="4397"/>
                  </a:lnTo>
                  <a:lnTo>
                    <a:pt x="1976" y="4402"/>
                  </a:lnTo>
                  <a:lnTo>
                    <a:pt x="1831" y="4375"/>
                  </a:lnTo>
                  <a:lnTo>
                    <a:pt x="1733" y="4313"/>
                  </a:lnTo>
                  <a:lnTo>
                    <a:pt x="1674" y="4223"/>
                  </a:lnTo>
                  <a:lnTo>
                    <a:pt x="1639" y="4098"/>
                  </a:lnTo>
                  <a:lnTo>
                    <a:pt x="1634" y="3958"/>
                  </a:lnTo>
                  <a:lnTo>
                    <a:pt x="1634" y="3789"/>
                  </a:lnTo>
                  <a:lnTo>
                    <a:pt x="1639" y="3610"/>
                  </a:lnTo>
                  <a:lnTo>
                    <a:pt x="1593" y="3598"/>
                  </a:lnTo>
                  <a:lnTo>
                    <a:pt x="1551" y="3593"/>
                  </a:lnTo>
                  <a:lnTo>
                    <a:pt x="1517" y="3581"/>
                  </a:lnTo>
                  <a:lnTo>
                    <a:pt x="1488" y="3581"/>
                  </a:lnTo>
                  <a:lnTo>
                    <a:pt x="1453" y="3570"/>
                  </a:lnTo>
                  <a:lnTo>
                    <a:pt x="1418" y="3565"/>
                  </a:lnTo>
                  <a:lnTo>
                    <a:pt x="1378" y="3559"/>
                  </a:lnTo>
                  <a:lnTo>
                    <a:pt x="1337" y="3559"/>
                  </a:lnTo>
                  <a:lnTo>
                    <a:pt x="1320" y="3470"/>
                  </a:lnTo>
                  <a:lnTo>
                    <a:pt x="1308" y="3368"/>
                  </a:lnTo>
                  <a:lnTo>
                    <a:pt x="1290" y="3261"/>
                  </a:lnTo>
                  <a:lnTo>
                    <a:pt x="1285" y="3154"/>
                  </a:lnTo>
                  <a:lnTo>
                    <a:pt x="1267" y="3041"/>
                  </a:lnTo>
                  <a:lnTo>
                    <a:pt x="1249" y="2940"/>
                  </a:lnTo>
                  <a:lnTo>
                    <a:pt x="1226" y="2840"/>
                  </a:lnTo>
                  <a:lnTo>
                    <a:pt x="1203" y="2761"/>
                  </a:lnTo>
                  <a:lnTo>
                    <a:pt x="1145" y="2783"/>
                  </a:lnTo>
                  <a:lnTo>
                    <a:pt x="1092" y="2823"/>
                  </a:lnTo>
                  <a:lnTo>
                    <a:pt x="1041" y="2857"/>
                  </a:lnTo>
                  <a:lnTo>
                    <a:pt x="1000" y="2884"/>
                  </a:lnTo>
                  <a:lnTo>
                    <a:pt x="942" y="2890"/>
                  </a:lnTo>
                  <a:lnTo>
                    <a:pt x="884" y="2896"/>
                  </a:lnTo>
                  <a:lnTo>
                    <a:pt x="831" y="2884"/>
                  </a:lnTo>
                  <a:lnTo>
                    <a:pt x="790" y="2874"/>
                  </a:lnTo>
                  <a:lnTo>
                    <a:pt x="750" y="2857"/>
                  </a:lnTo>
                  <a:lnTo>
                    <a:pt x="721" y="2857"/>
                  </a:lnTo>
                  <a:lnTo>
                    <a:pt x="692" y="2850"/>
                  </a:lnTo>
                  <a:lnTo>
                    <a:pt x="674" y="2845"/>
                  </a:lnTo>
                  <a:lnTo>
                    <a:pt x="656" y="2828"/>
                  </a:lnTo>
                  <a:lnTo>
                    <a:pt x="645" y="2817"/>
                  </a:lnTo>
                  <a:lnTo>
                    <a:pt x="628" y="2794"/>
                  </a:lnTo>
                  <a:lnTo>
                    <a:pt x="616" y="2772"/>
                  </a:lnTo>
                  <a:lnTo>
                    <a:pt x="547" y="2772"/>
                  </a:lnTo>
                  <a:lnTo>
                    <a:pt x="476" y="2772"/>
                  </a:lnTo>
                  <a:lnTo>
                    <a:pt x="407" y="2766"/>
                  </a:lnTo>
                  <a:lnTo>
                    <a:pt x="337" y="2766"/>
                  </a:lnTo>
                  <a:lnTo>
                    <a:pt x="268" y="2755"/>
                  </a:lnTo>
                  <a:lnTo>
                    <a:pt x="198" y="2755"/>
                  </a:lnTo>
                  <a:lnTo>
                    <a:pt x="128" y="2744"/>
                  </a:lnTo>
                  <a:lnTo>
                    <a:pt x="70" y="2744"/>
                  </a:lnTo>
                  <a:lnTo>
                    <a:pt x="65" y="2732"/>
                  </a:lnTo>
                  <a:lnTo>
                    <a:pt x="58" y="2715"/>
                  </a:lnTo>
                  <a:lnTo>
                    <a:pt x="53" y="2693"/>
                  </a:lnTo>
                  <a:lnTo>
                    <a:pt x="53" y="2682"/>
                  </a:lnTo>
                  <a:lnTo>
                    <a:pt x="53" y="2570"/>
                  </a:lnTo>
                  <a:lnTo>
                    <a:pt x="47" y="2457"/>
                  </a:lnTo>
                  <a:lnTo>
                    <a:pt x="35" y="2339"/>
                  </a:lnTo>
                  <a:lnTo>
                    <a:pt x="23" y="2221"/>
                  </a:lnTo>
                  <a:lnTo>
                    <a:pt x="6" y="2097"/>
                  </a:lnTo>
                  <a:lnTo>
                    <a:pt x="0" y="1979"/>
                  </a:lnTo>
                  <a:lnTo>
                    <a:pt x="6" y="1866"/>
                  </a:lnTo>
                  <a:lnTo>
                    <a:pt x="30" y="1766"/>
                  </a:lnTo>
                  <a:lnTo>
                    <a:pt x="35" y="1743"/>
                  </a:lnTo>
                  <a:lnTo>
                    <a:pt x="65" y="1721"/>
                  </a:lnTo>
                  <a:lnTo>
                    <a:pt x="88" y="1692"/>
                  </a:lnTo>
                  <a:lnTo>
                    <a:pt x="111" y="1675"/>
                  </a:lnTo>
                  <a:lnTo>
                    <a:pt x="116" y="1641"/>
                  </a:lnTo>
                  <a:lnTo>
                    <a:pt x="122" y="1614"/>
                  </a:lnTo>
                  <a:lnTo>
                    <a:pt x="99" y="1586"/>
                  </a:lnTo>
                  <a:lnTo>
                    <a:pt x="81" y="1563"/>
                  </a:lnTo>
                  <a:lnTo>
                    <a:pt x="53" y="1501"/>
                  </a:lnTo>
                  <a:lnTo>
                    <a:pt x="53" y="1451"/>
                  </a:lnTo>
                  <a:lnTo>
                    <a:pt x="58" y="1395"/>
                  </a:lnTo>
                  <a:lnTo>
                    <a:pt x="93" y="1344"/>
                  </a:lnTo>
                  <a:lnTo>
                    <a:pt x="146" y="1282"/>
                  </a:lnTo>
                  <a:lnTo>
                    <a:pt x="192" y="1265"/>
                  </a:lnTo>
                  <a:lnTo>
                    <a:pt x="227" y="1282"/>
                  </a:lnTo>
                  <a:lnTo>
                    <a:pt x="261" y="1327"/>
                  </a:lnTo>
                  <a:lnTo>
                    <a:pt x="279" y="1378"/>
                  </a:lnTo>
                  <a:lnTo>
                    <a:pt x="296" y="1439"/>
                  </a:lnTo>
                  <a:lnTo>
                    <a:pt x="308" y="1496"/>
                  </a:lnTo>
                  <a:lnTo>
                    <a:pt x="319" y="1546"/>
                  </a:lnTo>
                  <a:lnTo>
                    <a:pt x="360" y="1563"/>
                  </a:lnTo>
                  <a:lnTo>
                    <a:pt x="390" y="1580"/>
                  </a:lnTo>
                  <a:lnTo>
                    <a:pt x="402" y="1580"/>
                  </a:lnTo>
                  <a:lnTo>
                    <a:pt x="418" y="1591"/>
                  </a:lnTo>
                  <a:lnTo>
                    <a:pt x="436" y="1597"/>
                  </a:lnTo>
                  <a:lnTo>
                    <a:pt x="471" y="1608"/>
                  </a:lnTo>
                  <a:lnTo>
                    <a:pt x="506" y="1586"/>
                  </a:lnTo>
                  <a:lnTo>
                    <a:pt x="494" y="1546"/>
                  </a:lnTo>
                  <a:lnTo>
                    <a:pt x="494" y="1501"/>
                  </a:lnTo>
                  <a:lnTo>
                    <a:pt x="494" y="1456"/>
                  </a:lnTo>
                  <a:lnTo>
                    <a:pt x="512" y="1417"/>
                  </a:lnTo>
                  <a:lnTo>
                    <a:pt x="517" y="1371"/>
                  </a:lnTo>
                  <a:lnTo>
                    <a:pt x="535" y="1344"/>
                  </a:lnTo>
                  <a:lnTo>
                    <a:pt x="552" y="1316"/>
                  </a:lnTo>
                  <a:lnTo>
                    <a:pt x="575" y="1305"/>
                  </a:lnTo>
                  <a:lnTo>
                    <a:pt x="633" y="1276"/>
                  </a:lnTo>
                  <a:lnTo>
                    <a:pt x="681" y="1288"/>
                  </a:lnTo>
                  <a:lnTo>
                    <a:pt x="709" y="1310"/>
                  </a:lnTo>
                  <a:lnTo>
                    <a:pt x="732" y="1349"/>
                  </a:lnTo>
                  <a:lnTo>
                    <a:pt x="750" y="1371"/>
                  </a:lnTo>
                  <a:lnTo>
                    <a:pt x="773" y="1383"/>
                  </a:lnTo>
                  <a:lnTo>
                    <a:pt x="796" y="1366"/>
                  </a:lnTo>
                  <a:lnTo>
                    <a:pt x="843" y="1316"/>
                  </a:lnTo>
                  <a:lnTo>
                    <a:pt x="861" y="1282"/>
                  </a:lnTo>
                  <a:lnTo>
                    <a:pt x="889" y="1271"/>
                  </a:lnTo>
                  <a:lnTo>
                    <a:pt x="924" y="1265"/>
                  </a:lnTo>
                  <a:lnTo>
                    <a:pt x="960" y="1276"/>
                  </a:lnTo>
                  <a:lnTo>
                    <a:pt x="988" y="1288"/>
                  </a:lnTo>
                  <a:lnTo>
                    <a:pt x="1018" y="1310"/>
                  </a:lnTo>
                  <a:lnTo>
                    <a:pt x="1034" y="1339"/>
                  </a:lnTo>
                  <a:lnTo>
                    <a:pt x="1052" y="1378"/>
                  </a:lnTo>
                  <a:lnTo>
                    <a:pt x="1052" y="1411"/>
                  </a:lnTo>
                  <a:lnTo>
                    <a:pt x="1041" y="1462"/>
                  </a:lnTo>
                  <a:lnTo>
                    <a:pt x="1029" y="1513"/>
                  </a:lnTo>
                  <a:lnTo>
                    <a:pt x="1029" y="1574"/>
                  </a:lnTo>
                  <a:lnTo>
                    <a:pt x="1023" y="1574"/>
                  </a:lnTo>
                  <a:lnTo>
                    <a:pt x="1018" y="1591"/>
                  </a:lnTo>
                  <a:lnTo>
                    <a:pt x="1011" y="1608"/>
                  </a:lnTo>
                  <a:lnTo>
                    <a:pt x="1011" y="1625"/>
                  </a:lnTo>
                  <a:lnTo>
                    <a:pt x="1052" y="1641"/>
                  </a:lnTo>
                  <a:lnTo>
                    <a:pt x="1075" y="1648"/>
                  </a:lnTo>
                  <a:lnTo>
                    <a:pt x="1099" y="1648"/>
                  </a:lnTo>
                  <a:lnTo>
                    <a:pt x="1133" y="1648"/>
                  </a:lnTo>
                  <a:lnTo>
                    <a:pt x="1099" y="1597"/>
                  </a:lnTo>
                  <a:lnTo>
                    <a:pt x="1081" y="1546"/>
                  </a:lnTo>
                  <a:lnTo>
                    <a:pt x="1069" y="1496"/>
                  </a:lnTo>
                  <a:lnTo>
                    <a:pt x="1069" y="1451"/>
                  </a:lnTo>
                  <a:lnTo>
                    <a:pt x="1069" y="1400"/>
                  </a:lnTo>
                  <a:lnTo>
                    <a:pt x="1081" y="1356"/>
                  </a:lnTo>
                  <a:lnTo>
                    <a:pt x="1099" y="1310"/>
                  </a:lnTo>
                  <a:lnTo>
                    <a:pt x="1133" y="1265"/>
                  </a:lnTo>
                  <a:lnTo>
                    <a:pt x="1145" y="1260"/>
                  </a:lnTo>
                  <a:lnTo>
                    <a:pt x="1180" y="1254"/>
                  </a:lnTo>
                  <a:lnTo>
                    <a:pt x="1221" y="1243"/>
                  </a:lnTo>
                  <a:lnTo>
                    <a:pt x="1267" y="1248"/>
                  </a:lnTo>
                  <a:lnTo>
                    <a:pt x="1290" y="1260"/>
                  </a:lnTo>
                  <a:lnTo>
                    <a:pt x="1320" y="1293"/>
                  </a:lnTo>
                  <a:lnTo>
                    <a:pt x="1348" y="1316"/>
                  </a:lnTo>
                  <a:lnTo>
                    <a:pt x="1389" y="1327"/>
                  </a:lnTo>
                  <a:lnTo>
                    <a:pt x="1401" y="1316"/>
                  </a:lnTo>
                  <a:lnTo>
                    <a:pt x="1429" y="1305"/>
                  </a:lnTo>
                  <a:lnTo>
                    <a:pt x="1523" y="1271"/>
                  </a:lnTo>
                  <a:lnTo>
                    <a:pt x="1599" y="1282"/>
                  </a:lnTo>
                  <a:lnTo>
                    <a:pt x="1650" y="1316"/>
                  </a:lnTo>
                  <a:lnTo>
                    <a:pt x="1685" y="1383"/>
                  </a:lnTo>
                  <a:lnTo>
                    <a:pt x="1703" y="1456"/>
                  </a:lnTo>
                  <a:lnTo>
                    <a:pt x="1703" y="1546"/>
                  </a:lnTo>
                  <a:lnTo>
                    <a:pt x="1691" y="1636"/>
                  </a:lnTo>
                  <a:lnTo>
                    <a:pt x="1680" y="1726"/>
                  </a:lnTo>
                  <a:lnTo>
                    <a:pt x="1715" y="1760"/>
                  </a:lnTo>
                  <a:lnTo>
                    <a:pt x="1756" y="1800"/>
                  </a:lnTo>
                  <a:lnTo>
                    <a:pt x="1790" y="1839"/>
                  </a:lnTo>
                  <a:lnTo>
                    <a:pt x="1825" y="1883"/>
                  </a:lnTo>
                  <a:lnTo>
                    <a:pt x="1819" y="1822"/>
                  </a:lnTo>
                  <a:lnTo>
                    <a:pt x="1814" y="1732"/>
                  </a:lnTo>
                  <a:lnTo>
                    <a:pt x="1796" y="1625"/>
                  </a:lnTo>
                  <a:lnTo>
                    <a:pt x="1802" y="1518"/>
                  </a:lnTo>
                  <a:lnTo>
                    <a:pt x="1814" y="1417"/>
                  </a:lnTo>
                  <a:lnTo>
                    <a:pt x="1860" y="1344"/>
                  </a:lnTo>
                  <a:lnTo>
                    <a:pt x="1929" y="1316"/>
                  </a:lnTo>
                  <a:lnTo>
                    <a:pt x="2040" y="1344"/>
                  </a:lnTo>
                  <a:lnTo>
                    <a:pt x="2070" y="1366"/>
                  </a:lnTo>
                  <a:lnTo>
                    <a:pt x="2110" y="1405"/>
                  </a:lnTo>
                  <a:lnTo>
                    <a:pt x="2139" y="1451"/>
                  </a:lnTo>
                  <a:lnTo>
                    <a:pt x="2162" y="1496"/>
                  </a:lnTo>
                  <a:lnTo>
                    <a:pt x="2167" y="1546"/>
                  </a:lnTo>
                  <a:lnTo>
                    <a:pt x="2167" y="1602"/>
                  </a:lnTo>
                  <a:lnTo>
                    <a:pt x="2156" y="1641"/>
                  </a:lnTo>
                  <a:lnTo>
                    <a:pt x="2144" y="1687"/>
                  </a:lnTo>
                  <a:lnTo>
                    <a:pt x="2127" y="1726"/>
                  </a:lnTo>
                  <a:lnTo>
                    <a:pt x="2127" y="1766"/>
                  </a:lnTo>
                  <a:lnTo>
                    <a:pt x="2133" y="1800"/>
                  </a:lnTo>
                  <a:lnTo>
                    <a:pt x="2162" y="1844"/>
                  </a:lnTo>
                  <a:lnTo>
                    <a:pt x="2179" y="1856"/>
                  </a:lnTo>
                  <a:lnTo>
                    <a:pt x="2215" y="1889"/>
                  </a:lnTo>
                  <a:lnTo>
                    <a:pt x="2261" y="1912"/>
                  </a:lnTo>
                  <a:lnTo>
                    <a:pt x="2319" y="1940"/>
                  </a:lnTo>
                  <a:lnTo>
                    <a:pt x="2359" y="1951"/>
                  </a:lnTo>
                  <a:lnTo>
                    <a:pt x="2400" y="1945"/>
                  </a:lnTo>
                  <a:lnTo>
                    <a:pt x="2418" y="1912"/>
                  </a:lnTo>
                  <a:lnTo>
                    <a:pt x="2423" y="1856"/>
                  </a:lnTo>
                  <a:lnTo>
                    <a:pt x="2400" y="1810"/>
                  </a:lnTo>
                  <a:lnTo>
                    <a:pt x="2365" y="1783"/>
                  </a:lnTo>
                  <a:lnTo>
                    <a:pt x="2319" y="1749"/>
                  </a:lnTo>
                  <a:lnTo>
                    <a:pt x="2290" y="1715"/>
                  </a:lnTo>
                  <a:lnTo>
                    <a:pt x="2261" y="1608"/>
                  </a:lnTo>
                  <a:lnTo>
                    <a:pt x="2261" y="1506"/>
                  </a:lnTo>
                  <a:lnTo>
                    <a:pt x="2284" y="1400"/>
                  </a:lnTo>
                  <a:lnTo>
                    <a:pt x="2331" y="1310"/>
                  </a:lnTo>
                  <a:lnTo>
                    <a:pt x="2389" y="1231"/>
                  </a:lnTo>
                  <a:lnTo>
                    <a:pt x="2470" y="1187"/>
                  </a:lnTo>
                  <a:lnTo>
                    <a:pt x="2557" y="1170"/>
                  </a:lnTo>
                  <a:lnTo>
                    <a:pt x="2668" y="1197"/>
                  </a:lnTo>
                  <a:lnTo>
                    <a:pt x="2749" y="1248"/>
                  </a:lnTo>
                  <a:lnTo>
                    <a:pt x="2790" y="1316"/>
                  </a:lnTo>
                  <a:lnTo>
                    <a:pt x="2795" y="1383"/>
                  </a:lnTo>
                  <a:lnTo>
                    <a:pt x="2790" y="1467"/>
                  </a:lnTo>
                  <a:lnTo>
                    <a:pt x="2755" y="1540"/>
                  </a:lnTo>
                  <a:lnTo>
                    <a:pt x="2726" y="1619"/>
                  </a:lnTo>
                  <a:lnTo>
                    <a:pt x="2691" y="1687"/>
                  </a:lnTo>
                  <a:lnTo>
                    <a:pt x="2679" y="1754"/>
                  </a:lnTo>
                  <a:lnTo>
                    <a:pt x="2679" y="1777"/>
                  </a:lnTo>
                  <a:lnTo>
                    <a:pt x="2697" y="1827"/>
                  </a:lnTo>
                  <a:lnTo>
                    <a:pt x="2720" y="1883"/>
                  </a:lnTo>
                  <a:lnTo>
                    <a:pt x="2749" y="1934"/>
                  </a:lnTo>
                  <a:lnTo>
                    <a:pt x="2778" y="1991"/>
                  </a:lnTo>
                  <a:lnTo>
                    <a:pt x="2807" y="2041"/>
                  </a:lnTo>
                  <a:lnTo>
                    <a:pt x="2836" y="2097"/>
                  </a:lnTo>
                  <a:lnTo>
                    <a:pt x="2866" y="2153"/>
                  </a:lnTo>
                  <a:lnTo>
                    <a:pt x="2894" y="2215"/>
                  </a:lnTo>
                  <a:lnTo>
                    <a:pt x="2900" y="2249"/>
                  </a:lnTo>
                  <a:lnTo>
                    <a:pt x="2912" y="2300"/>
                  </a:lnTo>
                  <a:lnTo>
                    <a:pt x="2917" y="2345"/>
                  </a:lnTo>
                  <a:lnTo>
                    <a:pt x="2929" y="2396"/>
                  </a:lnTo>
                  <a:lnTo>
                    <a:pt x="2935" y="2440"/>
                  </a:lnTo>
                  <a:lnTo>
                    <a:pt x="2947" y="2485"/>
                  </a:lnTo>
                  <a:lnTo>
                    <a:pt x="2964" y="2524"/>
                  </a:lnTo>
                  <a:lnTo>
                    <a:pt x="2988" y="2563"/>
                  </a:lnTo>
                  <a:lnTo>
                    <a:pt x="2993" y="2570"/>
                  </a:lnTo>
                  <a:lnTo>
                    <a:pt x="3016" y="2575"/>
                  </a:lnTo>
                  <a:lnTo>
                    <a:pt x="3034" y="2580"/>
                  </a:lnTo>
                  <a:lnTo>
                    <a:pt x="3051" y="2592"/>
                  </a:lnTo>
                  <a:lnTo>
                    <a:pt x="3051" y="2558"/>
                  </a:lnTo>
                  <a:lnTo>
                    <a:pt x="3051" y="2530"/>
                  </a:lnTo>
                  <a:lnTo>
                    <a:pt x="3051" y="2496"/>
                  </a:lnTo>
                  <a:lnTo>
                    <a:pt x="3057" y="2469"/>
                  </a:lnTo>
                  <a:lnTo>
                    <a:pt x="3057" y="2428"/>
                  </a:lnTo>
                  <a:lnTo>
                    <a:pt x="3057" y="2396"/>
                  </a:lnTo>
                  <a:lnTo>
                    <a:pt x="3057" y="2362"/>
                  </a:lnTo>
                  <a:lnTo>
                    <a:pt x="3063" y="2334"/>
                  </a:lnTo>
                  <a:lnTo>
                    <a:pt x="3069" y="2249"/>
                  </a:lnTo>
                  <a:lnTo>
                    <a:pt x="3086" y="2187"/>
                  </a:lnTo>
                  <a:lnTo>
                    <a:pt x="3109" y="2131"/>
                  </a:lnTo>
                  <a:lnTo>
                    <a:pt x="3145" y="2086"/>
                  </a:lnTo>
                  <a:lnTo>
                    <a:pt x="3168" y="2035"/>
                  </a:lnTo>
                  <a:lnTo>
                    <a:pt x="3191" y="1996"/>
                  </a:lnTo>
                  <a:lnTo>
                    <a:pt x="3208" y="1957"/>
                  </a:lnTo>
                  <a:lnTo>
                    <a:pt x="3226" y="1923"/>
                  </a:lnTo>
                  <a:lnTo>
                    <a:pt x="3219" y="1866"/>
                  </a:lnTo>
                  <a:lnTo>
                    <a:pt x="3208" y="1817"/>
                  </a:lnTo>
                  <a:lnTo>
                    <a:pt x="3185" y="1766"/>
                  </a:lnTo>
                  <a:lnTo>
                    <a:pt x="3173" y="1715"/>
                  </a:lnTo>
                  <a:lnTo>
                    <a:pt x="3162" y="1619"/>
                  </a:lnTo>
                  <a:lnTo>
                    <a:pt x="3168" y="1523"/>
                  </a:lnTo>
                  <a:lnTo>
                    <a:pt x="3191" y="1428"/>
                  </a:lnTo>
                  <a:lnTo>
                    <a:pt x="3231" y="1344"/>
                  </a:lnTo>
                  <a:lnTo>
                    <a:pt x="3284" y="1276"/>
                  </a:lnTo>
                  <a:lnTo>
                    <a:pt x="3353" y="1237"/>
                  </a:lnTo>
                  <a:lnTo>
                    <a:pt x="3434" y="1231"/>
                  </a:lnTo>
                  <a:lnTo>
                    <a:pt x="3533" y="1276"/>
                  </a:lnTo>
                  <a:lnTo>
                    <a:pt x="3568" y="1310"/>
                  </a:lnTo>
                  <a:lnTo>
                    <a:pt x="3609" y="1366"/>
                  </a:lnTo>
                  <a:lnTo>
                    <a:pt x="3639" y="1439"/>
                  </a:lnTo>
                  <a:lnTo>
                    <a:pt x="3662" y="1523"/>
                  </a:lnTo>
                  <a:lnTo>
                    <a:pt x="3673" y="1602"/>
                  </a:lnTo>
                  <a:lnTo>
                    <a:pt x="3673" y="1687"/>
                  </a:lnTo>
                  <a:lnTo>
                    <a:pt x="3662" y="1766"/>
                  </a:lnTo>
                  <a:lnTo>
                    <a:pt x="3639" y="1832"/>
                  </a:lnTo>
                  <a:lnTo>
                    <a:pt x="3604" y="1861"/>
                  </a:lnTo>
                  <a:lnTo>
                    <a:pt x="3563" y="1889"/>
                  </a:lnTo>
                  <a:lnTo>
                    <a:pt x="3516" y="1917"/>
                  </a:lnTo>
                  <a:lnTo>
                    <a:pt x="3475" y="1945"/>
                  </a:lnTo>
                  <a:lnTo>
                    <a:pt x="3499" y="1991"/>
                  </a:lnTo>
                  <a:lnTo>
                    <a:pt x="3528" y="2041"/>
                  </a:lnTo>
                  <a:lnTo>
                    <a:pt x="3551" y="2097"/>
                  </a:lnTo>
                  <a:lnTo>
                    <a:pt x="3586" y="2153"/>
                  </a:lnTo>
                  <a:lnTo>
                    <a:pt x="3614" y="2204"/>
                  </a:lnTo>
                  <a:lnTo>
                    <a:pt x="3650" y="2261"/>
                  </a:lnTo>
                  <a:lnTo>
                    <a:pt x="3685" y="2317"/>
                  </a:lnTo>
                  <a:lnTo>
                    <a:pt x="3720" y="2373"/>
                  </a:lnTo>
                  <a:lnTo>
                    <a:pt x="3748" y="2350"/>
                  </a:lnTo>
                  <a:lnTo>
                    <a:pt x="3784" y="2334"/>
                  </a:lnTo>
                  <a:lnTo>
                    <a:pt x="3819" y="2311"/>
                  </a:lnTo>
                  <a:lnTo>
                    <a:pt x="3853" y="2294"/>
                  </a:lnTo>
                  <a:lnTo>
                    <a:pt x="3882" y="2271"/>
                  </a:lnTo>
                  <a:lnTo>
                    <a:pt x="3918" y="2254"/>
                  </a:lnTo>
                  <a:lnTo>
                    <a:pt x="3952" y="2232"/>
                  </a:lnTo>
                  <a:lnTo>
                    <a:pt x="3987" y="2215"/>
                  </a:lnTo>
                  <a:lnTo>
                    <a:pt x="3958" y="2143"/>
                  </a:lnTo>
                  <a:lnTo>
                    <a:pt x="3935" y="2075"/>
                  </a:lnTo>
                  <a:lnTo>
                    <a:pt x="3905" y="1996"/>
                  </a:lnTo>
                  <a:lnTo>
                    <a:pt x="3882" y="1923"/>
                  </a:lnTo>
                  <a:lnTo>
                    <a:pt x="3859" y="1832"/>
                  </a:lnTo>
                  <a:lnTo>
                    <a:pt x="3847" y="1749"/>
                  </a:lnTo>
                  <a:lnTo>
                    <a:pt x="3847" y="1653"/>
                  </a:lnTo>
                  <a:lnTo>
                    <a:pt x="3865" y="1563"/>
                  </a:lnTo>
                  <a:lnTo>
                    <a:pt x="3865" y="1518"/>
                  </a:lnTo>
                  <a:lnTo>
                    <a:pt x="3877" y="1479"/>
                  </a:lnTo>
                  <a:lnTo>
                    <a:pt x="3882" y="1439"/>
                  </a:lnTo>
                  <a:lnTo>
                    <a:pt x="3900" y="1405"/>
                  </a:lnTo>
                  <a:lnTo>
                    <a:pt x="3905" y="1366"/>
                  </a:lnTo>
                  <a:lnTo>
                    <a:pt x="3923" y="1339"/>
                  </a:lnTo>
                  <a:lnTo>
                    <a:pt x="3941" y="1310"/>
                  </a:lnTo>
                  <a:lnTo>
                    <a:pt x="3969" y="1293"/>
                  </a:lnTo>
                  <a:lnTo>
                    <a:pt x="4010" y="1265"/>
                  </a:lnTo>
                  <a:lnTo>
                    <a:pt x="4062" y="1260"/>
                  </a:lnTo>
                  <a:lnTo>
                    <a:pt x="4115" y="1260"/>
                  </a:lnTo>
                  <a:lnTo>
                    <a:pt x="4172" y="1276"/>
                  </a:lnTo>
                  <a:lnTo>
                    <a:pt x="4260" y="1322"/>
                  </a:lnTo>
                  <a:lnTo>
                    <a:pt x="4329" y="1411"/>
                  </a:lnTo>
                  <a:lnTo>
                    <a:pt x="4370" y="1518"/>
                  </a:lnTo>
                  <a:lnTo>
                    <a:pt x="4400" y="1648"/>
                  </a:lnTo>
                  <a:lnTo>
                    <a:pt x="4400" y="1783"/>
                  </a:lnTo>
                  <a:lnTo>
                    <a:pt x="4387" y="1917"/>
                  </a:lnTo>
                  <a:lnTo>
                    <a:pt x="4364" y="2041"/>
                  </a:lnTo>
                  <a:lnTo>
                    <a:pt x="4329" y="2153"/>
                  </a:lnTo>
                  <a:lnTo>
                    <a:pt x="4376" y="2187"/>
                  </a:lnTo>
                  <a:lnTo>
                    <a:pt x="4423" y="2232"/>
                  </a:lnTo>
                  <a:lnTo>
                    <a:pt x="4435" y="2249"/>
                  </a:lnTo>
                  <a:lnTo>
                    <a:pt x="4452" y="2266"/>
                  </a:lnTo>
                  <a:lnTo>
                    <a:pt x="4469" y="2283"/>
                  </a:lnTo>
                  <a:lnTo>
                    <a:pt x="4504" y="2311"/>
                  </a:lnTo>
                  <a:lnTo>
                    <a:pt x="4534" y="2328"/>
                  </a:lnTo>
                  <a:lnTo>
                    <a:pt x="4557" y="2345"/>
                  </a:lnTo>
                  <a:lnTo>
                    <a:pt x="4562" y="2345"/>
                  </a:lnTo>
                  <a:lnTo>
                    <a:pt x="4568" y="2345"/>
                  </a:lnTo>
                  <a:lnTo>
                    <a:pt x="4620" y="2396"/>
                  </a:lnTo>
                  <a:lnTo>
                    <a:pt x="4673" y="2440"/>
                  </a:lnTo>
                  <a:lnTo>
                    <a:pt x="4702" y="2452"/>
                  </a:lnTo>
                  <a:lnTo>
                    <a:pt x="4737" y="2469"/>
                  </a:lnTo>
                  <a:lnTo>
                    <a:pt x="4772" y="2485"/>
                  </a:lnTo>
                  <a:lnTo>
                    <a:pt x="4823" y="2502"/>
                  </a:lnTo>
                  <a:lnTo>
                    <a:pt x="4853" y="2435"/>
                  </a:lnTo>
                  <a:lnTo>
                    <a:pt x="4888" y="2384"/>
                  </a:lnTo>
                  <a:lnTo>
                    <a:pt x="4929" y="2334"/>
                  </a:lnTo>
                  <a:lnTo>
                    <a:pt x="4975" y="2283"/>
                  </a:lnTo>
                  <a:lnTo>
                    <a:pt x="5021" y="2232"/>
                  </a:lnTo>
                  <a:lnTo>
                    <a:pt x="5068" y="2187"/>
                  </a:lnTo>
                  <a:lnTo>
                    <a:pt x="5114" y="2143"/>
                  </a:lnTo>
                  <a:lnTo>
                    <a:pt x="5167" y="2102"/>
                  </a:lnTo>
                  <a:lnTo>
                    <a:pt x="5143" y="2052"/>
                  </a:lnTo>
                  <a:lnTo>
                    <a:pt x="5120" y="2013"/>
                  </a:lnTo>
                  <a:lnTo>
                    <a:pt x="5091" y="1974"/>
                  </a:lnTo>
                  <a:lnTo>
                    <a:pt x="5062" y="1940"/>
                  </a:lnTo>
                  <a:lnTo>
                    <a:pt x="5028" y="1900"/>
                  </a:lnTo>
                  <a:lnTo>
                    <a:pt x="5003" y="1861"/>
                  </a:lnTo>
                  <a:lnTo>
                    <a:pt x="4980" y="1822"/>
                  </a:lnTo>
                  <a:lnTo>
                    <a:pt x="4969" y="1777"/>
                  </a:lnTo>
                  <a:lnTo>
                    <a:pt x="4952" y="1675"/>
                  </a:lnTo>
                  <a:lnTo>
                    <a:pt x="4969" y="1580"/>
                  </a:lnTo>
                  <a:lnTo>
                    <a:pt x="4992" y="1496"/>
                  </a:lnTo>
                  <a:lnTo>
                    <a:pt x="5039" y="1422"/>
                  </a:lnTo>
                  <a:lnTo>
                    <a:pt x="5085" y="1356"/>
                  </a:lnTo>
                  <a:lnTo>
                    <a:pt x="5155" y="1305"/>
                  </a:lnTo>
                  <a:lnTo>
                    <a:pt x="5224" y="1265"/>
                  </a:lnTo>
                  <a:lnTo>
                    <a:pt x="5307" y="1248"/>
                  </a:lnTo>
                  <a:lnTo>
                    <a:pt x="5353" y="1231"/>
                  </a:lnTo>
                  <a:lnTo>
                    <a:pt x="5405" y="1226"/>
                  </a:lnTo>
                  <a:lnTo>
                    <a:pt x="5446" y="1226"/>
                  </a:lnTo>
                  <a:lnTo>
                    <a:pt x="5487" y="1231"/>
                  </a:lnTo>
                  <a:lnTo>
                    <a:pt x="5521" y="1237"/>
                  </a:lnTo>
                  <a:lnTo>
                    <a:pt x="5556" y="1254"/>
                  </a:lnTo>
                  <a:lnTo>
                    <a:pt x="5579" y="1282"/>
                  </a:lnTo>
                  <a:lnTo>
                    <a:pt x="5608" y="1327"/>
                  </a:lnTo>
                  <a:lnTo>
                    <a:pt x="5626" y="1378"/>
                  </a:lnTo>
                  <a:lnTo>
                    <a:pt x="5649" y="1445"/>
                  </a:lnTo>
                  <a:lnTo>
                    <a:pt x="5667" y="1523"/>
                  </a:lnTo>
                  <a:lnTo>
                    <a:pt x="5690" y="1614"/>
                  </a:lnTo>
                  <a:lnTo>
                    <a:pt x="5690" y="1692"/>
                  </a:lnTo>
                  <a:lnTo>
                    <a:pt x="5690" y="1777"/>
                  </a:lnTo>
                  <a:lnTo>
                    <a:pt x="5672" y="1856"/>
                  </a:lnTo>
                  <a:lnTo>
                    <a:pt x="5649" y="1923"/>
                  </a:lnTo>
                  <a:lnTo>
                    <a:pt x="5619" y="1940"/>
                  </a:lnTo>
                  <a:lnTo>
                    <a:pt x="5596" y="1962"/>
                  </a:lnTo>
                  <a:lnTo>
                    <a:pt x="5561" y="1979"/>
                  </a:lnTo>
                  <a:lnTo>
                    <a:pt x="5533" y="2001"/>
                  </a:lnTo>
                  <a:lnTo>
                    <a:pt x="5498" y="2018"/>
                  </a:lnTo>
                  <a:lnTo>
                    <a:pt x="5480" y="2047"/>
                  </a:lnTo>
                  <a:lnTo>
                    <a:pt x="5462" y="2075"/>
                  </a:lnTo>
                  <a:lnTo>
                    <a:pt x="5462" y="2126"/>
                  </a:lnTo>
                  <a:lnTo>
                    <a:pt x="5469" y="2159"/>
                  </a:lnTo>
                  <a:lnTo>
                    <a:pt x="5492" y="2198"/>
                  </a:lnTo>
                  <a:lnTo>
                    <a:pt x="5521" y="2227"/>
                  </a:lnTo>
                  <a:lnTo>
                    <a:pt x="5561" y="2254"/>
                  </a:lnTo>
                  <a:lnTo>
                    <a:pt x="5596" y="2278"/>
                  </a:lnTo>
                  <a:lnTo>
                    <a:pt x="5637" y="2305"/>
                  </a:lnTo>
                  <a:lnTo>
                    <a:pt x="5667" y="2334"/>
                  </a:lnTo>
                  <a:lnTo>
                    <a:pt x="5690" y="2373"/>
                  </a:lnTo>
                  <a:lnTo>
                    <a:pt x="5701" y="2440"/>
                  </a:lnTo>
                  <a:lnTo>
                    <a:pt x="5707" y="2530"/>
                  </a:lnTo>
                  <a:lnTo>
                    <a:pt x="5695" y="2626"/>
                  </a:lnTo>
                  <a:lnTo>
                    <a:pt x="5690" y="2744"/>
                  </a:lnTo>
                  <a:lnTo>
                    <a:pt x="5672" y="2857"/>
                  </a:lnTo>
                  <a:lnTo>
                    <a:pt x="5667" y="2969"/>
                  </a:lnTo>
                  <a:lnTo>
                    <a:pt x="5660" y="3081"/>
                  </a:lnTo>
                  <a:lnTo>
                    <a:pt x="5667" y="3183"/>
                  </a:lnTo>
                  <a:lnTo>
                    <a:pt x="5667" y="3216"/>
                  </a:lnTo>
                  <a:lnTo>
                    <a:pt x="5672" y="3255"/>
                  </a:lnTo>
                  <a:lnTo>
                    <a:pt x="5684" y="3272"/>
                  </a:lnTo>
                  <a:lnTo>
                    <a:pt x="5695" y="3295"/>
                  </a:lnTo>
                  <a:lnTo>
                    <a:pt x="5718" y="3306"/>
                  </a:lnTo>
                  <a:lnTo>
                    <a:pt x="5730" y="3311"/>
                  </a:lnTo>
                  <a:lnTo>
                    <a:pt x="5759" y="3295"/>
                  </a:lnTo>
                  <a:lnTo>
                    <a:pt x="5800" y="3278"/>
                  </a:lnTo>
                  <a:lnTo>
                    <a:pt x="5835" y="3261"/>
                  </a:lnTo>
                  <a:lnTo>
                    <a:pt x="5882" y="3250"/>
                  </a:lnTo>
                  <a:lnTo>
                    <a:pt x="5922" y="3233"/>
                  </a:lnTo>
                  <a:lnTo>
                    <a:pt x="5963" y="3227"/>
                  </a:lnTo>
                  <a:lnTo>
                    <a:pt x="5997" y="3216"/>
                  </a:lnTo>
                  <a:lnTo>
                    <a:pt x="6038" y="3222"/>
                  </a:lnTo>
                  <a:lnTo>
                    <a:pt x="6067" y="3227"/>
                  </a:lnTo>
                  <a:lnTo>
                    <a:pt x="6096" y="3239"/>
                  </a:lnTo>
                  <a:lnTo>
                    <a:pt x="6131" y="3239"/>
                  </a:lnTo>
                  <a:lnTo>
                    <a:pt x="6184" y="3233"/>
                  </a:lnTo>
                  <a:lnTo>
                    <a:pt x="6184" y="3183"/>
                  </a:lnTo>
                  <a:lnTo>
                    <a:pt x="6189" y="3132"/>
                  </a:lnTo>
                  <a:lnTo>
                    <a:pt x="6189" y="3070"/>
                  </a:lnTo>
                  <a:lnTo>
                    <a:pt x="6195" y="3014"/>
                  </a:lnTo>
                  <a:lnTo>
                    <a:pt x="6195" y="2952"/>
                  </a:lnTo>
                  <a:lnTo>
                    <a:pt x="6195" y="2896"/>
                  </a:lnTo>
                  <a:lnTo>
                    <a:pt x="6195" y="2840"/>
                  </a:lnTo>
                  <a:lnTo>
                    <a:pt x="6195" y="2794"/>
                  </a:lnTo>
                  <a:lnTo>
                    <a:pt x="6184" y="2755"/>
                  </a:lnTo>
                  <a:lnTo>
                    <a:pt x="6172" y="2715"/>
                  </a:lnTo>
                  <a:lnTo>
                    <a:pt x="6154" y="2676"/>
                  </a:lnTo>
                  <a:lnTo>
                    <a:pt x="6143" y="2637"/>
                  </a:lnTo>
                  <a:lnTo>
                    <a:pt x="6126" y="2592"/>
                  </a:lnTo>
                  <a:lnTo>
                    <a:pt x="6120" y="2547"/>
                  </a:lnTo>
                  <a:lnTo>
                    <a:pt x="6114" y="2502"/>
                  </a:lnTo>
                  <a:lnTo>
                    <a:pt x="6131" y="2462"/>
                  </a:lnTo>
                  <a:lnTo>
                    <a:pt x="6154" y="2423"/>
                  </a:lnTo>
                  <a:lnTo>
                    <a:pt x="6195" y="2389"/>
                  </a:lnTo>
                  <a:lnTo>
                    <a:pt x="6235" y="2356"/>
                  </a:lnTo>
                  <a:lnTo>
                    <a:pt x="6276" y="2322"/>
                  </a:lnTo>
                  <a:lnTo>
                    <a:pt x="6288" y="2271"/>
                  </a:lnTo>
                  <a:lnTo>
                    <a:pt x="6294" y="2232"/>
                  </a:lnTo>
                  <a:lnTo>
                    <a:pt x="6300" y="2187"/>
                  </a:lnTo>
                  <a:lnTo>
                    <a:pt x="6318" y="2143"/>
                  </a:lnTo>
                  <a:lnTo>
                    <a:pt x="6126" y="2018"/>
                  </a:lnTo>
                  <a:lnTo>
                    <a:pt x="6062" y="1817"/>
                  </a:lnTo>
                  <a:lnTo>
                    <a:pt x="6096" y="1569"/>
                  </a:lnTo>
                  <a:lnTo>
                    <a:pt x="6207" y="1332"/>
                  </a:lnTo>
                  <a:lnTo>
                    <a:pt x="6364" y="1147"/>
                  </a:lnTo>
                  <a:lnTo>
                    <a:pt x="6544" y="1079"/>
                  </a:lnTo>
                  <a:lnTo>
                    <a:pt x="6719" y="1158"/>
                  </a:lnTo>
                  <a:lnTo>
                    <a:pt x="6876" y="1445"/>
                  </a:lnTo>
                  <a:lnTo>
                    <a:pt x="6876" y="1451"/>
                  </a:lnTo>
                  <a:lnTo>
                    <a:pt x="6876" y="1479"/>
                  </a:lnTo>
                  <a:lnTo>
                    <a:pt x="6876" y="1506"/>
                  </a:lnTo>
                  <a:lnTo>
                    <a:pt x="6876" y="1535"/>
                  </a:lnTo>
                  <a:lnTo>
                    <a:pt x="6869" y="1597"/>
                  </a:lnTo>
                  <a:lnTo>
                    <a:pt x="6869" y="1658"/>
                  </a:lnTo>
                  <a:lnTo>
                    <a:pt x="6863" y="1721"/>
                  </a:lnTo>
                  <a:lnTo>
                    <a:pt x="6863" y="1783"/>
                  </a:lnTo>
                  <a:lnTo>
                    <a:pt x="6851" y="1839"/>
                  </a:lnTo>
                  <a:lnTo>
                    <a:pt x="6840" y="1895"/>
                  </a:lnTo>
                  <a:lnTo>
                    <a:pt x="6823" y="1945"/>
                  </a:lnTo>
                  <a:lnTo>
                    <a:pt x="6805" y="1996"/>
                  </a:lnTo>
                  <a:lnTo>
                    <a:pt x="6765" y="2035"/>
                  </a:lnTo>
                  <a:lnTo>
                    <a:pt x="6719" y="2080"/>
                  </a:lnTo>
                  <a:lnTo>
                    <a:pt x="6671" y="2126"/>
                  </a:lnTo>
                  <a:lnTo>
                    <a:pt x="6648" y="2182"/>
                  </a:lnTo>
                  <a:lnTo>
                    <a:pt x="6648" y="2204"/>
                  </a:lnTo>
                  <a:lnTo>
                    <a:pt x="6671" y="2254"/>
                  </a:lnTo>
                  <a:lnTo>
                    <a:pt x="6706" y="2311"/>
                  </a:lnTo>
                  <a:lnTo>
                    <a:pt x="6742" y="2362"/>
                  </a:lnTo>
                  <a:lnTo>
                    <a:pt x="6782" y="2413"/>
                  </a:lnTo>
                  <a:lnTo>
                    <a:pt x="6823" y="2462"/>
                  </a:lnTo>
                  <a:lnTo>
                    <a:pt x="6863" y="2513"/>
                  </a:lnTo>
                  <a:lnTo>
                    <a:pt x="6893" y="2563"/>
                  </a:lnTo>
                  <a:lnTo>
                    <a:pt x="6927" y="2631"/>
                  </a:lnTo>
                  <a:lnTo>
                    <a:pt x="6950" y="2705"/>
                  </a:lnTo>
                  <a:lnTo>
                    <a:pt x="6974" y="2789"/>
                  </a:lnTo>
                  <a:lnTo>
                    <a:pt x="6991" y="2879"/>
                  </a:lnTo>
                  <a:lnTo>
                    <a:pt x="7015" y="2969"/>
                  </a:lnTo>
                  <a:lnTo>
                    <a:pt x="7033" y="3053"/>
                  </a:lnTo>
                  <a:lnTo>
                    <a:pt x="7049" y="3137"/>
                  </a:lnTo>
                  <a:lnTo>
                    <a:pt x="7067" y="3210"/>
                  </a:lnTo>
                  <a:lnTo>
                    <a:pt x="7102" y="3284"/>
                  </a:lnTo>
                  <a:lnTo>
                    <a:pt x="7148" y="3284"/>
                  </a:lnTo>
                  <a:lnTo>
                    <a:pt x="7201" y="3289"/>
                  </a:lnTo>
                  <a:lnTo>
                    <a:pt x="7224" y="3284"/>
                  </a:lnTo>
                  <a:lnTo>
                    <a:pt x="7253" y="3284"/>
                  </a:lnTo>
                  <a:lnTo>
                    <a:pt x="7282" y="3284"/>
                  </a:lnTo>
                  <a:lnTo>
                    <a:pt x="7317" y="3284"/>
                  </a:lnTo>
                  <a:lnTo>
                    <a:pt x="7335" y="3250"/>
                  </a:lnTo>
                  <a:lnTo>
                    <a:pt x="7352" y="3222"/>
                  </a:lnTo>
                  <a:lnTo>
                    <a:pt x="7410" y="3075"/>
                  </a:lnTo>
                  <a:lnTo>
                    <a:pt x="7474" y="2940"/>
                  </a:lnTo>
                  <a:lnTo>
                    <a:pt x="7532" y="2806"/>
                  </a:lnTo>
                  <a:lnTo>
                    <a:pt x="7596" y="2688"/>
                  </a:lnTo>
                  <a:lnTo>
                    <a:pt x="7654" y="2563"/>
                  </a:lnTo>
                  <a:lnTo>
                    <a:pt x="7730" y="2452"/>
                  </a:lnTo>
                  <a:lnTo>
                    <a:pt x="7804" y="2350"/>
                  </a:lnTo>
                  <a:lnTo>
                    <a:pt x="7903" y="2254"/>
                  </a:lnTo>
                  <a:lnTo>
                    <a:pt x="7898" y="2215"/>
                  </a:lnTo>
                  <a:lnTo>
                    <a:pt x="7875" y="2176"/>
                  </a:lnTo>
                  <a:lnTo>
                    <a:pt x="7840" y="2136"/>
                  </a:lnTo>
                  <a:lnTo>
                    <a:pt x="7822" y="2114"/>
                  </a:lnTo>
                  <a:lnTo>
                    <a:pt x="7747" y="1991"/>
                  </a:lnTo>
                  <a:lnTo>
                    <a:pt x="7695" y="1849"/>
                  </a:lnTo>
                  <a:lnTo>
                    <a:pt x="7665" y="1692"/>
                  </a:lnTo>
                  <a:lnTo>
                    <a:pt x="7660" y="1540"/>
                  </a:lnTo>
                  <a:lnTo>
                    <a:pt x="7677" y="1388"/>
                  </a:lnTo>
                  <a:lnTo>
                    <a:pt x="7730" y="1254"/>
                  </a:lnTo>
                  <a:lnTo>
                    <a:pt x="7817" y="1147"/>
                  </a:lnTo>
                  <a:lnTo>
                    <a:pt x="7938" y="1074"/>
                  </a:lnTo>
                  <a:lnTo>
                    <a:pt x="7968" y="1057"/>
                  </a:lnTo>
                  <a:lnTo>
                    <a:pt x="8002" y="1040"/>
                  </a:lnTo>
                  <a:lnTo>
                    <a:pt x="8037" y="1029"/>
                  </a:lnTo>
                  <a:lnTo>
                    <a:pt x="8072" y="1029"/>
                  </a:lnTo>
                  <a:lnTo>
                    <a:pt x="8107" y="1023"/>
                  </a:lnTo>
                  <a:lnTo>
                    <a:pt x="8142" y="1029"/>
                  </a:lnTo>
                  <a:lnTo>
                    <a:pt x="8177" y="1029"/>
                  </a:lnTo>
                  <a:lnTo>
                    <a:pt x="8217" y="1045"/>
                  </a:lnTo>
                  <a:lnTo>
                    <a:pt x="8247" y="1057"/>
                  </a:lnTo>
                  <a:lnTo>
                    <a:pt x="8275" y="1074"/>
                  </a:lnTo>
                  <a:lnTo>
                    <a:pt x="8299" y="1096"/>
                  </a:lnTo>
                  <a:lnTo>
                    <a:pt x="8328" y="1125"/>
                  </a:lnTo>
                  <a:lnTo>
                    <a:pt x="8346" y="1147"/>
                  </a:lnTo>
                  <a:lnTo>
                    <a:pt x="8363" y="1180"/>
                  </a:lnTo>
                  <a:lnTo>
                    <a:pt x="8374" y="1214"/>
                  </a:lnTo>
                  <a:lnTo>
                    <a:pt x="8392" y="1248"/>
                  </a:lnTo>
                  <a:lnTo>
                    <a:pt x="8409" y="1344"/>
                  </a:lnTo>
                  <a:lnTo>
                    <a:pt x="8427" y="1445"/>
                  </a:lnTo>
                  <a:lnTo>
                    <a:pt x="8433" y="1552"/>
                  </a:lnTo>
                  <a:lnTo>
                    <a:pt x="8433" y="1665"/>
                  </a:lnTo>
                  <a:lnTo>
                    <a:pt x="8415" y="1766"/>
                  </a:lnTo>
                  <a:lnTo>
                    <a:pt x="8404" y="1872"/>
                  </a:lnTo>
                  <a:lnTo>
                    <a:pt x="8369" y="1962"/>
                  </a:lnTo>
                  <a:lnTo>
                    <a:pt x="8339" y="2047"/>
                  </a:lnTo>
                  <a:lnTo>
                    <a:pt x="8311" y="2075"/>
                  </a:lnTo>
                  <a:lnTo>
                    <a:pt x="8270" y="2114"/>
                  </a:lnTo>
                  <a:lnTo>
                    <a:pt x="8235" y="2148"/>
                  </a:lnTo>
                  <a:lnTo>
                    <a:pt x="8217" y="2182"/>
                  </a:lnTo>
                  <a:lnTo>
                    <a:pt x="8217" y="2221"/>
                  </a:lnTo>
                  <a:lnTo>
                    <a:pt x="8235" y="2278"/>
                  </a:lnTo>
                  <a:lnTo>
                    <a:pt x="8252" y="2322"/>
                  </a:lnTo>
                  <a:lnTo>
                    <a:pt x="8275" y="2362"/>
                  </a:lnTo>
                  <a:lnTo>
                    <a:pt x="8316" y="2350"/>
                  </a:lnTo>
                  <a:lnTo>
                    <a:pt x="8374" y="2356"/>
                  </a:lnTo>
                  <a:lnTo>
                    <a:pt x="8438" y="2362"/>
                  </a:lnTo>
                  <a:lnTo>
                    <a:pt x="8508" y="2384"/>
                  </a:lnTo>
                  <a:lnTo>
                    <a:pt x="8572" y="2401"/>
                  </a:lnTo>
                  <a:lnTo>
                    <a:pt x="8630" y="2428"/>
                  </a:lnTo>
                  <a:lnTo>
                    <a:pt x="8676" y="2457"/>
                  </a:lnTo>
                  <a:lnTo>
                    <a:pt x="8711" y="2491"/>
                  </a:lnTo>
                  <a:lnTo>
                    <a:pt x="8734" y="2536"/>
                  </a:lnTo>
                  <a:lnTo>
                    <a:pt x="8764" y="2592"/>
                  </a:lnTo>
                  <a:lnTo>
                    <a:pt x="8787" y="2659"/>
                  </a:lnTo>
                  <a:lnTo>
                    <a:pt x="8816" y="2727"/>
                  </a:lnTo>
                  <a:lnTo>
                    <a:pt x="8833" y="2794"/>
                  </a:lnTo>
                  <a:lnTo>
                    <a:pt x="8856" y="2862"/>
                  </a:lnTo>
                  <a:lnTo>
                    <a:pt x="8874" y="2918"/>
                  </a:lnTo>
                  <a:lnTo>
                    <a:pt x="8898" y="2980"/>
                  </a:lnTo>
                  <a:lnTo>
                    <a:pt x="8909" y="2867"/>
                  </a:lnTo>
                  <a:lnTo>
                    <a:pt x="8921" y="2755"/>
                  </a:lnTo>
                  <a:lnTo>
                    <a:pt x="8932" y="2637"/>
                  </a:lnTo>
                  <a:lnTo>
                    <a:pt x="8950" y="2519"/>
                  </a:lnTo>
                  <a:lnTo>
                    <a:pt x="8967" y="2401"/>
                  </a:lnTo>
                  <a:lnTo>
                    <a:pt x="8985" y="2288"/>
                  </a:lnTo>
                  <a:lnTo>
                    <a:pt x="9002" y="2187"/>
                  </a:lnTo>
                  <a:lnTo>
                    <a:pt x="9031" y="2102"/>
                  </a:lnTo>
                  <a:lnTo>
                    <a:pt x="9061" y="2047"/>
                  </a:lnTo>
                  <a:lnTo>
                    <a:pt x="9136" y="1979"/>
                  </a:lnTo>
                  <a:lnTo>
                    <a:pt x="9234" y="1895"/>
                  </a:lnTo>
                  <a:lnTo>
                    <a:pt x="9350" y="1817"/>
                  </a:lnTo>
                  <a:lnTo>
                    <a:pt x="9467" y="1732"/>
                  </a:lnTo>
                  <a:lnTo>
                    <a:pt x="9589" y="1665"/>
                  </a:lnTo>
                  <a:lnTo>
                    <a:pt x="9682" y="1614"/>
                  </a:lnTo>
                  <a:lnTo>
                    <a:pt x="9763" y="1586"/>
                  </a:lnTo>
                  <a:lnTo>
                    <a:pt x="9763" y="1552"/>
                  </a:lnTo>
                  <a:lnTo>
                    <a:pt x="9781" y="1535"/>
                  </a:lnTo>
                  <a:lnTo>
                    <a:pt x="9763" y="1496"/>
                  </a:lnTo>
                  <a:lnTo>
                    <a:pt x="9752" y="1462"/>
                  </a:lnTo>
                  <a:lnTo>
                    <a:pt x="9735" y="1428"/>
                  </a:lnTo>
                  <a:lnTo>
                    <a:pt x="9717" y="1400"/>
                  </a:lnTo>
                  <a:lnTo>
                    <a:pt x="9694" y="1366"/>
                  </a:lnTo>
                  <a:lnTo>
                    <a:pt x="9670" y="1339"/>
                  </a:lnTo>
                  <a:lnTo>
                    <a:pt x="9641" y="1305"/>
                  </a:lnTo>
                  <a:lnTo>
                    <a:pt x="9618" y="1271"/>
                  </a:lnTo>
                  <a:lnTo>
                    <a:pt x="9601" y="1243"/>
                  </a:lnTo>
                  <a:lnTo>
                    <a:pt x="9583" y="1204"/>
                  </a:lnTo>
                  <a:lnTo>
                    <a:pt x="9560" y="1147"/>
                  </a:lnTo>
                  <a:lnTo>
                    <a:pt x="9543" y="1091"/>
                  </a:lnTo>
                  <a:lnTo>
                    <a:pt x="9514" y="1029"/>
                  </a:lnTo>
                  <a:lnTo>
                    <a:pt x="9490" y="978"/>
                  </a:lnTo>
                  <a:lnTo>
                    <a:pt x="9472" y="934"/>
                  </a:lnTo>
                  <a:lnTo>
                    <a:pt x="9467" y="917"/>
                  </a:lnTo>
                  <a:lnTo>
                    <a:pt x="9444" y="860"/>
                  </a:lnTo>
                  <a:lnTo>
                    <a:pt x="9444" y="792"/>
                  </a:lnTo>
                  <a:lnTo>
                    <a:pt x="9449" y="714"/>
                  </a:lnTo>
                  <a:lnTo>
                    <a:pt x="9467" y="635"/>
                  </a:lnTo>
                  <a:lnTo>
                    <a:pt x="9484" y="551"/>
                  </a:lnTo>
                  <a:lnTo>
                    <a:pt x="9502" y="489"/>
                  </a:lnTo>
                  <a:lnTo>
                    <a:pt x="9514" y="444"/>
                  </a:lnTo>
                  <a:lnTo>
                    <a:pt x="9525" y="433"/>
                  </a:lnTo>
                  <a:lnTo>
                    <a:pt x="9525" y="416"/>
                  </a:lnTo>
                  <a:lnTo>
                    <a:pt x="9531" y="382"/>
                  </a:lnTo>
                  <a:lnTo>
                    <a:pt x="9537" y="338"/>
                  </a:lnTo>
                  <a:lnTo>
                    <a:pt x="9555" y="309"/>
                  </a:lnTo>
                  <a:lnTo>
                    <a:pt x="9566" y="282"/>
                  </a:lnTo>
                  <a:lnTo>
                    <a:pt x="9601" y="236"/>
                  </a:lnTo>
                  <a:lnTo>
                    <a:pt x="9641" y="186"/>
                  </a:lnTo>
                  <a:lnTo>
                    <a:pt x="9705" y="135"/>
                  </a:lnTo>
                  <a:lnTo>
                    <a:pt x="9769" y="79"/>
                  </a:lnTo>
                  <a:lnTo>
                    <a:pt x="9839" y="34"/>
                  </a:lnTo>
                  <a:lnTo>
                    <a:pt x="9903" y="5"/>
                  </a:lnTo>
                  <a:lnTo>
                    <a:pt x="9966" y="0"/>
                  </a:lnTo>
                  <a:lnTo>
                    <a:pt x="10065" y="12"/>
                  </a:lnTo>
                  <a:lnTo>
                    <a:pt x="10164" y="45"/>
                  </a:lnTo>
                  <a:lnTo>
                    <a:pt x="10245" y="90"/>
                  </a:lnTo>
                  <a:lnTo>
                    <a:pt x="10333" y="152"/>
                  </a:lnTo>
                  <a:lnTo>
                    <a:pt x="10402" y="219"/>
                  </a:lnTo>
                  <a:lnTo>
                    <a:pt x="10461" y="299"/>
                  </a:lnTo>
                  <a:lnTo>
                    <a:pt x="10501" y="382"/>
                  </a:lnTo>
                  <a:lnTo>
                    <a:pt x="10536" y="466"/>
                  </a:lnTo>
                  <a:lnTo>
                    <a:pt x="10536" y="517"/>
                  </a:lnTo>
                  <a:lnTo>
                    <a:pt x="10536" y="574"/>
                  </a:lnTo>
                  <a:lnTo>
                    <a:pt x="10536" y="624"/>
                  </a:lnTo>
                  <a:lnTo>
                    <a:pt x="10554" y="675"/>
                  </a:lnTo>
                  <a:lnTo>
                    <a:pt x="10566" y="680"/>
                  </a:lnTo>
                  <a:lnTo>
                    <a:pt x="10589" y="692"/>
                  </a:lnTo>
                  <a:lnTo>
                    <a:pt x="10607" y="697"/>
                  </a:lnTo>
                  <a:lnTo>
                    <a:pt x="10630" y="709"/>
                  </a:lnTo>
                  <a:lnTo>
                    <a:pt x="10630" y="736"/>
                  </a:lnTo>
                  <a:lnTo>
                    <a:pt x="10630" y="770"/>
                  </a:lnTo>
                  <a:lnTo>
                    <a:pt x="10630" y="809"/>
                  </a:lnTo>
                  <a:lnTo>
                    <a:pt x="10635" y="849"/>
                  </a:lnTo>
                  <a:lnTo>
                    <a:pt x="10635" y="888"/>
                  </a:lnTo>
                  <a:lnTo>
                    <a:pt x="10635" y="927"/>
                  </a:lnTo>
                  <a:lnTo>
                    <a:pt x="10630" y="961"/>
                  </a:lnTo>
                  <a:lnTo>
                    <a:pt x="10630" y="995"/>
                  </a:lnTo>
                  <a:lnTo>
                    <a:pt x="10607" y="1012"/>
                  </a:lnTo>
                  <a:lnTo>
                    <a:pt x="10577" y="1035"/>
                  </a:lnTo>
                  <a:lnTo>
                    <a:pt x="10548" y="1052"/>
                  </a:lnTo>
                  <a:lnTo>
                    <a:pt x="10524" y="1074"/>
                  </a:lnTo>
                  <a:lnTo>
                    <a:pt x="10496" y="1108"/>
                  </a:lnTo>
                  <a:lnTo>
                    <a:pt x="10484" y="1153"/>
                  </a:lnTo>
                  <a:lnTo>
                    <a:pt x="10461" y="1192"/>
                  </a:lnTo>
                  <a:lnTo>
                    <a:pt x="10443" y="1237"/>
                  </a:lnTo>
                  <a:lnTo>
                    <a:pt x="10409" y="1265"/>
                  </a:lnTo>
                  <a:lnTo>
                    <a:pt x="10374" y="1299"/>
                  </a:lnTo>
                  <a:lnTo>
                    <a:pt x="10339" y="1327"/>
                  </a:lnTo>
                  <a:lnTo>
                    <a:pt x="10303" y="1361"/>
                  </a:lnTo>
                  <a:lnTo>
                    <a:pt x="10269" y="1388"/>
                  </a:lnTo>
                  <a:lnTo>
                    <a:pt x="10245" y="1422"/>
                  </a:lnTo>
                  <a:lnTo>
                    <a:pt x="10222" y="1456"/>
                  </a:lnTo>
                  <a:lnTo>
                    <a:pt x="10217" y="1513"/>
                  </a:lnTo>
                  <a:lnTo>
                    <a:pt x="10275" y="1546"/>
                  </a:lnTo>
                  <a:lnTo>
                    <a:pt x="10362" y="1608"/>
                  </a:lnTo>
                  <a:lnTo>
                    <a:pt x="10461" y="1675"/>
                  </a:lnTo>
                  <a:lnTo>
                    <a:pt x="10571" y="1760"/>
                  </a:lnTo>
                  <a:lnTo>
                    <a:pt x="10670" y="1832"/>
                  </a:lnTo>
                  <a:lnTo>
                    <a:pt x="10762" y="1912"/>
                  </a:lnTo>
                  <a:lnTo>
                    <a:pt x="10827" y="1979"/>
                  </a:lnTo>
                  <a:lnTo>
                    <a:pt x="10868" y="2035"/>
                  </a:lnTo>
                  <a:lnTo>
                    <a:pt x="10896" y="2119"/>
                  </a:lnTo>
                  <a:lnTo>
                    <a:pt x="10919" y="2210"/>
                  </a:lnTo>
                  <a:lnTo>
                    <a:pt x="10932" y="2305"/>
                  </a:lnTo>
                  <a:lnTo>
                    <a:pt x="10944" y="2406"/>
                  </a:lnTo>
                  <a:lnTo>
                    <a:pt x="10944" y="2502"/>
                  </a:lnTo>
                  <a:lnTo>
                    <a:pt x="10944" y="2604"/>
                  </a:lnTo>
                  <a:lnTo>
                    <a:pt x="10949" y="2699"/>
                  </a:lnTo>
                  <a:lnTo>
                    <a:pt x="10967" y="2794"/>
                  </a:lnTo>
                  <a:lnTo>
                    <a:pt x="10967" y="2850"/>
                  </a:lnTo>
                  <a:lnTo>
                    <a:pt x="10984" y="2918"/>
                  </a:lnTo>
                  <a:lnTo>
                    <a:pt x="11001" y="2991"/>
                  </a:lnTo>
                  <a:lnTo>
                    <a:pt x="11018" y="3070"/>
                  </a:lnTo>
                  <a:lnTo>
                    <a:pt x="11030" y="3143"/>
                  </a:lnTo>
                  <a:lnTo>
                    <a:pt x="11048" y="3216"/>
                  </a:lnTo>
                  <a:lnTo>
                    <a:pt x="11059" y="3278"/>
                  </a:lnTo>
                  <a:lnTo>
                    <a:pt x="11071" y="3340"/>
                  </a:lnTo>
                  <a:lnTo>
                    <a:pt x="11066" y="3362"/>
                  </a:lnTo>
                  <a:lnTo>
                    <a:pt x="11059" y="3396"/>
                  </a:lnTo>
                  <a:lnTo>
                    <a:pt x="11048" y="3430"/>
                  </a:lnTo>
                  <a:lnTo>
                    <a:pt x="11036" y="3470"/>
                  </a:lnTo>
                  <a:lnTo>
                    <a:pt x="11018" y="3502"/>
                  </a:lnTo>
                  <a:lnTo>
                    <a:pt x="11001" y="3542"/>
                  </a:lnTo>
                  <a:lnTo>
                    <a:pt x="10990" y="3576"/>
                  </a:lnTo>
                  <a:lnTo>
                    <a:pt x="10990" y="3610"/>
                  </a:lnTo>
                  <a:lnTo>
                    <a:pt x="10978" y="3654"/>
                  </a:lnTo>
                  <a:lnTo>
                    <a:pt x="10972" y="3705"/>
                  </a:lnTo>
                  <a:lnTo>
                    <a:pt x="10972" y="3756"/>
                  </a:lnTo>
                  <a:lnTo>
                    <a:pt x="10972" y="3812"/>
                  </a:lnTo>
                  <a:lnTo>
                    <a:pt x="10967" y="3857"/>
                  </a:lnTo>
                  <a:lnTo>
                    <a:pt x="10967" y="3907"/>
                  </a:lnTo>
                  <a:lnTo>
                    <a:pt x="10967" y="3958"/>
                  </a:lnTo>
                  <a:lnTo>
                    <a:pt x="10967" y="4009"/>
                  </a:lnTo>
                  <a:lnTo>
                    <a:pt x="10955" y="4161"/>
                  </a:lnTo>
                  <a:lnTo>
                    <a:pt x="10955" y="4313"/>
                  </a:lnTo>
                  <a:lnTo>
                    <a:pt x="10960" y="4459"/>
                  </a:lnTo>
                  <a:lnTo>
                    <a:pt x="10972" y="4605"/>
                  </a:lnTo>
                  <a:lnTo>
                    <a:pt x="10978" y="4740"/>
                  </a:lnTo>
                  <a:lnTo>
                    <a:pt x="10984" y="4880"/>
                  </a:lnTo>
                  <a:lnTo>
                    <a:pt x="10978" y="5015"/>
                  </a:lnTo>
                  <a:lnTo>
                    <a:pt x="10978" y="5155"/>
                  </a:lnTo>
                  <a:lnTo>
                    <a:pt x="10937" y="5426"/>
                  </a:lnTo>
                  <a:lnTo>
                    <a:pt x="10903" y="5712"/>
                  </a:lnTo>
                  <a:lnTo>
                    <a:pt x="10856" y="6005"/>
                  </a:lnTo>
                  <a:lnTo>
                    <a:pt x="10827" y="6303"/>
                  </a:lnTo>
                  <a:lnTo>
                    <a:pt x="10804" y="6595"/>
                  </a:lnTo>
                  <a:lnTo>
                    <a:pt x="10810" y="6888"/>
                  </a:lnTo>
                  <a:lnTo>
                    <a:pt x="10838" y="7175"/>
                  </a:lnTo>
                  <a:lnTo>
                    <a:pt x="10908" y="7461"/>
                  </a:lnTo>
                  <a:lnTo>
                    <a:pt x="10861" y="7461"/>
                  </a:lnTo>
                  <a:lnTo>
                    <a:pt x="10821" y="7467"/>
                  </a:lnTo>
                  <a:lnTo>
                    <a:pt x="10780" y="7467"/>
                  </a:lnTo>
                  <a:lnTo>
                    <a:pt x="10739" y="7472"/>
                  </a:lnTo>
                  <a:lnTo>
                    <a:pt x="10693" y="7467"/>
                  </a:lnTo>
                  <a:lnTo>
                    <a:pt x="10653" y="7461"/>
                  </a:lnTo>
                  <a:lnTo>
                    <a:pt x="10607" y="7455"/>
                  </a:lnTo>
                  <a:lnTo>
                    <a:pt x="10566" y="7450"/>
                  </a:lnTo>
                  <a:lnTo>
                    <a:pt x="10566" y="7461"/>
                  </a:lnTo>
                  <a:lnTo>
                    <a:pt x="10566" y="7484"/>
                  </a:lnTo>
                  <a:lnTo>
                    <a:pt x="10566" y="7506"/>
                  </a:lnTo>
                  <a:lnTo>
                    <a:pt x="10566" y="7523"/>
                  </a:lnTo>
                  <a:lnTo>
                    <a:pt x="10612" y="7523"/>
                  </a:lnTo>
                  <a:lnTo>
                    <a:pt x="10658" y="7534"/>
                  </a:lnTo>
                  <a:lnTo>
                    <a:pt x="10705" y="7540"/>
                  </a:lnTo>
                  <a:lnTo>
                    <a:pt x="10751" y="7551"/>
                  </a:lnTo>
                  <a:lnTo>
                    <a:pt x="10792" y="7556"/>
                  </a:lnTo>
                  <a:lnTo>
                    <a:pt x="10838" y="7568"/>
                  </a:lnTo>
                  <a:lnTo>
                    <a:pt x="10879" y="7573"/>
                  </a:lnTo>
                  <a:lnTo>
                    <a:pt x="10926" y="7590"/>
                  </a:lnTo>
                  <a:lnTo>
                    <a:pt x="10926" y="7619"/>
                  </a:lnTo>
                  <a:lnTo>
                    <a:pt x="10926" y="7647"/>
                  </a:lnTo>
                  <a:lnTo>
                    <a:pt x="10926" y="7669"/>
                  </a:lnTo>
                  <a:lnTo>
                    <a:pt x="10932" y="7698"/>
                  </a:lnTo>
                  <a:lnTo>
                    <a:pt x="10932" y="7742"/>
                  </a:lnTo>
                  <a:lnTo>
                    <a:pt x="10949" y="7798"/>
                  </a:lnTo>
                  <a:lnTo>
                    <a:pt x="10850" y="7798"/>
                  </a:lnTo>
                  <a:lnTo>
                    <a:pt x="10705" y="7810"/>
                  </a:lnTo>
                  <a:lnTo>
                    <a:pt x="10536" y="7821"/>
                  </a:lnTo>
                  <a:lnTo>
                    <a:pt x="10356" y="7838"/>
                  </a:lnTo>
                  <a:lnTo>
                    <a:pt x="10176" y="7838"/>
                  </a:lnTo>
                  <a:lnTo>
                    <a:pt x="10031" y="7832"/>
                  </a:lnTo>
                  <a:lnTo>
                    <a:pt x="9915" y="7815"/>
                  </a:lnTo>
                  <a:lnTo>
                    <a:pt x="9868" y="7781"/>
                  </a:lnTo>
                  <a:lnTo>
                    <a:pt x="9851" y="7747"/>
                  </a:lnTo>
                  <a:lnTo>
                    <a:pt x="9845" y="7715"/>
                  </a:lnTo>
                  <a:lnTo>
                    <a:pt x="9845" y="7681"/>
                  </a:lnTo>
                  <a:lnTo>
                    <a:pt x="9845" y="7647"/>
                  </a:lnTo>
                  <a:lnTo>
                    <a:pt x="9839" y="7613"/>
                  </a:lnTo>
                  <a:lnTo>
                    <a:pt x="9839" y="7580"/>
                  </a:lnTo>
                  <a:lnTo>
                    <a:pt x="9834" y="7551"/>
                  </a:lnTo>
                  <a:lnTo>
                    <a:pt x="9834" y="7534"/>
                  </a:lnTo>
                  <a:lnTo>
                    <a:pt x="9816" y="7580"/>
                  </a:lnTo>
                  <a:lnTo>
                    <a:pt x="9804" y="7630"/>
                  </a:lnTo>
                  <a:lnTo>
                    <a:pt x="9786" y="7686"/>
                  </a:lnTo>
                  <a:lnTo>
                    <a:pt x="9775" y="7742"/>
                  </a:lnTo>
                  <a:lnTo>
                    <a:pt x="9758" y="7793"/>
                  </a:lnTo>
                  <a:lnTo>
                    <a:pt x="9746" y="7849"/>
                  </a:lnTo>
                  <a:lnTo>
                    <a:pt x="9735" y="7899"/>
                  </a:lnTo>
                  <a:lnTo>
                    <a:pt x="9728" y="7950"/>
                  </a:lnTo>
                  <a:lnTo>
                    <a:pt x="9682" y="7945"/>
                  </a:lnTo>
                  <a:lnTo>
                    <a:pt x="9636" y="7939"/>
                  </a:lnTo>
                  <a:lnTo>
                    <a:pt x="9595" y="7933"/>
                  </a:lnTo>
                  <a:lnTo>
                    <a:pt x="9566" y="7933"/>
                  </a:lnTo>
                  <a:lnTo>
                    <a:pt x="9555" y="7933"/>
                  </a:lnTo>
                  <a:lnTo>
                    <a:pt x="9531" y="7939"/>
                  </a:lnTo>
                  <a:lnTo>
                    <a:pt x="9502" y="7933"/>
                  </a:lnTo>
                  <a:lnTo>
                    <a:pt x="9472" y="7933"/>
                  </a:lnTo>
                  <a:lnTo>
                    <a:pt x="9438" y="7911"/>
                  </a:lnTo>
                  <a:lnTo>
                    <a:pt x="9415" y="7882"/>
                  </a:lnTo>
                  <a:lnTo>
                    <a:pt x="9391" y="7843"/>
                  </a:lnTo>
                  <a:lnTo>
                    <a:pt x="9368" y="7821"/>
                  </a:lnTo>
                  <a:lnTo>
                    <a:pt x="9304" y="7781"/>
                  </a:lnTo>
                  <a:lnTo>
                    <a:pt x="9246" y="7754"/>
                  </a:lnTo>
                  <a:lnTo>
                    <a:pt x="9188" y="7720"/>
                  </a:lnTo>
                  <a:lnTo>
                    <a:pt x="9142" y="7681"/>
                  </a:lnTo>
                  <a:lnTo>
                    <a:pt x="9142" y="7658"/>
                  </a:lnTo>
                  <a:lnTo>
                    <a:pt x="9147" y="7619"/>
                  </a:lnTo>
                  <a:lnTo>
                    <a:pt x="9159" y="7563"/>
                  </a:lnTo>
                  <a:lnTo>
                    <a:pt x="9170" y="7501"/>
                  </a:lnTo>
                  <a:lnTo>
                    <a:pt x="9170" y="7433"/>
                  </a:lnTo>
                  <a:lnTo>
                    <a:pt x="9177" y="7366"/>
                  </a:lnTo>
                  <a:lnTo>
                    <a:pt x="9170" y="7298"/>
                  </a:lnTo>
                  <a:lnTo>
                    <a:pt x="9165" y="7254"/>
                  </a:lnTo>
                  <a:lnTo>
                    <a:pt x="9142" y="7225"/>
                  </a:lnTo>
                  <a:lnTo>
                    <a:pt x="9112" y="7208"/>
                  </a:lnTo>
                  <a:lnTo>
                    <a:pt x="9095" y="7191"/>
                  </a:lnTo>
                  <a:lnTo>
                    <a:pt x="9089" y="7180"/>
                  </a:lnTo>
                  <a:lnTo>
                    <a:pt x="9084" y="7158"/>
                  </a:lnTo>
                  <a:lnTo>
                    <a:pt x="9084" y="7135"/>
                  </a:lnTo>
                  <a:lnTo>
                    <a:pt x="9084" y="7068"/>
                  </a:lnTo>
                  <a:lnTo>
                    <a:pt x="9095" y="7006"/>
                  </a:lnTo>
                  <a:lnTo>
                    <a:pt x="9101" y="6933"/>
                  </a:lnTo>
                  <a:lnTo>
                    <a:pt x="9119" y="6859"/>
                  </a:lnTo>
                  <a:lnTo>
                    <a:pt x="9130" y="6781"/>
                  </a:lnTo>
                  <a:lnTo>
                    <a:pt x="9147" y="6707"/>
                  </a:lnTo>
                  <a:lnTo>
                    <a:pt x="9159" y="6634"/>
                  </a:lnTo>
                  <a:lnTo>
                    <a:pt x="9177" y="6573"/>
                  </a:lnTo>
                  <a:lnTo>
                    <a:pt x="9205" y="6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5820120" y="4852800"/>
              <a:ext cx="122760" cy="278640"/>
            </a:xfrm>
            <a:custGeom>
              <a:avLst/>
              <a:gdLst/>
              <a:ahLst/>
              <a:rect l="l" t="t" r="r" b="b"/>
              <a:pathLst>
                <a:path w="575" h="1197">
                  <a:moveTo>
                    <a:pt x="291" y="106"/>
                  </a:moveTo>
                  <a:lnTo>
                    <a:pt x="314" y="140"/>
                  </a:lnTo>
                  <a:lnTo>
                    <a:pt x="349" y="157"/>
                  </a:lnTo>
                  <a:lnTo>
                    <a:pt x="390" y="157"/>
                  </a:lnTo>
                  <a:lnTo>
                    <a:pt x="431" y="147"/>
                  </a:lnTo>
                  <a:lnTo>
                    <a:pt x="466" y="118"/>
                  </a:lnTo>
                  <a:lnTo>
                    <a:pt x="506" y="84"/>
                  </a:lnTo>
                  <a:lnTo>
                    <a:pt x="535" y="39"/>
                  </a:lnTo>
                  <a:lnTo>
                    <a:pt x="565" y="0"/>
                  </a:lnTo>
                  <a:lnTo>
                    <a:pt x="565" y="34"/>
                  </a:lnTo>
                  <a:lnTo>
                    <a:pt x="570" y="79"/>
                  </a:lnTo>
                  <a:lnTo>
                    <a:pt x="570" y="118"/>
                  </a:lnTo>
                  <a:lnTo>
                    <a:pt x="575" y="140"/>
                  </a:lnTo>
                  <a:lnTo>
                    <a:pt x="541" y="157"/>
                  </a:lnTo>
                  <a:lnTo>
                    <a:pt x="517" y="186"/>
                  </a:lnTo>
                  <a:lnTo>
                    <a:pt x="494" y="214"/>
                  </a:lnTo>
                  <a:lnTo>
                    <a:pt x="471" y="242"/>
                  </a:lnTo>
                  <a:lnTo>
                    <a:pt x="425" y="275"/>
                  </a:lnTo>
                  <a:lnTo>
                    <a:pt x="384" y="321"/>
                  </a:lnTo>
                  <a:lnTo>
                    <a:pt x="349" y="371"/>
                  </a:lnTo>
                  <a:lnTo>
                    <a:pt x="337" y="427"/>
                  </a:lnTo>
                  <a:lnTo>
                    <a:pt x="332" y="461"/>
                  </a:lnTo>
                  <a:lnTo>
                    <a:pt x="332" y="506"/>
                  </a:lnTo>
                  <a:lnTo>
                    <a:pt x="332" y="545"/>
                  </a:lnTo>
                  <a:lnTo>
                    <a:pt x="337" y="596"/>
                  </a:lnTo>
                  <a:lnTo>
                    <a:pt x="337" y="641"/>
                  </a:lnTo>
                  <a:lnTo>
                    <a:pt x="344" y="686"/>
                  </a:lnTo>
                  <a:lnTo>
                    <a:pt x="344" y="731"/>
                  </a:lnTo>
                  <a:lnTo>
                    <a:pt x="349" y="776"/>
                  </a:lnTo>
                  <a:lnTo>
                    <a:pt x="355" y="776"/>
                  </a:lnTo>
                  <a:lnTo>
                    <a:pt x="378" y="776"/>
                  </a:lnTo>
                  <a:lnTo>
                    <a:pt x="395" y="782"/>
                  </a:lnTo>
                  <a:lnTo>
                    <a:pt x="413" y="787"/>
                  </a:lnTo>
                  <a:lnTo>
                    <a:pt x="413" y="793"/>
                  </a:lnTo>
                  <a:lnTo>
                    <a:pt x="418" y="815"/>
                  </a:lnTo>
                  <a:lnTo>
                    <a:pt x="418" y="832"/>
                  </a:lnTo>
                  <a:lnTo>
                    <a:pt x="413" y="838"/>
                  </a:lnTo>
                  <a:lnTo>
                    <a:pt x="395" y="961"/>
                  </a:lnTo>
                  <a:lnTo>
                    <a:pt x="384" y="1062"/>
                  </a:lnTo>
                  <a:lnTo>
                    <a:pt x="367" y="1124"/>
                  </a:lnTo>
                  <a:lnTo>
                    <a:pt x="344" y="1170"/>
                  </a:lnTo>
                  <a:lnTo>
                    <a:pt x="291" y="1192"/>
                  </a:lnTo>
                  <a:lnTo>
                    <a:pt x="221" y="1197"/>
                  </a:lnTo>
                  <a:lnTo>
                    <a:pt x="129" y="1187"/>
                  </a:lnTo>
                  <a:lnTo>
                    <a:pt x="0" y="1175"/>
                  </a:lnTo>
                  <a:lnTo>
                    <a:pt x="0" y="1119"/>
                  </a:lnTo>
                  <a:lnTo>
                    <a:pt x="7" y="1062"/>
                  </a:lnTo>
                  <a:lnTo>
                    <a:pt x="7" y="1006"/>
                  </a:lnTo>
                  <a:lnTo>
                    <a:pt x="12" y="950"/>
                  </a:lnTo>
                  <a:lnTo>
                    <a:pt x="12" y="888"/>
                  </a:lnTo>
                  <a:lnTo>
                    <a:pt x="12" y="832"/>
                  </a:lnTo>
                  <a:lnTo>
                    <a:pt x="18" y="770"/>
                  </a:lnTo>
                  <a:lnTo>
                    <a:pt x="30" y="719"/>
                  </a:lnTo>
                  <a:lnTo>
                    <a:pt x="65" y="714"/>
                  </a:lnTo>
                  <a:lnTo>
                    <a:pt x="99" y="709"/>
                  </a:lnTo>
                  <a:lnTo>
                    <a:pt x="81" y="608"/>
                  </a:lnTo>
                  <a:lnTo>
                    <a:pt x="76" y="523"/>
                  </a:lnTo>
                  <a:lnTo>
                    <a:pt x="76" y="439"/>
                  </a:lnTo>
                  <a:lnTo>
                    <a:pt x="88" y="371"/>
                  </a:lnTo>
                  <a:lnTo>
                    <a:pt x="99" y="297"/>
                  </a:lnTo>
                  <a:lnTo>
                    <a:pt x="122" y="236"/>
                  </a:lnTo>
                  <a:lnTo>
                    <a:pt x="157" y="174"/>
                  </a:lnTo>
                  <a:lnTo>
                    <a:pt x="198" y="118"/>
                  </a:lnTo>
                  <a:lnTo>
                    <a:pt x="291" y="106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7823520" y="4511520"/>
              <a:ext cx="204120" cy="305640"/>
            </a:xfrm>
            <a:custGeom>
              <a:avLst/>
              <a:gdLst/>
              <a:ahLst/>
              <a:rect l="l" t="t" r="r" b="b"/>
              <a:pathLst>
                <a:path w="947" h="1310">
                  <a:moveTo>
                    <a:pt x="412" y="0"/>
                  </a:moveTo>
                  <a:lnTo>
                    <a:pt x="243" y="79"/>
                  </a:lnTo>
                  <a:lnTo>
                    <a:pt x="116" y="253"/>
                  </a:lnTo>
                  <a:lnTo>
                    <a:pt x="28" y="477"/>
                  </a:lnTo>
                  <a:lnTo>
                    <a:pt x="0" y="731"/>
                  </a:lnTo>
                  <a:lnTo>
                    <a:pt x="17" y="967"/>
                  </a:lnTo>
                  <a:lnTo>
                    <a:pt x="110" y="1163"/>
                  </a:lnTo>
                  <a:lnTo>
                    <a:pt x="266" y="1288"/>
                  </a:lnTo>
                  <a:lnTo>
                    <a:pt x="517" y="1310"/>
                  </a:lnTo>
                  <a:lnTo>
                    <a:pt x="732" y="1214"/>
                  </a:lnTo>
                  <a:lnTo>
                    <a:pt x="877" y="1040"/>
                  </a:lnTo>
                  <a:lnTo>
                    <a:pt x="941" y="809"/>
                  </a:lnTo>
                  <a:lnTo>
                    <a:pt x="947" y="567"/>
                  </a:lnTo>
                  <a:lnTo>
                    <a:pt x="883" y="331"/>
                  </a:lnTo>
                  <a:lnTo>
                    <a:pt x="773" y="140"/>
                  </a:lnTo>
                  <a:lnTo>
                    <a:pt x="610" y="16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431840" y="4748040"/>
              <a:ext cx="140760" cy="251280"/>
            </a:xfrm>
            <a:custGeom>
              <a:avLst/>
              <a:gdLst/>
              <a:ahLst/>
              <a:rect l="l" t="t" r="r" b="b"/>
              <a:pathLst>
                <a:path w="651" h="1080">
                  <a:moveTo>
                    <a:pt x="390" y="0"/>
                  </a:moveTo>
                  <a:lnTo>
                    <a:pt x="215" y="45"/>
                  </a:lnTo>
                  <a:lnTo>
                    <a:pt x="99" y="158"/>
                  </a:lnTo>
                  <a:lnTo>
                    <a:pt x="24" y="310"/>
                  </a:lnTo>
                  <a:lnTo>
                    <a:pt x="0" y="495"/>
                  </a:lnTo>
                  <a:lnTo>
                    <a:pt x="0" y="675"/>
                  </a:lnTo>
                  <a:lnTo>
                    <a:pt x="53" y="849"/>
                  </a:lnTo>
                  <a:lnTo>
                    <a:pt x="129" y="990"/>
                  </a:lnTo>
                  <a:lnTo>
                    <a:pt x="245" y="1080"/>
                  </a:lnTo>
                  <a:lnTo>
                    <a:pt x="256" y="1080"/>
                  </a:lnTo>
                  <a:lnTo>
                    <a:pt x="274" y="1080"/>
                  </a:lnTo>
                  <a:lnTo>
                    <a:pt x="286" y="1080"/>
                  </a:lnTo>
                  <a:lnTo>
                    <a:pt x="297" y="1080"/>
                  </a:lnTo>
                  <a:lnTo>
                    <a:pt x="448" y="1029"/>
                  </a:lnTo>
                  <a:lnTo>
                    <a:pt x="558" y="906"/>
                  </a:lnTo>
                  <a:lnTo>
                    <a:pt x="623" y="725"/>
                  </a:lnTo>
                  <a:lnTo>
                    <a:pt x="651" y="529"/>
                  </a:lnTo>
                  <a:lnTo>
                    <a:pt x="634" y="326"/>
                  </a:lnTo>
                  <a:lnTo>
                    <a:pt x="588" y="158"/>
                  </a:lnTo>
                  <a:lnTo>
                    <a:pt x="501" y="34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7101000" y="4766760"/>
              <a:ext cx="134280" cy="217800"/>
            </a:xfrm>
            <a:custGeom>
              <a:avLst/>
              <a:gdLst/>
              <a:ahLst/>
              <a:rect l="l" t="t" r="r" b="b"/>
              <a:pathLst>
                <a:path w="622" h="938">
                  <a:moveTo>
                    <a:pt x="325" y="0"/>
                  </a:moveTo>
                  <a:lnTo>
                    <a:pt x="221" y="50"/>
                  </a:lnTo>
                  <a:lnTo>
                    <a:pt x="129" y="175"/>
                  </a:lnTo>
                  <a:lnTo>
                    <a:pt x="46" y="332"/>
                  </a:lnTo>
                  <a:lnTo>
                    <a:pt x="6" y="511"/>
                  </a:lnTo>
                  <a:lnTo>
                    <a:pt x="0" y="680"/>
                  </a:lnTo>
                  <a:lnTo>
                    <a:pt x="46" y="827"/>
                  </a:lnTo>
                  <a:lnTo>
                    <a:pt x="152" y="916"/>
                  </a:lnTo>
                  <a:lnTo>
                    <a:pt x="337" y="938"/>
                  </a:lnTo>
                  <a:lnTo>
                    <a:pt x="466" y="877"/>
                  </a:lnTo>
                  <a:lnTo>
                    <a:pt x="558" y="753"/>
                  </a:lnTo>
                  <a:lnTo>
                    <a:pt x="605" y="590"/>
                  </a:lnTo>
                  <a:lnTo>
                    <a:pt x="622" y="416"/>
                  </a:lnTo>
                  <a:lnTo>
                    <a:pt x="593" y="241"/>
                  </a:lnTo>
                  <a:lnTo>
                    <a:pt x="541" y="101"/>
                  </a:lnTo>
                  <a:lnTo>
                    <a:pt x="448" y="11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6273720" y="4780080"/>
              <a:ext cx="82440" cy="135360"/>
            </a:xfrm>
            <a:custGeom>
              <a:avLst/>
              <a:gdLst/>
              <a:ahLst/>
              <a:rect l="l" t="t" r="r" b="b"/>
              <a:pathLst>
                <a:path w="384" h="579">
                  <a:moveTo>
                    <a:pt x="209" y="0"/>
                  </a:moveTo>
                  <a:lnTo>
                    <a:pt x="133" y="22"/>
                  </a:lnTo>
                  <a:lnTo>
                    <a:pt x="70" y="90"/>
                  </a:lnTo>
                  <a:lnTo>
                    <a:pt x="24" y="174"/>
                  </a:lnTo>
                  <a:lnTo>
                    <a:pt x="6" y="280"/>
                  </a:lnTo>
                  <a:lnTo>
                    <a:pt x="0" y="382"/>
                  </a:lnTo>
                  <a:lnTo>
                    <a:pt x="24" y="478"/>
                  </a:lnTo>
                  <a:lnTo>
                    <a:pt x="75" y="545"/>
                  </a:lnTo>
                  <a:lnTo>
                    <a:pt x="168" y="579"/>
                  </a:lnTo>
                  <a:lnTo>
                    <a:pt x="239" y="551"/>
                  </a:lnTo>
                  <a:lnTo>
                    <a:pt x="302" y="489"/>
                  </a:lnTo>
                  <a:lnTo>
                    <a:pt x="349" y="393"/>
                  </a:lnTo>
                  <a:lnTo>
                    <a:pt x="384" y="287"/>
                  </a:lnTo>
                  <a:lnTo>
                    <a:pt x="384" y="174"/>
                  </a:lnTo>
                  <a:lnTo>
                    <a:pt x="361" y="84"/>
                  </a:lnTo>
                  <a:lnTo>
                    <a:pt x="302" y="17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5315040" y="4793760"/>
              <a:ext cx="309960" cy="337320"/>
            </a:xfrm>
            <a:custGeom>
              <a:avLst/>
              <a:gdLst/>
              <a:ahLst/>
              <a:rect l="l" t="t" r="r" b="b"/>
              <a:pathLst>
                <a:path w="1442" h="1450">
                  <a:moveTo>
                    <a:pt x="541" y="0"/>
                  </a:moveTo>
                  <a:lnTo>
                    <a:pt x="564" y="17"/>
                  </a:lnTo>
                  <a:lnTo>
                    <a:pt x="588" y="45"/>
                  </a:lnTo>
                  <a:lnTo>
                    <a:pt x="599" y="79"/>
                  </a:lnTo>
                  <a:lnTo>
                    <a:pt x="611" y="118"/>
                  </a:lnTo>
                  <a:lnTo>
                    <a:pt x="616" y="157"/>
                  </a:lnTo>
                  <a:lnTo>
                    <a:pt x="623" y="202"/>
                  </a:lnTo>
                  <a:lnTo>
                    <a:pt x="623" y="248"/>
                  </a:lnTo>
                  <a:lnTo>
                    <a:pt x="640" y="292"/>
                  </a:lnTo>
                  <a:lnTo>
                    <a:pt x="669" y="219"/>
                  </a:lnTo>
                  <a:lnTo>
                    <a:pt x="704" y="163"/>
                  </a:lnTo>
                  <a:lnTo>
                    <a:pt x="750" y="123"/>
                  </a:lnTo>
                  <a:lnTo>
                    <a:pt x="803" y="96"/>
                  </a:lnTo>
                  <a:lnTo>
                    <a:pt x="854" y="67"/>
                  </a:lnTo>
                  <a:lnTo>
                    <a:pt x="907" y="50"/>
                  </a:lnTo>
                  <a:lnTo>
                    <a:pt x="960" y="28"/>
                  </a:lnTo>
                  <a:lnTo>
                    <a:pt x="1011" y="11"/>
                  </a:lnTo>
                  <a:lnTo>
                    <a:pt x="1034" y="34"/>
                  </a:lnTo>
                  <a:lnTo>
                    <a:pt x="1064" y="62"/>
                  </a:lnTo>
                  <a:lnTo>
                    <a:pt x="1082" y="96"/>
                  </a:lnTo>
                  <a:lnTo>
                    <a:pt x="1105" y="135"/>
                  </a:lnTo>
                  <a:lnTo>
                    <a:pt x="1174" y="62"/>
                  </a:lnTo>
                  <a:lnTo>
                    <a:pt x="1232" y="50"/>
                  </a:lnTo>
                  <a:lnTo>
                    <a:pt x="1267" y="84"/>
                  </a:lnTo>
                  <a:lnTo>
                    <a:pt x="1297" y="157"/>
                  </a:lnTo>
                  <a:lnTo>
                    <a:pt x="1308" y="236"/>
                  </a:lnTo>
                  <a:lnTo>
                    <a:pt x="1313" y="320"/>
                  </a:lnTo>
                  <a:lnTo>
                    <a:pt x="1320" y="388"/>
                  </a:lnTo>
                  <a:lnTo>
                    <a:pt x="1331" y="433"/>
                  </a:lnTo>
                  <a:lnTo>
                    <a:pt x="1343" y="461"/>
                  </a:lnTo>
                  <a:lnTo>
                    <a:pt x="1378" y="506"/>
                  </a:lnTo>
                  <a:lnTo>
                    <a:pt x="1407" y="550"/>
                  </a:lnTo>
                  <a:lnTo>
                    <a:pt x="1430" y="601"/>
                  </a:lnTo>
                  <a:lnTo>
                    <a:pt x="1419" y="641"/>
                  </a:lnTo>
                  <a:lnTo>
                    <a:pt x="1407" y="675"/>
                  </a:lnTo>
                  <a:lnTo>
                    <a:pt x="1384" y="702"/>
                  </a:lnTo>
                  <a:lnTo>
                    <a:pt x="1372" y="731"/>
                  </a:lnTo>
                  <a:lnTo>
                    <a:pt x="1366" y="753"/>
                  </a:lnTo>
                  <a:lnTo>
                    <a:pt x="1372" y="787"/>
                  </a:lnTo>
                  <a:lnTo>
                    <a:pt x="1378" y="827"/>
                  </a:lnTo>
                  <a:lnTo>
                    <a:pt x="1389" y="866"/>
                  </a:lnTo>
                  <a:lnTo>
                    <a:pt x="1401" y="900"/>
                  </a:lnTo>
                  <a:lnTo>
                    <a:pt x="1412" y="939"/>
                  </a:lnTo>
                  <a:lnTo>
                    <a:pt x="1419" y="967"/>
                  </a:lnTo>
                  <a:lnTo>
                    <a:pt x="1430" y="1001"/>
                  </a:lnTo>
                  <a:lnTo>
                    <a:pt x="1436" y="1063"/>
                  </a:lnTo>
                  <a:lnTo>
                    <a:pt x="1442" y="1124"/>
                  </a:lnTo>
                  <a:lnTo>
                    <a:pt x="1436" y="1187"/>
                  </a:lnTo>
                  <a:lnTo>
                    <a:pt x="1436" y="1254"/>
                  </a:lnTo>
                  <a:lnTo>
                    <a:pt x="1419" y="1310"/>
                  </a:lnTo>
                  <a:lnTo>
                    <a:pt x="1396" y="1361"/>
                  </a:lnTo>
                  <a:lnTo>
                    <a:pt x="1361" y="1394"/>
                  </a:lnTo>
                  <a:lnTo>
                    <a:pt x="1320" y="1428"/>
                  </a:lnTo>
                  <a:lnTo>
                    <a:pt x="1267" y="1433"/>
                  </a:lnTo>
                  <a:lnTo>
                    <a:pt x="1204" y="1445"/>
                  </a:lnTo>
                  <a:lnTo>
                    <a:pt x="1133" y="1445"/>
                  </a:lnTo>
                  <a:lnTo>
                    <a:pt x="1059" y="1450"/>
                  </a:lnTo>
                  <a:lnTo>
                    <a:pt x="977" y="1445"/>
                  </a:lnTo>
                  <a:lnTo>
                    <a:pt x="907" y="1440"/>
                  </a:lnTo>
                  <a:lnTo>
                    <a:pt x="837" y="1423"/>
                  </a:lnTo>
                  <a:lnTo>
                    <a:pt x="791" y="1411"/>
                  </a:lnTo>
                  <a:lnTo>
                    <a:pt x="762" y="1400"/>
                  </a:lnTo>
                  <a:lnTo>
                    <a:pt x="732" y="1389"/>
                  </a:lnTo>
                  <a:lnTo>
                    <a:pt x="704" y="1372"/>
                  </a:lnTo>
                  <a:lnTo>
                    <a:pt x="692" y="1361"/>
                  </a:lnTo>
                  <a:lnTo>
                    <a:pt x="681" y="1310"/>
                  </a:lnTo>
                  <a:lnTo>
                    <a:pt x="686" y="1271"/>
                  </a:lnTo>
                  <a:lnTo>
                    <a:pt x="692" y="1226"/>
                  </a:lnTo>
                  <a:lnTo>
                    <a:pt x="709" y="1192"/>
                  </a:lnTo>
                  <a:lnTo>
                    <a:pt x="721" y="1146"/>
                  </a:lnTo>
                  <a:lnTo>
                    <a:pt x="732" y="1107"/>
                  </a:lnTo>
                  <a:lnTo>
                    <a:pt x="739" y="1068"/>
                  </a:lnTo>
                  <a:lnTo>
                    <a:pt x="745" y="1029"/>
                  </a:lnTo>
                  <a:lnTo>
                    <a:pt x="732" y="989"/>
                  </a:lnTo>
                  <a:lnTo>
                    <a:pt x="721" y="956"/>
                  </a:lnTo>
                  <a:lnTo>
                    <a:pt x="704" y="922"/>
                  </a:lnTo>
                  <a:lnTo>
                    <a:pt x="692" y="888"/>
                  </a:lnTo>
                  <a:lnTo>
                    <a:pt x="674" y="849"/>
                  </a:lnTo>
                  <a:lnTo>
                    <a:pt x="657" y="815"/>
                  </a:lnTo>
                  <a:lnTo>
                    <a:pt x="640" y="776"/>
                  </a:lnTo>
                  <a:lnTo>
                    <a:pt x="628" y="742"/>
                  </a:lnTo>
                  <a:lnTo>
                    <a:pt x="535" y="736"/>
                  </a:lnTo>
                  <a:lnTo>
                    <a:pt x="459" y="736"/>
                  </a:lnTo>
                  <a:lnTo>
                    <a:pt x="384" y="726"/>
                  </a:lnTo>
                  <a:lnTo>
                    <a:pt x="314" y="714"/>
                  </a:lnTo>
                  <a:lnTo>
                    <a:pt x="245" y="692"/>
                  </a:lnTo>
                  <a:lnTo>
                    <a:pt x="175" y="675"/>
                  </a:lnTo>
                  <a:lnTo>
                    <a:pt x="99" y="658"/>
                  </a:lnTo>
                  <a:lnTo>
                    <a:pt x="30" y="641"/>
                  </a:lnTo>
                  <a:lnTo>
                    <a:pt x="18" y="579"/>
                  </a:lnTo>
                  <a:lnTo>
                    <a:pt x="12" y="523"/>
                  </a:lnTo>
                  <a:lnTo>
                    <a:pt x="0" y="467"/>
                  </a:lnTo>
                  <a:lnTo>
                    <a:pt x="0" y="410"/>
                  </a:lnTo>
                  <a:lnTo>
                    <a:pt x="7" y="388"/>
                  </a:lnTo>
                  <a:lnTo>
                    <a:pt x="23" y="343"/>
                  </a:lnTo>
                  <a:lnTo>
                    <a:pt x="41" y="287"/>
                  </a:lnTo>
                  <a:lnTo>
                    <a:pt x="58" y="258"/>
                  </a:lnTo>
                  <a:lnTo>
                    <a:pt x="58" y="208"/>
                  </a:lnTo>
                  <a:lnTo>
                    <a:pt x="58" y="174"/>
                  </a:lnTo>
                  <a:lnTo>
                    <a:pt x="58" y="140"/>
                  </a:lnTo>
                  <a:lnTo>
                    <a:pt x="58" y="123"/>
                  </a:lnTo>
                  <a:lnTo>
                    <a:pt x="58" y="101"/>
                  </a:lnTo>
                  <a:lnTo>
                    <a:pt x="81" y="84"/>
                  </a:lnTo>
                  <a:lnTo>
                    <a:pt x="116" y="74"/>
                  </a:lnTo>
                  <a:lnTo>
                    <a:pt x="175" y="62"/>
                  </a:lnTo>
                  <a:lnTo>
                    <a:pt x="198" y="101"/>
                  </a:lnTo>
                  <a:lnTo>
                    <a:pt x="221" y="169"/>
                  </a:lnTo>
                  <a:lnTo>
                    <a:pt x="238" y="241"/>
                  </a:lnTo>
                  <a:lnTo>
                    <a:pt x="256" y="332"/>
                  </a:lnTo>
                  <a:lnTo>
                    <a:pt x="261" y="416"/>
                  </a:lnTo>
                  <a:lnTo>
                    <a:pt x="274" y="511"/>
                  </a:lnTo>
                  <a:lnTo>
                    <a:pt x="279" y="596"/>
                  </a:lnTo>
                  <a:lnTo>
                    <a:pt x="291" y="675"/>
                  </a:lnTo>
                  <a:lnTo>
                    <a:pt x="291" y="646"/>
                  </a:lnTo>
                  <a:lnTo>
                    <a:pt x="309" y="601"/>
                  </a:lnTo>
                  <a:lnTo>
                    <a:pt x="326" y="540"/>
                  </a:lnTo>
                  <a:lnTo>
                    <a:pt x="344" y="478"/>
                  </a:lnTo>
                  <a:lnTo>
                    <a:pt x="355" y="410"/>
                  </a:lnTo>
                  <a:lnTo>
                    <a:pt x="372" y="349"/>
                  </a:lnTo>
                  <a:lnTo>
                    <a:pt x="384" y="304"/>
                  </a:lnTo>
                  <a:lnTo>
                    <a:pt x="402" y="287"/>
                  </a:lnTo>
                  <a:lnTo>
                    <a:pt x="425" y="236"/>
                  </a:lnTo>
                  <a:lnTo>
                    <a:pt x="431" y="197"/>
                  </a:lnTo>
                  <a:lnTo>
                    <a:pt x="431" y="169"/>
                  </a:lnTo>
                  <a:lnTo>
                    <a:pt x="431" y="146"/>
                  </a:lnTo>
                  <a:lnTo>
                    <a:pt x="431" y="106"/>
                  </a:lnTo>
                  <a:lnTo>
                    <a:pt x="443" y="74"/>
                  </a:lnTo>
                  <a:lnTo>
                    <a:pt x="448" y="40"/>
                  </a:lnTo>
                  <a:lnTo>
                    <a:pt x="477" y="28"/>
                  </a:lnTo>
                  <a:lnTo>
                    <a:pt x="506" y="11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5628960" y="4790160"/>
              <a:ext cx="113760" cy="349920"/>
            </a:xfrm>
            <a:custGeom>
              <a:avLst/>
              <a:gdLst/>
              <a:ahLst/>
              <a:rect l="l" t="t" r="r" b="b"/>
              <a:pathLst>
                <a:path w="528" h="1501">
                  <a:moveTo>
                    <a:pt x="87" y="410"/>
                  </a:moveTo>
                  <a:lnTo>
                    <a:pt x="70" y="383"/>
                  </a:lnTo>
                  <a:lnTo>
                    <a:pt x="41" y="332"/>
                  </a:lnTo>
                  <a:lnTo>
                    <a:pt x="23" y="298"/>
                  </a:lnTo>
                  <a:lnTo>
                    <a:pt x="11" y="265"/>
                  </a:lnTo>
                  <a:lnTo>
                    <a:pt x="0" y="236"/>
                  </a:lnTo>
                  <a:lnTo>
                    <a:pt x="6" y="219"/>
                  </a:lnTo>
                  <a:lnTo>
                    <a:pt x="6" y="186"/>
                  </a:lnTo>
                  <a:lnTo>
                    <a:pt x="23" y="152"/>
                  </a:lnTo>
                  <a:lnTo>
                    <a:pt x="41" y="118"/>
                  </a:lnTo>
                  <a:lnTo>
                    <a:pt x="70" y="84"/>
                  </a:lnTo>
                  <a:lnTo>
                    <a:pt x="93" y="51"/>
                  </a:lnTo>
                  <a:lnTo>
                    <a:pt x="122" y="23"/>
                  </a:lnTo>
                  <a:lnTo>
                    <a:pt x="151" y="6"/>
                  </a:lnTo>
                  <a:lnTo>
                    <a:pt x="180" y="0"/>
                  </a:lnTo>
                  <a:lnTo>
                    <a:pt x="244" y="0"/>
                  </a:lnTo>
                  <a:lnTo>
                    <a:pt x="302" y="40"/>
                  </a:lnTo>
                  <a:lnTo>
                    <a:pt x="343" y="96"/>
                  </a:lnTo>
                  <a:lnTo>
                    <a:pt x="378" y="174"/>
                  </a:lnTo>
                  <a:lnTo>
                    <a:pt x="389" y="248"/>
                  </a:lnTo>
                  <a:lnTo>
                    <a:pt x="384" y="326"/>
                  </a:lnTo>
                  <a:lnTo>
                    <a:pt x="360" y="376"/>
                  </a:lnTo>
                  <a:lnTo>
                    <a:pt x="325" y="410"/>
                  </a:lnTo>
                  <a:lnTo>
                    <a:pt x="279" y="410"/>
                  </a:lnTo>
                  <a:lnTo>
                    <a:pt x="256" y="400"/>
                  </a:lnTo>
                  <a:lnTo>
                    <a:pt x="221" y="383"/>
                  </a:lnTo>
                  <a:lnTo>
                    <a:pt x="175" y="376"/>
                  </a:lnTo>
                  <a:lnTo>
                    <a:pt x="256" y="478"/>
                  </a:lnTo>
                  <a:lnTo>
                    <a:pt x="262" y="495"/>
                  </a:lnTo>
                  <a:lnTo>
                    <a:pt x="274" y="523"/>
                  </a:lnTo>
                  <a:lnTo>
                    <a:pt x="285" y="557"/>
                  </a:lnTo>
                  <a:lnTo>
                    <a:pt x="302" y="601"/>
                  </a:lnTo>
                  <a:lnTo>
                    <a:pt x="320" y="652"/>
                  </a:lnTo>
                  <a:lnTo>
                    <a:pt x="348" y="702"/>
                  </a:lnTo>
                  <a:lnTo>
                    <a:pt x="373" y="743"/>
                  </a:lnTo>
                  <a:lnTo>
                    <a:pt x="384" y="759"/>
                  </a:lnTo>
                  <a:lnTo>
                    <a:pt x="413" y="753"/>
                  </a:lnTo>
                  <a:lnTo>
                    <a:pt x="436" y="759"/>
                  </a:lnTo>
                  <a:lnTo>
                    <a:pt x="454" y="759"/>
                  </a:lnTo>
                  <a:lnTo>
                    <a:pt x="471" y="776"/>
                  </a:lnTo>
                  <a:lnTo>
                    <a:pt x="494" y="804"/>
                  </a:lnTo>
                  <a:lnTo>
                    <a:pt x="528" y="849"/>
                  </a:lnTo>
                  <a:lnTo>
                    <a:pt x="512" y="878"/>
                  </a:lnTo>
                  <a:lnTo>
                    <a:pt x="500" y="905"/>
                  </a:lnTo>
                  <a:lnTo>
                    <a:pt x="482" y="922"/>
                  </a:lnTo>
                  <a:lnTo>
                    <a:pt x="477" y="945"/>
                  </a:lnTo>
                  <a:lnTo>
                    <a:pt x="454" y="956"/>
                  </a:lnTo>
                  <a:lnTo>
                    <a:pt x="430" y="967"/>
                  </a:lnTo>
                  <a:lnTo>
                    <a:pt x="396" y="973"/>
                  </a:lnTo>
                  <a:lnTo>
                    <a:pt x="355" y="979"/>
                  </a:lnTo>
                  <a:lnTo>
                    <a:pt x="360" y="1046"/>
                  </a:lnTo>
                  <a:lnTo>
                    <a:pt x="366" y="1114"/>
                  </a:lnTo>
                  <a:lnTo>
                    <a:pt x="366" y="1180"/>
                  </a:lnTo>
                  <a:lnTo>
                    <a:pt x="378" y="1248"/>
                  </a:lnTo>
                  <a:lnTo>
                    <a:pt x="389" y="1305"/>
                  </a:lnTo>
                  <a:lnTo>
                    <a:pt x="407" y="1366"/>
                  </a:lnTo>
                  <a:lnTo>
                    <a:pt x="424" y="1417"/>
                  </a:lnTo>
                  <a:lnTo>
                    <a:pt x="459" y="1467"/>
                  </a:lnTo>
                  <a:lnTo>
                    <a:pt x="401" y="1479"/>
                  </a:lnTo>
                  <a:lnTo>
                    <a:pt x="343" y="1490"/>
                  </a:lnTo>
                  <a:lnTo>
                    <a:pt x="285" y="1496"/>
                  </a:lnTo>
                  <a:lnTo>
                    <a:pt x="233" y="1501"/>
                  </a:lnTo>
                  <a:lnTo>
                    <a:pt x="175" y="1496"/>
                  </a:lnTo>
                  <a:lnTo>
                    <a:pt x="122" y="1496"/>
                  </a:lnTo>
                  <a:lnTo>
                    <a:pt x="70" y="1479"/>
                  </a:lnTo>
                  <a:lnTo>
                    <a:pt x="23" y="1467"/>
                  </a:lnTo>
                  <a:lnTo>
                    <a:pt x="18" y="1400"/>
                  </a:lnTo>
                  <a:lnTo>
                    <a:pt x="23" y="1332"/>
                  </a:lnTo>
                  <a:lnTo>
                    <a:pt x="29" y="1265"/>
                  </a:lnTo>
                  <a:lnTo>
                    <a:pt x="46" y="1204"/>
                  </a:lnTo>
                  <a:lnTo>
                    <a:pt x="59" y="1136"/>
                  </a:lnTo>
                  <a:lnTo>
                    <a:pt x="70" y="1069"/>
                  </a:lnTo>
                  <a:lnTo>
                    <a:pt x="70" y="1001"/>
                  </a:lnTo>
                  <a:lnTo>
                    <a:pt x="76" y="939"/>
                  </a:lnTo>
                  <a:lnTo>
                    <a:pt x="64" y="883"/>
                  </a:lnTo>
                  <a:lnTo>
                    <a:pt x="52" y="832"/>
                  </a:lnTo>
                  <a:lnTo>
                    <a:pt x="41" y="782"/>
                  </a:lnTo>
                  <a:lnTo>
                    <a:pt x="35" y="731"/>
                  </a:lnTo>
                  <a:lnTo>
                    <a:pt x="23" y="680"/>
                  </a:lnTo>
                  <a:lnTo>
                    <a:pt x="23" y="630"/>
                  </a:lnTo>
                  <a:lnTo>
                    <a:pt x="23" y="579"/>
                  </a:lnTo>
                  <a:lnTo>
                    <a:pt x="46" y="528"/>
                  </a:lnTo>
                  <a:lnTo>
                    <a:pt x="52" y="501"/>
                  </a:lnTo>
                  <a:lnTo>
                    <a:pt x="70" y="456"/>
                  </a:lnTo>
                  <a:lnTo>
                    <a:pt x="87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5641920" y="4892400"/>
              <a:ext cx="81000" cy="238680"/>
            </a:xfrm>
            <a:custGeom>
              <a:avLst/>
              <a:gdLst/>
              <a:ahLst/>
              <a:rect l="l" t="t" r="r" b="b"/>
              <a:pathLst>
                <a:path w="377" h="1028">
                  <a:moveTo>
                    <a:pt x="58" y="5"/>
                  </a:moveTo>
                  <a:lnTo>
                    <a:pt x="40" y="62"/>
                  </a:lnTo>
                  <a:lnTo>
                    <a:pt x="28" y="118"/>
                  </a:lnTo>
                  <a:lnTo>
                    <a:pt x="17" y="168"/>
                  </a:lnTo>
                  <a:lnTo>
                    <a:pt x="17" y="224"/>
                  </a:lnTo>
                  <a:lnTo>
                    <a:pt x="17" y="275"/>
                  </a:lnTo>
                  <a:lnTo>
                    <a:pt x="23" y="331"/>
                  </a:lnTo>
                  <a:lnTo>
                    <a:pt x="34" y="382"/>
                  </a:lnTo>
                  <a:lnTo>
                    <a:pt x="51" y="449"/>
                  </a:lnTo>
                  <a:lnTo>
                    <a:pt x="51" y="466"/>
                  </a:lnTo>
                  <a:lnTo>
                    <a:pt x="58" y="500"/>
                  </a:lnTo>
                  <a:lnTo>
                    <a:pt x="63" y="523"/>
                  </a:lnTo>
                  <a:lnTo>
                    <a:pt x="69" y="540"/>
                  </a:lnTo>
                  <a:lnTo>
                    <a:pt x="58" y="550"/>
                  </a:lnTo>
                  <a:lnTo>
                    <a:pt x="46" y="596"/>
                  </a:lnTo>
                  <a:lnTo>
                    <a:pt x="34" y="658"/>
                  </a:lnTo>
                  <a:lnTo>
                    <a:pt x="28" y="731"/>
                  </a:lnTo>
                  <a:lnTo>
                    <a:pt x="11" y="804"/>
                  </a:lnTo>
                  <a:lnTo>
                    <a:pt x="5" y="876"/>
                  </a:lnTo>
                  <a:lnTo>
                    <a:pt x="0" y="933"/>
                  </a:lnTo>
                  <a:lnTo>
                    <a:pt x="0" y="978"/>
                  </a:lnTo>
                  <a:lnTo>
                    <a:pt x="17" y="989"/>
                  </a:lnTo>
                  <a:lnTo>
                    <a:pt x="46" y="1001"/>
                  </a:lnTo>
                  <a:lnTo>
                    <a:pt x="75" y="1011"/>
                  </a:lnTo>
                  <a:lnTo>
                    <a:pt x="98" y="1028"/>
                  </a:lnTo>
                  <a:lnTo>
                    <a:pt x="150" y="1028"/>
                  </a:lnTo>
                  <a:lnTo>
                    <a:pt x="208" y="1023"/>
                  </a:lnTo>
                  <a:lnTo>
                    <a:pt x="255" y="1011"/>
                  </a:lnTo>
                  <a:lnTo>
                    <a:pt x="307" y="1006"/>
                  </a:lnTo>
                  <a:lnTo>
                    <a:pt x="289" y="933"/>
                  </a:lnTo>
                  <a:lnTo>
                    <a:pt x="284" y="859"/>
                  </a:lnTo>
                  <a:lnTo>
                    <a:pt x="278" y="781"/>
                  </a:lnTo>
                  <a:lnTo>
                    <a:pt x="272" y="714"/>
                  </a:lnTo>
                  <a:lnTo>
                    <a:pt x="255" y="641"/>
                  </a:lnTo>
                  <a:lnTo>
                    <a:pt x="238" y="584"/>
                  </a:lnTo>
                  <a:lnTo>
                    <a:pt x="197" y="534"/>
                  </a:lnTo>
                  <a:lnTo>
                    <a:pt x="150" y="511"/>
                  </a:lnTo>
                  <a:lnTo>
                    <a:pt x="162" y="461"/>
                  </a:lnTo>
                  <a:lnTo>
                    <a:pt x="203" y="461"/>
                  </a:lnTo>
                  <a:lnTo>
                    <a:pt x="249" y="466"/>
                  </a:lnTo>
                  <a:lnTo>
                    <a:pt x="284" y="472"/>
                  </a:lnTo>
                  <a:lnTo>
                    <a:pt x="307" y="478"/>
                  </a:lnTo>
                  <a:lnTo>
                    <a:pt x="342" y="461"/>
                  </a:lnTo>
                  <a:lnTo>
                    <a:pt x="360" y="455"/>
                  </a:lnTo>
                  <a:lnTo>
                    <a:pt x="360" y="444"/>
                  </a:lnTo>
                  <a:lnTo>
                    <a:pt x="365" y="427"/>
                  </a:lnTo>
                  <a:lnTo>
                    <a:pt x="365" y="405"/>
                  </a:lnTo>
                  <a:lnTo>
                    <a:pt x="377" y="371"/>
                  </a:lnTo>
                  <a:lnTo>
                    <a:pt x="337" y="371"/>
                  </a:lnTo>
                  <a:lnTo>
                    <a:pt x="296" y="376"/>
                  </a:lnTo>
                  <a:lnTo>
                    <a:pt x="255" y="382"/>
                  </a:lnTo>
                  <a:lnTo>
                    <a:pt x="215" y="388"/>
                  </a:lnTo>
                  <a:lnTo>
                    <a:pt x="203" y="382"/>
                  </a:lnTo>
                  <a:lnTo>
                    <a:pt x="191" y="382"/>
                  </a:lnTo>
                  <a:lnTo>
                    <a:pt x="162" y="376"/>
                  </a:lnTo>
                  <a:lnTo>
                    <a:pt x="132" y="371"/>
                  </a:lnTo>
                  <a:lnTo>
                    <a:pt x="121" y="314"/>
                  </a:lnTo>
                  <a:lnTo>
                    <a:pt x="116" y="263"/>
                  </a:lnTo>
                  <a:lnTo>
                    <a:pt x="116" y="219"/>
                  </a:lnTo>
                  <a:lnTo>
                    <a:pt x="121" y="196"/>
                  </a:lnTo>
                  <a:lnTo>
                    <a:pt x="121" y="179"/>
                  </a:lnTo>
                  <a:lnTo>
                    <a:pt x="127" y="191"/>
                  </a:lnTo>
                  <a:lnTo>
                    <a:pt x="139" y="230"/>
                  </a:lnTo>
                  <a:lnTo>
                    <a:pt x="162" y="309"/>
                  </a:lnTo>
                  <a:lnTo>
                    <a:pt x="180" y="320"/>
                  </a:lnTo>
                  <a:lnTo>
                    <a:pt x="215" y="331"/>
                  </a:lnTo>
                  <a:lnTo>
                    <a:pt x="215" y="314"/>
                  </a:lnTo>
                  <a:lnTo>
                    <a:pt x="215" y="297"/>
                  </a:lnTo>
                  <a:lnTo>
                    <a:pt x="208" y="280"/>
                  </a:lnTo>
                  <a:lnTo>
                    <a:pt x="203" y="280"/>
                  </a:lnTo>
                  <a:lnTo>
                    <a:pt x="203" y="258"/>
                  </a:lnTo>
                  <a:lnTo>
                    <a:pt x="203" y="241"/>
                  </a:lnTo>
                  <a:lnTo>
                    <a:pt x="191" y="185"/>
                  </a:lnTo>
                  <a:lnTo>
                    <a:pt x="185" y="128"/>
                  </a:lnTo>
                  <a:lnTo>
                    <a:pt x="180" y="79"/>
                  </a:lnTo>
                  <a:lnTo>
                    <a:pt x="180" y="39"/>
                  </a:lnTo>
                  <a:lnTo>
                    <a:pt x="157" y="28"/>
                  </a:lnTo>
                  <a:lnTo>
                    <a:pt x="116" y="11"/>
                  </a:lnTo>
                  <a:lnTo>
                    <a:pt x="75" y="0"/>
                  </a:lnTo>
                  <a:lnTo>
                    <a:pt x="58" y="5"/>
                  </a:lnTo>
                  <a:close/>
                </a:path>
              </a:pathLst>
            </a:custGeom>
            <a:solidFill>
              <a:srgbClr val="be6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5234760" y="4804920"/>
              <a:ext cx="69480" cy="147600"/>
            </a:xfrm>
            <a:custGeom>
              <a:avLst/>
              <a:gdLst/>
              <a:ahLst/>
              <a:rect l="l" t="t" r="r" b="b"/>
              <a:pathLst>
                <a:path w="319" h="635">
                  <a:moveTo>
                    <a:pt x="133" y="0"/>
                  </a:moveTo>
                  <a:lnTo>
                    <a:pt x="162" y="24"/>
                  </a:lnTo>
                  <a:lnTo>
                    <a:pt x="198" y="73"/>
                  </a:lnTo>
                  <a:lnTo>
                    <a:pt x="221" y="119"/>
                  </a:lnTo>
                  <a:lnTo>
                    <a:pt x="249" y="164"/>
                  </a:lnTo>
                  <a:lnTo>
                    <a:pt x="249" y="198"/>
                  </a:lnTo>
                  <a:lnTo>
                    <a:pt x="244" y="237"/>
                  </a:lnTo>
                  <a:lnTo>
                    <a:pt x="232" y="265"/>
                  </a:lnTo>
                  <a:lnTo>
                    <a:pt x="221" y="287"/>
                  </a:lnTo>
                  <a:lnTo>
                    <a:pt x="232" y="338"/>
                  </a:lnTo>
                  <a:lnTo>
                    <a:pt x="261" y="400"/>
                  </a:lnTo>
                  <a:lnTo>
                    <a:pt x="284" y="461"/>
                  </a:lnTo>
                  <a:lnTo>
                    <a:pt x="313" y="524"/>
                  </a:lnTo>
                  <a:lnTo>
                    <a:pt x="319" y="568"/>
                  </a:lnTo>
                  <a:lnTo>
                    <a:pt x="307" y="608"/>
                  </a:lnTo>
                  <a:lnTo>
                    <a:pt x="261" y="630"/>
                  </a:lnTo>
                  <a:lnTo>
                    <a:pt x="186" y="635"/>
                  </a:lnTo>
                  <a:lnTo>
                    <a:pt x="133" y="630"/>
                  </a:lnTo>
                  <a:lnTo>
                    <a:pt x="81" y="635"/>
                  </a:lnTo>
                  <a:lnTo>
                    <a:pt x="34" y="630"/>
                  </a:lnTo>
                  <a:lnTo>
                    <a:pt x="0" y="625"/>
                  </a:lnTo>
                  <a:lnTo>
                    <a:pt x="5" y="585"/>
                  </a:lnTo>
                  <a:lnTo>
                    <a:pt x="23" y="546"/>
                  </a:lnTo>
                  <a:lnTo>
                    <a:pt x="41" y="495"/>
                  </a:lnTo>
                  <a:lnTo>
                    <a:pt x="58" y="445"/>
                  </a:lnTo>
                  <a:lnTo>
                    <a:pt x="69" y="394"/>
                  </a:lnTo>
                  <a:lnTo>
                    <a:pt x="87" y="343"/>
                  </a:lnTo>
                  <a:lnTo>
                    <a:pt x="92" y="299"/>
                  </a:lnTo>
                  <a:lnTo>
                    <a:pt x="99" y="265"/>
                  </a:lnTo>
                  <a:lnTo>
                    <a:pt x="87" y="208"/>
                  </a:lnTo>
                  <a:lnTo>
                    <a:pt x="75" y="174"/>
                  </a:lnTo>
                  <a:lnTo>
                    <a:pt x="58" y="141"/>
                  </a:lnTo>
                  <a:lnTo>
                    <a:pt x="52" y="113"/>
                  </a:lnTo>
                  <a:lnTo>
                    <a:pt x="46" y="85"/>
                  </a:lnTo>
                  <a:lnTo>
                    <a:pt x="58" y="63"/>
                  </a:lnTo>
                  <a:lnTo>
                    <a:pt x="81" y="29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6856920" y="4799880"/>
              <a:ext cx="124920" cy="154800"/>
            </a:xfrm>
            <a:custGeom>
              <a:avLst/>
              <a:gdLst/>
              <a:ahLst/>
              <a:rect l="l" t="t" r="r" b="b"/>
              <a:pathLst>
                <a:path w="586" h="669">
                  <a:moveTo>
                    <a:pt x="342" y="0"/>
                  </a:moveTo>
                  <a:lnTo>
                    <a:pt x="208" y="27"/>
                  </a:lnTo>
                  <a:lnTo>
                    <a:pt x="109" y="106"/>
                  </a:lnTo>
                  <a:lnTo>
                    <a:pt x="40" y="201"/>
                  </a:lnTo>
                  <a:lnTo>
                    <a:pt x="5" y="314"/>
                  </a:lnTo>
                  <a:lnTo>
                    <a:pt x="0" y="421"/>
                  </a:lnTo>
                  <a:lnTo>
                    <a:pt x="40" y="527"/>
                  </a:lnTo>
                  <a:lnTo>
                    <a:pt x="122" y="612"/>
                  </a:lnTo>
                  <a:lnTo>
                    <a:pt x="256" y="669"/>
                  </a:lnTo>
                  <a:lnTo>
                    <a:pt x="400" y="662"/>
                  </a:lnTo>
                  <a:lnTo>
                    <a:pt x="505" y="595"/>
                  </a:lnTo>
                  <a:lnTo>
                    <a:pt x="563" y="488"/>
                  </a:lnTo>
                  <a:lnTo>
                    <a:pt x="586" y="360"/>
                  </a:lnTo>
                  <a:lnTo>
                    <a:pt x="568" y="218"/>
                  </a:lnTo>
                  <a:lnTo>
                    <a:pt x="517" y="100"/>
                  </a:lnTo>
                  <a:lnTo>
                    <a:pt x="441" y="17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5418360" y="4802400"/>
              <a:ext cx="24120" cy="45360"/>
            </a:xfrm>
            <a:custGeom>
              <a:avLst/>
              <a:gdLst/>
              <a:ahLst/>
              <a:rect l="l" t="t" r="r" b="b"/>
              <a:pathLst>
                <a:path w="116" h="197">
                  <a:moveTo>
                    <a:pt x="58" y="0"/>
                  </a:moveTo>
                  <a:lnTo>
                    <a:pt x="29" y="28"/>
                  </a:lnTo>
                  <a:lnTo>
                    <a:pt x="12" y="55"/>
                  </a:lnTo>
                  <a:lnTo>
                    <a:pt x="0" y="79"/>
                  </a:lnTo>
                  <a:lnTo>
                    <a:pt x="0" y="101"/>
                  </a:lnTo>
                  <a:lnTo>
                    <a:pt x="0" y="118"/>
                  </a:lnTo>
                  <a:lnTo>
                    <a:pt x="17" y="140"/>
                  </a:lnTo>
                  <a:lnTo>
                    <a:pt x="40" y="163"/>
                  </a:lnTo>
                  <a:lnTo>
                    <a:pt x="81" y="197"/>
                  </a:lnTo>
                  <a:lnTo>
                    <a:pt x="98" y="157"/>
                  </a:lnTo>
                  <a:lnTo>
                    <a:pt x="111" y="135"/>
                  </a:lnTo>
                  <a:lnTo>
                    <a:pt x="111" y="106"/>
                  </a:lnTo>
                  <a:lnTo>
                    <a:pt x="116" y="89"/>
                  </a:lnTo>
                  <a:lnTo>
                    <a:pt x="105" y="67"/>
                  </a:lnTo>
                  <a:lnTo>
                    <a:pt x="93" y="50"/>
                  </a:lnTo>
                  <a:lnTo>
                    <a:pt x="75" y="2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6011640" y="4802400"/>
              <a:ext cx="42480" cy="64800"/>
            </a:xfrm>
            <a:custGeom>
              <a:avLst/>
              <a:gdLst/>
              <a:ahLst/>
              <a:rect l="l" t="t" r="r" b="b"/>
              <a:pathLst>
                <a:path w="197" h="286">
                  <a:moveTo>
                    <a:pt x="46" y="0"/>
                  </a:moveTo>
                  <a:lnTo>
                    <a:pt x="23" y="28"/>
                  </a:lnTo>
                  <a:lnTo>
                    <a:pt x="12" y="79"/>
                  </a:lnTo>
                  <a:lnTo>
                    <a:pt x="0" y="135"/>
                  </a:lnTo>
                  <a:lnTo>
                    <a:pt x="5" y="197"/>
                  </a:lnTo>
                  <a:lnTo>
                    <a:pt x="12" y="241"/>
                  </a:lnTo>
                  <a:lnTo>
                    <a:pt x="35" y="275"/>
                  </a:lnTo>
                  <a:lnTo>
                    <a:pt x="70" y="286"/>
                  </a:lnTo>
                  <a:lnTo>
                    <a:pt x="128" y="270"/>
                  </a:lnTo>
                  <a:lnTo>
                    <a:pt x="169" y="224"/>
                  </a:lnTo>
                  <a:lnTo>
                    <a:pt x="197" y="190"/>
                  </a:lnTo>
                  <a:lnTo>
                    <a:pt x="197" y="146"/>
                  </a:lnTo>
                  <a:lnTo>
                    <a:pt x="197" y="112"/>
                  </a:lnTo>
                  <a:lnTo>
                    <a:pt x="169" y="72"/>
                  </a:lnTo>
                  <a:lnTo>
                    <a:pt x="139" y="45"/>
                  </a:lnTo>
                  <a:lnTo>
                    <a:pt x="93" y="1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6069600" y="4800960"/>
              <a:ext cx="56520" cy="91080"/>
            </a:xfrm>
            <a:custGeom>
              <a:avLst/>
              <a:gdLst/>
              <a:ahLst/>
              <a:rect l="l" t="t" r="r" b="b"/>
              <a:pathLst>
                <a:path w="261" h="394">
                  <a:moveTo>
                    <a:pt x="122" y="6"/>
                  </a:moveTo>
                  <a:lnTo>
                    <a:pt x="46" y="22"/>
                  </a:lnTo>
                  <a:lnTo>
                    <a:pt x="11" y="61"/>
                  </a:lnTo>
                  <a:lnTo>
                    <a:pt x="0" y="118"/>
                  </a:lnTo>
                  <a:lnTo>
                    <a:pt x="11" y="186"/>
                  </a:lnTo>
                  <a:lnTo>
                    <a:pt x="28" y="247"/>
                  </a:lnTo>
                  <a:lnTo>
                    <a:pt x="69" y="309"/>
                  </a:lnTo>
                  <a:lnTo>
                    <a:pt x="104" y="360"/>
                  </a:lnTo>
                  <a:lnTo>
                    <a:pt x="145" y="394"/>
                  </a:lnTo>
                  <a:lnTo>
                    <a:pt x="168" y="360"/>
                  </a:lnTo>
                  <a:lnTo>
                    <a:pt x="203" y="338"/>
                  </a:lnTo>
                  <a:lnTo>
                    <a:pt x="226" y="304"/>
                  </a:lnTo>
                  <a:lnTo>
                    <a:pt x="249" y="276"/>
                  </a:lnTo>
                  <a:lnTo>
                    <a:pt x="256" y="220"/>
                  </a:lnTo>
                  <a:lnTo>
                    <a:pt x="261" y="169"/>
                  </a:lnTo>
                  <a:lnTo>
                    <a:pt x="256" y="124"/>
                  </a:lnTo>
                  <a:lnTo>
                    <a:pt x="244" y="85"/>
                  </a:lnTo>
                  <a:lnTo>
                    <a:pt x="221" y="46"/>
                  </a:lnTo>
                  <a:lnTo>
                    <a:pt x="198" y="17"/>
                  </a:lnTo>
                  <a:lnTo>
                    <a:pt x="162" y="0"/>
                  </a:lnTo>
                  <a:lnTo>
                    <a:pt x="122" y="6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6611400" y="4803480"/>
              <a:ext cx="90360" cy="184680"/>
            </a:xfrm>
            <a:custGeom>
              <a:avLst/>
              <a:gdLst/>
              <a:ahLst/>
              <a:rect l="l" t="t" r="r" b="b"/>
              <a:pathLst>
                <a:path w="425" h="787">
                  <a:moveTo>
                    <a:pt x="151" y="0"/>
                  </a:moveTo>
                  <a:lnTo>
                    <a:pt x="105" y="73"/>
                  </a:lnTo>
                  <a:lnTo>
                    <a:pt x="58" y="191"/>
                  </a:lnTo>
                  <a:lnTo>
                    <a:pt x="18" y="326"/>
                  </a:lnTo>
                  <a:lnTo>
                    <a:pt x="0" y="473"/>
                  </a:lnTo>
                  <a:lnTo>
                    <a:pt x="0" y="601"/>
                  </a:lnTo>
                  <a:lnTo>
                    <a:pt x="41" y="708"/>
                  </a:lnTo>
                  <a:lnTo>
                    <a:pt x="122" y="775"/>
                  </a:lnTo>
                  <a:lnTo>
                    <a:pt x="261" y="787"/>
                  </a:lnTo>
                  <a:lnTo>
                    <a:pt x="332" y="748"/>
                  </a:lnTo>
                  <a:lnTo>
                    <a:pt x="384" y="691"/>
                  </a:lnTo>
                  <a:lnTo>
                    <a:pt x="413" y="607"/>
                  </a:lnTo>
                  <a:lnTo>
                    <a:pt x="425" y="512"/>
                  </a:lnTo>
                  <a:lnTo>
                    <a:pt x="418" y="405"/>
                  </a:lnTo>
                  <a:lnTo>
                    <a:pt x="402" y="309"/>
                  </a:lnTo>
                  <a:lnTo>
                    <a:pt x="378" y="219"/>
                  </a:lnTo>
                  <a:lnTo>
                    <a:pt x="355" y="157"/>
                  </a:lnTo>
                  <a:lnTo>
                    <a:pt x="314" y="101"/>
                  </a:lnTo>
                  <a:lnTo>
                    <a:pt x="268" y="61"/>
                  </a:lnTo>
                  <a:lnTo>
                    <a:pt x="210" y="2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5663880" y="4808520"/>
              <a:ext cx="38520" cy="67320"/>
            </a:xfrm>
            <a:custGeom>
              <a:avLst/>
              <a:gdLst/>
              <a:ahLst/>
              <a:rect l="l" t="t" r="r" b="b"/>
              <a:pathLst>
                <a:path w="180" h="292">
                  <a:moveTo>
                    <a:pt x="28" y="0"/>
                  </a:moveTo>
                  <a:lnTo>
                    <a:pt x="12" y="51"/>
                  </a:lnTo>
                  <a:lnTo>
                    <a:pt x="5" y="107"/>
                  </a:lnTo>
                  <a:lnTo>
                    <a:pt x="0" y="140"/>
                  </a:lnTo>
                  <a:lnTo>
                    <a:pt x="12" y="179"/>
                  </a:lnTo>
                  <a:lnTo>
                    <a:pt x="23" y="208"/>
                  </a:lnTo>
                  <a:lnTo>
                    <a:pt x="53" y="236"/>
                  </a:lnTo>
                  <a:lnTo>
                    <a:pt x="93" y="258"/>
                  </a:lnTo>
                  <a:lnTo>
                    <a:pt x="151" y="292"/>
                  </a:lnTo>
                  <a:lnTo>
                    <a:pt x="162" y="242"/>
                  </a:lnTo>
                  <a:lnTo>
                    <a:pt x="180" y="196"/>
                  </a:lnTo>
                  <a:lnTo>
                    <a:pt x="174" y="146"/>
                  </a:lnTo>
                  <a:lnTo>
                    <a:pt x="174" y="107"/>
                  </a:lnTo>
                  <a:lnTo>
                    <a:pt x="151" y="67"/>
                  </a:lnTo>
                  <a:lnTo>
                    <a:pt x="122" y="34"/>
                  </a:lnTo>
                  <a:lnTo>
                    <a:pt x="81" y="1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5795640" y="4808520"/>
              <a:ext cx="30960" cy="54000"/>
            </a:xfrm>
            <a:custGeom>
              <a:avLst/>
              <a:gdLst/>
              <a:ahLst/>
              <a:rect l="l" t="t" r="r" b="b"/>
              <a:pathLst>
                <a:path w="145" h="230">
                  <a:moveTo>
                    <a:pt x="34" y="0"/>
                  </a:moveTo>
                  <a:lnTo>
                    <a:pt x="6" y="73"/>
                  </a:lnTo>
                  <a:lnTo>
                    <a:pt x="0" y="129"/>
                  </a:lnTo>
                  <a:lnTo>
                    <a:pt x="6" y="169"/>
                  </a:lnTo>
                  <a:lnTo>
                    <a:pt x="29" y="202"/>
                  </a:lnTo>
                  <a:lnTo>
                    <a:pt x="70" y="230"/>
                  </a:lnTo>
                  <a:lnTo>
                    <a:pt x="87" y="230"/>
                  </a:lnTo>
                  <a:lnTo>
                    <a:pt x="117" y="196"/>
                  </a:lnTo>
                  <a:lnTo>
                    <a:pt x="140" y="169"/>
                  </a:lnTo>
                  <a:lnTo>
                    <a:pt x="145" y="135"/>
                  </a:lnTo>
                  <a:lnTo>
                    <a:pt x="145" y="107"/>
                  </a:lnTo>
                  <a:lnTo>
                    <a:pt x="128" y="73"/>
                  </a:lnTo>
                  <a:lnTo>
                    <a:pt x="105" y="39"/>
                  </a:lnTo>
                  <a:lnTo>
                    <a:pt x="70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6466320" y="4808520"/>
              <a:ext cx="77400" cy="125640"/>
            </a:xfrm>
            <a:custGeom>
              <a:avLst/>
              <a:gdLst/>
              <a:ahLst/>
              <a:rect l="l" t="t" r="r" b="b"/>
              <a:pathLst>
                <a:path w="355" h="539">
                  <a:moveTo>
                    <a:pt x="157" y="0"/>
                  </a:moveTo>
                  <a:lnTo>
                    <a:pt x="87" y="27"/>
                  </a:lnTo>
                  <a:lnTo>
                    <a:pt x="41" y="101"/>
                  </a:lnTo>
                  <a:lnTo>
                    <a:pt x="6" y="191"/>
                  </a:lnTo>
                  <a:lnTo>
                    <a:pt x="0" y="297"/>
                  </a:lnTo>
                  <a:lnTo>
                    <a:pt x="11" y="393"/>
                  </a:lnTo>
                  <a:lnTo>
                    <a:pt x="46" y="478"/>
                  </a:lnTo>
                  <a:lnTo>
                    <a:pt x="99" y="528"/>
                  </a:lnTo>
                  <a:lnTo>
                    <a:pt x="180" y="539"/>
                  </a:lnTo>
                  <a:lnTo>
                    <a:pt x="256" y="495"/>
                  </a:lnTo>
                  <a:lnTo>
                    <a:pt x="313" y="422"/>
                  </a:lnTo>
                  <a:lnTo>
                    <a:pt x="343" y="326"/>
                  </a:lnTo>
                  <a:lnTo>
                    <a:pt x="355" y="230"/>
                  </a:lnTo>
                  <a:lnTo>
                    <a:pt x="331" y="129"/>
                  </a:lnTo>
                  <a:lnTo>
                    <a:pt x="297" y="51"/>
                  </a:lnTo>
                  <a:lnTo>
                    <a:pt x="232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11240" y="4811040"/>
              <a:ext cx="29880" cy="51480"/>
            </a:xfrm>
            <a:custGeom>
              <a:avLst/>
              <a:gdLst/>
              <a:ahLst/>
              <a:rect l="l" t="t" r="r" b="b"/>
              <a:pathLst>
                <a:path w="139" h="218">
                  <a:moveTo>
                    <a:pt x="64" y="0"/>
                  </a:moveTo>
                  <a:lnTo>
                    <a:pt x="23" y="39"/>
                  </a:lnTo>
                  <a:lnTo>
                    <a:pt x="6" y="89"/>
                  </a:lnTo>
                  <a:lnTo>
                    <a:pt x="0" y="111"/>
                  </a:lnTo>
                  <a:lnTo>
                    <a:pt x="0" y="145"/>
                  </a:lnTo>
                  <a:lnTo>
                    <a:pt x="0" y="174"/>
                  </a:lnTo>
                  <a:lnTo>
                    <a:pt x="6" y="218"/>
                  </a:lnTo>
                  <a:lnTo>
                    <a:pt x="17" y="213"/>
                  </a:lnTo>
                  <a:lnTo>
                    <a:pt x="47" y="213"/>
                  </a:lnTo>
                  <a:lnTo>
                    <a:pt x="70" y="207"/>
                  </a:lnTo>
                  <a:lnTo>
                    <a:pt x="75" y="207"/>
                  </a:lnTo>
                  <a:lnTo>
                    <a:pt x="93" y="174"/>
                  </a:lnTo>
                  <a:lnTo>
                    <a:pt x="116" y="145"/>
                  </a:lnTo>
                  <a:lnTo>
                    <a:pt x="128" y="117"/>
                  </a:lnTo>
                  <a:lnTo>
                    <a:pt x="139" y="95"/>
                  </a:lnTo>
                  <a:lnTo>
                    <a:pt x="133" y="66"/>
                  </a:lnTo>
                  <a:lnTo>
                    <a:pt x="121" y="44"/>
                  </a:lnTo>
                  <a:lnTo>
                    <a:pt x="98" y="2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5893920" y="4811040"/>
              <a:ext cx="33480" cy="5868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34" y="0"/>
                  </a:moveTo>
                  <a:lnTo>
                    <a:pt x="16" y="32"/>
                  </a:lnTo>
                  <a:lnTo>
                    <a:pt x="11" y="83"/>
                  </a:lnTo>
                  <a:lnTo>
                    <a:pt x="0" y="134"/>
                  </a:lnTo>
                  <a:lnTo>
                    <a:pt x="5" y="184"/>
                  </a:lnTo>
                  <a:lnTo>
                    <a:pt x="5" y="218"/>
                  </a:lnTo>
                  <a:lnTo>
                    <a:pt x="28" y="246"/>
                  </a:lnTo>
                  <a:lnTo>
                    <a:pt x="51" y="252"/>
                  </a:lnTo>
                  <a:lnTo>
                    <a:pt x="99" y="241"/>
                  </a:lnTo>
                  <a:lnTo>
                    <a:pt x="133" y="207"/>
                  </a:lnTo>
                  <a:lnTo>
                    <a:pt x="156" y="174"/>
                  </a:lnTo>
                  <a:lnTo>
                    <a:pt x="156" y="140"/>
                  </a:lnTo>
                  <a:lnTo>
                    <a:pt x="156" y="106"/>
                  </a:lnTo>
                  <a:lnTo>
                    <a:pt x="133" y="72"/>
                  </a:lnTo>
                  <a:lnTo>
                    <a:pt x="110" y="44"/>
                  </a:lnTo>
                  <a:lnTo>
                    <a:pt x="69" y="1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5255280" y="4813200"/>
              <a:ext cx="25560" cy="41760"/>
            </a:xfrm>
            <a:custGeom>
              <a:avLst/>
              <a:gdLst/>
              <a:ahLst/>
              <a:rect l="l" t="t" r="r" b="b"/>
              <a:pathLst>
                <a:path w="122" h="180">
                  <a:moveTo>
                    <a:pt x="53" y="0"/>
                  </a:moveTo>
                  <a:lnTo>
                    <a:pt x="23" y="29"/>
                  </a:lnTo>
                  <a:lnTo>
                    <a:pt x="12" y="51"/>
                  </a:lnTo>
                  <a:lnTo>
                    <a:pt x="0" y="68"/>
                  </a:lnTo>
                  <a:lnTo>
                    <a:pt x="7" y="90"/>
                  </a:lnTo>
                  <a:lnTo>
                    <a:pt x="7" y="101"/>
                  </a:lnTo>
                  <a:lnTo>
                    <a:pt x="12" y="124"/>
                  </a:lnTo>
                  <a:lnTo>
                    <a:pt x="23" y="140"/>
                  </a:lnTo>
                  <a:lnTo>
                    <a:pt x="41" y="180"/>
                  </a:lnTo>
                  <a:lnTo>
                    <a:pt x="88" y="180"/>
                  </a:lnTo>
                  <a:lnTo>
                    <a:pt x="117" y="174"/>
                  </a:lnTo>
                  <a:lnTo>
                    <a:pt x="122" y="152"/>
                  </a:lnTo>
                  <a:lnTo>
                    <a:pt x="117" y="130"/>
                  </a:lnTo>
                  <a:lnTo>
                    <a:pt x="94" y="96"/>
                  </a:lnTo>
                  <a:lnTo>
                    <a:pt x="76" y="62"/>
                  </a:lnTo>
                  <a:lnTo>
                    <a:pt x="58" y="2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5955840" y="4813200"/>
              <a:ext cx="24480" cy="66600"/>
            </a:xfrm>
            <a:custGeom>
              <a:avLst/>
              <a:gdLst/>
              <a:ahLst/>
              <a:rect l="l" t="t" r="r" b="b"/>
              <a:pathLst>
                <a:path w="111" h="282">
                  <a:moveTo>
                    <a:pt x="35" y="0"/>
                  </a:moveTo>
                  <a:lnTo>
                    <a:pt x="17" y="39"/>
                  </a:lnTo>
                  <a:lnTo>
                    <a:pt x="6" y="79"/>
                  </a:lnTo>
                  <a:lnTo>
                    <a:pt x="0" y="113"/>
                  </a:lnTo>
                  <a:lnTo>
                    <a:pt x="0" y="152"/>
                  </a:lnTo>
                  <a:lnTo>
                    <a:pt x="0" y="186"/>
                  </a:lnTo>
                  <a:lnTo>
                    <a:pt x="12" y="220"/>
                  </a:lnTo>
                  <a:lnTo>
                    <a:pt x="29" y="248"/>
                  </a:lnTo>
                  <a:lnTo>
                    <a:pt x="63" y="282"/>
                  </a:lnTo>
                  <a:lnTo>
                    <a:pt x="75" y="242"/>
                  </a:lnTo>
                  <a:lnTo>
                    <a:pt x="88" y="203"/>
                  </a:lnTo>
                  <a:lnTo>
                    <a:pt x="98" y="164"/>
                  </a:lnTo>
                  <a:lnTo>
                    <a:pt x="111" y="130"/>
                  </a:lnTo>
                  <a:lnTo>
                    <a:pt x="104" y="90"/>
                  </a:lnTo>
                  <a:lnTo>
                    <a:pt x="98" y="56"/>
                  </a:lnTo>
                  <a:lnTo>
                    <a:pt x="70" y="2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5148000" y="4817160"/>
              <a:ext cx="72360" cy="158760"/>
            </a:xfrm>
            <a:custGeom>
              <a:avLst/>
              <a:gdLst/>
              <a:ahLst/>
              <a:rect l="l" t="t" r="r" b="b"/>
              <a:pathLst>
                <a:path w="332" h="685">
                  <a:moveTo>
                    <a:pt x="152" y="0"/>
                  </a:moveTo>
                  <a:lnTo>
                    <a:pt x="180" y="5"/>
                  </a:lnTo>
                  <a:lnTo>
                    <a:pt x="215" y="17"/>
                  </a:lnTo>
                  <a:lnTo>
                    <a:pt x="238" y="27"/>
                  </a:lnTo>
                  <a:lnTo>
                    <a:pt x="268" y="50"/>
                  </a:lnTo>
                  <a:lnTo>
                    <a:pt x="286" y="95"/>
                  </a:lnTo>
                  <a:lnTo>
                    <a:pt x="286" y="152"/>
                  </a:lnTo>
                  <a:lnTo>
                    <a:pt x="286" y="174"/>
                  </a:lnTo>
                  <a:lnTo>
                    <a:pt x="286" y="208"/>
                  </a:lnTo>
                  <a:lnTo>
                    <a:pt x="286" y="236"/>
                  </a:lnTo>
                  <a:lnTo>
                    <a:pt x="291" y="270"/>
                  </a:lnTo>
                  <a:lnTo>
                    <a:pt x="297" y="314"/>
                  </a:lnTo>
                  <a:lnTo>
                    <a:pt x="314" y="382"/>
                  </a:lnTo>
                  <a:lnTo>
                    <a:pt x="320" y="449"/>
                  </a:lnTo>
                  <a:lnTo>
                    <a:pt x="332" y="522"/>
                  </a:lnTo>
                  <a:lnTo>
                    <a:pt x="326" y="579"/>
                  </a:lnTo>
                  <a:lnTo>
                    <a:pt x="303" y="630"/>
                  </a:lnTo>
                  <a:lnTo>
                    <a:pt x="256" y="663"/>
                  </a:lnTo>
                  <a:lnTo>
                    <a:pt x="187" y="685"/>
                  </a:lnTo>
                  <a:lnTo>
                    <a:pt x="81" y="669"/>
                  </a:lnTo>
                  <a:lnTo>
                    <a:pt x="30" y="640"/>
                  </a:lnTo>
                  <a:lnTo>
                    <a:pt x="0" y="589"/>
                  </a:lnTo>
                  <a:lnTo>
                    <a:pt x="7" y="528"/>
                  </a:lnTo>
                  <a:lnTo>
                    <a:pt x="18" y="461"/>
                  </a:lnTo>
                  <a:lnTo>
                    <a:pt x="41" y="393"/>
                  </a:lnTo>
                  <a:lnTo>
                    <a:pt x="65" y="331"/>
                  </a:lnTo>
                  <a:lnTo>
                    <a:pt x="81" y="287"/>
                  </a:lnTo>
                  <a:lnTo>
                    <a:pt x="81" y="230"/>
                  </a:lnTo>
                  <a:lnTo>
                    <a:pt x="88" y="191"/>
                  </a:lnTo>
                  <a:lnTo>
                    <a:pt x="88" y="157"/>
                  </a:lnTo>
                  <a:lnTo>
                    <a:pt x="93" y="123"/>
                  </a:lnTo>
                  <a:lnTo>
                    <a:pt x="93" y="89"/>
                  </a:lnTo>
                  <a:lnTo>
                    <a:pt x="111" y="61"/>
                  </a:lnTo>
                  <a:lnTo>
                    <a:pt x="123" y="27"/>
                  </a:lnTo>
                  <a:lnTo>
                    <a:pt x="15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5335560" y="4817160"/>
              <a:ext cx="14040" cy="33120"/>
            </a:xfrm>
            <a:custGeom>
              <a:avLst/>
              <a:gdLst/>
              <a:ahLst/>
              <a:rect l="l" t="t" r="r" b="b"/>
              <a:pathLst>
                <a:path w="71" h="145">
                  <a:moveTo>
                    <a:pt x="29" y="0"/>
                  </a:moveTo>
                  <a:lnTo>
                    <a:pt x="6" y="44"/>
                  </a:lnTo>
                  <a:lnTo>
                    <a:pt x="0" y="73"/>
                  </a:lnTo>
                  <a:lnTo>
                    <a:pt x="13" y="101"/>
                  </a:lnTo>
                  <a:lnTo>
                    <a:pt x="29" y="145"/>
                  </a:lnTo>
                  <a:lnTo>
                    <a:pt x="41" y="112"/>
                  </a:lnTo>
                  <a:lnTo>
                    <a:pt x="47" y="89"/>
                  </a:lnTo>
                  <a:lnTo>
                    <a:pt x="53" y="56"/>
                  </a:lnTo>
                  <a:lnTo>
                    <a:pt x="71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6166440" y="4817160"/>
              <a:ext cx="56520" cy="79920"/>
            </a:xfrm>
            <a:custGeom>
              <a:avLst/>
              <a:gdLst/>
              <a:ahLst/>
              <a:rect l="l" t="t" r="r" b="b"/>
              <a:pathLst>
                <a:path w="262" h="348">
                  <a:moveTo>
                    <a:pt x="70" y="0"/>
                  </a:moveTo>
                  <a:lnTo>
                    <a:pt x="40" y="50"/>
                  </a:lnTo>
                  <a:lnTo>
                    <a:pt x="24" y="118"/>
                  </a:lnTo>
                  <a:lnTo>
                    <a:pt x="0" y="185"/>
                  </a:lnTo>
                  <a:lnTo>
                    <a:pt x="0" y="253"/>
                  </a:lnTo>
                  <a:lnTo>
                    <a:pt x="6" y="304"/>
                  </a:lnTo>
                  <a:lnTo>
                    <a:pt x="29" y="337"/>
                  </a:lnTo>
                  <a:lnTo>
                    <a:pt x="81" y="348"/>
                  </a:lnTo>
                  <a:lnTo>
                    <a:pt x="163" y="326"/>
                  </a:lnTo>
                  <a:lnTo>
                    <a:pt x="215" y="287"/>
                  </a:lnTo>
                  <a:lnTo>
                    <a:pt x="250" y="241"/>
                  </a:lnTo>
                  <a:lnTo>
                    <a:pt x="262" y="196"/>
                  </a:lnTo>
                  <a:lnTo>
                    <a:pt x="256" y="152"/>
                  </a:lnTo>
                  <a:lnTo>
                    <a:pt x="227" y="101"/>
                  </a:lnTo>
                  <a:lnTo>
                    <a:pt x="192" y="56"/>
                  </a:lnTo>
                  <a:lnTo>
                    <a:pt x="134" y="2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5640480" y="4820760"/>
              <a:ext cx="12600" cy="44280"/>
            </a:xfrm>
            <a:custGeom>
              <a:avLst/>
              <a:gdLst/>
              <a:ahLst/>
              <a:rect l="l" t="t" r="r" b="b"/>
              <a:pathLst>
                <a:path w="58" h="191">
                  <a:moveTo>
                    <a:pt x="47" y="0"/>
                  </a:moveTo>
                  <a:lnTo>
                    <a:pt x="18" y="16"/>
                  </a:lnTo>
                  <a:lnTo>
                    <a:pt x="7" y="39"/>
                  </a:lnTo>
                  <a:lnTo>
                    <a:pt x="0" y="67"/>
                  </a:lnTo>
                  <a:lnTo>
                    <a:pt x="12" y="101"/>
                  </a:lnTo>
                  <a:lnTo>
                    <a:pt x="35" y="151"/>
                  </a:lnTo>
                  <a:lnTo>
                    <a:pt x="58" y="191"/>
                  </a:lnTo>
                  <a:lnTo>
                    <a:pt x="53" y="168"/>
                  </a:lnTo>
                  <a:lnTo>
                    <a:pt x="53" y="140"/>
                  </a:lnTo>
                  <a:lnTo>
                    <a:pt x="53" y="106"/>
                  </a:lnTo>
                  <a:lnTo>
                    <a:pt x="53" y="78"/>
                  </a:lnTo>
                  <a:lnTo>
                    <a:pt x="47" y="44"/>
                  </a:lnTo>
                  <a:lnTo>
                    <a:pt x="47" y="1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8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5466240" y="4823280"/>
              <a:ext cx="32040" cy="64800"/>
            </a:xfrm>
            <a:custGeom>
              <a:avLst/>
              <a:gdLst/>
              <a:ahLst/>
              <a:rect l="l" t="t" r="r" b="b"/>
              <a:pathLst>
                <a:path w="145" h="287">
                  <a:moveTo>
                    <a:pt x="87" y="0"/>
                  </a:moveTo>
                  <a:lnTo>
                    <a:pt x="35" y="46"/>
                  </a:lnTo>
                  <a:lnTo>
                    <a:pt x="11" y="91"/>
                  </a:lnTo>
                  <a:lnTo>
                    <a:pt x="0" y="135"/>
                  </a:lnTo>
                  <a:lnTo>
                    <a:pt x="11" y="186"/>
                  </a:lnTo>
                  <a:lnTo>
                    <a:pt x="23" y="220"/>
                  </a:lnTo>
                  <a:lnTo>
                    <a:pt x="35" y="253"/>
                  </a:lnTo>
                  <a:lnTo>
                    <a:pt x="46" y="277"/>
                  </a:lnTo>
                  <a:lnTo>
                    <a:pt x="58" y="287"/>
                  </a:lnTo>
                  <a:lnTo>
                    <a:pt x="87" y="253"/>
                  </a:lnTo>
                  <a:lnTo>
                    <a:pt x="116" y="226"/>
                  </a:lnTo>
                  <a:lnTo>
                    <a:pt x="127" y="197"/>
                  </a:lnTo>
                  <a:lnTo>
                    <a:pt x="139" y="175"/>
                  </a:lnTo>
                  <a:lnTo>
                    <a:pt x="139" y="135"/>
                  </a:lnTo>
                  <a:lnTo>
                    <a:pt x="145" y="101"/>
                  </a:lnTo>
                  <a:lnTo>
                    <a:pt x="139" y="57"/>
                  </a:lnTo>
                  <a:lnTo>
                    <a:pt x="139" y="1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5559120" y="4824360"/>
              <a:ext cx="34560" cy="59040"/>
            </a:xfrm>
            <a:custGeom>
              <a:avLst/>
              <a:gdLst/>
              <a:ahLst/>
              <a:rect l="l" t="t" r="r" b="b"/>
              <a:pathLst>
                <a:path w="164" h="248">
                  <a:moveTo>
                    <a:pt x="41" y="0"/>
                  </a:moveTo>
                  <a:lnTo>
                    <a:pt x="24" y="28"/>
                  </a:lnTo>
                  <a:lnTo>
                    <a:pt x="12" y="79"/>
                  </a:lnTo>
                  <a:lnTo>
                    <a:pt x="0" y="123"/>
                  </a:lnTo>
                  <a:lnTo>
                    <a:pt x="0" y="174"/>
                  </a:lnTo>
                  <a:lnTo>
                    <a:pt x="0" y="208"/>
                  </a:lnTo>
                  <a:lnTo>
                    <a:pt x="18" y="236"/>
                  </a:lnTo>
                  <a:lnTo>
                    <a:pt x="47" y="248"/>
                  </a:lnTo>
                  <a:lnTo>
                    <a:pt x="94" y="248"/>
                  </a:lnTo>
                  <a:lnTo>
                    <a:pt x="134" y="219"/>
                  </a:lnTo>
                  <a:lnTo>
                    <a:pt x="157" y="191"/>
                  </a:lnTo>
                  <a:lnTo>
                    <a:pt x="164" y="152"/>
                  </a:lnTo>
                  <a:lnTo>
                    <a:pt x="164" y="118"/>
                  </a:lnTo>
                  <a:lnTo>
                    <a:pt x="140" y="79"/>
                  </a:lnTo>
                  <a:lnTo>
                    <a:pt x="111" y="50"/>
                  </a:lnTo>
                  <a:lnTo>
                    <a:pt x="76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5175360" y="4831920"/>
              <a:ext cx="21960" cy="3420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29" y="0"/>
                  </a:moveTo>
                  <a:lnTo>
                    <a:pt x="11" y="28"/>
                  </a:lnTo>
                  <a:lnTo>
                    <a:pt x="6" y="61"/>
                  </a:lnTo>
                  <a:lnTo>
                    <a:pt x="0" y="85"/>
                  </a:lnTo>
                  <a:lnTo>
                    <a:pt x="6" y="107"/>
                  </a:lnTo>
                  <a:lnTo>
                    <a:pt x="6" y="118"/>
                  </a:lnTo>
                  <a:lnTo>
                    <a:pt x="23" y="129"/>
                  </a:lnTo>
                  <a:lnTo>
                    <a:pt x="46" y="141"/>
                  </a:lnTo>
                  <a:lnTo>
                    <a:pt x="81" y="152"/>
                  </a:lnTo>
                  <a:lnTo>
                    <a:pt x="87" y="118"/>
                  </a:lnTo>
                  <a:lnTo>
                    <a:pt x="99" y="95"/>
                  </a:lnTo>
                  <a:lnTo>
                    <a:pt x="99" y="78"/>
                  </a:lnTo>
                  <a:lnTo>
                    <a:pt x="104" y="61"/>
                  </a:lnTo>
                  <a:lnTo>
                    <a:pt x="99" y="45"/>
                  </a:lnTo>
                  <a:lnTo>
                    <a:pt x="87" y="28"/>
                  </a:lnTo>
                  <a:lnTo>
                    <a:pt x="64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7881840" y="4831920"/>
              <a:ext cx="78840" cy="116640"/>
            </a:xfrm>
            <a:custGeom>
              <a:avLst/>
              <a:gdLst/>
              <a:ahLst/>
              <a:rect l="l" t="t" r="r" b="b"/>
              <a:pathLst>
                <a:path w="367" h="500">
                  <a:moveTo>
                    <a:pt x="222" y="0"/>
                  </a:moveTo>
                  <a:lnTo>
                    <a:pt x="99" y="22"/>
                  </a:lnTo>
                  <a:lnTo>
                    <a:pt x="36" y="73"/>
                  </a:lnTo>
                  <a:lnTo>
                    <a:pt x="0" y="135"/>
                  </a:lnTo>
                  <a:lnTo>
                    <a:pt x="7" y="213"/>
                  </a:lnTo>
                  <a:lnTo>
                    <a:pt x="30" y="287"/>
                  </a:lnTo>
                  <a:lnTo>
                    <a:pt x="65" y="365"/>
                  </a:lnTo>
                  <a:lnTo>
                    <a:pt x="106" y="438"/>
                  </a:lnTo>
                  <a:lnTo>
                    <a:pt x="146" y="500"/>
                  </a:lnTo>
                  <a:lnTo>
                    <a:pt x="164" y="478"/>
                  </a:lnTo>
                  <a:lnTo>
                    <a:pt x="193" y="461"/>
                  </a:lnTo>
                  <a:lnTo>
                    <a:pt x="228" y="433"/>
                  </a:lnTo>
                  <a:lnTo>
                    <a:pt x="263" y="404"/>
                  </a:lnTo>
                  <a:lnTo>
                    <a:pt x="314" y="343"/>
                  </a:lnTo>
                  <a:lnTo>
                    <a:pt x="355" y="298"/>
                  </a:lnTo>
                  <a:lnTo>
                    <a:pt x="362" y="242"/>
                  </a:lnTo>
                  <a:lnTo>
                    <a:pt x="367" y="191"/>
                  </a:lnTo>
                  <a:lnTo>
                    <a:pt x="362" y="135"/>
                  </a:lnTo>
                  <a:lnTo>
                    <a:pt x="350" y="90"/>
                  </a:lnTo>
                  <a:lnTo>
                    <a:pt x="327" y="45"/>
                  </a:lnTo>
                  <a:lnTo>
                    <a:pt x="297" y="17"/>
                  </a:lnTo>
                  <a:lnTo>
                    <a:pt x="263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5094000" y="4834440"/>
              <a:ext cx="50400" cy="135360"/>
            </a:xfrm>
            <a:custGeom>
              <a:avLst/>
              <a:gdLst/>
              <a:ahLst/>
              <a:rect l="l" t="t" r="r" b="b"/>
              <a:pathLst>
                <a:path w="232" h="579">
                  <a:moveTo>
                    <a:pt x="122" y="0"/>
                  </a:moveTo>
                  <a:lnTo>
                    <a:pt x="140" y="34"/>
                  </a:lnTo>
                  <a:lnTo>
                    <a:pt x="168" y="113"/>
                  </a:lnTo>
                  <a:lnTo>
                    <a:pt x="197" y="209"/>
                  </a:lnTo>
                  <a:lnTo>
                    <a:pt x="227" y="321"/>
                  </a:lnTo>
                  <a:lnTo>
                    <a:pt x="232" y="422"/>
                  </a:lnTo>
                  <a:lnTo>
                    <a:pt x="227" y="511"/>
                  </a:lnTo>
                  <a:lnTo>
                    <a:pt x="186" y="568"/>
                  </a:lnTo>
                  <a:lnTo>
                    <a:pt x="110" y="579"/>
                  </a:lnTo>
                  <a:lnTo>
                    <a:pt x="52" y="557"/>
                  </a:lnTo>
                  <a:lnTo>
                    <a:pt x="17" y="523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6" y="388"/>
                  </a:lnTo>
                  <a:lnTo>
                    <a:pt x="23" y="337"/>
                  </a:lnTo>
                  <a:lnTo>
                    <a:pt x="34" y="287"/>
                  </a:lnTo>
                  <a:lnTo>
                    <a:pt x="46" y="248"/>
                  </a:lnTo>
                  <a:lnTo>
                    <a:pt x="34" y="197"/>
                  </a:lnTo>
                  <a:lnTo>
                    <a:pt x="23" y="146"/>
                  </a:lnTo>
                  <a:lnTo>
                    <a:pt x="17" y="90"/>
                  </a:lnTo>
                  <a:lnTo>
                    <a:pt x="46" y="40"/>
                  </a:lnTo>
                  <a:lnTo>
                    <a:pt x="52" y="28"/>
                  </a:lnTo>
                  <a:lnTo>
                    <a:pt x="82" y="17"/>
                  </a:lnTo>
                  <a:lnTo>
                    <a:pt x="105" y="6"/>
                  </a:lnTo>
                  <a:lnTo>
                    <a:pt x="12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4899960" y="4840560"/>
              <a:ext cx="192240" cy="119520"/>
            </a:xfrm>
            <a:custGeom>
              <a:avLst/>
              <a:gdLst/>
              <a:ahLst/>
              <a:rect l="l" t="t" r="r" b="b"/>
              <a:pathLst>
                <a:path w="895" h="517">
                  <a:moveTo>
                    <a:pt x="773" y="5"/>
                  </a:moveTo>
                  <a:lnTo>
                    <a:pt x="826" y="0"/>
                  </a:lnTo>
                  <a:lnTo>
                    <a:pt x="866" y="22"/>
                  </a:lnTo>
                  <a:lnTo>
                    <a:pt x="889" y="56"/>
                  </a:lnTo>
                  <a:lnTo>
                    <a:pt x="895" y="101"/>
                  </a:lnTo>
                  <a:lnTo>
                    <a:pt x="889" y="140"/>
                  </a:lnTo>
                  <a:lnTo>
                    <a:pt x="884" y="179"/>
                  </a:lnTo>
                  <a:lnTo>
                    <a:pt x="872" y="203"/>
                  </a:lnTo>
                  <a:lnTo>
                    <a:pt x="877" y="213"/>
                  </a:lnTo>
                  <a:lnTo>
                    <a:pt x="877" y="242"/>
                  </a:lnTo>
                  <a:lnTo>
                    <a:pt x="884" y="275"/>
                  </a:lnTo>
                  <a:lnTo>
                    <a:pt x="884" y="314"/>
                  </a:lnTo>
                  <a:lnTo>
                    <a:pt x="884" y="360"/>
                  </a:lnTo>
                  <a:lnTo>
                    <a:pt x="877" y="399"/>
                  </a:lnTo>
                  <a:lnTo>
                    <a:pt x="877" y="438"/>
                  </a:lnTo>
                  <a:lnTo>
                    <a:pt x="872" y="478"/>
                  </a:lnTo>
                  <a:lnTo>
                    <a:pt x="866" y="517"/>
                  </a:lnTo>
                  <a:lnTo>
                    <a:pt x="819" y="512"/>
                  </a:lnTo>
                  <a:lnTo>
                    <a:pt x="778" y="512"/>
                  </a:lnTo>
                  <a:lnTo>
                    <a:pt x="732" y="505"/>
                  </a:lnTo>
                  <a:lnTo>
                    <a:pt x="692" y="505"/>
                  </a:lnTo>
                  <a:lnTo>
                    <a:pt x="680" y="455"/>
                  </a:lnTo>
                  <a:lnTo>
                    <a:pt x="646" y="455"/>
                  </a:lnTo>
                  <a:lnTo>
                    <a:pt x="610" y="478"/>
                  </a:lnTo>
                  <a:lnTo>
                    <a:pt x="575" y="500"/>
                  </a:lnTo>
                  <a:lnTo>
                    <a:pt x="547" y="517"/>
                  </a:lnTo>
                  <a:lnTo>
                    <a:pt x="489" y="512"/>
                  </a:lnTo>
                  <a:lnTo>
                    <a:pt x="453" y="495"/>
                  </a:lnTo>
                  <a:lnTo>
                    <a:pt x="418" y="472"/>
                  </a:lnTo>
                  <a:lnTo>
                    <a:pt x="395" y="466"/>
                  </a:lnTo>
                  <a:lnTo>
                    <a:pt x="349" y="455"/>
                  </a:lnTo>
                  <a:lnTo>
                    <a:pt x="302" y="455"/>
                  </a:lnTo>
                  <a:lnTo>
                    <a:pt x="256" y="455"/>
                  </a:lnTo>
                  <a:lnTo>
                    <a:pt x="210" y="461"/>
                  </a:lnTo>
                  <a:lnTo>
                    <a:pt x="157" y="455"/>
                  </a:lnTo>
                  <a:lnTo>
                    <a:pt x="111" y="455"/>
                  </a:lnTo>
                  <a:lnTo>
                    <a:pt x="64" y="455"/>
                  </a:lnTo>
                  <a:lnTo>
                    <a:pt x="23" y="455"/>
                  </a:lnTo>
                  <a:lnTo>
                    <a:pt x="5" y="387"/>
                  </a:lnTo>
                  <a:lnTo>
                    <a:pt x="0" y="321"/>
                  </a:lnTo>
                  <a:lnTo>
                    <a:pt x="0" y="247"/>
                  </a:lnTo>
                  <a:lnTo>
                    <a:pt x="17" y="191"/>
                  </a:lnTo>
                  <a:lnTo>
                    <a:pt x="35" y="140"/>
                  </a:lnTo>
                  <a:lnTo>
                    <a:pt x="70" y="118"/>
                  </a:lnTo>
                  <a:lnTo>
                    <a:pt x="116" y="118"/>
                  </a:lnTo>
                  <a:lnTo>
                    <a:pt x="185" y="157"/>
                  </a:lnTo>
                  <a:lnTo>
                    <a:pt x="210" y="112"/>
                  </a:lnTo>
                  <a:lnTo>
                    <a:pt x="238" y="84"/>
                  </a:lnTo>
                  <a:lnTo>
                    <a:pt x="268" y="61"/>
                  </a:lnTo>
                  <a:lnTo>
                    <a:pt x="296" y="56"/>
                  </a:lnTo>
                  <a:lnTo>
                    <a:pt x="319" y="56"/>
                  </a:lnTo>
                  <a:lnTo>
                    <a:pt x="342" y="73"/>
                  </a:lnTo>
                  <a:lnTo>
                    <a:pt x="367" y="107"/>
                  </a:lnTo>
                  <a:lnTo>
                    <a:pt x="395" y="157"/>
                  </a:lnTo>
                  <a:lnTo>
                    <a:pt x="441" y="112"/>
                  </a:lnTo>
                  <a:lnTo>
                    <a:pt x="489" y="84"/>
                  </a:lnTo>
                  <a:lnTo>
                    <a:pt x="523" y="61"/>
                  </a:lnTo>
                  <a:lnTo>
                    <a:pt x="564" y="61"/>
                  </a:lnTo>
                  <a:lnTo>
                    <a:pt x="593" y="67"/>
                  </a:lnTo>
                  <a:lnTo>
                    <a:pt x="628" y="9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5034600" y="4841640"/>
              <a:ext cx="30960" cy="50400"/>
            </a:xfrm>
            <a:custGeom>
              <a:avLst/>
              <a:gdLst/>
              <a:ahLst/>
              <a:rect l="l" t="t" r="r" b="b"/>
              <a:pathLst>
                <a:path w="145" h="220">
                  <a:moveTo>
                    <a:pt x="0" y="90"/>
                  </a:moveTo>
                  <a:lnTo>
                    <a:pt x="23" y="141"/>
                  </a:lnTo>
                  <a:lnTo>
                    <a:pt x="52" y="220"/>
                  </a:lnTo>
                  <a:lnTo>
                    <a:pt x="52" y="169"/>
                  </a:lnTo>
                  <a:lnTo>
                    <a:pt x="64" y="124"/>
                  </a:lnTo>
                  <a:lnTo>
                    <a:pt x="76" y="79"/>
                  </a:lnTo>
                  <a:lnTo>
                    <a:pt x="92" y="51"/>
                  </a:lnTo>
                  <a:lnTo>
                    <a:pt x="110" y="17"/>
                  </a:lnTo>
                  <a:lnTo>
                    <a:pt x="14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5113440" y="4852800"/>
              <a:ext cx="12600" cy="2232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" y="0"/>
                  </a:moveTo>
                  <a:lnTo>
                    <a:pt x="0" y="39"/>
                  </a:lnTo>
                  <a:lnTo>
                    <a:pt x="0" y="67"/>
                  </a:lnTo>
                  <a:lnTo>
                    <a:pt x="5" y="84"/>
                  </a:lnTo>
                  <a:lnTo>
                    <a:pt x="12" y="96"/>
                  </a:lnTo>
                  <a:lnTo>
                    <a:pt x="17" y="90"/>
                  </a:lnTo>
                  <a:lnTo>
                    <a:pt x="29" y="90"/>
                  </a:lnTo>
                  <a:lnTo>
                    <a:pt x="58" y="84"/>
                  </a:lnTo>
                  <a:lnTo>
                    <a:pt x="47" y="51"/>
                  </a:lnTo>
                  <a:lnTo>
                    <a:pt x="17" y="1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9" name="Freeform 39"/>
            <p:cNvSpPr/>
            <p:nvPr/>
          </p:nvSpPr>
          <p:spPr>
            <a:xfrm>
              <a:off x="5324040" y="4852800"/>
              <a:ext cx="34560" cy="30960"/>
            </a:xfrm>
            <a:custGeom>
              <a:avLst/>
              <a:gdLst/>
              <a:ahLst/>
              <a:rect l="l" t="t" r="r" b="b"/>
              <a:pathLst>
                <a:path w="163" h="130">
                  <a:moveTo>
                    <a:pt x="146" y="0"/>
                  </a:moveTo>
                  <a:lnTo>
                    <a:pt x="128" y="5"/>
                  </a:lnTo>
                  <a:lnTo>
                    <a:pt x="99" y="22"/>
                  </a:lnTo>
                  <a:lnTo>
                    <a:pt x="65" y="39"/>
                  </a:lnTo>
                  <a:lnTo>
                    <a:pt x="35" y="62"/>
                  </a:lnTo>
                  <a:lnTo>
                    <a:pt x="6" y="79"/>
                  </a:lnTo>
                  <a:lnTo>
                    <a:pt x="0" y="101"/>
                  </a:lnTo>
                  <a:lnTo>
                    <a:pt x="12" y="118"/>
                  </a:lnTo>
                  <a:lnTo>
                    <a:pt x="52" y="130"/>
                  </a:lnTo>
                  <a:lnTo>
                    <a:pt x="99" y="123"/>
                  </a:lnTo>
                  <a:lnTo>
                    <a:pt x="134" y="118"/>
                  </a:lnTo>
                  <a:lnTo>
                    <a:pt x="151" y="101"/>
                  </a:lnTo>
                  <a:lnTo>
                    <a:pt x="163" y="84"/>
                  </a:lnTo>
                  <a:lnTo>
                    <a:pt x="157" y="39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7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0" name="Freeform 40"/>
            <p:cNvSpPr/>
            <p:nvPr/>
          </p:nvSpPr>
          <p:spPr>
            <a:xfrm>
              <a:off x="5985720" y="4852800"/>
              <a:ext cx="95400" cy="156600"/>
            </a:xfrm>
            <a:custGeom>
              <a:avLst/>
              <a:gdLst/>
              <a:ahLst/>
              <a:rect l="l" t="t" r="r" b="b"/>
              <a:pathLst>
                <a:path w="442" h="669">
                  <a:moveTo>
                    <a:pt x="349" y="0"/>
                  </a:moveTo>
                  <a:lnTo>
                    <a:pt x="332" y="22"/>
                  </a:lnTo>
                  <a:lnTo>
                    <a:pt x="326" y="51"/>
                  </a:lnTo>
                  <a:lnTo>
                    <a:pt x="302" y="73"/>
                  </a:lnTo>
                  <a:lnTo>
                    <a:pt x="279" y="90"/>
                  </a:lnTo>
                  <a:lnTo>
                    <a:pt x="238" y="106"/>
                  </a:lnTo>
                  <a:lnTo>
                    <a:pt x="198" y="123"/>
                  </a:lnTo>
                  <a:lnTo>
                    <a:pt x="152" y="140"/>
                  </a:lnTo>
                  <a:lnTo>
                    <a:pt x="122" y="169"/>
                  </a:lnTo>
                  <a:lnTo>
                    <a:pt x="88" y="202"/>
                  </a:lnTo>
                  <a:lnTo>
                    <a:pt x="70" y="258"/>
                  </a:lnTo>
                  <a:lnTo>
                    <a:pt x="47" y="314"/>
                  </a:lnTo>
                  <a:lnTo>
                    <a:pt x="35" y="382"/>
                  </a:lnTo>
                  <a:lnTo>
                    <a:pt x="18" y="444"/>
                  </a:lnTo>
                  <a:lnTo>
                    <a:pt x="12" y="512"/>
                  </a:lnTo>
                  <a:lnTo>
                    <a:pt x="0" y="579"/>
                  </a:lnTo>
                  <a:lnTo>
                    <a:pt x="0" y="647"/>
                  </a:lnTo>
                  <a:lnTo>
                    <a:pt x="23" y="647"/>
                  </a:lnTo>
                  <a:lnTo>
                    <a:pt x="53" y="658"/>
                  </a:lnTo>
                  <a:lnTo>
                    <a:pt x="81" y="663"/>
                  </a:lnTo>
                  <a:lnTo>
                    <a:pt x="111" y="669"/>
                  </a:lnTo>
                  <a:lnTo>
                    <a:pt x="117" y="624"/>
                  </a:lnTo>
                  <a:lnTo>
                    <a:pt x="134" y="579"/>
                  </a:lnTo>
                  <a:lnTo>
                    <a:pt x="146" y="528"/>
                  </a:lnTo>
                  <a:lnTo>
                    <a:pt x="175" y="489"/>
                  </a:lnTo>
                  <a:lnTo>
                    <a:pt x="198" y="456"/>
                  </a:lnTo>
                  <a:lnTo>
                    <a:pt x="245" y="422"/>
                  </a:lnTo>
                  <a:lnTo>
                    <a:pt x="291" y="388"/>
                  </a:lnTo>
                  <a:lnTo>
                    <a:pt x="337" y="360"/>
                  </a:lnTo>
                  <a:lnTo>
                    <a:pt x="378" y="314"/>
                  </a:lnTo>
                  <a:lnTo>
                    <a:pt x="413" y="275"/>
                  </a:lnTo>
                  <a:lnTo>
                    <a:pt x="436" y="225"/>
                  </a:lnTo>
                  <a:lnTo>
                    <a:pt x="442" y="180"/>
                  </a:lnTo>
                  <a:lnTo>
                    <a:pt x="425" y="147"/>
                  </a:lnTo>
                  <a:lnTo>
                    <a:pt x="395" y="101"/>
                  </a:lnTo>
                  <a:lnTo>
                    <a:pt x="360" y="51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d9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1" name="Freeform 41"/>
            <p:cNvSpPr/>
            <p:nvPr/>
          </p:nvSpPr>
          <p:spPr>
            <a:xfrm>
              <a:off x="5060160" y="4854240"/>
              <a:ext cx="19080" cy="17280"/>
            </a:xfrm>
            <a:custGeom>
              <a:avLst/>
              <a:gdLst/>
              <a:ahLst/>
              <a:rect l="l" t="t" r="r" b="b"/>
              <a:pathLst>
                <a:path w="93" h="74">
                  <a:moveTo>
                    <a:pt x="41" y="6"/>
                  </a:moveTo>
                  <a:lnTo>
                    <a:pt x="11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7" y="46"/>
                  </a:lnTo>
                  <a:lnTo>
                    <a:pt x="46" y="62"/>
                  </a:lnTo>
                  <a:lnTo>
                    <a:pt x="64" y="74"/>
                  </a:lnTo>
                  <a:lnTo>
                    <a:pt x="82" y="46"/>
                  </a:lnTo>
                  <a:lnTo>
                    <a:pt x="93" y="23"/>
                  </a:lnTo>
                  <a:lnTo>
                    <a:pt x="87" y="6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2" name="Freeform 42"/>
            <p:cNvSpPr/>
            <p:nvPr/>
          </p:nvSpPr>
          <p:spPr>
            <a:xfrm>
              <a:off x="5513760" y="4855320"/>
              <a:ext cx="34560" cy="41760"/>
            </a:xfrm>
            <a:custGeom>
              <a:avLst/>
              <a:gdLst/>
              <a:ahLst/>
              <a:rect l="l" t="t" r="r" b="b"/>
              <a:pathLst>
                <a:path w="162" h="180">
                  <a:moveTo>
                    <a:pt x="145" y="0"/>
                  </a:moveTo>
                  <a:lnTo>
                    <a:pt x="104" y="17"/>
                  </a:lnTo>
                  <a:lnTo>
                    <a:pt x="69" y="34"/>
                  </a:lnTo>
                  <a:lnTo>
                    <a:pt x="40" y="51"/>
                  </a:lnTo>
                  <a:lnTo>
                    <a:pt x="17" y="68"/>
                  </a:lnTo>
                  <a:lnTo>
                    <a:pt x="0" y="85"/>
                  </a:lnTo>
                  <a:lnTo>
                    <a:pt x="5" y="107"/>
                  </a:lnTo>
                  <a:lnTo>
                    <a:pt x="23" y="124"/>
                  </a:lnTo>
                  <a:lnTo>
                    <a:pt x="63" y="158"/>
                  </a:lnTo>
                  <a:lnTo>
                    <a:pt x="104" y="175"/>
                  </a:lnTo>
                  <a:lnTo>
                    <a:pt x="134" y="180"/>
                  </a:lnTo>
                  <a:lnTo>
                    <a:pt x="150" y="169"/>
                  </a:lnTo>
                  <a:lnTo>
                    <a:pt x="162" y="152"/>
                  </a:lnTo>
                  <a:lnTo>
                    <a:pt x="157" y="119"/>
                  </a:lnTo>
                  <a:lnTo>
                    <a:pt x="157" y="85"/>
                  </a:lnTo>
                  <a:lnTo>
                    <a:pt x="150" y="4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3" name="Freeform 43"/>
            <p:cNvSpPr/>
            <p:nvPr/>
          </p:nvSpPr>
          <p:spPr>
            <a:xfrm>
              <a:off x="5394960" y="4860360"/>
              <a:ext cx="45360" cy="32040"/>
            </a:xfrm>
            <a:custGeom>
              <a:avLst/>
              <a:gdLst/>
              <a:ahLst/>
              <a:rect l="l" t="t" r="r" b="b"/>
              <a:pathLst>
                <a:path w="210" h="141">
                  <a:moveTo>
                    <a:pt x="111" y="0"/>
                  </a:moveTo>
                  <a:lnTo>
                    <a:pt x="82" y="17"/>
                  </a:lnTo>
                  <a:lnTo>
                    <a:pt x="53" y="45"/>
                  </a:lnTo>
                  <a:lnTo>
                    <a:pt x="23" y="73"/>
                  </a:lnTo>
                  <a:lnTo>
                    <a:pt x="12" y="107"/>
                  </a:lnTo>
                  <a:lnTo>
                    <a:pt x="0" y="124"/>
                  </a:lnTo>
                  <a:lnTo>
                    <a:pt x="12" y="141"/>
                  </a:lnTo>
                  <a:lnTo>
                    <a:pt x="35" y="141"/>
                  </a:lnTo>
                  <a:lnTo>
                    <a:pt x="94" y="129"/>
                  </a:lnTo>
                  <a:lnTo>
                    <a:pt x="140" y="102"/>
                  </a:lnTo>
                  <a:lnTo>
                    <a:pt x="175" y="85"/>
                  </a:lnTo>
                  <a:lnTo>
                    <a:pt x="198" y="68"/>
                  </a:lnTo>
                  <a:lnTo>
                    <a:pt x="210" y="56"/>
                  </a:lnTo>
                  <a:lnTo>
                    <a:pt x="203" y="39"/>
                  </a:lnTo>
                  <a:lnTo>
                    <a:pt x="186" y="28"/>
                  </a:lnTo>
                  <a:lnTo>
                    <a:pt x="152" y="11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b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4" name="Freeform 44"/>
            <p:cNvSpPr/>
            <p:nvPr/>
          </p:nvSpPr>
          <p:spPr>
            <a:xfrm>
              <a:off x="5784120" y="4865400"/>
              <a:ext cx="73440" cy="144000"/>
            </a:xfrm>
            <a:custGeom>
              <a:avLst/>
              <a:gdLst/>
              <a:ahLst/>
              <a:rect l="l" t="t" r="r" b="b"/>
              <a:pathLst>
                <a:path w="337" h="613">
                  <a:moveTo>
                    <a:pt x="203" y="6"/>
                  </a:moveTo>
                  <a:lnTo>
                    <a:pt x="134" y="34"/>
                  </a:lnTo>
                  <a:lnTo>
                    <a:pt x="86" y="91"/>
                  </a:lnTo>
                  <a:lnTo>
                    <a:pt x="46" y="158"/>
                  </a:lnTo>
                  <a:lnTo>
                    <a:pt x="29" y="241"/>
                  </a:lnTo>
                  <a:lnTo>
                    <a:pt x="5" y="326"/>
                  </a:lnTo>
                  <a:lnTo>
                    <a:pt x="5" y="427"/>
                  </a:lnTo>
                  <a:lnTo>
                    <a:pt x="0" y="518"/>
                  </a:lnTo>
                  <a:lnTo>
                    <a:pt x="17" y="613"/>
                  </a:lnTo>
                  <a:lnTo>
                    <a:pt x="52" y="613"/>
                  </a:lnTo>
                  <a:lnTo>
                    <a:pt x="93" y="607"/>
                  </a:lnTo>
                  <a:lnTo>
                    <a:pt x="122" y="602"/>
                  </a:lnTo>
                  <a:lnTo>
                    <a:pt x="151" y="602"/>
                  </a:lnTo>
                  <a:lnTo>
                    <a:pt x="192" y="591"/>
                  </a:lnTo>
                  <a:lnTo>
                    <a:pt x="192" y="506"/>
                  </a:lnTo>
                  <a:lnTo>
                    <a:pt x="203" y="439"/>
                  </a:lnTo>
                  <a:lnTo>
                    <a:pt x="220" y="371"/>
                  </a:lnTo>
                  <a:lnTo>
                    <a:pt x="238" y="304"/>
                  </a:lnTo>
                  <a:lnTo>
                    <a:pt x="255" y="236"/>
                  </a:lnTo>
                  <a:lnTo>
                    <a:pt x="279" y="180"/>
                  </a:lnTo>
                  <a:lnTo>
                    <a:pt x="302" y="113"/>
                  </a:lnTo>
                  <a:lnTo>
                    <a:pt x="337" y="57"/>
                  </a:lnTo>
                  <a:lnTo>
                    <a:pt x="308" y="34"/>
                  </a:lnTo>
                  <a:lnTo>
                    <a:pt x="279" y="11"/>
                  </a:lnTo>
                  <a:lnTo>
                    <a:pt x="238" y="0"/>
                  </a:lnTo>
                  <a:lnTo>
                    <a:pt x="203" y="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5" name="Freeform 45"/>
            <p:cNvSpPr/>
            <p:nvPr/>
          </p:nvSpPr>
          <p:spPr>
            <a:xfrm>
              <a:off x="4946400" y="4871520"/>
              <a:ext cx="27000" cy="64800"/>
            </a:xfrm>
            <a:custGeom>
              <a:avLst/>
              <a:gdLst/>
              <a:ahLst/>
              <a:rect l="l" t="t" r="r" b="b"/>
              <a:pathLst>
                <a:path w="121" h="281">
                  <a:moveTo>
                    <a:pt x="58" y="0"/>
                  </a:moveTo>
                  <a:lnTo>
                    <a:pt x="29" y="39"/>
                  </a:lnTo>
                  <a:lnTo>
                    <a:pt x="12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79"/>
                  </a:lnTo>
                  <a:lnTo>
                    <a:pt x="12" y="213"/>
                  </a:lnTo>
                  <a:lnTo>
                    <a:pt x="23" y="247"/>
                  </a:lnTo>
                  <a:lnTo>
                    <a:pt x="47" y="281"/>
                  </a:lnTo>
                  <a:lnTo>
                    <a:pt x="40" y="281"/>
                  </a:lnTo>
                  <a:lnTo>
                    <a:pt x="58" y="281"/>
                  </a:lnTo>
                  <a:lnTo>
                    <a:pt x="75" y="281"/>
                  </a:lnTo>
                  <a:lnTo>
                    <a:pt x="98" y="281"/>
                  </a:lnTo>
                  <a:lnTo>
                    <a:pt x="98" y="247"/>
                  </a:lnTo>
                  <a:lnTo>
                    <a:pt x="111" y="218"/>
                  </a:lnTo>
                  <a:lnTo>
                    <a:pt x="111" y="186"/>
                  </a:lnTo>
                  <a:lnTo>
                    <a:pt x="121" y="157"/>
                  </a:lnTo>
                  <a:lnTo>
                    <a:pt x="121" y="118"/>
                  </a:lnTo>
                  <a:lnTo>
                    <a:pt x="121" y="84"/>
                  </a:lnTo>
                  <a:lnTo>
                    <a:pt x="116" y="51"/>
                  </a:lnTo>
                  <a:lnTo>
                    <a:pt x="111" y="22"/>
                  </a:lnTo>
                  <a:lnTo>
                    <a:pt x="81" y="1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bf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6" name="Freeform 46"/>
            <p:cNvSpPr/>
            <p:nvPr/>
          </p:nvSpPr>
          <p:spPr>
            <a:xfrm>
              <a:off x="4994280" y="4871520"/>
              <a:ext cx="34560" cy="74880"/>
            </a:xfrm>
            <a:custGeom>
              <a:avLst/>
              <a:gdLst/>
              <a:ahLst/>
              <a:rect l="l" t="t" r="r" b="b"/>
              <a:pathLst>
                <a:path w="164" h="320">
                  <a:moveTo>
                    <a:pt x="106" y="0"/>
                  </a:moveTo>
                  <a:lnTo>
                    <a:pt x="59" y="34"/>
                  </a:lnTo>
                  <a:lnTo>
                    <a:pt x="30" y="68"/>
                  </a:lnTo>
                  <a:lnTo>
                    <a:pt x="12" y="101"/>
                  </a:lnTo>
                  <a:lnTo>
                    <a:pt x="7" y="140"/>
                  </a:lnTo>
                  <a:lnTo>
                    <a:pt x="0" y="174"/>
                  </a:lnTo>
                  <a:lnTo>
                    <a:pt x="12" y="218"/>
                  </a:lnTo>
                  <a:lnTo>
                    <a:pt x="24" y="264"/>
                  </a:lnTo>
                  <a:lnTo>
                    <a:pt x="53" y="320"/>
                  </a:lnTo>
                  <a:lnTo>
                    <a:pt x="106" y="292"/>
                  </a:lnTo>
                  <a:lnTo>
                    <a:pt x="146" y="258"/>
                  </a:lnTo>
                  <a:lnTo>
                    <a:pt x="157" y="218"/>
                  </a:lnTo>
                  <a:lnTo>
                    <a:pt x="164" y="179"/>
                  </a:lnTo>
                  <a:lnTo>
                    <a:pt x="146" y="129"/>
                  </a:lnTo>
                  <a:lnTo>
                    <a:pt x="134" y="84"/>
                  </a:lnTo>
                  <a:lnTo>
                    <a:pt x="117" y="3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4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7" name="Freeform 47"/>
            <p:cNvSpPr/>
            <p:nvPr/>
          </p:nvSpPr>
          <p:spPr>
            <a:xfrm>
              <a:off x="7699320" y="4876200"/>
              <a:ext cx="435240" cy="766440"/>
            </a:xfrm>
            <a:custGeom>
              <a:avLst/>
              <a:gdLst/>
              <a:ahLst/>
              <a:rect l="l" t="t" r="r" b="b"/>
              <a:pathLst>
                <a:path w="2023" h="3289">
                  <a:moveTo>
                    <a:pt x="1262" y="0"/>
                  </a:moveTo>
                  <a:lnTo>
                    <a:pt x="1262" y="17"/>
                  </a:lnTo>
                  <a:lnTo>
                    <a:pt x="1267" y="56"/>
                  </a:lnTo>
                  <a:lnTo>
                    <a:pt x="1273" y="96"/>
                  </a:lnTo>
                  <a:lnTo>
                    <a:pt x="1278" y="118"/>
                  </a:lnTo>
                  <a:lnTo>
                    <a:pt x="1227" y="164"/>
                  </a:lnTo>
                  <a:lnTo>
                    <a:pt x="1179" y="225"/>
                  </a:lnTo>
                  <a:lnTo>
                    <a:pt x="1133" y="281"/>
                  </a:lnTo>
                  <a:lnTo>
                    <a:pt x="1093" y="331"/>
                  </a:lnTo>
                  <a:lnTo>
                    <a:pt x="1047" y="360"/>
                  </a:lnTo>
                  <a:lnTo>
                    <a:pt x="999" y="372"/>
                  </a:lnTo>
                  <a:lnTo>
                    <a:pt x="941" y="348"/>
                  </a:lnTo>
                  <a:lnTo>
                    <a:pt x="890" y="287"/>
                  </a:lnTo>
                  <a:lnTo>
                    <a:pt x="849" y="230"/>
                  </a:lnTo>
                  <a:lnTo>
                    <a:pt x="814" y="181"/>
                  </a:lnTo>
                  <a:lnTo>
                    <a:pt x="796" y="147"/>
                  </a:lnTo>
                  <a:lnTo>
                    <a:pt x="779" y="118"/>
                  </a:lnTo>
                  <a:lnTo>
                    <a:pt x="768" y="85"/>
                  </a:lnTo>
                  <a:lnTo>
                    <a:pt x="761" y="56"/>
                  </a:lnTo>
                  <a:lnTo>
                    <a:pt x="686" y="90"/>
                  </a:lnTo>
                  <a:lnTo>
                    <a:pt x="599" y="141"/>
                  </a:lnTo>
                  <a:lnTo>
                    <a:pt x="505" y="191"/>
                  </a:lnTo>
                  <a:lnTo>
                    <a:pt x="419" y="253"/>
                  </a:lnTo>
                  <a:lnTo>
                    <a:pt x="325" y="315"/>
                  </a:lnTo>
                  <a:lnTo>
                    <a:pt x="251" y="377"/>
                  </a:lnTo>
                  <a:lnTo>
                    <a:pt x="186" y="439"/>
                  </a:lnTo>
                  <a:lnTo>
                    <a:pt x="145" y="507"/>
                  </a:lnTo>
                  <a:lnTo>
                    <a:pt x="111" y="574"/>
                  </a:lnTo>
                  <a:lnTo>
                    <a:pt x="87" y="675"/>
                  </a:lnTo>
                  <a:lnTo>
                    <a:pt x="71" y="799"/>
                  </a:lnTo>
                  <a:lnTo>
                    <a:pt x="53" y="939"/>
                  </a:lnTo>
                  <a:lnTo>
                    <a:pt x="35" y="1074"/>
                  </a:lnTo>
                  <a:lnTo>
                    <a:pt x="23" y="1209"/>
                  </a:lnTo>
                  <a:lnTo>
                    <a:pt x="12" y="1327"/>
                  </a:lnTo>
                  <a:lnTo>
                    <a:pt x="12" y="1429"/>
                  </a:lnTo>
                  <a:lnTo>
                    <a:pt x="0" y="1564"/>
                  </a:lnTo>
                  <a:lnTo>
                    <a:pt x="0" y="1682"/>
                  </a:lnTo>
                  <a:lnTo>
                    <a:pt x="6" y="1783"/>
                  </a:lnTo>
                  <a:lnTo>
                    <a:pt x="29" y="1890"/>
                  </a:lnTo>
                  <a:lnTo>
                    <a:pt x="53" y="1979"/>
                  </a:lnTo>
                  <a:lnTo>
                    <a:pt x="94" y="2075"/>
                  </a:lnTo>
                  <a:lnTo>
                    <a:pt x="140" y="2170"/>
                  </a:lnTo>
                  <a:lnTo>
                    <a:pt x="198" y="2283"/>
                  </a:lnTo>
                  <a:lnTo>
                    <a:pt x="226" y="2339"/>
                  </a:lnTo>
                  <a:lnTo>
                    <a:pt x="256" y="2401"/>
                  </a:lnTo>
                  <a:lnTo>
                    <a:pt x="285" y="2457"/>
                  </a:lnTo>
                  <a:lnTo>
                    <a:pt x="320" y="2513"/>
                  </a:lnTo>
                  <a:lnTo>
                    <a:pt x="343" y="2457"/>
                  </a:lnTo>
                  <a:lnTo>
                    <a:pt x="372" y="2406"/>
                  </a:lnTo>
                  <a:lnTo>
                    <a:pt x="408" y="2356"/>
                  </a:lnTo>
                  <a:lnTo>
                    <a:pt x="442" y="2305"/>
                  </a:lnTo>
                  <a:lnTo>
                    <a:pt x="477" y="2255"/>
                  </a:lnTo>
                  <a:lnTo>
                    <a:pt x="512" y="2204"/>
                  </a:lnTo>
                  <a:lnTo>
                    <a:pt x="553" y="2160"/>
                  </a:lnTo>
                  <a:lnTo>
                    <a:pt x="599" y="2126"/>
                  </a:lnTo>
                  <a:lnTo>
                    <a:pt x="564" y="2047"/>
                  </a:lnTo>
                  <a:lnTo>
                    <a:pt x="523" y="1968"/>
                  </a:lnTo>
                  <a:lnTo>
                    <a:pt x="471" y="1883"/>
                  </a:lnTo>
                  <a:lnTo>
                    <a:pt x="424" y="1800"/>
                  </a:lnTo>
                  <a:lnTo>
                    <a:pt x="372" y="1715"/>
                  </a:lnTo>
                  <a:lnTo>
                    <a:pt x="337" y="1631"/>
                  </a:lnTo>
                  <a:lnTo>
                    <a:pt x="314" y="1552"/>
                  </a:lnTo>
                  <a:lnTo>
                    <a:pt x="320" y="1484"/>
                  </a:lnTo>
                  <a:lnTo>
                    <a:pt x="320" y="1451"/>
                  </a:lnTo>
                  <a:lnTo>
                    <a:pt x="325" y="1405"/>
                  </a:lnTo>
                  <a:lnTo>
                    <a:pt x="332" y="1361"/>
                  </a:lnTo>
                  <a:lnTo>
                    <a:pt x="349" y="1327"/>
                  </a:lnTo>
                  <a:lnTo>
                    <a:pt x="366" y="1277"/>
                  </a:lnTo>
                  <a:lnTo>
                    <a:pt x="383" y="1287"/>
                  </a:lnTo>
                  <a:lnTo>
                    <a:pt x="401" y="1333"/>
                  </a:lnTo>
                  <a:lnTo>
                    <a:pt x="419" y="1412"/>
                  </a:lnTo>
                  <a:lnTo>
                    <a:pt x="431" y="1496"/>
                  </a:lnTo>
                  <a:lnTo>
                    <a:pt x="442" y="1586"/>
                  </a:lnTo>
                  <a:lnTo>
                    <a:pt x="459" y="1659"/>
                  </a:lnTo>
                  <a:lnTo>
                    <a:pt x="477" y="1715"/>
                  </a:lnTo>
                  <a:lnTo>
                    <a:pt x="500" y="1755"/>
                  </a:lnTo>
                  <a:lnTo>
                    <a:pt x="535" y="1800"/>
                  </a:lnTo>
                  <a:lnTo>
                    <a:pt x="570" y="1844"/>
                  </a:lnTo>
                  <a:lnTo>
                    <a:pt x="604" y="1895"/>
                  </a:lnTo>
                  <a:lnTo>
                    <a:pt x="634" y="1934"/>
                  </a:lnTo>
                  <a:lnTo>
                    <a:pt x="662" y="1979"/>
                  </a:lnTo>
                  <a:lnTo>
                    <a:pt x="692" y="2025"/>
                  </a:lnTo>
                  <a:lnTo>
                    <a:pt x="715" y="2075"/>
                  </a:lnTo>
                  <a:lnTo>
                    <a:pt x="715" y="2097"/>
                  </a:lnTo>
                  <a:lnTo>
                    <a:pt x="721" y="2120"/>
                  </a:lnTo>
                  <a:lnTo>
                    <a:pt x="715" y="2143"/>
                  </a:lnTo>
                  <a:lnTo>
                    <a:pt x="715" y="2153"/>
                  </a:lnTo>
                  <a:lnTo>
                    <a:pt x="715" y="2170"/>
                  </a:lnTo>
                  <a:lnTo>
                    <a:pt x="715" y="2193"/>
                  </a:lnTo>
                  <a:lnTo>
                    <a:pt x="727" y="2199"/>
                  </a:lnTo>
                  <a:lnTo>
                    <a:pt x="733" y="2216"/>
                  </a:lnTo>
                  <a:lnTo>
                    <a:pt x="750" y="2249"/>
                  </a:lnTo>
                  <a:lnTo>
                    <a:pt x="779" y="2283"/>
                  </a:lnTo>
                  <a:lnTo>
                    <a:pt x="796" y="2322"/>
                  </a:lnTo>
                  <a:lnTo>
                    <a:pt x="826" y="2361"/>
                  </a:lnTo>
                  <a:lnTo>
                    <a:pt x="842" y="2395"/>
                  </a:lnTo>
                  <a:lnTo>
                    <a:pt x="860" y="2440"/>
                  </a:lnTo>
                  <a:lnTo>
                    <a:pt x="872" y="2491"/>
                  </a:lnTo>
                  <a:lnTo>
                    <a:pt x="890" y="2541"/>
                  </a:lnTo>
                  <a:lnTo>
                    <a:pt x="890" y="2643"/>
                  </a:lnTo>
                  <a:lnTo>
                    <a:pt x="872" y="2722"/>
                  </a:lnTo>
                  <a:lnTo>
                    <a:pt x="837" y="2778"/>
                  </a:lnTo>
                  <a:lnTo>
                    <a:pt x="785" y="2817"/>
                  </a:lnTo>
                  <a:lnTo>
                    <a:pt x="715" y="2828"/>
                  </a:lnTo>
                  <a:lnTo>
                    <a:pt x="639" y="2828"/>
                  </a:lnTo>
                  <a:lnTo>
                    <a:pt x="553" y="2817"/>
                  </a:lnTo>
                  <a:lnTo>
                    <a:pt x="465" y="2795"/>
                  </a:lnTo>
                  <a:lnTo>
                    <a:pt x="448" y="2834"/>
                  </a:lnTo>
                  <a:lnTo>
                    <a:pt x="442" y="2891"/>
                  </a:lnTo>
                  <a:lnTo>
                    <a:pt x="431" y="2947"/>
                  </a:lnTo>
                  <a:lnTo>
                    <a:pt x="431" y="3014"/>
                  </a:lnTo>
                  <a:lnTo>
                    <a:pt x="431" y="3070"/>
                  </a:lnTo>
                  <a:lnTo>
                    <a:pt x="431" y="3132"/>
                  </a:lnTo>
                  <a:lnTo>
                    <a:pt x="431" y="3183"/>
                  </a:lnTo>
                  <a:lnTo>
                    <a:pt x="436" y="3234"/>
                  </a:lnTo>
                  <a:lnTo>
                    <a:pt x="505" y="3234"/>
                  </a:lnTo>
                  <a:lnTo>
                    <a:pt x="593" y="3244"/>
                  </a:lnTo>
                  <a:lnTo>
                    <a:pt x="674" y="3256"/>
                  </a:lnTo>
                  <a:lnTo>
                    <a:pt x="761" y="3267"/>
                  </a:lnTo>
                  <a:lnTo>
                    <a:pt x="842" y="3273"/>
                  </a:lnTo>
                  <a:lnTo>
                    <a:pt x="930" y="3278"/>
                  </a:lnTo>
                  <a:lnTo>
                    <a:pt x="1017" y="3284"/>
                  </a:lnTo>
                  <a:lnTo>
                    <a:pt x="1105" y="3289"/>
                  </a:lnTo>
                  <a:lnTo>
                    <a:pt x="1156" y="3284"/>
                  </a:lnTo>
                  <a:lnTo>
                    <a:pt x="1220" y="3289"/>
                  </a:lnTo>
                  <a:lnTo>
                    <a:pt x="1273" y="3289"/>
                  </a:lnTo>
                  <a:lnTo>
                    <a:pt x="1331" y="3289"/>
                  </a:lnTo>
                  <a:lnTo>
                    <a:pt x="1366" y="3273"/>
                  </a:lnTo>
                  <a:lnTo>
                    <a:pt x="1442" y="3239"/>
                  </a:lnTo>
                  <a:lnTo>
                    <a:pt x="1541" y="3188"/>
                  </a:lnTo>
                  <a:lnTo>
                    <a:pt x="1656" y="3143"/>
                  </a:lnTo>
                  <a:lnTo>
                    <a:pt x="1767" y="3087"/>
                  </a:lnTo>
                  <a:lnTo>
                    <a:pt x="1860" y="3048"/>
                  </a:lnTo>
                  <a:lnTo>
                    <a:pt x="1929" y="3014"/>
                  </a:lnTo>
                  <a:lnTo>
                    <a:pt x="1959" y="3003"/>
                  </a:lnTo>
                  <a:lnTo>
                    <a:pt x="1970" y="2935"/>
                  </a:lnTo>
                  <a:lnTo>
                    <a:pt x="1977" y="2862"/>
                  </a:lnTo>
                  <a:lnTo>
                    <a:pt x="1965" y="2783"/>
                  </a:lnTo>
                  <a:lnTo>
                    <a:pt x="1959" y="2710"/>
                  </a:lnTo>
                  <a:lnTo>
                    <a:pt x="1941" y="2637"/>
                  </a:lnTo>
                  <a:lnTo>
                    <a:pt x="1924" y="2570"/>
                  </a:lnTo>
                  <a:lnTo>
                    <a:pt x="1906" y="2513"/>
                  </a:lnTo>
                  <a:lnTo>
                    <a:pt x="1901" y="2474"/>
                  </a:lnTo>
                  <a:lnTo>
                    <a:pt x="1894" y="2502"/>
                  </a:lnTo>
                  <a:lnTo>
                    <a:pt x="1894" y="2536"/>
                  </a:lnTo>
                  <a:lnTo>
                    <a:pt x="1889" y="2564"/>
                  </a:lnTo>
                  <a:lnTo>
                    <a:pt x="1889" y="2597"/>
                  </a:lnTo>
                  <a:lnTo>
                    <a:pt x="1883" y="2626"/>
                  </a:lnTo>
                  <a:lnTo>
                    <a:pt x="1883" y="2654"/>
                  </a:lnTo>
                  <a:lnTo>
                    <a:pt x="1871" y="2688"/>
                  </a:lnTo>
                  <a:lnTo>
                    <a:pt x="1866" y="2722"/>
                  </a:lnTo>
                  <a:lnTo>
                    <a:pt x="1843" y="2749"/>
                  </a:lnTo>
                  <a:lnTo>
                    <a:pt x="1825" y="2773"/>
                  </a:lnTo>
                  <a:lnTo>
                    <a:pt x="1808" y="2778"/>
                  </a:lnTo>
                  <a:lnTo>
                    <a:pt x="1790" y="2783"/>
                  </a:lnTo>
                  <a:lnTo>
                    <a:pt x="1761" y="2778"/>
                  </a:lnTo>
                  <a:lnTo>
                    <a:pt x="1738" y="2778"/>
                  </a:lnTo>
                  <a:lnTo>
                    <a:pt x="1709" y="2778"/>
                  </a:lnTo>
                  <a:lnTo>
                    <a:pt x="1680" y="2783"/>
                  </a:lnTo>
                  <a:lnTo>
                    <a:pt x="1622" y="2795"/>
                  </a:lnTo>
                  <a:lnTo>
                    <a:pt x="1569" y="2817"/>
                  </a:lnTo>
                  <a:lnTo>
                    <a:pt x="1506" y="2840"/>
                  </a:lnTo>
                  <a:lnTo>
                    <a:pt x="1453" y="2857"/>
                  </a:lnTo>
                  <a:lnTo>
                    <a:pt x="1395" y="2857"/>
                  </a:lnTo>
                  <a:lnTo>
                    <a:pt x="1349" y="2840"/>
                  </a:lnTo>
                  <a:lnTo>
                    <a:pt x="1302" y="2795"/>
                  </a:lnTo>
                  <a:lnTo>
                    <a:pt x="1278" y="2722"/>
                  </a:lnTo>
                  <a:lnTo>
                    <a:pt x="1267" y="2665"/>
                  </a:lnTo>
                  <a:lnTo>
                    <a:pt x="1267" y="2614"/>
                  </a:lnTo>
                  <a:lnTo>
                    <a:pt x="1267" y="2564"/>
                  </a:lnTo>
                  <a:lnTo>
                    <a:pt x="1278" y="2513"/>
                  </a:lnTo>
                  <a:lnTo>
                    <a:pt x="1285" y="2462"/>
                  </a:lnTo>
                  <a:lnTo>
                    <a:pt x="1302" y="2418"/>
                  </a:lnTo>
                  <a:lnTo>
                    <a:pt x="1313" y="2378"/>
                  </a:lnTo>
                  <a:lnTo>
                    <a:pt x="1331" y="2345"/>
                  </a:lnTo>
                  <a:lnTo>
                    <a:pt x="1366" y="2210"/>
                  </a:lnTo>
                  <a:lnTo>
                    <a:pt x="1412" y="2092"/>
                  </a:lnTo>
                  <a:lnTo>
                    <a:pt x="1459" y="1968"/>
                  </a:lnTo>
                  <a:lnTo>
                    <a:pt x="1500" y="1844"/>
                  </a:lnTo>
                  <a:lnTo>
                    <a:pt x="1529" y="1709"/>
                  </a:lnTo>
                  <a:lnTo>
                    <a:pt x="1546" y="1574"/>
                  </a:lnTo>
                  <a:lnTo>
                    <a:pt x="1552" y="1422"/>
                  </a:lnTo>
                  <a:lnTo>
                    <a:pt x="1541" y="1265"/>
                  </a:lnTo>
                  <a:lnTo>
                    <a:pt x="1534" y="1254"/>
                  </a:lnTo>
                  <a:lnTo>
                    <a:pt x="1534" y="1231"/>
                  </a:lnTo>
                  <a:lnTo>
                    <a:pt x="1529" y="1204"/>
                  </a:lnTo>
                  <a:lnTo>
                    <a:pt x="1529" y="1187"/>
                  </a:lnTo>
                  <a:lnTo>
                    <a:pt x="1534" y="1175"/>
                  </a:lnTo>
                  <a:lnTo>
                    <a:pt x="1552" y="1170"/>
                  </a:lnTo>
                  <a:lnTo>
                    <a:pt x="1564" y="1164"/>
                  </a:lnTo>
                  <a:lnTo>
                    <a:pt x="1569" y="1175"/>
                  </a:lnTo>
                  <a:lnTo>
                    <a:pt x="1599" y="1175"/>
                  </a:lnTo>
                  <a:lnTo>
                    <a:pt x="1599" y="1226"/>
                  </a:lnTo>
                  <a:lnTo>
                    <a:pt x="1610" y="1282"/>
                  </a:lnTo>
                  <a:lnTo>
                    <a:pt x="1622" y="1344"/>
                  </a:lnTo>
                  <a:lnTo>
                    <a:pt x="1640" y="1412"/>
                  </a:lnTo>
                  <a:lnTo>
                    <a:pt x="1645" y="1473"/>
                  </a:lnTo>
                  <a:lnTo>
                    <a:pt x="1651" y="1540"/>
                  </a:lnTo>
                  <a:lnTo>
                    <a:pt x="1651" y="1608"/>
                  </a:lnTo>
                  <a:lnTo>
                    <a:pt x="1651" y="1675"/>
                  </a:lnTo>
                  <a:lnTo>
                    <a:pt x="1633" y="1721"/>
                  </a:lnTo>
                  <a:lnTo>
                    <a:pt x="1610" y="1783"/>
                  </a:lnTo>
                  <a:lnTo>
                    <a:pt x="1581" y="1861"/>
                  </a:lnTo>
                  <a:lnTo>
                    <a:pt x="1552" y="1945"/>
                  </a:lnTo>
                  <a:lnTo>
                    <a:pt x="1517" y="2025"/>
                  </a:lnTo>
                  <a:lnTo>
                    <a:pt x="1483" y="2109"/>
                  </a:lnTo>
                  <a:lnTo>
                    <a:pt x="1453" y="2182"/>
                  </a:lnTo>
                  <a:lnTo>
                    <a:pt x="1435" y="2244"/>
                  </a:lnTo>
                  <a:lnTo>
                    <a:pt x="1483" y="2271"/>
                  </a:lnTo>
                  <a:lnTo>
                    <a:pt x="1534" y="2305"/>
                  </a:lnTo>
                  <a:lnTo>
                    <a:pt x="1581" y="2345"/>
                  </a:lnTo>
                  <a:lnTo>
                    <a:pt x="1622" y="2384"/>
                  </a:lnTo>
                  <a:lnTo>
                    <a:pt x="1640" y="2412"/>
                  </a:lnTo>
                  <a:lnTo>
                    <a:pt x="1663" y="2446"/>
                  </a:lnTo>
                  <a:lnTo>
                    <a:pt x="1680" y="2479"/>
                  </a:lnTo>
                  <a:lnTo>
                    <a:pt x="1697" y="2513"/>
                  </a:lnTo>
                  <a:lnTo>
                    <a:pt x="1709" y="2541"/>
                  </a:lnTo>
                  <a:lnTo>
                    <a:pt x="1732" y="2570"/>
                  </a:lnTo>
                  <a:lnTo>
                    <a:pt x="1755" y="2597"/>
                  </a:lnTo>
                  <a:lnTo>
                    <a:pt x="1795" y="2631"/>
                  </a:lnTo>
                  <a:lnTo>
                    <a:pt x="1820" y="2525"/>
                  </a:lnTo>
                  <a:lnTo>
                    <a:pt x="1854" y="2418"/>
                  </a:lnTo>
                  <a:lnTo>
                    <a:pt x="1889" y="2305"/>
                  </a:lnTo>
                  <a:lnTo>
                    <a:pt x="1929" y="2193"/>
                  </a:lnTo>
                  <a:lnTo>
                    <a:pt x="1959" y="2075"/>
                  </a:lnTo>
                  <a:lnTo>
                    <a:pt x="1988" y="1968"/>
                  </a:lnTo>
                  <a:lnTo>
                    <a:pt x="2005" y="1861"/>
                  </a:lnTo>
                  <a:lnTo>
                    <a:pt x="2023" y="1766"/>
                  </a:lnTo>
                  <a:lnTo>
                    <a:pt x="2017" y="1692"/>
                  </a:lnTo>
                  <a:lnTo>
                    <a:pt x="2011" y="1619"/>
                  </a:lnTo>
                  <a:lnTo>
                    <a:pt x="2000" y="1540"/>
                  </a:lnTo>
                  <a:lnTo>
                    <a:pt x="1988" y="1462"/>
                  </a:lnTo>
                  <a:lnTo>
                    <a:pt x="1970" y="1378"/>
                  </a:lnTo>
                  <a:lnTo>
                    <a:pt x="1952" y="1299"/>
                  </a:lnTo>
                  <a:lnTo>
                    <a:pt x="1936" y="1221"/>
                  </a:lnTo>
                  <a:lnTo>
                    <a:pt x="1929" y="1158"/>
                  </a:lnTo>
                  <a:lnTo>
                    <a:pt x="1912" y="1063"/>
                  </a:lnTo>
                  <a:lnTo>
                    <a:pt x="1912" y="973"/>
                  </a:lnTo>
                  <a:lnTo>
                    <a:pt x="1906" y="877"/>
                  </a:lnTo>
                  <a:lnTo>
                    <a:pt x="1906" y="787"/>
                  </a:lnTo>
                  <a:lnTo>
                    <a:pt x="1894" y="698"/>
                  </a:lnTo>
                  <a:lnTo>
                    <a:pt x="1889" y="613"/>
                  </a:lnTo>
                  <a:lnTo>
                    <a:pt x="1866" y="534"/>
                  </a:lnTo>
                  <a:lnTo>
                    <a:pt x="1837" y="466"/>
                  </a:lnTo>
                  <a:lnTo>
                    <a:pt x="1790" y="399"/>
                  </a:lnTo>
                  <a:lnTo>
                    <a:pt x="1732" y="338"/>
                  </a:lnTo>
                  <a:lnTo>
                    <a:pt x="1663" y="270"/>
                  </a:lnTo>
                  <a:lnTo>
                    <a:pt x="1581" y="208"/>
                  </a:lnTo>
                  <a:lnTo>
                    <a:pt x="1494" y="141"/>
                  </a:lnTo>
                  <a:lnTo>
                    <a:pt x="1412" y="85"/>
                  </a:lnTo>
                  <a:lnTo>
                    <a:pt x="1326" y="34"/>
                  </a:lnTo>
                  <a:lnTo>
                    <a:pt x="1262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8" name="Freeform 48"/>
            <p:cNvSpPr/>
            <p:nvPr/>
          </p:nvSpPr>
          <p:spPr>
            <a:xfrm>
              <a:off x="5245200" y="4880160"/>
              <a:ext cx="47520" cy="68400"/>
            </a:xfrm>
            <a:custGeom>
              <a:avLst/>
              <a:gdLst/>
              <a:ahLst/>
              <a:rect l="l" t="t" r="r" b="b"/>
              <a:pathLst>
                <a:path w="221" h="297">
                  <a:moveTo>
                    <a:pt x="99" y="0"/>
                  </a:moveTo>
                  <a:lnTo>
                    <a:pt x="69" y="39"/>
                  </a:lnTo>
                  <a:lnTo>
                    <a:pt x="41" y="95"/>
                  </a:lnTo>
                  <a:lnTo>
                    <a:pt x="18" y="152"/>
                  </a:lnTo>
                  <a:lnTo>
                    <a:pt x="6" y="213"/>
                  </a:lnTo>
                  <a:lnTo>
                    <a:pt x="0" y="258"/>
                  </a:lnTo>
                  <a:lnTo>
                    <a:pt x="18" y="292"/>
                  </a:lnTo>
                  <a:lnTo>
                    <a:pt x="53" y="297"/>
                  </a:lnTo>
                  <a:lnTo>
                    <a:pt x="116" y="275"/>
                  </a:lnTo>
                  <a:lnTo>
                    <a:pt x="175" y="280"/>
                  </a:lnTo>
                  <a:lnTo>
                    <a:pt x="209" y="269"/>
                  </a:lnTo>
                  <a:lnTo>
                    <a:pt x="221" y="241"/>
                  </a:lnTo>
                  <a:lnTo>
                    <a:pt x="221" y="196"/>
                  </a:lnTo>
                  <a:lnTo>
                    <a:pt x="192" y="140"/>
                  </a:lnTo>
                  <a:lnTo>
                    <a:pt x="168" y="89"/>
                  </a:lnTo>
                  <a:lnTo>
                    <a:pt x="134" y="3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3f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9" name="Freeform 49"/>
            <p:cNvSpPr/>
            <p:nvPr/>
          </p:nvSpPr>
          <p:spPr>
            <a:xfrm>
              <a:off x="5391000" y="4880160"/>
              <a:ext cx="75960" cy="79920"/>
            </a:xfrm>
            <a:custGeom>
              <a:avLst/>
              <a:gdLst/>
              <a:ahLst/>
              <a:rect l="l" t="t" r="r" b="b"/>
              <a:pathLst>
                <a:path w="354" h="348">
                  <a:moveTo>
                    <a:pt x="273" y="0"/>
                  </a:moveTo>
                  <a:lnTo>
                    <a:pt x="256" y="34"/>
                  </a:lnTo>
                  <a:lnTo>
                    <a:pt x="244" y="67"/>
                  </a:lnTo>
                  <a:lnTo>
                    <a:pt x="215" y="73"/>
                  </a:lnTo>
                  <a:lnTo>
                    <a:pt x="186" y="84"/>
                  </a:lnTo>
                  <a:lnTo>
                    <a:pt x="157" y="89"/>
                  </a:lnTo>
                  <a:lnTo>
                    <a:pt x="128" y="95"/>
                  </a:lnTo>
                  <a:lnTo>
                    <a:pt x="70" y="112"/>
                  </a:lnTo>
                  <a:lnTo>
                    <a:pt x="35" y="145"/>
                  </a:lnTo>
                  <a:lnTo>
                    <a:pt x="12" y="174"/>
                  </a:lnTo>
                  <a:lnTo>
                    <a:pt x="5" y="208"/>
                  </a:lnTo>
                  <a:lnTo>
                    <a:pt x="0" y="241"/>
                  </a:lnTo>
                  <a:lnTo>
                    <a:pt x="5" y="280"/>
                  </a:lnTo>
                  <a:lnTo>
                    <a:pt x="29" y="326"/>
                  </a:lnTo>
                  <a:lnTo>
                    <a:pt x="76" y="348"/>
                  </a:lnTo>
                  <a:lnTo>
                    <a:pt x="128" y="336"/>
                  </a:lnTo>
                  <a:lnTo>
                    <a:pt x="186" y="319"/>
                  </a:lnTo>
                  <a:lnTo>
                    <a:pt x="233" y="297"/>
                  </a:lnTo>
                  <a:lnTo>
                    <a:pt x="279" y="269"/>
                  </a:lnTo>
                  <a:lnTo>
                    <a:pt x="308" y="230"/>
                  </a:lnTo>
                  <a:lnTo>
                    <a:pt x="337" y="184"/>
                  </a:lnTo>
                  <a:lnTo>
                    <a:pt x="354" y="135"/>
                  </a:lnTo>
                  <a:lnTo>
                    <a:pt x="354" y="78"/>
                  </a:lnTo>
                  <a:lnTo>
                    <a:pt x="337" y="56"/>
                  </a:lnTo>
                  <a:lnTo>
                    <a:pt x="314" y="34"/>
                  </a:lnTo>
                  <a:lnTo>
                    <a:pt x="285" y="1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0" name="Freeform 50"/>
            <p:cNvSpPr/>
            <p:nvPr/>
          </p:nvSpPr>
          <p:spPr>
            <a:xfrm>
              <a:off x="4912920" y="4883760"/>
              <a:ext cx="14040" cy="45360"/>
            </a:xfrm>
            <a:custGeom>
              <a:avLst/>
              <a:gdLst/>
              <a:ahLst/>
              <a:rect l="l" t="t" r="r" b="b"/>
              <a:pathLst>
                <a:path w="64" h="201">
                  <a:moveTo>
                    <a:pt x="17" y="0"/>
                  </a:moveTo>
                  <a:lnTo>
                    <a:pt x="6" y="17"/>
                  </a:lnTo>
                  <a:lnTo>
                    <a:pt x="6" y="56"/>
                  </a:lnTo>
                  <a:lnTo>
                    <a:pt x="0" y="89"/>
                  </a:lnTo>
                  <a:lnTo>
                    <a:pt x="0" y="135"/>
                  </a:lnTo>
                  <a:lnTo>
                    <a:pt x="0" y="162"/>
                  </a:lnTo>
                  <a:lnTo>
                    <a:pt x="6" y="191"/>
                  </a:lnTo>
                  <a:lnTo>
                    <a:pt x="24" y="201"/>
                  </a:lnTo>
                  <a:lnTo>
                    <a:pt x="52" y="201"/>
                  </a:lnTo>
                  <a:lnTo>
                    <a:pt x="58" y="184"/>
                  </a:lnTo>
                  <a:lnTo>
                    <a:pt x="64" y="157"/>
                  </a:lnTo>
                  <a:lnTo>
                    <a:pt x="58" y="123"/>
                  </a:lnTo>
                  <a:lnTo>
                    <a:pt x="58" y="95"/>
                  </a:lnTo>
                  <a:lnTo>
                    <a:pt x="47" y="61"/>
                  </a:lnTo>
                  <a:lnTo>
                    <a:pt x="47" y="27"/>
                  </a:lnTo>
                  <a:lnTo>
                    <a:pt x="47" y="5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4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1" name="Freeform 51"/>
            <p:cNvSpPr/>
            <p:nvPr/>
          </p:nvSpPr>
          <p:spPr>
            <a:xfrm>
              <a:off x="5162400" y="4883760"/>
              <a:ext cx="43920" cy="75960"/>
            </a:xfrm>
            <a:custGeom>
              <a:avLst/>
              <a:gdLst/>
              <a:ahLst/>
              <a:rect l="l" t="t" r="r" b="b"/>
              <a:pathLst>
                <a:path w="203" h="331">
                  <a:moveTo>
                    <a:pt x="69" y="0"/>
                  </a:moveTo>
                  <a:lnTo>
                    <a:pt x="46" y="33"/>
                  </a:lnTo>
                  <a:lnTo>
                    <a:pt x="28" y="84"/>
                  </a:lnTo>
                  <a:lnTo>
                    <a:pt x="11" y="140"/>
                  </a:lnTo>
                  <a:lnTo>
                    <a:pt x="0" y="201"/>
                  </a:lnTo>
                  <a:lnTo>
                    <a:pt x="0" y="252"/>
                  </a:lnTo>
                  <a:lnTo>
                    <a:pt x="16" y="297"/>
                  </a:lnTo>
                  <a:lnTo>
                    <a:pt x="51" y="326"/>
                  </a:lnTo>
                  <a:lnTo>
                    <a:pt x="122" y="331"/>
                  </a:lnTo>
                  <a:lnTo>
                    <a:pt x="162" y="309"/>
                  </a:lnTo>
                  <a:lnTo>
                    <a:pt x="185" y="280"/>
                  </a:lnTo>
                  <a:lnTo>
                    <a:pt x="198" y="230"/>
                  </a:lnTo>
                  <a:lnTo>
                    <a:pt x="203" y="184"/>
                  </a:lnTo>
                  <a:lnTo>
                    <a:pt x="191" y="128"/>
                  </a:lnTo>
                  <a:lnTo>
                    <a:pt x="180" y="78"/>
                  </a:lnTo>
                  <a:lnTo>
                    <a:pt x="168" y="27"/>
                  </a:lnTo>
                  <a:lnTo>
                    <a:pt x="162" y="0"/>
                  </a:lnTo>
                  <a:lnTo>
                    <a:pt x="11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b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2" name="Freeform 52"/>
            <p:cNvSpPr/>
            <p:nvPr/>
          </p:nvSpPr>
          <p:spPr>
            <a:xfrm>
              <a:off x="5905440" y="4884840"/>
              <a:ext cx="113400" cy="271080"/>
            </a:xfrm>
            <a:custGeom>
              <a:avLst/>
              <a:gdLst/>
              <a:ahLst/>
              <a:rect l="l" t="t" r="r" b="b"/>
              <a:pathLst>
                <a:path w="524" h="1164">
                  <a:moveTo>
                    <a:pt x="321" y="5"/>
                  </a:moveTo>
                  <a:lnTo>
                    <a:pt x="245" y="17"/>
                  </a:lnTo>
                  <a:lnTo>
                    <a:pt x="181" y="51"/>
                  </a:lnTo>
                  <a:lnTo>
                    <a:pt x="123" y="96"/>
                  </a:lnTo>
                  <a:lnTo>
                    <a:pt x="82" y="162"/>
                  </a:lnTo>
                  <a:lnTo>
                    <a:pt x="42" y="236"/>
                  </a:lnTo>
                  <a:lnTo>
                    <a:pt x="17" y="321"/>
                  </a:lnTo>
                  <a:lnTo>
                    <a:pt x="0" y="405"/>
                  </a:lnTo>
                  <a:lnTo>
                    <a:pt x="0" y="495"/>
                  </a:lnTo>
                  <a:lnTo>
                    <a:pt x="0" y="528"/>
                  </a:lnTo>
                  <a:lnTo>
                    <a:pt x="17" y="551"/>
                  </a:lnTo>
                  <a:lnTo>
                    <a:pt x="42" y="557"/>
                  </a:lnTo>
                  <a:lnTo>
                    <a:pt x="82" y="574"/>
                  </a:lnTo>
                  <a:lnTo>
                    <a:pt x="76" y="534"/>
                  </a:lnTo>
                  <a:lnTo>
                    <a:pt x="70" y="500"/>
                  </a:lnTo>
                  <a:lnTo>
                    <a:pt x="70" y="461"/>
                  </a:lnTo>
                  <a:lnTo>
                    <a:pt x="70" y="427"/>
                  </a:lnTo>
                  <a:lnTo>
                    <a:pt x="70" y="388"/>
                  </a:lnTo>
                  <a:lnTo>
                    <a:pt x="70" y="354"/>
                  </a:lnTo>
                  <a:lnTo>
                    <a:pt x="70" y="314"/>
                  </a:lnTo>
                  <a:lnTo>
                    <a:pt x="70" y="275"/>
                  </a:lnTo>
                  <a:lnTo>
                    <a:pt x="123" y="264"/>
                  </a:lnTo>
                  <a:lnTo>
                    <a:pt x="123" y="292"/>
                  </a:lnTo>
                  <a:lnTo>
                    <a:pt x="128" y="338"/>
                  </a:lnTo>
                  <a:lnTo>
                    <a:pt x="134" y="388"/>
                  </a:lnTo>
                  <a:lnTo>
                    <a:pt x="146" y="444"/>
                  </a:lnTo>
                  <a:lnTo>
                    <a:pt x="151" y="489"/>
                  </a:lnTo>
                  <a:lnTo>
                    <a:pt x="164" y="534"/>
                  </a:lnTo>
                  <a:lnTo>
                    <a:pt x="169" y="562"/>
                  </a:lnTo>
                  <a:lnTo>
                    <a:pt x="174" y="574"/>
                  </a:lnTo>
                  <a:lnTo>
                    <a:pt x="164" y="584"/>
                  </a:lnTo>
                  <a:lnTo>
                    <a:pt x="151" y="613"/>
                  </a:lnTo>
                  <a:lnTo>
                    <a:pt x="140" y="641"/>
                  </a:lnTo>
                  <a:lnTo>
                    <a:pt x="134" y="664"/>
                  </a:lnTo>
                  <a:lnTo>
                    <a:pt x="111" y="675"/>
                  </a:lnTo>
                  <a:lnTo>
                    <a:pt x="82" y="675"/>
                  </a:lnTo>
                  <a:lnTo>
                    <a:pt x="76" y="714"/>
                  </a:lnTo>
                  <a:lnTo>
                    <a:pt x="76" y="765"/>
                  </a:lnTo>
                  <a:lnTo>
                    <a:pt x="76" y="815"/>
                  </a:lnTo>
                  <a:lnTo>
                    <a:pt x="76" y="866"/>
                  </a:lnTo>
                  <a:lnTo>
                    <a:pt x="76" y="905"/>
                  </a:lnTo>
                  <a:lnTo>
                    <a:pt x="76" y="950"/>
                  </a:lnTo>
                  <a:lnTo>
                    <a:pt x="76" y="989"/>
                  </a:lnTo>
                  <a:lnTo>
                    <a:pt x="82" y="1023"/>
                  </a:lnTo>
                  <a:lnTo>
                    <a:pt x="76" y="1074"/>
                  </a:lnTo>
                  <a:lnTo>
                    <a:pt x="88" y="1119"/>
                  </a:lnTo>
                  <a:lnTo>
                    <a:pt x="93" y="1130"/>
                  </a:lnTo>
                  <a:lnTo>
                    <a:pt x="116" y="1141"/>
                  </a:lnTo>
                  <a:lnTo>
                    <a:pt x="146" y="1153"/>
                  </a:lnTo>
                  <a:lnTo>
                    <a:pt x="187" y="1164"/>
                  </a:lnTo>
                  <a:lnTo>
                    <a:pt x="233" y="1164"/>
                  </a:lnTo>
                  <a:lnTo>
                    <a:pt x="285" y="1153"/>
                  </a:lnTo>
                  <a:lnTo>
                    <a:pt x="326" y="1130"/>
                  </a:lnTo>
                  <a:lnTo>
                    <a:pt x="372" y="1113"/>
                  </a:lnTo>
                  <a:lnTo>
                    <a:pt x="407" y="1085"/>
                  </a:lnTo>
                  <a:lnTo>
                    <a:pt x="448" y="1057"/>
                  </a:lnTo>
                  <a:lnTo>
                    <a:pt x="483" y="1029"/>
                  </a:lnTo>
                  <a:lnTo>
                    <a:pt x="524" y="1012"/>
                  </a:lnTo>
                  <a:lnTo>
                    <a:pt x="501" y="956"/>
                  </a:lnTo>
                  <a:lnTo>
                    <a:pt x="494" y="910"/>
                  </a:lnTo>
                  <a:lnTo>
                    <a:pt x="494" y="860"/>
                  </a:lnTo>
                  <a:lnTo>
                    <a:pt x="501" y="821"/>
                  </a:lnTo>
                  <a:lnTo>
                    <a:pt x="501" y="770"/>
                  </a:lnTo>
                  <a:lnTo>
                    <a:pt x="506" y="726"/>
                  </a:lnTo>
                  <a:lnTo>
                    <a:pt x="506" y="675"/>
                  </a:lnTo>
                  <a:lnTo>
                    <a:pt x="512" y="624"/>
                  </a:lnTo>
                  <a:lnTo>
                    <a:pt x="471" y="635"/>
                  </a:lnTo>
                  <a:lnTo>
                    <a:pt x="448" y="641"/>
                  </a:lnTo>
                  <a:lnTo>
                    <a:pt x="419" y="641"/>
                  </a:lnTo>
                  <a:lnTo>
                    <a:pt x="402" y="641"/>
                  </a:lnTo>
                  <a:lnTo>
                    <a:pt x="355" y="618"/>
                  </a:lnTo>
                  <a:lnTo>
                    <a:pt x="308" y="584"/>
                  </a:lnTo>
                  <a:lnTo>
                    <a:pt x="314" y="523"/>
                  </a:lnTo>
                  <a:lnTo>
                    <a:pt x="331" y="461"/>
                  </a:lnTo>
                  <a:lnTo>
                    <a:pt x="337" y="393"/>
                  </a:lnTo>
                  <a:lnTo>
                    <a:pt x="355" y="338"/>
                  </a:lnTo>
                  <a:lnTo>
                    <a:pt x="361" y="270"/>
                  </a:lnTo>
                  <a:lnTo>
                    <a:pt x="372" y="213"/>
                  </a:lnTo>
                  <a:lnTo>
                    <a:pt x="384" y="157"/>
                  </a:lnTo>
                  <a:lnTo>
                    <a:pt x="402" y="107"/>
                  </a:lnTo>
                  <a:lnTo>
                    <a:pt x="384" y="79"/>
                  </a:lnTo>
                  <a:lnTo>
                    <a:pt x="390" y="45"/>
                  </a:lnTo>
                  <a:lnTo>
                    <a:pt x="379" y="28"/>
                  </a:lnTo>
                  <a:lnTo>
                    <a:pt x="372" y="12"/>
                  </a:lnTo>
                  <a:lnTo>
                    <a:pt x="349" y="0"/>
                  </a:lnTo>
                  <a:lnTo>
                    <a:pt x="321" y="5"/>
                  </a:lnTo>
                  <a:close/>
                </a:path>
              </a:pathLst>
            </a:custGeom>
            <a:solidFill>
              <a:srgbClr val="fdb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3" name="Freeform 53"/>
            <p:cNvSpPr/>
            <p:nvPr/>
          </p:nvSpPr>
          <p:spPr>
            <a:xfrm>
              <a:off x="5055120" y="4892400"/>
              <a:ext cx="20160" cy="51480"/>
            </a:xfrm>
            <a:custGeom>
              <a:avLst/>
              <a:gdLst/>
              <a:ahLst/>
              <a:rect l="l" t="t" r="r" b="b"/>
              <a:pathLst>
                <a:path w="99" h="219">
                  <a:moveTo>
                    <a:pt x="35" y="0"/>
                  </a:moveTo>
                  <a:lnTo>
                    <a:pt x="12" y="45"/>
                  </a:lnTo>
                  <a:lnTo>
                    <a:pt x="7" y="96"/>
                  </a:lnTo>
                  <a:lnTo>
                    <a:pt x="0" y="118"/>
                  </a:lnTo>
                  <a:lnTo>
                    <a:pt x="0" y="145"/>
                  </a:lnTo>
                  <a:lnTo>
                    <a:pt x="0" y="179"/>
                  </a:lnTo>
                  <a:lnTo>
                    <a:pt x="12" y="219"/>
                  </a:lnTo>
                  <a:lnTo>
                    <a:pt x="41" y="213"/>
                  </a:lnTo>
                  <a:lnTo>
                    <a:pt x="76" y="219"/>
                  </a:lnTo>
                  <a:lnTo>
                    <a:pt x="83" y="174"/>
                  </a:lnTo>
                  <a:lnTo>
                    <a:pt x="88" y="140"/>
                  </a:lnTo>
                  <a:lnTo>
                    <a:pt x="94" y="106"/>
                  </a:lnTo>
                  <a:lnTo>
                    <a:pt x="99" y="89"/>
                  </a:lnTo>
                  <a:lnTo>
                    <a:pt x="76" y="4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4f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4" name="Freeform 54"/>
            <p:cNvSpPr/>
            <p:nvPr/>
          </p:nvSpPr>
          <p:spPr>
            <a:xfrm>
              <a:off x="5105520" y="4892400"/>
              <a:ext cx="26640" cy="62280"/>
            </a:xfrm>
            <a:custGeom>
              <a:avLst/>
              <a:gdLst/>
              <a:ahLst/>
              <a:rect l="l" t="t" r="r" b="b"/>
              <a:pathLst>
                <a:path w="123" h="270">
                  <a:moveTo>
                    <a:pt x="41" y="0"/>
                  </a:moveTo>
                  <a:lnTo>
                    <a:pt x="25" y="45"/>
                  </a:lnTo>
                  <a:lnTo>
                    <a:pt x="13" y="84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0" y="179"/>
                  </a:lnTo>
                  <a:lnTo>
                    <a:pt x="13" y="208"/>
                  </a:lnTo>
                  <a:lnTo>
                    <a:pt x="36" y="236"/>
                  </a:lnTo>
                  <a:lnTo>
                    <a:pt x="76" y="270"/>
                  </a:lnTo>
                  <a:lnTo>
                    <a:pt x="88" y="219"/>
                  </a:lnTo>
                  <a:lnTo>
                    <a:pt x="106" y="185"/>
                  </a:lnTo>
                  <a:lnTo>
                    <a:pt x="117" y="152"/>
                  </a:lnTo>
                  <a:lnTo>
                    <a:pt x="123" y="118"/>
                  </a:lnTo>
                  <a:lnTo>
                    <a:pt x="117" y="84"/>
                  </a:lnTo>
                  <a:lnTo>
                    <a:pt x="106" y="56"/>
                  </a:lnTo>
                  <a:lnTo>
                    <a:pt x="76" y="28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a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5" name="Freeform 55"/>
            <p:cNvSpPr/>
            <p:nvPr/>
          </p:nvSpPr>
          <p:spPr>
            <a:xfrm>
              <a:off x="5330520" y="4892400"/>
              <a:ext cx="37440" cy="43920"/>
            </a:xfrm>
            <a:custGeom>
              <a:avLst/>
              <a:gdLst/>
              <a:ahLst/>
              <a:rect l="l" t="t" r="r" b="b"/>
              <a:pathLst>
                <a:path w="175" h="191">
                  <a:moveTo>
                    <a:pt x="134" y="0"/>
                  </a:moveTo>
                  <a:lnTo>
                    <a:pt x="94" y="0"/>
                  </a:lnTo>
                  <a:lnTo>
                    <a:pt x="64" y="5"/>
                  </a:lnTo>
                  <a:lnTo>
                    <a:pt x="41" y="11"/>
                  </a:lnTo>
                  <a:lnTo>
                    <a:pt x="23" y="28"/>
                  </a:lnTo>
                  <a:lnTo>
                    <a:pt x="6" y="45"/>
                  </a:lnTo>
                  <a:lnTo>
                    <a:pt x="0" y="73"/>
                  </a:lnTo>
                  <a:lnTo>
                    <a:pt x="0" y="106"/>
                  </a:lnTo>
                  <a:lnTo>
                    <a:pt x="0" y="162"/>
                  </a:lnTo>
                  <a:lnTo>
                    <a:pt x="52" y="179"/>
                  </a:lnTo>
                  <a:lnTo>
                    <a:pt x="70" y="185"/>
                  </a:lnTo>
                  <a:lnTo>
                    <a:pt x="87" y="185"/>
                  </a:lnTo>
                  <a:lnTo>
                    <a:pt x="105" y="191"/>
                  </a:lnTo>
                  <a:lnTo>
                    <a:pt x="128" y="179"/>
                  </a:lnTo>
                  <a:lnTo>
                    <a:pt x="151" y="162"/>
                  </a:lnTo>
                  <a:lnTo>
                    <a:pt x="163" y="140"/>
                  </a:lnTo>
                  <a:lnTo>
                    <a:pt x="175" y="118"/>
                  </a:lnTo>
                  <a:lnTo>
                    <a:pt x="175" y="84"/>
                  </a:lnTo>
                  <a:lnTo>
                    <a:pt x="175" y="56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6" name="Freeform 56"/>
            <p:cNvSpPr/>
            <p:nvPr/>
          </p:nvSpPr>
          <p:spPr>
            <a:xfrm>
              <a:off x="5464800" y="4897080"/>
              <a:ext cx="91800" cy="221760"/>
            </a:xfrm>
            <a:custGeom>
              <a:avLst/>
              <a:gdLst/>
              <a:ahLst/>
              <a:rect l="l" t="t" r="r" b="b"/>
              <a:pathLst>
                <a:path w="425" h="956">
                  <a:moveTo>
                    <a:pt x="169" y="0"/>
                  </a:moveTo>
                  <a:lnTo>
                    <a:pt x="123" y="6"/>
                  </a:lnTo>
                  <a:lnTo>
                    <a:pt x="99" y="34"/>
                  </a:lnTo>
                  <a:lnTo>
                    <a:pt x="83" y="62"/>
                  </a:lnTo>
                  <a:lnTo>
                    <a:pt x="65" y="106"/>
                  </a:lnTo>
                  <a:lnTo>
                    <a:pt x="35" y="152"/>
                  </a:lnTo>
                  <a:lnTo>
                    <a:pt x="18" y="202"/>
                  </a:lnTo>
                  <a:lnTo>
                    <a:pt x="0" y="248"/>
                  </a:lnTo>
                  <a:lnTo>
                    <a:pt x="0" y="298"/>
                  </a:lnTo>
                  <a:lnTo>
                    <a:pt x="0" y="343"/>
                  </a:lnTo>
                  <a:lnTo>
                    <a:pt x="12" y="388"/>
                  </a:lnTo>
                  <a:lnTo>
                    <a:pt x="30" y="439"/>
                  </a:lnTo>
                  <a:lnTo>
                    <a:pt x="65" y="489"/>
                  </a:lnTo>
                  <a:lnTo>
                    <a:pt x="71" y="501"/>
                  </a:lnTo>
                  <a:lnTo>
                    <a:pt x="88" y="518"/>
                  </a:lnTo>
                  <a:lnTo>
                    <a:pt x="106" y="528"/>
                  </a:lnTo>
                  <a:lnTo>
                    <a:pt x="117" y="540"/>
                  </a:lnTo>
                  <a:lnTo>
                    <a:pt x="117" y="579"/>
                  </a:lnTo>
                  <a:lnTo>
                    <a:pt x="111" y="624"/>
                  </a:lnTo>
                  <a:lnTo>
                    <a:pt x="99" y="663"/>
                  </a:lnTo>
                  <a:lnTo>
                    <a:pt x="94" y="714"/>
                  </a:lnTo>
                  <a:lnTo>
                    <a:pt x="76" y="753"/>
                  </a:lnTo>
                  <a:lnTo>
                    <a:pt x="65" y="798"/>
                  </a:lnTo>
                  <a:lnTo>
                    <a:pt x="48" y="844"/>
                  </a:lnTo>
                  <a:lnTo>
                    <a:pt x="48" y="888"/>
                  </a:lnTo>
                  <a:lnTo>
                    <a:pt x="88" y="905"/>
                  </a:lnTo>
                  <a:lnTo>
                    <a:pt x="134" y="928"/>
                  </a:lnTo>
                  <a:lnTo>
                    <a:pt x="152" y="933"/>
                  </a:lnTo>
                  <a:lnTo>
                    <a:pt x="181" y="945"/>
                  </a:lnTo>
                  <a:lnTo>
                    <a:pt x="210" y="950"/>
                  </a:lnTo>
                  <a:lnTo>
                    <a:pt x="251" y="956"/>
                  </a:lnTo>
                  <a:lnTo>
                    <a:pt x="286" y="956"/>
                  </a:lnTo>
                  <a:lnTo>
                    <a:pt x="326" y="956"/>
                  </a:lnTo>
                  <a:lnTo>
                    <a:pt x="367" y="956"/>
                  </a:lnTo>
                  <a:lnTo>
                    <a:pt x="408" y="956"/>
                  </a:lnTo>
                  <a:lnTo>
                    <a:pt x="408" y="945"/>
                  </a:lnTo>
                  <a:lnTo>
                    <a:pt x="413" y="928"/>
                  </a:lnTo>
                  <a:lnTo>
                    <a:pt x="413" y="900"/>
                  </a:lnTo>
                  <a:lnTo>
                    <a:pt x="425" y="888"/>
                  </a:lnTo>
                  <a:lnTo>
                    <a:pt x="420" y="815"/>
                  </a:lnTo>
                  <a:lnTo>
                    <a:pt x="413" y="748"/>
                  </a:lnTo>
                  <a:lnTo>
                    <a:pt x="408" y="675"/>
                  </a:lnTo>
                  <a:lnTo>
                    <a:pt x="408" y="602"/>
                  </a:lnTo>
                  <a:lnTo>
                    <a:pt x="402" y="518"/>
                  </a:lnTo>
                  <a:lnTo>
                    <a:pt x="402" y="439"/>
                  </a:lnTo>
                  <a:lnTo>
                    <a:pt x="408" y="360"/>
                  </a:lnTo>
                  <a:lnTo>
                    <a:pt x="425" y="287"/>
                  </a:lnTo>
                  <a:lnTo>
                    <a:pt x="408" y="275"/>
                  </a:lnTo>
                  <a:lnTo>
                    <a:pt x="396" y="270"/>
                  </a:lnTo>
                  <a:lnTo>
                    <a:pt x="378" y="258"/>
                  </a:lnTo>
                  <a:lnTo>
                    <a:pt x="373" y="258"/>
                  </a:lnTo>
                  <a:lnTo>
                    <a:pt x="367" y="225"/>
                  </a:lnTo>
                  <a:lnTo>
                    <a:pt x="378" y="186"/>
                  </a:lnTo>
                  <a:lnTo>
                    <a:pt x="385" y="140"/>
                  </a:lnTo>
                  <a:lnTo>
                    <a:pt x="385" y="106"/>
                  </a:lnTo>
                  <a:lnTo>
                    <a:pt x="367" y="91"/>
                  </a:lnTo>
                  <a:lnTo>
                    <a:pt x="349" y="74"/>
                  </a:lnTo>
                  <a:lnTo>
                    <a:pt x="314" y="57"/>
                  </a:lnTo>
                  <a:lnTo>
                    <a:pt x="286" y="40"/>
                  </a:lnTo>
                  <a:lnTo>
                    <a:pt x="245" y="23"/>
                  </a:lnTo>
                  <a:lnTo>
                    <a:pt x="216" y="11"/>
                  </a:lnTo>
                  <a:lnTo>
                    <a:pt x="181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aa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7" name="Freeform 57"/>
            <p:cNvSpPr/>
            <p:nvPr/>
          </p:nvSpPr>
          <p:spPr>
            <a:xfrm>
              <a:off x="5558040" y="4897080"/>
              <a:ext cx="54000" cy="219240"/>
            </a:xfrm>
            <a:custGeom>
              <a:avLst/>
              <a:gdLst/>
              <a:ahLst/>
              <a:rect l="l" t="t" r="r" b="b"/>
              <a:pathLst>
                <a:path w="250" h="939">
                  <a:moveTo>
                    <a:pt x="162" y="0"/>
                  </a:moveTo>
                  <a:lnTo>
                    <a:pt x="122" y="0"/>
                  </a:lnTo>
                  <a:lnTo>
                    <a:pt x="88" y="11"/>
                  </a:lnTo>
                  <a:lnTo>
                    <a:pt x="52" y="23"/>
                  </a:lnTo>
                  <a:lnTo>
                    <a:pt x="17" y="28"/>
                  </a:lnTo>
                  <a:lnTo>
                    <a:pt x="17" y="51"/>
                  </a:lnTo>
                  <a:lnTo>
                    <a:pt x="17" y="7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12" y="174"/>
                  </a:lnTo>
                  <a:lnTo>
                    <a:pt x="17" y="197"/>
                  </a:lnTo>
                  <a:lnTo>
                    <a:pt x="58" y="208"/>
                  </a:lnTo>
                  <a:lnTo>
                    <a:pt x="46" y="265"/>
                  </a:lnTo>
                  <a:lnTo>
                    <a:pt x="35" y="360"/>
                  </a:lnTo>
                  <a:lnTo>
                    <a:pt x="17" y="478"/>
                  </a:lnTo>
                  <a:lnTo>
                    <a:pt x="12" y="608"/>
                  </a:lnTo>
                  <a:lnTo>
                    <a:pt x="5" y="726"/>
                  </a:lnTo>
                  <a:lnTo>
                    <a:pt x="23" y="832"/>
                  </a:lnTo>
                  <a:lnTo>
                    <a:pt x="52" y="905"/>
                  </a:lnTo>
                  <a:lnTo>
                    <a:pt x="111" y="939"/>
                  </a:lnTo>
                  <a:lnTo>
                    <a:pt x="180" y="917"/>
                  </a:lnTo>
                  <a:lnTo>
                    <a:pt x="227" y="854"/>
                  </a:lnTo>
                  <a:lnTo>
                    <a:pt x="244" y="759"/>
                  </a:lnTo>
                  <a:lnTo>
                    <a:pt x="250" y="647"/>
                  </a:lnTo>
                  <a:lnTo>
                    <a:pt x="233" y="528"/>
                  </a:lnTo>
                  <a:lnTo>
                    <a:pt x="209" y="427"/>
                  </a:lnTo>
                  <a:lnTo>
                    <a:pt x="180" y="349"/>
                  </a:lnTo>
                  <a:lnTo>
                    <a:pt x="162" y="309"/>
                  </a:lnTo>
                  <a:lnTo>
                    <a:pt x="197" y="258"/>
                  </a:lnTo>
                  <a:lnTo>
                    <a:pt x="233" y="219"/>
                  </a:lnTo>
                  <a:lnTo>
                    <a:pt x="233" y="202"/>
                  </a:lnTo>
                  <a:lnTo>
                    <a:pt x="233" y="174"/>
                  </a:lnTo>
                  <a:lnTo>
                    <a:pt x="233" y="140"/>
                  </a:lnTo>
                  <a:lnTo>
                    <a:pt x="233" y="130"/>
                  </a:lnTo>
                  <a:lnTo>
                    <a:pt x="215" y="96"/>
                  </a:lnTo>
                  <a:lnTo>
                    <a:pt x="203" y="51"/>
                  </a:lnTo>
                  <a:lnTo>
                    <a:pt x="180" y="23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62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8" name="Freeform 58"/>
            <p:cNvSpPr/>
            <p:nvPr/>
          </p:nvSpPr>
          <p:spPr>
            <a:xfrm>
              <a:off x="6024600" y="4907160"/>
              <a:ext cx="114840" cy="410040"/>
            </a:xfrm>
            <a:custGeom>
              <a:avLst/>
              <a:gdLst/>
              <a:ahLst/>
              <a:rect l="l" t="t" r="r" b="b"/>
              <a:pathLst>
                <a:path w="529" h="1765">
                  <a:moveTo>
                    <a:pt x="314" y="0"/>
                  </a:moveTo>
                  <a:lnTo>
                    <a:pt x="309" y="22"/>
                  </a:lnTo>
                  <a:lnTo>
                    <a:pt x="303" y="66"/>
                  </a:lnTo>
                  <a:lnTo>
                    <a:pt x="297" y="106"/>
                  </a:lnTo>
                  <a:lnTo>
                    <a:pt x="291" y="146"/>
                  </a:lnTo>
                  <a:lnTo>
                    <a:pt x="262" y="162"/>
                  </a:lnTo>
                  <a:lnTo>
                    <a:pt x="227" y="185"/>
                  </a:lnTo>
                  <a:lnTo>
                    <a:pt x="187" y="201"/>
                  </a:lnTo>
                  <a:lnTo>
                    <a:pt x="146" y="225"/>
                  </a:lnTo>
                  <a:lnTo>
                    <a:pt x="99" y="242"/>
                  </a:lnTo>
                  <a:lnTo>
                    <a:pt x="65" y="264"/>
                  </a:lnTo>
                  <a:lnTo>
                    <a:pt x="35" y="286"/>
                  </a:lnTo>
                  <a:lnTo>
                    <a:pt x="23" y="326"/>
                  </a:lnTo>
                  <a:lnTo>
                    <a:pt x="12" y="360"/>
                  </a:lnTo>
                  <a:lnTo>
                    <a:pt x="7" y="427"/>
                  </a:lnTo>
                  <a:lnTo>
                    <a:pt x="0" y="500"/>
                  </a:lnTo>
                  <a:lnTo>
                    <a:pt x="0" y="590"/>
                  </a:lnTo>
                  <a:lnTo>
                    <a:pt x="0" y="669"/>
                  </a:lnTo>
                  <a:lnTo>
                    <a:pt x="0" y="753"/>
                  </a:lnTo>
                  <a:lnTo>
                    <a:pt x="7" y="809"/>
                  </a:lnTo>
                  <a:lnTo>
                    <a:pt x="12" y="848"/>
                  </a:lnTo>
                  <a:lnTo>
                    <a:pt x="41" y="848"/>
                  </a:lnTo>
                  <a:lnTo>
                    <a:pt x="76" y="860"/>
                  </a:lnTo>
                  <a:lnTo>
                    <a:pt x="111" y="865"/>
                  </a:lnTo>
                  <a:lnTo>
                    <a:pt x="146" y="877"/>
                  </a:lnTo>
                  <a:lnTo>
                    <a:pt x="111" y="949"/>
                  </a:lnTo>
                  <a:lnTo>
                    <a:pt x="99" y="1045"/>
                  </a:lnTo>
                  <a:lnTo>
                    <a:pt x="94" y="1157"/>
                  </a:lnTo>
                  <a:lnTo>
                    <a:pt x="111" y="1282"/>
                  </a:lnTo>
                  <a:lnTo>
                    <a:pt x="129" y="1400"/>
                  </a:lnTo>
                  <a:lnTo>
                    <a:pt x="146" y="1518"/>
                  </a:lnTo>
                  <a:lnTo>
                    <a:pt x="164" y="1630"/>
                  </a:lnTo>
                  <a:lnTo>
                    <a:pt x="180" y="1726"/>
                  </a:lnTo>
                  <a:lnTo>
                    <a:pt x="221" y="1731"/>
                  </a:lnTo>
                  <a:lnTo>
                    <a:pt x="268" y="1743"/>
                  </a:lnTo>
                  <a:lnTo>
                    <a:pt x="309" y="1748"/>
                  </a:lnTo>
                  <a:lnTo>
                    <a:pt x="355" y="1765"/>
                  </a:lnTo>
                  <a:lnTo>
                    <a:pt x="360" y="1765"/>
                  </a:lnTo>
                  <a:lnTo>
                    <a:pt x="390" y="1765"/>
                  </a:lnTo>
                  <a:lnTo>
                    <a:pt x="419" y="1765"/>
                  </a:lnTo>
                  <a:lnTo>
                    <a:pt x="436" y="1765"/>
                  </a:lnTo>
                  <a:lnTo>
                    <a:pt x="436" y="1731"/>
                  </a:lnTo>
                  <a:lnTo>
                    <a:pt x="448" y="1692"/>
                  </a:lnTo>
                  <a:lnTo>
                    <a:pt x="459" y="1641"/>
                  </a:lnTo>
                  <a:lnTo>
                    <a:pt x="471" y="1596"/>
                  </a:lnTo>
                  <a:lnTo>
                    <a:pt x="477" y="1540"/>
                  </a:lnTo>
                  <a:lnTo>
                    <a:pt x="483" y="1489"/>
                  </a:lnTo>
                  <a:lnTo>
                    <a:pt x="477" y="1439"/>
                  </a:lnTo>
                  <a:lnTo>
                    <a:pt x="477" y="1394"/>
                  </a:lnTo>
                  <a:lnTo>
                    <a:pt x="459" y="1371"/>
                  </a:lnTo>
                  <a:lnTo>
                    <a:pt x="443" y="1354"/>
                  </a:lnTo>
                  <a:lnTo>
                    <a:pt x="413" y="1332"/>
                  </a:lnTo>
                  <a:lnTo>
                    <a:pt x="408" y="1315"/>
                  </a:lnTo>
                  <a:lnTo>
                    <a:pt x="390" y="1258"/>
                  </a:lnTo>
                  <a:lnTo>
                    <a:pt x="372" y="1208"/>
                  </a:lnTo>
                  <a:lnTo>
                    <a:pt x="355" y="1152"/>
                  </a:lnTo>
                  <a:lnTo>
                    <a:pt x="337" y="1101"/>
                  </a:lnTo>
                  <a:lnTo>
                    <a:pt x="320" y="1045"/>
                  </a:lnTo>
                  <a:lnTo>
                    <a:pt x="303" y="995"/>
                  </a:lnTo>
                  <a:lnTo>
                    <a:pt x="291" y="949"/>
                  </a:lnTo>
                  <a:lnTo>
                    <a:pt x="291" y="916"/>
                  </a:lnTo>
                  <a:lnTo>
                    <a:pt x="279" y="797"/>
                  </a:lnTo>
                  <a:lnTo>
                    <a:pt x="286" y="686"/>
                  </a:lnTo>
                  <a:lnTo>
                    <a:pt x="303" y="573"/>
                  </a:lnTo>
                  <a:lnTo>
                    <a:pt x="344" y="478"/>
                  </a:lnTo>
                  <a:lnTo>
                    <a:pt x="378" y="377"/>
                  </a:lnTo>
                  <a:lnTo>
                    <a:pt x="425" y="292"/>
                  </a:lnTo>
                  <a:lnTo>
                    <a:pt x="477" y="213"/>
                  </a:lnTo>
                  <a:lnTo>
                    <a:pt x="529" y="157"/>
                  </a:lnTo>
                  <a:lnTo>
                    <a:pt x="517" y="146"/>
                  </a:lnTo>
                  <a:lnTo>
                    <a:pt x="500" y="117"/>
                  </a:lnTo>
                  <a:lnTo>
                    <a:pt x="477" y="83"/>
                  </a:lnTo>
                  <a:lnTo>
                    <a:pt x="459" y="66"/>
                  </a:lnTo>
                  <a:lnTo>
                    <a:pt x="431" y="34"/>
                  </a:lnTo>
                  <a:lnTo>
                    <a:pt x="413" y="17"/>
                  </a:lnTo>
                  <a:lnTo>
                    <a:pt x="378" y="0"/>
                  </a:lnTo>
                  <a:lnTo>
                    <a:pt x="332" y="0"/>
                  </a:lnTo>
                  <a:lnTo>
                    <a:pt x="32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82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9" name="Freeform 59"/>
            <p:cNvSpPr/>
            <p:nvPr/>
          </p:nvSpPr>
          <p:spPr>
            <a:xfrm>
              <a:off x="6183360" y="4913280"/>
              <a:ext cx="34560" cy="30600"/>
            </a:xfrm>
            <a:custGeom>
              <a:avLst/>
              <a:gdLst/>
              <a:ahLst/>
              <a:rect l="l" t="t" r="r" b="b"/>
              <a:pathLst>
                <a:path w="157" h="130">
                  <a:moveTo>
                    <a:pt x="58" y="0"/>
                  </a:moveTo>
                  <a:lnTo>
                    <a:pt x="12" y="34"/>
                  </a:lnTo>
                  <a:lnTo>
                    <a:pt x="0" y="79"/>
                  </a:lnTo>
                  <a:lnTo>
                    <a:pt x="0" y="90"/>
                  </a:lnTo>
                  <a:lnTo>
                    <a:pt x="24" y="107"/>
                  </a:lnTo>
                  <a:lnTo>
                    <a:pt x="53" y="119"/>
                  </a:lnTo>
                  <a:lnTo>
                    <a:pt x="99" y="130"/>
                  </a:lnTo>
                  <a:lnTo>
                    <a:pt x="134" y="119"/>
                  </a:lnTo>
                  <a:lnTo>
                    <a:pt x="157" y="107"/>
                  </a:lnTo>
                  <a:lnTo>
                    <a:pt x="157" y="90"/>
                  </a:lnTo>
                  <a:lnTo>
                    <a:pt x="146" y="73"/>
                  </a:lnTo>
                  <a:lnTo>
                    <a:pt x="123" y="46"/>
                  </a:lnTo>
                  <a:lnTo>
                    <a:pt x="99" y="29"/>
                  </a:lnTo>
                  <a:lnTo>
                    <a:pt x="70" y="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0" name="Freeform 60"/>
            <p:cNvSpPr/>
            <p:nvPr/>
          </p:nvSpPr>
          <p:spPr>
            <a:xfrm>
              <a:off x="6306120" y="4917960"/>
              <a:ext cx="27000" cy="36720"/>
            </a:xfrm>
            <a:custGeom>
              <a:avLst/>
              <a:gdLst/>
              <a:ahLst/>
              <a:rect l="l" t="t" r="r" b="b"/>
              <a:pathLst>
                <a:path w="122" h="157">
                  <a:moveTo>
                    <a:pt x="116" y="0"/>
                  </a:moveTo>
                  <a:lnTo>
                    <a:pt x="76" y="10"/>
                  </a:lnTo>
                  <a:lnTo>
                    <a:pt x="47" y="22"/>
                  </a:lnTo>
                  <a:lnTo>
                    <a:pt x="23" y="32"/>
                  </a:lnTo>
                  <a:lnTo>
                    <a:pt x="12" y="49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5" y="157"/>
                  </a:lnTo>
                  <a:lnTo>
                    <a:pt x="47" y="140"/>
                  </a:lnTo>
                  <a:lnTo>
                    <a:pt x="81" y="128"/>
                  </a:lnTo>
                  <a:lnTo>
                    <a:pt x="99" y="111"/>
                  </a:lnTo>
                  <a:lnTo>
                    <a:pt x="116" y="100"/>
                  </a:lnTo>
                  <a:lnTo>
                    <a:pt x="116" y="78"/>
                  </a:lnTo>
                  <a:lnTo>
                    <a:pt x="122" y="61"/>
                  </a:lnTo>
                  <a:lnTo>
                    <a:pt x="116" y="27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1" name="Freeform 61"/>
            <p:cNvSpPr/>
            <p:nvPr/>
          </p:nvSpPr>
          <p:spPr>
            <a:xfrm>
              <a:off x="6100560" y="4946760"/>
              <a:ext cx="73440" cy="268560"/>
            </a:xfrm>
            <a:custGeom>
              <a:avLst/>
              <a:gdLst/>
              <a:ahLst/>
              <a:rect l="l" t="t" r="r" b="b"/>
              <a:pathLst>
                <a:path w="337" h="1158">
                  <a:moveTo>
                    <a:pt x="308" y="0"/>
                  </a:moveTo>
                  <a:lnTo>
                    <a:pt x="273" y="0"/>
                  </a:lnTo>
                  <a:lnTo>
                    <a:pt x="244" y="17"/>
                  </a:lnTo>
                  <a:lnTo>
                    <a:pt x="215" y="33"/>
                  </a:lnTo>
                  <a:lnTo>
                    <a:pt x="197" y="62"/>
                  </a:lnTo>
                  <a:lnTo>
                    <a:pt x="180" y="90"/>
                  </a:lnTo>
                  <a:lnTo>
                    <a:pt x="162" y="118"/>
                  </a:lnTo>
                  <a:lnTo>
                    <a:pt x="145" y="146"/>
                  </a:lnTo>
                  <a:lnTo>
                    <a:pt x="134" y="180"/>
                  </a:lnTo>
                  <a:lnTo>
                    <a:pt x="93" y="236"/>
                  </a:lnTo>
                  <a:lnTo>
                    <a:pt x="64" y="304"/>
                  </a:lnTo>
                  <a:lnTo>
                    <a:pt x="35" y="371"/>
                  </a:lnTo>
                  <a:lnTo>
                    <a:pt x="17" y="455"/>
                  </a:lnTo>
                  <a:lnTo>
                    <a:pt x="0" y="535"/>
                  </a:lnTo>
                  <a:lnTo>
                    <a:pt x="5" y="624"/>
                  </a:lnTo>
                  <a:lnTo>
                    <a:pt x="5" y="709"/>
                  </a:lnTo>
                  <a:lnTo>
                    <a:pt x="29" y="810"/>
                  </a:lnTo>
                  <a:lnTo>
                    <a:pt x="70" y="810"/>
                  </a:lnTo>
                  <a:lnTo>
                    <a:pt x="111" y="821"/>
                  </a:lnTo>
                  <a:lnTo>
                    <a:pt x="134" y="832"/>
                  </a:lnTo>
                  <a:lnTo>
                    <a:pt x="157" y="860"/>
                  </a:lnTo>
                  <a:lnTo>
                    <a:pt x="157" y="889"/>
                  </a:lnTo>
                  <a:lnTo>
                    <a:pt x="157" y="933"/>
                  </a:lnTo>
                  <a:lnTo>
                    <a:pt x="151" y="984"/>
                  </a:lnTo>
                  <a:lnTo>
                    <a:pt x="145" y="1057"/>
                  </a:lnTo>
                  <a:lnTo>
                    <a:pt x="139" y="1085"/>
                  </a:lnTo>
                  <a:lnTo>
                    <a:pt x="145" y="1119"/>
                  </a:lnTo>
                  <a:lnTo>
                    <a:pt x="162" y="1141"/>
                  </a:lnTo>
                  <a:lnTo>
                    <a:pt x="187" y="1158"/>
                  </a:lnTo>
                  <a:lnTo>
                    <a:pt x="203" y="1158"/>
                  </a:lnTo>
                  <a:lnTo>
                    <a:pt x="233" y="1153"/>
                  </a:lnTo>
                  <a:lnTo>
                    <a:pt x="256" y="1131"/>
                  </a:lnTo>
                  <a:lnTo>
                    <a:pt x="279" y="1097"/>
                  </a:lnTo>
                  <a:lnTo>
                    <a:pt x="302" y="972"/>
                  </a:lnTo>
                  <a:lnTo>
                    <a:pt x="314" y="844"/>
                  </a:lnTo>
                  <a:lnTo>
                    <a:pt x="308" y="703"/>
                  </a:lnTo>
                  <a:lnTo>
                    <a:pt x="302" y="568"/>
                  </a:lnTo>
                  <a:lnTo>
                    <a:pt x="285" y="422"/>
                  </a:lnTo>
                  <a:lnTo>
                    <a:pt x="285" y="287"/>
                  </a:lnTo>
                  <a:lnTo>
                    <a:pt x="296" y="163"/>
                  </a:lnTo>
                  <a:lnTo>
                    <a:pt x="331" y="62"/>
                  </a:lnTo>
                  <a:lnTo>
                    <a:pt x="326" y="45"/>
                  </a:lnTo>
                  <a:lnTo>
                    <a:pt x="337" y="23"/>
                  </a:lnTo>
                  <a:lnTo>
                    <a:pt x="337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3f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2" name="Freeform 62"/>
            <p:cNvSpPr/>
            <p:nvPr/>
          </p:nvSpPr>
          <p:spPr>
            <a:xfrm>
              <a:off x="6444360" y="4948920"/>
              <a:ext cx="106920" cy="317880"/>
            </a:xfrm>
            <a:custGeom>
              <a:avLst/>
              <a:gdLst/>
              <a:ahLst/>
              <a:rect l="l" t="t" r="r" b="b"/>
              <a:pathLst>
                <a:path w="501" h="1366">
                  <a:moveTo>
                    <a:pt x="151" y="0"/>
                  </a:moveTo>
                  <a:lnTo>
                    <a:pt x="81" y="135"/>
                  </a:lnTo>
                  <a:lnTo>
                    <a:pt x="30" y="309"/>
                  </a:lnTo>
                  <a:lnTo>
                    <a:pt x="0" y="500"/>
                  </a:lnTo>
                  <a:lnTo>
                    <a:pt x="0" y="703"/>
                  </a:lnTo>
                  <a:lnTo>
                    <a:pt x="18" y="889"/>
                  </a:lnTo>
                  <a:lnTo>
                    <a:pt x="76" y="1063"/>
                  </a:lnTo>
                  <a:lnTo>
                    <a:pt x="164" y="1198"/>
                  </a:lnTo>
                  <a:lnTo>
                    <a:pt x="285" y="1305"/>
                  </a:lnTo>
                  <a:lnTo>
                    <a:pt x="314" y="1316"/>
                  </a:lnTo>
                  <a:lnTo>
                    <a:pt x="349" y="1333"/>
                  </a:lnTo>
                  <a:lnTo>
                    <a:pt x="384" y="1350"/>
                  </a:lnTo>
                  <a:lnTo>
                    <a:pt x="418" y="1366"/>
                  </a:lnTo>
                  <a:lnTo>
                    <a:pt x="418" y="1350"/>
                  </a:lnTo>
                  <a:lnTo>
                    <a:pt x="418" y="1339"/>
                  </a:lnTo>
                  <a:lnTo>
                    <a:pt x="418" y="1322"/>
                  </a:lnTo>
                  <a:lnTo>
                    <a:pt x="418" y="1316"/>
                  </a:lnTo>
                  <a:lnTo>
                    <a:pt x="407" y="1231"/>
                  </a:lnTo>
                  <a:lnTo>
                    <a:pt x="395" y="1170"/>
                  </a:lnTo>
                  <a:lnTo>
                    <a:pt x="372" y="1113"/>
                  </a:lnTo>
                  <a:lnTo>
                    <a:pt x="355" y="1079"/>
                  </a:lnTo>
                  <a:lnTo>
                    <a:pt x="326" y="1040"/>
                  </a:lnTo>
                  <a:lnTo>
                    <a:pt x="296" y="1007"/>
                  </a:lnTo>
                  <a:lnTo>
                    <a:pt x="268" y="968"/>
                  </a:lnTo>
                  <a:lnTo>
                    <a:pt x="250" y="929"/>
                  </a:lnTo>
                  <a:lnTo>
                    <a:pt x="233" y="889"/>
                  </a:lnTo>
                  <a:lnTo>
                    <a:pt x="233" y="855"/>
                  </a:lnTo>
                  <a:lnTo>
                    <a:pt x="233" y="816"/>
                  </a:lnTo>
                  <a:lnTo>
                    <a:pt x="233" y="777"/>
                  </a:lnTo>
                  <a:lnTo>
                    <a:pt x="227" y="737"/>
                  </a:lnTo>
                  <a:lnTo>
                    <a:pt x="227" y="698"/>
                  </a:lnTo>
                  <a:lnTo>
                    <a:pt x="227" y="659"/>
                  </a:lnTo>
                  <a:lnTo>
                    <a:pt x="233" y="608"/>
                  </a:lnTo>
                  <a:lnTo>
                    <a:pt x="227" y="591"/>
                  </a:lnTo>
                  <a:lnTo>
                    <a:pt x="222" y="596"/>
                  </a:lnTo>
                  <a:lnTo>
                    <a:pt x="204" y="557"/>
                  </a:lnTo>
                  <a:lnTo>
                    <a:pt x="204" y="529"/>
                  </a:lnTo>
                  <a:lnTo>
                    <a:pt x="198" y="500"/>
                  </a:lnTo>
                  <a:lnTo>
                    <a:pt x="204" y="483"/>
                  </a:lnTo>
                  <a:lnTo>
                    <a:pt x="227" y="451"/>
                  </a:lnTo>
                  <a:lnTo>
                    <a:pt x="273" y="417"/>
                  </a:lnTo>
                  <a:lnTo>
                    <a:pt x="285" y="507"/>
                  </a:lnTo>
                  <a:lnTo>
                    <a:pt x="296" y="596"/>
                  </a:lnTo>
                  <a:lnTo>
                    <a:pt x="303" y="681"/>
                  </a:lnTo>
                  <a:lnTo>
                    <a:pt x="319" y="765"/>
                  </a:lnTo>
                  <a:lnTo>
                    <a:pt x="332" y="838"/>
                  </a:lnTo>
                  <a:lnTo>
                    <a:pt x="361" y="912"/>
                  </a:lnTo>
                  <a:lnTo>
                    <a:pt x="402" y="978"/>
                  </a:lnTo>
                  <a:lnTo>
                    <a:pt x="460" y="1046"/>
                  </a:lnTo>
                  <a:lnTo>
                    <a:pt x="453" y="985"/>
                  </a:lnTo>
                  <a:lnTo>
                    <a:pt x="448" y="922"/>
                  </a:lnTo>
                  <a:lnTo>
                    <a:pt x="436" y="855"/>
                  </a:lnTo>
                  <a:lnTo>
                    <a:pt x="436" y="794"/>
                  </a:lnTo>
                  <a:lnTo>
                    <a:pt x="430" y="726"/>
                  </a:lnTo>
                  <a:lnTo>
                    <a:pt x="430" y="664"/>
                  </a:lnTo>
                  <a:lnTo>
                    <a:pt x="430" y="596"/>
                  </a:lnTo>
                  <a:lnTo>
                    <a:pt x="448" y="546"/>
                  </a:lnTo>
                  <a:lnTo>
                    <a:pt x="471" y="512"/>
                  </a:lnTo>
                  <a:lnTo>
                    <a:pt x="501" y="478"/>
                  </a:lnTo>
                  <a:lnTo>
                    <a:pt x="489" y="444"/>
                  </a:lnTo>
                  <a:lnTo>
                    <a:pt x="460" y="389"/>
                  </a:lnTo>
                  <a:lnTo>
                    <a:pt x="425" y="309"/>
                  </a:lnTo>
                  <a:lnTo>
                    <a:pt x="384" y="237"/>
                  </a:lnTo>
                  <a:lnTo>
                    <a:pt x="332" y="152"/>
                  </a:lnTo>
                  <a:lnTo>
                    <a:pt x="291" y="85"/>
                  </a:lnTo>
                  <a:lnTo>
                    <a:pt x="262" y="34"/>
                  </a:lnTo>
                  <a:lnTo>
                    <a:pt x="250" y="17"/>
                  </a:lnTo>
                  <a:lnTo>
                    <a:pt x="222" y="6"/>
                  </a:lnTo>
                  <a:lnTo>
                    <a:pt x="198" y="0"/>
                  </a:lnTo>
                  <a:lnTo>
                    <a:pt x="169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3" name="Freeform 63"/>
            <p:cNvSpPr/>
            <p:nvPr/>
          </p:nvSpPr>
          <p:spPr>
            <a:xfrm>
              <a:off x="6127920" y="4955040"/>
              <a:ext cx="166320" cy="548640"/>
            </a:xfrm>
            <a:custGeom>
              <a:avLst/>
              <a:gdLst/>
              <a:ahLst/>
              <a:rect l="l" t="t" r="r" b="b"/>
              <a:pathLst>
                <a:path w="773" h="2355">
                  <a:moveTo>
                    <a:pt x="494" y="0"/>
                  </a:moveTo>
                  <a:lnTo>
                    <a:pt x="448" y="0"/>
                  </a:lnTo>
                  <a:lnTo>
                    <a:pt x="407" y="0"/>
                  </a:lnTo>
                  <a:lnTo>
                    <a:pt x="372" y="5"/>
                  </a:lnTo>
                  <a:lnTo>
                    <a:pt x="343" y="22"/>
                  </a:lnTo>
                  <a:lnTo>
                    <a:pt x="308" y="34"/>
                  </a:lnTo>
                  <a:lnTo>
                    <a:pt x="291" y="56"/>
                  </a:lnTo>
                  <a:lnTo>
                    <a:pt x="268" y="78"/>
                  </a:lnTo>
                  <a:lnTo>
                    <a:pt x="261" y="112"/>
                  </a:lnTo>
                  <a:lnTo>
                    <a:pt x="238" y="202"/>
                  </a:lnTo>
                  <a:lnTo>
                    <a:pt x="227" y="314"/>
                  </a:lnTo>
                  <a:lnTo>
                    <a:pt x="227" y="432"/>
                  </a:lnTo>
                  <a:lnTo>
                    <a:pt x="233" y="562"/>
                  </a:lnTo>
                  <a:lnTo>
                    <a:pt x="233" y="685"/>
                  </a:lnTo>
                  <a:lnTo>
                    <a:pt x="238" y="809"/>
                  </a:lnTo>
                  <a:lnTo>
                    <a:pt x="233" y="927"/>
                  </a:lnTo>
                  <a:lnTo>
                    <a:pt x="227" y="1028"/>
                  </a:lnTo>
                  <a:lnTo>
                    <a:pt x="209" y="1062"/>
                  </a:lnTo>
                  <a:lnTo>
                    <a:pt x="192" y="1096"/>
                  </a:lnTo>
                  <a:lnTo>
                    <a:pt x="163" y="1124"/>
                  </a:lnTo>
                  <a:lnTo>
                    <a:pt x="139" y="1158"/>
                  </a:lnTo>
                  <a:lnTo>
                    <a:pt x="111" y="1180"/>
                  </a:lnTo>
                  <a:lnTo>
                    <a:pt x="88" y="1214"/>
                  </a:lnTo>
                  <a:lnTo>
                    <a:pt x="65" y="1242"/>
                  </a:lnTo>
                  <a:lnTo>
                    <a:pt x="52" y="1276"/>
                  </a:lnTo>
                  <a:lnTo>
                    <a:pt x="35" y="1337"/>
                  </a:lnTo>
                  <a:lnTo>
                    <a:pt x="17" y="1445"/>
                  </a:lnTo>
                  <a:lnTo>
                    <a:pt x="6" y="1574"/>
                  </a:lnTo>
                  <a:lnTo>
                    <a:pt x="6" y="1726"/>
                  </a:lnTo>
                  <a:lnTo>
                    <a:pt x="0" y="1872"/>
                  </a:lnTo>
                  <a:lnTo>
                    <a:pt x="0" y="2018"/>
                  </a:lnTo>
                  <a:lnTo>
                    <a:pt x="6" y="2136"/>
                  </a:lnTo>
                  <a:lnTo>
                    <a:pt x="23" y="2226"/>
                  </a:lnTo>
                  <a:lnTo>
                    <a:pt x="40" y="2271"/>
                  </a:lnTo>
                  <a:lnTo>
                    <a:pt x="75" y="2305"/>
                  </a:lnTo>
                  <a:lnTo>
                    <a:pt x="122" y="2322"/>
                  </a:lnTo>
                  <a:lnTo>
                    <a:pt x="186" y="2344"/>
                  </a:lnTo>
                  <a:lnTo>
                    <a:pt x="250" y="2344"/>
                  </a:lnTo>
                  <a:lnTo>
                    <a:pt x="319" y="2350"/>
                  </a:lnTo>
                  <a:lnTo>
                    <a:pt x="390" y="2350"/>
                  </a:lnTo>
                  <a:lnTo>
                    <a:pt x="465" y="2355"/>
                  </a:lnTo>
                  <a:lnTo>
                    <a:pt x="453" y="2305"/>
                  </a:lnTo>
                  <a:lnTo>
                    <a:pt x="453" y="2259"/>
                  </a:lnTo>
                  <a:lnTo>
                    <a:pt x="442" y="2215"/>
                  </a:lnTo>
                  <a:lnTo>
                    <a:pt x="442" y="2170"/>
                  </a:lnTo>
                  <a:lnTo>
                    <a:pt x="436" y="2114"/>
                  </a:lnTo>
                  <a:lnTo>
                    <a:pt x="430" y="2063"/>
                  </a:lnTo>
                  <a:lnTo>
                    <a:pt x="425" y="2007"/>
                  </a:lnTo>
                  <a:lnTo>
                    <a:pt x="425" y="1957"/>
                  </a:lnTo>
                  <a:lnTo>
                    <a:pt x="418" y="1894"/>
                  </a:lnTo>
                  <a:lnTo>
                    <a:pt x="418" y="1849"/>
                  </a:lnTo>
                  <a:lnTo>
                    <a:pt x="418" y="1815"/>
                  </a:lnTo>
                  <a:lnTo>
                    <a:pt x="430" y="1793"/>
                  </a:lnTo>
                  <a:lnTo>
                    <a:pt x="436" y="1771"/>
                  </a:lnTo>
                  <a:lnTo>
                    <a:pt x="459" y="1759"/>
                  </a:lnTo>
                  <a:lnTo>
                    <a:pt x="483" y="1754"/>
                  </a:lnTo>
                  <a:lnTo>
                    <a:pt x="517" y="1754"/>
                  </a:lnTo>
                  <a:lnTo>
                    <a:pt x="511" y="1822"/>
                  </a:lnTo>
                  <a:lnTo>
                    <a:pt x="511" y="1900"/>
                  </a:lnTo>
                  <a:lnTo>
                    <a:pt x="511" y="1979"/>
                  </a:lnTo>
                  <a:lnTo>
                    <a:pt x="523" y="2057"/>
                  </a:lnTo>
                  <a:lnTo>
                    <a:pt x="523" y="2124"/>
                  </a:lnTo>
                  <a:lnTo>
                    <a:pt x="534" y="2198"/>
                  </a:lnTo>
                  <a:lnTo>
                    <a:pt x="534" y="2266"/>
                  </a:lnTo>
                  <a:lnTo>
                    <a:pt x="547" y="2327"/>
                  </a:lnTo>
                  <a:lnTo>
                    <a:pt x="575" y="2327"/>
                  </a:lnTo>
                  <a:lnTo>
                    <a:pt x="610" y="2327"/>
                  </a:lnTo>
                  <a:lnTo>
                    <a:pt x="645" y="2327"/>
                  </a:lnTo>
                  <a:lnTo>
                    <a:pt x="680" y="2327"/>
                  </a:lnTo>
                  <a:lnTo>
                    <a:pt x="680" y="2259"/>
                  </a:lnTo>
                  <a:lnTo>
                    <a:pt x="691" y="2198"/>
                  </a:lnTo>
                  <a:lnTo>
                    <a:pt x="709" y="2131"/>
                  </a:lnTo>
                  <a:lnTo>
                    <a:pt x="727" y="2063"/>
                  </a:lnTo>
                  <a:lnTo>
                    <a:pt x="739" y="1996"/>
                  </a:lnTo>
                  <a:lnTo>
                    <a:pt x="750" y="1928"/>
                  </a:lnTo>
                  <a:lnTo>
                    <a:pt x="762" y="1866"/>
                  </a:lnTo>
                  <a:lnTo>
                    <a:pt x="773" y="1815"/>
                  </a:lnTo>
                  <a:lnTo>
                    <a:pt x="767" y="1765"/>
                  </a:lnTo>
                  <a:lnTo>
                    <a:pt x="762" y="1714"/>
                  </a:lnTo>
                  <a:lnTo>
                    <a:pt x="750" y="1663"/>
                  </a:lnTo>
                  <a:lnTo>
                    <a:pt x="739" y="1619"/>
                  </a:lnTo>
                  <a:lnTo>
                    <a:pt x="721" y="1568"/>
                  </a:lnTo>
                  <a:lnTo>
                    <a:pt x="709" y="1523"/>
                  </a:lnTo>
                  <a:lnTo>
                    <a:pt x="691" y="1479"/>
                  </a:lnTo>
                  <a:lnTo>
                    <a:pt x="691" y="1439"/>
                  </a:lnTo>
                  <a:lnTo>
                    <a:pt x="674" y="1344"/>
                  </a:lnTo>
                  <a:lnTo>
                    <a:pt x="663" y="1253"/>
                  </a:lnTo>
                  <a:lnTo>
                    <a:pt x="651" y="1158"/>
                  </a:lnTo>
                  <a:lnTo>
                    <a:pt x="651" y="1067"/>
                  </a:lnTo>
                  <a:lnTo>
                    <a:pt x="640" y="972"/>
                  </a:lnTo>
                  <a:lnTo>
                    <a:pt x="633" y="876"/>
                  </a:lnTo>
                  <a:lnTo>
                    <a:pt x="628" y="781"/>
                  </a:lnTo>
                  <a:lnTo>
                    <a:pt x="622" y="691"/>
                  </a:lnTo>
                  <a:lnTo>
                    <a:pt x="610" y="613"/>
                  </a:lnTo>
                  <a:lnTo>
                    <a:pt x="610" y="534"/>
                  </a:lnTo>
                  <a:lnTo>
                    <a:pt x="605" y="449"/>
                  </a:lnTo>
                  <a:lnTo>
                    <a:pt x="605" y="365"/>
                  </a:lnTo>
                  <a:lnTo>
                    <a:pt x="605" y="275"/>
                  </a:lnTo>
                  <a:lnTo>
                    <a:pt x="605" y="185"/>
                  </a:lnTo>
                  <a:lnTo>
                    <a:pt x="605" y="101"/>
                  </a:lnTo>
                  <a:lnTo>
                    <a:pt x="610" y="22"/>
                  </a:lnTo>
                  <a:lnTo>
                    <a:pt x="575" y="10"/>
                  </a:lnTo>
                  <a:lnTo>
                    <a:pt x="552" y="5"/>
                  </a:lnTo>
                  <a:lnTo>
                    <a:pt x="523" y="0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8e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4" name="Freeform 64"/>
            <p:cNvSpPr/>
            <p:nvPr/>
          </p:nvSpPr>
          <p:spPr>
            <a:xfrm>
              <a:off x="6268680" y="4957560"/>
              <a:ext cx="191160" cy="639720"/>
            </a:xfrm>
            <a:custGeom>
              <a:avLst/>
              <a:gdLst/>
              <a:ahLst/>
              <a:rect l="l" t="t" r="r" b="b"/>
              <a:pathLst>
                <a:path w="890" h="2744">
                  <a:moveTo>
                    <a:pt x="367" y="0"/>
                  </a:moveTo>
                  <a:lnTo>
                    <a:pt x="326" y="7"/>
                  </a:lnTo>
                  <a:lnTo>
                    <a:pt x="286" y="12"/>
                  </a:lnTo>
                  <a:lnTo>
                    <a:pt x="245" y="17"/>
                  </a:lnTo>
                  <a:lnTo>
                    <a:pt x="205" y="24"/>
                  </a:lnTo>
                  <a:lnTo>
                    <a:pt x="157" y="24"/>
                  </a:lnTo>
                  <a:lnTo>
                    <a:pt x="117" y="29"/>
                  </a:lnTo>
                  <a:lnTo>
                    <a:pt x="71" y="34"/>
                  </a:lnTo>
                  <a:lnTo>
                    <a:pt x="35" y="40"/>
                  </a:lnTo>
                  <a:lnTo>
                    <a:pt x="12" y="220"/>
                  </a:lnTo>
                  <a:lnTo>
                    <a:pt x="7" y="412"/>
                  </a:lnTo>
                  <a:lnTo>
                    <a:pt x="0" y="613"/>
                  </a:lnTo>
                  <a:lnTo>
                    <a:pt x="12" y="816"/>
                  </a:lnTo>
                  <a:lnTo>
                    <a:pt x="24" y="1007"/>
                  </a:lnTo>
                  <a:lnTo>
                    <a:pt x="53" y="1204"/>
                  </a:lnTo>
                  <a:lnTo>
                    <a:pt x="83" y="1390"/>
                  </a:lnTo>
                  <a:lnTo>
                    <a:pt x="129" y="1564"/>
                  </a:lnTo>
                  <a:lnTo>
                    <a:pt x="157" y="1542"/>
                  </a:lnTo>
                  <a:lnTo>
                    <a:pt x="175" y="1535"/>
                  </a:lnTo>
                  <a:lnTo>
                    <a:pt x="192" y="1542"/>
                  </a:lnTo>
                  <a:lnTo>
                    <a:pt x="233" y="1564"/>
                  </a:lnTo>
                  <a:lnTo>
                    <a:pt x="210" y="1626"/>
                  </a:lnTo>
                  <a:lnTo>
                    <a:pt x="187" y="1738"/>
                  </a:lnTo>
                  <a:lnTo>
                    <a:pt x="152" y="1873"/>
                  </a:lnTo>
                  <a:lnTo>
                    <a:pt x="123" y="2030"/>
                  </a:lnTo>
                  <a:lnTo>
                    <a:pt x="88" y="2177"/>
                  </a:lnTo>
                  <a:lnTo>
                    <a:pt x="76" y="2317"/>
                  </a:lnTo>
                  <a:lnTo>
                    <a:pt x="71" y="2425"/>
                  </a:lnTo>
                  <a:lnTo>
                    <a:pt x="88" y="2497"/>
                  </a:lnTo>
                  <a:lnTo>
                    <a:pt x="111" y="2514"/>
                  </a:lnTo>
                  <a:lnTo>
                    <a:pt x="164" y="2548"/>
                  </a:lnTo>
                  <a:lnTo>
                    <a:pt x="228" y="2582"/>
                  </a:lnTo>
                  <a:lnTo>
                    <a:pt x="309" y="2615"/>
                  </a:lnTo>
                  <a:lnTo>
                    <a:pt x="385" y="2649"/>
                  </a:lnTo>
                  <a:lnTo>
                    <a:pt x="466" y="2683"/>
                  </a:lnTo>
                  <a:lnTo>
                    <a:pt x="524" y="2710"/>
                  </a:lnTo>
                  <a:lnTo>
                    <a:pt x="570" y="2744"/>
                  </a:lnTo>
                  <a:lnTo>
                    <a:pt x="588" y="2710"/>
                  </a:lnTo>
                  <a:lnTo>
                    <a:pt x="611" y="2677"/>
                  </a:lnTo>
                  <a:lnTo>
                    <a:pt x="634" y="2649"/>
                  </a:lnTo>
                  <a:lnTo>
                    <a:pt x="657" y="2621"/>
                  </a:lnTo>
                  <a:lnTo>
                    <a:pt x="681" y="2587"/>
                  </a:lnTo>
                  <a:lnTo>
                    <a:pt x="704" y="2553"/>
                  </a:lnTo>
                  <a:lnTo>
                    <a:pt x="727" y="2526"/>
                  </a:lnTo>
                  <a:lnTo>
                    <a:pt x="756" y="2497"/>
                  </a:lnTo>
                  <a:lnTo>
                    <a:pt x="785" y="2447"/>
                  </a:lnTo>
                  <a:lnTo>
                    <a:pt x="814" y="2401"/>
                  </a:lnTo>
                  <a:lnTo>
                    <a:pt x="838" y="2357"/>
                  </a:lnTo>
                  <a:lnTo>
                    <a:pt x="867" y="2312"/>
                  </a:lnTo>
                  <a:lnTo>
                    <a:pt x="879" y="2256"/>
                  </a:lnTo>
                  <a:lnTo>
                    <a:pt x="890" y="2205"/>
                  </a:lnTo>
                  <a:lnTo>
                    <a:pt x="890" y="2148"/>
                  </a:lnTo>
                  <a:lnTo>
                    <a:pt x="890" y="2098"/>
                  </a:lnTo>
                  <a:lnTo>
                    <a:pt x="867" y="2025"/>
                  </a:lnTo>
                  <a:lnTo>
                    <a:pt x="849" y="1974"/>
                  </a:lnTo>
                  <a:lnTo>
                    <a:pt x="821" y="1923"/>
                  </a:lnTo>
                  <a:lnTo>
                    <a:pt x="797" y="1879"/>
                  </a:lnTo>
                  <a:lnTo>
                    <a:pt x="762" y="1834"/>
                  </a:lnTo>
                  <a:lnTo>
                    <a:pt x="733" y="1788"/>
                  </a:lnTo>
                  <a:lnTo>
                    <a:pt x="704" y="1738"/>
                  </a:lnTo>
                  <a:lnTo>
                    <a:pt x="687" y="1687"/>
                  </a:lnTo>
                  <a:lnTo>
                    <a:pt x="657" y="1597"/>
                  </a:lnTo>
                  <a:lnTo>
                    <a:pt x="640" y="1513"/>
                  </a:lnTo>
                  <a:lnTo>
                    <a:pt x="628" y="1423"/>
                  </a:lnTo>
                  <a:lnTo>
                    <a:pt x="628" y="1334"/>
                  </a:lnTo>
                  <a:lnTo>
                    <a:pt x="628" y="1238"/>
                  </a:lnTo>
                  <a:lnTo>
                    <a:pt x="628" y="1142"/>
                  </a:lnTo>
                  <a:lnTo>
                    <a:pt x="628" y="1040"/>
                  </a:lnTo>
                  <a:lnTo>
                    <a:pt x="634" y="946"/>
                  </a:lnTo>
                  <a:lnTo>
                    <a:pt x="535" y="929"/>
                  </a:lnTo>
                  <a:lnTo>
                    <a:pt x="460" y="917"/>
                  </a:lnTo>
                  <a:lnTo>
                    <a:pt x="390" y="906"/>
                  </a:lnTo>
                  <a:lnTo>
                    <a:pt x="337" y="895"/>
                  </a:lnTo>
                  <a:lnTo>
                    <a:pt x="286" y="866"/>
                  </a:lnTo>
                  <a:lnTo>
                    <a:pt x="245" y="833"/>
                  </a:lnTo>
                  <a:lnTo>
                    <a:pt x="210" y="777"/>
                  </a:lnTo>
                  <a:lnTo>
                    <a:pt x="180" y="709"/>
                  </a:lnTo>
                  <a:lnTo>
                    <a:pt x="187" y="698"/>
                  </a:lnTo>
                  <a:lnTo>
                    <a:pt x="205" y="687"/>
                  </a:lnTo>
                  <a:lnTo>
                    <a:pt x="222" y="675"/>
                  </a:lnTo>
                  <a:lnTo>
                    <a:pt x="233" y="670"/>
                  </a:lnTo>
                  <a:lnTo>
                    <a:pt x="251" y="726"/>
                  </a:lnTo>
                  <a:lnTo>
                    <a:pt x="286" y="777"/>
                  </a:lnTo>
                  <a:lnTo>
                    <a:pt x="326" y="810"/>
                  </a:lnTo>
                  <a:lnTo>
                    <a:pt x="378" y="833"/>
                  </a:lnTo>
                  <a:lnTo>
                    <a:pt x="431" y="844"/>
                  </a:lnTo>
                  <a:lnTo>
                    <a:pt x="501" y="856"/>
                  </a:lnTo>
                  <a:lnTo>
                    <a:pt x="570" y="861"/>
                  </a:lnTo>
                  <a:lnTo>
                    <a:pt x="651" y="878"/>
                  </a:lnTo>
                  <a:lnTo>
                    <a:pt x="640" y="844"/>
                  </a:lnTo>
                  <a:lnTo>
                    <a:pt x="634" y="810"/>
                  </a:lnTo>
                  <a:lnTo>
                    <a:pt x="623" y="777"/>
                  </a:lnTo>
                  <a:lnTo>
                    <a:pt x="623" y="748"/>
                  </a:lnTo>
                  <a:lnTo>
                    <a:pt x="646" y="738"/>
                  </a:lnTo>
                  <a:lnTo>
                    <a:pt x="687" y="721"/>
                  </a:lnTo>
                  <a:lnTo>
                    <a:pt x="722" y="698"/>
                  </a:lnTo>
                  <a:lnTo>
                    <a:pt x="739" y="692"/>
                  </a:lnTo>
                  <a:lnTo>
                    <a:pt x="739" y="670"/>
                  </a:lnTo>
                  <a:lnTo>
                    <a:pt x="727" y="653"/>
                  </a:lnTo>
                  <a:lnTo>
                    <a:pt x="710" y="642"/>
                  </a:lnTo>
                  <a:lnTo>
                    <a:pt x="681" y="630"/>
                  </a:lnTo>
                  <a:lnTo>
                    <a:pt x="651" y="620"/>
                  </a:lnTo>
                  <a:lnTo>
                    <a:pt x="616" y="608"/>
                  </a:lnTo>
                  <a:lnTo>
                    <a:pt x="588" y="603"/>
                  </a:lnTo>
                  <a:lnTo>
                    <a:pt x="565" y="596"/>
                  </a:lnTo>
                  <a:lnTo>
                    <a:pt x="553" y="596"/>
                  </a:lnTo>
                  <a:lnTo>
                    <a:pt x="512" y="574"/>
                  </a:lnTo>
                  <a:lnTo>
                    <a:pt x="507" y="574"/>
                  </a:lnTo>
                  <a:lnTo>
                    <a:pt x="512" y="579"/>
                  </a:lnTo>
                  <a:lnTo>
                    <a:pt x="535" y="591"/>
                  </a:lnTo>
                  <a:lnTo>
                    <a:pt x="553" y="596"/>
                  </a:lnTo>
                  <a:lnTo>
                    <a:pt x="565" y="603"/>
                  </a:lnTo>
                  <a:lnTo>
                    <a:pt x="559" y="596"/>
                  </a:lnTo>
                  <a:lnTo>
                    <a:pt x="542" y="579"/>
                  </a:lnTo>
                  <a:lnTo>
                    <a:pt x="535" y="574"/>
                  </a:lnTo>
                  <a:lnTo>
                    <a:pt x="530" y="569"/>
                  </a:lnTo>
                  <a:lnTo>
                    <a:pt x="494" y="540"/>
                  </a:lnTo>
                  <a:lnTo>
                    <a:pt x="448" y="507"/>
                  </a:lnTo>
                  <a:lnTo>
                    <a:pt x="396" y="468"/>
                  </a:lnTo>
                  <a:lnTo>
                    <a:pt x="349" y="429"/>
                  </a:lnTo>
                  <a:lnTo>
                    <a:pt x="297" y="383"/>
                  </a:lnTo>
                  <a:lnTo>
                    <a:pt x="263" y="338"/>
                  </a:lnTo>
                  <a:lnTo>
                    <a:pt x="233" y="294"/>
                  </a:lnTo>
                  <a:lnTo>
                    <a:pt x="233" y="260"/>
                  </a:lnTo>
                  <a:lnTo>
                    <a:pt x="245" y="237"/>
                  </a:lnTo>
                  <a:lnTo>
                    <a:pt x="251" y="220"/>
                  </a:lnTo>
                  <a:lnTo>
                    <a:pt x="286" y="231"/>
                  </a:lnTo>
                  <a:lnTo>
                    <a:pt x="320" y="260"/>
                  </a:lnTo>
                  <a:lnTo>
                    <a:pt x="355" y="294"/>
                  </a:lnTo>
                  <a:lnTo>
                    <a:pt x="396" y="327"/>
                  </a:lnTo>
                  <a:lnTo>
                    <a:pt x="431" y="361"/>
                  </a:lnTo>
                  <a:lnTo>
                    <a:pt x="471" y="395"/>
                  </a:lnTo>
                  <a:lnTo>
                    <a:pt x="512" y="429"/>
                  </a:lnTo>
                  <a:lnTo>
                    <a:pt x="553" y="461"/>
                  </a:lnTo>
                  <a:lnTo>
                    <a:pt x="535" y="412"/>
                  </a:lnTo>
                  <a:lnTo>
                    <a:pt x="535" y="378"/>
                  </a:lnTo>
                  <a:lnTo>
                    <a:pt x="524" y="338"/>
                  </a:lnTo>
                  <a:lnTo>
                    <a:pt x="517" y="299"/>
                  </a:lnTo>
                  <a:lnTo>
                    <a:pt x="494" y="254"/>
                  </a:lnTo>
                  <a:lnTo>
                    <a:pt x="477" y="214"/>
                  </a:lnTo>
                  <a:lnTo>
                    <a:pt x="460" y="175"/>
                  </a:lnTo>
                  <a:lnTo>
                    <a:pt x="443" y="142"/>
                  </a:lnTo>
                  <a:lnTo>
                    <a:pt x="419" y="102"/>
                  </a:lnTo>
                  <a:lnTo>
                    <a:pt x="402" y="68"/>
                  </a:lnTo>
                  <a:lnTo>
                    <a:pt x="385" y="34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5" name="Freeform 65"/>
            <p:cNvSpPr/>
            <p:nvPr/>
          </p:nvSpPr>
          <p:spPr>
            <a:xfrm>
              <a:off x="6810120" y="4967640"/>
              <a:ext cx="244080" cy="485280"/>
            </a:xfrm>
            <a:custGeom>
              <a:avLst/>
              <a:gdLst/>
              <a:ahLst/>
              <a:rect l="l" t="t" r="r" b="b"/>
              <a:pathLst>
                <a:path w="1134" h="2086">
                  <a:moveTo>
                    <a:pt x="401" y="0"/>
                  </a:moveTo>
                  <a:lnTo>
                    <a:pt x="378" y="85"/>
                  </a:lnTo>
                  <a:lnTo>
                    <a:pt x="343" y="158"/>
                  </a:lnTo>
                  <a:lnTo>
                    <a:pt x="302" y="225"/>
                  </a:lnTo>
                  <a:lnTo>
                    <a:pt x="256" y="293"/>
                  </a:lnTo>
                  <a:lnTo>
                    <a:pt x="204" y="349"/>
                  </a:lnTo>
                  <a:lnTo>
                    <a:pt x="157" y="411"/>
                  </a:lnTo>
                  <a:lnTo>
                    <a:pt x="110" y="478"/>
                  </a:lnTo>
                  <a:lnTo>
                    <a:pt x="82" y="556"/>
                  </a:lnTo>
                  <a:lnTo>
                    <a:pt x="53" y="647"/>
                  </a:lnTo>
                  <a:lnTo>
                    <a:pt x="36" y="776"/>
                  </a:lnTo>
                  <a:lnTo>
                    <a:pt x="18" y="939"/>
                  </a:lnTo>
                  <a:lnTo>
                    <a:pt x="11" y="1119"/>
                  </a:lnTo>
                  <a:lnTo>
                    <a:pt x="0" y="1299"/>
                  </a:lnTo>
                  <a:lnTo>
                    <a:pt x="0" y="1478"/>
                  </a:lnTo>
                  <a:lnTo>
                    <a:pt x="0" y="1642"/>
                  </a:lnTo>
                  <a:lnTo>
                    <a:pt x="0" y="1788"/>
                  </a:lnTo>
                  <a:lnTo>
                    <a:pt x="87" y="1811"/>
                  </a:lnTo>
                  <a:lnTo>
                    <a:pt x="181" y="1850"/>
                  </a:lnTo>
                  <a:lnTo>
                    <a:pt x="267" y="1883"/>
                  </a:lnTo>
                  <a:lnTo>
                    <a:pt x="355" y="1929"/>
                  </a:lnTo>
                  <a:lnTo>
                    <a:pt x="436" y="1968"/>
                  </a:lnTo>
                  <a:lnTo>
                    <a:pt x="523" y="2007"/>
                  </a:lnTo>
                  <a:lnTo>
                    <a:pt x="611" y="2047"/>
                  </a:lnTo>
                  <a:lnTo>
                    <a:pt x="710" y="2086"/>
                  </a:lnTo>
                  <a:lnTo>
                    <a:pt x="710" y="2052"/>
                  </a:lnTo>
                  <a:lnTo>
                    <a:pt x="715" y="2018"/>
                  </a:lnTo>
                  <a:lnTo>
                    <a:pt x="715" y="1979"/>
                  </a:lnTo>
                  <a:lnTo>
                    <a:pt x="721" y="1946"/>
                  </a:lnTo>
                  <a:lnTo>
                    <a:pt x="721" y="1907"/>
                  </a:lnTo>
                  <a:lnTo>
                    <a:pt x="726" y="1867"/>
                  </a:lnTo>
                  <a:lnTo>
                    <a:pt x="726" y="1828"/>
                  </a:lnTo>
                  <a:lnTo>
                    <a:pt x="733" y="1788"/>
                  </a:lnTo>
                  <a:lnTo>
                    <a:pt x="680" y="1760"/>
                  </a:lnTo>
                  <a:lnTo>
                    <a:pt x="645" y="1738"/>
                  </a:lnTo>
                  <a:lnTo>
                    <a:pt x="611" y="1709"/>
                  </a:lnTo>
                  <a:lnTo>
                    <a:pt x="581" y="1687"/>
                  </a:lnTo>
                  <a:lnTo>
                    <a:pt x="546" y="1659"/>
                  </a:lnTo>
                  <a:lnTo>
                    <a:pt x="518" y="1630"/>
                  </a:lnTo>
                  <a:lnTo>
                    <a:pt x="482" y="1603"/>
                  </a:lnTo>
                  <a:lnTo>
                    <a:pt x="454" y="1574"/>
                  </a:lnTo>
                  <a:lnTo>
                    <a:pt x="431" y="1557"/>
                  </a:lnTo>
                  <a:lnTo>
                    <a:pt x="407" y="1546"/>
                  </a:lnTo>
                  <a:lnTo>
                    <a:pt x="384" y="1535"/>
                  </a:lnTo>
                  <a:lnTo>
                    <a:pt x="373" y="1524"/>
                  </a:lnTo>
                  <a:lnTo>
                    <a:pt x="349" y="1429"/>
                  </a:lnTo>
                  <a:lnTo>
                    <a:pt x="332" y="1327"/>
                  </a:lnTo>
                  <a:lnTo>
                    <a:pt x="320" y="1220"/>
                  </a:lnTo>
                  <a:lnTo>
                    <a:pt x="320" y="1113"/>
                  </a:lnTo>
                  <a:lnTo>
                    <a:pt x="314" y="1000"/>
                  </a:lnTo>
                  <a:lnTo>
                    <a:pt x="314" y="899"/>
                  </a:lnTo>
                  <a:lnTo>
                    <a:pt x="308" y="799"/>
                  </a:lnTo>
                  <a:lnTo>
                    <a:pt x="308" y="720"/>
                  </a:lnTo>
                  <a:lnTo>
                    <a:pt x="308" y="708"/>
                  </a:lnTo>
                  <a:lnTo>
                    <a:pt x="308" y="681"/>
                  </a:lnTo>
                  <a:lnTo>
                    <a:pt x="308" y="647"/>
                  </a:lnTo>
                  <a:lnTo>
                    <a:pt x="308" y="619"/>
                  </a:lnTo>
                  <a:lnTo>
                    <a:pt x="361" y="590"/>
                  </a:lnTo>
                  <a:lnTo>
                    <a:pt x="366" y="691"/>
                  </a:lnTo>
                  <a:lnTo>
                    <a:pt x="378" y="793"/>
                  </a:lnTo>
                  <a:lnTo>
                    <a:pt x="389" y="899"/>
                  </a:lnTo>
                  <a:lnTo>
                    <a:pt x="401" y="1007"/>
                  </a:lnTo>
                  <a:lnTo>
                    <a:pt x="401" y="1102"/>
                  </a:lnTo>
                  <a:lnTo>
                    <a:pt x="413" y="1198"/>
                  </a:lnTo>
                  <a:lnTo>
                    <a:pt x="424" y="1287"/>
                  </a:lnTo>
                  <a:lnTo>
                    <a:pt x="442" y="1378"/>
                  </a:lnTo>
                  <a:lnTo>
                    <a:pt x="447" y="1422"/>
                  </a:lnTo>
                  <a:lnTo>
                    <a:pt x="459" y="1463"/>
                  </a:lnTo>
                  <a:lnTo>
                    <a:pt x="477" y="1495"/>
                  </a:lnTo>
                  <a:lnTo>
                    <a:pt x="495" y="1529"/>
                  </a:lnTo>
                  <a:lnTo>
                    <a:pt x="512" y="1552"/>
                  </a:lnTo>
                  <a:lnTo>
                    <a:pt x="541" y="1580"/>
                  </a:lnTo>
                  <a:lnTo>
                    <a:pt x="570" y="1603"/>
                  </a:lnTo>
                  <a:lnTo>
                    <a:pt x="604" y="1637"/>
                  </a:lnTo>
                  <a:lnTo>
                    <a:pt x="627" y="1653"/>
                  </a:lnTo>
                  <a:lnTo>
                    <a:pt x="657" y="1670"/>
                  </a:lnTo>
                  <a:lnTo>
                    <a:pt x="692" y="1676"/>
                  </a:lnTo>
                  <a:lnTo>
                    <a:pt x="726" y="1687"/>
                  </a:lnTo>
                  <a:lnTo>
                    <a:pt x="756" y="1687"/>
                  </a:lnTo>
                  <a:lnTo>
                    <a:pt x="797" y="1687"/>
                  </a:lnTo>
                  <a:lnTo>
                    <a:pt x="832" y="1681"/>
                  </a:lnTo>
                  <a:lnTo>
                    <a:pt x="883" y="1676"/>
                  </a:lnTo>
                  <a:lnTo>
                    <a:pt x="977" y="1647"/>
                  </a:lnTo>
                  <a:lnTo>
                    <a:pt x="1040" y="1625"/>
                  </a:lnTo>
                  <a:lnTo>
                    <a:pt x="1081" y="1597"/>
                  </a:lnTo>
                  <a:lnTo>
                    <a:pt x="1104" y="1569"/>
                  </a:lnTo>
                  <a:lnTo>
                    <a:pt x="1111" y="1524"/>
                  </a:lnTo>
                  <a:lnTo>
                    <a:pt x="1116" y="1468"/>
                  </a:lnTo>
                  <a:lnTo>
                    <a:pt x="1116" y="1395"/>
                  </a:lnTo>
                  <a:lnTo>
                    <a:pt x="1134" y="1304"/>
                  </a:lnTo>
                  <a:lnTo>
                    <a:pt x="1087" y="1311"/>
                  </a:lnTo>
                  <a:lnTo>
                    <a:pt x="1047" y="1321"/>
                  </a:lnTo>
                  <a:lnTo>
                    <a:pt x="1000" y="1327"/>
                  </a:lnTo>
                  <a:lnTo>
                    <a:pt x="959" y="1344"/>
                  </a:lnTo>
                  <a:lnTo>
                    <a:pt x="907" y="1350"/>
                  </a:lnTo>
                  <a:lnTo>
                    <a:pt x="866" y="1355"/>
                  </a:lnTo>
                  <a:lnTo>
                    <a:pt x="814" y="1361"/>
                  </a:lnTo>
                  <a:lnTo>
                    <a:pt x="773" y="1367"/>
                  </a:lnTo>
                  <a:lnTo>
                    <a:pt x="773" y="1260"/>
                  </a:lnTo>
                  <a:lnTo>
                    <a:pt x="779" y="1125"/>
                  </a:lnTo>
                  <a:lnTo>
                    <a:pt x="784" y="967"/>
                  </a:lnTo>
                  <a:lnTo>
                    <a:pt x="797" y="810"/>
                  </a:lnTo>
                  <a:lnTo>
                    <a:pt x="797" y="647"/>
                  </a:lnTo>
                  <a:lnTo>
                    <a:pt x="802" y="506"/>
                  </a:lnTo>
                  <a:lnTo>
                    <a:pt x="791" y="394"/>
                  </a:lnTo>
                  <a:lnTo>
                    <a:pt x="773" y="338"/>
                  </a:lnTo>
                  <a:lnTo>
                    <a:pt x="744" y="304"/>
                  </a:lnTo>
                  <a:lnTo>
                    <a:pt x="715" y="276"/>
                  </a:lnTo>
                  <a:lnTo>
                    <a:pt x="675" y="254"/>
                  </a:lnTo>
                  <a:lnTo>
                    <a:pt x="639" y="237"/>
                  </a:lnTo>
                  <a:lnTo>
                    <a:pt x="593" y="220"/>
                  </a:lnTo>
                  <a:lnTo>
                    <a:pt x="553" y="203"/>
                  </a:lnTo>
                  <a:lnTo>
                    <a:pt x="506" y="191"/>
                  </a:lnTo>
                  <a:lnTo>
                    <a:pt x="472" y="180"/>
                  </a:lnTo>
                  <a:lnTo>
                    <a:pt x="472" y="158"/>
                  </a:lnTo>
                  <a:lnTo>
                    <a:pt x="472" y="141"/>
                  </a:lnTo>
                  <a:lnTo>
                    <a:pt x="500" y="141"/>
                  </a:lnTo>
                  <a:lnTo>
                    <a:pt x="530" y="146"/>
                  </a:lnTo>
                  <a:lnTo>
                    <a:pt x="541" y="146"/>
                  </a:lnTo>
                  <a:lnTo>
                    <a:pt x="558" y="141"/>
                  </a:lnTo>
                  <a:lnTo>
                    <a:pt x="564" y="119"/>
                  </a:lnTo>
                  <a:lnTo>
                    <a:pt x="570" y="95"/>
                  </a:lnTo>
                  <a:lnTo>
                    <a:pt x="570" y="62"/>
                  </a:lnTo>
                  <a:lnTo>
                    <a:pt x="576" y="23"/>
                  </a:lnTo>
                  <a:lnTo>
                    <a:pt x="518" y="17"/>
                  </a:lnTo>
                  <a:lnTo>
                    <a:pt x="482" y="11"/>
                  </a:lnTo>
                  <a:lnTo>
                    <a:pt x="442" y="6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6" name="Freeform 66"/>
            <p:cNvSpPr/>
            <p:nvPr/>
          </p:nvSpPr>
          <p:spPr>
            <a:xfrm>
              <a:off x="6553080" y="4998240"/>
              <a:ext cx="248040" cy="421200"/>
            </a:xfrm>
            <a:custGeom>
              <a:avLst/>
              <a:gdLst/>
              <a:ahLst/>
              <a:rect l="l" t="t" r="r" b="b"/>
              <a:pathLst>
                <a:path w="1151" h="1811">
                  <a:moveTo>
                    <a:pt x="540" y="6"/>
                  </a:moveTo>
                  <a:lnTo>
                    <a:pt x="500" y="6"/>
                  </a:lnTo>
                  <a:lnTo>
                    <a:pt x="465" y="23"/>
                  </a:lnTo>
                  <a:lnTo>
                    <a:pt x="436" y="39"/>
                  </a:lnTo>
                  <a:lnTo>
                    <a:pt x="406" y="68"/>
                  </a:lnTo>
                  <a:lnTo>
                    <a:pt x="348" y="119"/>
                  </a:lnTo>
                  <a:lnTo>
                    <a:pt x="302" y="163"/>
                  </a:lnTo>
                  <a:lnTo>
                    <a:pt x="261" y="180"/>
                  </a:lnTo>
                  <a:lnTo>
                    <a:pt x="226" y="197"/>
                  </a:lnTo>
                  <a:lnTo>
                    <a:pt x="180" y="220"/>
                  </a:lnTo>
                  <a:lnTo>
                    <a:pt x="145" y="242"/>
                  </a:lnTo>
                  <a:lnTo>
                    <a:pt x="99" y="264"/>
                  </a:lnTo>
                  <a:lnTo>
                    <a:pt x="64" y="293"/>
                  </a:lnTo>
                  <a:lnTo>
                    <a:pt x="35" y="320"/>
                  </a:lnTo>
                  <a:lnTo>
                    <a:pt x="23" y="354"/>
                  </a:lnTo>
                  <a:lnTo>
                    <a:pt x="6" y="394"/>
                  </a:lnTo>
                  <a:lnTo>
                    <a:pt x="6" y="472"/>
                  </a:lnTo>
                  <a:lnTo>
                    <a:pt x="0" y="568"/>
                  </a:lnTo>
                  <a:lnTo>
                    <a:pt x="6" y="681"/>
                  </a:lnTo>
                  <a:lnTo>
                    <a:pt x="6" y="787"/>
                  </a:lnTo>
                  <a:lnTo>
                    <a:pt x="18" y="899"/>
                  </a:lnTo>
                  <a:lnTo>
                    <a:pt x="29" y="995"/>
                  </a:lnTo>
                  <a:lnTo>
                    <a:pt x="46" y="1074"/>
                  </a:lnTo>
                  <a:lnTo>
                    <a:pt x="58" y="1113"/>
                  </a:lnTo>
                  <a:lnTo>
                    <a:pt x="76" y="1159"/>
                  </a:lnTo>
                  <a:lnTo>
                    <a:pt x="99" y="1203"/>
                  </a:lnTo>
                  <a:lnTo>
                    <a:pt x="122" y="1254"/>
                  </a:lnTo>
                  <a:lnTo>
                    <a:pt x="145" y="1299"/>
                  </a:lnTo>
                  <a:lnTo>
                    <a:pt x="168" y="1350"/>
                  </a:lnTo>
                  <a:lnTo>
                    <a:pt x="192" y="1394"/>
                  </a:lnTo>
                  <a:lnTo>
                    <a:pt x="221" y="1439"/>
                  </a:lnTo>
                  <a:lnTo>
                    <a:pt x="238" y="1485"/>
                  </a:lnTo>
                  <a:lnTo>
                    <a:pt x="256" y="1546"/>
                  </a:lnTo>
                  <a:lnTo>
                    <a:pt x="279" y="1613"/>
                  </a:lnTo>
                  <a:lnTo>
                    <a:pt x="314" y="1681"/>
                  </a:lnTo>
                  <a:lnTo>
                    <a:pt x="337" y="1726"/>
                  </a:lnTo>
                  <a:lnTo>
                    <a:pt x="372" y="1760"/>
                  </a:lnTo>
                  <a:lnTo>
                    <a:pt x="401" y="1760"/>
                  </a:lnTo>
                  <a:lnTo>
                    <a:pt x="436" y="1721"/>
                  </a:lnTo>
                  <a:lnTo>
                    <a:pt x="447" y="1681"/>
                  </a:lnTo>
                  <a:lnTo>
                    <a:pt x="477" y="1647"/>
                  </a:lnTo>
                  <a:lnTo>
                    <a:pt x="494" y="1613"/>
                  </a:lnTo>
                  <a:lnTo>
                    <a:pt x="512" y="1591"/>
                  </a:lnTo>
                  <a:lnTo>
                    <a:pt x="512" y="1518"/>
                  </a:lnTo>
                  <a:lnTo>
                    <a:pt x="500" y="1445"/>
                  </a:lnTo>
                  <a:lnTo>
                    <a:pt x="471" y="1367"/>
                  </a:lnTo>
                  <a:lnTo>
                    <a:pt x="442" y="1287"/>
                  </a:lnTo>
                  <a:lnTo>
                    <a:pt x="395" y="1209"/>
                  </a:lnTo>
                  <a:lnTo>
                    <a:pt x="360" y="1136"/>
                  </a:lnTo>
                  <a:lnTo>
                    <a:pt x="325" y="1068"/>
                  </a:lnTo>
                  <a:lnTo>
                    <a:pt x="314" y="1012"/>
                  </a:lnTo>
                  <a:lnTo>
                    <a:pt x="297" y="956"/>
                  </a:lnTo>
                  <a:lnTo>
                    <a:pt x="291" y="906"/>
                  </a:lnTo>
                  <a:lnTo>
                    <a:pt x="279" y="849"/>
                  </a:lnTo>
                  <a:lnTo>
                    <a:pt x="279" y="798"/>
                  </a:lnTo>
                  <a:lnTo>
                    <a:pt x="274" y="737"/>
                  </a:lnTo>
                  <a:lnTo>
                    <a:pt x="274" y="681"/>
                  </a:lnTo>
                  <a:lnTo>
                    <a:pt x="274" y="624"/>
                  </a:lnTo>
                  <a:lnTo>
                    <a:pt x="274" y="573"/>
                  </a:lnTo>
                  <a:lnTo>
                    <a:pt x="308" y="590"/>
                  </a:lnTo>
                  <a:lnTo>
                    <a:pt x="332" y="607"/>
                  </a:lnTo>
                  <a:lnTo>
                    <a:pt x="337" y="613"/>
                  </a:lnTo>
                  <a:lnTo>
                    <a:pt x="343" y="630"/>
                  </a:lnTo>
                  <a:lnTo>
                    <a:pt x="348" y="647"/>
                  </a:lnTo>
                  <a:lnTo>
                    <a:pt x="355" y="686"/>
                  </a:lnTo>
                  <a:lnTo>
                    <a:pt x="360" y="793"/>
                  </a:lnTo>
                  <a:lnTo>
                    <a:pt x="378" y="906"/>
                  </a:lnTo>
                  <a:lnTo>
                    <a:pt x="395" y="1024"/>
                  </a:lnTo>
                  <a:lnTo>
                    <a:pt x="431" y="1147"/>
                  </a:lnTo>
                  <a:lnTo>
                    <a:pt x="454" y="1260"/>
                  </a:lnTo>
                  <a:lnTo>
                    <a:pt x="494" y="1367"/>
                  </a:lnTo>
                  <a:lnTo>
                    <a:pt x="528" y="1456"/>
                  </a:lnTo>
                  <a:lnTo>
                    <a:pt x="581" y="1541"/>
                  </a:lnTo>
                  <a:lnTo>
                    <a:pt x="604" y="1557"/>
                  </a:lnTo>
                  <a:lnTo>
                    <a:pt x="639" y="1580"/>
                  </a:lnTo>
                  <a:lnTo>
                    <a:pt x="669" y="1597"/>
                  </a:lnTo>
                  <a:lnTo>
                    <a:pt x="697" y="1620"/>
                  </a:lnTo>
                  <a:lnTo>
                    <a:pt x="756" y="1811"/>
                  </a:lnTo>
                  <a:lnTo>
                    <a:pt x="768" y="1805"/>
                  </a:lnTo>
                  <a:lnTo>
                    <a:pt x="802" y="1805"/>
                  </a:lnTo>
                  <a:lnTo>
                    <a:pt x="854" y="1799"/>
                  </a:lnTo>
                  <a:lnTo>
                    <a:pt x="924" y="1794"/>
                  </a:lnTo>
                  <a:lnTo>
                    <a:pt x="982" y="1782"/>
                  </a:lnTo>
                  <a:lnTo>
                    <a:pt x="1034" y="1782"/>
                  </a:lnTo>
                  <a:lnTo>
                    <a:pt x="1075" y="1772"/>
                  </a:lnTo>
                  <a:lnTo>
                    <a:pt x="1098" y="1772"/>
                  </a:lnTo>
                  <a:lnTo>
                    <a:pt x="1104" y="1698"/>
                  </a:lnTo>
                  <a:lnTo>
                    <a:pt x="1116" y="1546"/>
                  </a:lnTo>
                  <a:lnTo>
                    <a:pt x="1121" y="1333"/>
                  </a:lnTo>
                  <a:lnTo>
                    <a:pt x="1133" y="1102"/>
                  </a:lnTo>
                  <a:lnTo>
                    <a:pt x="1139" y="860"/>
                  </a:lnTo>
                  <a:lnTo>
                    <a:pt x="1145" y="658"/>
                  </a:lnTo>
                  <a:lnTo>
                    <a:pt x="1145" y="506"/>
                  </a:lnTo>
                  <a:lnTo>
                    <a:pt x="1151" y="455"/>
                  </a:lnTo>
                  <a:lnTo>
                    <a:pt x="1139" y="445"/>
                  </a:lnTo>
                  <a:lnTo>
                    <a:pt x="1128" y="433"/>
                  </a:lnTo>
                  <a:lnTo>
                    <a:pt x="1104" y="404"/>
                  </a:lnTo>
                  <a:lnTo>
                    <a:pt x="1121" y="416"/>
                  </a:lnTo>
                  <a:lnTo>
                    <a:pt x="1133" y="433"/>
                  </a:lnTo>
                  <a:lnTo>
                    <a:pt x="1110" y="421"/>
                  </a:lnTo>
                  <a:lnTo>
                    <a:pt x="1081" y="399"/>
                  </a:lnTo>
                  <a:lnTo>
                    <a:pt x="1058" y="399"/>
                  </a:lnTo>
                  <a:lnTo>
                    <a:pt x="1034" y="399"/>
                  </a:lnTo>
                  <a:lnTo>
                    <a:pt x="1005" y="394"/>
                  </a:lnTo>
                  <a:lnTo>
                    <a:pt x="976" y="377"/>
                  </a:lnTo>
                  <a:lnTo>
                    <a:pt x="953" y="360"/>
                  </a:lnTo>
                  <a:lnTo>
                    <a:pt x="918" y="332"/>
                  </a:lnTo>
                  <a:lnTo>
                    <a:pt x="890" y="310"/>
                  </a:lnTo>
                  <a:lnTo>
                    <a:pt x="854" y="281"/>
                  </a:lnTo>
                  <a:lnTo>
                    <a:pt x="825" y="254"/>
                  </a:lnTo>
                  <a:lnTo>
                    <a:pt x="796" y="230"/>
                  </a:lnTo>
                  <a:lnTo>
                    <a:pt x="779" y="214"/>
                  </a:lnTo>
                  <a:lnTo>
                    <a:pt x="732" y="163"/>
                  </a:lnTo>
                  <a:lnTo>
                    <a:pt x="692" y="107"/>
                  </a:lnTo>
                  <a:lnTo>
                    <a:pt x="645" y="56"/>
                  </a:lnTo>
                  <a:lnTo>
                    <a:pt x="593" y="23"/>
                  </a:lnTo>
                  <a:lnTo>
                    <a:pt x="593" y="11"/>
                  </a:lnTo>
                  <a:lnTo>
                    <a:pt x="593" y="6"/>
                  </a:lnTo>
                  <a:lnTo>
                    <a:pt x="563" y="0"/>
                  </a:lnTo>
                  <a:lnTo>
                    <a:pt x="540" y="6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7" name="Freeform 67"/>
            <p:cNvSpPr/>
            <p:nvPr/>
          </p:nvSpPr>
          <p:spPr>
            <a:xfrm>
              <a:off x="7108920" y="4996800"/>
              <a:ext cx="184320" cy="950040"/>
            </a:xfrm>
            <a:custGeom>
              <a:avLst/>
              <a:gdLst/>
              <a:ahLst/>
              <a:rect l="l" t="t" r="r" b="b"/>
              <a:pathLst>
                <a:path w="855" h="4083">
                  <a:moveTo>
                    <a:pt x="209" y="12"/>
                  </a:moveTo>
                  <a:lnTo>
                    <a:pt x="168" y="40"/>
                  </a:lnTo>
                  <a:lnTo>
                    <a:pt x="157" y="91"/>
                  </a:lnTo>
                  <a:lnTo>
                    <a:pt x="151" y="135"/>
                  </a:lnTo>
                  <a:lnTo>
                    <a:pt x="157" y="158"/>
                  </a:lnTo>
                  <a:lnTo>
                    <a:pt x="110" y="186"/>
                  </a:lnTo>
                  <a:lnTo>
                    <a:pt x="70" y="236"/>
                  </a:lnTo>
                  <a:lnTo>
                    <a:pt x="29" y="287"/>
                  </a:lnTo>
                  <a:lnTo>
                    <a:pt x="11" y="338"/>
                  </a:lnTo>
                  <a:lnTo>
                    <a:pt x="0" y="383"/>
                  </a:lnTo>
                  <a:lnTo>
                    <a:pt x="6" y="451"/>
                  </a:lnTo>
                  <a:lnTo>
                    <a:pt x="11" y="523"/>
                  </a:lnTo>
                  <a:lnTo>
                    <a:pt x="29" y="602"/>
                  </a:lnTo>
                  <a:lnTo>
                    <a:pt x="41" y="670"/>
                  </a:lnTo>
                  <a:lnTo>
                    <a:pt x="59" y="731"/>
                  </a:lnTo>
                  <a:lnTo>
                    <a:pt x="70" y="770"/>
                  </a:lnTo>
                  <a:lnTo>
                    <a:pt x="76" y="787"/>
                  </a:lnTo>
                  <a:lnTo>
                    <a:pt x="41" y="979"/>
                  </a:lnTo>
                  <a:lnTo>
                    <a:pt x="47" y="996"/>
                  </a:lnTo>
                  <a:lnTo>
                    <a:pt x="76" y="1047"/>
                  </a:lnTo>
                  <a:lnTo>
                    <a:pt x="87" y="1074"/>
                  </a:lnTo>
                  <a:lnTo>
                    <a:pt x="99" y="1102"/>
                  </a:lnTo>
                  <a:lnTo>
                    <a:pt x="105" y="1131"/>
                  </a:lnTo>
                  <a:lnTo>
                    <a:pt x="117" y="1158"/>
                  </a:lnTo>
                  <a:lnTo>
                    <a:pt x="110" y="1187"/>
                  </a:lnTo>
                  <a:lnTo>
                    <a:pt x="105" y="1238"/>
                  </a:lnTo>
                  <a:lnTo>
                    <a:pt x="87" y="1288"/>
                  </a:lnTo>
                  <a:lnTo>
                    <a:pt x="76" y="1349"/>
                  </a:lnTo>
                  <a:lnTo>
                    <a:pt x="59" y="1400"/>
                  </a:lnTo>
                  <a:lnTo>
                    <a:pt x="47" y="1445"/>
                  </a:lnTo>
                  <a:lnTo>
                    <a:pt x="41" y="1479"/>
                  </a:lnTo>
                  <a:lnTo>
                    <a:pt x="52" y="1496"/>
                  </a:lnTo>
                  <a:lnTo>
                    <a:pt x="64" y="1552"/>
                  </a:lnTo>
                  <a:lnTo>
                    <a:pt x="82" y="1626"/>
                  </a:lnTo>
                  <a:lnTo>
                    <a:pt x="105" y="1699"/>
                  </a:lnTo>
                  <a:lnTo>
                    <a:pt x="134" y="1783"/>
                  </a:lnTo>
                  <a:lnTo>
                    <a:pt x="151" y="1861"/>
                  </a:lnTo>
                  <a:lnTo>
                    <a:pt x="168" y="1940"/>
                  </a:lnTo>
                  <a:lnTo>
                    <a:pt x="168" y="2013"/>
                  </a:lnTo>
                  <a:lnTo>
                    <a:pt x="168" y="2087"/>
                  </a:lnTo>
                  <a:lnTo>
                    <a:pt x="145" y="2131"/>
                  </a:lnTo>
                  <a:lnTo>
                    <a:pt x="105" y="2182"/>
                  </a:lnTo>
                  <a:lnTo>
                    <a:pt x="87" y="2210"/>
                  </a:lnTo>
                  <a:lnTo>
                    <a:pt x="70" y="2244"/>
                  </a:lnTo>
                  <a:lnTo>
                    <a:pt x="59" y="2289"/>
                  </a:lnTo>
                  <a:lnTo>
                    <a:pt x="64" y="2345"/>
                  </a:lnTo>
                  <a:lnTo>
                    <a:pt x="64" y="2384"/>
                  </a:lnTo>
                  <a:lnTo>
                    <a:pt x="82" y="2430"/>
                  </a:lnTo>
                  <a:lnTo>
                    <a:pt x="99" y="2469"/>
                  </a:lnTo>
                  <a:lnTo>
                    <a:pt x="122" y="2514"/>
                  </a:lnTo>
                  <a:lnTo>
                    <a:pt x="140" y="2553"/>
                  </a:lnTo>
                  <a:lnTo>
                    <a:pt x="157" y="2592"/>
                  </a:lnTo>
                  <a:lnTo>
                    <a:pt x="168" y="2626"/>
                  </a:lnTo>
                  <a:lnTo>
                    <a:pt x="186" y="2666"/>
                  </a:lnTo>
                  <a:lnTo>
                    <a:pt x="186" y="2710"/>
                  </a:lnTo>
                  <a:lnTo>
                    <a:pt x="186" y="2761"/>
                  </a:lnTo>
                  <a:lnTo>
                    <a:pt x="181" y="2818"/>
                  </a:lnTo>
                  <a:lnTo>
                    <a:pt x="175" y="2879"/>
                  </a:lnTo>
                  <a:lnTo>
                    <a:pt x="163" y="2930"/>
                  </a:lnTo>
                  <a:lnTo>
                    <a:pt x="151" y="2986"/>
                  </a:lnTo>
                  <a:lnTo>
                    <a:pt x="145" y="3036"/>
                  </a:lnTo>
                  <a:lnTo>
                    <a:pt x="145" y="3093"/>
                  </a:lnTo>
                  <a:lnTo>
                    <a:pt x="134" y="3200"/>
                  </a:lnTo>
                  <a:lnTo>
                    <a:pt x="128" y="3318"/>
                  </a:lnTo>
                  <a:lnTo>
                    <a:pt x="122" y="3436"/>
                  </a:lnTo>
                  <a:lnTo>
                    <a:pt x="122" y="3554"/>
                  </a:lnTo>
                  <a:lnTo>
                    <a:pt x="117" y="3672"/>
                  </a:lnTo>
                  <a:lnTo>
                    <a:pt x="117" y="3790"/>
                  </a:lnTo>
                  <a:lnTo>
                    <a:pt x="117" y="3909"/>
                  </a:lnTo>
                  <a:lnTo>
                    <a:pt x="117" y="4032"/>
                  </a:lnTo>
                  <a:lnTo>
                    <a:pt x="163" y="4049"/>
                  </a:lnTo>
                  <a:lnTo>
                    <a:pt x="216" y="4066"/>
                  </a:lnTo>
                  <a:lnTo>
                    <a:pt x="274" y="4071"/>
                  </a:lnTo>
                  <a:lnTo>
                    <a:pt x="343" y="4083"/>
                  </a:lnTo>
                  <a:lnTo>
                    <a:pt x="407" y="4083"/>
                  </a:lnTo>
                  <a:lnTo>
                    <a:pt x="471" y="4083"/>
                  </a:lnTo>
                  <a:lnTo>
                    <a:pt x="535" y="4076"/>
                  </a:lnTo>
                  <a:lnTo>
                    <a:pt x="599" y="4071"/>
                  </a:lnTo>
                  <a:lnTo>
                    <a:pt x="634" y="4043"/>
                  </a:lnTo>
                  <a:lnTo>
                    <a:pt x="657" y="4004"/>
                  </a:lnTo>
                  <a:lnTo>
                    <a:pt x="657" y="3948"/>
                  </a:lnTo>
                  <a:lnTo>
                    <a:pt x="657" y="3885"/>
                  </a:lnTo>
                  <a:lnTo>
                    <a:pt x="639" y="3813"/>
                  </a:lnTo>
                  <a:lnTo>
                    <a:pt x="627" y="3745"/>
                  </a:lnTo>
                  <a:lnTo>
                    <a:pt x="616" y="3678"/>
                  </a:lnTo>
                  <a:lnTo>
                    <a:pt x="622" y="3622"/>
                  </a:lnTo>
                  <a:lnTo>
                    <a:pt x="627" y="3543"/>
                  </a:lnTo>
                  <a:lnTo>
                    <a:pt x="652" y="3470"/>
                  </a:lnTo>
                  <a:lnTo>
                    <a:pt x="680" y="3391"/>
                  </a:lnTo>
                  <a:lnTo>
                    <a:pt x="715" y="3323"/>
                  </a:lnTo>
                  <a:lnTo>
                    <a:pt x="744" y="3250"/>
                  </a:lnTo>
                  <a:lnTo>
                    <a:pt x="773" y="3178"/>
                  </a:lnTo>
                  <a:lnTo>
                    <a:pt x="802" y="3110"/>
                  </a:lnTo>
                  <a:lnTo>
                    <a:pt x="825" y="3042"/>
                  </a:lnTo>
                  <a:lnTo>
                    <a:pt x="843" y="2891"/>
                  </a:lnTo>
                  <a:lnTo>
                    <a:pt x="855" y="2727"/>
                  </a:lnTo>
                  <a:lnTo>
                    <a:pt x="849" y="2548"/>
                  </a:lnTo>
                  <a:lnTo>
                    <a:pt x="849" y="2367"/>
                  </a:lnTo>
                  <a:lnTo>
                    <a:pt x="837" y="2176"/>
                  </a:lnTo>
                  <a:lnTo>
                    <a:pt x="832" y="1996"/>
                  </a:lnTo>
                  <a:lnTo>
                    <a:pt x="825" y="1817"/>
                  </a:lnTo>
                  <a:lnTo>
                    <a:pt x="825" y="1659"/>
                  </a:lnTo>
                  <a:lnTo>
                    <a:pt x="756" y="1636"/>
                  </a:lnTo>
                  <a:lnTo>
                    <a:pt x="686" y="1614"/>
                  </a:lnTo>
                  <a:lnTo>
                    <a:pt x="611" y="1592"/>
                  </a:lnTo>
                  <a:lnTo>
                    <a:pt x="535" y="1575"/>
                  </a:lnTo>
                  <a:lnTo>
                    <a:pt x="454" y="1552"/>
                  </a:lnTo>
                  <a:lnTo>
                    <a:pt x="384" y="1541"/>
                  </a:lnTo>
                  <a:lnTo>
                    <a:pt x="314" y="1530"/>
                  </a:lnTo>
                  <a:lnTo>
                    <a:pt x="250" y="1530"/>
                  </a:lnTo>
                  <a:lnTo>
                    <a:pt x="221" y="1366"/>
                  </a:lnTo>
                  <a:lnTo>
                    <a:pt x="209" y="1204"/>
                  </a:lnTo>
                  <a:lnTo>
                    <a:pt x="198" y="1040"/>
                  </a:lnTo>
                  <a:lnTo>
                    <a:pt x="198" y="883"/>
                  </a:lnTo>
                  <a:lnTo>
                    <a:pt x="198" y="721"/>
                  </a:lnTo>
                  <a:lnTo>
                    <a:pt x="204" y="557"/>
                  </a:lnTo>
                  <a:lnTo>
                    <a:pt x="216" y="394"/>
                  </a:lnTo>
                  <a:lnTo>
                    <a:pt x="239" y="243"/>
                  </a:lnTo>
                  <a:lnTo>
                    <a:pt x="262" y="236"/>
                  </a:lnTo>
                  <a:lnTo>
                    <a:pt x="308" y="231"/>
                  </a:lnTo>
                  <a:lnTo>
                    <a:pt x="355" y="220"/>
                  </a:lnTo>
                  <a:lnTo>
                    <a:pt x="384" y="220"/>
                  </a:lnTo>
                  <a:lnTo>
                    <a:pt x="401" y="220"/>
                  </a:lnTo>
                  <a:lnTo>
                    <a:pt x="424" y="231"/>
                  </a:lnTo>
                  <a:lnTo>
                    <a:pt x="407" y="192"/>
                  </a:lnTo>
                  <a:lnTo>
                    <a:pt x="396" y="158"/>
                  </a:lnTo>
                  <a:lnTo>
                    <a:pt x="378" y="113"/>
                  </a:lnTo>
                  <a:lnTo>
                    <a:pt x="366" y="79"/>
                  </a:lnTo>
                  <a:lnTo>
                    <a:pt x="338" y="40"/>
                  </a:lnTo>
                  <a:lnTo>
                    <a:pt x="302" y="17"/>
                  </a:lnTo>
                  <a:lnTo>
                    <a:pt x="262" y="0"/>
                  </a:lnTo>
                  <a:lnTo>
                    <a:pt x="209" y="12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8" name="Freeform 68"/>
            <p:cNvSpPr/>
            <p:nvPr/>
          </p:nvSpPr>
          <p:spPr>
            <a:xfrm>
              <a:off x="7478640" y="5018040"/>
              <a:ext cx="55080" cy="46800"/>
            </a:xfrm>
            <a:custGeom>
              <a:avLst/>
              <a:gdLst/>
              <a:ahLst/>
              <a:rect l="l" t="t" r="r" b="b"/>
              <a:pathLst>
                <a:path w="256" h="201">
                  <a:moveTo>
                    <a:pt x="94" y="0"/>
                  </a:moveTo>
                  <a:lnTo>
                    <a:pt x="64" y="34"/>
                  </a:lnTo>
                  <a:lnTo>
                    <a:pt x="36" y="73"/>
                  </a:lnTo>
                  <a:lnTo>
                    <a:pt x="12" y="106"/>
                  </a:lnTo>
                  <a:lnTo>
                    <a:pt x="0" y="140"/>
                  </a:lnTo>
                  <a:lnTo>
                    <a:pt x="0" y="162"/>
                  </a:lnTo>
                  <a:lnTo>
                    <a:pt x="23" y="184"/>
                  </a:lnTo>
                  <a:lnTo>
                    <a:pt x="71" y="196"/>
                  </a:lnTo>
                  <a:lnTo>
                    <a:pt x="152" y="201"/>
                  </a:lnTo>
                  <a:lnTo>
                    <a:pt x="204" y="191"/>
                  </a:lnTo>
                  <a:lnTo>
                    <a:pt x="244" y="169"/>
                  </a:lnTo>
                  <a:lnTo>
                    <a:pt x="256" y="135"/>
                  </a:lnTo>
                  <a:lnTo>
                    <a:pt x="251" y="101"/>
                  </a:lnTo>
                  <a:lnTo>
                    <a:pt x="228" y="61"/>
                  </a:lnTo>
                  <a:lnTo>
                    <a:pt x="193" y="34"/>
                  </a:lnTo>
                  <a:lnTo>
                    <a:pt x="146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9" name="Freeform 69"/>
            <p:cNvSpPr/>
            <p:nvPr/>
          </p:nvSpPr>
          <p:spPr>
            <a:xfrm>
              <a:off x="5795640" y="5028120"/>
              <a:ext cx="16920" cy="83520"/>
            </a:xfrm>
            <a:custGeom>
              <a:avLst/>
              <a:gdLst/>
              <a:ahLst/>
              <a:rect l="l" t="t" r="r" b="b"/>
              <a:pathLst>
                <a:path w="76" h="360">
                  <a:moveTo>
                    <a:pt x="6" y="0"/>
                  </a:moveTo>
                  <a:lnTo>
                    <a:pt x="0" y="34"/>
                  </a:lnTo>
                  <a:lnTo>
                    <a:pt x="0" y="73"/>
                  </a:lnTo>
                  <a:lnTo>
                    <a:pt x="0" y="113"/>
                  </a:lnTo>
                  <a:lnTo>
                    <a:pt x="0" y="157"/>
                  </a:lnTo>
                  <a:lnTo>
                    <a:pt x="0" y="191"/>
                  </a:lnTo>
                  <a:lnTo>
                    <a:pt x="0" y="241"/>
                  </a:lnTo>
                  <a:lnTo>
                    <a:pt x="0" y="287"/>
                  </a:lnTo>
                  <a:lnTo>
                    <a:pt x="6" y="348"/>
                  </a:lnTo>
                  <a:lnTo>
                    <a:pt x="46" y="360"/>
                  </a:lnTo>
                  <a:lnTo>
                    <a:pt x="46" y="321"/>
                  </a:lnTo>
                  <a:lnTo>
                    <a:pt x="52" y="280"/>
                  </a:lnTo>
                  <a:lnTo>
                    <a:pt x="59" y="236"/>
                  </a:lnTo>
                  <a:lnTo>
                    <a:pt x="64" y="196"/>
                  </a:lnTo>
                  <a:lnTo>
                    <a:pt x="64" y="145"/>
                  </a:lnTo>
                  <a:lnTo>
                    <a:pt x="70" y="101"/>
                  </a:lnTo>
                  <a:lnTo>
                    <a:pt x="70" y="56"/>
                  </a:lnTo>
                  <a:lnTo>
                    <a:pt x="76" y="11"/>
                  </a:lnTo>
                  <a:lnTo>
                    <a:pt x="59" y="5"/>
                  </a:lnTo>
                  <a:lnTo>
                    <a:pt x="41" y="5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0" name="Freeform 70"/>
            <p:cNvSpPr/>
            <p:nvPr/>
          </p:nvSpPr>
          <p:spPr>
            <a:xfrm>
              <a:off x="7362000" y="5057640"/>
              <a:ext cx="366840" cy="416160"/>
            </a:xfrm>
            <a:custGeom>
              <a:avLst/>
              <a:gdLst/>
              <a:ahLst/>
              <a:rect l="l" t="t" r="r" b="b"/>
              <a:pathLst>
                <a:path w="1703" h="1787">
                  <a:moveTo>
                    <a:pt x="982" y="0"/>
                  </a:moveTo>
                  <a:lnTo>
                    <a:pt x="948" y="10"/>
                  </a:lnTo>
                  <a:lnTo>
                    <a:pt x="907" y="44"/>
                  </a:lnTo>
                  <a:lnTo>
                    <a:pt x="860" y="78"/>
                  </a:lnTo>
                  <a:lnTo>
                    <a:pt x="819" y="100"/>
                  </a:lnTo>
                  <a:lnTo>
                    <a:pt x="756" y="100"/>
                  </a:lnTo>
                  <a:lnTo>
                    <a:pt x="697" y="100"/>
                  </a:lnTo>
                  <a:lnTo>
                    <a:pt x="639" y="89"/>
                  </a:lnTo>
                  <a:lnTo>
                    <a:pt x="588" y="83"/>
                  </a:lnTo>
                  <a:lnTo>
                    <a:pt x="529" y="66"/>
                  </a:lnTo>
                  <a:lnTo>
                    <a:pt x="477" y="66"/>
                  </a:lnTo>
                  <a:lnTo>
                    <a:pt x="424" y="66"/>
                  </a:lnTo>
                  <a:lnTo>
                    <a:pt x="383" y="89"/>
                  </a:lnTo>
                  <a:lnTo>
                    <a:pt x="337" y="111"/>
                  </a:lnTo>
                  <a:lnTo>
                    <a:pt x="308" y="150"/>
                  </a:lnTo>
                  <a:lnTo>
                    <a:pt x="274" y="196"/>
                  </a:lnTo>
                  <a:lnTo>
                    <a:pt x="251" y="252"/>
                  </a:lnTo>
                  <a:lnTo>
                    <a:pt x="226" y="302"/>
                  </a:lnTo>
                  <a:lnTo>
                    <a:pt x="203" y="365"/>
                  </a:lnTo>
                  <a:lnTo>
                    <a:pt x="186" y="415"/>
                  </a:lnTo>
                  <a:lnTo>
                    <a:pt x="168" y="471"/>
                  </a:lnTo>
                  <a:lnTo>
                    <a:pt x="145" y="505"/>
                  </a:lnTo>
                  <a:lnTo>
                    <a:pt x="122" y="550"/>
                  </a:lnTo>
                  <a:lnTo>
                    <a:pt x="99" y="595"/>
                  </a:lnTo>
                  <a:lnTo>
                    <a:pt x="76" y="645"/>
                  </a:lnTo>
                  <a:lnTo>
                    <a:pt x="46" y="691"/>
                  </a:lnTo>
                  <a:lnTo>
                    <a:pt x="29" y="741"/>
                  </a:lnTo>
                  <a:lnTo>
                    <a:pt x="12" y="787"/>
                  </a:lnTo>
                  <a:lnTo>
                    <a:pt x="6" y="837"/>
                  </a:lnTo>
                  <a:lnTo>
                    <a:pt x="0" y="961"/>
                  </a:lnTo>
                  <a:lnTo>
                    <a:pt x="35" y="1089"/>
                  </a:lnTo>
                  <a:lnTo>
                    <a:pt x="87" y="1219"/>
                  </a:lnTo>
                  <a:lnTo>
                    <a:pt x="157" y="1354"/>
                  </a:lnTo>
                  <a:lnTo>
                    <a:pt x="226" y="1478"/>
                  </a:lnTo>
                  <a:lnTo>
                    <a:pt x="308" y="1596"/>
                  </a:lnTo>
                  <a:lnTo>
                    <a:pt x="378" y="1697"/>
                  </a:lnTo>
                  <a:lnTo>
                    <a:pt x="448" y="1787"/>
                  </a:lnTo>
                  <a:lnTo>
                    <a:pt x="512" y="1646"/>
                  </a:lnTo>
                  <a:lnTo>
                    <a:pt x="552" y="1551"/>
                  </a:lnTo>
                  <a:lnTo>
                    <a:pt x="558" y="1472"/>
                  </a:lnTo>
                  <a:lnTo>
                    <a:pt x="546" y="1416"/>
                  </a:lnTo>
                  <a:lnTo>
                    <a:pt x="512" y="1354"/>
                  </a:lnTo>
                  <a:lnTo>
                    <a:pt x="465" y="1287"/>
                  </a:lnTo>
                  <a:lnTo>
                    <a:pt x="401" y="1202"/>
                  </a:lnTo>
                  <a:lnTo>
                    <a:pt x="343" y="1096"/>
                  </a:lnTo>
                  <a:lnTo>
                    <a:pt x="343" y="1000"/>
                  </a:lnTo>
                  <a:lnTo>
                    <a:pt x="395" y="1045"/>
                  </a:lnTo>
                  <a:lnTo>
                    <a:pt x="448" y="1096"/>
                  </a:lnTo>
                  <a:lnTo>
                    <a:pt x="500" y="1157"/>
                  </a:lnTo>
                  <a:lnTo>
                    <a:pt x="552" y="1224"/>
                  </a:lnTo>
                  <a:lnTo>
                    <a:pt x="593" y="1292"/>
                  </a:lnTo>
                  <a:lnTo>
                    <a:pt x="639" y="1366"/>
                  </a:lnTo>
                  <a:lnTo>
                    <a:pt x="674" y="1433"/>
                  </a:lnTo>
                  <a:lnTo>
                    <a:pt x="715" y="1506"/>
                  </a:lnTo>
                  <a:lnTo>
                    <a:pt x="738" y="1501"/>
                  </a:lnTo>
                  <a:lnTo>
                    <a:pt x="768" y="1501"/>
                  </a:lnTo>
                  <a:lnTo>
                    <a:pt x="796" y="1501"/>
                  </a:lnTo>
                  <a:lnTo>
                    <a:pt x="808" y="1506"/>
                  </a:lnTo>
                  <a:lnTo>
                    <a:pt x="907" y="1528"/>
                  </a:lnTo>
                  <a:lnTo>
                    <a:pt x="1011" y="1557"/>
                  </a:lnTo>
                  <a:lnTo>
                    <a:pt x="1098" y="1568"/>
                  </a:lnTo>
                  <a:lnTo>
                    <a:pt x="1174" y="1568"/>
                  </a:lnTo>
                  <a:lnTo>
                    <a:pt x="1227" y="1535"/>
                  </a:lnTo>
                  <a:lnTo>
                    <a:pt x="1262" y="1478"/>
                  </a:lnTo>
                  <a:lnTo>
                    <a:pt x="1267" y="1383"/>
                  </a:lnTo>
                  <a:lnTo>
                    <a:pt x="1250" y="1248"/>
                  </a:lnTo>
                  <a:lnTo>
                    <a:pt x="1232" y="1185"/>
                  </a:lnTo>
                  <a:lnTo>
                    <a:pt x="1220" y="1123"/>
                  </a:lnTo>
                  <a:lnTo>
                    <a:pt x="1204" y="1057"/>
                  </a:lnTo>
                  <a:lnTo>
                    <a:pt x="1192" y="994"/>
                  </a:lnTo>
                  <a:lnTo>
                    <a:pt x="1174" y="922"/>
                  </a:lnTo>
                  <a:lnTo>
                    <a:pt x="1163" y="854"/>
                  </a:lnTo>
                  <a:lnTo>
                    <a:pt x="1156" y="787"/>
                  </a:lnTo>
                  <a:lnTo>
                    <a:pt x="1156" y="730"/>
                  </a:lnTo>
                  <a:lnTo>
                    <a:pt x="1156" y="713"/>
                  </a:lnTo>
                  <a:lnTo>
                    <a:pt x="1163" y="691"/>
                  </a:lnTo>
                  <a:lnTo>
                    <a:pt x="1163" y="674"/>
                  </a:lnTo>
                  <a:lnTo>
                    <a:pt x="1168" y="668"/>
                  </a:lnTo>
                  <a:lnTo>
                    <a:pt x="1174" y="668"/>
                  </a:lnTo>
                  <a:lnTo>
                    <a:pt x="1192" y="674"/>
                  </a:lnTo>
                  <a:lnTo>
                    <a:pt x="1209" y="674"/>
                  </a:lnTo>
                  <a:lnTo>
                    <a:pt x="1220" y="679"/>
                  </a:lnTo>
                  <a:lnTo>
                    <a:pt x="1232" y="787"/>
                  </a:lnTo>
                  <a:lnTo>
                    <a:pt x="1250" y="898"/>
                  </a:lnTo>
                  <a:lnTo>
                    <a:pt x="1273" y="1011"/>
                  </a:lnTo>
                  <a:lnTo>
                    <a:pt x="1302" y="1123"/>
                  </a:lnTo>
                  <a:lnTo>
                    <a:pt x="1325" y="1231"/>
                  </a:lnTo>
                  <a:lnTo>
                    <a:pt x="1354" y="1343"/>
                  </a:lnTo>
                  <a:lnTo>
                    <a:pt x="1377" y="1450"/>
                  </a:lnTo>
                  <a:lnTo>
                    <a:pt x="1407" y="1557"/>
                  </a:lnTo>
                  <a:lnTo>
                    <a:pt x="1442" y="1545"/>
                  </a:lnTo>
                  <a:lnTo>
                    <a:pt x="1482" y="1545"/>
                  </a:lnTo>
                  <a:lnTo>
                    <a:pt x="1517" y="1545"/>
                  </a:lnTo>
                  <a:lnTo>
                    <a:pt x="1557" y="1551"/>
                  </a:lnTo>
                  <a:lnTo>
                    <a:pt x="1592" y="1551"/>
                  </a:lnTo>
                  <a:lnTo>
                    <a:pt x="1627" y="1562"/>
                  </a:lnTo>
                  <a:lnTo>
                    <a:pt x="1663" y="1568"/>
                  </a:lnTo>
                  <a:lnTo>
                    <a:pt x="1703" y="1584"/>
                  </a:lnTo>
                  <a:lnTo>
                    <a:pt x="1680" y="1540"/>
                  </a:lnTo>
                  <a:lnTo>
                    <a:pt x="1663" y="1494"/>
                  </a:lnTo>
                  <a:lnTo>
                    <a:pt x="1627" y="1427"/>
                  </a:lnTo>
                  <a:lnTo>
                    <a:pt x="1598" y="1366"/>
                  </a:lnTo>
                  <a:lnTo>
                    <a:pt x="1557" y="1292"/>
                  </a:lnTo>
                  <a:lnTo>
                    <a:pt x="1523" y="1224"/>
                  </a:lnTo>
                  <a:lnTo>
                    <a:pt x="1488" y="1152"/>
                  </a:lnTo>
                  <a:lnTo>
                    <a:pt x="1458" y="1079"/>
                  </a:lnTo>
                  <a:lnTo>
                    <a:pt x="1435" y="1011"/>
                  </a:lnTo>
                  <a:lnTo>
                    <a:pt x="1435" y="949"/>
                  </a:lnTo>
                  <a:lnTo>
                    <a:pt x="1442" y="888"/>
                  </a:lnTo>
                  <a:lnTo>
                    <a:pt x="1470" y="831"/>
                  </a:lnTo>
                  <a:lnTo>
                    <a:pt x="1476" y="797"/>
                  </a:lnTo>
                  <a:lnTo>
                    <a:pt x="1488" y="770"/>
                  </a:lnTo>
                  <a:lnTo>
                    <a:pt x="1488" y="736"/>
                  </a:lnTo>
                  <a:lnTo>
                    <a:pt x="1488" y="707"/>
                  </a:lnTo>
                  <a:lnTo>
                    <a:pt x="1476" y="691"/>
                  </a:lnTo>
                  <a:lnTo>
                    <a:pt x="1447" y="662"/>
                  </a:lnTo>
                  <a:lnTo>
                    <a:pt x="1418" y="635"/>
                  </a:lnTo>
                  <a:lnTo>
                    <a:pt x="1407" y="618"/>
                  </a:lnTo>
                  <a:lnTo>
                    <a:pt x="1372" y="533"/>
                  </a:lnTo>
                  <a:lnTo>
                    <a:pt x="1354" y="454"/>
                  </a:lnTo>
                  <a:lnTo>
                    <a:pt x="1331" y="370"/>
                  </a:lnTo>
                  <a:lnTo>
                    <a:pt x="1313" y="297"/>
                  </a:lnTo>
                  <a:lnTo>
                    <a:pt x="1278" y="224"/>
                  </a:lnTo>
                  <a:lnTo>
                    <a:pt x="1250" y="162"/>
                  </a:lnTo>
                  <a:lnTo>
                    <a:pt x="1204" y="106"/>
                  </a:lnTo>
                  <a:lnTo>
                    <a:pt x="1145" y="61"/>
                  </a:lnTo>
                  <a:lnTo>
                    <a:pt x="1110" y="39"/>
                  </a:lnTo>
                  <a:lnTo>
                    <a:pt x="1070" y="15"/>
                  </a:lnTo>
                  <a:lnTo>
                    <a:pt x="1024" y="0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1" name="Freeform 71"/>
            <p:cNvSpPr/>
            <p:nvPr/>
          </p:nvSpPr>
          <p:spPr>
            <a:xfrm>
              <a:off x="7166880" y="5064840"/>
              <a:ext cx="200160" cy="310320"/>
            </a:xfrm>
            <a:custGeom>
              <a:avLst/>
              <a:gdLst/>
              <a:ahLst/>
              <a:rect l="l" t="t" r="r" b="b"/>
              <a:pathLst>
                <a:path w="930" h="1334">
                  <a:moveTo>
                    <a:pt x="23" y="0"/>
                  </a:moveTo>
                  <a:lnTo>
                    <a:pt x="7" y="130"/>
                  </a:lnTo>
                  <a:lnTo>
                    <a:pt x="0" y="270"/>
                  </a:lnTo>
                  <a:lnTo>
                    <a:pt x="0" y="422"/>
                  </a:lnTo>
                  <a:lnTo>
                    <a:pt x="0" y="574"/>
                  </a:lnTo>
                  <a:lnTo>
                    <a:pt x="0" y="726"/>
                  </a:lnTo>
                  <a:lnTo>
                    <a:pt x="18" y="878"/>
                  </a:lnTo>
                  <a:lnTo>
                    <a:pt x="30" y="1018"/>
                  </a:lnTo>
                  <a:lnTo>
                    <a:pt x="53" y="1165"/>
                  </a:lnTo>
                  <a:lnTo>
                    <a:pt x="146" y="1192"/>
                  </a:lnTo>
                  <a:lnTo>
                    <a:pt x="251" y="1226"/>
                  </a:lnTo>
                  <a:lnTo>
                    <a:pt x="355" y="1249"/>
                  </a:lnTo>
                  <a:lnTo>
                    <a:pt x="471" y="1271"/>
                  </a:lnTo>
                  <a:lnTo>
                    <a:pt x="588" y="1288"/>
                  </a:lnTo>
                  <a:lnTo>
                    <a:pt x="704" y="1305"/>
                  </a:lnTo>
                  <a:lnTo>
                    <a:pt x="814" y="1317"/>
                  </a:lnTo>
                  <a:lnTo>
                    <a:pt x="930" y="1334"/>
                  </a:lnTo>
                  <a:lnTo>
                    <a:pt x="919" y="1317"/>
                  </a:lnTo>
                  <a:lnTo>
                    <a:pt x="919" y="1288"/>
                  </a:lnTo>
                  <a:lnTo>
                    <a:pt x="913" y="1266"/>
                  </a:lnTo>
                  <a:lnTo>
                    <a:pt x="907" y="1232"/>
                  </a:lnTo>
                  <a:lnTo>
                    <a:pt x="902" y="1216"/>
                  </a:lnTo>
                  <a:lnTo>
                    <a:pt x="884" y="1170"/>
                  </a:lnTo>
                  <a:lnTo>
                    <a:pt x="872" y="1131"/>
                  </a:lnTo>
                  <a:lnTo>
                    <a:pt x="861" y="1091"/>
                  </a:lnTo>
                  <a:lnTo>
                    <a:pt x="854" y="1057"/>
                  </a:lnTo>
                  <a:lnTo>
                    <a:pt x="844" y="1018"/>
                  </a:lnTo>
                  <a:lnTo>
                    <a:pt x="837" y="979"/>
                  </a:lnTo>
                  <a:lnTo>
                    <a:pt x="826" y="946"/>
                  </a:lnTo>
                  <a:lnTo>
                    <a:pt x="826" y="917"/>
                  </a:lnTo>
                  <a:lnTo>
                    <a:pt x="756" y="917"/>
                  </a:lnTo>
                  <a:lnTo>
                    <a:pt x="692" y="929"/>
                  </a:lnTo>
                  <a:lnTo>
                    <a:pt x="628" y="929"/>
                  </a:lnTo>
                  <a:lnTo>
                    <a:pt x="565" y="940"/>
                  </a:lnTo>
                  <a:lnTo>
                    <a:pt x="494" y="940"/>
                  </a:lnTo>
                  <a:lnTo>
                    <a:pt x="436" y="946"/>
                  </a:lnTo>
                  <a:lnTo>
                    <a:pt x="372" y="946"/>
                  </a:lnTo>
                  <a:lnTo>
                    <a:pt x="314" y="946"/>
                  </a:lnTo>
                  <a:lnTo>
                    <a:pt x="337" y="923"/>
                  </a:lnTo>
                  <a:lnTo>
                    <a:pt x="396" y="895"/>
                  </a:lnTo>
                  <a:lnTo>
                    <a:pt x="378" y="788"/>
                  </a:lnTo>
                  <a:lnTo>
                    <a:pt x="360" y="675"/>
                  </a:lnTo>
                  <a:lnTo>
                    <a:pt x="337" y="563"/>
                  </a:lnTo>
                  <a:lnTo>
                    <a:pt x="320" y="456"/>
                  </a:lnTo>
                  <a:lnTo>
                    <a:pt x="291" y="344"/>
                  </a:lnTo>
                  <a:lnTo>
                    <a:pt x="268" y="248"/>
                  </a:lnTo>
                  <a:lnTo>
                    <a:pt x="233" y="159"/>
                  </a:lnTo>
                  <a:lnTo>
                    <a:pt x="198" y="85"/>
                  </a:lnTo>
                  <a:lnTo>
                    <a:pt x="164" y="34"/>
                  </a:lnTo>
                  <a:lnTo>
                    <a:pt x="134" y="17"/>
                  </a:lnTo>
                  <a:lnTo>
                    <a:pt x="111" y="7"/>
                  </a:lnTo>
                  <a:lnTo>
                    <a:pt x="94" y="7"/>
                  </a:lnTo>
                  <a:lnTo>
                    <a:pt x="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2" name="Freeform 72"/>
            <p:cNvSpPr/>
            <p:nvPr/>
          </p:nvSpPr>
          <p:spPr>
            <a:xfrm>
              <a:off x="7226280" y="5080680"/>
              <a:ext cx="54000" cy="186120"/>
            </a:xfrm>
            <a:custGeom>
              <a:avLst/>
              <a:gdLst/>
              <a:ahLst/>
              <a:rect l="l" t="t" r="r" b="b"/>
              <a:pathLst>
                <a:path w="250" h="798">
                  <a:moveTo>
                    <a:pt x="0" y="0"/>
                  </a:moveTo>
                  <a:lnTo>
                    <a:pt x="24" y="91"/>
                  </a:lnTo>
                  <a:lnTo>
                    <a:pt x="47" y="192"/>
                  </a:lnTo>
                  <a:lnTo>
                    <a:pt x="65" y="293"/>
                  </a:lnTo>
                  <a:lnTo>
                    <a:pt x="88" y="400"/>
                  </a:lnTo>
                  <a:lnTo>
                    <a:pt x="106" y="501"/>
                  </a:lnTo>
                  <a:lnTo>
                    <a:pt x="129" y="602"/>
                  </a:lnTo>
                  <a:lnTo>
                    <a:pt x="152" y="697"/>
                  </a:lnTo>
                  <a:lnTo>
                    <a:pt x="187" y="798"/>
                  </a:lnTo>
                  <a:lnTo>
                    <a:pt x="215" y="793"/>
                  </a:lnTo>
                  <a:lnTo>
                    <a:pt x="250" y="798"/>
                  </a:lnTo>
                  <a:lnTo>
                    <a:pt x="227" y="687"/>
                  </a:lnTo>
                  <a:lnTo>
                    <a:pt x="210" y="574"/>
                  </a:lnTo>
                  <a:lnTo>
                    <a:pt x="187" y="461"/>
                  </a:lnTo>
                  <a:lnTo>
                    <a:pt x="164" y="361"/>
                  </a:lnTo>
                  <a:lnTo>
                    <a:pt x="129" y="253"/>
                  </a:lnTo>
                  <a:lnTo>
                    <a:pt x="93" y="158"/>
                  </a:lnTo>
                  <a:lnTo>
                    <a:pt x="4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3" name="Freeform 73"/>
            <p:cNvSpPr/>
            <p:nvPr/>
          </p:nvSpPr>
          <p:spPr>
            <a:xfrm>
              <a:off x="6418800" y="5174280"/>
              <a:ext cx="26640" cy="194760"/>
            </a:xfrm>
            <a:custGeom>
              <a:avLst/>
              <a:gdLst/>
              <a:ahLst/>
              <a:rect l="l" t="t" r="r" b="b"/>
              <a:pathLst>
                <a:path w="129" h="837">
                  <a:moveTo>
                    <a:pt x="76" y="0"/>
                  </a:moveTo>
                  <a:lnTo>
                    <a:pt x="30" y="56"/>
                  </a:lnTo>
                  <a:lnTo>
                    <a:pt x="7" y="152"/>
                  </a:lnTo>
                  <a:lnTo>
                    <a:pt x="0" y="258"/>
                  </a:lnTo>
                  <a:lnTo>
                    <a:pt x="7" y="382"/>
                  </a:lnTo>
                  <a:lnTo>
                    <a:pt x="18" y="500"/>
                  </a:lnTo>
                  <a:lnTo>
                    <a:pt x="41" y="618"/>
                  </a:lnTo>
                  <a:lnTo>
                    <a:pt x="70" y="714"/>
                  </a:lnTo>
                  <a:lnTo>
                    <a:pt x="99" y="798"/>
                  </a:lnTo>
                  <a:lnTo>
                    <a:pt x="111" y="815"/>
                  </a:lnTo>
                  <a:lnTo>
                    <a:pt x="129" y="837"/>
                  </a:lnTo>
                  <a:lnTo>
                    <a:pt x="122" y="724"/>
                  </a:lnTo>
                  <a:lnTo>
                    <a:pt x="122" y="613"/>
                  </a:lnTo>
                  <a:lnTo>
                    <a:pt x="116" y="494"/>
                  </a:lnTo>
                  <a:lnTo>
                    <a:pt x="116" y="382"/>
                  </a:lnTo>
                  <a:lnTo>
                    <a:pt x="105" y="263"/>
                  </a:lnTo>
                  <a:lnTo>
                    <a:pt x="99" y="162"/>
                  </a:lnTo>
                  <a:lnTo>
                    <a:pt x="88" y="7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4" name="Freeform 74"/>
            <p:cNvSpPr/>
            <p:nvPr/>
          </p:nvSpPr>
          <p:spPr>
            <a:xfrm>
              <a:off x="6409440" y="5233680"/>
              <a:ext cx="161280" cy="395640"/>
            </a:xfrm>
            <a:custGeom>
              <a:avLst/>
              <a:gdLst/>
              <a:ahLst/>
              <a:rect l="l" t="t" r="r" b="b"/>
              <a:pathLst>
                <a:path w="750" h="1699">
                  <a:moveTo>
                    <a:pt x="228" y="0"/>
                  </a:moveTo>
                  <a:lnTo>
                    <a:pt x="216" y="101"/>
                  </a:lnTo>
                  <a:lnTo>
                    <a:pt x="216" y="236"/>
                  </a:lnTo>
                  <a:lnTo>
                    <a:pt x="221" y="394"/>
                  </a:lnTo>
                  <a:lnTo>
                    <a:pt x="239" y="557"/>
                  </a:lnTo>
                  <a:lnTo>
                    <a:pt x="256" y="709"/>
                  </a:lnTo>
                  <a:lnTo>
                    <a:pt x="286" y="849"/>
                  </a:lnTo>
                  <a:lnTo>
                    <a:pt x="320" y="956"/>
                  </a:lnTo>
                  <a:lnTo>
                    <a:pt x="367" y="1018"/>
                  </a:lnTo>
                  <a:lnTo>
                    <a:pt x="327" y="1091"/>
                  </a:lnTo>
                  <a:lnTo>
                    <a:pt x="286" y="1164"/>
                  </a:lnTo>
                  <a:lnTo>
                    <a:pt x="239" y="1226"/>
                  </a:lnTo>
                  <a:lnTo>
                    <a:pt x="193" y="1293"/>
                  </a:lnTo>
                  <a:lnTo>
                    <a:pt x="140" y="1356"/>
                  </a:lnTo>
                  <a:lnTo>
                    <a:pt x="94" y="1417"/>
                  </a:lnTo>
                  <a:lnTo>
                    <a:pt x="41" y="1484"/>
                  </a:lnTo>
                  <a:lnTo>
                    <a:pt x="0" y="1557"/>
                  </a:lnTo>
                  <a:lnTo>
                    <a:pt x="13" y="1586"/>
                  </a:lnTo>
                  <a:lnTo>
                    <a:pt x="30" y="1619"/>
                  </a:lnTo>
                  <a:lnTo>
                    <a:pt x="48" y="1648"/>
                  </a:lnTo>
                  <a:lnTo>
                    <a:pt x="76" y="1675"/>
                  </a:lnTo>
                  <a:lnTo>
                    <a:pt x="129" y="1699"/>
                  </a:lnTo>
                  <a:lnTo>
                    <a:pt x="175" y="1682"/>
                  </a:lnTo>
                  <a:lnTo>
                    <a:pt x="216" y="1642"/>
                  </a:lnTo>
                  <a:lnTo>
                    <a:pt x="262" y="1597"/>
                  </a:lnTo>
                  <a:lnTo>
                    <a:pt x="297" y="1552"/>
                  </a:lnTo>
                  <a:lnTo>
                    <a:pt x="350" y="1501"/>
                  </a:lnTo>
                  <a:lnTo>
                    <a:pt x="413" y="1439"/>
                  </a:lnTo>
                  <a:lnTo>
                    <a:pt x="489" y="1378"/>
                  </a:lnTo>
                  <a:lnTo>
                    <a:pt x="553" y="1310"/>
                  </a:lnTo>
                  <a:lnTo>
                    <a:pt x="611" y="1248"/>
                  </a:lnTo>
                  <a:lnTo>
                    <a:pt x="652" y="1192"/>
                  </a:lnTo>
                  <a:lnTo>
                    <a:pt x="675" y="1158"/>
                  </a:lnTo>
                  <a:lnTo>
                    <a:pt x="675" y="1108"/>
                  </a:lnTo>
                  <a:lnTo>
                    <a:pt x="669" y="1057"/>
                  </a:lnTo>
                  <a:lnTo>
                    <a:pt x="657" y="995"/>
                  </a:lnTo>
                  <a:lnTo>
                    <a:pt x="664" y="939"/>
                  </a:lnTo>
                  <a:lnTo>
                    <a:pt x="669" y="871"/>
                  </a:lnTo>
                  <a:lnTo>
                    <a:pt x="680" y="804"/>
                  </a:lnTo>
                  <a:lnTo>
                    <a:pt x="698" y="726"/>
                  </a:lnTo>
                  <a:lnTo>
                    <a:pt x="721" y="647"/>
                  </a:lnTo>
                  <a:lnTo>
                    <a:pt x="733" y="562"/>
                  </a:lnTo>
                  <a:lnTo>
                    <a:pt x="750" y="478"/>
                  </a:lnTo>
                  <a:lnTo>
                    <a:pt x="750" y="394"/>
                  </a:lnTo>
                  <a:lnTo>
                    <a:pt x="745" y="321"/>
                  </a:lnTo>
                  <a:lnTo>
                    <a:pt x="692" y="242"/>
                  </a:lnTo>
                  <a:lnTo>
                    <a:pt x="639" y="225"/>
                  </a:lnTo>
                  <a:lnTo>
                    <a:pt x="599" y="220"/>
                  </a:lnTo>
                  <a:lnTo>
                    <a:pt x="553" y="214"/>
                  </a:lnTo>
                  <a:lnTo>
                    <a:pt x="518" y="208"/>
                  </a:lnTo>
                  <a:lnTo>
                    <a:pt x="471" y="180"/>
                  </a:lnTo>
                  <a:lnTo>
                    <a:pt x="436" y="157"/>
                  </a:lnTo>
                  <a:lnTo>
                    <a:pt x="401" y="130"/>
                  </a:lnTo>
                  <a:lnTo>
                    <a:pt x="367" y="101"/>
                  </a:lnTo>
                  <a:lnTo>
                    <a:pt x="332" y="73"/>
                  </a:lnTo>
                  <a:lnTo>
                    <a:pt x="297" y="45"/>
                  </a:lnTo>
                  <a:lnTo>
                    <a:pt x="262" y="17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5" name="Freeform 75"/>
            <p:cNvSpPr/>
            <p:nvPr/>
          </p:nvSpPr>
          <p:spPr>
            <a:xfrm>
              <a:off x="7060680" y="5264280"/>
              <a:ext cx="59400" cy="60120"/>
            </a:xfrm>
            <a:custGeom>
              <a:avLst/>
              <a:gdLst/>
              <a:ahLst/>
              <a:rect l="l" t="t" r="r" b="b"/>
              <a:pathLst>
                <a:path w="272" h="258">
                  <a:moveTo>
                    <a:pt x="180" y="0"/>
                  </a:moveTo>
                  <a:lnTo>
                    <a:pt x="122" y="10"/>
                  </a:lnTo>
                  <a:lnTo>
                    <a:pt x="69" y="50"/>
                  </a:lnTo>
                  <a:lnTo>
                    <a:pt x="23" y="95"/>
                  </a:lnTo>
                  <a:lnTo>
                    <a:pt x="5" y="152"/>
                  </a:lnTo>
                  <a:lnTo>
                    <a:pt x="0" y="196"/>
                  </a:lnTo>
                  <a:lnTo>
                    <a:pt x="11" y="235"/>
                  </a:lnTo>
                  <a:lnTo>
                    <a:pt x="34" y="252"/>
                  </a:lnTo>
                  <a:lnTo>
                    <a:pt x="86" y="258"/>
                  </a:lnTo>
                  <a:lnTo>
                    <a:pt x="92" y="252"/>
                  </a:lnTo>
                  <a:lnTo>
                    <a:pt x="104" y="252"/>
                  </a:lnTo>
                  <a:lnTo>
                    <a:pt x="110" y="247"/>
                  </a:lnTo>
                  <a:lnTo>
                    <a:pt x="99" y="247"/>
                  </a:lnTo>
                  <a:lnTo>
                    <a:pt x="157" y="218"/>
                  </a:lnTo>
                  <a:lnTo>
                    <a:pt x="208" y="186"/>
                  </a:lnTo>
                  <a:lnTo>
                    <a:pt x="243" y="140"/>
                  </a:lnTo>
                  <a:lnTo>
                    <a:pt x="267" y="101"/>
                  </a:lnTo>
                  <a:lnTo>
                    <a:pt x="272" y="56"/>
                  </a:lnTo>
                  <a:lnTo>
                    <a:pt x="261" y="22"/>
                  </a:lnTo>
                  <a:lnTo>
                    <a:pt x="22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6" name="Freeform 76"/>
            <p:cNvSpPr/>
            <p:nvPr/>
          </p:nvSpPr>
          <p:spPr>
            <a:xfrm>
              <a:off x="6660000" y="5378040"/>
              <a:ext cx="38880" cy="39240"/>
            </a:xfrm>
            <a:custGeom>
              <a:avLst/>
              <a:gdLst/>
              <a:ahLst/>
              <a:rect l="l" t="t" r="r" b="b"/>
              <a:pathLst>
                <a:path w="186" h="169">
                  <a:moveTo>
                    <a:pt x="76" y="0"/>
                  </a:moveTo>
                  <a:lnTo>
                    <a:pt x="52" y="29"/>
                  </a:lnTo>
                  <a:lnTo>
                    <a:pt x="29" y="57"/>
                  </a:lnTo>
                  <a:lnTo>
                    <a:pt x="11" y="85"/>
                  </a:lnTo>
                  <a:lnTo>
                    <a:pt x="6" y="118"/>
                  </a:lnTo>
                  <a:lnTo>
                    <a:pt x="0" y="135"/>
                  </a:lnTo>
                  <a:lnTo>
                    <a:pt x="11" y="159"/>
                  </a:lnTo>
                  <a:lnTo>
                    <a:pt x="41" y="164"/>
                  </a:lnTo>
                  <a:lnTo>
                    <a:pt x="99" y="169"/>
                  </a:lnTo>
                  <a:lnTo>
                    <a:pt x="151" y="152"/>
                  </a:lnTo>
                  <a:lnTo>
                    <a:pt x="180" y="135"/>
                  </a:lnTo>
                  <a:lnTo>
                    <a:pt x="186" y="108"/>
                  </a:lnTo>
                  <a:lnTo>
                    <a:pt x="180" y="85"/>
                  </a:lnTo>
                  <a:lnTo>
                    <a:pt x="157" y="57"/>
                  </a:lnTo>
                  <a:lnTo>
                    <a:pt x="133" y="34"/>
                  </a:lnTo>
                  <a:lnTo>
                    <a:pt x="99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7" name="Freeform 77"/>
            <p:cNvSpPr/>
            <p:nvPr/>
          </p:nvSpPr>
          <p:spPr>
            <a:xfrm>
              <a:off x="6595560" y="5380560"/>
              <a:ext cx="16560" cy="34200"/>
            </a:xfrm>
            <a:custGeom>
              <a:avLst/>
              <a:gdLst/>
              <a:ahLst/>
              <a:rect l="l" t="t" r="r" b="b"/>
              <a:pathLst>
                <a:path w="76" h="147">
                  <a:moveTo>
                    <a:pt x="23" y="0"/>
                  </a:moveTo>
                  <a:lnTo>
                    <a:pt x="11" y="51"/>
                  </a:lnTo>
                  <a:lnTo>
                    <a:pt x="0" y="106"/>
                  </a:lnTo>
                  <a:lnTo>
                    <a:pt x="0" y="123"/>
                  </a:lnTo>
                  <a:lnTo>
                    <a:pt x="5" y="140"/>
                  </a:lnTo>
                  <a:lnTo>
                    <a:pt x="17" y="147"/>
                  </a:lnTo>
                  <a:lnTo>
                    <a:pt x="51" y="147"/>
                  </a:lnTo>
                  <a:lnTo>
                    <a:pt x="76" y="113"/>
                  </a:lnTo>
                  <a:lnTo>
                    <a:pt x="69" y="73"/>
                  </a:lnTo>
                  <a:lnTo>
                    <a:pt x="4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8" name="Freeform 78"/>
            <p:cNvSpPr/>
            <p:nvPr/>
          </p:nvSpPr>
          <p:spPr>
            <a:xfrm>
              <a:off x="7323480" y="5390280"/>
              <a:ext cx="33120" cy="68760"/>
            </a:xfrm>
            <a:custGeom>
              <a:avLst/>
              <a:gdLst/>
              <a:ahLst/>
              <a:rect l="l" t="t" r="r" b="b"/>
              <a:pathLst>
                <a:path w="157" h="298">
                  <a:moveTo>
                    <a:pt x="41" y="0"/>
                  </a:moveTo>
                  <a:lnTo>
                    <a:pt x="0" y="298"/>
                  </a:lnTo>
                  <a:lnTo>
                    <a:pt x="29" y="292"/>
                  </a:lnTo>
                  <a:lnTo>
                    <a:pt x="58" y="287"/>
                  </a:lnTo>
                  <a:lnTo>
                    <a:pt x="87" y="287"/>
                  </a:lnTo>
                  <a:lnTo>
                    <a:pt x="110" y="287"/>
                  </a:lnTo>
                  <a:lnTo>
                    <a:pt x="127" y="236"/>
                  </a:lnTo>
                  <a:lnTo>
                    <a:pt x="145" y="186"/>
                  </a:lnTo>
                  <a:lnTo>
                    <a:pt x="152" y="141"/>
                  </a:lnTo>
                  <a:lnTo>
                    <a:pt x="157" y="108"/>
                  </a:lnTo>
                  <a:lnTo>
                    <a:pt x="140" y="67"/>
                  </a:lnTo>
                  <a:lnTo>
                    <a:pt x="122" y="40"/>
                  </a:lnTo>
                  <a:lnTo>
                    <a:pt x="87" y="1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9" name="Freeform 79"/>
            <p:cNvSpPr/>
            <p:nvPr/>
          </p:nvSpPr>
          <p:spPr>
            <a:xfrm>
              <a:off x="7300080" y="5392800"/>
              <a:ext cx="11520" cy="33120"/>
            </a:xfrm>
            <a:custGeom>
              <a:avLst/>
              <a:gdLst/>
              <a:ahLst/>
              <a:rect l="l" t="t" r="r" b="b"/>
              <a:pathLst>
                <a:path w="51" h="145">
                  <a:moveTo>
                    <a:pt x="17" y="0"/>
                  </a:moveTo>
                  <a:lnTo>
                    <a:pt x="5" y="3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28" y="145"/>
                  </a:lnTo>
                  <a:lnTo>
                    <a:pt x="51" y="101"/>
                  </a:lnTo>
                  <a:lnTo>
                    <a:pt x="46" y="62"/>
                  </a:lnTo>
                  <a:lnTo>
                    <a:pt x="23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0" name="Freeform 80"/>
            <p:cNvSpPr/>
            <p:nvPr/>
          </p:nvSpPr>
          <p:spPr>
            <a:xfrm>
              <a:off x="7788600" y="5392800"/>
              <a:ext cx="83880" cy="126720"/>
            </a:xfrm>
            <a:custGeom>
              <a:avLst/>
              <a:gdLst/>
              <a:ahLst/>
              <a:rect l="l" t="t" r="r" b="b"/>
              <a:pathLst>
                <a:path w="389" h="545">
                  <a:moveTo>
                    <a:pt x="215" y="0"/>
                  </a:moveTo>
                  <a:lnTo>
                    <a:pt x="175" y="33"/>
                  </a:lnTo>
                  <a:lnTo>
                    <a:pt x="140" y="72"/>
                  </a:lnTo>
                  <a:lnTo>
                    <a:pt x="104" y="118"/>
                  </a:lnTo>
                  <a:lnTo>
                    <a:pt x="81" y="168"/>
                  </a:lnTo>
                  <a:lnTo>
                    <a:pt x="52" y="213"/>
                  </a:lnTo>
                  <a:lnTo>
                    <a:pt x="35" y="263"/>
                  </a:lnTo>
                  <a:lnTo>
                    <a:pt x="18" y="320"/>
                  </a:lnTo>
                  <a:lnTo>
                    <a:pt x="0" y="376"/>
                  </a:lnTo>
                  <a:lnTo>
                    <a:pt x="52" y="415"/>
                  </a:lnTo>
                  <a:lnTo>
                    <a:pt x="104" y="455"/>
                  </a:lnTo>
                  <a:lnTo>
                    <a:pt x="127" y="472"/>
                  </a:lnTo>
                  <a:lnTo>
                    <a:pt x="157" y="489"/>
                  </a:lnTo>
                  <a:lnTo>
                    <a:pt x="186" y="506"/>
                  </a:lnTo>
                  <a:lnTo>
                    <a:pt x="226" y="528"/>
                  </a:lnTo>
                  <a:lnTo>
                    <a:pt x="290" y="545"/>
                  </a:lnTo>
                  <a:lnTo>
                    <a:pt x="343" y="533"/>
                  </a:lnTo>
                  <a:lnTo>
                    <a:pt x="372" y="494"/>
                  </a:lnTo>
                  <a:lnTo>
                    <a:pt x="389" y="444"/>
                  </a:lnTo>
                  <a:lnTo>
                    <a:pt x="389" y="376"/>
                  </a:lnTo>
                  <a:lnTo>
                    <a:pt x="383" y="309"/>
                  </a:lnTo>
                  <a:lnTo>
                    <a:pt x="366" y="236"/>
                  </a:lnTo>
                  <a:lnTo>
                    <a:pt x="348" y="179"/>
                  </a:lnTo>
                  <a:lnTo>
                    <a:pt x="314" y="129"/>
                  </a:lnTo>
                  <a:lnTo>
                    <a:pt x="279" y="89"/>
                  </a:lnTo>
                  <a:lnTo>
                    <a:pt x="244" y="3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1" name="Freeform 81"/>
            <p:cNvSpPr/>
            <p:nvPr/>
          </p:nvSpPr>
          <p:spPr>
            <a:xfrm>
              <a:off x="6810120" y="5405040"/>
              <a:ext cx="188640" cy="479160"/>
            </a:xfrm>
            <a:custGeom>
              <a:avLst/>
              <a:gdLst/>
              <a:ahLst/>
              <a:rect l="l" t="t" r="r" b="b"/>
              <a:pathLst>
                <a:path w="878" h="2059">
                  <a:moveTo>
                    <a:pt x="0" y="0"/>
                  </a:moveTo>
                  <a:lnTo>
                    <a:pt x="0" y="51"/>
                  </a:lnTo>
                  <a:lnTo>
                    <a:pt x="0" y="102"/>
                  </a:lnTo>
                  <a:lnTo>
                    <a:pt x="0" y="158"/>
                  </a:lnTo>
                  <a:lnTo>
                    <a:pt x="6" y="220"/>
                  </a:lnTo>
                  <a:lnTo>
                    <a:pt x="6" y="270"/>
                  </a:lnTo>
                  <a:lnTo>
                    <a:pt x="18" y="326"/>
                  </a:lnTo>
                  <a:lnTo>
                    <a:pt x="24" y="383"/>
                  </a:lnTo>
                  <a:lnTo>
                    <a:pt x="41" y="439"/>
                  </a:lnTo>
                  <a:lnTo>
                    <a:pt x="47" y="461"/>
                  </a:lnTo>
                  <a:lnTo>
                    <a:pt x="59" y="490"/>
                  </a:lnTo>
                  <a:lnTo>
                    <a:pt x="76" y="524"/>
                  </a:lnTo>
                  <a:lnTo>
                    <a:pt x="94" y="557"/>
                  </a:lnTo>
                  <a:lnTo>
                    <a:pt x="105" y="591"/>
                  </a:lnTo>
                  <a:lnTo>
                    <a:pt x="117" y="625"/>
                  </a:lnTo>
                  <a:lnTo>
                    <a:pt x="122" y="664"/>
                  </a:lnTo>
                  <a:lnTo>
                    <a:pt x="134" y="709"/>
                  </a:lnTo>
                  <a:lnTo>
                    <a:pt x="140" y="861"/>
                  </a:lnTo>
                  <a:lnTo>
                    <a:pt x="145" y="1024"/>
                  </a:lnTo>
                  <a:lnTo>
                    <a:pt x="151" y="1187"/>
                  </a:lnTo>
                  <a:lnTo>
                    <a:pt x="163" y="1356"/>
                  </a:lnTo>
                  <a:lnTo>
                    <a:pt x="168" y="1513"/>
                  </a:lnTo>
                  <a:lnTo>
                    <a:pt x="181" y="1677"/>
                  </a:lnTo>
                  <a:lnTo>
                    <a:pt x="198" y="1828"/>
                  </a:lnTo>
                  <a:lnTo>
                    <a:pt x="216" y="1980"/>
                  </a:lnTo>
                  <a:lnTo>
                    <a:pt x="297" y="1963"/>
                  </a:lnTo>
                  <a:lnTo>
                    <a:pt x="384" y="1963"/>
                  </a:lnTo>
                  <a:lnTo>
                    <a:pt x="459" y="1963"/>
                  </a:lnTo>
                  <a:lnTo>
                    <a:pt x="535" y="1980"/>
                  </a:lnTo>
                  <a:lnTo>
                    <a:pt x="604" y="1991"/>
                  </a:lnTo>
                  <a:lnTo>
                    <a:pt x="675" y="2008"/>
                  </a:lnTo>
                  <a:lnTo>
                    <a:pt x="744" y="2030"/>
                  </a:lnTo>
                  <a:lnTo>
                    <a:pt x="814" y="2059"/>
                  </a:lnTo>
                  <a:lnTo>
                    <a:pt x="825" y="2047"/>
                  </a:lnTo>
                  <a:lnTo>
                    <a:pt x="855" y="2030"/>
                  </a:lnTo>
                  <a:lnTo>
                    <a:pt x="878" y="1996"/>
                  </a:lnTo>
                  <a:lnTo>
                    <a:pt x="866" y="1969"/>
                  </a:lnTo>
                  <a:lnTo>
                    <a:pt x="837" y="1895"/>
                  </a:lnTo>
                  <a:lnTo>
                    <a:pt x="814" y="1743"/>
                  </a:lnTo>
                  <a:lnTo>
                    <a:pt x="784" y="1530"/>
                  </a:lnTo>
                  <a:lnTo>
                    <a:pt x="761" y="1294"/>
                  </a:lnTo>
                  <a:lnTo>
                    <a:pt x="733" y="1047"/>
                  </a:lnTo>
                  <a:lnTo>
                    <a:pt x="715" y="821"/>
                  </a:lnTo>
                  <a:lnTo>
                    <a:pt x="698" y="642"/>
                  </a:lnTo>
                  <a:lnTo>
                    <a:pt x="692" y="541"/>
                  </a:lnTo>
                  <a:lnTo>
                    <a:pt x="686" y="502"/>
                  </a:lnTo>
                  <a:lnTo>
                    <a:pt x="686" y="468"/>
                  </a:lnTo>
                  <a:lnTo>
                    <a:pt x="686" y="434"/>
                  </a:lnTo>
                  <a:lnTo>
                    <a:pt x="692" y="400"/>
                  </a:lnTo>
                  <a:lnTo>
                    <a:pt x="686" y="366"/>
                  </a:lnTo>
                  <a:lnTo>
                    <a:pt x="686" y="333"/>
                  </a:lnTo>
                  <a:lnTo>
                    <a:pt x="675" y="299"/>
                  </a:lnTo>
                  <a:lnTo>
                    <a:pt x="669" y="282"/>
                  </a:lnTo>
                  <a:lnTo>
                    <a:pt x="622" y="242"/>
                  </a:lnTo>
                  <a:lnTo>
                    <a:pt x="553" y="203"/>
                  </a:lnTo>
                  <a:lnTo>
                    <a:pt x="465" y="158"/>
                  </a:lnTo>
                  <a:lnTo>
                    <a:pt x="366" y="119"/>
                  </a:lnTo>
                  <a:lnTo>
                    <a:pt x="256" y="80"/>
                  </a:lnTo>
                  <a:lnTo>
                    <a:pt x="157" y="46"/>
                  </a:lnTo>
                  <a:lnTo>
                    <a:pt x="6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2" name="Freeform 82"/>
            <p:cNvSpPr/>
            <p:nvPr/>
          </p:nvSpPr>
          <p:spPr>
            <a:xfrm>
              <a:off x="7983720" y="5422320"/>
              <a:ext cx="70920" cy="103320"/>
            </a:xfrm>
            <a:custGeom>
              <a:avLst/>
              <a:gdLst/>
              <a:ahLst/>
              <a:rect l="l" t="t" r="r" b="b"/>
              <a:pathLst>
                <a:path w="332" h="444">
                  <a:moveTo>
                    <a:pt x="105" y="0"/>
                  </a:moveTo>
                  <a:lnTo>
                    <a:pt x="65" y="45"/>
                  </a:lnTo>
                  <a:lnTo>
                    <a:pt x="30" y="117"/>
                  </a:lnTo>
                  <a:lnTo>
                    <a:pt x="7" y="196"/>
                  </a:lnTo>
                  <a:lnTo>
                    <a:pt x="0" y="286"/>
                  </a:lnTo>
                  <a:lnTo>
                    <a:pt x="7" y="360"/>
                  </a:lnTo>
                  <a:lnTo>
                    <a:pt x="47" y="416"/>
                  </a:lnTo>
                  <a:lnTo>
                    <a:pt x="116" y="444"/>
                  </a:lnTo>
                  <a:lnTo>
                    <a:pt x="222" y="438"/>
                  </a:lnTo>
                  <a:lnTo>
                    <a:pt x="296" y="394"/>
                  </a:lnTo>
                  <a:lnTo>
                    <a:pt x="332" y="343"/>
                  </a:lnTo>
                  <a:lnTo>
                    <a:pt x="326" y="281"/>
                  </a:lnTo>
                  <a:lnTo>
                    <a:pt x="303" y="219"/>
                  </a:lnTo>
                  <a:lnTo>
                    <a:pt x="256" y="151"/>
                  </a:lnTo>
                  <a:lnTo>
                    <a:pt x="204" y="90"/>
                  </a:lnTo>
                  <a:lnTo>
                    <a:pt x="146" y="3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3" name="Freeform 83"/>
            <p:cNvSpPr/>
            <p:nvPr/>
          </p:nvSpPr>
          <p:spPr>
            <a:xfrm>
              <a:off x="6616440" y="5432040"/>
              <a:ext cx="163800" cy="410040"/>
            </a:xfrm>
            <a:custGeom>
              <a:avLst/>
              <a:gdLst/>
              <a:ahLst/>
              <a:rect l="l" t="t" r="r" b="b"/>
              <a:pathLst>
                <a:path w="767" h="1765">
                  <a:moveTo>
                    <a:pt x="581" y="0"/>
                  </a:moveTo>
                  <a:lnTo>
                    <a:pt x="505" y="0"/>
                  </a:lnTo>
                  <a:lnTo>
                    <a:pt x="429" y="11"/>
                  </a:lnTo>
                  <a:lnTo>
                    <a:pt x="354" y="17"/>
                  </a:lnTo>
                  <a:lnTo>
                    <a:pt x="284" y="28"/>
                  </a:lnTo>
                  <a:lnTo>
                    <a:pt x="209" y="28"/>
                  </a:lnTo>
                  <a:lnTo>
                    <a:pt x="140" y="34"/>
                  </a:lnTo>
                  <a:lnTo>
                    <a:pt x="75" y="22"/>
                  </a:lnTo>
                  <a:lnTo>
                    <a:pt x="23" y="11"/>
                  </a:lnTo>
                  <a:lnTo>
                    <a:pt x="6" y="135"/>
                  </a:lnTo>
                  <a:lnTo>
                    <a:pt x="0" y="287"/>
                  </a:lnTo>
                  <a:lnTo>
                    <a:pt x="0" y="461"/>
                  </a:lnTo>
                  <a:lnTo>
                    <a:pt x="0" y="652"/>
                  </a:lnTo>
                  <a:lnTo>
                    <a:pt x="0" y="838"/>
                  </a:lnTo>
                  <a:lnTo>
                    <a:pt x="6" y="1029"/>
                  </a:lnTo>
                  <a:lnTo>
                    <a:pt x="17" y="1209"/>
                  </a:lnTo>
                  <a:lnTo>
                    <a:pt x="34" y="1378"/>
                  </a:lnTo>
                  <a:lnTo>
                    <a:pt x="34" y="1422"/>
                  </a:lnTo>
                  <a:lnTo>
                    <a:pt x="46" y="1468"/>
                  </a:lnTo>
                  <a:lnTo>
                    <a:pt x="52" y="1513"/>
                  </a:lnTo>
                  <a:lnTo>
                    <a:pt x="64" y="1564"/>
                  </a:lnTo>
                  <a:lnTo>
                    <a:pt x="69" y="1608"/>
                  </a:lnTo>
                  <a:lnTo>
                    <a:pt x="75" y="1653"/>
                  </a:lnTo>
                  <a:lnTo>
                    <a:pt x="75" y="1704"/>
                  </a:lnTo>
                  <a:lnTo>
                    <a:pt x="75" y="1755"/>
                  </a:lnTo>
                  <a:lnTo>
                    <a:pt x="92" y="1748"/>
                  </a:lnTo>
                  <a:lnTo>
                    <a:pt x="127" y="1748"/>
                  </a:lnTo>
                  <a:lnTo>
                    <a:pt x="163" y="1743"/>
                  </a:lnTo>
                  <a:lnTo>
                    <a:pt x="197" y="1743"/>
                  </a:lnTo>
                  <a:lnTo>
                    <a:pt x="232" y="1743"/>
                  </a:lnTo>
                  <a:lnTo>
                    <a:pt x="272" y="1743"/>
                  </a:lnTo>
                  <a:lnTo>
                    <a:pt x="308" y="1743"/>
                  </a:lnTo>
                  <a:lnTo>
                    <a:pt x="354" y="1743"/>
                  </a:lnTo>
                  <a:lnTo>
                    <a:pt x="348" y="1704"/>
                  </a:lnTo>
                  <a:lnTo>
                    <a:pt x="348" y="1659"/>
                  </a:lnTo>
                  <a:lnTo>
                    <a:pt x="348" y="1608"/>
                  </a:lnTo>
                  <a:lnTo>
                    <a:pt x="354" y="1564"/>
                  </a:lnTo>
                  <a:lnTo>
                    <a:pt x="354" y="1513"/>
                  </a:lnTo>
                  <a:lnTo>
                    <a:pt x="354" y="1462"/>
                  </a:lnTo>
                  <a:lnTo>
                    <a:pt x="354" y="1412"/>
                  </a:lnTo>
                  <a:lnTo>
                    <a:pt x="354" y="1366"/>
                  </a:lnTo>
                  <a:lnTo>
                    <a:pt x="343" y="1282"/>
                  </a:lnTo>
                  <a:lnTo>
                    <a:pt x="336" y="1198"/>
                  </a:lnTo>
                  <a:lnTo>
                    <a:pt x="331" y="1113"/>
                  </a:lnTo>
                  <a:lnTo>
                    <a:pt x="331" y="1029"/>
                  </a:lnTo>
                  <a:lnTo>
                    <a:pt x="325" y="939"/>
                  </a:lnTo>
                  <a:lnTo>
                    <a:pt x="325" y="850"/>
                  </a:lnTo>
                  <a:lnTo>
                    <a:pt x="320" y="754"/>
                  </a:lnTo>
                  <a:lnTo>
                    <a:pt x="320" y="658"/>
                  </a:lnTo>
                  <a:lnTo>
                    <a:pt x="313" y="619"/>
                  </a:lnTo>
                  <a:lnTo>
                    <a:pt x="313" y="585"/>
                  </a:lnTo>
                  <a:lnTo>
                    <a:pt x="313" y="563"/>
                  </a:lnTo>
                  <a:lnTo>
                    <a:pt x="320" y="546"/>
                  </a:lnTo>
                  <a:lnTo>
                    <a:pt x="343" y="517"/>
                  </a:lnTo>
                  <a:lnTo>
                    <a:pt x="383" y="490"/>
                  </a:lnTo>
                  <a:lnTo>
                    <a:pt x="406" y="635"/>
                  </a:lnTo>
                  <a:lnTo>
                    <a:pt x="429" y="799"/>
                  </a:lnTo>
                  <a:lnTo>
                    <a:pt x="441" y="973"/>
                  </a:lnTo>
                  <a:lnTo>
                    <a:pt x="452" y="1152"/>
                  </a:lnTo>
                  <a:lnTo>
                    <a:pt x="452" y="1327"/>
                  </a:lnTo>
                  <a:lnTo>
                    <a:pt x="452" y="1496"/>
                  </a:lnTo>
                  <a:lnTo>
                    <a:pt x="452" y="1642"/>
                  </a:lnTo>
                  <a:lnTo>
                    <a:pt x="465" y="1765"/>
                  </a:lnTo>
                  <a:lnTo>
                    <a:pt x="493" y="1760"/>
                  </a:lnTo>
                  <a:lnTo>
                    <a:pt x="528" y="1755"/>
                  </a:lnTo>
                  <a:lnTo>
                    <a:pt x="563" y="1748"/>
                  </a:lnTo>
                  <a:lnTo>
                    <a:pt x="604" y="1748"/>
                  </a:lnTo>
                  <a:lnTo>
                    <a:pt x="639" y="1743"/>
                  </a:lnTo>
                  <a:lnTo>
                    <a:pt x="680" y="1743"/>
                  </a:lnTo>
                  <a:lnTo>
                    <a:pt x="720" y="1743"/>
                  </a:lnTo>
                  <a:lnTo>
                    <a:pt x="767" y="1743"/>
                  </a:lnTo>
                  <a:lnTo>
                    <a:pt x="761" y="1496"/>
                  </a:lnTo>
                  <a:lnTo>
                    <a:pt x="756" y="1265"/>
                  </a:lnTo>
                  <a:lnTo>
                    <a:pt x="743" y="1046"/>
                  </a:lnTo>
                  <a:lnTo>
                    <a:pt x="731" y="843"/>
                  </a:lnTo>
                  <a:lnTo>
                    <a:pt x="714" y="635"/>
                  </a:lnTo>
                  <a:lnTo>
                    <a:pt x="708" y="433"/>
                  </a:lnTo>
                  <a:lnTo>
                    <a:pt x="703" y="225"/>
                  </a:lnTo>
                  <a:lnTo>
                    <a:pt x="703" y="11"/>
                  </a:lnTo>
                  <a:lnTo>
                    <a:pt x="673" y="6"/>
                  </a:lnTo>
                  <a:lnTo>
                    <a:pt x="645" y="6"/>
                  </a:lnTo>
                  <a:lnTo>
                    <a:pt x="609" y="0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4" name="Freeform 84"/>
            <p:cNvSpPr/>
            <p:nvPr/>
          </p:nvSpPr>
          <p:spPr>
            <a:xfrm>
              <a:off x="7555680" y="5438160"/>
              <a:ext cx="54360" cy="77400"/>
            </a:xfrm>
            <a:custGeom>
              <a:avLst/>
              <a:gdLst/>
              <a:ahLst/>
              <a:rect l="l" t="t" r="r" b="b"/>
              <a:pathLst>
                <a:path w="250" h="332">
                  <a:moveTo>
                    <a:pt x="0" y="0"/>
                  </a:moveTo>
                  <a:lnTo>
                    <a:pt x="6" y="34"/>
                  </a:lnTo>
                  <a:lnTo>
                    <a:pt x="12" y="79"/>
                  </a:lnTo>
                  <a:lnTo>
                    <a:pt x="12" y="124"/>
                  </a:lnTo>
                  <a:lnTo>
                    <a:pt x="29" y="163"/>
                  </a:lnTo>
                  <a:lnTo>
                    <a:pt x="40" y="180"/>
                  </a:lnTo>
                  <a:lnTo>
                    <a:pt x="64" y="209"/>
                  </a:lnTo>
                  <a:lnTo>
                    <a:pt x="98" y="231"/>
                  </a:lnTo>
                  <a:lnTo>
                    <a:pt x="134" y="259"/>
                  </a:lnTo>
                  <a:lnTo>
                    <a:pt x="163" y="281"/>
                  </a:lnTo>
                  <a:lnTo>
                    <a:pt x="197" y="304"/>
                  </a:lnTo>
                  <a:lnTo>
                    <a:pt x="220" y="315"/>
                  </a:lnTo>
                  <a:lnTo>
                    <a:pt x="244" y="332"/>
                  </a:lnTo>
                  <a:lnTo>
                    <a:pt x="250" y="236"/>
                  </a:lnTo>
                  <a:lnTo>
                    <a:pt x="250" y="169"/>
                  </a:lnTo>
                  <a:lnTo>
                    <a:pt x="244" y="113"/>
                  </a:lnTo>
                  <a:lnTo>
                    <a:pt x="227" y="74"/>
                  </a:lnTo>
                  <a:lnTo>
                    <a:pt x="192" y="40"/>
                  </a:lnTo>
                  <a:lnTo>
                    <a:pt x="146" y="23"/>
                  </a:lnTo>
                  <a:lnTo>
                    <a:pt x="7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5" name="Freeform 85"/>
            <p:cNvSpPr/>
            <p:nvPr/>
          </p:nvSpPr>
          <p:spPr>
            <a:xfrm>
              <a:off x="7435800" y="5438160"/>
              <a:ext cx="282960" cy="527400"/>
            </a:xfrm>
            <a:custGeom>
              <a:avLst/>
              <a:gdLst/>
              <a:ahLst/>
              <a:rect l="l" t="t" r="r" b="b"/>
              <a:pathLst>
                <a:path w="1313" h="2266">
                  <a:moveTo>
                    <a:pt x="930" y="0"/>
                  </a:moveTo>
                  <a:lnTo>
                    <a:pt x="907" y="17"/>
                  </a:lnTo>
                  <a:lnTo>
                    <a:pt x="889" y="62"/>
                  </a:lnTo>
                  <a:lnTo>
                    <a:pt x="872" y="107"/>
                  </a:lnTo>
                  <a:lnTo>
                    <a:pt x="866" y="175"/>
                  </a:lnTo>
                  <a:lnTo>
                    <a:pt x="854" y="236"/>
                  </a:lnTo>
                  <a:lnTo>
                    <a:pt x="854" y="298"/>
                  </a:lnTo>
                  <a:lnTo>
                    <a:pt x="854" y="349"/>
                  </a:lnTo>
                  <a:lnTo>
                    <a:pt x="866" y="400"/>
                  </a:lnTo>
                  <a:lnTo>
                    <a:pt x="872" y="411"/>
                  </a:lnTo>
                  <a:lnTo>
                    <a:pt x="889" y="439"/>
                  </a:lnTo>
                  <a:lnTo>
                    <a:pt x="919" y="462"/>
                  </a:lnTo>
                  <a:lnTo>
                    <a:pt x="953" y="496"/>
                  </a:lnTo>
                  <a:lnTo>
                    <a:pt x="982" y="523"/>
                  </a:lnTo>
                  <a:lnTo>
                    <a:pt x="1017" y="551"/>
                  </a:lnTo>
                  <a:lnTo>
                    <a:pt x="1034" y="568"/>
                  </a:lnTo>
                  <a:lnTo>
                    <a:pt x="1052" y="591"/>
                  </a:lnTo>
                  <a:lnTo>
                    <a:pt x="1052" y="619"/>
                  </a:lnTo>
                  <a:lnTo>
                    <a:pt x="1052" y="670"/>
                  </a:lnTo>
                  <a:lnTo>
                    <a:pt x="1046" y="697"/>
                  </a:lnTo>
                  <a:lnTo>
                    <a:pt x="1046" y="726"/>
                  </a:lnTo>
                  <a:lnTo>
                    <a:pt x="1046" y="754"/>
                  </a:lnTo>
                  <a:lnTo>
                    <a:pt x="1052" y="781"/>
                  </a:lnTo>
                  <a:lnTo>
                    <a:pt x="1052" y="815"/>
                  </a:lnTo>
                  <a:lnTo>
                    <a:pt x="1064" y="861"/>
                  </a:lnTo>
                  <a:lnTo>
                    <a:pt x="1069" y="894"/>
                  </a:lnTo>
                  <a:lnTo>
                    <a:pt x="1081" y="940"/>
                  </a:lnTo>
                  <a:lnTo>
                    <a:pt x="1092" y="973"/>
                  </a:lnTo>
                  <a:lnTo>
                    <a:pt x="1104" y="1018"/>
                  </a:lnTo>
                  <a:lnTo>
                    <a:pt x="1115" y="1052"/>
                  </a:lnTo>
                  <a:lnTo>
                    <a:pt x="1133" y="1097"/>
                  </a:lnTo>
                  <a:lnTo>
                    <a:pt x="1069" y="1107"/>
                  </a:lnTo>
                  <a:lnTo>
                    <a:pt x="1023" y="1119"/>
                  </a:lnTo>
                  <a:lnTo>
                    <a:pt x="970" y="1124"/>
                  </a:lnTo>
                  <a:lnTo>
                    <a:pt x="930" y="1131"/>
                  </a:lnTo>
                  <a:lnTo>
                    <a:pt x="884" y="1131"/>
                  </a:lnTo>
                  <a:lnTo>
                    <a:pt x="836" y="1131"/>
                  </a:lnTo>
                  <a:lnTo>
                    <a:pt x="790" y="1136"/>
                  </a:lnTo>
                  <a:lnTo>
                    <a:pt x="744" y="1147"/>
                  </a:lnTo>
                  <a:lnTo>
                    <a:pt x="732" y="1259"/>
                  </a:lnTo>
                  <a:lnTo>
                    <a:pt x="732" y="1389"/>
                  </a:lnTo>
                  <a:lnTo>
                    <a:pt x="738" y="1524"/>
                  </a:lnTo>
                  <a:lnTo>
                    <a:pt x="744" y="1670"/>
                  </a:lnTo>
                  <a:lnTo>
                    <a:pt x="744" y="1805"/>
                  </a:lnTo>
                  <a:lnTo>
                    <a:pt x="744" y="1940"/>
                  </a:lnTo>
                  <a:lnTo>
                    <a:pt x="738" y="2058"/>
                  </a:lnTo>
                  <a:lnTo>
                    <a:pt x="732" y="2164"/>
                  </a:lnTo>
                  <a:lnTo>
                    <a:pt x="709" y="2120"/>
                  </a:lnTo>
                  <a:lnTo>
                    <a:pt x="692" y="2075"/>
                  </a:lnTo>
                  <a:lnTo>
                    <a:pt x="681" y="2019"/>
                  </a:lnTo>
                  <a:lnTo>
                    <a:pt x="681" y="1968"/>
                  </a:lnTo>
                  <a:lnTo>
                    <a:pt x="681" y="1906"/>
                  </a:lnTo>
                  <a:lnTo>
                    <a:pt x="681" y="1850"/>
                  </a:lnTo>
                  <a:lnTo>
                    <a:pt x="681" y="1788"/>
                  </a:lnTo>
                  <a:lnTo>
                    <a:pt x="681" y="1727"/>
                  </a:lnTo>
                  <a:lnTo>
                    <a:pt x="668" y="1648"/>
                  </a:lnTo>
                  <a:lnTo>
                    <a:pt x="663" y="1563"/>
                  </a:lnTo>
                  <a:lnTo>
                    <a:pt x="651" y="1473"/>
                  </a:lnTo>
                  <a:lnTo>
                    <a:pt x="651" y="1389"/>
                  </a:lnTo>
                  <a:lnTo>
                    <a:pt x="651" y="1293"/>
                  </a:lnTo>
                  <a:lnTo>
                    <a:pt x="651" y="1209"/>
                  </a:lnTo>
                  <a:lnTo>
                    <a:pt x="651" y="1119"/>
                  </a:lnTo>
                  <a:lnTo>
                    <a:pt x="663" y="1040"/>
                  </a:lnTo>
                  <a:lnTo>
                    <a:pt x="697" y="1029"/>
                  </a:lnTo>
                  <a:lnTo>
                    <a:pt x="721" y="1024"/>
                  </a:lnTo>
                  <a:lnTo>
                    <a:pt x="732" y="1012"/>
                  </a:lnTo>
                  <a:lnTo>
                    <a:pt x="738" y="1001"/>
                  </a:lnTo>
                  <a:lnTo>
                    <a:pt x="732" y="979"/>
                  </a:lnTo>
                  <a:lnTo>
                    <a:pt x="732" y="957"/>
                  </a:lnTo>
                  <a:lnTo>
                    <a:pt x="732" y="923"/>
                  </a:lnTo>
                  <a:lnTo>
                    <a:pt x="744" y="889"/>
                  </a:lnTo>
                  <a:lnTo>
                    <a:pt x="778" y="877"/>
                  </a:lnTo>
                  <a:lnTo>
                    <a:pt x="808" y="866"/>
                  </a:lnTo>
                  <a:lnTo>
                    <a:pt x="831" y="849"/>
                  </a:lnTo>
                  <a:lnTo>
                    <a:pt x="854" y="832"/>
                  </a:lnTo>
                  <a:lnTo>
                    <a:pt x="861" y="805"/>
                  </a:lnTo>
                  <a:lnTo>
                    <a:pt x="877" y="776"/>
                  </a:lnTo>
                  <a:lnTo>
                    <a:pt x="889" y="742"/>
                  </a:lnTo>
                  <a:lnTo>
                    <a:pt x="907" y="709"/>
                  </a:lnTo>
                  <a:lnTo>
                    <a:pt x="912" y="653"/>
                  </a:lnTo>
                  <a:lnTo>
                    <a:pt x="907" y="613"/>
                  </a:lnTo>
                  <a:lnTo>
                    <a:pt x="889" y="574"/>
                  </a:lnTo>
                  <a:lnTo>
                    <a:pt x="877" y="545"/>
                  </a:lnTo>
                  <a:lnTo>
                    <a:pt x="849" y="511"/>
                  </a:lnTo>
                  <a:lnTo>
                    <a:pt x="820" y="479"/>
                  </a:lnTo>
                  <a:lnTo>
                    <a:pt x="790" y="445"/>
                  </a:lnTo>
                  <a:lnTo>
                    <a:pt x="773" y="411"/>
                  </a:lnTo>
                  <a:lnTo>
                    <a:pt x="715" y="416"/>
                  </a:lnTo>
                  <a:lnTo>
                    <a:pt x="656" y="422"/>
                  </a:lnTo>
                  <a:lnTo>
                    <a:pt x="598" y="416"/>
                  </a:lnTo>
                  <a:lnTo>
                    <a:pt x="547" y="416"/>
                  </a:lnTo>
                  <a:lnTo>
                    <a:pt x="488" y="405"/>
                  </a:lnTo>
                  <a:lnTo>
                    <a:pt x="430" y="394"/>
                  </a:lnTo>
                  <a:lnTo>
                    <a:pt x="372" y="377"/>
                  </a:lnTo>
                  <a:lnTo>
                    <a:pt x="319" y="371"/>
                  </a:lnTo>
                  <a:lnTo>
                    <a:pt x="261" y="366"/>
                  </a:lnTo>
                  <a:lnTo>
                    <a:pt x="227" y="388"/>
                  </a:lnTo>
                  <a:lnTo>
                    <a:pt x="203" y="422"/>
                  </a:lnTo>
                  <a:lnTo>
                    <a:pt x="192" y="472"/>
                  </a:lnTo>
                  <a:lnTo>
                    <a:pt x="180" y="523"/>
                  </a:lnTo>
                  <a:lnTo>
                    <a:pt x="180" y="585"/>
                  </a:lnTo>
                  <a:lnTo>
                    <a:pt x="174" y="646"/>
                  </a:lnTo>
                  <a:lnTo>
                    <a:pt x="174" y="709"/>
                  </a:lnTo>
                  <a:lnTo>
                    <a:pt x="146" y="894"/>
                  </a:lnTo>
                  <a:lnTo>
                    <a:pt x="116" y="1080"/>
                  </a:lnTo>
                  <a:lnTo>
                    <a:pt x="81" y="1266"/>
                  </a:lnTo>
                  <a:lnTo>
                    <a:pt x="58" y="1451"/>
                  </a:lnTo>
                  <a:lnTo>
                    <a:pt x="29" y="1636"/>
                  </a:lnTo>
                  <a:lnTo>
                    <a:pt x="12" y="1833"/>
                  </a:lnTo>
                  <a:lnTo>
                    <a:pt x="0" y="2030"/>
                  </a:lnTo>
                  <a:lnTo>
                    <a:pt x="0" y="2238"/>
                  </a:lnTo>
                  <a:lnTo>
                    <a:pt x="52" y="2221"/>
                  </a:lnTo>
                  <a:lnTo>
                    <a:pt x="116" y="2205"/>
                  </a:lnTo>
                  <a:lnTo>
                    <a:pt x="180" y="2188"/>
                  </a:lnTo>
                  <a:lnTo>
                    <a:pt x="250" y="2171"/>
                  </a:lnTo>
                  <a:lnTo>
                    <a:pt x="314" y="2154"/>
                  </a:lnTo>
                  <a:lnTo>
                    <a:pt x="384" y="2148"/>
                  </a:lnTo>
                  <a:lnTo>
                    <a:pt x="448" y="2142"/>
                  </a:lnTo>
                  <a:lnTo>
                    <a:pt x="517" y="2148"/>
                  </a:lnTo>
                  <a:lnTo>
                    <a:pt x="552" y="2148"/>
                  </a:lnTo>
                  <a:lnTo>
                    <a:pt x="598" y="2164"/>
                  </a:lnTo>
                  <a:lnTo>
                    <a:pt x="645" y="2181"/>
                  </a:lnTo>
                  <a:lnTo>
                    <a:pt x="697" y="2205"/>
                  </a:lnTo>
                  <a:lnTo>
                    <a:pt x="744" y="2221"/>
                  </a:lnTo>
                  <a:lnTo>
                    <a:pt x="790" y="2238"/>
                  </a:lnTo>
                  <a:lnTo>
                    <a:pt x="836" y="2249"/>
                  </a:lnTo>
                  <a:lnTo>
                    <a:pt x="889" y="2266"/>
                  </a:lnTo>
                  <a:lnTo>
                    <a:pt x="930" y="2266"/>
                  </a:lnTo>
                  <a:lnTo>
                    <a:pt x="970" y="2266"/>
                  </a:lnTo>
                  <a:lnTo>
                    <a:pt x="1011" y="2266"/>
                  </a:lnTo>
                  <a:lnTo>
                    <a:pt x="1052" y="2266"/>
                  </a:lnTo>
                  <a:lnTo>
                    <a:pt x="1087" y="2260"/>
                  </a:lnTo>
                  <a:lnTo>
                    <a:pt x="1127" y="2260"/>
                  </a:lnTo>
                  <a:lnTo>
                    <a:pt x="1163" y="2260"/>
                  </a:lnTo>
                  <a:lnTo>
                    <a:pt x="1214" y="2266"/>
                  </a:lnTo>
                  <a:lnTo>
                    <a:pt x="1209" y="2221"/>
                  </a:lnTo>
                  <a:lnTo>
                    <a:pt x="1214" y="2176"/>
                  </a:lnTo>
                  <a:lnTo>
                    <a:pt x="1221" y="2171"/>
                  </a:lnTo>
                  <a:lnTo>
                    <a:pt x="1249" y="2164"/>
                  </a:lnTo>
                  <a:lnTo>
                    <a:pt x="1267" y="2164"/>
                  </a:lnTo>
                  <a:lnTo>
                    <a:pt x="1267" y="2176"/>
                  </a:lnTo>
                  <a:lnTo>
                    <a:pt x="1267" y="2188"/>
                  </a:lnTo>
                  <a:lnTo>
                    <a:pt x="1284" y="2210"/>
                  </a:lnTo>
                  <a:lnTo>
                    <a:pt x="1290" y="2227"/>
                  </a:lnTo>
                  <a:lnTo>
                    <a:pt x="1302" y="2238"/>
                  </a:lnTo>
                  <a:lnTo>
                    <a:pt x="1284" y="1997"/>
                  </a:lnTo>
                  <a:lnTo>
                    <a:pt x="1290" y="1749"/>
                  </a:lnTo>
                  <a:lnTo>
                    <a:pt x="1297" y="1485"/>
                  </a:lnTo>
                  <a:lnTo>
                    <a:pt x="1307" y="1226"/>
                  </a:lnTo>
                  <a:lnTo>
                    <a:pt x="1313" y="957"/>
                  </a:lnTo>
                  <a:lnTo>
                    <a:pt x="1313" y="709"/>
                  </a:lnTo>
                  <a:lnTo>
                    <a:pt x="1307" y="467"/>
                  </a:lnTo>
                  <a:lnTo>
                    <a:pt x="1290" y="253"/>
                  </a:lnTo>
                  <a:lnTo>
                    <a:pt x="1244" y="276"/>
                  </a:lnTo>
                  <a:lnTo>
                    <a:pt x="1186" y="310"/>
                  </a:lnTo>
                  <a:lnTo>
                    <a:pt x="1122" y="344"/>
                  </a:lnTo>
                  <a:lnTo>
                    <a:pt x="1064" y="371"/>
                  </a:lnTo>
                  <a:lnTo>
                    <a:pt x="1006" y="377"/>
                  </a:lnTo>
                  <a:lnTo>
                    <a:pt x="965" y="361"/>
                  </a:lnTo>
                  <a:lnTo>
                    <a:pt x="942" y="304"/>
                  </a:lnTo>
                  <a:lnTo>
                    <a:pt x="947" y="219"/>
                  </a:lnTo>
                  <a:lnTo>
                    <a:pt x="953" y="185"/>
                  </a:lnTo>
                  <a:lnTo>
                    <a:pt x="970" y="158"/>
                  </a:lnTo>
                  <a:lnTo>
                    <a:pt x="988" y="118"/>
                  </a:lnTo>
                  <a:lnTo>
                    <a:pt x="1000" y="79"/>
                  </a:lnTo>
                  <a:lnTo>
                    <a:pt x="982" y="50"/>
                  </a:lnTo>
                  <a:lnTo>
                    <a:pt x="965" y="28"/>
                  </a:lnTo>
                  <a:lnTo>
                    <a:pt x="935" y="11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6" name="Freeform 86"/>
            <p:cNvSpPr/>
            <p:nvPr/>
          </p:nvSpPr>
          <p:spPr>
            <a:xfrm>
              <a:off x="7659360" y="5435640"/>
              <a:ext cx="50400" cy="65160"/>
            </a:xfrm>
            <a:custGeom>
              <a:avLst/>
              <a:gdLst/>
              <a:ahLst/>
              <a:rect l="l" t="t" r="r" b="b"/>
              <a:pathLst>
                <a:path w="231" h="281">
                  <a:moveTo>
                    <a:pt x="104" y="11"/>
                  </a:moveTo>
                  <a:lnTo>
                    <a:pt x="74" y="22"/>
                  </a:lnTo>
                  <a:lnTo>
                    <a:pt x="46" y="68"/>
                  </a:lnTo>
                  <a:lnTo>
                    <a:pt x="17" y="118"/>
                  </a:lnTo>
                  <a:lnTo>
                    <a:pt x="5" y="180"/>
                  </a:lnTo>
                  <a:lnTo>
                    <a:pt x="0" y="225"/>
                  </a:lnTo>
                  <a:lnTo>
                    <a:pt x="11" y="264"/>
                  </a:lnTo>
                  <a:lnTo>
                    <a:pt x="46" y="281"/>
                  </a:lnTo>
                  <a:lnTo>
                    <a:pt x="104" y="264"/>
                  </a:lnTo>
                  <a:lnTo>
                    <a:pt x="133" y="236"/>
                  </a:lnTo>
                  <a:lnTo>
                    <a:pt x="168" y="196"/>
                  </a:lnTo>
                  <a:lnTo>
                    <a:pt x="197" y="146"/>
                  </a:lnTo>
                  <a:lnTo>
                    <a:pt x="226" y="101"/>
                  </a:lnTo>
                  <a:lnTo>
                    <a:pt x="231" y="51"/>
                  </a:lnTo>
                  <a:lnTo>
                    <a:pt x="220" y="22"/>
                  </a:lnTo>
                  <a:lnTo>
                    <a:pt x="180" y="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7" name="Freeform 87"/>
            <p:cNvSpPr/>
            <p:nvPr/>
          </p:nvSpPr>
          <p:spPr>
            <a:xfrm>
              <a:off x="7488720" y="5459400"/>
              <a:ext cx="88920" cy="62640"/>
            </a:xfrm>
            <a:custGeom>
              <a:avLst/>
              <a:gdLst/>
              <a:ahLst/>
              <a:rect l="l" t="t" r="r" b="b"/>
              <a:pathLst>
                <a:path w="418" h="271">
                  <a:moveTo>
                    <a:pt x="23" y="0"/>
                  </a:moveTo>
                  <a:lnTo>
                    <a:pt x="0" y="68"/>
                  </a:lnTo>
                  <a:lnTo>
                    <a:pt x="0" y="119"/>
                  </a:lnTo>
                  <a:lnTo>
                    <a:pt x="11" y="158"/>
                  </a:lnTo>
                  <a:lnTo>
                    <a:pt x="40" y="197"/>
                  </a:lnTo>
                  <a:lnTo>
                    <a:pt x="74" y="214"/>
                  </a:lnTo>
                  <a:lnTo>
                    <a:pt x="127" y="237"/>
                  </a:lnTo>
                  <a:lnTo>
                    <a:pt x="185" y="254"/>
                  </a:lnTo>
                  <a:lnTo>
                    <a:pt x="261" y="271"/>
                  </a:lnTo>
                  <a:lnTo>
                    <a:pt x="295" y="271"/>
                  </a:lnTo>
                  <a:lnTo>
                    <a:pt x="337" y="271"/>
                  </a:lnTo>
                  <a:lnTo>
                    <a:pt x="365" y="271"/>
                  </a:lnTo>
                  <a:lnTo>
                    <a:pt x="383" y="271"/>
                  </a:lnTo>
                  <a:lnTo>
                    <a:pt x="400" y="264"/>
                  </a:lnTo>
                  <a:lnTo>
                    <a:pt x="418" y="254"/>
                  </a:lnTo>
                  <a:lnTo>
                    <a:pt x="411" y="242"/>
                  </a:lnTo>
                  <a:lnTo>
                    <a:pt x="406" y="242"/>
                  </a:lnTo>
                  <a:lnTo>
                    <a:pt x="365" y="191"/>
                  </a:lnTo>
                  <a:lnTo>
                    <a:pt x="330" y="152"/>
                  </a:lnTo>
                  <a:lnTo>
                    <a:pt x="284" y="112"/>
                  </a:lnTo>
                  <a:lnTo>
                    <a:pt x="238" y="79"/>
                  </a:lnTo>
                  <a:lnTo>
                    <a:pt x="185" y="45"/>
                  </a:lnTo>
                  <a:lnTo>
                    <a:pt x="132" y="23"/>
                  </a:lnTo>
                  <a:lnTo>
                    <a:pt x="7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8" name="Freeform 88"/>
            <p:cNvSpPr/>
            <p:nvPr/>
          </p:nvSpPr>
          <p:spPr>
            <a:xfrm>
              <a:off x="6307560" y="5566680"/>
              <a:ext cx="56520" cy="4032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0" y="0"/>
                  </a:moveTo>
                  <a:lnTo>
                    <a:pt x="7" y="17"/>
                  </a:lnTo>
                  <a:lnTo>
                    <a:pt x="12" y="51"/>
                  </a:lnTo>
                  <a:lnTo>
                    <a:pt x="18" y="85"/>
                  </a:lnTo>
                  <a:lnTo>
                    <a:pt x="30" y="129"/>
                  </a:lnTo>
                  <a:lnTo>
                    <a:pt x="53" y="158"/>
                  </a:lnTo>
                  <a:lnTo>
                    <a:pt x="94" y="175"/>
                  </a:lnTo>
                  <a:lnTo>
                    <a:pt x="157" y="175"/>
                  </a:lnTo>
                  <a:lnTo>
                    <a:pt x="256" y="158"/>
                  </a:lnTo>
                  <a:lnTo>
                    <a:pt x="263" y="135"/>
                  </a:lnTo>
                  <a:lnTo>
                    <a:pt x="251" y="119"/>
                  </a:lnTo>
                  <a:lnTo>
                    <a:pt x="222" y="95"/>
                  </a:lnTo>
                  <a:lnTo>
                    <a:pt x="182" y="73"/>
                  </a:lnTo>
                  <a:lnTo>
                    <a:pt x="129" y="45"/>
                  </a:lnTo>
                  <a:lnTo>
                    <a:pt x="76" y="28"/>
                  </a:lnTo>
                  <a:lnTo>
                    <a:pt x="3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9" name="Freeform 89"/>
            <p:cNvSpPr/>
            <p:nvPr/>
          </p:nvSpPr>
          <p:spPr>
            <a:xfrm>
              <a:off x="6924960" y="5603400"/>
              <a:ext cx="37440" cy="204480"/>
            </a:xfrm>
            <a:custGeom>
              <a:avLst/>
              <a:gdLst/>
              <a:ahLst/>
              <a:rect l="l" t="t" r="r" b="b"/>
              <a:pathLst>
                <a:path w="175" h="876">
                  <a:moveTo>
                    <a:pt x="11" y="0"/>
                  </a:moveTo>
                  <a:lnTo>
                    <a:pt x="64" y="11"/>
                  </a:lnTo>
                  <a:lnTo>
                    <a:pt x="122" y="22"/>
                  </a:lnTo>
                  <a:lnTo>
                    <a:pt x="122" y="123"/>
                  </a:lnTo>
                  <a:lnTo>
                    <a:pt x="128" y="224"/>
                  </a:lnTo>
                  <a:lnTo>
                    <a:pt x="134" y="326"/>
                  </a:lnTo>
                  <a:lnTo>
                    <a:pt x="145" y="427"/>
                  </a:lnTo>
                  <a:lnTo>
                    <a:pt x="151" y="523"/>
                  </a:lnTo>
                  <a:lnTo>
                    <a:pt x="163" y="618"/>
                  </a:lnTo>
                  <a:lnTo>
                    <a:pt x="168" y="719"/>
                  </a:lnTo>
                  <a:lnTo>
                    <a:pt x="175" y="820"/>
                  </a:lnTo>
                  <a:lnTo>
                    <a:pt x="168" y="854"/>
                  </a:lnTo>
                  <a:lnTo>
                    <a:pt x="157" y="876"/>
                  </a:lnTo>
                  <a:lnTo>
                    <a:pt x="128" y="849"/>
                  </a:lnTo>
                  <a:lnTo>
                    <a:pt x="104" y="770"/>
                  </a:lnTo>
                  <a:lnTo>
                    <a:pt x="81" y="652"/>
                  </a:lnTo>
                  <a:lnTo>
                    <a:pt x="58" y="517"/>
                  </a:lnTo>
                  <a:lnTo>
                    <a:pt x="35" y="365"/>
                  </a:lnTo>
                  <a:lnTo>
                    <a:pt x="18" y="231"/>
                  </a:lnTo>
                  <a:lnTo>
                    <a:pt x="0" y="11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6" y="17"/>
                  </a:lnTo>
                  <a:lnTo>
                    <a:pt x="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0" name="Freeform 90"/>
            <p:cNvSpPr/>
            <p:nvPr/>
          </p:nvSpPr>
          <p:spPr>
            <a:xfrm>
              <a:off x="7634520" y="5629320"/>
              <a:ext cx="16920" cy="60120"/>
            </a:xfrm>
            <a:custGeom>
              <a:avLst/>
              <a:gdLst/>
              <a:ahLst/>
              <a:rect l="l" t="t" r="r" b="b"/>
              <a:pathLst>
                <a:path w="76" h="258">
                  <a:moveTo>
                    <a:pt x="35" y="0"/>
                  </a:moveTo>
                  <a:lnTo>
                    <a:pt x="11" y="55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0" y="185"/>
                  </a:lnTo>
                  <a:lnTo>
                    <a:pt x="6" y="218"/>
                  </a:lnTo>
                  <a:lnTo>
                    <a:pt x="23" y="258"/>
                  </a:lnTo>
                  <a:lnTo>
                    <a:pt x="29" y="230"/>
                  </a:lnTo>
                  <a:lnTo>
                    <a:pt x="41" y="202"/>
                  </a:lnTo>
                  <a:lnTo>
                    <a:pt x="46" y="174"/>
                  </a:lnTo>
                  <a:lnTo>
                    <a:pt x="58" y="145"/>
                  </a:lnTo>
                  <a:lnTo>
                    <a:pt x="64" y="111"/>
                  </a:lnTo>
                  <a:lnTo>
                    <a:pt x="69" y="78"/>
                  </a:lnTo>
                  <a:lnTo>
                    <a:pt x="69" y="39"/>
                  </a:lnTo>
                  <a:lnTo>
                    <a:pt x="76" y="0"/>
                  </a:lnTo>
                  <a:lnTo>
                    <a:pt x="5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1" name="Freeform 91"/>
            <p:cNvSpPr/>
            <p:nvPr/>
          </p:nvSpPr>
          <p:spPr>
            <a:xfrm>
              <a:off x="7739640" y="5629320"/>
              <a:ext cx="363960" cy="604800"/>
            </a:xfrm>
            <a:custGeom>
              <a:avLst/>
              <a:gdLst/>
              <a:ahLst/>
              <a:rect l="l" t="t" r="r" b="b"/>
              <a:pathLst>
                <a:path w="1692" h="2597">
                  <a:moveTo>
                    <a:pt x="1680" y="0"/>
                  </a:moveTo>
                  <a:lnTo>
                    <a:pt x="1604" y="10"/>
                  </a:lnTo>
                  <a:lnTo>
                    <a:pt x="1528" y="33"/>
                  </a:lnTo>
                  <a:lnTo>
                    <a:pt x="1454" y="50"/>
                  </a:lnTo>
                  <a:lnTo>
                    <a:pt x="1383" y="78"/>
                  </a:lnTo>
                  <a:lnTo>
                    <a:pt x="1308" y="95"/>
                  </a:lnTo>
                  <a:lnTo>
                    <a:pt x="1238" y="118"/>
                  </a:lnTo>
                  <a:lnTo>
                    <a:pt x="1168" y="135"/>
                  </a:lnTo>
                  <a:lnTo>
                    <a:pt x="1104" y="145"/>
                  </a:lnTo>
                  <a:lnTo>
                    <a:pt x="1000" y="145"/>
                  </a:lnTo>
                  <a:lnTo>
                    <a:pt x="895" y="145"/>
                  </a:lnTo>
                  <a:lnTo>
                    <a:pt x="785" y="145"/>
                  </a:lnTo>
                  <a:lnTo>
                    <a:pt x="674" y="145"/>
                  </a:lnTo>
                  <a:lnTo>
                    <a:pt x="564" y="140"/>
                  </a:lnTo>
                  <a:lnTo>
                    <a:pt x="453" y="135"/>
                  </a:lnTo>
                  <a:lnTo>
                    <a:pt x="349" y="123"/>
                  </a:lnTo>
                  <a:lnTo>
                    <a:pt x="250" y="118"/>
                  </a:lnTo>
                  <a:lnTo>
                    <a:pt x="227" y="190"/>
                  </a:lnTo>
                  <a:lnTo>
                    <a:pt x="210" y="292"/>
                  </a:lnTo>
                  <a:lnTo>
                    <a:pt x="192" y="415"/>
                  </a:lnTo>
                  <a:lnTo>
                    <a:pt x="180" y="550"/>
                  </a:lnTo>
                  <a:lnTo>
                    <a:pt x="163" y="680"/>
                  </a:lnTo>
                  <a:lnTo>
                    <a:pt x="151" y="803"/>
                  </a:lnTo>
                  <a:lnTo>
                    <a:pt x="146" y="910"/>
                  </a:lnTo>
                  <a:lnTo>
                    <a:pt x="146" y="994"/>
                  </a:lnTo>
                  <a:lnTo>
                    <a:pt x="139" y="1050"/>
                  </a:lnTo>
                  <a:lnTo>
                    <a:pt x="139" y="1118"/>
                  </a:lnTo>
                  <a:lnTo>
                    <a:pt x="139" y="1185"/>
                  </a:lnTo>
                  <a:lnTo>
                    <a:pt x="139" y="1259"/>
                  </a:lnTo>
                  <a:lnTo>
                    <a:pt x="139" y="1326"/>
                  </a:lnTo>
                  <a:lnTo>
                    <a:pt x="139" y="1399"/>
                  </a:lnTo>
                  <a:lnTo>
                    <a:pt x="146" y="1467"/>
                  </a:lnTo>
                  <a:lnTo>
                    <a:pt x="163" y="1534"/>
                  </a:lnTo>
                  <a:lnTo>
                    <a:pt x="169" y="1557"/>
                  </a:lnTo>
                  <a:lnTo>
                    <a:pt x="174" y="1574"/>
                  </a:lnTo>
                  <a:lnTo>
                    <a:pt x="151" y="1607"/>
                  </a:lnTo>
                  <a:lnTo>
                    <a:pt x="128" y="1680"/>
                  </a:lnTo>
                  <a:lnTo>
                    <a:pt x="99" y="1781"/>
                  </a:lnTo>
                  <a:lnTo>
                    <a:pt x="76" y="1899"/>
                  </a:lnTo>
                  <a:lnTo>
                    <a:pt x="40" y="2018"/>
                  </a:lnTo>
                  <a:lnTo>
                    <a:pt x="24" y="2130"/>
                  </a:lnTo>
                  <a:lnTo>
                    <a:pt x="6" y="2220"/>
                  </a:lnTo>
                  <a:lnTo>
                    <a:pt x="0" y="2282"/>
                  </a:lnTo>
                  <a:lnTo>
                    <a:pt x="52" y="2316"/>
                  </a:lnTo>
                  <a:lnTo>
                    <a:pt x="111" y="2350"/>
                  </a:lnTo>
                  <a:lnTo>
                    <a:pt x="169" y="2384"/>
                  </a:lnTo>
                  <a:lnTo>
                    <a:pt x="233" y="2416"/>
                  </a:lnTo>
                  <a:lnTo>
                    <a:pt x="291" y="2445"/>
                  </a:lnTo>
                  <a:lnTo>
                    <a:pt x="354" y="2479"/>
                  </a:lnTo>
                  <a:lnTo>
                    <a:pt x="413" y="2512"/>
                  </a:lnTo>
                  <a:lnTo>
                    <a:pt x="476" y="2551"/>
                  </a:lnTo>
                  <a:lnTo>
                    <a:pt x="575" y="2585"/>
                  </a:lnTo>
                  <a:lnTo>
                    <a:pt x="715" y="2597"/>
                  </a:lnTo>
                  <a:lnTo>
                    <a:pt x="878" y="2591"/>
                  </a:lnTo>
                  <a:lnTo>
                    <a:pt x="1052" y="2575"/>
                  </a:lnTo>
                  <a:lnTo>
                    <a:pt x="1226" y="2546"/>
                  </a:lnTo>
                  <a:lnTo>
                    <a:pt x="1395" y="2524"/>
                  </a:lnTo>
                  <a:lnTo>
                    <a:pt x="1535" y="2496"/>
                  </a:lnTo>
                  <a:lnTo>
                    <a:pt x="1651" y="2490"/>
                  </a:lnTo>
                  <a:lnTo>
                    <a:pt x="1639" y="2433"/>
                  </a:lnTo>
                  <a:lnTo>
                    <a:pt x="1634" y="2384"/>
                  </a:lnTo>
                  <a:lnTo>
                    <a:pt x="1634" y="2327"/>
                  </a:lnTo>
                  <a:lnTo>
                    <a:pt x="1634" y="2276"/>
                  </a:lnTo>
                  <a:lnTo>
                    <a:pt x="1627" y="2215"/>
                  </a:lnTo>
                  <a:lnTo>
                    <a:pt x="1627" y="2158"/>
                  </a:lnTo>
                  <a:lnTo>
                    <a:pt x="1627" y="2102"/>
                  </a:lnTo>
                  <a:lnTo>
                    <a:pt x="1627" y="2046"/>
                  </a:lnTo>
                  <a:lnTo>
                    <a:pt x="1609" y="1972"/>
                  </a:lnTo>
                  <a:lnTo>
                    <a:pt x="1593" y="1939"/>
                  </a:lnTo>
                  <a:lnTo>
                    <a:pt x="1569" y="1928"/>
                  </a:lnTo>
                  <a:lnTo>
                    <a:pt x="1552" y="1939"/>
                  </a:lnTo>
                  <a:lnTo>
                    <a:pt x="1528" y="1962"/>
                  </a:lnTo>
                  <a:lnTo>
                    <a:pt x="1505" y="2006"/>
                  </a:lnTo>
                  <a:lnTo>
                    <a:pt x="1488" y="2051"/>
                  </a:lnTo>
                  <a:lnTo>
                    <a:pt x="1477" y="2102"/>
                  </a:lnTo>
                  <a:lnTo>
                    <a:pt x="1459" y="2085"/>
                  </a:lnTo>
                  <a:lnTo>
                    <a:pt x="1447" y="2068"/>
                  </a:lnTo>
                  <a:lnTo>
                    <a:pt x="1429" y="2051"/>
                  </a:lnTo>
                  <a:lnTo>
                    <a:pt x="1424" y="2046"/>
                  </a:lnTo>
                  <a:lnTo>
                    <a:pt x="1436" y="2012"/>
                  </a:lnTo>
                  <a:lnTo>
                    <a:pt x="1454" y="1979"/>
                  </a:lnTo>
                  <a:lnTo>
                    <a:pt x="1470" y="1945"/>
                  </a:lnTo>
                  <a:lnTo>
                    <a:pt x="1488" y="1916"/>
                  </a:lnTo>
                  <a:lnTo>
                    <a:pt x="1500" y="1877"/>
                  </a:lnTo>
                  <a:lnTo>
                    <a:pt x="1517" y="1844"/>
                  </a:lnTo>
                  <a:lnTo>
                    <a:pt x="1528" y="1810"/>
                  </a:lnTo>
                  <a:lnTo>
                    <a:pt x="1546" y="1781"/>
                  </a:lnTo>
                  <a:lnTo>
                    <a:pt x="1552" y="1692"/>
                  </a:lnTo>
                  <a:lnTo>
                    <a:pt x="1563" y="1613"/>
                  </a:lnTo>
                  <a:lnTo>
                    <a:pt x="1569" y="1540"/>
                  </a:lnTo>
                  <a:lnTo>
                    <a:pt x="1575" y="1467"/>
                  </a:lnTo>
                  <a:lnTo>
                    <a:pt x="1575" y="1388"/>
                  </a:lnTo>
                  <a:lnTo>
                    <a:pt x="1581" y="1309"/>
                  </a:lnTo>
                  <a:lnTo>
                    <a:pt x="1581" y="1225"/>
                  </a:lnTo>
                  <a:lnTo>
                    <a:pt x="1598" y="1146"/>
                  </a:lnTo>
                  <a:lnTo>
                    <a:pt x="1616" y="1000"/>
                  </a:lnTo>
                  <a:lnTo>
                    <a:pt x="1634" y="854"/>
                  </a:lnTo>
                  <a:lnTo>
                    <a:pt x="1651" y="702"/>
                  </a:lnTo>
                  <a:lnTo>
                    <a:pt x="1674" y="550"/>
                  </a:lnTo>
                  <a:lnTo>
                    <a:pt x="1680" y="393"/>
                  </a:lnTo>
                  <a:lnTo>
                    <a:pt x="1692" y="246"/>
                  </a:lnTo>
                  <a:lnTo>
                    <a:pt x="1685" y="111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2" name="Freeform 92"/>
            <p:cNvSpPr/>
            <p:nvPr/>
          </p:nvSpPr>
          <p:spPr>
            <a:xfrm>
              <a:off x="6412320" y="5635800"/>
              <a:ext cx="52920" cy="37800"/>
            </a:xfrm>
            <a:custGeom>
              <a:avLst/>
              <a:gdLst/>
              <a:ahLst/>
              <a:rect l="l" t="t" r="r" b="b"/>
              <a:pathLst>
                <a:path w="249" h="163">
                  <a:moveTo>
                    <a:pt x="0" y="0"/>
                  </a:moveTo>
                  <a:lnTo>
                    <a:pt x="11" y="28"/>
                  </a:lnTo>
                  <a:lnTo>
                    <a:pt x="35" y="68"/>
                  </a:lnTo>
                  <a:lnTo>
                    <a:pt x="69" y="108"/>
                  </a:lnTo>
                  <a:lnTo>
                    <a:pt x="104" y="141"/>
                  </a:lnTo>
                  <a:lnTo>
                    <a:pt x="139" y="158"/>
                  </a:lnTo>
                  <a:lnTo>
                    <a:pt x="180" y="163"/>
                  </a:lnTo>
                  <a:lnTo>
                    <a:pt x="208" y="147"/>
                  </a:lnTo>
                  <a:lnTo>
                    <a:pt x="238" y="101"/>
                  </a:lnTo>
                  <a:lnTo>
                    <a:pt x="238" y="79"/>
                  </a:lnTo>
                  <a:lnTo>
                    <a:pt x="243" y="57"/>
                  </a:lnTo>
                  <a:lnTo>
                    <a:pt x="243" y="28"/>
                  </a:lnTo>
                  <a:lnTo>
                    <a:pt x="249" y="0"/>
                  </a:lnTo>
                  <a:lnTo>
                    <a:pt x="215" y="12"/>
                  </a:lnTo>
                  <a:lnTo>
                    <a:pt x="180" y="28"/>
                  </a:lnTo>
                  <a:lnTo>
                    <a:pt x="150" y="34"/>
                  </a:lnTo>
                  <a:lnTo>
                    <a:pt x="121" y="40"/>
                  </a:lnTo>
                  <a:lnTo>
                    <a:pt x="86" y="28"/>
                  </a:lnTo>
                  <a:lnTo>
                    <a:pt x="58" y="23"/>
                  </a:lnTo>
                  <a:lnTo>
                    <a:pt x="2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3" name="Freeform 93"/>
            <p:cNvSpPr/>
            <p:nvPr/>
          </p:nvSpPr>
          <p:spPr>
            <a:xfrm>
              <a:off x="7262640" y="5719320"/>
              <a:ext cx="55440" cy="204480"/>
            </a:xfrm>
            <a:custGeom>
              <a:avLst/>
              <a:gdLst/>
              <a:ahLst/>
              <a:rect l="l" t="t" r="r" b="b"/>
              <a:pathLst>
                <a:path w="256" h="877">
                  <a:moveTo>
                    <a:pt x="192" y="0"/>
                  </a:moveTo>
                  <a:lnTo>
                    <a:pt x="163" y="50"/>
                  </a:lnTo>
                  <a:lnTo>
                    <a:pt x="128" y="158"/>
                  </a:lnTo>
                  <a:lnTo>
                    <a:pt x="81" y="298"/>
                  </a:lnTo>
                  <a:lnTo>
                    <a:pt x="41" y="455"/>
                  </a:lnTo>
                  <a:lnTo>
                    <a:pt x="6" y="602"/>
                  </a:lnTo>
                  <a:lnTo>
                    <a:pt x="0" y="737"/>
                  </a:lnTo>
                  <a:lnTo>
                    <a:pt x="18" y="832"/>
                  </a:lnTo>
                  <a:lnTo>
                    <a:pt x="81" y="877"/>
                  </a:lnTo>
                  <a:lnTo>
                    <a:pt x="110" y="866"/>
                  </a:lnTo>
                  <a:lnTo>
                    <a:pt x="163" y="861"/>
                  </a:lnTo>
                  <a:lnTo>
                    <a:pt x="203" y="849"/>
                  </a:lnTo>
                  <a:lnTo>
                    <a:pt x="244" y="849"/>
                  </a:lnTo>
                  <a:lnTo>
                    <a:pt x="249" y="737"/>
                  </a:lnTo>
                  <a:lnTo>
                    <a:pt x="256" y="624"/>
                  </a:lnTo>
                  <a:lnTo>
                    <a:pt x="249" y="511"/>
                  </a:lnTo>
                  <a:lnTo>
                    <a:pt x="249" y="405"/>
                  </a:lnTo>
                  <a:lnTo>
                    <a:pt x="233" y="293"/>
                  </a:lnTo>
                  <a:lnTo>
                    <a:pt x="221" y="192"/>
                  </a:lnTo>
                  <a:lnTo>
                    <a:pt x="203" y="9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4" name="Freeform 94"/>
            <p:cNvSpPr/>
            <p:nvPr/>
          </p:nvSpPr>
          <p:spPr>
            <a:xfrm>
              <a:off x="6715800" y="5851080"/>
              <a:ext cx="81360" cy="33120"/>
            </a:xfrm>
            <a:custGeom>
              <a:avLst/>
              <a:gdLst/>
              <a:ahLst/>
              <a:rect l="l" t="t" r="r" b="b"/>
              <a:pathLst>
                <a:path w="377" h="147">
                  <a:moveTo>
                    <a:pt x="302" y="6"/>
                  </a:moveTo>
                  <a:lnTo>
                    <a:pt x="261" y="0"/>
                  </a:lnTo>
                  <a:lnTo>
                    <a:pt x="226" y="0"/>
                  </a:lnTo>
                  <a:lnTo>
                    <a:pt x="185" y="6"/>
                  </a:lnTo>
                  <a:lnTo>
                    <a:pt x="151" y="17"/>
                  </a:lnTo>
                  <a:lnTo>
                    <a:pt x="104" y="17"/>
                  </a:lnTo>
                  <a:lnTo>
                    <a:pt x="63" y="28"/>
                  </a:lnTo>
                  <a:lnTo>
                    <a:pt x="28" y="34"/>
                  </a:lnTo>
                  <a:lnTo>
                    <a:pt x="0" y="45"/>
                  </a:lnTo>
                  <a:lnTo>
                    <a:pt x="5" y="68"/>
                  </a:lnTo>
                  <a:lnTo>
                    <a:pt x="12" y="91"/>
                  </a:lnTo>
                  <a:lnTo>
                    <a:pt x="12" y="96"/>
                  </a:lnTo>
                  <a:lnTo>
                    <a:pt x="23" y="108"/>
                  </a:lnTo>
                  <a:lnTo>
                    <a:pt x="40" y="113"/>
                  </a:lnTo>
                  <a:lnTo>
                    <a:pt x="58" y="118"/>
                  </a:lnTo>
                  <a:lnTo>
                    <a:pt x="93" y="135"/>
                  </a:lnTo>
                  <a:lnTo>
                    <a:pt x="93" y="124"/>
                  </a:lnTo>
                  <a:lnTo>
                    <a:pt x="121" y="124"/>
                  </a:lnTo>
                  <a:lnTo>
                    <a:pt x="151" y="130"/>
                  </a:lnTo>
                  <a:lnTo>
                    <a:pt x="185" y="130"/>
                  </a:lnTo>
                  <a:lnTo>
                    <a:pt x="220" y="135"/>
                  </a:lnTo>
                  <a:lnTo>
                    <a:pt x="249" y="135"/>
                  </a:lnTo>
                  <a:lnTo>
                    <a:pt x="284" y="135"/>
                  </a:lnTo>
                  <a:lnTo>
                    <a:pt x="319" y="141"/>
                  </a:lnTo>
                  <a:lnTo>
                    <a:pt x="354" y="147"/>
                  </a:lnTo>
                  <a:lnTo>
                    <a:pt x="365" y="96"/>
                  </a:lnTo>
                  <a:lnTo>
                    <a:pt x="377" y="51"/>
                  </a:lnTo>
                  <a:lnTo>
                    <a:pt x="365" y="34"/>
                  </a:lnTo>
                  <a:lnTo>
                    <a:pt x="354" y="17"/>
                  </a:lnTo>
                  <a:lnTo>
                    <a:pt x="331" y="6"/>
                  </a:lnTo>
                  <a:lnTo>
                    <a:pt x="302" y="6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5" name="Freeform 95"/>
            <p:cNvSpPr/>
            <p:nvPr/>
          </p:nvSpPr>
          <p:spPr>
            <a:xfrm>
              <a:off x="6582960" y="5855040"/>
              <a:ext cx="116280" cy="29160"/>
            </a:xfrm>
            <a:custGeom>
              <a:avLst/>
              <a:gdLst/>
              <a:ahLst/>
              <a:rect l="l" t="t" r="r" b="b"/>
              <a:pathLst>
                <a:path w="540" h="130">
                  <a:moveTo>
                    <a:pt x="418" y="0"/>
                  </a:moveTo>
                  <a:lnTo>
                    <a:pt x="360" y="0"/>
                  </a:lnTo>
                  <a:lnTo>
                    <a:pt x="284" y="23"/>
                  </a:lnTo>
                  <a:lnTo>
                    <a:pt x="191" y="45"/>
                  </a:lnTo>
                  <a:lnTo>
                    <a:pt x="104" y="74"/>
                  </a:lnTo>
                  <a:lnTo>
                    <a:pt x="29" y="91"/>
                  </a:lnTo>
                  <a:lnTo>
                    <a:pt x="0" y="113"/>
                  </a:lnTo>
                  <a:lnTo>
                    <a:pt x="29" y="124"/>
                  </a:lnTo>
                  <a:lnTo>
                    <a:pt x="127" y="130"/>
                  </a:lnTo>
                  <a:lnTo>
                    <a:pt x="180" y="124"/>
                  </a:lnTo>
                  <a:lnTo>
                    <a:pt x="238" y="118"/>
                  </a:lnTo>
                  <a:lnTo>
                    <a:pt x="284" y="113"/>
                  </a:lnTo>
                  <a:lnTo>
                    <a:pt x="331" y="113"/>
                  </a:lnTo>
                  <a:lnTo>
                    <a:pt x="371" y="107"/>
                  </a:lnTo>
                  <a:lnTo>
                    <a:pt x="424" y="107"/>
                  </a:lnTo>
                  <a:lnTo>
                    <a:pt x="477" y="107"/>
                  </a:lnTo>
                  <a:lnTo>
                    <a:pt x="540" y="107"/>
                  </a:lnTo>
                  <a:lnTo>
                    <a:pt x="523" y="57"/>
                  </a:lnTo>
                  <a:lnTo>
                    <a:pt x="511" y="11"/>
                  </a:lnTo>
                  <a:lnTo>
                    <a:pt x="488" y="6"/>
                  </a:lnTo>
                  <a:lnTo>
                    <a:pt x="465" y="0"/>
                  </a:lnTo>
                  <a:lnTo>
                    <a:pt x="441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6" name="Freeform 96"/>
            <p:cNvSpPr/>
            <p:nvPr/>
          </p:nvSpPr>
          <p:spPr>
            <a:xfrm>
              <a:off x="6864480" y="5871960"/>
              <a:ext cx="113400" cy="33120"/>
            </a:xfrm>
            <a:custGeom>
              <a:avLst/>
              <a:gdLst/>
              <a:ahLst/>
              <a:rect l="l" t="t" r="r" b="b"/>
              <a:pathLst>
                <a:path w="528" h="145">
                  <a:moveTo>
                    <a:pt x="105" y="5"/>
                  </a:moveTo>
                  <a:lnTo>
                    <a:pt x="58" y="10"/>
                  </a:lnTo>
                  <a:lnTo>
                    <a:pt x="0" y="33"/>
                  </a:lnTo>
                  <a:lnTo>
                    <a:pt x="18" y="78"/>
                  </a:lnTo>
                  <a:lnTo>
                    <a:pt x="52" y="112"/>
                  </a:lnTo>
                  <a:lnTo>
                    <a:pt x="93" y="135"/>
                  </a:lnTo>
                  <a:lnTo>
                    <a:pt x="157" y="145"/>
                  </a:lnTo>
                  <a:lnTo>
                    <a:pt x="221" y="145"/>
                  </a:lnTo>
                  <a:lnTo>
                    <a:pt x="302" y="145"/>
                  </a:lnTo>
                  <a:lnTo>
                    <a:pt x="378" y="140"/>
                  </a:lnTo>
                  <a:lnTo>
                    <a:pt x="465" y="145"/>
                  </a:lnTo>
                  <a:lnTo>
                    <a:pt x="523" y="135"/>
                  </a:lnTo>
                  <a:lnTo>
                    <a:pt x="528" y="123"/>
                  </a:lnTo>
                  <a:lnTo>
                    <a:pt x="494" y="95"/>
                  </a:lnTo>
                  <a:lnTo>
                    <a:pt x="430" y="67"/>
                  </a:lnTo>
                  <a:lnTo>
                    <a:pt x="343" y="33"/>
                  </a:lnTo>
                  <a:lnTo>
                    <a:pt x="256" y="17"/>
                  </a:lnTo>
                  <a:lnTo>
                    <a:pt x="168" y="0"/>
                  </a:lnTo>
                  <a:lnTo>
                    <a:pt x="105" y="5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7" name="Freeform 97"/>
            <p:cNvSpPr/>
            <p:nvPr/>
          </p:nvSpPr>
          <p:spPr>
            <a:xfrm>
              <a:off x="7268760" y="5933880"/>
              <a:ext cx="104760" cy="41760"/>
            </a:xfrm>
            <a:custGeom>
              <a:avLst/>
              <a:gdLst/>
              <a:ahLst/>
              <a:rect l="l" t="t" r="r" b="b"/>
              <a:pathLst>
                <a:path w="483" h="181">
                  <a:moveTo>
                    <a:pt x="81" y="0"/>
                  </a:moveTo>
                  <a:lnTo>
                    <a:pt x="65" y="0"/>
                  </a:lnTo>
                  <a:lnTo>
                    <a:pt x="40" y="12"/>
                  </a:lnTo>
                  <a:lnTo>
                    <a:pt x="12" y="17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6" y="80"/>
                  </a:lnTo>
                  <a:lnTo>
                    <a:pt x="6" y="96"/>
                  </a:lnTo>
                  <a:lnTo>
                    <a:pt x="12" y="130"/>
                  </a:lnTo>
                  <a:lnTo>
                    <a:pt x="40" y="124"/>
                  </a:lnTo>
                  <a:lnTo>
                    <a:pt x="76" y="124"/>
                  </a:lnTo>
                  <a:lnTo>
                    <a:pt x="105" y="119"/>
                  </a:lnTo>
                  <a:lnTo>
                    <a:pt x="139" y="119"/>
                  </a:lnTo>
                  <a:lnTo>
                    <a:pt x="197" y="119"/>
                  </a:lnTo>
                  <a:lnTo>
                    <a:pt x="250" y="130"/>
                  </a:lnTo>
                  <a:lnTo>
                    <a:pt x="261" y="135"/>
                  </a:lnTo>
                  <a:lnTo>
                    <a:pt x="279" y="152"/>
                  </a:lnTo>
                  <a:lnTo>
                    <a:pt x="291" y="158"/>
                  </a:lnTo>
                  <a:lnTo>
                    <a:pt x="308" y="169"/>
                  </a:lnTo>
                  <a:lnTo>
                    <a:pt x="331" y="175"/>
                  </a:lnTo>
                  <a:lnTo>
                    <a:pt x="372" y="181"/>
                  </a:lnTo>
                  <a:lnTo>
                    <a:pt x="453" y="169"/>
                  </a:lnTo>
                  <a:lnTo>
                    <a:pt x="483" y="147"/>
                  </a:lnTo>
                  <a:lnTo>
                    <a:pt x="453" y="113"/>
                  </a:lnTo>
                  <a:lnTo>
                    <a:pt x="395" y="80"/>
                  </a:lnTo>
                  <a:lnTo>
                    <a:pt x="308" y="46"/>
                  </a:lnTo>
                  <a:lnTo>
                    <a:pt x="220" y="17"/>
                  </a:lnTo>
                  <a:lnTo>
                    <a:pt x="139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8" name="Freeform 98"/>
            <p:cNvSpPr/>
            <p:nvPr/>
          </p:nvSpPr>
          <p:spPr>
            <a:xfrm>
              <a:off x="7464240" y="5954760"/>
              <a:ext cx="147240" cy="54000"/>
            </a:xfrm>
            <a:custGeom>
              <a:avLst/>
              <a:gdLst/>
              <a:ahLst/>
              <a:rect l="l" t="t" r="r" b="b"/>
              <a:pathLst>
                <a:path w="679" h="236">
                  <a:moveTo>
                    <a:pt x="197" y="12"/>
                  </a:moveTo>
                  <a:lnTo>
                    <a:pt x="151" y="17"/>
                  </a:lnTo>
                  <a:lnTo>
                    <a:pt x="104" y="34"/>
                  </a:lnTo>
                  <a:lnTo>
                    <a:pt x="52" y="45"/>
                  </a:lnTo>
                  <a:lnTo>
                    <a:pt x="0" y="62"/>
                  </a:lnTo>
                  <a:lnTo>
                    <a:pt x="23" y="130"/>
                  </a:lnTo>
                  <a:lnTo>
                    <a:pt x="63" y="181"/>
                  </a:lnTo>
                  <a:lnTo>
                    <a:pt x="116" y="209"/>
                  </a:lnTo>
                  <a:lnTo>
                    <a:pt x="180" y="226"/>
                  </a:lnTo>
                  <a:lnTo>
                    <a:pt x="243" y="226"/>
                  </a:lnTo>
                  <a:lnTo>
                    <a:pt x="325" y="226"/>
                  </a:lnTo>
                  <a:lnTo>
                    <a:pt x="406" y="226"/>
                  </a:lnTo>
                  <a:lnTo>
                    <a:pt x="505" y="231"/>
                  </a:lnTo>
                  <a:lnTo>
                    <a:pt x="552" y="231"/>
                  </a:lnTo>
                  <a:lnTo>
                    <a:pt x="593" y="236"/>
                  </a:lnTo>
                  <a:lnTo>
                    <a:pt x="628" y="231"/>
                  </a:lnTo>
                  <a:lnTo>
                    <a:pt x="651" y="226"/>
                  </a:lnTo>
                  <a:lnTo>
                    <a:pt x="662" y="203"/>
                  </a:lnTo>
                  <a:lnTo>
                    <a:pt x="674" y="181"/>
                  </a:lnTo>
                  <a:lnTo>
                    <a:pt x="674" y="141"/>
                  </a:lnTo>
                  <a:lnTo>
                    <a:pt x="679" y="91"/>
                  </a:lnTo>
                  <a:lnTo>
                    <a:pt x="621" y="74"/>
                  </a:lnTo>
                  <a:lnTo>
                    <a:pt x="563" y="57"/>
                  </a:lnTo>
                  <a:lnTo>
                    <a:pt x="505" y="40"/>
                  </a:lnTo>
                  <a:lnTo>
                    <a:pt x="453" y="23"/>
                  </a:lnTo>
                  <a:lnTo>
                    <a:pt x="390" y="6"/>
                  </a:lnTo>
                  <a:lnTo>
                    <a:pt x="331" y="0"/>
                  </a:lnTo>
                  <a:lnTo>
                    <a:pt x="261" y="0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9" name="Freeform 99"/>
            <p:cNvSpPr/>
            <p:nvPr/>
          </p:nvSpPr>
          <p:spPr>
            <a:xfrm>
              <a:off x="7151400" y="5959440"/>
              <a:ext cx="154800" cy="38160"/>
            </a:xfrm>
            <a:custGeom>
              <a:avLst/>
              <a:gdLst/>
              <a:ahLst/>
              <a:rect l="l" t="t" r="r" b="b"/>
              <a:pathLst>
                <a:path w="720" h="163">
                  <a:moveTo>
                    <a:pt x="0" y="0"/>
                  </a:moveTo>
                  <a:lnTo>
                    <a:pt x="0" y="45"/>
                  </a:lnTo>
                  <a:lnTo>
                    <a:pt x="0" y="95"/>
                  </a:lnTo>
                  <a:lnTo>
                    <a:pt x="69" y="95"/>
                  </a:lnTo>
                  <a:lnTo>
                    <a:pt x="157" y="107"/>
                  </a:lnTo>
                  <a:lnTo>
                    <a:pt x="249" y="124"/>
                  </a:lnTo>
                  <a:lnTo>
                    <a:pt x="355" y="141"/>
                  </a:lnTo>
                  <a:lnTo>
                    <a:pt x="447" y="152"/>
                  </a:lnTo>
                  <a:lnTo>
                    <a:pt x="540" y="163"/>
                  </a:lnTo>
                  <a:lnTo>
                    <a:pt x="622" y="163"/>
                  </a:lnTo>
                  <a:lnTo>
                    <a:pt x="692" y="158"/>
                  </a:lnTo>
                  <a:lnTo>
                    <a:pt x="720" y="124"/>
                  </a:lnTo>
                  <a:lnTo>
                    <a:pt x="680" y="102"/>
                  </a:lnTo>
                  <a:lnTo>
                    <a:pt x="586" y="73"/>
                  </a:lnTo>
                  <a:lnTo>
                    <a:pt x="459" y="51"/>
                  </a:lnTo>
                  <a:lnTo>
                    <a:pt x="314" y="28"/>
                  </a:lnTo>
                  <a:lnTo>
                    <a:pt x="175" y="17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0" name="Freeform 100"/>
            <p:cNvSpPr/>
            <p:nvPr/>
          </p:nvSpPr>
          <p:spPr>
            <a:xfrm>
              <a:off x="7626960" y="5978160"/>
              <a:ext cx="132840" cy="31680"/>
            </a:xfrm>
            <a:custGeom>
              <a:avLst/>
              <a:gdLst/>
              <a:ahLst/>
              <a:rect l="l" t="t" r="r" b="b"/>
              <a:pathLst>
                <a:path w="616" h="142">
                  <a:moveTo>
                    <a:pt x="0" y="0"/>
                  </a:moveTo>
                  <a:lnTo>
                    <a:pt x="30" y="119"/>
                  </a:lnTo>
                  <a:lnTo>
                    <a:pt x="93" y="119"/>
                  </a:lnTo>
                  <a:lnTo>
                    <a:pt x="169" y="125"/>
                  </a:lnTo>
                  <a:lnTo>
                    <a:pt x="244" y="125"/>
                  </a:lnTo>
                  <a:lnTo>
                    <a:pt x="325" y="130"/>
                  </a:lnTo>
                  <a:lnTo>
                    <a:pt x="401" y="130"/>
                  </a:lnTo>
                  <a:lnTo>
                    <a:pt x="477" y="130"/>
                  </a:lnTo>
                  <a:lnTo>
                    <a:pt x="547" y="135"/>
                  </a:lnTo>
                  <a:lnTo>
                    <a:pt x="616" y="142"/>
                  </a:lnTo>
                  <a:lnTo>
                    <a:pt x="563" y="80"/>
                  </a:lnTo>
                  <a:lnTo>
                    <a:pt x="506" y="40"/>
                  </a:lnTo>
                  <a:lnTo>
                    <a:pt x="436" y="12"/>
                  </a:lnTo>
                  <a:lnTo>
                    <a:pt x="360" y="7"/>
                  </a:lnTo>
                  <a:lnTo>
                    <a:pt x="268" y="0"/>
                  </a:lnTo>
                  <a:lnTo>
                    <a:pt x="180" y="0"/>
                  </a:ln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1" name="Freeform 101"/>
            <p:cNvSpPr/>
            <p:nvPr/>
          </p:nvSpPr>
          <p:spPr>
            <a:xfrm>
              <a:off x="7756200" y="6199920"/>
              <a:ext cx="109800" cy="127080"/>
            </a:xfrm>
            <a:custGeom>
              <a:avLst/>
              <a:gdLst/>
              <a:ahLst/>
              <a:rect l="l" t="t" r="r" b="b"/>
              <a:pathLst>
                <a:path w="511" h="546">
                  <a:moveTo>
                    <a:pt x="17" y="0"/>
                  </a:moveTo>
                  <a:lnTo>
                    <a:pt x="5" y="34"/>
                  </a:lnTo>
                  <a:lnTo>
                    <a:pt x="5" y="85"/>
                  </a:lnTo>
                  <a:lnTo>
                    <a:pt x="0" y="130"/>
                  </a:lnTo>
                  <a:lnTo>
                    <a:pt x="0" y="186"/>
                  </a:lnTo>
                  <a:lnTo>
                    <a:pt x="0" y="236"/>
                  </a:lnTo>
                  <a:lnTo>
                    <a:pt x="5" y="287"/>
                  </a:lnTo>
                  <a:lnTo>
                    <a:pt x="12" y="332"/>
                  </a:lnTo>
                  <a:lnTo>
                    <a:pt x="29" y="371"/>
                  </a:lnTo>
                  <a:lnTo>
                    <a:pt x="52" y="395"/>
                  </a:lnTo>
                  <a:lnTo>
                    <a:pt x="104" y="427"/>
                  </a:lnTo>
                  <a:lnTo>
                    <a:pt x="162" y="467"/>
                  </a:lnTo>
                  <a:lnTo>
                    <a:pt x="238" y="506"/>
                  </a:lnTo>
                  <a:lnTo>
                    <a:pt x="302" y="529"/>
                  </a:lnTo>
                  <a:lnTo>
                    <a:pt x="372" y="546"/>
                  </a:lnTo>
                  <a:lnTo>
                    <a:pt x="418" y="546"/>
                  </a:lnTo>
                  <a:lnTo>
                    <a:pt x="453" y="529"/>
                  </a:lnTo>
                  <a:lnTo>
                    <a:pt x="459" y="495"/>
                  </a:lnTo>
                  <a:lnTo>
                    <a:pt x="471" y="461"/>
                  </a:lnTo>
                  <a:lnTo>
                    <a:pt x="476" y="427"/>
                  </a:lnTo>
                  <a:lnTo>
                    <a:pt x="488" y="395"/>
                  </a:lnTo>
                  <a:lnTo>
                    <a:pt x="494" y="355"/>
                  </a:lnTo>
                  <a:lnTo>
                    <a:pt x="499" y="316"/>
                  </a:lnTo>
                  <a:lnTo>
                    <a:pt x="506" y="277"/>
                  </a:lnTo>
                  <a:lnTo>
                    <a:pt x="511" y="243"/>
                  </a:lnTo>
                  <a:lnTo>
                    <a:pt x="441" y="214"/>
                  </a:lnTo>
                  <a:lnTo>
                    <a:pt x="377" y="186"/>
                  </a:lnTo>
                  <a:lnTo>
                    <a:pt x="314" y="158"/>
                  </a:lnTo>
                  <a:lnTo>
                    <a:pt x="255" y="130"/>
                  </a:lnTo>
                  <a:lnTo>
                    <a:pt x="197" y="96"/>
                  </a:lnTo>
                  <a:lnTo>
                    <a:pt x="139" y="62"/>
                  </a:lnTo>
                  <a:lnTo>
                    <a:pt x="75" y="2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2" name="Freeform 102"/>
            <p:cNvSpPr/>
            <p:nvPr/>
          </p:nvSpPr>
          <p:spPr>
            <a:xfrm>
              <a:off x="8017560" y="6235560"/>
              <a:ext cx="9000" cy="864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lnTo>
                    <a:pt x="0" y="17"/>
                  </a:lnTo>
                  <a:lnTo>
                    <a:pt x="0" y="40"/>
                  </a:lnTo>
                  <a:lnTo>
                    <a:pt x="7" y="34"/>
                  </a:lnTo>
                  <a:lnTo>
                    <a:pt x="30" y="34"/>
                  </a:lnTo>
                  <a:lnTo>
                    <a:pt x="41" y="29"/>
                  </a:lnTo>
                  <a:lnTo>
                    <a:pt x="3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3" name="Freeform 103"/>
            <p:cNvSpPr/>
            <p:nvPr/>
          </p:nvSpPr>
          <p:spPr>
            <a:xfrm>
              <a:off x="7902360" y="6239520"/>
              <a:ext cx="203040" cy="66600"/>
            </a:xfrm>
            <a:custGeom>
              <a:avLst/>
              <a:gdLst/>
              <a:ahLst/>
              <a:rect l="l" t="t" r="r" b="b"/>
              <a:pathLst>
                <a:path w="942" h="287">
                  <a:moveTo>
                    <a:pt x="99" y="12"/>
                  </a:moveTo>
                  <a:lnTo>
                    <a:pt x="58" y="12"/>
                  </a:lnTo>
                  <a:lnTo>
                    <a:pt x="35" y="28"/>
                  </a:lnTo>
                  <a:lnTo>
                    <a:pt x="18" y="45"/>
                  </a:lnTo>
                  <a:lnTo>
                    <a:pt x="12" y="74"/>
                  </a:lnTo>
                  <a:lnTo>
                    <a:pt x="0" y="96"/>
                  </a:lnTo>
                  <a:lnTo>
                    <a:pt x="7" y="124"/>
                  </a:lnTo>
                  <a:lnTo>
                    <a:pt x="7" y="158"/>
                  </a:lnTo>
                  <a:lnTo>
                    <a:pt x="18" y="192"/>
                  </a:lnTo>
                  <a:lnTo>
                    <a:pt x="18" y="226"/>
                  </a:lnTo>
                  <a:lnTo>
                    <a:pt x="18" y="265"/>
                  </a:lnTo>
                  <a:lnTo>
                    <a:pt x="111" y="270"/>
                  </a:lnTo>
                  <a:lnTo>
                    <a:pt x="215" y="282"/>
                  </a:lnTo>
                  <a:lnTo>
                    <a:pt x="321" y="282"/>
                  </a:lnTo>
                  <a:lnTo>
                    <a:pt x="431" y="287"/>
                  </a:lnTo>
                  <a:lnTo>
                    <a:pt x="542" y="275"/>
                  </a:lnTo>
                  <a:lnTo>
                    <a:pt x="651" y="270"/>
                  </a:lnTo>
                  <a:lnTo>
                    <a:pt x="762" y="258"/>
                  </a:lnTo>
                  <a:lnTo>
                    <a:pt x="872" y="253"/>
                  </a:lnTo>
                  <a:lnTo>
                    <a:pt x="902" y="243"/>
                  </a:lnTo>
                  <a:lnTo>
                    <a:pt x="925" y="236"/>
                  </a:lnTo>
                  <a:lnTo>
                    <a:pt x="937" y="226"/>
                  </a:lnTo>
                  <a:lnTo>
                    <a:pt x="942" y="214"/>
                  </a:lnTo>
                  <a:lnTo>
                    <a:pt x="937" y="175"/>
                  </a:lnTo>
                  <a:lnTo>
                    <a:pt x="937" y="141"/>
                  </a:lnTo>
                  <a:lnTo>
                    <a:pt x="797" y="130"/>
                  </a:lnTo>
                  <a:lnTo>
                    <a:pt x="686" y="113"/>
                  </a:lnTo>
                  <a:lnTo>
                    <a:pt x="576" y="84"/>
                  </a:lnTo>
                  <a:lnTo>
                    <a:pt x="489" y="57"/>
                  </a:lnTo>
                  <a:lnTo>
                    <a:pt x="395" y="23"/>
                  </a:lnTo>
                  <a:lnTo>
                    <a:pt x="303" y="6"/>
                  </a:lnTo>
                  <a:lnTo>
                    <a:pt x="204" y="0"/>
                  </a:lnTo>
                  <a:lnTo>
                    <a:pt x="99" y="12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4" name="Freeform 104"/>
            <p:cNvSpPr/>
            <p:nvPr/>
          </p:nvSpPr>
          <p:spPr>
            <a:xfrm>
              <a:off x="8033040" y="4663080"/>
              <a:ext cx="17640" cy="70200"/>
            </a:xfrm>
            <a:custGeom>
              <a:avLst/>
              <a:gdLst/>
              <a:ahLst/>
              <a:rect l="l" t="t" r="r" b="b"/>
              <a:pathLst>
                <a:path w="87" h="299">
                  <a:moveTo>
                    <a:pt x="18" y="0"/>
                  </a:moveTo>
                  <a:lnTo>
                    <a:pt x="81" y="17"/>
                  </a:lnTo>
                  <a:lnTo>
                    <a:pt x="87" y="265"/>
                  </a:lnTo>
                  <a:lnTo>
                    <a:pt x="76" y="265"/>
                  </a:lnTo>
                  <a:lnTo>
                    <a:pt x="53" y="282"/>
                  </a:lnTo>
                  <a:lnTo>
                    <a:pt x="23" y="287"/>
                  </a:lnTo>
                  <a:lnTo>
                    <a:pt x="6" y="299"/>
                  </a:lnTo>
                  <a:lnTo>
                    <a:pt x="0" y="282"/>
                  </a:lnTo>
                  <a:lnTo>
                    <a:pt x="0" y="248"/>
                  </a:lnTo>
                  <a:lnTo>
                    <a:pt x="6" y="203"/>
                  </a:lnTo>
                  <a:lnTo>
                    <a:pt x="18" y="152"/>
                  </a:lnTo>
                  <a:lnTo>
                    <a:pt x="18" y="96"/>
                  </a:lnTo>
                  <a:lnTo>
                    <a:pt x="23" y="51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5" name="Freeform 105"/>
            <p:cNvSpPr/>
            <p:nvPr/>
          </p:nvSpPr>
          <p:spPr>
            <a:xfrm>
              <a:off x="5172840" y="5018040"/>
              <a:ext cx="252000" cy="199800"/>
            </a:xfrm>
            <a:custGeom>
              <a:avLst/>
              <a:gdLst/>
              <a:ahLst/>
              <a:rect l="l" t="t" r="r" b="b"/>
              <a:pathLst>
                <a:path w="1174" h="854">
                  <a:moveTo>
                    <a:pt x="0" y="10"/>
                  </a:moveTo>
                  <a:lnTo>
                    <a:pt x="1174" y="0"/>
                  </a:lnTo>
                  <a:lnTo>
                    <a:pt x="436" y="780"/>
                  </a:lnTo>
                  <a:lnTo>
                    <a:pt x="994" y="854"/>
                  </a:lnTo>
                  <a:lnTo>
                    <a:pt x="552" y="736"/>
                  </a:lnTo>
                  <a:lnTo>
                    <a:pt x="1139" y="6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6" name="Freeform 106"/>
            <p:cNvSpPr/>
            <p:nvPr/>
          </p:nvSpPr>
          <p:spPr>
            <a:xfrm>
              <a:off x="5907960" y="5482800"/>
              <a:ext cx="426240" cy="310320"/>
            </a:xfrm>
            <a:custGeom>
              <a:avLst/>
              <a:gdLst/>
              <a:ahLst/>
              <a:rect l="l" t="t" r="r" b="b"/>
              <a:pathLst>
                <a:path w="1976" h="1332">
                  <a:moveTo>
                    <a:pt x="291" y="0"/>
                  </a:moveTo>
                  <a:lnTo>
                    <a:pt x="0" y="421"/>
                  </a:lnTo>
                  <a:lnTo>
                    <a:pt x="1976" y="1332"/>
                  </a:lnTo>
                  <a:lnTo>
                    <a:pt x="81" y="42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7" name="Freeform 107"/>
            <p:cNvSpPr/>
            <p:nvPr/>
          </p:nvSpPr>
          <p:spPr>
            <a:xfrm>
              <a:off x="5847480" y="4703760"/>
              <a:ext cx="714240" cy="34200"/>
            </a:xfrm>
            <a:custGeom>
              <a:avLst/>
              <a:gdLst/>
              <a:ahLst/>
              <a:rect l="l" t="t" r="r" b="b"/>
              <a:pathLst>
                <a:path w="3318" h="146">
                  <a:moveTo>
                    <a:pt x="0" y="146"/>
                  </a:moveTo>
                  <a:lnTo>
                    <a:pt x="2277" y="45"/>
                  </a:lnTo>
                  <a:lnTo>
                    <a:pt x="3318" y="135"/>
                  </a:lnTo>
                  <a:lnTo>
                    <a:pt x="2306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8" name="Freeform 108"/>
            <p:cNvSpPr/>
            <p:nvPr/>
          </p:nvSpPr>
          <p:spPr>
            <a:xfrm>
              <a:off x="4876920" y="4817160"/>
              <a:ext cx="48960" cy="73440"/>
            </a:xfrm>
            <a:custGeom>
              <a:avLst/>
              <a:gdLst/>
              <a:ahLst/>
              <a:rect l="l" t="t" r="r" b="b"/>
              <a:pathLst>
                <a:path w="226" h="320">
                  <a:moveTo>
                    <a:pt x="226" y="0"/>
                  </a:moveTo>
                  <a:lnTo>
                    <a:pt x="81" y="101"/>
                  </a:lnTo>
                  <a:lnTo>
                    <a:pt x="0" y="320"/>
                  </a:lnTo>
                  <a:lnTo>
                    <a:pt x="17" y="10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69" name="AutoShape 110"/>
          <p:cNvSpPr/>
          <p:nvPr/>
        </p:nvSpPr>
        <p:spPr>
          <a:xfrm>
            <a:off x="4267080" y="2971800"/>
            <a:ext cx="3276720" cy="1143000"/>
          </a:xfrm>
          <a:prstGeom prst="cloudCallout">
            <a:avLst>
              <a:gd name="adj1" fmla="val 56638"/>
              <a:gd name="adj2" fmla="val 8208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0" name="Oval 111"/>
          <p:cNvSpPr/>
          <p:nvPr/>
        </p:nvSpPr>
        <p:spPr>
          <a:xfrm>
            <a:off x="5867280" y="4191120"/>
            <a:ext cx="533520" cy="22860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1" name="Oval 112"/>
          <p:cNvSpPr/>
          <p:nvPr/>
        </p:nvSpPr>
        <p:spPr>
          <a:xfrm>
            <a:off x="6248520" y="4440240"/>
            <a:ext cx="380880" cy="1522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Oval 113"/>
          <p:cNvSpPr/>
          <p:nvPr/>
        </p:nvSpPr>
        <p:spPr>
          <a:xfrm>
            <a:off x="6477120" y="4648320"/>
            <a:ext cx="228600" cy="7596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Oval 114"/>
          <p:cNvSpPr/>
          <p:nvPr/>
        </p:nvSpPr>
        <p:spPr>
          <a:xfrm>
            <a:off x="5105520" y="4114800"/>
            <a:ext cx="533160" cy="22860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Oval 115"/>
          <p:cNvSpPr/>
          <p:nvPr/>
        </p:nvSpPr>
        <p:spPr>
          <a:xfrm>
            <a:off x="5334120" y="4419720"/>
            <a:ext cx="380880" cy="1522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Oval 116"/>
          <p:cNvSpPr/>
          <p:nvPr/>
        </p:nvSpPr>
        <p:spPr>
          <a:xfrm>
            <a:off x="5562720" y="4648320"/>
            <a:ext cx="228600" cy="7596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AutoShape 117"/>
          <p:cNvSpPr/>
          <p:nvPr/>
        </p:nvSpPr>
        <p:spPr>
          <a:xfrm>
            <a:off x="1523880" y="2819520"/>
            <a:ext cx="3124440" cy="1143000"/>
          </a:xfrm>
          <a:prstGeom prst="wedgeRoundRectCallout">
            <a:avLst>
              <a:gd name="adj1" fmla="val -37601"/>
              <a:gd name="adj2" fmla="val 81388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xpression of though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494080" y="2362320"/>
            <a:ext cx="206352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10" name="WordArt 3"/>
          <p:cNvSpPr txBox="1"/>
          <p:nvPr/>
        </p:nvSpPr>
        <p:spPr>
          <a:xfrm>
            <a:off x="1981080" y="228600"/>
            <a:ext cx="52657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ovenantal 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436680" y="1066680"/>
            <a:ext cx="205740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reation Covena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12" name="Picture 5" descr="eartspi2"/>
          <p:cNvPicPr/>
          <p:nvPr/>
        </p:nvPicPr>
        <p:blipFill>
          <a:blip r:embed="rId2"/>
          <a:stretch/>
        </p:blipFill>
        <p:spPr>
          <a:xfrm>
            <a:off x="893880" y="24382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512640" y="370188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od gives a l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4554360" y="1066680"/>
            <a:ext cx="198144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ahic Covena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15" name="Picture 8" descr=""/>
          <p:cNvPicPr/>
          <p:nvPr/>
        </p:nvPicPr>
        <p:blipFill>
          <a:blip r:embed="rId3"/>
          <a:stretch/>
        </p:blipFill>
        <p:spPr>
          <a:xfrm>
            <a:off x="4568760" y="2362320"/>
            <a:ext cx="1967040" cy="313992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9"/>
          <p:cNvSpPr/>
          <p:nvPr/>
        </p:nvSpPr>
        <p:spPr>
          <a:xfrm>
            <a:off x="6545160" y="1066680"/>
            <a:ext cx="213372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brahamic Covena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17" name="Picture 10" descr="prophet"/>
          <p:cNvPicPr/>
          <p:nvPr/>
        </p:nvPicPr>
        <p:blipFill>
          <a:blip r:embed="rId4"/>
          <a:stretch/>
        </p:blipFill>
        <p:spPr>
          <a:xfrm>
            <a:off x="6535800" y="2362320"/>
            <a:ext cx="2151000" cy="31446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1"/>
          <p:cNvSpPr/>
          <p:nvPr/>
        </p:nvSpPr>
        <p:spPr>
          <a:xfrm>
            <a:off x="4700520" y="5484960"/>
            <a:ext cx="162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newal of the l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832440" y="5468760"/>
            <a:ext cx="162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mise of a l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2494080" y="1066680"/>
            <a:ext cx="205740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damic Covena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2590920" y="548964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alvation promi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jesus_king_1"/>
          <p:cNvPicPr/>
          <p:nvPr/>
        </p:nvPicPr>
        <p:blipFill>
          <a:blip r:embed="rId1"/>
          <a:stretch/>
        </p:blipFill>
        <p:spPr>
          <a:xfrm>
            <a:off x="2746440" y="2341440"/>
            <a:ext cx="1960560" cy="3144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3" name="Rectangle 3"/>
          <p:cNvSpPr/>
          <p:nvPr/>
        </p:nvSpPr>
        <p:spPr>
          <a:xfrm>
            <a:off x="744480" y="1066680"/>
            <a:ext cx="198108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osaic Covena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4" name="Picture 4" descr="DSCF3969"/>
          <p:cNvPicPr/>
          <p:nvPr/>
        </p:nvPicPr>
        <p:blipFill>
          <a:blip r:embed="rId2"/>
          <a:stretch/>
        </p:blipFill>
        <p:spPr>
          <a:xfrm>
            <a:off x="762120" y="2362320"/>
            <a:ext cx="196344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5" name="Text Box 5"/>
          <p:cNvSpPr/>
          <p:nvPr/>
        </p:nvSpPr>
        <p:spPr>
          <a:xfrm>
            <a:off x="820800" y="5465880"/>
            <a:ext cx="185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lessings &amp; cursings in the l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2719440" y="1066680"/>
            <a:ext cx="198756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avidic Covena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795760" y="5465880"/>
            <a:ext cx="185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King over the l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377040" y="1066680"/>
            <a:ext cx="198756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ew Covena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6224760" y="5454720"/>
            <a:ext cx="238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King dies for His kingdo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AutoShape 10"/>
          <p:cNvSpPr/>
          <p:nvPr/>
        </p:nvSpPr>
        <p:spPr>
          <a:xfrm>
            <a:off x="4707000" y="1066680"/>
            <a:ext cx="1676160" cy="16002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ova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rom th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1" name="AutoShape 11"/>
          <p:cNvSpPr/>
          <p:nvPr/>
        </p:nvSpPr>
        <p:spPr>
          <a:xfrm flipH="1" flipV="1">
            <a:off x="4707000" y="3138480"/>
            <a:ext cx="1676160" cy="236232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turn 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the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5"/>
          <a:stretch/>
        </p:blipFill>
        <p:spPr>
          <a:xfrm>
            <a:off x="6324480" y="2362320"/>
            <a:ext cx="2168640" cy="3144600"/>
          </a:xfrm>
          <a:prstGeom prst="rect">
            <a:avLst/>
          </a:prstGeom>
          <a:ln w="0">
            <a:noFill/>
          </a:ln>
        </p:spPr>
      </p:pic>
      <p:sp>
        <p:nvSpPr>
          <p:cNvPr id="433" name="WordArt 13"/>
          <p:cNvSpPr txBox="1"/>
          <p:nvPr/>
        </p:nvSpPr>
        <p:spPr>
          <a:xfrm>
            <a:off x="1981080" y="228600"/>
            <a:ext cx="52657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ovenantal 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>
            <a:off x="2438280" y="2209680"/>
            <a:ext cx="42674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Question o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5" name="WordArt 5"/>
          <p:cNvSpPr txBox="1"/>
          <p:nvPr/>
        </p:nvSpPr>
        <p:spPr>
          <a:xfrm>
            <a:off x="2666880" y="3048120"/>
            <a:ext cx="396252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comoda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685800" y="4952880"/>
            <a:ext cx="77119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bylonian Creation Accou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uma E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Tab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su &amp; Tiamat exist as primal g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4" descr="MARDUK"/>
          <p:cNvPicPr/>
          <p:nvPr/>
        </p:nvPicPr>
        <p:blipFill>
          <a:blip r:embed="rId1"/>
          <a:stretch/>
        </p:blipFill>
        <p:spPr>
          <a:xfrm>
            <a:off x="3809880" y="1752480"/>
            <a:ext cx="5011920" cy="301644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5"/>
          <p:cNvSpPr/>
          <p:nvPr/>
        </p:nvSpPr>
        <p:spPr>
          <a:xfrm>
            <a:off x="685800" y="4971960"/>
            <a:ext cx="76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the sky above was not name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685800" y="54853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the earth beneath did not yet bear a name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685800" y="4952880"/>
            <a:ext cx="77119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bylonian Creation Accou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uma E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Tab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su &amp; Tiamat exist as primal g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5" descr="MARDUK"/>
          <p:cNvPicPr/>
          <p:nvPr/>
        </p:nvPicPr>
        <p:blipFill>
          <a:blip r:embed="rId1"/>
          <a:stretch/>
        </p:blipFill>
        <p:spPr>
          <a:xfrm>
            <a:off x="3809880" y="1752480"/>
            <a:ext cx="5011920" cy="30164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"/>
          <p:cNvSpPr/>
          <p:nvPr/>
        </p:nvSpPr>
        <p:spPr>
          <a:xfrm>
            <a:off x="685800" y="4971960"/>
            <a:ext cx="76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the primeval Apsû, who begat them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685800" y="54853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chaos, Tiamat, the mother of them both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685800" y="4952880"/>
            <a:ext cx="77119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bylonian Creation Accou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uma E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Tab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su &amp; Tiamat exist as primal g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5" descr="MARDUK"/>
          <p:cNvPicPr/>
          <p:nvPr/>
        </p:nvPicPr>
        <p:blipFill>
          <a:blip r:embed="rId1"/>
          <a:stretch/>
        </p:blipFill>
        <p:spPr>
          <a:xfrm>
            <a:off x="3809880" y="1752480"/>
            <a:ext cx="5011920" cy="30164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6"/>
          <p:cNvSpPr/>
          <p:nvPr/>
        </p:nvSpPr>
        <p:spPr>
          <a:xfrm>
            <a:off x="685800" y="4971960"/>
            <a:ext cx="76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ir waters were mingled together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685800" y="54853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no field was formed, no marsh was to be seen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685800" y="4952880"/>
            <a:ext cx="77119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bylonian Creation Accou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uma E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Tab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su &amp; Tiamat exist as primal g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5" descr="MARDUK"/>
          <p:cNvPicPr/>
          <p:nvPr/>
        </p:nvPicPr>
        <p:blipFill>
          <a:blip r:embed="rId1"/>
          <a:stretch/>
        </p:blipFill>
        <p:spPr>
          <a:xfrm>
            <a:off x="3809880" y="1752480"/>
            <a:ext cx="5011920" cy="30164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6"/>
          <p:cNvSpPr/>
          <p:nvPr/>
        </p:nvSpPr>
        <p:spPr>
          <a:xfrm>
            <a:off x="685800" y="4971960"/>
            <a:ext cx="7628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of the gods none had been called into being.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bylonian Creation Accou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os erupts with creation of other g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u killed &amp; Tiamat takes Kingu as new husb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4" descr="MARDUK"/>
          <p:cNvPicPr/>
          <p:nvPr/>
        </p:nvPicPr>
        <p:blipFill>
          <a:blip r:embed="rId1"/>
          <a:stretch/>
        </p:blipFill>
        <p:spPr>
          <a:xfrm>
            <a:off x="3809880" y="1752480"/>
            <a:ext cx="5011920" cy="301644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5"/>
          <p:cNvSpPr/>
          <p:nvPr/>
        </p:nvSpPr>
        <p:spPr>
          <a:xfrm>
            <a:off x="457200" y="510552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duk fights Tiamat and uses her corpse to fashion earth and sk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bylonian Creation Accou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duk kills Kingu and creates man from his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bbatu is established as obser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4" descr="MARDUK"/>
          <p:cNvPicPr/>
          <p:nvPr/>
        </p:nvPicPr>
        <p:blipFill>
          <a:blip r:embed="rId1"/>
          <a:stretch/>
        </p:blipFill>
        <p:spPr>
          <a:xfrm>
            <a:off x="3809880" y="1752480"/>
            <a:ext cx="5011920" cy="30164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5"/>
          <p:cNvSpPr/>
          <p:nvPr/>
        </p:nvSpPr>
        <p:spPr>
          <a:xfrm>
            <a:off x="762120" y="51814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efers to full moon that appears once a month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nnuma Elis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4343400" cy="5791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n the height heaven was not nam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earth beneath did not yet bear a nam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primeval Apsu, who begat the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haos, Tiamut, the mother of them b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waters were mingled togeth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4572000" y="7632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Accou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4572000" y="838080"/>
            <a:ext cx="4343400" cy="5791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beginning God created the heavens and the earth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earth was without form and void, and darkness was upon the face of the deep, and the Spirit of God was moving on the face of the waters…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1" name="AutoShape 16"/>
          <p:cNvSpPr/>
          <p:nvPr/>
        </p:nvSpPr>
        <p:spPr>
          <a:xfrm>
            <a:off x="6934320" y="1905120"/>
            <a:ext cx="1066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2" name="AutoShape 17"/>
          <p:cNvSpPr/>
          <p:nvPr/>
        </p:nvSpPr>
        <p:spPr>
          <a:xfrm>
            <a:off x="1581120" y="1828800"/>
            <a:ext cx="91764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3" name="AutoShape 18"/>
          <p:cNvSpPr/>
          <p:nvPr/>
        </p:nvSpPr>
        <p:spPr>
          <a:xfrm>
            <a:off x="270000" y="1336680"/>
            <a:ext cx="12636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4" name="AutoShape 20"/>
          <p:cNvSpPr/>
          <p:nvPr/>
        </p:nvSpPr>
        <p:spPr>
          <a:xfrm>
            <a:off x="6975360" y="1403280"/>
            <a:ext cx="16765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5" name="AutoShape 21"/>
          <p:cNvSpPr/>
          <p:nvPr/>
        </p:nvSpPr>
        <p:spPr>
          <a:xfrm>
            <a:off x="974880" y="3200400"/>
            <a:ext cx="1066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6" name="AutoShape 22"/>
          <p:cNvSpPr/>
          <p:nvPr/>
        </p:nvSpPr>
        <p:spPr>
          <a:xfrm>
            <a:off x="4800600" y="1387440"/>
            <a:ext cx="15238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7" name="AutoShape 23"/>
          <p:cNvSpPr/>
          <p:nvPr/>
        </p:nvSpPr>
        <p:spPr>
          <a:xfrm>
            <a:off x="990720" y="3733920"/>
            <a:ext cx="1066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8" name="AutoShape 24"/>
          <p:cNvSpPr/>
          <p:nvPr/>
        </p:nvSpPr>
        <p:spPr>
          <a:xfrm>
            <a:off x="4664160" y="2971800"/>
            <a:ext cx="40384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9" name="AutoShape 25"/>
          <p:cNvSpPr/>
          <p:nvPr/>
        </p:nvSpPr>
        <p:spPr>
          <a:xfrm>
            <a:off x="1174680" y="4648320"/>
            <a:ext cx="11430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0" name="AutoShape 26"/>
          <p:cNvSpPr/>
          <p:nvPr/>
        </p:nvSpPr>
        <p:spPr>
          <a:xfrm>
            <a:off x="5791320" y="5867280"/>
            <a:ext cx="15238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2133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True Object of Interpretation is to Apprehend the Exact Thought of the Wri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853920" cy="20574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17"/>
          <p:cNvSpPr/>
          <p:nvPr/>
        </p:nvSpPr>
        <p:spPr>
          <a:xfrm>
            <a:off x="1371600" y="2971800"/>
            <a:ext cx="3276720" cy="1143000"/>
          </a:xfrm>
          <a:prstGeom prst="cloudCallout">
            <a:avLst>
              <a:gd name="adj1" fmla="val -30666"/>
              <a:gd name="adj2" fmla="val 6361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WordArt 118"/>
          <p:cNvSpPr txBox="1"/>
          <p:nvPr/>
        </p:nvSpPr>
        <p:spPr>
          <a:xfrm>
            <a:off x="1752480" y="4952880"/>
            <a:ext cx="6934320" cy="11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t "What does it mean to me?"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nnuma Elis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43434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amat engulfs world in a primal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4572000" y="7632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Accou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572000" y="838080"/>
            <a:ext cx="43434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was unformed and unfilled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228600" y="1981080"/>
            <a:ext cx="434340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comes from the gods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4572000" y="1981080"/>
            <a:ext cx="434340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brings light into existence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228600" y="3048120"/>
            <a:ext cx="43434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duk makes the stars of the zodiac and ordains the year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4572000" y="3048120"/>
            <a:ext cx="43434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ets sun and moon for signs, seasons, days, and years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228600" y="510552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duk makes man from the blood of Kingu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4572000" y="510552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reates man in His own image and likeness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nnuma Elis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0" y="7632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Accou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228600" y="838080"/>
            <a:ext cx="4343400" cy="3581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duk commands the horns to determine six days, the seventh day to divide the crown, and the fourteenth day to be the Sabbatu (when the moon is full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4" name="Rectangle 11"/>
          <p:cNvSpPr/>
          <p:nvPr/>
        </p:nvSpPr>
        <p:spPr>
          <a:xfrm>
            <a:off x="4572000" y="838080"/>
            <a:ext cx="4343400" cy="3581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reates in six days and rests on the seventh day which He appoints as a Sabba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oses is giving to us a refutation of the accepted mythos that was held in antiquity as he goes point by point to show that God is the true Creator of heaven and earth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2666880"/>
            <a:ext cx="31240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numa E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6" descr="MARDUK"/>
          <p:cNvPicPr/>
          <p:nvPr/>
        </p:nvPicPr>
        <p:blipFill>
          <a:blip r:embed="rId1"/>
          <a:stretch/>
        </p:blipFill>
        <p:spPr>
          <a:xfrm>
            <a:off x="380880" y="762120"/>
            <a:ext cx="3335400" cy="20066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8" descr="torah"/>
          <p:cNvPicPr/>
          <p:nvPr/>
        </p:nvPicPr>
        <p:blipFill>
          <a:blip r:embed="rId2"/>
          <a:stretch/>
        </p:blipFill>
        <p:spPr>
          <a:xfrm>
            <a:off x="6248520" y="514440"/>
            <a:ext cx="1581120" cy="260964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7"/>
          <p:cNvSpPr/>
          <p:nvPr/>
        </p:nvSpPr>
        <p:spPr>
          <a:xfrm>
            <a:off x="5334120" y="2666880"/>
            <a:ext cx="350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Accou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0" name="AutoShape 9"/>
          <p:cNvSpPr/>
          <p:nvPr/>
        </p:nvSpPr>
        <p:spPr>
          <a:xfrm>
            <a:off x="3352680" y="1676520"/>
            <a:ext cx="2362320" cy="609480"/>
          </a:xfrm>
          <a:prstGeom prst="leftRightArrow">
            <a:avLst>
              <a:gd name="adj1" fmla="val 53648"/>
              <a:gd name="adj2" fmla="val 10002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1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beginning God created the heavens and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earth was unformed and unfilled, and darkness was over the surface of the deep; and the Spirit of God was moving over the surface of the wa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609480" y="9144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>
            <a:off x="4952880" y="281952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5" name="Line 6"/>
          <p:cNvSpPr/>
          <p:nvPr/>
        </p:nvSpPr>
        <p:spPr>
          <a:xfrm>
            <a:off x="1066680" y="329256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4190760" cy="1139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form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4495680" y="457200"/>
            <a:ext cx="4191120" cy="1139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fill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304920" y="1571760"/>
            <a:ext cx="4190760" cy="1171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1:  Ligh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495680" y="1568520"/>
            <a:ext cx="4191120" cy="11905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4:  Light-bearers (sun, moon, star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304920" y="2746440"/>
            <a:ext cx="4190760" cy="11397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2:  Water &amp; sky divid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4495680" y="2743200"/>
            <a:ext cx="4191120" cy="1143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5:  Fish &amp; birds to fill water &amp; sk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04920" y="3902040"/>
            <a:ext cx="4190760" cy="11397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3:  Dry land &amp; vegeta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4495680" y="3898800"/>
            <a:ext cx="4191120" cy="1143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6:  Land animals &amp; m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304920" y="5029200"/>
            <a:ext cx="8381880" cy="11397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7:  Sabbath Res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3886200" cy="1447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a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38862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and darkness are made by God on Day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4191120" y="152280"/>
            <a:ext cx="4572000" cy="1447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a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Israelite Experienc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4191120" y="1600200"/>
            <a:ext cx="45720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seen God bring light and darkness over Egyp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304920" y="3200400"/>
            <a:ext cx="38862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vision of the waters on Day 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0" name="Rectangle 9"/>
          <p:cNvSpPr/>
          <p:nvPr/>
        </p:nvSpPr>
        <p:spPr>
          <a:xfrm>
            <a:off x="4191120" y="3200400"/>
            <a:ext cx="45720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passed through the Red Se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304920" y="4343400"/>
            <a:ext cx="388620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n and moon and stars created on Day 4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4191120" y="4343400"/>
            <a:ext cx="457200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s worshiped the sun and moon and stars and had seen the sun darkened in Egypt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3886200" cy="1447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a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38862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is created in the image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4191120" y="152280"/>
            <a:ext cx="4572000" cy="1447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a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Israelite Experienc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4191120" y="1600200"/>
            <a:ext cx="45720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he Pharaoh was thought to be in the image of Go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304920" y="3200400"/>
            <a:ext cx="38862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is told to rule over the ear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4191120" y="3200400"/>
            <a:ext cx="45720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he Pharaoh had the right of rulershi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304920" y="4343400"/>
            <a:ext cx="388620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is placed into a beautiful garde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4191120" y="4343400"/>
            <a:ext cx="457200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ites are tempted to return to the meats of Egypt, but Canaan is the new promised Eden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0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3886200" cy="1447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a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4191120" y="152280"/>
            <a:ext cx="4572000" cy="1447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a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Israelite Experienc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447560" y="2057400"/>
            <a:ext cx="6019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light of Israel’s personal relationship with God, they need to know that He is not only the God of Israel, but He is God over all cre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853920" cy="20574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971440" y="3505320"/>
            <a:ext cx="5715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ncourage you in the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vince you of a tr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rge you to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d you in pra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2133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uthor’s Purpose Determines the Character of His Wor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2971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erpretation Must Be According to the Customs and the History of the Time of the Writ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57200" y="40384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gain I say unto you, It is easier for a camel to go through the eye of a needle, than for a rich man to enter into the kingdom of God.” (Matthew 19:24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his disciples heard it, they were exceedingly amazed, saying, “Who then can be saved?”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Jesus beheld them, and said unto them, “With men this is IMPOSSIBLE; but with God all things are possible.” (Matthew 19:25-26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2133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wo Writers Do Not Independently Express Thought Alik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1"/>
          <a:stretch/>
        </p:blipFill>
        <p:spPr>
          <a:xfrm>
            <a:off x="3657600" y="3200400"/>
            <a:ext cx="1724040" cy="259092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12"/>
          <p:cNvSpPr/>
          <p:nvPr/>
        </p:nvSpPr>
        <p:spPr>
          <a:xfrm rot="21061200">
            <a:off x="2742840" y="4876920"/>
            <a:ext cx="1295280" cy="304560"/>
          </a:xfrm>
          <a:prstGeom prst="rightArrow">
            <a:avLst>
              <a:gd name="adj1" fmla="val 50000"/>
              <a:gd name="adj2" fmla="val 10632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 rot="11287800">
            <a:off x="5028840" y="4876560"/>
            <a:ext cx="1295280" cy="304560"/>
          </a:xfrm>
          <a:prstGeom prst="rightArrow">
            <a:avLst>
              <a:gd name="adj1" fmla="val 50000"/>
              <a:gd name="adj2" fmla="val 1063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1" name="AutoShape 14"/>
          <p:cNvSpPr/>
          <p:nvPr/>
        </p:nvSpPr>
        <p:spPr>
          <a:xfrm rot="18945000">
            <a:off x="3200400" y="540972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2" name="AutoShape 15"/>
          <p:cNvSpPr/>
          <p:nvPr/>
        </p:nvSpPr>
        <p:spPr>
          <a:xfrm rot="12970200">
            <a:off x="4560840" y="5398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3" name="Oval 8"/>
          <p:cNvSpPr/>
          <p:nvPr/>
        </p:nvSpPr>
        <p:spPr>
          <a:xfrm>
            <a:off x="609480" y="4724280"/>
            <a:ext cx="2286000" cy="914400"/>
          </a:xfrm>
          <a:prstGeom prst="ellipse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tthew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4" name="Oval 9"/>
          <p:cNvSpPr/>
          <p:nvPr/>
        </p:nvSpPr>
        <p:spPr>
          <a:xfrm>
            <a:off x="6248520" y="4724280"/>
            <a:ext cx="2286000" cy="914400"/>
          </a:xfrm>
          <a:prstGeom prst="ellipse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oh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1600200" y="5791320"/>
            <a:ext cx="2286000" cy="914400"/>
          </a:xfrm>
          <a:prstGeom prst="ellipse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rk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6" name="Oval 11"/>
          <p:cNvSpPr/>
          <p:nvPr/>
        </p:nvSpPr>
        <p:spPr>
          <a:xfrm>
            <a:off x="5181480" y="5791320"/>
            <a:ext cx="2286000" cy="914400"/>
          </a:xfrm>
          <a:prstGeom prst="ellipse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uk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2971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Translation Must Be the Exact Equivalent of the Original, or Else the Difference must Be Not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914400" y="4343400"/>
            <a:ext cx="7086600" cy="1219320"/>
          </a:xfrm>
          <a:prstGeom prst="leftRightArrow">
            <a:avLst>
              <a:gd name="adj1" fmla="val 50000"/>
              <a:gd name="adj2" fmla="val 115700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9" name="WordArt 13"/>
          <p:cNvSpPr txBox="1"/>
          <p:nvPr/>
        </p:nvSpPr>
        <p:spPr>
          <a:xfrm>
            <a:off x="457200" y="53341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ter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WordArt 14"/>
          <p:cNvSpPr txBox="1"/>
          <p:nvPr/>
        </p:nvSpPr>
        <p:spPr>
          <a:xfrm>
            <a:off x="228600" y="601992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ansla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WordArt 15"/>
          <p:cNvSpPr txBox="1"/>
          <p:nvPr/>
        </p:nvSpPr>
        <p:spPr>
          <a:xfrm>
            <a:off x="6858000" y="5334120"/>
            <a:ext cx="1752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ynami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16"/>
          <p:cNvSpPr txBox="1"/>
          <p:nvPr/>
        </p:nvSpPr>
        <p:spPr>
          <a:xfrm>
            <a:off x="6781680" y="6019920"/>
            <a:ext cx="1981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quivalen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12193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182880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JV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495288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V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312408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243828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V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1797120" y="4191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2416320" y="43545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Line 24"/>
          <p:cNvSpPr/>
          <p:nvPr/>
        </p:nvSpPr>
        <p:spPr>
          <a:xfrm>
            <a:off x="370188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1" name="Line 25"/>
          <p:cNvSpPr/>
          <p:nvPr/>
        </p:nvSpPr>
        <p:spPr>
          <a:xfrm>
            <a:off x="3036960" y="4191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2" name="Line 26"/>
          <p:cNvSpPr/>
          <p:nvPr/>
        </p:nvSpPr>
        <p:spPr>
          <a:xfrm>
            <a:off x="5518080" y="420228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6477120" y="374976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ing Bibl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4" name="Line 28"/>
          <p:cNvSpPr/>
          <p:nvPr/>
        </p:nvSpPr>
        <p:spPr>
          <a:xfrm>
            <a:off x="7032600" y="454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7620120" y="37497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fied Bibl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6" name="Line 30"/>
          <p:cNvSpPr/>
          <p:nvPr/>
        </p:nvSpPr>
        <p:spPr>
          <a:xfrm flipH="1">
            <a:off x="7543440" y="4572000"/>
            <a:ext cx="609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6-11-15T20:44:36Z</dcterms:modified>
  <cp:revision>278</cp:revision>
  <dc:subject>Biblical Interpretation</dc:subject>
  <dc:title>Biblical Interpretation</dc:title>
</cp:coreProperties>
</file>