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E9A-3EE5-4BE0-AE31-5B093338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247-230C-460F-8860-9F132271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4E0-BF3B-4300-938E-7160437C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2FC-86A8-4CF5-A2DD-F0F393E4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43F-B81D-453F-B2BA-D18A2FA0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644-1AD5-4D1C-B5CC-40C917EF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A04-1C9B-4A20-8BD6-AF2AC9C3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611-1077-4420-869A-1EA760D9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775-046B-41A2-A15B-BE6D7694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0D7-509B-4336-8A81-BC3AC23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3EB-AF9C-4395-80F6-B1C411C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8CE-1393-4998-A23B-512CCB59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95F3-9A7D-4722-A7BB-100BCC5B00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gging into the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6120" y="62625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Interpret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4876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to Read the Boo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09680" y="5867280"/>
            <a:ext cx="670572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lessed hope and the app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267080"/>
            <a:ext cx="594360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bly, righteously and godly in the present ag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23880" y="3733560"/>
            <a:ext cx="137160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28600"/>
            <a:ext cx="685800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grace of God has appear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838080"/>
            <a:ext cx="548640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ing salvation to all m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447920"/>
            <a:ext cx="304812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tructing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666880"/>
            <a:ext cx="601992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godliness and worldly des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200400"/>
            <a:ext cx="99072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057400"/>
            <a:ext cx="152424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334120"/>
            <a:ext cx="221004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5120" y="1295280"/>
            <a:ext cx="350496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lessed h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762120"/>
            <a:ext cx="220968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124080"/>
            <a:ext cx="68580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733920"/>
            <a:ext cx="190512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l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4343400"/>
            <a:ext cx="533412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our great God and Savi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4952880"/>
            <a:ext cx="281916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1905120"/>
            <a:ext cx="99036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514600"/>
            <a:ext cx="274320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457200"/>
            <a:ext cx="281916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962520"/>
            <a:ext cx="396216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urify for Him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066680"/>
            <a:ext cx="99072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00200"/>
            <a:ext cx="380988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Himself for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209680"/>
            <a:ext cx="266688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deem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352680"/>
            <a:ext cx="91440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5791320"/>
            <a:ext cx="457200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alous for good dee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572000"/>
            <a:ext cx="190476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181480"/>
            <a:ext cx="457200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is own possess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819520"/>
            <a:ext cx="4724280" cy="609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every lawless de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325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grace of God that brings salvation has appeared to all men. (NIV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905120"/>
            <a:ext cx="8534160" cy="1325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grace of God has appeared, bringing salvation to all men (N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581280"/>
            <a:ext cx="8534160" cy="1325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grace of God that bringeth salvation hath appeared to all men (KJ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303880"/>
            <a:ext cx="8534160" cy="1325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grace of God has appeared, bringing salvation to all people (N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5015160" cy="609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38680" y="2179800"/>
            <a:ext cx="335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verse or chapter di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aces between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480" y="1219320"/>
            <a:ext cx="37339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uscrip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5880" y="457200"/>
            <a:ext cx="14479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2520" y="304560"/>
            <a:ext cx="3581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ge 84 for an English example of reading an ancient tex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3676680" cy="476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781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n Jesus came to them and said, “All authority in heaven and on earth has been given to me. </a:t>
            </a:r>
            <a:br>
              <a:rPr sz="32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refore go and make disciples of all nations, baptizing them in the name of the Father and of the Son and of the Holy Spirit,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teaching them to obey everything I have commanded you.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surely I am with you always, to the very end of the age.”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Matthew 28:18-20, NIV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22860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bser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91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Workbook Pg 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95480" y="2057400"/>
            <a:ext cx="3281400" cy="74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pret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28800" y="2971800"/>
            <a:ext cx="5410080" cy="74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rmons &amp; Discours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38862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rm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388620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o a large group of people in a public or semi-public set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36400"/>
            <a:ext cx="3886200" cy="911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our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447920"/>
            <a:ext cx="388620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o a small group in a private or semi-private set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733920"/>
            <a:ext cx="3886200" cy="2514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  Sermon on the Mount; Peter’s address at Pentecost; Paul on Mars H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733920"/>
            <a:ext cx="3886200" cy="2514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 Olivet Discourse, Nicodemus Interview, Samaritan Wo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76520" y="3017520"/>
            <a:ext cx="6705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mon Summa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piration and the Authority of Sermons &amp; Discou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nciple of Prior Knowled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28800" y="1692360"/>
            <a:ext cx="5410080" cy="74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rmons &amp; Discours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743200" y="838080"/>
            <a:ext cx="3505320" cy="74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ature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5638680"/>
            <a:ext cx="2809800" cy="739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zca, Pe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076800" cy="444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0320" y="1676520"/>
            <a:ext cx="4344840" cy="414360"/>
          </a:xfrm>
          <a:prstGeom prst="rightArrow">
            <a:avLst>
              <a:gd name="adj1" fmla="val 50000"/>
              <a:gd name="adj2" fmla="val 262142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495680"/>
            <a:ext cx="3429000" cy="381240"/>
          </a:xfrm>
          <a:prstGeom prst="rightArrow">
            <a:avLst>
              <a:gd name="adj1" fmla="val 50000"/>
              <a:gd name="adj2" fmla="val 224858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17440" y="3733920"/>
            <a:ext cx="3792600" cy="1982520"/>
            <a:chOff x="4717440" y="3733920"/>
            <a:chExt cx="3792600" cy="1982520"/>
          </a:xfrm>
        </p:grpSpPr>
        <p:grpSp>
          <p:nvGrpSpPr>
            <p:cNvPr id="124" name=""/>
            <p:cNvGrpSpPr/>
            <p:nvPr/>
          </p:nvGrpSpPr>
          <p:grpSpPr>
            <a:xfrm>
              <a:off x="4952880" y="3733920"/>
              <a:ext cx="3047400" cy="1622520"/>
              <a:chOff x="4952880" y="3733920"/>
              <a:chExt cx="3047400" cy="1622520"/>
            </a:xfrm>
          </p:grpSpPr>
          <p:sp>
            <p:nvSpPr>
              <p:cNvPr id="125" name=""/>
              <p:cNvSpPr/>
              <p:nvPr/>
            </p:nvSpPr>
            <p:spPr>
              <a:xfrm>
                <a:off x="5782320" y="3733920"/>
                <a:ext cx="2217960" cy="1622520"/>
              </a:xfrm>
              <a:custGeom>
                <a:avLst/>
                <a:gdLst/>
                <a:ahLst/>
                <a:rect l="l" t="t" r="r" b="b"/>
                <a:pathLst>
                  <a:path w="11071" h="7950">
                    <a:moveTo>
                      <a:pt x="9205" y="6364"/>
                    </a:moveTo>
                    <a:lnTo>
                      <a:pt x="9205" y="6173"/>
                    </a:lnTo>
                    <a:lnTo>
                      <a:pt x="9218" y="5982"/>
                    </a:lnTo>
                    <a:lnTo>
                      <a:pt x="9234" y="5797"/>
                    </a:lnTo>
                    <a:lnTo>
                      <a:pt x="9252" y="5611"/>
                    </a:lnTo>
                    <a:lnTo>
                      <a:pt x="9269" y="5426"/>
                    </a:lnTo>
                    <a:lnTo>
                      <a:pt x="9292" y="5240"/>
                    </a:lnTo>
                    <a:lnTo>
                      <a:pt x="9304" y="5060"/>
                    </a:lnTo>
                    <a:lnTo>
                      <a:pt x="9316" y="4880"/>
                    </a:lnTo>
                    <a:lnTo>
                      <a:pt x="9316" y="4824"/>
                    </a:lnTo>
                    <a:lnTo>
                      <a:pt x="9322" y="4768"/>
                    </a:lnTo>
                    <a:lnTo>
                      <a:pt x="9333" y="4701"/>
                    </a:lnTo>
                    <a:lnTo>
                      <a:pt x="9345" y="4639"/>
                    </a:lnTo>
                    <a:lnTo>
                      <a:pt x="9345" y="4571"/>
                    </a:lnTo>
                    <a:lnTo>
                      <a:pt x="9350" y="4503"/>
                    </a:lnTo>
                    <a:lnTo>
                      <a:pt x="9345" y="4436"/>
                    </a:lnTo>
                    <a:lnTo>
                      <a:pt x="9339" y="4380"/>
                    </a:lnTo>
                    <a:lnTo>
                      <a:pt x="9322" y="4341"/>
                    </a:lnTo>
                    <a:lnTo>
                      <a:pt x="9299" y="4307"/>
                    </a:lnTo>
                    <a:lnTo>
                      <a:pt x="9269" y="4262"/>
                    </a:lnTo>
                    <a:lnTo>
                      <a:pt x="9246" y="4223"/>
                    </a:lnTo>
                    <a:lnTo>
                      <a:pt x="9218" y="4177"/>
                    </a:lnTo>
                    <a:lnTo>
                      <a:pt x="9188" y="4144"/>
                    </a:lnTo>
                    <a:lnTo>
                      <a:pt x="9159" y="4105"/>
                    </a:lnTo>
                    <a:lnTo>
                      <a:pt x="9142" y="4082"/>
                    </a:lnTo>
                    <a:lnTo>
                      <a:pt x="9119" y="4122"/>
                    </a:lnTo>
                    <a:lnTo>
                      <a:pt x="9112" y="4172"/>
                    </a:lnTo>
                    <a:lnTo>
                      <a:pt x="9107" y="4233"/>
                    </a:lnTo>
                    <a:lnTo>
                      <a:pt x="9107" y="4301"/>
                    </a:lnTo>
                    <a:lnTo>
                      <a:pt x="9107" y="4363"/>
                    </a:lnTo>
                    <a:lnTo>
                      <a:pt x="9112" y="4425"/>
                    </a:lnTo>
                    <a:lnTo>
                      <a:pt x="9112" y="4481"/>
                    </a:lnTo>
                    <a:lnTo>
                      <a:pt x="9112" y="4537"/>
                    </a:lnTo>
                    <a:lnTo>
                      <a:pt x="9101" y="4655"/>
                    </a:lnTo>
                    <a:lnTo>
                      <a:pt x="9101" y="4779"/>
                    </a:lnTo>
                    <a:lnTo>
                      <a:pt x="9101" y="4892"/>
                    </a:lnTo>
                    <a:lnTo>
                      <a:pt x="9107" y="5010"/>
                    </a:lnTo>
                    <a:lnTo>
                      <a:pt x="9107" y="5122"/>
                    </a:lnTo>
                    <a:lnTo>
                      <a:pt x="9112" y="5240"/>
                    </a:lnTo>
                    <a:lnTo>
                      <a:pt x="9112" y="5358"/>
                    </a:lnTo>
                    <a:lnTo>
                      <a:pt x="9112" y="5488"/>
                    </a:lnTo>
                    <a:lnTo>
                      <a:pt x="9101" y="5577"/>
                    </a:lnTo>
                    <a:lnTo>
                      <a:pt x="9101" y="5673"/>
                    </a:lnTo>
                    <a:lnTo>
                      <a:pt x="9095" y="5775"/>
                    </a:lnTo>
                    <a:lnTo>
                      <a:pt x="9095" y="5876"/>
                    </a:lnTo>
                    <a:lnTo>
                      <a:pt x="9095" y="5971"/>
                    </a:lnTo>
                    <a:lnTo>
                      <a:pt x="9101" y="6067"/>
                    </a:lnTo>
                    <a:lnTo>
                      <a:pt x="9107" y="6157"/>
                    </a:lnTo>
                    <a:lnTo>
                      <a:pt x="9124" y="6246"/>
                    </a:lnTo>
                    <a:lnTo>
                      <a:pt x="9130" y="6286"/>
                    </a:lnTo>
                    <a:lnTo>
                      <a:pt x="9147" y="6325"/>
                    </a:lnTo>
                    <a:lnTo>
                      <a:pt x="9165" y="6348"/>
                    </a:lnTo>
                    <a:lnTo>
                      <a:pt x="9205" y="6364"/>
                    </a:lnTo>
                    <a:lnTo>
                      <a:pt x="9177" y="6573"/>
                    </a:lnTo>
                    <a:lnTo>
                      <a:pt x="9048" y="6567"/>
                    </a:lnTo>
                    <a:lnTo>
                      <a:pt x="8932" y="6567"/>
                    </a:lnTo>
                    <a:lnTo>
                      <a:pt x="8816" y="6562"/>
                    </a:lnTo>
                    <a:lnTo>
                      <a:pt x="8711" y="6562"/>
                    </a:lnTo>
                    <a:lnTo>
                      <a:pt x="8595" y="6550"/>
                    </a:lnTo>
                    <a:lnTo>
                      <a:pt x="8485" y="6545"/>
                    </a:lnTo>
                    <a:lnTo>
                      <a:pt x="8363" y="6539"/>
                    </a:lnTo>
                    <a:lnTo>
                      <a:pt x="8247" y="6533"/>
                    </a:lnTo>
                    <a:lnTo>
                      <a:pt x="8212" y="6528"/>
                    </a:lnTo>
                    <a:lnTo>
                      <a:pt x="8171" y="6528"/>
                    </a:lnTo>
                    <a:lnTo>
                      <a:pt x="8125" y="6533"/>
                    </a:lnTo>
                    <a:lnTo>
                      <a:pt x="8078" y="6539"/>
                    </a:lnTo>
                    <a:lnTo>
                      <a:pt x="8026" y="6539"/>
                    </a:lnTo>
                    <a:lnTo>
                      <a:pt x="7974" y="6539"/>
                    </a:lnTo>
                    <a:lnTo>
                      <a:pt x="7921" y="6533"/>
                    </a:lnTo>
                    <a:lnTo>
                      <a:pt x="7887" y="6533"/>
                    </a:lnTo>
                    <a:lnTo>
                      <a:pt x="7852" y="6506"/>
                    </a:lnTo>
                    <a:lnTo>
                      <a:pt x="7834" y="6477"/>
                    </a:lnTo>
                    <a:lnTo>
                      <a:pt x="7817" y="6432"/>
                    </a:lnTo>
                    <a:lnTo>
                      <a:pt x="7804" y="6393"/>
                    </a:lnTo>
                    <a:lnTo>
                      <a:pt x="7764" y="6381"/>
                    </a:lnTo>
                    <a:lnTo>
                      <a:pt x="7723" y="6376"/>
                    </a:lnTo>
                    <a:lnTo>
                      <a:pt x="7683" y="6376"/>
                    </a:lnTo>
                    <a:lnTo>
                      <a:pt x="7649" y="6381"/>
                    </a:lnTo>
                    <a:lnTo>
                      <a:pt x="7665" y="6196"/>
                    </a:lnTo>
                    <a:lnTo>
                      <a:pt x="7689" y="6011"/>
                    </a:lnTo>
                    <a:lnTo>
                      <a:pt x="7706" y="5825"/>
                    </a:lnTo>
                    <a:lnTo>
                      <a:pt x="7723" y="5640"/>
                    </a:lnTo>
                    <a:lnTo>
                      <a:pt x="7730" y="5449"/>
                    </a:lnTo>
                    <a:lnTo>
                      <a:pt x="7747" y="5263"/>
                    </a:lnTo>
                    <a:lnTo>
                      <a:pt x="7753" y="5066"/>
                    </a:lnTo>
                    <a:lnTo>
                      <a:pt x="7770" y="4870"/>
                    </a:lnTo>
                    <a:lnTo>
                      <a:pt x="7770" y="4802"/>
                    </a:lnTo>
                    <a:lnTo>
                      <a:pt x="7781" y="4740"/>
                    </a:lnTo>
                    <a:lnTo>
                      <a:pt x="7793" y="4661"/>
                    </a:lnTo>
                    <a:lnTo>
                      <a:pt x="7804" y="4588"/>
                    </a:lnTo>
                    <a:lnTo>
                      <a:pt x="7811" y="4510"/>
                    </a:lnTo>
                    <a:lnTo>
                      <a:pt x="7817" y="4442"/>
                    </a:lnTo>
                    <a:lnTo>
                      <a:pt x="7811" y="4375"/>
                    </a:lnTo>
                    <a:lnTo>
                      <a:pt x="7804" y="4329"/>
                    </a:lnTo>
                    <a:lnTo>
                      <a:pt x="7788" y="4329"/>
                    </a:lnTo>
                    <a:lnTo>
                      <a:pt x="7770" y="4329"/>
                    </a:lnTo>
                    <a:lnTo>
                      <a:pt x="7730" y="4262"/>
                    </a:lnTo>
                    <a:lnTo>
                      <a:pt x="7695" y="4200"/>
                    </a:lnTo>
                    <a:lnTo>
                      <a:pt x="7660" y="4138"/>
                    </a:lnTo>
                    <a:lnTo>
                      <a:pt x="7624" y="4088"/>
                    </a:lnTo>
                    <a:lnTo>
                      <a:pt x="7578" y="4026"/>
                    </a:lnTo>
                    <a:lnTo>
                      <a:pt x="7538" y="3975"/>
                    </a:lnTo>
                    <a:lnTo>
                      <a:pt x="7492" y="3924"/>
                    </a:lnTo>
                    <a:lnTo>
                      <a:pt x="7444" y="3880"/>
                    </a:lnTo>
                    <a:lnTo>
                      <a:pt x="7444" y="3958"/>
                    </a:lnTo>
                    <a:lnTo>
                      <a:pt x="7433" y="4037"/>
                    </a:lnTo>
                    <a:lnTo>
                      <a:pt x="7410" y="4105"/>
                    </a:lnTo>
                    <a:lnTo>
                      <a:pt x="7381" y="4155"/>
                    </a:lnTo>
                    <a:lnTo>
                      <a:pt x="7328" y="4183"/>
                    </a:lnTo>
                    <a:lnTo>
                      <a:pt x="7276" y="4200"/>
                    </a:lnTo>
                    <a:lnTo>
                      <a:pt x="7206" y="4189"/>
                    </a:lnTo>
                    <a:lnTo>
                      <a:pt x="7131" y="4161"/>
                    </a:lnTo>
                    <a:lnTo>
                      <a:pt x="7125" y="4172"/>
                    </a:lnTo>
                    <a:lnTo>
                      <a:pt x="7125" y="4200"/>
                    </a:lnTo>
                    <a:lnTo>
                      <a:pt x="7125" y="4228"/>
                    </a:lnTo>
                    <a:lnTo>
                      <a:pt x="7131" y="4240"/>
                    </a:lnTo>
                    <a:lnTo>
                      <a:pt x="7131" y="4335"/>
                    </a:lnTo>
                    <a:lnTo>
                      <a:pt x="7131" y="4431"/>
                    </a:lnTo>
                    <a:lnTo>
                      <a:pt x="7131" y="4515"/>
                    </a:lnTo>
                    <a:lnTo>
                      <a:pt x="7137" y="4605"/>
                    </a:lnTo>
                    <a:lnTo>
                      <a:pt x="7142" y="4689"/>
                    </a:lnTo>
                    <a:lnTo>
                      <a:pt x="7148" y="4779"/>
                    </a:lnTo>
                    <a:lnTo>
                      <a:pt x="7154" y="4863"/>
                    </a:lnTo>
                    <a:lnTo>
                      <a:pt x="7165" y="4965"/>
                    </a:lnTo>
                    <a:lnTo>
                      <a:pt x="7172" y="5100"/>
                    </a:lnTo>
                    <a:lnTo>
                      <a:pt x="7188" y="5246"/>
                    </a:lnTo>
                    <a:lnTo>
                      <a:pt x="7206" y="5398"/>
                    </a:lnTo>
                    <a:lnTo>
                      <a:pt x="7229" y="5550"/>
                    </a:lnTo>
                    <a:lnTo>
                      <a:pt x="7236" y="5701"/>
                    </a:lnTo>
                    <a:lnTo>
                      <a:pt x="7247" y="5859"/>
                    </a:lnTo>
                    <a:lnTo>
                      <a:pt x="7241" y="6011"/>
                    </a:lnTo>
                    <a:lnTo>
                      <a:pt x="7236" y="6163"/>
                    </a:lnTo>
                    <a:lnTo>
                      <a:pt x="7271" y="6168"/>
                    </a:lnTo>
                    <a:lnTo>
                      <a:pt x="7305" y="6173"/>
                    </a:lnTo>
                    <a:lnTo>
                      <a:pt x="7340" y="6179"/>
                    </a:lnTo>
                    <a:lnTo>
                      <a:pt x="7375" y="6185"/>
                    </a:lnTo>
                    <a:lnTo>
                      <a:pt x="7410" y="6190"/>
                    </a:lnTo>
                    <a:lnTo>
                      <a:pt x="7444" y="6196"/>
                    </a:lnTo>
                    <a:lnTo>
                      <a:pt x="7479" y="6202"/>
                    </a:lnTo>
                    <a:lnTo>
                      <a:pt x="7526" y="6212"/>
                    </a:lnTo>
                    <a:lnTo>
                      <a:pt x="7526" y="6286"/>
                    </a:lnTo>
                    <a:lnTo>
                      <a:pt x="7509" y="6292"/>
                    </a:lnTo>
                    <a:lnTo>
                      <a:pt x="7509" y="6314"/>
                    </a:lnTo>
                    <a:lnTo>
                      <a:pt x="7515" y="6331"/>
                    </a:lnTo>
                    <a:lnTo>
                      <a:pt x="7526" y="6342"/>
                    </a:lnTo>
                    <a:lnTo>
                      <a:pt x="7503" y="6376"/>
                    </a:lnTo>
                    <a:lnTo>
                      <a:pt x="7479" y="6404"/>
                    </a:lnTo>
                    <a:lnTo>
                      <a:pt x="7451" y="6415"/>
                    </a:lnTo>
                    <a:lnTo>
                      <a:pt x="7421" y="6421"/>
                    </a:lnTo>
                    <a:lnTo>
                      <a:pt x="7381" y="6415"/>
                    </a:lnTo>
                    <a:lnTo>
                      <a:pt x="7345" y="6415"/>
                    </a:lnTo>
                    <a:lnTo>
                      <a:pt x="7294" y="6415"/>
                    </a:lnTo>
                    <a:lnTo>
                      <a:pt x="7247" y="6415"/>
                    </a:lnTo>
                    <a:lnTo>
                      <a:pt x="7247" y="6444"/>
                    </a:lnTo>
                    <a:lnTo>
                      <a:pt x="7247" y="6466"/>
                    </a:lnTo>
                    <a:lnTo>
                      <a:pt x="7206" y="6489"/>
                    </a:lnTo>
                    <a:lnTo>
                      <a:pt x="7172" y="6506"/>
                    </a:lnTo>
                    <a:lnTo>
                      <a:pt x="7137" y="6511"/>
                    </a:lnTo>
                    <a:lnTo>
                      <a:pt x="7102" y="6516"/>
                    </a:lnTo>
                    <a:lnTo>
                      <a:pt x="7056" y="6511"/>
                    </a:lnTo>
                    <a:lnTo>
                      <a:pt x="7015" y="6506"/>
                    </a:lnTo>
                    <a:lnTo>
                      <a:pt x="6968" y="6494"/>
                    </a:lnTo>
                    <a:lnTo>
                      <a:pt x="6927" y="6494"/>
                    </a:lnTo>
                    <a:lnTo>
                      <a:pt x="6846" y="6483"/>
                    </a:lnTo>
                    <a:lnTo>
                      <a:pt x="6770" y="6477"/>
                    </a:lnTo>
                    <a:lnTo>
                      <a:pt x="6695" y="6466"/>
                    </a:lnTo>
                    <a:lnTo>
                      <a:pt x="6625" y="6460"/>
                    </a:lnTo>
                    <a:lnTo>
                      <a:pt x="6549" y="6455"/>
                    </a:lnTo>
                    <a:lnTo>
                      <a:pt x="6480" y="6449"/>
                    </a:lnTo>
                    <a:lnTo>
                      <a:pt x="6410" y="6444"/>
                    </a:lnTo>
                    <a:lnTo>
                      <a:pt x="6358" y="6444"/>
                    </a:lnTo>
                    <a:lnTo>
                      <a:pt x="6352" y="6393"/>
                    </a:lnTo>
                    <a:lnTo>
                      <a:pt x="6352" y="6359"/>
                    </a:lnTo>
                    <a:lnTo>
                      <a:pt x="6352" y="6331"/>
                    </a:lnTo>
                    <a:lnTo>
                      <a:pt x="6352" y="6314"/>
                    </a:lnTo>
                    <a:lnTo>
                      <a:pt x="6334" y="6297"/>
                    </a:lnTo>
                    <a:lnTo>
                      <a:pt x="6323" y="6286"/>
                    </a:lnTo>
                    <a:lnTo>
                      <a:pt x="6294" y="6269"/>
                    </a:lnTo>
                    <a:lnTo>
                      <a:pt x="6265" y="6263"/>
                    </a:lnTo>
                    <a:lnTo>
                      <a:pt x="6247" y="6196"/>
                    </a:lnTo>
                    <a:lnTo>
                      <a:pt x="6253" y="6106"/>
                    </a:lnTo>
                    <a:lnTo>
                      <a:pt x="6260" y="6016"/>
                    </a:lnTo>
                    <a:lnTo>
                      <a:pt x="6265" y="5920"/>
                    </a:lnTo>
                    <a:lnTo>
                      <a:pt x="6276" y="5831"/>
                    </a:lnTo>
                    <a:lnTo>
                      <a:pt x="6276" y="5729"/>
                    </a:lnTo>
                    <a:lnTo>
                      <a:pt x="6283" y="5645"/>
                    </a:lnTo>
                    <a:lnTo>
                      <a:pt x="6283" y="5561"/>
                    </a:lnTo>
                    <a:lnTo>
                      <a:pt x="6288" y="5499"/>
                    </a:lnTo>
                    <a:lnTo>
                      <a:pt x="6283" y="5476"/>
                    </a:lnTo>
                    <a:lnTo>
                      <a:pt x="6283" y="5442"/>
                    </a:lnTo>
                    <a:lnTo>
                      <a:pt x="6276" y="5409"/>
                    </a:lnTo>
                    <a:lnTo>
                      <a:pt x="6276" y="5398"/>
                    </a:lnTo>
                    <a:lnTo>
                      <a:pt x="6276" y="5370"/>
                    </a:lnTo>
                    <a:lnTo>
                      <a:pt x="6288" y="5319"/>
                    </a:lnTo>
                    <a:lnTo>
                      <a:pt x="6294" y="5240"/>
                    </a:lnTo>
                    <a:lnTo>
                      <a:pt x="6311" y="5155"/>
                    </a:lnTo>
                    <a:lnTo>
                      <a:pt x="6318" y="5060"/>
                    </a:lnTo>
                    <a:lnTo>
                      <a:pt x="6323" y="4971"/>
                    </a:lnTo>
                    <a:lnTo>
                      <a:pt x="6323" y="4897"/>
                    </a:lnTo>
                    <a:lnTo>
                      <a:pt x="6329" y="4858"/>
                    </a:lnTo>
                    <a:lnTo>
                      <a:pt x="6311" y="4802"/>
                    </a:lnTo>
                    <a:lnTo>
                      <a:pt x="6294" y="4751"/>
                    </a:lnTo>
                    <a:lnTo>
                      <a:pt x="6271" y="4694"/>
                    </a:lnTo>
                    <a:lnTo>
                      <a:pt x="6253" y="4644"/>
                    </a:lnTo>
                    <a:lnTo>
                      <a:pt x="6230" y="4588"/>
                    </a:lnTo>
                    <a:lnTo>
                      <a:pt x="6212" y="4532"/>
                    </a:lnTo>
                    <a:lnTo>
                      <a:pt x="6201" y="4476"/>
                    </a:lnTo>
                    <a:lnTo>
                      <a:pt x="6207" y="4419"/>
                    </a:lnTo>
                    <a:lnTo>
                      <a:pt x="6219" y="4363"/>
                    </a:lnTo>
                    <a:lnTo>
                      <a:pt x="6253" y="4318"/>
                    </a:lnTo>
                    <a:lnTo>
                      <a:pt x="6288" y="4273"/>
                    </a:lnTo>
                    <a:lnTo>
                      <a:pt x="6318" y="4240"/>
                    </a:lnTo>
                    <a:lnTo>
                      <a:pt x="6323" y="4149"/>
                    </a:lnTo>
                    <a:lnTo>
                      <a:pt x="6323" y="4065"/>
                    </a:lnTo>
                    <a:lnTo>
                      <a:pt x="6306" y="3975"/>
                    </a:lnTo>
                    <a:lnTo>
                      <a:pt x="6288" y="3891"/>
                    </a:lnTo>
                    <a:lnTo>
                      <a:pt x="6260" y="3801"/>
                    </a:lnTo>
                    <a:lnTo>
                      <a:pt x="6230" y="3728"/>
                    </a:lnTo>
                    <a:lnTo>
                      <a:pt x="6207" y="3661"/>
                    </a:lnTo>
                    <a:lnTo>
                      <a:pt x="6195" y="3610"/>
                    </a:lnTo>
                    <a:lnTo>
                      <a:pt x="6114" y="3615"/>
                    </a:lnTo>
                    <a:lnTo>
                      <a:pt x="6050" y="3637"/>
                    </a:lnTo>
                    <a:lnTo>
                      <a:pt x="5981" y="3654"/>
                    </a:lnTo>
                    <a:lnTo>
                      <a:pt x="5922" y="3683"/>
                    </a:lnTo>
                    <a:lnTo>
                      <a:pt x="5852" y="3705"/>
                    </a:lnTo>
                    <a:lnTo>
                      <a:pt x="5789" y="3728"/>
                    </a:lnTo>
                    <a:lnTo>
                      <a:pt x="5718" y="3750"/>
                    </a:lnTo>
                    <a:lnTo>
                      <a:pt x="5649" y="3779"/>
                    </a:lnTo>
                    <a:lnTo>
                      <a:pt x="5626" y="4042"/>
                    </a:lnTo>
                    <a:lnTo>
                      <a:pt x="5626" y="4324"/>
                    </a:lnTo>
                    <a:lnTo>
                      <a:pt x="5637" y="4616"/>
                    </a:lnTo>
                    <a:lnTo>
                      <a:pt x="5667" y="4920"/>
                    </a:lnTo>
                    <a:lnTo>
                      <a:pt x="5695" y="5218"/>
                    </a:lnTo>
                    <a:lnTo>
                      <a:pt x="5736" y="5510"/>
                    </a:lnTo>
                    <a:lnTo>
                      <a:pt x="5776" y="5792"/>
                    </a:lnTo>
                    <a:lnTo>
                      <a:pt x="5824" y="6055"/>
                    </a:lnTo>
                    <a:lnTo>
                      <a:pt x="5789" y="6072"/>
                    </a:lnTo>
                    <a:lnTo>
                      <a:pt x="5771" y="6089"/>
                    </a:lnTo>
                    <a:lnTo>
                      <a:pt x="5753" y="6112"/>
                    </a:lnTo>
                    <a:lnTo>
                      <a:pt x="5742" y="6146"/>
                    </a:lnTo>
                    <a:lnTo>
                      <a:pt x="5672" y="6140"/>
                    </a:lnTo>
                    <a:lnTo>
                      <a:pt x="5579" y="6140"/>
                    </a:lnTo>
                    <a:lnTo>
                      <a:pt x="5474" y="6134"/>
                    </a:lnTo>
                    <a:lnTo>
                      <a:pt x="5365" y="6134"/>
                    </a:lnTo>
                    <a:lnTo>
                      <a:pt x="5254" y="6129"/>
                    </a:lnTo>
                    <a:lnTo>
                      <a:pt x="5155" y="6123"/>
                    </a:lnTo>
                    <a:lnTo>
                      <a:pt x="5079" y="6106"/>
                    </a:lnTo>
                    <a:lnTo>
                      <a:pt x="5039" y="6095"/>
                    </a:lnTo>
                    <a:lnTo>
                      <a:pt x="4980" y="5999"/>
                    </a:lnTo>
                    <a:lnTo>
                      <a:pt x="4945" y="5836"/>
                    </a:lnTo>
                    <a:lnTo>
                      <a:pt x="4922" y="5616"/>
                    </a:lnTo>
                    <a:lnTo>
                      <a:pt x="4917" y="5375"/>
                    </a:lnTo>
                    <a:lnTo>
                      <a:pt x="4905" y="5111"/>
                    </a:lnTo>
                    <a:lnTo>
                      <a:pt x="4894" y="4870"/>
                    </a:lnTo>
                    <a:lnTo>
                      <a:pt x="4876" y="4661"/>
                    </a:lnTo>
                    <a:lnTo>
                      <a:pt x="4853" y="4510"/>
                    </a:lnTo>
                    <a:lnTo>
                      <a:pt x="4841" y="4481"/>
                    </a:lnTo>
                    <a:lnTo>
                      <a:pt x="4835" y="4453"/>
                    </a:lnTo>
                    <a:lnTo>
                      <a:pt x="4823" y="4425"/>
                    </a:lnTo>
                    <a:lnTo>
                      <a:pt x="4823" y="4402"/>
                    </a:lnTo>
                    <a:lnTo>
                      <a:pt x="4812" y="4358"/>
                    </a:lnTo>
                    <a:lnTo>
                      <a:pt x="4812" y="4346"/>
                    </a:lnTo>
                    <a:lnTo>
                      <a:pt x="4806" y="4296"/>
                    </a:lnTo>
                    <a:lnTo>
                      <a:pt x="4806" y="4250"/>
                    </a:lnTo>
                    <a:lnTo>
                      <a:pt x="4800" y="4206"/>
                    </a:lnTo>
                    <a:lnTo>
                      <a:pt x="4800" y="4166"/>
                    </a:lnTo>
                    <a:lnTo>
                      <a:pt x="4789" y="4127"/>
                    </a:lnTo>
                    <a:lnTo>
                      <a:pt x="4783" y="4088"/>
                    </a:lnTo>
                    <a:lnTo>
                      <a:pt x="4777" y="4054"/>
                    </a:lnTo>
                    <a:lnTo>
                      <a:pt x="4772" y="4020"/>
                    </a:lnTo>
                    <a:lnTo>
                      <a:pt x="4737" y="4037"/>
                    </a:lnTo>
                    <a:lnTo>
                      <a:pt x="4702" y="4059"/>
                    </a:lnTo>
                    <a:lnTo>
                      <a:pt x="4719" y="4149"/>
                    </a:lnTo>
                    <a:lnTo>
                      <a:pt x="4737" y="4257"/>
                    </a:lnTo>
                    <a:lnTo>
                      <a:pt x="4742" y="4368"/>
                    </a:lnTo>
                    <a:lnTo>
                      <a:pt x="4754" y="4498"/>
                    </a:lnTo>
                    <a:lnTo>
                      <a:pt x="4754" y="4622"/>
                    </a:lnTo>
                    <a:lnTo>
                      <a:pt x="4754" y="4751"/>
                    </a:lnTo>
                    <a:lnTo>
                      <a:pt x="4748" y="4870"/>
                    </a:lnTo>
                    <a:lnTo>
                      <a:pt x="4742" y="4988"/>
                    </a:lnTo>
                    <a:lnTo>
                      <a:pt x="4731" y="5049"/>
                    </a:lnTo>
                    <a:lnTo>
                      <a:pt x="4731" y="5145"/>
                    </a:lnTo>
                    <a:lnTo>
                      <a:pt x="4725" y="5257"/>
                    </a:lnTo>
                    <a:lnTo>
                      <a:pt x="4731" y="5386"/>
                    </a:lnTo>
                    <a:lnTo>
                      <a:pt x="4731" y="5505"/>
                    </a:lnTo>
                    <a:lnTo>
                      <a:pt x="4737" y="5623"/>
                    </a:lnTo>
                    <a:lnTo>
                      <a:pt x="4748" y="5712"/>
                    </a:lnTo>
                    <a:lnTo>
                      <a:pt x="4772" y="5775"/>
                    </a:lnTo>
                    <a:lnTo>
                      <a:pt x="4777" y="5780"/>
                    </a:lnTo>
                    <a:lnTo>
                      <a:pt x="4800" y="5785"/>
                    </a:lnTo>
                    <a:lnTo>
                      <a:pt x="4818" y="5785"/>
                    </a:lnTo>
                    <a:lnTo>
                      <a:pt x="4835" y="5797"/>
                    </a:lnTo>
                    <a:lnTo>
                      <a:pt x="4853" y="5831"/>
                    </a:lnTo>
                    <a:lnTo>
                      <a:pt x="4871" y="5881"/>
                    </a:lnTo>
                    <a:lnTo>
                      <a:pt x="4882" y="5932"/>
                    </a:lnTo>
                    <a:lnTo>
                      <a:pt x="4905" y="5982"/>
                    </a:lnTo>
                    <a:lnTo>
                      <a:pt x="4876" y="6005"/>
                    </a:lnTo>
                    <a:lnTo>
                      <a:pt x="4853" y="6033"/>
                    </a:lnTo>
                    <a:lnTo>
                      <a:pt x="4789" y="6038"/>
                    </a:lnTo>
                    <a:lnTo>
                      <a:pt x="4731" y="6045"/>
                    </a:lnTo>
                    <a:lnTo>
                      <a:pt x="4661" y="6033"/>
                    </a:lnTo>
                    <a:lnTo>
                      <a:pt x="4592" y="6028"/>
                    </a:lnTo>
                    <a:lnTo>
                      <a:pt x="4521" y="6011"/>
                    </a:lnTo>
                    <a:lnTo>
                      <a:pt x="4463" y="5999"/>
                    </a:lnTo>
                    <a:lnTo>
                      <a:pt x="4405" y="5994"/>
                    </a:lnTo>
                    <a:lnTo>
                      <a:pt x="4370" y="5994"/>
                    </a:lnTo>
                    <a:lnTo>
                      <a:pt x="4289" y="5988"/>
                    </a:lnTo>
                    <a:lnTo>
                      <a:pt x="4207" y="5994"/>
                    </a:lnTo>
                    <a:lnTo>
                      <a:pt x="4121" y="5994"/>
                    </a:lnTo>
                    <a:lnTo>
                      <a:pt x="4039" y="6005"/>
                    </a:lnTo>
                    <a:lnTo>
                      <a:pt x="3952" y="6011"/>
                    </a:lnTo>
                    <a:lnTo>
                      <a:pt x="3865" y="6016"/>
                    </a:lnTo>
                    <a:lnTo>
                      <a:pt x="3778" y="6016"/>
                    </a:lnTo>
                    <a:lnTo>
                      <a:pt x="3702" y="6016"/>
                    </a:lnTo>
                    <a:lnTo>
                      <a:pt x="3696" y="5949"/>
                    </a:lnTo>
                    <a:lnTo>
                      <a:pt x="3708" y="5903"/>
                    </a:lnTo>
                    <a:lnTo>
                      <a:pt x="3725" y="5870"/>
                    </a:lnTo>
                    <a:lnTo>
                      <a:pt x="3761" y="5853"/>
                    </a:lnTo>
                    <a:lnTo>
                      <a:pt x="3789" y="5831"/>
                    </a:lnTo>
                    <a:lnTo>
                      <a:pt x="3836" y="5819"/>
                    </a:lnTo>
                    <a:lnTo>
                      <a:pt x="3888" y="5808"/>
                    </a:lnTo>
                    <a:lnTo>
                      <a:pt x="3946" y="5797"/>
                    </a:lnTo>
                    <a:lnTo>
                      <a:pt x="3941" y="5696"/>
                    </a:lnTo>
                    <a:lnTo>
                      <a:pt x="3941" y="5601"/>
                    </a:lnTo>
                    <a:lnTo>
                      <a:pt x="3929" y="5505"/>
                    </a:lnTo>
                    <a:lnTo>
                      <a:pt x="3923" y="5415"/>
                    </a:lnTo>
                    <a:lnTo>
                      <a:pt x="3911" y="5319"/>
                    </a:lnTo>
                    <a:lnTo>
                      <a:pt x="3900" y="5229"/>
                    </a:lnTo>
                    <a:lnTo>
                      <a:pt x="3882" y="5145"/>
                    </a:lnTo>
                    <a:lnTo>
                      <a:pt x="3877" y="5066"/>
                    </a:lnTo>
                    <a:lnTo>
                      <a:pt x="3859" y="4931"/>
                    </a:lnTo>
                    <a:lnTo>
                      <a:pt x="3853" y="4802"/>
                    </a:lnTo>
                    <a:lnTo>
                      <a:pt x="3853" y="4672"/>
                    </a:lnTo>
                    <a:lnTo>
                      <a:pt x="3859" y="4549"/>
                    </a:lnTo>
                    <a:lnTo>
                      <a:pt x="3859" y="4425"/>
                    </a:lnTo>
                    <a:lnTo>
                      <a:pt x="3865" y="4307"/>
                    </a:lnTo>
                    <a:lnTo>
                      <a:pt x="3859" y="4189"/>
                    </a:lnTo>
                    <a:lnTo>
                      <a:pt x="3853" y="4082"/>
                    </a:lnTo>
                    <a:lnTo>
                      <a:pt x="3830" y="4088"/>
                    </a:lnTo>
                    <a:lnTo>
                      <a:pt x="3795" y="4098"/>
                    </a:lnTo>
                    <a:lnTo>
                      <a:pt x="3754" y="4110"/>
                    </a:lnTo>
                    <a:lnTo>
                      <a:pt x="3743" y="4127"/>
                    </a:lnTo>
                    <a:lnTo>
                      <a:pt x="3725" y="4166"/>
                    </a:lnTo>
                    <a:lnTo>
                      <a:pt x="3731" y="4211"/>
                    </a:lnTo>
                    <a:lnTo>
                      <a:pt x="3737" y="4257"/>
                    </a:lnTo>
                    <a:lnTo>
                      <a:pt x="3743" y="4301"/>
                    </a:lnTo>
                    <a:lnTo>
                      <a:pt x="3708" y="4363"/>
                    </a:lnTo>
                    <a:lnTo>
                      <a:pt x="3655" y="4431"/>
                    </a:lnTo>
                    <a:lnTo>
                      <a:pt x="3586" y="4498"/>
                    </a:lnTo>
                    <a:lnTo>
                      <a:pt x="3510" y="4566"/>
                    </a:lnTo>
                    <a:lnTo>
                      <a:pt x="3429" y="4633"/>
                    </a:lnTo>
                    <a:lnTo>
                      <a:pt x="3365" y="4701"/>
                    </a:lnTo>
                    <a:lnTo>
                      <a:pt x="3313" y="4757"/>
                    </a:lnTo>
                    <a:lnTo>
                      <a:pt x="3289" y="4819"/>
                    </a:lnTo>
                    <a:lnTo>
                      <a:pt x="3277" y="4875"/>
                    </a:lnTo>
                    <a:lnTo>
                      <a:pt x="3272" y="4920"/>
                    </a:lnTo>
                    <a:lnTo>
                      <a:pt x="3272" y="4954"/>
                    </a:lnTo>
                    <a:lnTo>
                      <a:pt x="3272" y="4993"/>
                    </a:lnTo>
                    <a:lnTo>
                      <a:pt x="3266" y="5021"/>
                    </a:lnTo>
                    <a:lnTo>
                      <a:pt x="3261" y="5055"/>
                    </a:lnTo>
                    <a:lnTo>
                      <a:pt x="3237" y="5088"/>
                    </a:lnTo>
                    <a:lnTo>
                      <a:pt x="3214" y="5145"/>
                    </a:lnTo>
                    <a:lnTo>
                      <a:pt x="3150" y="5128"/>
                    </a:lnTo>
                    <a:lnTo>
                      <a:pt x="3097" y="5116"/>
                    </a:lnTo>
                    <a:lnTo>
                      <a:pt x="3046" y="5094"/>
                    </a:lnTo>
                    <a:lnTo>
                      <a:pt x="3011" y="5077"/>
                    </a:lnTo>
                    <a:lnTo>
                      <a:pt x="2981" y="5049"/>
                    </a:lnTo>
                    <a:lnTo>
                      <a:pt x="2958" y="5021"/>
                    </a:lnTo>
                    <a:lnTo>
                      <a:pt x="2940" y="4981"/>
                    </a:lnTo>
                    <a:lnTo>
                      <a:pt x="2924" y="4948"/>
                    </a:lnTo>
                    <a:lnTo>
                      <a:pt x="2906" y="4903"/>
                    </a:lnTo>
                    <a:lnTo>
                      <a:pt x="2894" y="4870"/>
                    </a:lnTo>
                    <a:lnTo>
                      <a:pt x="2883" y="4829"/>
                    </a:lnTo>
                    <a:lnTo>
                      <a:pt x="2877" y="4796"/>
                    </a:lnTo>
                    <a:lnTo>
                      <a:pt x="2801" y="4813"/>
                    </a:lnTo>
                    <a:lnTo>
                      <a:pt x="2726" y="4829"/>
                    </a:lnTo>
                    <a:lnTo>
                      <a:pt x="2650" y="4829"/>
                    </a:lnTo>
                    <a:lnTo>
                      <a:pt x="2587" y="4824"/>
                    </a:lnTo>
                    <a:lnTo>
                      <a:pt x="2522" y="4790"/>
                    </a:lnTo>
                    <a:lnTo>
                      <a:pt x="2476" y="4745"/>
                    </a:lnTo>
                    <a:lnTo>
                      <a:pt x="2447" y="4667"/>
                    </a:lnTo>
                    <a:lnTo>
                      <a:pt x="2453" y="4559"/>
                    </a:lnTo>
                    <a:lnTo>
                      <a:pt x="2418" y="4554"/>
                    </a:lnTo>
                    <a:lnTo>
                      <a:pt x="2395" y="4554"/>
                    </a:lnTo>
                    <a:lnTo>
                      <a:pt x="2365" y="4549"/>
                    </a:lnTo>
                    <a:lnTo>
                      <a:pt x="2331" y="4549"/>
                    </a:lnTo>
                    <a:lnTo>
                      <a:pt x="2331" y="4487"/>
                    </a:lnTo>
                    <a:lnTo>
                      <a:pt x="2331" y="4442"/>
                    </a:lnTo>
                    <a:lnTo>
                      <a:pt x="2324" y="4409"/>
                    </a:lnTo>
                    <a:lnTo>
                      <a:pt x="2319" y="4397"/>
                    </a:lnTo>
                    <a:lnTo>
                      <a:pt x="2296" y="4380"/>
                    </a:lnTo>
                    <a:lnTo>
                      <a:pt x="2266" y="4380"/>
                    </a:lnTo>
                    <a:lnTo>
                      <a:pt x="2232" y="4385"/>
                    </a:lnTo>
                    <a:lnTo>
                      <a:pt x="2185" y="4397"/>
                    </a:lnTo>
                    <a:lnTo>
                      <a:pt x="1976" y="4402"/>
                    </a:lnTo>
                    <a:lnTo>
                      <a:pt x="1831" y="4375"/>
                    </a:lnTo>
                    <a:lnTo>
                      <a:pt x="1733" y="4313"/>
                    </a:lnTo>
                    <a:lnTo>
                      <a:pt x="1674" y="4223"/>
                    </a:lnTo>
                    <a:lnTo>
                      <a:pt x="1639" y="4098"/>
                    </a:lnTo>
                    <a:lnTo>
                      <a:pt x="1634" y="3958"/>
                    </a:lnTo>
                    <a:lnTo>
                      <a:pt x="1634" y="3789"/>
                    </a:lnTo>
                    <a:lnTo>
                      <a:pt x="1639" y="3610"/>
                    </a:lnTo>
                    <a:lnTo>
                      <a:pt x="1593" y="3598"/>
                    </a:lnTo>
                    <a:lnTo>
                      <a:pt x="1551" y="3593"/>
                    </a:lnTo>
                    <a:lnTo>
                      <a:pt x="1517" y="3581"/>
                    </a:lnTo>
                    <a:lnTo>
                      <a:pt x="1488" y="3581"/>
                    </a:lnTo>
                    <a:lnTo>
                      <a:pt x="1453" y="3570"/>
                    </a:lnTo>
                    <a:lnTo>
                      <a:pt x="1418" y="3565"/>
                    </a:lnTo>
                    <a:lnTo>
                      <a:pt x="1378" y="3559"/>
                    </a:lnTo>
                    <a:lnTo>
                      <a:pt x="1337" y="3559"/>
                    </a:lnTo>
                    <a:lnTo>
                      <a:pt x="1320" y="3470"/>
                    </a:lnTo>
                    <a:lnTo>
                      <a:pt x="1308" y="3368"/>
                    </a:lnTo>
                    <a:lnTo>
                      <a:pt x="1290" y="3261"/>
                    </a:lnTo>
                    <a:lnTo>
                      <a:pt x="1285" y="3154"/>
                    </a:lnTo>
                    <a:lnTo>
                      <a:pt x="1267" y="3041"/>
                    </a:lnTo>
                    <a:lnTo>
                      <a:pt x="1249" y="2940"/>
                    </a:lnTo>
                    <a:lnTo>
                      <a:pt x="1226" y="2840"/>
                    </a:lnTo>
                    <a:lnTo>
                      <a:pt x="1203" y="2761"/>
                    </a:lnTo>
                    <a:lnTo>
                      <a:pt x="1145" y="2783"/>
                    </a:lnTo>
                    <a:lnTo>
                      <a:pt x="1092" y="2823"/>
                    </a:lnTo>
                    <a:lnTo>
                      <a:pt x="1041" y="2857"/>
                    </a:lnTo>
                    <a:lnTo>
                      <a:pt x="1000" y="2884"/>
                    </a:lnTo>
                    <a:lnTo>
                      <a:pt x="942" y="2890"/>
                    </a:lnTo>
                    <a:lnTo>
                      <a:pt x="884" y="2896"/>
                    </a:lnTo>
                    <a:lnTo>
                      <a:pt x="831" y="2884"/>
                    </a:lnTo>
                    <a:lnTo>
                      <a:pt x="790" y="2874"/>
                    </a:lnTo>
                    <a:lnTo>
                      <a:pt x="750" y="2857"/>
                    </a:lnTo>
                    <a:lnTo>
                      <a:pt x="721" y="2857"/>
                    </a:lnTo>
                    <a:lnTo>
                      <a:pt x="692" y="2850"/>
                    </a:lnTo>
                    <a:lnTo>
                      <a:pt x="674" y="2845"/>
                    </a:lnTo>
                    <a:lnTo>
                      <a:pt x="656" y="2828"/>
                    </a:lnTo>
                    <a:lnTo>
                      <a:pt x="645" y="2817"/>
                    </a:lnTo>
                    <a:lnTo>
                      <a:pt x="628" y="2794"/>
                    </a:lnTo>
                    <a:lnTo>
                      <a:pt x="616" y="2772"/>
                    </a:lnTo>
                    <a:lnTo>
                      <a:pt x="547" y="2772"/>
                    </a:lnTo>
                    <a:lnTo>
                      <a:pt x="476" y="2772"/>
                    </a:lnTo>
                    <a:lnTo>
                      <a:pt x="407" y="2766"/>
                    </a:lnTo>
                    <a:lnTo>
                      <a:pt x="337" y="2766"/>
                    </a:lnTo>
                    <a:lnTo>
                      <a:pt x="268" y="2755"/>
                    </a:lnTo>
                    <a:lnTo>
                      <a:pt x="198" y="2755"/>
                    </a:lnTo>
                    <a:lnTo>
                      <a:pt x="128" y="2744"/>
                    </a:lnTo>
                    <a:lnTo>
                      <a:pt x="70" y="2744"/>
                    </a:lnTo>
                    <a:lnTo>
                      <a:pt x="65" y="2732"/>
                    </a:lnTo>
                    <a:lnTo>
                      <a:pt x="58" y="2715"/>
                    </a:lnTo>
                    <a:lnTo>
                      <a:pt x="53" y="2693"/>
                    </a:lnTo>
                    <a:lnTo>
                      <a:pt x="53" y="2682"/>
                    </a:lnTo>
                    <a:lnTo>
                      <a:pt x="53" y="2570"/>
                    </a:lnTo>
                    <a:lnTo>
                      <a:pt x="47" y="2457"/>
                    </a:lnTo>
                    <a:lnTo>
                      <a:pt x="35" y="2339"/>
                    </a:lnTo>
                    <a:lnTo>
                      <a:pt x="23" y="2221"/>
                    </a:lnTo>
                    <a:lnTo>
                      <a:pt x="6" y="2097"/>
                    </a:lnTo>
                    <a:lnTo>
                      <a:pt x="0" y="1979"/>
                    </a:lnTo>
                    <a:lnTo>
                      <a:pt x="6" y="1866"/>
                    </a:lnTo>
                    <a:lnTo>
                      <a:pt x="30" y="1766"/>
                    </a:lnTo>
                    <a:lnTo>
                      <a:pt x="35" y="1743"/>
                    </a:lnTo>
                    <a:lnTo>
                      <a:pt x="65" y="1721"/>
                    </a:lnTo>
                    <a:lnTo>
                      <a:pt x="88" y="1692"/>
                    </a:lnTo>
                    <a:lnTo>
                      <a:pt x="111" y="1675"/>
                    </a:lnTo>
                    <a:lnTo>
                      <a:pt x="116" y="1641"/>
                    </a:lnTo>
                    <a:lnTo>
                      <a:pt x="122" y="1614"/>
                    </a:lnTo>
                    <a:lnTo>
                      <a:pt x="99" y="1586"/>
                    </a:lnTo>
                    <a:lnTo>
                      <a:pt x="81" y="1563"/>
                    </a:lnTo>
                    <a:lnTo>
                      <a:pt x="53" y="1501"/>
                    </a:lnTo>
                    <a:lnTo>
                      <a:pt x="53" y="1451"/>
                    </a:lnTo>
                    <a:lnTo>
                      <a:pt x="58" y="1395"/>
                    </a:lnTo>
                    <a:lnTo>
                      <a:pt x="93" y="1344"/>
                    </a:lnTo>
                    <a:lnTo>
                      <a:pt x="146" y="1282"/>
                    </a:lnTo>
                    <a:lnTo>
                      <a:pt x="192" y="1265"/>
                    </a:lnTo>
                    <a:lnTo>
                      <a:pt x="227" y="1282"/>
                    </a:lnTo>
                    <a:lnTo>
                      <a:pt x="261" y="1327"/>
                    </a:lnTo>
                    <a:lnTo>
                      <a:pt x="279" y="1378"/>
                    </a:lnTo>
                    <a:lnTo>
                      <a:pt x="296" y="1439"/>
                    </a:lnTo>
                    <a:lnTo>
                      <a:pt x="308" y="1496"/>
                    </a:lnTo>
                    <a:lnTo>
                      <a:pt x="319" y="1546"/>
                    </a:lnTo>
                    <a:lnTo>
                      <a:pt x="360" y="1563"/>
                    </a:lnTo>
                    <a:lnTo>
                      <a:pt x="390" y="1580"/>
                    </a:lnTo>
                    <a:lnTo>
                      <a:pt x="402" y="1580"/>
                    </a:lnTo>
                    <a:lnTo>
                      <a:pt x="418" y="1591"/>
                    </a:lnTo>
                    <a:lnTo>
                      <a:pt x="436" y="1597"/>
                    </a:lnTo>
                    <a:lnTo>
                      <a:pt x="471" y="1608"/>
                    </a:lnTo>
                    <a:lnTo>
                      <a:pt x="506" y="1586"/>
                    </a:lnTo>
                    <a:lnTo>
                      <a:pt x="494" y="1546"/>
                    </a:lnTo>
                    <a:lnTo>
                      <a:pt x="494" y="1501"/>
                    </a:lnTo>
                    <a:lnTo>
                      <a:pt x="494" y="1456"/>
                    </a:lnTo>
                    <a:lnTo>
                      <a:pt x="512" y="1417"/>
                    </a:lnTo>
                    <a:lnTo>
                      <a:pt x="517" y="1371"/>
                    </a:lnTo>
                    <a:lnTo>
                      <a:pt x="535" y="1344"/>
                    </a:lnTo>
                    <a:lnTo>
                      <a:pt x="552" y="1316"/>
                    </a:lnTo>
                    <a:lnTo>
                      <a:pt x="575" y="1305"/>
                    </a:lnTo>
                    <a:lnTo>
                      <a:pt x="633" y="1276"/>
                    </a:lnTo>
                    <a:lnTo>
                      <a:pt x="681" y="1288"/>
                    </a:lnTo>
                    <a:lnTo>
                      <a:pt x="709" y="1310"/>
                    </a:lnTo>
                    <a:lnTo>
                      <a:pt x="732" y="1349"/>
                    </a:lnTo>
                    <a:lnTo>
                      <a:pt x="750" y="1371"/>
                    </a:lnTo>
                    <a:lnTo>
                      <a:pt x="773" y="1383"/>
                    </a:lnTo>
                    <a:lnTo>
                      <a:pt x="796" y="1366"/>
                    </a:lnTo>
                    <a:lnTo>
                      <a:pt x="843" y="1316"/>
                    </a:lnTo>
                    <a:lnTo>
                      <a:pt x="861" y="1282"/>
                    </a:lnTo>
                    <a:lnTo>
                      <a:pt x="889" y="1271"/>
                    </a:lnTo>
                    <a:lnTo>
                      <a:pt x="924" y="1265"/>
                    </a:lnTo>
                    <a:lnTo>
                      <a:pt x="960" y="1276"/>
                    </a:lnTo>
                    <a:lnTo>
                      <a:pt x="988" y="1288"/>
                    </a:lnTo>
                    <a:lnTo>
                      <a:pt x="1018" y="1310"/>
                    </a:lnTo>
                    <a:lnTo>
                      <a:pt x="1034" y="1339"/>
                    </a:lnTo>
                    <a:lnTo>
                      <a:pt x="1052" y="1378"/>
                    </a:lnTo>
                    <a:lnTo>
                      <a:pt x="1052" y="1411"/>
                    </a:lnTo>
                    <a:lnTo>
                      <a:pt x="1041" y="1462"/>
                    </a:lnTo>
                    <a:lnTo>
                      <a:pt x="1029" y="1513"/>
                    </a:lnTo>
                    <a:lnTo>
                      <a:pt x="1029" y="1574"/>
                    </a:lnTo>
                    <a:lnTo>
                      <a:pt x="1023" y="1574"/>
                    </a:lnTo>
                    <a:lnTo>
                      <a:pt x="1018" y="1591"/>
                    </a:lnTo>
                    <a:lnTo>
                      <a:pt x="1011" y="1608"/>
                    </a:lnTo>
                    <a:lnTo>
                      <a:pt x="1011" y="1625"/>
                    </a:lnTo>
                    <a:lnTo>
                      <a:pt x="1052" y="1641"/>
                    </a:lnTo>
                    <a:lnTo>
                      <a:pt x="1075" y="1648"/>
                    </a:lnTo>
                    <a:lnTo>
                      <a:pt x="1099" y="1648"/>
                    </a:lnTo>
                    <a:lnTo>
                      <a:pt x="1133" y="1648"/>
                    </a:lnTo>
                    <a:lnTo>
                      <a:pt x="1099" y="1597"/>
                    </a:lnTo>
                    <a:lnTo>
                      <a:pt x="1081" y="1546"/>
                    </a:lnTo>
                    <a:lnTo>
                      <a:pt x="1069" y="1496"/>
                    </a:lnTo>
                    <a:lnTo>
                      <a:pt x="1069" y="1451"/>
                    </a:lnTo>
                    <a:lnTo>
                      <a:pt x="1069" y="1400"/>
                    </a:lnTo>
                    <a:lnTo>
                      <a:pt x="1081" y="1356"/>
                    </a:lnTo>
                    <a:lnTo>
                      <a:pt x="1099" y="1310"/>
                    </a:lnTo>
                    <a:lnTo>
                      <a:pt x="1133" y="1265"/>
                    </a:lnTo>
                    <a:lnTo>
                      <a:pt x="1145" y="1260"/>
                    </a:lnTo>
                    <a:lnTo>
                      <a:pt x="1180" y="1254"/>
                    </a:lnTo>
                    <a:lnTo>
                      <a:pt x="1221" y="1243"/>
                    </a:lnTo>
                    <a:lnTo>
                      <a:pt x="1267" y="1248"/>
                    </a:lnTo>
                    <a:lnTo>
                      <a:pt x="1290" y="1260"/>
                    </a:lnTo>
                    <a:lnTo>
                      <a:pt x="1320" y="1293"/>
                    </a:lnTo>
                    <a:lnTo>
                      <a:pt x="1348" y="1316"/>
                    </a:lnTo>
                    <a:lnTo>
                      <a:pt x="1389" y="1327"/>
                    </a:lnTo>
                    <a:lnTo>
                      <a:pt x="1401" y="1316"/>
                    </a:lnTo>
                    <a:lnTo>
                      <a:pt x="1429" y="1305"/>
                    </a:lnTo>
                    <a:lnTo>
                      <a:pt x="1523" y="1271"/>
                    </a:lnTo>
                    <a:lnTo>
                      <a:pt x="1599" y="1282"/>
                    </a:lnTo>
                    <a:lnTo>
                      <a:pt x="1650" y="1316"/>
                    </a:lnTo>
                    <a:lnTo>
                      <a:pt x="1685" y="1383"/>
                    </a:lnTo>
                    <a:lnTo>
                      <a:pt x="1703" y="1456"/>
                    </a:lnTo>
                    <a:lnTo>
                      <a:pt x="1703" y="1546"/>
                    </a:lnTo>
                    <a:lnTo>
                      <a:pt x="1691" y="1636"/>
                    </a:lnTo>
                    <a:lnTo>
                      <a:pt x="1680" y="1726"/>
                    </a:lnTo>
                    <a:lnTo>
                      <a:pt x="1715" y="1760"/>
                    </a:lnTo>
                    <a:lnTo>
                      <a:pt x="1756" y="1800"/>
                    </a:lnTo>
                    <a:lnTo>
                      <a:pt x="1790" y="1839"/>
                    </a:lnTo>
                    <a:lnTo>
                      <a:pt x="1825" y="1883"/>
                    </a:lnTo>
                    <a:lnTo>
                      <a:pt x="1819" y="1822"/>
                    </a:lnTo>
                    <a:lnTo>
                      <a:pt x="1814" y="1732"/>
                    </a:lnTo>
                    <a:lnTo>
                      <a:pt x="1796" y="1625"/>
                    </a:lnTo>
                    <a:lnTo>
                      <a:pt x="1802" y="1518"/>
                    </a:lnTo>
                    <a:lnTo>
                      <a:pt x="1814" y="1417"/>
                    </a:lnTo>
                    <a:lnTo>
                      <a:pt x="1860" y="1344"/>
                    </a:lnTo>
                    <a:lnTo>
                      <a:pt x="1929" y="1316"/>
                    </a:lnTo>
                    <a:lnTo>
                      <a:pt x="2040" y="1344"/>
                    </a:lnTo>
                    <a:lnTo>
                      <a:pt x="2070" y="1366"/>
                    </a:lnTo>
                    <a:lnTo>
                      <a:pt x="2110" y="1405"/>
                    </a:lnTo>
                    <a:lnTo>
                      <a:pt x="2139" y="1451"/>
                    </a:lnTo>
                    <a:lnTo>
                      <a:pt x="2162" y="1496"/>
                    </a:lnTo>
                    <a:lnTo>
                      <a:pt x="2167" y="1546"/>
                    </a:lnTo>
                    <a:lnTo>
                      <a:pt x="2167" y="1602"/>
                    </a:lnTo>
                    <a:lnTo>
                      <a:pt x="2156" y="1641"/>
                    </a:lnTo>
                    <a:lnTo>
                      <a:pt x="2144" y="1687"/>
                    </a:lnTo>
                    <a:lnTo>
                      <a:pt x="2127" y="1726"/>
                    </a:lnTo>
                    <a:lnTo>
                      <a:pt x="2127" y="1766"/>
                    </a:lnTo>
                    <a:lnTo>
                      <a:pt x="2133" y="1800"/>
                    </a:lnTo>
                    <a:lnTo>
                      <a:pt x="2162" y="1844"/>
                    </a:lnTo>
                    <a:lnTo>
                      <a:pt x="2179" y="1856"/>
                    </a:lnTo>
                    <a:lnTo>
                      <a:pt x="2215" y="1889"/>
                    </a:lnTo>
                    <a:lnTo>
                      <a:pt x="2261" y="1912"/>
                    </a:lnTo>
                    <a:lnTo>
                      <a:pt x="2319" y="1940"/>
                    </a:lnTo>
                    <a:lnTo>
                      <a:pt x="2359" y="1951"/>
                    </a:lnTo>
                    <a:lnTo>
                      <a:pt x="2400" y="1945"/>
                    </a:lnTo>
                    <a:lnTo>
                      <a:pt x="2418" y="1912"/>
                    </a:lnTo>
                    <a:lnTo>
                      <a:pt x="2423" y="1856"/>
                    </a:lnTo>
                    <a:lnTo>
                      <a:pt x="2400" y="1810"/>
                    </a:lnTo>
                    <a:lnTo>
                      <a:pt x="2365" y="1783"/>
                    </a:lnTo>
                    <a:lnTo>
                      <a:pt x="2319" y="1749"/>
                    </a:lnTo>
                    <a:lnTo>
                      <a:pt x="2290" y="1715"/>
                    </a:lnTo>
                    <a:lnTo>
                      <a:pt x="2261" y="1608"/>
                    </a:lnTo>
                    <a:lnTo>
                      <a:pt x="2261" y="1506"/>
                    </a:lnTo>
                    <a:lnTo>
                      <a:pt x="2284" y="1400"/>
                    </a:lnTo>
                    <a:lnTo>
                      <a:pt x="2331" y="1310"/>
                    </a:lnTo>
                    <a:lnTo>
                      <a:pt x="2389" y="1231"/>
                    </a:lnTo>
                    <a:lnTo>
                      <a:pt x="2470" y="1187"/>
                    </a:lnTo>
                    <a:lnTo>
                      <a:pt x="2557" y="1170"/>
                    </a:lnTo>
                    <a:lnTo>
                      <a:pt x="2668" y="1197"/>
                    </a:lnTo>
                    <a:lnTo>
                      <a:pt x="2749" y="1248"/>
                    </a:lnTo>
                    <a:lnTo>
                      <a:pt x="2790" y="1316"/>
                    </a:lnTo>
                    <a:lnTo>
                      <a:pt x="2795" y="1383"/>
                    </a:lnTo>
                    <a:lnTo>
                      <a:pt x="2790" y="1467"/>
                    </a:lnTo>
                    <a:lnTo>
                      <a:pt x="2755" y="1540"/>
                    </a:lnTo>
                    <a:lnTo>
                      <a:pt x="2726" y="1619"/>
                    </a:lnTo>
                    <a:lnTo>
                      <a:pt x="2691" y="1687"/>
                    </a:lnTo>
                    <a:lnTo>
                      <a:pt x="2679" y="1754"/>
                    </a:lnTo>
                    <a:lnTo>
                      <a:pt x="2679" y="1777"/>
                    </a:lnTo>
                    <a:lnTo>
                      <a:pt x="2697" y="1827"/>
                    </a:lnTo>
                    <a:lnTo>
                      <a:pt x="2720" y="1883"/>
                    </a:lnTo>
                    <a:lnTo>
                      <a:pt x="2749" y="1934"/>
                    </a:lnTo>
                    <a:lnTo>
                      <a:pt x="2778" y="1991"/>
                    </a:lnTo>
                    <a:lnTo>
                      <a:pt x="2807" y="2041"/>
                    </a:lnTo>
                    <a:lnTo>
                      <a:pt x="2836" y="2097"/>
                    </a:lnTo>
                    <a:lnTo>
                      <a:pt x="2866" y="2153"/>
                    </a:lnTo>
                    <a:lnTo>
                      <a:pt x="2894" y="2215"/>
                    </a:lnTo>
                    <a:lnTo>
                      <a:pt x="2900" y="2249"/>
                    </a:lnTo>
                    <a:lnTo>
                      <a:pt x="2912" y="2300"/>
                    </a:lnTo>
                    <a:lnTo>
                      <a:pt x="2917" y="2345"/>
                    </a:lnTo>
                    <a:lnTo>
                      <a:pt x="2929" y="2396"/>
                    </a:lnTo>
                    <a:lnTo>
                      <a:pt x="2935" y="2440"/>
                    </a:lnTo>
                    <a:lnTo>
                      <a:pt x="2947" y="2485"/>
                    </a:lnTo>
                    <a:lnTo>
                      <a:pt x="2964" y="2524"/>
                    </a:lnTo>
                    <a:lnTo>
                      <a:pt x="2988" y="2563"/>
                    </a:lnTo>
                    <a:lnTo>
                      <a:pt x="2993" y="2570"/>
                    </a:lnTo>
                    <a:lnTo>
                      <a:pt x="3016" y="2575"/>
                    </a:lnTo>
                    <a:lnTo>
                      <a:pt x="3034" y="2580"/>
                    </a:lnTo>
                    <a:lnTo>
                      <a:pt x="3051" y="2592"/>
                    </a:lnTo>
                    <a:lnTo>
                      <a:pt x="3051" y="2558"/>
                    </a:lnTo>
                    <a:lnTo>
                      <a:pt x="3051" y="2530"/>
                    </a:lnTo>
                    <a:lnTo>
                      <a:pt x="3051" y="2496"/>
                    </a:lnTo>
                    <a:lnTo>
                      <a:pt x="3057" y="2469"/>
                    </a:lnTo>
                    <a:lnTo>
                      <a:pt x="3057" y="2428"/>
                    </a:lnTo>
                    <a:lnTo>
                      <a:pt x="3057" y="2396"/>
                    </a:lnTo>
                    <a:lnTo>
                      <a:pt x="3057" y="2362"/>
                    </a:lnTo>
                    <a:lnTo>
                      <a:pt x="3063" y="2334"/>
                    </a:lnTo>
                    <a:lnTo>
                      <a:pt x="3069" y="2249"/>
                    </a:lnTo>
                    <a:lnTo>
                      <a:pt x="3086" y="2187"/>
                    </a:lnTo>
                    <a:lnTo>
                      <a:pt x="3109" y="2131"/>
                    </a:lnTo>
                    <a:lnTo>
                      <a:pt x="3145" y="2086"/>
                    </a:lnTo>
                    <a:lnTo>
                      <a:pt x="3168" y="2035"/>
                    </a:lnTo>
                    <a:lnTo>
                      <a:pt x="3191" y="1996"/>
                    </a:lnTo>
                    <a:lnTo>
                      <a:pt x="3208" y="1957"/>
                    </a:lnTo>
                    <a:lnTo>
                      <a:pt x="3226" y="1923"/>
                    </a:lnTo>
                    <a:lnTo>
                      <a:pt x="3219" y="1866"/>
                    </a:lnTo>
                    <a:lnTo>
                      <a:pt x="3208" y="1817"/>
                    </a:lnTo>
                    <a:lnTo>
                      <a:pt x="3185" y="1766"/>
                    </a:lnTo>
                    <a:lnTo>
                      <a:pt x="3173" y="1715"/>
                    </a:lnTo>
                    <a:lnTo>
                      <a:pt x="3162" y="1619"/>
                    </a:lnTo>
                    <a:lnTo>
                      <a:pt x="3168" y="1523"/>
                    </a:lnTo>
                    <a:lnTo>
                      <a:pt x="3191" y="1428"/>
                    </a:lnTo>
                    <a:lnTo>
                      <a:pt x="3231" y="1344"/>
                    </a:lnTo>
                    <a:lnTo>
                      <a:pt x="3284" y="1276"/>
                    </a:lnTo>
                    <a:lnTo>
                      <a:pt x="3353" y="1237"/>
                    </a:lnTo>
                    <a:lnTo>
                      <a:pt x="3434" y="1231"/>
                    </a:lnTo>
                    <a:lnTo>
                      <a:pt x="3533" y="1276"/>
                    </a:lnTo>
                    <a:lnTo>
                      <a:pt x="3568" y="1310"/>
                    </a:lnTo>
                    <a:lnTo>
                      <a:pt x="3609" y="1366"/>
                    </a:lnTo>
                    <a:lnTo>
                      <a:pt x="3639" y="1439"/>
                    </a:lnTo>
                    <a:lnTo>
                      <a:pt x="3662" y="1523"/>
                    </a:lnTo>
                    <a:lnTo>
                      <a:pt x="3673" y="1602"/>
                    </a:lnTo>
                    <a:lnTo>
                      <a:pt x="3673" y="1687"/>
                    </a:lnTo>
                    <a:lnTo>
                      <a:pt x="3662" y="1766"/>
                    </a:lnTo>
                    <a:lnTo>
                      <a:pt x="3639" y="1832"/>
                    </a:lnTo>
                    <a:lnTo>
                      <a:pt x="3604" y="1861"/>
                    </a:lnTo>
                    <a:lnTo>
                      <a:pt x="3563" y="1889"/>
                    </a:lnTo>
                    <a:lnTo>
                      <a:pt x="3516" y="1917"/>
                    </a:lnTo>
                    <a:lnTo>
                      <a:pt x="3475" y="1945"/>
                    </a:lnTo>
                    <a:lnTo>
                      <a:pt x="3499" y="1991"/>
                    </a:lnTo>
                    <a:lnTo>
                      <a:pt x="3528" y="2041"/>
                    </a:lnTo>
                    <a:lnTo>
                      <a:pt x="3551" y="2097"/>
                    </a:lnTo>
                    <a:lnTo>
                      <a:pt x="3586" y="2153"/>
                    </a:lnTo>
                    <a:lnTo>
                      <a:pt x="3614" y="2204"/>
                    </a:lnTo>
                    <a:lnTo>
                      <a:pt x="3650" y="2261"/>
                    </a:lnTo>
                    <a:lnTo>
                      <a:pt x="3685" y="2317"/>
                    </a:lnTo>
                    <a:lnTo>
                      <a:pt x="3720" y="2373"/>
                    </a:lnTo>
                    <a:lnTo>
                      <a:pt x="3748" y="2350"/>
                    </a:lnTo>
                    <a:lnTo>
                      <a:pt x="3784" y="2334"/>
                    </a:lnTo>
                    <a:lnTo>
                      <a:pt x="3819" y="2311"/>
                    </a:lnTo>
                    <a:lnTo>
                      <a:pt x="3853" y="2294"/>
                    </a:lnTo>
                    <a:lnTo>
                      <a:pt x="3882" y="2271"/>
                    </a:lnTo>
                    <a:lnTo>
                      <a:pt x="3918" y="2254"/>
                    </a:lnTo>
                    <a:lnTo>
                      <a:pt x="3952" y="2232"/>
                    </a:lnTo>
                    <a:lnTo>
                      <a:pt x="3987" y="2215"/>
                    </a:lnTo>
                    <a:lnTo>
                      <a:pt x="3958" y="2143"/>
                    </a:lnTo>
                    <a:lnTo>
                      <a:pt x="3935" y="2075"/>
                    </a:lnTo>
                    <a:lnTo>
                      <a:pt x="3905" y="1996"/>
                    </a:lnTo>
                    <a:lnTo>
                      <a:pt x="3882" y="1923"/>
                    </a:lnTo>
                    <a:lnTo>
                      <a:pt x="3859" y="1832"/>
                    </a:lnTo>
                    <a:lnTo>
                      <a:pt x="3847" y="1749"/>
                    </a:lnTo>
                    <a:lnTo>
                      <a:pt x="3847" y="1653"/>
                    </a:lnTo>
                    <a:lnTo>
                      <a:pt x="3865" y="1563"/>
                    </a:lnTo>
                    <a:lnTo>
                      <a:pt x="3865" y="1518"/>
                    </a:lnTo>
                    <a:lnTo>
                      <a:pt x="3877" y="1479"/>
                    </a:lnTo>
                    <a:lnTo>
                      <a:pt x="3882" y="1439"/>
                    </a:lnTo>
                    <a:lnTo>
                      <a:pt x="3900" y="1405"/>
                    </a:lnTo>
                    <a:lnTo>
                      <a:pt x="3905" y="1366"/>
                    </a:lnTo>
                    <a:lnTo>
                      <a:pt x="3923" y="1339"/>
                    </a:lnTo>
                    <a:lnTo>
                      <a:pt x="3941" y="1310"/>
                    </a:lnTo>
                    <a:lnTo>
                      <a:pt x="3969" y="1293"/>
                    </a:lnTo>
                    <a:lnTo>
                      <a:pt x="4010" y="1265"/>
                    </a:lnTo>
                    <a:lnTo>
                      <a:pt x="4062" y="1260"/>
                    </a:lnTo>
                    <a:lnTo>
                      <a:pt x="4115" y="1260"/>
                    </a:lnTo>
                    <a:lnTo>
                      <a:pt x="4172" y="1276"/>
                    </a:lnTo>
                    <a:lnTo>
                      <a:pt x="4260" y="1322"/>
                    </a:lnTo>
                    <a:lnTo>
                      <a:pt x="4329" y="1411"/>
                    </a:lnTo>
                    <a:lnTo>
                      <a:pt x="4370" y="1518"/>
                    </a:lnTo>
                    <a:lnTo>
                      <a:pt x="4400" y="1648"/>
                    </a:lnTo>
                    <a:lnTo>
                      <a:pt x="4400" y="1783"/>
                    </a:lnTo>
                    <a:lnTo>
                      <a:pt x="4387" y="1917"/>
                    </a:lnTo>
                    <a:lnTo>
                      <a:pt x="4364" y="2041"/>
                    </a:lnTo>
                    <a:lnTo>
                      <a:pt x="4329" y="2153"/>
                    </a:lnTo>
                    <a:lnTo>
                      <a:pt x="4376" y="2187"/>
                    </a:lnTo>
                    <a:lnTo>
                      <a:pt x="4423" y="2232"/>
                    </a:lnTo>
                    <a:lnTo>
                      <a:pt x="4435" y="2249"/>
                    </a:lnTo>
                    <a:lnTo>
                      <a:pt x="4452" y="2266"/>
                    </a:lnTo>
                    <a:lnTo>
                      <a:pt x="4469" y="2283"/>
                    </a:lnTo>
                    <a:lnTo>
                      <a:pt x="4504" y="2311"/>
                    </a:lnTo>
                    <a:lnTo>
                      <a:pt x="4534" y="2328"/>
                    </a:lnTo>
                    <a:lnTo>
                      <a:pt x="4557" y="2345"/>
                    </a:lnTo>
                    <a:lnTo>
                      <a:pt x="4562" y="2345"/>
                    </a:lnTo>
                    <a:lnTo>
                      <a:pt x="4568" y="2345"/>
                    </a:lnTo>
                    <a:lnTo>
                      <a:pt x="4620" y="2396"/>
                    </a:lnTo>
                    <a:lnTo>
                      <a:pt x="4673" y="2440"/>
                    </a:lnTo>
                    <a:lnTo>
                      <a:pt x="4702" y="2452"/>
                    </a:lnTo>
                    <a:lnTo>
                      <a:pt x="4737" y="2469"/>
                    </a:lnTo>
                    <a:lnTo>
                      <a:pt x="4772" y="2485"/>
                    </a:lnTo>
                    <a:lnTo>
                      <a:pt x="4823" y="2502"/>
                    </a:lnTo>
                    <a:lnTo>
                      <a:pt x="4853" y="2435"/>
                    </a:lnTo>
                    <a:lnTo>
                      <a:pt x="4888" y="2384"/>
                    </a:lnTo>
                    <a:lnTo>
                      <a:pt x="4929" y="2334"/>
                    </a:lnTo>
                    <a:lnTo>
                      <a:pt x="4975" y="2283"/>
                    </a:lnTo>
                    <a:lnTo>
                      <a:pt x="5021" y="2232"/>
                    </a:lnTo>
                    <a:lnTo>
                      <a:pt x="5068" y="2187"/>
                    </a:lnTo>
                    <a:lnTo>
                      <a:pt x="5114" y="2143"/>
                    </a:lnTo>
                    <a:lnTo>
                      <a:pt x="5167" y="2102"/>
                    </a:lnTo>
                    <a:lnTo>
                      <a:pt x="5143" y="2052"/>
                    </a:lnTo>
                    <a:lnTo>
                      <a:pt x="5120" y="2013"/>
                    </a:lnTo>
                    <a:lnTo>
                      <a:pt x="5091" y="1974"/>
                    </a:lnTo>
                    <a:lnTo>
                      <a:pt x="5062" y="1940"/>
                    </a:lnTo>
                    <a:lnTo>
                      <a:pt x="5028" y="1900"/>
                    </a:lnTo>
                    <a:lnTo>
                      <a:pt x="5003" y="1861"/>
                    </a:lnTo>
                    <a:lnTo>
                      <a:pt x="4980" y="1822"/>
                    </a:lnTo>
                    <a:lnTo>
                      <a:pt x="4969" y="1777"/>
                    </a:lnTo>
                    <a:lnTo>
                      <a:pt x="4952" y="1675"/>
                    </a:lnTo>
                    <a:lnTo>
                      <a:pt x="4969" y="1580"/>
                    </a:lnTo>
                    <a:lnTo>
                      <a:pt x="4992" y="1496"/>
                    </a:lnTo>
                    <a:lnTo>
                      <a:pt x="5039" y="1422"/>
                    </a:lnTo>
                    <a:lnTo>
                      <a:pt x="5085" y="1356"/>
                    </a:lnTo>
                    <a:lnTo>
                      <a:pt x="5155" y="1305"/>
                    </a:lnTo>
                    <a:lnTo>
                      <a:pt x="5224" y="1265"/>
                    </a:lnTo>
                    <a:lnTo>
                      <a:pt x="5307" y="1248"/>
                    </a:lnTo>
                    <a:lnTo>
                      <a:pt x="5353" y="1231"/>
                    </a:lnTo>
                    <a:lnTo>
                      <a:pt x="5405" y="1226"/>
                    </a:lnTo>
                    <a:lnTo>
                      <a:pt x="5446" y="1226"/>
                    </a:lnTo>
                    <a:lnTo>
                      <a:pt x="5487" y="1231"/>
                    </a:lnTo>
                    <a:lnTo>
                      <a:pt x="5521" y="1237"/>
                    </a:lnTo>
                    <a:lnTo>
                      <a:pt x="5556" y="1254"/>
                    </a:lnTo>
                    <a:lnTo>
                      <a:pt x="5579" y="1282"/>
                    </a:lnTo>
                    <a:lnTo>
                      <a:pt x="5608" y="1327"/>
                    </a:lnTo>
                    <a:lnTo>
                      <a:pt x="5626" y="1378"/>
                    </a:lnTo>
                    <a:lnTo>
                      <a:pt x="5649" y="1445"/>
                    </a:lnTo>
                    <a:lnTo>
                      <a:pt x="5667" y="1523"/>
                    </a:lnTo>
                    <a:lnTo>
                      <a:pt x="5690" y="1614"/>
                    </a:lnTo>
                    <a:lnTo>
                      <a:pt x="5690" y="1692"/>
                    </a:lnTo>
                    <a:lnTo>
                      <a:pt x="5690" y="1777"/>
                    </a:lnTo>
                    <a:lnTo>
                      <a:pt x="5672" y="1856"/>
                    </a:lnTo>
                    <a:lnTo>
                      <a:pt x="5649" y="1923"/>
                    </a:lnTo>
                    <a:lnTo>
                      <a:pt x="5619" y="1940"/>
                    </a:lnTo>
                    <a:lnTo>
                      <a:pt x="5596" y="1962"/>
                    </a:lnTo>
                    <a:lnTo>
                      <a:pt x="5561" y="1979"/>
                    </a:lnTo>
                    <a:lnTo>
                      <a:pt x="5533" y="2001"/>
                    </a:lnTo>
                    <a:lnTo>
                      <a:pt x="5498" y="2018"/>
                    </a:lnTo>
                    <a:lnTo>
                      <a:pt x="5480" y="2047"/>
                    </a:lnTo>
                    <a:lnTo>
                      <a:pt x="5462" y="2075"/>
                    </a:lnTo>
                    <a:lnTo>
                      <a:pt x="5462" y="2126"/>
                    </a:lnTo>
                    <a:lnTo>
                      <a:pt x="5469" y="2159"/>
                    </a:lnTo>
                    <a:lnTo>
                      <a:pt x="5492" y="2198"/>
                    </a:lnTo>
                    <a:lnTo>
                      <a:pt x="5521" y="2227"/>
                    </a:lnTo>
                    <a:lnTo>
                      <a:pt x="5561" y="2254"/>
                    </a:lnTo>
                    <a:lnTo>
                      <a:pt x="5596" y="2278"/>
                    </a:lnTo>
                    <a:lnTo>
                      <a:pt x="5637" y="2305"/>
                    </a:lnTo>
                    <a:lnTo>
                      <a:pt x="5667" y="2334"/>
                    </a:lnTo>
                    <a:lnTo>
                      <a:pt x="5690" y="2373"/>
                    </a:lnTo>
                    <a:lnTo>
                      <a:pt x="5701" y="2440"/>
                    </a:lnTo>
                    <a:lnTo>
                      <a:pt x="5707" y="2530"/>
                    </a:lnTo>
                    <a:lnTo>
                      <a:pt x="5695" y="2626"/>
                    </a:lnTo>
                    <a:lnTo>
                      <a:pt x="5690" y="2744"/>
                    </a:lnTo>
                    <a:lnTo>
                      <a:pt x="5672" y="2857"/>
                    </a:lnTo>
                    <a:lnTo>
                      <a:pt x="5667" y="2969"/>
                    </a:lnTo>
                    <a:lnTo>
                      <a:pt x="5660" y="3081"/>
                    </a:lnTo>
                    <a:lnTo>
                      <a:pt x="5667" y="3183"/>
                    </a:lnTo>
                    <a:lnTo>
                      <a:pt x="5667" y="3216"/>
                    </a:lnTo>
                    <a:lnTo>
                      <a:pt x="5672" y="3255"/>
                    </a:lnTo>
                    <a:lnTo>
                      <a:pt x="5684" y="3272"/>
                    </a:lnTo>
                    <a:lnTo>
                      <a:pt x="5695" y="3295"/>
                    </a:lnTo>
                    <a:lnTo>
                      <a:pt x="5718" y="3306"/>
                    </a:lnTo>
                    <a:lnTo>
                      <a:pt x="5730" y="3311"/>
                    </a:lnTo>
                    <a:lnTo>
                      <a:pt x="5759" y="3295"/>
                    </a:lnTo>
                    <a:lnTo>
                      <a:pt x="5800" y="3278"/>
                    </a:lnTo>
                    <a:lnTo>
                      <a:pt x="5835" y="3261"/>
                    </a:lnTo>
                    <a:lnTo>
                      <a:pt x="5882" y="3250"/>
                    </a:lnTo>
                    <a:lnTo>
                      <a:pt x="5922" y="3233"/>
                    </a:lnTo>
                    <a:lnTo>
                      <a:pt x="5963" y="3227"/>
                    </a:lnTo>
                    <a:lnTo>
                      <a:pt x="5997" y="3216"/>
                    </a:lnTo>
                    <a:lnTo>
                      <a:pt x="6038" y="3222"/>
                    </a:lnTo>
                    <a:lnTo>
                      <a:pt x="6067" y="3227"/>
                    </a:lnTo>
                    <a:lnTo>
                      <a:pt x="6096" y="3239"/>
                    </a:lnTo>
                    <a:lnTo>
                      <a:pt x="6131" y="3239"/>
                    </a:lnTo>
                    <a:lnTo>
                      <a:pt x="6184" y="3233"/>
                    </a:lnTo>
                    <a:lnTo>
                      <a:pt x="6184" y="3183"/>
                    </a:lnTo>
                    <a:lnTo>
                      <a:pt x="6189" y="3132"/>
                    </a:lnTo>
                    <a:lnTo>
                      <a:pt x="6189" y="3070"/>
                    </a:lnTo>
                    <a:lnTo>
                      <a:pt x="6195" y="3014"/>
                    </a:lnTo>
                    <a:lnTo>
                      <a:pt x="6195" y="2952"/>
                    </a:lnTo>
                    <a:lnTo>
                      <a:pt x="6195" y="2896"/>
                    </a:lnTo>
                    <a:lnTo>
                      <a:pt x="6195" y="2840"/>
                    </a:lnTo>
                    <a:lnTo>
                      <a:pt x="6195" y="2794"/>
                    </a:lnTo>
                    <a:lnTo>
                      <a:pt x="6184" y="2755"/>
                    </a:lnTo>
                    <a:lnTo>
                      <a:pt x="6172" y="2715"/>
                    </a:lnTo>
                    <a:lnTo>
                      <a:pt x="6154" y="2676"/>
                    </a:lnTo>
                    <a:lnTo>
                      <a:pt x="6143" y="2637"/>
                    </a:lnTo>
                    <a:lnTo>
                      <a:pt x="6126" y="2592"/>
                    </a:lnTo>
                    <a:lnTo>
                      <a:pt x="6120" y="2547"/>
                    </a:lnTo>
                    <a:lnTo>
                      <a:pt x="6114" y="2502"/>
                    </a:lnTo>
                    <a:lnTo>
                      <a:pt x="6131" y="2462"/>
                    </a:lnTo>
                    <a:lnTo>
                      <a:pt x="6154" y="2423"/>
                    </a:lnTo>
                    <a:lnTo>
                      <a:pt x="6195" y="2389"/>
                    </a:lnTo>
                    <a:lnTo>
                      <a:pt x="6235" y="2356"/>
                    </a:lnTo>
                    <a:lnTo>
                      <a:pt x="6276" y="2322"/>
                    </a:lnTo>
                    <a:lnTo>
                      <a:pt x="6288" y="2271"/>
                    </a:lnTo>
                    <a:lnTo>
                      <a:pt x="6294" y="2232"/>
                    </a:lnTo>
                    <a:lnTo>
                      <a:pt x="6300" y="2187"/>
                    </a:lnTo>
                    <a:lnTo>
                      <a:pt x="6318" y="2143"/>
                    </a:lnTo>
                    <a:lnTo>
                      <a:pt x="6126" y="2018"/>
                    </a:lnTo>
                    <a:lnTo>
                      <a:pt x="6062" y="1817"/>
                    </a:lnTo>
                    <a:lnTo>
                      <a:pt x="6096" y="1569"/>
                    </a:lnTo>
                    <a:lnTo>
                      <a:pt x="6207" y="1332"/>
                    </a:lnTo>
                    <a:lnTo>
                      <a:pt x="6364" y="1147"/>
                    </a:lnTo>
                    <a:lnTo>
                      <a:pt x="6544" y="1079"/>
                    </a:lnTo>
                    <a:lnTo>
                      <a:pt x="6719" y="1158"/>
                    </a:lnTo>
                    <a:lnTo>
                      <a:pt x="6876" y="1445"/>
                    </a:lnTo>
                    <a:lnTo>
                      <a:pt x="6876" y="1451"/>
                    </a:lnTo>
                    <a:lnTo>
                      <a:pt x="6876" y="1479"/>
                    </a:lnTo>
                    <a:lnTo>
                      <a:pt x="6876" y="1506"/>
                    </a:lnTo>
                    <a:lnTo>
                      <a:pt x="6876" y="1535"/>
                    </a:lnTo>
                    <a:lnTo>
                      <a:pt x="6869" y="1597"/>
                    </a:lnTo>
                    <a:lnTo>
                      <a:pt x="6869" y="1658"/>
                    </a:lnTo>
                    <a:lnTo>
                      <a:pt x="6863" y="1721"/>
                    </a:lnTo>
                    <a:lnTo>
                      <a:pt x="6863" y="1783"/>
                    </a:lnTo>
                    <a:lnTo>
                      <a:pt x="6851" y="1839"/>
                    </a:lnTo>
                    <a:lnTo>
                      <a:pt x="6840" y="1895"/>
                    </a:lnTo>
                    <a:lnTo>
                      <a:pt x="6823" y="1945"/>
                    </a:lnTo>
                    <a:lnTo>
                      <a:pt x="6805" y="1996"/>
                    </a:lnTo>
                    <a:lnTo>
                      <a:pt x="6765" y="2035"/>
                    </a:lnTo>
                    <a:lnTo>
                      <a:pt x="6719" y="2080"/>
                    </a:lnTo>
                    <a:lnTo>
                      <a:pt x="6671" y="2126"/>
                    </a:lnTo>
                    <a:lnTo>
                      <a:pt x="6648" y="2182"/>
                    </a:lnTo>
                    <a:lnTo>
                      <a:pt x="6648" y="2204"/>
                    </a:lnTo>
                    <a:lnTo>
                      <a:pt x="6671" y="2254"/>
                    </a:lnTo>
                    <a:lnTo>
                      <a:pt x="6706" y="2311"/>
                    </a:lnTo>
                    <a:lnTo>
                      <a:pt x="6742" y="2362"/>
                    </a:lnTo>
                    <a:lnTo>
                      <a:pt x="6782" y="2413"/>
                    </a:lnTo>
                    <a:lnTo>
                      <a:pt x="6823" y="2462"/>
                    </a:lnTo>
                    <a:lnTo>
                      <a:pt x="6863" y="2513"/>
                    </a:lnTo>
                    <a:lnTo>
                      <a:pt x="6893" y="2563"/>
                    </a:lnTo>
                    <a:lnTo>
                      <a:pt x="6927" y="2631"/>
                    </a:lnTo>
                    <a:lnTo>
                      <a:pt x="6950" y="2705"/>
                    </a:lnTo>
                    <a:lnTo>
                      <a:pt x="6974" y="2789"/>
                    </a:lnTo>
                    <a:lnTo>
                      <a:pt x="6991" y="2879"/>
                    </a:lnTo>
                    <a:lnTo>
                      <a:pt x="7015" y="2969"/>
                    </a:lnTo>
                    <a:lnTo>
                      <a:pt x="7033" y="3053"/>
                    </a:lnTo>
                    <a:lnTo>
                      <a:pt x="7049" y="3137"/>
                    </a:lnTo>
                    <a:lnTo>
                      <a:pt x="7067" y="3210"/>
                    </a:lnTo>
                    <a:lnTo>
                      <a:pt x="7102" y="3284"/>
                    </a:lnTo>
                    <a:lnTo>
                      <a:pt x="7148" y="3284"/>
                    </a:lnTo>
                    <a:lnTo>
                      <a:pt x="7201" y="3289"/>
                    </a:lnTo>
                    <a:lnTo>
                      <a:pt x="7224" y="3284"/>
                    </a:lnTo>
                    <a:lnTo>
                      <a:pt x="7253" y="3284"/>
                    </a:lnTo>
                    <a:lnTo>
                      <a:pt x="7282" y="3284"/>
                    </a:lnTo>
                    <a:lnTo>
                      <a:pt x="7317" y="3284"/>
                    </a:lnTo>
                    <a:lnTo>
                      <a:pt x="7335" y="3250"/>
                    </a:lnTo>
                    <a:lnTo>
                      <a:pt x="7352" y="3222"/>
                    </a:lnTo>
                    <a:lnTo>
                      <a:pt x="7410" y="3075"/>
                    </a:lnTo>
                    <a:lnTo>
                      <a:pt x="7474" y="2940"/>
                    </a:lnTo>
                    <a:lnTo>
                      <a:pt x="7532" y="2806"/>
                    </a:lnTo>
                    <a:lnTo>
                      <a:pt x="7596" y="2688"/>
                    </a:lnTo>
                    <a:lnTo>
                      <a:pt x="7654" y="2563"/>
                    </a:lnTo>
                    <a:lnTo>
                      <a:pt x="7730" y="2452"/>
                    </a:lnTo>
                    <a:lnTo>
                      <a:pt x="7804" y="2350"/>
                    </a:lnTo>
                    <a:lnTo>
                      <a:pt x="7903" y="2254"/>
                    </a:lnTo>
                    <a:lnTo>
                      <a:pt x="7898" y="2215"/>
                    </a:lnTo>
                    <a:lnTo>
                      <a:pt x="7875" y="2176"/>
                    </a:lnTo>
                    <a:lnTo>
                      <a:pt x="7840" y="2136"/>
                    </a:lnTo>
                    <a:lnTo>
                      <a:pt x="7822" y="2114"/>
                    </a:lnTo>
                    <a:lnTo>
                      <a:pt x="7747" y="1991"/>
                    </a:lnTo>
                    <a:lnTo>
                      <a:pt x="7695" y="1849"/>
                    </a:lnTo>
                    <a:lnTo>
                      <a:pt x="7665" y="1692"/>
                    </a:lnTo>
                    <a:lnTo>
                      <a:pt x="7660" y="1540"/>
                    </a:lnTo>
                    <a:lnTo>
                      <a:pt x="7677" y="1388"/>
                    </a:lnTo>
                    <a:lnTo>
                      <a:pt x="7730" y="1254"/>
                    </a:lnTo>
                    <a:lnTo>
                      <a:pt x="7817" y="1147"/>
                    </a:lnTo>
                    <a:lnTo>
                      <a:pt x="7938" y="1074"/>
                    </a:lnTo>
                    <a:lnTo>
                      <a:pt x="7968" y="1057"/>
                    </a:lnTo>
                    <a:lnTo>
                      <a:pt x="8002" y="1040"/>
                    </a:lnTo>
                    <a:lnTo>
                      <a:pt x="8037" y="1029"/>
                    </a:lnTo>
                    <a:lnTo>
                      <a:pt x="8072" y="1029"/>
                    </a:lnTo>
                    <a:lnTo>
                      <a:pt x="8107" y="1023"/>
                    </a:lnTo>
                    <a:lnTo>
                      <a:pt x="8142" y="1029"/>
                    </a:lnTo>
                    <a:lnTo>
                      <a:pt x="8177" y="1029"/>
                    </a:lnTo>
                    <a:lnTo>
                      <a:pt x="8217" y="1045"/>
                    </a:lnTo>
                    <a:lnTo>
                      <a:pt x="8247" y="1057"/>
                    </a:lnTo>
                    <a:lnTo>
                      <a:pt x="8275" y="1074"/>
                    </a:lnTo>
                    <a:lnTo>
                      <a:pt x="8299" y="1096"/>
                    </a:lnTo>
                    <a:lnTo>
                      <a:pt x="8328" y="1125"/>
                    </a:lnTo>
                    <a:lnTo>
                      <a:pt x="8346" y="1147"/>
                    </a:lnTo>
                    <a:lnTo>
                      <a:pt x="8363" y="1180"/>
                    </a:lnTo>
                    <a:lnTo>
                      <a:pt x="8374" y="1214"/>
                    </a:lnTo>
                    <a:lnTo>
                      <a:pt x="8392" y="1248"/>
                    </a:lnTo>
                    <a:lnTo>
                      <a:pt x="8409" y="1344"/>
                    </a:lnTo>
                    <a:lnTo>
                      <a:pt x="8427" y="1445"/>
                    </a:lnTo>
                    <a:lnTo>
                      <a:pt x="8433" y="1552"/>
                    </a:lnTo>
                    <a:lnTo>
                      <a:pt x="8433" y="1665"/>
                    </a:lnTo>
                    <a:lnTo>
                      <a:pt x="8415" y="1766"/>
                    </a:lnTo>
                    <a:lnTo>
                      <a:pt x="8404" y="1872"/>
                    </a:lnTo>
                    <a:lnTo>
                      <a:pt x="8369" y="1962"/>
                    </a:lnTo>
                    <a:lnTo>
                      <a:pt x="8339" y="2047"/>
                    </a:lnTo>
                    <a:lnTo>
                      <a:pt x="8311" y="2075"/>
                    </a:lnTo>
                    <a:lnTo>
                      <a:pt x="8270" y="2114"/>
                    </a:lnTo>
                    <a:lnTo>
                      <a:pt x="8235" y="2148"/>
                    </a:lnTo>
                    <a:lnTo>
                      <a:pt x="8217" y="2182"/>
                    </a:lnTo>
                    <a:lnTo>
                      <a:pt x="8217" y="2221"/>
                    </a:lnTo>
                    <a:lnTo>
                      <a:pt x="8235" y="2278"/>
                    </a:lnTo>
                    <a:lnTo>
                      <a:pt x="8252" y="2322"/>
                    </a:lnTo>
                    <a:lnTo>
                      <a:pt x="8275" y="2362"/>
                    </a:lnTo>
                    <a:lnTo>
                      <a:pt x="8316" y="2350"/>
                    </a:lnTo>
                    <a:lnTo>
                      <a:pt x="8374" y="2356"/>
                    </a:lnTo>
                    <a:lnTo>
                      <a:pt x="8438" y="2362"/>
                    </a:lnTo>
                    <a:lnTo>
                      <a:pt x="8508" y="2384"/>
                    </a:lnTo>
                    <a:lnTo>
                      <a:pt x="8572" y="2401"/>
                    </a:lnTo>
                    <a:lnTo>
                      <a:pt x="8630" y="2428"/>
                    </a:lnTo>
                    <a:lnTo>
                      <a:pt x="8676" y="2457"/>
                    </a:lnTo>
                    <a:lnTo>
                      <a:pt x="8711" y="2491"/>
                    </a:lnTo>
                    <a:lnTo>
                      <a:pt x="8734" y="2536"/>
                    </a:lnTo>
                    <a:lnTo>
                      <a:pt x="8764" y="2592"/>
                    </a:lnTo>
                    <a:lnTo>
                      <a:pt x="8787" y="2659"/>
                    </a:lnTo>
                    <a:lnTo>
                      <a:pt x="8816" y="2727"/>
                    </a:lnTo>
                    <a:lnTo>
                      <a:pt x="8833" y="2794"/>
                    </a:lnTo>
                    <a:lnTo>
                      <a:pt x="8856" y="2862"/>
                    </a:lnTo>
                    <a:lnTo>
                      <a:pt x="8874" y="2918"/>
                    </a:lnTo>
                    <a:lnTo>
                      <a:pt x="8898" y="2980"/>
                    </a:lnTo>
                    <a:lnTo>
                      <a:pt x="8909" y="2867"/>
                    </a:lnTo>
                    <a:lnTo>
                      <a:pt x="8921" y="2755"/>
                    </a:lnTo>
                    <a:lnTo>
                      <a:pt x="8932" y="2637"/>
                    </a:lnTo>
                    <a:lnTo>
                      <a:pt x="8950" y="2519"/>
                    </a:lnTo>
                    <a:lnTo>
                      <a:pt x="8967" y="2401"/>
                    </a:lnTo>
                    <a:lnTo>
                      <a:pt x="8985" y="2288"/>
                    </a:lnTo>
                    <a:lnTo>
                      <a:pt x="9002" y="2187"/>
                    </a:lnTo>
                    <a:lnTo>
                      <a:pt x="9031" y="2102"/>
                    </a:lnTo>
                    <a:lnTo>
                      <a:pt x="9061" y="2047"/>
                    </a:lnTo>
                    <a:lnTo>
                      <a:pt x="9136" y="1979"/>
                    </a:lnTo>
                    <a:lnTo>
                      <a:pt x="9234" y="1895"/>
                    </a:lnTo>
                    <a:lnTo>
                      <a:pt x="9350" y="1817"/>
                    </a:lnTo>
                    <a:lnTo>
                      <a:pt x="9467" y="1732"/>
                    </a:lnTo>
                    <a:lnTo>
                      <a:pt x="9589" y="1665"/>
                    </a:lnTo>
                    <a:lnTo>
                      <a:pt x="9682" y="1614"/>
                    </a:lnTo>
                    <a:lnTo>
                      <a:pt x="9763" y="1586"/>
                    </a:lnTo>
                    <a:lnTo>
                      <a:pt x="9763" y="1552"/>
                    </a:lnTo>
                    <a:lnTo>
                      <a:pt x="9781" y="1535"/>
                    </a:lnTo>
                    <a:lnTo>
                      <a:pt x="9763" y="1496"/>
                    </a:lnTo>
                    <a:lnTo>
                      <a:pt x="9752" y="1462"/>
                    </a:lnTo>
                    <a:lnTo>
                      <a:pt x="9735" y="1428"/>
                    </a:lnTo>
                    <a:lnTo>
                      <a:pt x="9717" y="1400"/>
                    </a:lnTo>
                    <a:lnTo>
                      <a:pt x="9694" y="1366"/>
                    </a:lnTo>
                    <a:lnTo>
                      <a:pt x="9670" y="1339"/>
                    </a:lnTo>
                    <a:lnTo>
                      <a:pt x="9641" y="1305"/>
                    </a:lnTo>
                    <a:lnTo>
                      <a:pt x="9618" y="1271"/>
                    </a:lnTo>
                    <a:lnTo>
                      <a:pt x="9601" y="1243"/>
                    </a:lnTo>
                    <a:lnTo>
                      <a:pt x="9583" y="1204"/>
                    </a:lnTo>
                    <a:lnTo>
                      <a:pt x="9560" y="1147"/>
                    </a:lnTo>
                    <a:lnTo>
                      <a:pt x="9543" y="1091"/>
                    </a:lnTo>
                    <a:lnTo>
                      <a:pt x="9514" y="1029"/>
                    </a:lnTo>
                    <a:lnTo>
                      <a:pt x="9490" y="978"/>
                    </a:lnTo>
                    <a:lnTo>
                      <a:pt x="9472" y="934"/>
                    </a:lnTo>
                    <a:lnTo>
                      <a:pt x="9467" y="917"/>
                    </a:lnTo>
                    <a:lnTo>
                      <a:pt x="9444" y="860"/>
                    </a:lnTo>
                    <a:lnTo>
                      <a:pt x="9444" y="792"/>
                    </a:lnTo>
                    <a:lnTo>
                      <a:pt x="9449" y="714"/>
                    </a:lnTo>
                    <a:lnTo>
                      <a:pt x="9467" y="635"/>
                    </a:lnTo>
                    <a:lnTo>
                      <a:pt x="9484" y="551"/>
                    </a:lnTo>
                    <a:lnTo>
                      <a:pt x="9502" y="489"/>
                    </a:lnTo>
                    <a:lnTo>
                      <a:pt x="9514" y="444"/>
                    </a:lnTo>
                    <a:lnTo>
                      <a:pt x="9525" y="433"/>
                    </a:lnTo>
                    <a:lnTo>
                      <a:pt x="9525" y="416"/>
                    </a:lnTo>
                    <a:lnTo>
                      <a:pt x="9531" y="382"/>
                    </a:lnTo>
                    <a:lnTo>
                      <a:pt x="9537" y="338"/>
                    </a:lnTo>
                    <a:lnTo>
                      <a:pt x="9555" y="309"/>
                    </a:lnTo>
                    <a:lnTo>
                      <a:pt x="9566" y="282"/>
                    </a:lnTo>
                    <a:lnTo>
                      <a:pt x="9601" y="236"/>
                    </a:lnTo>
                    <a:lnTo>
                      <a:pt x="9641" y="186"/>
                    </a:lnTo>
                    <a:lnTo>
                      <a:pt x="9705" y="135"/>
                    </a:lnTo>
                    <a:lnTo>
                      <a:pt x="9769" y="79"/>
                    </a:lnTo>
                    <a:lnTo>
                      <a:pt x="9839" y="34"/>
                    </a:lnTo>
                    <a:lnTo>
                      <a:pt x="9903" y="5"/>
                    </a:lnTo>
                    <a:lnTo>
                      <a:pt x="9966" y="0"/>
                    </a:lnTo>
                    <a:lnTo>
                      <a:pt x="10065" y="12"/>
                    </a:lnTo>
                    <a:lnTo>
                      <a:pt x="10164" y="45"/>
                    </a:lnTo>
                    <a:lnTo>
                      <a:pt x="10245" y="90"/>
                    </a:lnTo>
                    <a:lnTo>
                      <a:pt x="10333" y="152"/>
                    </a:lnTo>
                    <a:lnTo>
                      <a:pt x="10402" y="219"/>
                    </a:lnTo>
                    <a:lnTo>
                      <a:pt x="10461" y="299"/>
                    </a:lnTo>
                    <a:lnTo>
                      <a:pt x="10501" y="382"/>
                    </a:lnTo>
                    <a:lnTo>
                      <a:pt x="10536" y="466"/>
                    </a:lnTo>
                    <a:lnTo>
                      <a:pt x="10536" y="517"/>
                    </a:lnTo>
                    <a:lnTo>
                      <a:pt x="10536" y="574"/>
                    </a:lnTo>
                    <a:lnTo>
                      <a:pt x="10536" y="624"/>
                    </a:lnTo>
                    <a:lnTo>
                      <a:pt x="10554" y="675"/>
                    </a:lnTo>
                    <a:lnTo>
                      <a:pt x="10566" y="680"/>
                    </a:lnTo>
                    <a:lnTo>
                      <a:pt x="10589" y="692"/>
                    </a:lnTo>
                    <a:lnTo>
                      <a:pt x="10607" y="697"/>
                    </a:lnTo>
                    <a:lnTo>
                      <a:pt x="10630" y="709"/>
                    </a:lnTo>
                    <a:lnTo>
                      <a:pt x="10630" y="736"/>
                    </a:lnTo>
                    <a:lnTo>
                      <a:pt x="10630" y="770"/>
                    </a:lnTo>
                    <a:lnTo>
                      <a:pt x="10630" y="809"/>
                    </a:lnTo>
                    <a:lnTo>
                      <a:pt x="10635" y="849"/>
                    </a:lnTo>
                    <a:lnTo>
                      <a:pt x="10635" y="888"/>
                    </a:lnTo>
                    <a:lnTo>
                      <a:pt x="10635" y="927"/>
                    </a:lnTo>
                    <a:lnTo>
                      <a:pt x="10630" y="961"/>
                    </a:lnTo>
                    <a:lnTo>
                      <a:pt x="10630" y="995"/>
                    </a:lnTo>
                    <a:lnTo>
                      <a:pt x="10607" y="1012"/>
                    </a:lnTo>
                    <a:lnTo>
                      <a:pt x="10577" y="1035"/>
                    </a:lnTo>
                    <a:lnTo>
                      <a:pt x="10548" y="1052"/>
                    </a:lnTo>
                    <a:lnTo>
                      <a:pt x="10524" y="1074"/>
                    </a:lnTo>
                    <a:lnTo>
                      <a:pt x="10496" y="1108"/>
                    </a:lnTo>
                    <a:lnTo>
                      <a:pt x="10484" y="1153"/>
                    </a:lnTo>
                    <a:lnTo>
                      <a:pt x="10461" y="1192"/>
                    </a:lnTo>
                    <a:lnTo>
                      <a:pt x="10443" y="1237"/>
                    </a:lnTo>
                    <a:lnTo>
                      <a:pt x="10409" y="1265"/>
                    </a:lnTo>
                    <a:lnTo>
                      <a:pt x="10374" y="1299"/>
                    </a:lnTo>
                    <a:lnTo>
                      <a:pt x="10339" y="1327"/>
                    </a:lnTo>
                    <a:lnTo>
                      <a:pt x="10303" y="1361"/>
                    </a:lnTo>
                    <a:lnTo>
                      <a:pt x="10269" y="1388"/>
                    </a:lnTo>
                    <a:lnTo>
                      <a:pt x="10245" y="1422"/>
                    </a:lnTo>
                    <a:lnTo>
                      <a:pt x="10222" y="1456"/>
                    </a:lnTo>
                    <a:lnTo>
                      <a:pt x="10217" y="1513"/>
                    </a:lnTo>
                    <a:lnTo>
                      <a:pt x="10275" y="1546"/>
                    </a:lnTo>
                    <a:lnTo>
                      <a:pt x="10362" y="1608"/>
                    </a:lnTo>
                    <a:lnTo>
                      <a:pt x="10461" y="1675"/>
                    </a:lnTo>
                    <a:lnTo>
                      <a:pt x="10571" y="1760"/>
                    </a:lnTo>
                    <a:lnTo>
                      <a:pt x="10670" y="1832"/>
                    </a:lnTo>
                    <a:lnTo>
                      <a:pt x="10762" y="1912"/>
                    </a:lnTo>
                    <a:lnTo>
                      <a:pt x="10827" y="1979"/>
                    </a:lnTo>
                    <a:lnTo>
                      <a:pt x="10868" y="2035"/>
                    </a:lnTo>
                    <a:lnTo>
                      <a:pt x="10896" y="2119"/>
                    </a:lnTo>
                    <a:lnTo>
                      <a:pt x="10919" y="2210"/>
                    </a:lnTo>
                    <a:lnTo>
                      <a:pt x="10932" y="2305"/>
                    </a:lnTo>
                    <a:lnTo>
                      <a:pt x="10944" y="2406"/>
                    </a:lnTo>
                    <a:lnTo>
                      <a:pt x="10944" y="2502"/>
                    </a:lnTo>
                    <a:lnTo>
                      <a:pt x="10944" y="2604"/>
                    </a:lnTo>
                    <a:lnTo>
                      <a:pt x="10949" y="2699"/>
                    </a:lnTo>
                    <a:lnTo>
                      <a:pt x="10967" y="2794"/>
                    </a:lnTo>
                    <a:lnTo>
                      <a:pt x="10967" y="2850"/>
                    </a:lnTo>
                    <a:lnTo>
                      <a:pt x="10984" y="2918"/>
                    </a:lnTo>
                    <a:lnTo>
                      <a:pt x="11001" y="2991"/>
                    </a:lnTo>
                    <a:lnTo>
                      <a:pt x="11018" y="3070"/>
                    </a:lnTo>
                    <a:lnTo>
                      <a:pt x="11030" y="3143"/>
                    </a:lnTo>
                    <a:lnTo>
                      <a:pt x="11048" y="3216"/>
                    </a:lnTo>
                    <a:lnTo>
                      <a:pt x="11059" y="3278"/>
                    </a:lnTo>
                    <a:lnTo>
                      <a:pt x="11071" y="3340"/>
                    </a:lnTo>
                    <a:lnTo>
                      <a:pt x="11066" y="3362"/>
                    </a:lnTo>
                    <a:lnTo>
                      <a:pt x="11059" y="3396"/>
                    </a:lnTo>
                    <a:lnTo>
                      <a:pt x="11048" y="3430"/>
                    </a:lnTo>
                    <a:lnTo>
                      <a:pt x="11036" y="3470"/>
                    </a:lnTo>
                    <a:lnTo>
                      <a:pt x="11018" y="3502"/>
                    </a:lnTo>
                    <a:lnTo>
                      <a:pt x="11001" y="3542"/>
                    </a:lnTo>
                    <a:lnTo>
                      <a:pt x="10990" y="3576"/>
                    </a:lnTo>
                    <a:lnTo>
                      <a:pt x="10990" y="3610"/>
                    </a:lnTo>
                    <a:lnTo>
                      <a:pt x="10978" y="3654"/>
                    </a:lnTo>
                    <a:lnTo>
                      <a:pt x="10972" y="3705"/>
                    </a:lnTo>
                    <a:lnTo>
                      <a:pt x="10972" y="3756"/>
                    </a:lnTo>
                    <a:lnTo>
                      <a:pt x="10972" y="3812"/>
                    </a:lnTo>
                    <a:lnTo>
                      <a:pt x="10967" y="3857"/>
                    </a:lnTo>
                    <a:lnTo>
                      <a:pt x="10967" y="3907"/>
                    </a:lnTo>
                    <a:lnTo>
                      <a:pt x="10967" y="3958"/>
                    </a:lnTo>
                    <a:lnTo>
                      <a:pt x="10967" y="4009"/>
                    </a:lnTo>
                    <a:lnTo>
                      <a:pt x="10955" y="4161"/>
                    </a:lnTo>
                    <a:lnTo>
                      <a:pt x="10955" y="4313"/>
                    </a:lnTo>
                    <a:lnTo>
                      <a:pt x="10960" y="4459"/>
                    </a:lnTo>
                    <a:lnTo>
                      <a:pt x="10972" y="4605"/>
                    </a:lnTo>
                    <a:lnTo>
                      <a:pt x="10978" y="4740"/>
                    </a:lnTo>
                    <a:lnTo>
                      <a:pt x="10984" y="4880"/>
                    </a:lnTo>
                    <a:lnTo>
                      <a:pt x="10978" y="5015"/>
                    </a:lnTo>
                    <a:lnTo>
                      <a:pt x="10978" y="5155"/>
                    </a:lnTo>
                    <a:lnTo>
                      <a:pt x="10937" y="5426"/>
                    </a:lnTo>
                    <a:lnTo>
                      <a:pt x="10903" y="5712"/>
                    </a:lnTo>
                    <a:lnTo>
                      <a:pt x="10856" y="6005"/>
                    </a:lnTo>
                    <a:lnTo>
                      <a:pt x="10827" y="6303"/>
                    </a:lnTo>
                    <a:lnTo>
                      <a:pt x="10804" y="6595"/>
                    </a:lnTo>
                    <a:lnTo>
                      <a:pt x="10810" y="6888"/>
                    </a:lnTo>
                    <a:lnTo>
                      <a:pt x="10838" y="7175"/>
                    </a:lnTo>
                    <a:lnTo>
                      <a:pt x="10908" y="7461"/>
                    </a:lnTo>
                    <a:lnTo>
                      <a:pt x="10861" y="7461"/>
                    </a:lnTo>
                    <a:lnTo>
                      <a:pt x="10821" y="7467"/>
                    </a:lnTo>
                    <a:lnTo>
                      <a:pt x="10780" y="7467"/>
                    </a:lnTo>
                    <a:lnTo>
                      <a:pt x="10739" y="7472"/>
                    </a:lnTo>
                    <a:lnTo>
                      <a:pt x="10693" y="7467"/>
                    </a:lnTo>
                    <a:lnTo>
                      <a:pt x="10653" y="7461"/>
                    </a:lnTo>
                    <a:lnTo>
                      <a:pt x="10607" y="7455"/>
                    </a:lnTo>
                    <a:lnTo>
                      <a:pt x="10566" y="7450"/>
                    </a:lnTo>
                    <a:lnTo>
                      <a:pt x="10566" y="7461"/>
                    </a:lnTo>
                    <a:lnTo>
                      <a:pt x="10566" y="7484"/>
                    </a:lnTo>
                    <a:lnTo>
                      <a:pt x="10566" y="7506"/>
                    </a:lnTo>
                    <a:lnTo>
                      <a:pt x="10566" y="7523"/>
                    </a:lnTo>
                    <a:lnTo>
                      <a:pt x="10612" y="7523"/>
                    </a:lnTo>
                    <a:lnTo>
                      <a:pt x="10658" y="7534"/>
                    </a:lnTo>
                    <a:lnTo>
                      <a:pt x="10705" y="7540"/>
                    </a:lnTo>
                    <a:lnTo>
                      <a:pt x="10751" y="7551"/>
                    </a:lnTo>
                    <a:lnTo>
                      <a:pt x="10792" y="7556"/>
                    </a:lnTo>
                    <a:lnTo>
                      <a:pt x="10838" y="7568"/>
                    </a:lnTo>
                    <a:lnTo>
                      <a:pt x="10879" y="7573"/>
                    </a:lnTo>
                    <a:lnTo>
                      <a:pt x="10926" y="7590"/>
                    </a:lnTo>
                    <a:lnTo>
                      <a:pt x="10926" y="7619"/>
                    </a:lnTo>
                    <a:lnTo>
                      <a:pt x="10926" y="7647"/>
                    </a:lnTo>
                    <a:lnTo>
                      <a:pt x="10926" y="7669"/>
                    </a:lnTo>
                    <a:lnTo>
                      <a:pt x="10932" y="7698"/>
                    </a:lnTo>
                    <a:lnTo>
                      <a:pt x="10932" y="7742"/>
                    </a:lnTo>
                    <a:lnTo>
                      <a:pt x="10949" y="7798"/>
                    </a:lnTo>
                    <a:lnTo>
                      <a:pt x="10850" y="7798"/>
                    </a:lnTo>
                    <a:lnTo>
                      <a:pt x="10705" y="7810"/>
                    </a:lnTo>
                    <a:lnTo>
                      <a:pt x="10536" y="7821"/>
                    </a:lnTo>
                    <a:lnTo>
                      <a:pt x="10356" y="7838"/>
                    </a:lnTo>
                    <a:lnTo>
                      <a:pt x="10176" y="7838"/>
                    </a:lnTo>
                    <a:lnTo>
                      <a:pt x="10031" y="7832"/>
                    </a:lnTo>
                    <a:lnTo>
                      <a:pt x="9915" y="7815"/>
                    </a:lnTo>
                    <a:lnTo>
                      <a:pt x="9868" y="7781"/>
                    </a:lnTo>
                    <a:lnTo>
                      <a:pt x="9851" y="7747"/>
                    </a:lnTo>
                    <a:lnTo>
                      <a:pt x="9845" y="7715"/>
                    </a:lnTo>
                    <a:lnTo>
                      <a:pt x="9845" y="7681"/>
                    </a:lnTo>
                    <a:lnTo>
                      <a:pt x="9845" y="7647"/>
                    </a:lnTo>
                    <a:lnTo>
                      <a:pt x="9839" y="7613"/>
                    </a:lnTo>
                    <a:lnTo>
                      <a:pt x="9839" y="7580"/>
                    </a:lnTo>
                    <a:lnTo>
                      <a:pt x="9834" y="7551"/>
                    </a:lnTo>
                    <a:lnTo>
                      <a:pt x="9834" y="7534"/>
                    </a:lnTo>
                    <a:lnTo>
                      <a:pt x="9816" y="7580"/>
                    </a:lnTo>
                    <a:lnTo>
                      <a:pt x="9804" y="7630"/>
                    </a:lnTo>
                    <a:lnTo>
                      <a:pt x="9786" y="7686"/>
                    </a:lnTo>
                    <a:lnTo>
                      <a:pt x="9775" y="7742"/>
                    </a:lnTo>
                    <a:lnTo>
                      <a:pt x="9758" y="7793"/>
                    </a:lnTo>
                    <a:lnTo>
                      <a:pt x="9746" y="7849"/>
                    </a:lnTo>
                    <a:lnTo>
                      <a:pt x="9735" y="7899"/>
                    </a:lnTo>
                    <a:lnTo>
                      <a:pt x="9728" y="7950"/>
                    </a:lnTo>
                    <a:lnTo>
                      <a:pt x="9682" y="7945"/>
                    </a:lnTo>
                    <a:lnTo>
                      <a:pt x="9636" y="7939"/>
                    </a:lnTo>
                    <a:lnTo>
                      <a:pt x="9595" y="7933"/>
                    </a:lnTo>
                    <a:lnTo>
                      <a:pt x="9566" y="7933"/>
                    </a:lnTo>
                    <a:lnTo>
                      <a:pt x="9555" y="7933"/>
                    </a:lnTo>
                    <a:lnTo>
                      <a:pt x="9531" y="7939"/>
                    </a:lnTo>
                    <a:lnTo>
                      <a:pt x="9502" y="7933"/>
                    </a:lnTo>
                    <a:lnTo>
                      <a:pt x="9472" y="7933"/>
                    </a:lnTo>
                    <a:lnTo>
                      <a:pt x="9438" y="7911"/>
                    </a:lnTo>
                    <a:lnTo>
                      <a:pt x="9415" y="7882"/>
                    </a:lnTo>
                    <a:lnTo>
                      <a:pt x="9391" y="7843"/>
                    </a:lnTo>
                    <a:lnTo>
                      <a:pt x="9368" y="7821"/>
                    </a:lnTo>
                    <a:lnTo>
                      <a:pt x="9304" y="7781"/>
                    </a:lnTo>
                    <a:lnTo>
                      <a:pt x="9246" y="7754"/>
                    </a:lnTo>
                    <a:lnTo>
                      <a:pt x="9188" y="7720"/>
                    </a:lnTo>
                    <a:lnTo>
                      <a:pt x="9142" y="7681"/>
                    </a:lnTo>
                    <a:lnTo>
                      <a:pt x="9142" y="7658"/>
                    </a:lnTo>
                    <a:lnTo>
                      <a:pt x="9147" y="7619"/>
                    </a:lnTo>
                    <a:lnTo>
                      <a:pt x="9159" y="7563"/>
                    </a:lnTo>
                    <a:lnTo>
                      <a:pt x="9170" y="7501"/>
                    </a:lnTo>
                    <a:lnTo>
                      <a:pt x="9170" y="7433"/>
                    </a:lnTo>
                    <a:lnTo>
                      <a:pt x="9177" y="7366"/>
                    </a:lnTo>
                    <a:lnTo>
                      <a:pt x="9170" y="7298"/>
                    </a:lnTo>
                    <a:lnTo>
                      <a:pt x="9165" y="7254"/>
                    </a:lnTo>
                    <a:lnTo>
                      <a:pt x="9142" y="7225"/>
                    </a:lnTo>
                    <a:lnTo>
                      <a:pt x="9112" y="7208"/>
                    </a:lnTo>
                    <a:lnTo>
                      <a:pt x="9095" y="7191"/>
                    </a:lnTo>
                    <a:lnTo>
                      <a:pt x="9089" y="7180"/>
                    </a:lnTo>
                    <a:lnTo>
                      <a:pt x="9084" y="7158"/>
                    </a:lnTo>
                    <a:lnTo>
                      <a:pt x="9084" y="7135"/>
                    </a:lnTo>
                    <a:lnTo>
                      <a:pt x="9084" y="7068"/>
                    </a:lnTo>
                    <a:lnTo>
                      <a:pt x="9095" y="7006"/>
                    </a:lnTo>
                    <a:lnTo>
                      <a:pt x="9101" y="6933"/>
                    </a:lnTo>
                    <a:lnTo>
                      <a:pt x="9119" y="6859"/>
                    </a:lnTo>
                    <a:lnTo>
                      <a:pt x="9130" y="6781"/>
                    </a:lnTo>
                    <a:lnTo>
                      <a:pt x="9147" y="6707"/>
                    </a:lnTo>
                    <a:lnTo>
                      <a:pt x="9159" y="6634"/>
                    </a:lnTo>
                    <a:lnTo>
                      <a:pt x="9177" y="6573"/>
                    </a:lnTo>
                    <a:lnTo>
                      <a:pt x="9205" y="63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30200" y="4046760"/>
                <a:ext cx="114120" cy="244080"/>
              </a:xfrm>
              <a:custGeom>
                <a:avLst/>
                <a:gdLst/>
                <a:ahLst/>
                <a:rect l="l" t="t" r="r" b="b"/>
                <a:pathLst>
                  <a:path w="575" h="1197">
                    <a:moveTo>
                      <a:pt x="291" y="106"/>
                    </a:moveTo>
                    <a:lnTo>
                      <a:pt x="314" y="140"/>
                    </a:lnTo>
                    <a:lnTo>
                      <a:pt x="349" y="157"/>
                    </a:lnTo>
                    <a:lnTo>
                      <a:pt x="390" y="157"/>
                    </a:lnTo>
                    <a:lnTo>
                      <a:pt x="431" y="147"/>
                    </a:lnTo>
                    <a:lnTo>
                      <a:pt x="466" y="118"/>
                    </a:lnTo>
                    <a:lnTo>
                      <a:pt x="506" y="84"/>
                    </a:lnTo>
                    <a:lnTo>
                      <a:pt x="535" y="39"/>
                    </a:lnTo>
                    <a:lnTo>
                      <a:pt x="565" y="0"/>
                    </a:lnTo>
                    <a:lnTo>
                      <a:pt x="565" y="34"/>
                    </a:lnTo>
                    <a:lnTo>
                      <a:pt x="570" y="79"/>
                    </a:lnTo>
                    <a:lnTo>
                      <a:pt x="570" y="118"/>
                    </a:lnTo>
                    <a:lnTo>
                      <a:pt x="575" y="140"/>
                    </a:lnTo>
                    <a:lnTo>
                      <a:pt x="541" y="157"/>
                    </a:lnTo>
                    <a:lnTo>
                      <a:pt x="517" y="186"/>
                    </a:lnTo>
                    <a:lnTo>
                      <a:pt x="494" y="214"/>
                    </a:lnTo>
                    <a:lnTo>
                      <a:pt x="471" y="242"/>
                    </a:lnTo>
                    <a:lnTo>
                      <a:pt x="425" y="275"/>
                    </a:lnTo>
                    <a:lnTo>
                      <a:pt x="384" y="321"/>
                    </a:lnTo>
                    <a:lnTo>
                      <a:pt x="349" y="371"/>
                    </a:lnTo>
                    <a:lnTo>
                      <a:pt x="337" y="427"/>
                    </a:lnTo>
                    <a:lnTo>
                      <a:pt x="332" y="461"/>
                    </a:lnTo>
                    <a:lnTo>
                      <a:pt x="332" y="506"/>
                    </a:lnTo>
                    <a:lnTo>
                      <a:pt x="332" y="545"/>
                    </a:lnTo>
                    <a:lnTo>
                      <a:pt x="337" y="596"/>
                    </a:lnTo>
                    <a:lnTo>
                      <a:pt x="337" y="641"/>
                    </a:lnTo>
                    <a:lnTo>
                      <a:pt x="344" y="686"/>
                    </a:lnTo>
                    <a:lnTo>
                      <a:pt x="344" y="731"/>
                    </a:lnTo>
                    <a:lnTo>
                      <a:pt x="349" y="776"/>
                    </a:lnTo>
                    <a:lnTo>
                      <a:pt x="355" y="776"/>
                    </a:lnTo>
                    <a:lnTo>
                      <a:pt x="378" y="776"/>
                    </a:lnTo>
                    <a:lnTo>
                      <a:pt x="395" y="782"/>
                    </a:lnTo>
                    <a:lnTo>
                      <a:pt x="413" y="787"/>
                    </a:lnTo>
                    <a:lnTo>
                      <a:pt x="413" y="793"/>
                    </a:lnTo>
                    <a:lnTo>
                      <a:pt x="418" y="815"/>
                    </a:lnTo>
                    <a:lnTo>
                      <a:pt x="418" y="832"/>
                    </a:lnTo>
                    <a:lnTo>
                      <a:pt x="413" y="838"/>
                    </a:lnTo>
                    <a:lnTo>
                      <a:pt x="395" y="961"/>
                    </a:lnTo>
                    <a:lnTo>
                      <a:pt x="384" y="1062"/>
                    </a:lnTo>
                    <a:lnTo>
                      <a:pt x="367" y="1124"/>
                    </a:lnTo>
                    <a:lnTo>
                      <a:pt x="344" y="1170"/>
                    </a:lnTo>
                    <a:lnTo>
                      <a:pt x="291" y="1192"/>
                    </a:lnTo>
                    <a:lnTo>
                      <a:pt x="221" y="1197"/>
                    </a:lnTo>
                    <a:lnTo>
                      <a:pt x="129" y="1187"/>
                    </a:lnTo>
                    <a:lnTo>
                      <a:pt x="0" y="1175"/>
                    </a:lnTo>
                    <a:lnTo>
                      <a:pt x="0" y="1119"/>
                    </a:lnTo>
                    <a:lnTo>
                      <a:pt x="7" y="1062"/>
                    </a:lnTo>
                    <a:lnTo>
                      <a:pt x="7" y="1006"/>
                    </a:lnTo>
                    <a:lnTo>
                      <a:pt x="12" y="950"/>
                    </a:lnTo>
                    <a:lnTo>
                      <a:pt x="12" y="888"/>
                    </a:lnTo>
                    <a:lnTo>
                      <a:pt x="12" y="832"/>
                    </a:lnTo>
                    <a:lnTo>
                      <a:pt x="18" y="770"/>
                    </a:lnTo>
                    <a:lnTo>
                      <a:pt x="30" y="719"/>
                    </a:lnTo>
                    <a:lnTo>
                      <a:pt x="65" y="714"/>
                    </a:lnTo>
                    <a:lnTo>
                      <a:pt x="99" y="709"/>
                    </a:lnTo>
                    <a:lnTo>
                      <a:pt x="81" y="608"/>
                    </a:lnTo>
                    <a:lnTo>
                      <a:pt x="76" y="523"/>
                    </a:lnTo>
                    <a:lnTo>
                      <a:pt x="76" y="439"/>
                    </a:lnTo>
                    <a:lnTo>
                      <a:pt x="88" y="371"/>
                    </a:lnTo>
                    <a:lnTo>
                      <a:pt x="99" y="297"/>
                    </a:lnTo>
                    <a:lnTo>
                      <a:pt x="122" y="236"/>
                    </a:lnTo>
                    <a:lnTo>
                      <a:pt x="157" y="174"/>
                    </a:lnTo>
                    <a:lnTo>
                      <a:pt x="198" y="118"/>
                    </a:lnTo>
                    <a:lnTo>
                      <a:pt x="291" y="106"/>
                    </a:lnTo>
                    <a:close/>
                  </a:path>
                </a:pathLst>
              </a:custGeom>
              <a:solidFill>
                <a:srgbClr val="66f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93920" y="3747600"/>
                <a:ext cx="189720" cy="267840"/>
              </a:xfrm>
              <a:custGeom>
                <a:avLst/>
                <a:gdLst/>
                <a:ahLst/>
                <a:rect l="l" t="t" r="r" b="b"/>
                <a:pathLst>
                  <a:path w="947" h="1310">
                    <a:moveTo>
                      <a:pt x="412" y="0"/>
                    </a:moveTo>
                    <a:lnTo>
                      <a:pt x="243" y="79"/>
                    </a:lnTo>
                    <a:lnTo>
                      <a:pt x="116" y="253"/>
                    </a:lnTo>
                    <a:lnTo>
                      <a:pt x="28" y="477"/>
                    </a:lnTo>
                    <a:lnTo>
                      <a:pt x="0" y="731"/>
                    </a:lnTo>
                    <a:lnTo>
                      <a:pt x="17" y="967"/>
                    </a:lnTo>
                    <a:lnTo>
                      <a:pt x="110" y="1163"/>
                    </a:lnTo>
                    <a:lnTo>
                      <a:pt x="266" y="1288"/>
                    </a:lnTo>
                    <a:lnTo>
                      <a:pt x="517" y="1310"/>
                    </a:lnTo>
                    <a:lnTo>
                      <a:pt x="732" y="1214"/>
                    </a:lnTo>
                    <a:lnTo>
                      <a:pt x="877" y="1040"/>
                    </a:lnTo>
                    <a:lnTo>
                      <a:pt x="941" y="809"/>
                    </a:lnTo>
                    <a:lnTo>
                      <a:pt x="947" y="567"/>
                    </a:lnTo>
                    <a:lnTo>
                      <a:pt x="883" y="331"/>
                    </a:lnTo>
                    <a:lnTo>
                      <a:pt x="773" y="140"/>
                    </a:lnTo>
                    <a:lnTo>
                      <a:pt x="610" y="16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29600" y="3955320"/>
                <a:ext cx="131040" cy="219960"/>
              </a:xfrm>
              <a:custGeom>
                <a:avLst/>
                <a:gdLst/>
                <a:ahLst/>
                <a:rect l="l" t="t" r="r" b="b"/>
                <a:pathLst>
                  <a:path w="651" h="1080">
                    <a:moveTo>
                      <a:pt x="390" y="0"/>
                    </a:moveTo>
                    <a:lnTo>
                      <a:pt x="215" y="45"/>
                    </a:lnTo>
                    <a:lnTo>
                      <a:pt x="99" y="158"/>
                    </a:lnTo>
                    <a:lnTo>
                      <a:pt x="24" y="310"/>
                    </a:lnTo>
                    <a:lnTo>
                      <a:pt x="0" y="495"/>
                    </a:lnTo>
                    <a:lnTo>
                      <a:pt x="0" y="675"/>
                    </a:lnTo>
                    <a:lnTo>
                      <a:pt x="53" y="849"/>
                    </a:lnTo>
                    <a:lnTo>
                      <a:pt x="129" y="990"/>
                    </a:lnTo>
                    <a:lnTo>
                      <a:pt x="245" y="1080"/>
                    </a:lnTo>
                    <a:lnTo>
                      <a:pt x="256" y="1080"/>
                    </a:lnTo>
                    <a:lnTo>
                      <a:pt x="274" y="1080"/>
                    </a:lnTo>
                    <a:lnTo>
                      <a:pt x="286" y="1080"/>
                    </a:lnTo>
                    <a:lnTo>
                      <a:pt x="297" y="1080"/>
                    </a:lnTo>
                    <a:lnTo>
                      <a:pt x="448" y="1029"/>
                    </a:lnTo>
                    <a:lnTo>
                      <a:pt x="558" y="906"/>
                    </a:lnTo>
                    <a:lnTo>
                      <a:pt x="623" y="725"/>
                    </a:lnTo>
                    <a:lnTo>
                      <a:pt x="651" y="529"/>
                    </a:lnTo>
                    <a:lnTo>
                      <a:pt x="634" y="326"/>
                    </a:lnTo>
                    <a:lnTo>
                      <a:pt x="588" y="158"/>
                    </a:lnTo>
                    <a:lnTo>
                      <a:pt x="501" y="34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21800" y="3971520"/>
                <a:ext cx="124920" cy="190800"/>
              </a:xfrm>
              <a:custGeom>
                <a:avLst/>
                <a:gdLst/>
                <a:ahLst/>
                <a:rect l="l" t="t" r="r" b="b"/>
                <a:pathLst>
                  <a:path w="622" h="938">
                    <a:moveTo>
                      <a:pt x="325" y="0"/>
                    </a:moveTo>
                    <a:lnTo>
                      <a:pt x="221" y="50"/>
                    </a:lnTo>
                    <a:lnTo>
                      <a:pt x="129" y="175"/>
                    </a:lnTo>
                    <a:lnTo>
                      <a:pt x="46" y="332"/>
                    </a:lnTo>
                    <a:lnTo>
                      <a:pt x="6" y="511"/>
                    </a:lnTo>
                    <a:lnTo>
                      <a:pt x="0" y="680"/>
                    </a:lnTo>
                    <a:lnTo>
                      <a:pt x="46" y="827"/>
                    </a:lnTo>
                    <a:lnTo>
                      <a:pt x="152" y="916"/>
                    </a:lnTo>
                    <a:lnTo>
                      <a:pt x="337" y="938"/>
                    </a:lnTo>
                    <a:lnTo>
                      <a:pt x="466" y="877"/>
                    </a:lnTo>
                    <a:lnTo>
                      <a:pt x="558" y="753"/>
                    </a:lnTo>
                    <a:lnTo>
                      <a:pt x="605" y="590"/>
                    </a:lnTo>
                    <a:lnTo>
                      <a:pt x="622" y="416"/>
                    </a:lnTo>
                    <a:lnTo>
                      <a:pt x="593" y="241"/>
                    </a:lnTo>
                    <a:lnTo>
                      <a:pt x="541" y="101"/>
                    </a:lnTo>
                    <a:lnTo>
                      <a:pt x="448" y="11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52480" y="3983040"/>
                <a:ext cx="76680" cy="118800"/>
              </a:xfrm>
              <a:custGeom>
                <a:avLst/>
                <a:gdLst/>
                <a:ahLst/>
                <a:rect l="l" t="t" r="r" b="b"/>
                <a:pathLst>
                  <a:path w="384" h="579">
                    <a:moveTo>
                      <a:pt x="209" y="0"/>
                    </a:moveTo>
                    <a:lnTo>
                      <a:pt x="133" y="22"/>
                    </a:lnTo>
                    <a:lnTo>
                      <a:pt x="70" y="90"/>
                    </a:lnTo>
                    <a:lnTo>
                      <a:pt x="24" y="174"/>
                    </a:lnTo>
                    <a:lnTo>
                      <a:pt x="6" y="280"/>
                    </a:lnTo>
                    <a:lnTo>
                      <a:pt x="0" y="382"/>
                    </a:lnTo>
                    <a:lnTo>
                      <a:pt x="24" y="478"/>
                    </a:lnTo>
                    <a:lnTo>
                      <a:pt x="75" y="545"/>
                    </a:lnTo>
                    <a:lnTo>
                      <a:pt x="168" y="579"/>
                    </a:lnTo>
                    <a:lnTo>
                      <a:pt x="239" y="551"/>
                    </a:lnTo>
                    <a:lnTo>
                      <a:pt x="302" y="489"/>
                    </a:lnTo>
                    <a:lnTo>
                      <a:pt x="349" y="393"/>
                    </a:lnTo>
                    <a:lnTo>
                      <a:pt x="384" y="287"/>
                    </a:lnTo>
                    <a:lnTo>
                      <a:pt x="384" y="174"/>
                    </a:lnTo>
                    <a:lnTo>
                      <a:pt x="361" y="84"/>
                    </a:lnTo>
                    <a:lnTo>
                      <a:pt x="302" y="17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60400" y="3995280"/>
                <a:ext cx="288360" cy="295920"/>
              </a:xfrm>
              <a:custGeom>
                <a:avLst/>
                <a:gdLst/>
                <a:ahLst/>
                <a:rect l="l" t="t" r="r" b="b"/>
                <a:pathLst>
                  <a:path w="1442" h="1450">
                    <a:moveTo>
                      <a:pt x="541" y="0"/>
                    </a:moveTo>
                    <a:lnTo>
                      <a:pt x="564" y="17"/>
                    </a:lnTo>
                    <a:lnTo>
                      <a:pt x="588" y="45"/>
                    </a:lnTo>
                    <a:lnTo>
                      <a:pt x="599" y="79"/>
                    </a:lnTo>
                    <a:lnTo>
                      <a:pt x="611" y="118"/>
                    </a:lnTo>
                    <a:lnTo>
                      <a:pt x="616" y="157"/>
                    </a:lnTo>
                    <a:lnTo>
                      <a:pt x="623" y="202"/>
                    </a:lnTo>
                    <a:lnTo>
                      <a:pt x="623" y="248"/>
                    </a:lnTo>
                    <a:lnTo>
                      <a:pt x="640" y="292"/>
                    </a:lnTo>
                    <a:lnTo>
                      <a:pt x="669" y="219"/>
                    </a:lnTo>
                    <a:lnTo>
                      <a:pt x="704" y="163"/>
                    </a:lnTo>
                    <a:lnTo>
                      <a:pt x="750" y="123"/>
                    </a:lnTo>
                    <a:lnTo>
                      <a:pt x="803" y="96"/>
                    </a:lnTo>
                    <a:lnTo>
                      <a:pt x="854" y="67"/>
                    </a:lnTo>
                    <a:lnTo>
                      <a:pt x="907" y="50"/>
                    </a:lnTo>
                    <a:lnTo>
                      <a:pt x="960" y="28"/>
                    </a:lnTo>
                    <a:lnTo>
                      <a:pt x="1011" y="11"/>
                    </a:lnTo>
                    <a:lnTo>
                      <a:pt x="1034" y="34"/>
                    </a:lnTo>
                    <a:lnTo>
                      <a:pt x="1064" y="62"/>
                    </a:lnTo>
                    <a:lnTo>
                      <a:pt x="1082" y="96"/>
                    </a:lnTo>
                    <a:lnTo>
                      <a:pt x="1105" y="135"/>
                    </a:lnTo>
                    <a:lnTo>
                      <a:pt x="1174" y="62"/>
                    </a:lnTo>
                    <a:lnTo>
                      <a:pt x="1232" y="50"/>
                    </a:lnTo>
                    <a:lnTo>
                      <a:pt x="1267" y="84"/>
                    </a:lnTo>
                    <a:lnTo>
                      <a:pt x="1297" y="157"/>
                    </a:lnTo>
                    <a:lnTo>
                      <a:pt x="1308" y="236"/>
                    </a:lnTo>
                    <a:lnTo>
                      <a:pt x="1313" y="320"/>
                    </a:lnTo>
                    <a:lnTo>
                      <a:pt x="1320" y="388"/>
                    </a:lnTo>
                    <a:lnTo>
                      <a:pt x="1331" y="433"/>
                    </a:lnTo>
                    <a:lnTo>
                      <a:pt x="1343" y="461"/>
                    </a:lnTo>
                    <a:lnTo>
                      <a:pt x="1378" y="506"/>
                    </a:lnTo>
                    <a:lnTo>
                      <a:pt x="1407" y="550"/>
                    </a:lnTo>
                    <a:lnTo>
                      <a:pt x="1430" y="601"/>
                    </a:lnTo>
                    <a:lnTo>
                      <a:pt x="1419" y="641"/>
                    </a:lnTo>
                    <a:lnTo>
                      <a:pt x="1407" y="675"/>
                    </a:lnTo>
                    <a:lnTo>
                      <a:pt x="1384" y="702"/>
                    </a:lnTo>
                    <a:lnTo>
                      <a:pt x="1372" y="731"/>
                    </a:lnTo>
                    <a:lnTo>
                      <a:pt x="1366" y="753"/>
                    </a:lnTo>
                    <a:lnTo>
                      <a:pt x="1372" y="787"/>
                    </a:lnTo>
                    <a:lnTo>
                      <a:pt x="1378" y="827"/>
                    </a:lnTo>
                    <a:lnTo>
                      <a:pt x="1389" y="866"/>
                    </a:lnTo>
                    <a:lnTo>
                      <a:pt x="1401" y="900"/>
                    </a:lnTo>
                    <a:lnTo>
                      <a:pt x="1412" y="939"/>
                    </a:lnTo>
                    <a:lnTo>
                      <a:pt x="1419" y="967"/>
                    </a:lnTo>
                    <a:lnTo>
                      <a:pt x="1430" y="1001"/>
                    </a:lnTo>
                    <a:lnTo>
                      <a:pt x="1436" y="1063"/>
                    </a:lnTo>
                    <a:lnTo>
                      <a:pt x="1442" y="1124"/>
                    </a:lnTo>
                    <a:lnTo>
                      <a:pt x="1436" y="1187"/>
                    </a:lnTo>
                    <a:lnTo>
                      <a:pt x="1436" y="1254"/>
                    </a:lnTo>
                    <a:lnTo>
                      <a:pt x="1419" y="1310"/>
                    </a:lnTo>
                    <a:lnTo>
                      <a:pt x="1396" y="1361"/>
                    </a:lnTo>
                    <a:lnTo>
                      <a:pt x="1361" y="1394"/>
                    </a:lnTo>
                    <a:lnTo>
                      <a:pt x="1320" y="1428"/>
                    </a:lnTo>
                    <a:lnTo>
                      <a:pt x="1267" y="1433"/>
                    </a:lnTo>
                    <a:lnTo>
                      <a:pt x="1204" y="1445"/>
                    </a:lnTo>
                    <a:lnTo>
                      <a:pt x="1133" y="1445"/>
                    </a:lnTo>
                    <a:lnTo>
                      <a:pt x="1059" y="1450"/>
                    </a:lnTo>
                    <a:lnTo>
                      <a:pt x="977" y="1445"/>
                    </a:lnTo>
                    <a:lnTo>
                      <a:pt x="907" y="1440"/>
                    </a:lnTo>
                    <a:lnTo>
                      <a:pt x="837" y="1423"/>
                    </a:lnTo>
                    <a:lnTo>
                      <a:pt x="791" y="1411"/>
                    </a:lnTo>
                    <a:lnTo>
                      <a:pt x="762" y="1400"/>
                    </a:lnTo>
                    <a:lnTo>
                      <a:pt x="732" y="1389"/>
                    </a:lnTo>
                    <a:lnTo>
                      <a:pt x="704" y="1372"/>
                    </a:lnTo>
                    <a:lnTo>
                      <a:pt x="692" y="1361"/>
                    </a:lnTo>
                    <a:lnTo>
                      <a:pt x="681" y="1310"/>
                    </a:lnTo>
                    <a:lnTo>
                      <a:pt x="686" y="1271"/>
                    </a:lnTo>
                    <a:lnTo>
                      <a:pt x="692" y="1226"/>
                    </a:lnTo>
                    <a:lnTo>
                      <a:pt x="709" y="1192"/>
                    </a:lnTo>
                    <a:lnTo>
                      <a:pt x="721" y="1146"/>
                    </a:lnTo>
                    <a:lnTo>
                      <a:pt x="732" y="1107"/>
                    </a:lnTo>
                    <a:lnTo>
                      <a:pt x="739" y="1068"/>
                    </a:lnTo>
                    <a:lnTo>
                      <a:pt x="745" y="1029"/>
                    </a:lnTo>
                    <a:lnTo>
                      <a:pt x="732" y="989"/>
                    </a:lnTo>
                    <a:lnTo>
                      <a:pt x="721" y="956"/>
                    </a:lnTo>
                    <a:lnTo>
                      <a:pt x="704" y="922"/>
                    </a:lnTo>
                    <a:lnTo>
                      <a:pt x="692" y="888"/>
                    </a:lnTo>
                    <a:lnTo>
                      <a:pt x="674" y="849"/>
                    </a:lnTo>
                    <a:lnTo>
                      <a:pt x="657" y="815"/>
                    </a:lnTo>
                    <a:lnTo>
                      <a:pt x="640" y="776"/>
                    </a:lnTo>
                    <a:lnTo>
                      <a:pt x="628" y="742"/>
                    </a:lnTo>
                    <a:lnTo>
                      <a:pt x="535" y="736"/>
                    </a:lnTo>
                    <a:lnTo>
                      <a:pt x="459" y="736"/>
                    </a:lnTo>
                    <a:lnTo>
                      <a:pt x="384" y="726"/>
                    </a:lnTo>
                    <a:lnTo>
                      <a:pt x="314" y="714"/>
                    </a:lnTo>
                    <a:lnTo>
                      <a:pt x="245" y="692"/>
                    </a:lnTo>
                    <a:lnTo>
                      <a:pt x="175" y="675"/>
                    </a:lnTo>
                    <a:lnTo>
                      <a:pt x="99" y="658"/>
                    </a:lnTo>
                    <a:lnTo>
                      <a:pt x="30" y="641"/>
                    </a:lnTo>
                    <a:lnTo>
                      <a:pt x="18" y="579"/>
                    </a:lnTo>
                    <a:lnTo>
                      <a:pt x="12" y="523"/>
                    </a:lnTo>
                    <a:lnTo>
                      <a:pt x="0" y="467"/>
                    </a:lnTo>
                    <a:lnTo>
                      <a:pt x="0" y="410"/>
                    </a:lnTo>
                    <a:lnTo>
                      <a:pt x="7" y="388"/>
                    </a:lnTo>
                    <a:lnTo>
                      <a:pt x="23" y="343"/>
                    </a:lnTo>
                    <a:lnTo>
                      <a:pt x="41" y="287"/>
                    </a:lnTo>
                    <a:lnTo>
                      <a:pt x="58" y="258"/>
                    </a:lnTo>
                    <a:lnTo>
                      <a:pt x="58" y="208"/>
                    </a:lnTo>
                    <a:lnTo>
                      <a:pt x="58" y="174"/>
                    </a:lnTo>
                    <a:lnTo>
                      <a:pt x="58" y="140"/>
                    </a:lnTo>
                    <a:lnTo>
                      <a:pt x="58" y="123"/>
                    </a:lnTo>
                    <a:lnTo>
                      <a:pt x="58" y="101"/>
                    </a:lnTo>
                    <a:lnTo>
                      <a:pt x="81" y="84"/>
                    </a:lnTo>
                    <a:lnTo>
                      <a:pt x="116" y="74"/>
                    </a:lnTo>
                    <a:lnTo>
                      <a:pt x="175" y="62"/>
                    </a:lnTo>
                    <a:lnTo>
                      <a:pt x="198" y="101"/>
                    </a:lnTo>
                    <a:lnTo>
                      <a:pt x="221" y="169"/>
                    </a:lnTo>
                    <a:lnTo>
                      <a:pt x="238" y="241"/>
                    </a:lnTo>
                    <a:lnTo>
                      <a:pt x="256" y="332"/>
                    </a:lnTo>
                    <a:lnTo>
                      <a:pt x="261" y="416"/>
                    </a:lnTo>
                    <a:lnTo>
                      <a:pt x="274" y="511"/>
                    </a:lnTo>
                    <a:lnTo>
                      <a:pt x="279" y="596"/>
                    </a:lnTo>
                    <a:lnTo>
                      <a:pt x="291" y="675"/>
                    </a:lnTo>
                    <a:lnTo>
                      <a:pt x="291" y="646"/>
                    </a:lnTo>
                    <a:lnTo>
                      <a:pt x="309" y="601"/>
                    </a:lnTo>
                    <a:lnTo>
                      <a:pt x="326" y="540"/>
                    </a:lnTo>
                    <a:lnTo>
                      <a:pt x="344" y="478"/>
                    </a:lnTo>
                    <a:lnTo>
                      <a:pt x="355" y="410"/>
                    </a:lnTo>
                    <a:lnTo>
                      <a:pt x="372" y="349"/>
                    </a:lnTo>
                    <a:lnTo>
                      <a:pt x="384" y="304"/>
                    </a:lnTo>
                    <a:lnTo>
                      <a:pt x="402" y="287"/>
                    </a:lnTo>
                    <a:lnTo>
                      <a:pt x="425" y="236"/>
                    </a:lnTo>
                    <a:lnTo>
                      <a:pt x="431" y="197"/>
                    </a:lnTo>
                    <a:lnTo>
                      <a:pt x="431" y="169"/>
                    </a:lnTo>
                    <a:lnTo>
                      <a:pt x="431" y="146"/>
                    </a:lnTo>
                    <a:lnTo>
                      <a:pt x="431" y="106"/>
                    </a:lnTo>
                    <a:lnTo>
                      <a:pt x="443" y="74"/>
                    </a:lnTo>
                    <a:lnTo>
                      <a:pt x="448" y="40"/>
                    </a:lnTo>
                    <a:lnTo>
                      <a:pt x="477" y="28"/>
                    </a:lnTo>
                    <a:lnTo>
                      <a:pt x="506" y="11"/>
                    </a:lnTo>
                    <a:lnTo>
                      <a:pt x="5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52360" y="3992040"/>
                <a:ext cx="105840" cy="306720"/>
              </a:xfrm>
              <a:custGeom>
                <a:avLst/>
                <a:gdLst/>
                <a:ahLst/>
                <a:rect l="l" t="t" r="r" b="b"/>
                <a:pathLst>
                  <a:path w="528" h="1501">
                    <a:moveTo>
                      <a:pt x="87" y="410"/>
                    </a:moveTo>
                    <a:lnTo>
                      <a:pt x="70" y="383"/>
                    </a:lnTo>
                    <a:lnTo>
                      <a:pt x="41" y="332"/>
                    </a:lnTo>
                    <a:lnTo>
                      <a:pt x="23" y="298"/>
                    </a:lnTo>
                    <a:lnTo>
                      <a:pt x="11" y="265"/>
                    </a:lnTo>
                    <a:lnTo>
                      <a:pt x="0" y="236"/>
                    </a:lnTo>
                    <a:lnTo>
                      <a:pt x="6" y="219"/>
                    </a:lnTo>
                    <a:lnTo>
                      <a:pt x="6" y="186"/>
                    </a:lnTo>
                    <a:lnTo>
                      <a:pt x="23" y="152"/>
                    </a:lnTo>
                    <a:lnTo>
                      <a:pt x="41" y="118"/>
                    </a:lnTo>
                    <a:lnTo>
                      <a:pt x="70" y="84"/>
                    </a:lnTo>
                    <a:lnTo>
                      <a:pt x="93" y="51"/>
                    </a:lnTo>
                    <a:lnTo>
                      <a:pt x="122" y="23"/>
                    </a:lnTo>
                    <a:lnTo>
                      <a:pt x="151" y="6"/>
                    </a:lnTo>
                    <a:lnTo>
                      <a:pt x="180" y="0"/>
                    </a:lnTo>
                    <a:lnTo>
                      <a:pt x="244" y="0"/>
                    </a:lnTo>
                    <a:lnTo>
                      <a:pt x="302" y="40"/>
                    </a:lnTo>
                    <a:lnTo>
                      <a:pt x="343" y="96"/>
                    </a:lnTo>
                    <a:lnTo>
                      <a:pt x="378" y="174"/>
                    </a:lnTo>
                    <a:lnTo>
                      <a:pt x="389" y="248"/>
                    </a:lnTo>
                    <a:lnTo>
                      <a:pt x="384" y="326"/>
                    </a:lnTo>
                    <a:lnTo>
                      <a:pt x="360" y="376"/>
                    </a:lnTo>
                    <a:lnTo>
                      <a:pt x="325" y="410"/>
                    </a:lnTo>
                    <a:lnTo>
                      <a:pt x="279" y="410"/>
                    </a:lnTo>
                    <a:lnTo>
                      <a:pt x="256" y="400"/>
                    </a:lnTo>
                    <a:lnTo>
                      <a:pt x="221" y="383"/>
                    </a:lnTo>
                    <a:lnTo>
                      <a:pt x="175" y="376"/>
                    </a:lnTo>
                    <a:lnTo>
                      <a:pt x="256" y="478"/>
                    </a:lnTo>
                    <a:lnTo>
                      <a:pt x="262" y="495"/>
                    </a:lnTo>
                    <a:lnTo>
                      <a:pt x="274" y="523"/>
                    </a:lnTo>
                    <a:lnTo>
                      <a:pt x="285" y="557"/>
                    </a:lnTo>
                    <a:lnTo>
                      <a:pt x="302" y="601"/>
                    </a:lnTo>
                    <a:lnTo>
                      <a:pt x="320" y="652"/>
                    </a:lnTo>
                    <a:lnTo>
                      <a:pt x="348" y="702"/>
                    </a:lnTo>
                    <a:lnTo>
                      <a:pt x="373" y="743"/>
                    </a:lnTo>
                    <a:lnTo>
                      <a:pt x="384" y="759"/>
                    </a:lnTo>
                    <a:lnTo>
                      <a:pt x="413" y="753"/>
                    </a:lnTo>
                    <a:lnTo>
                      <a:pt x="436" y="759"/>
                    </a:lnTo>
                    <a:lnTo>
                      <a:pt x="454" y="759"/>
                    </a:lnTo>
                    <a:lnTo>
                      <a:pt x="471" y="776"/>
                    </a:lnTo>
                    <a:lnTo>
                      <a:pt x="494" y="804"/>
                    </a:lnTo>
                    <a:lnTo>
                      <a:pt x="528" y="849"/>
                    </a:lnTo>
                    <a:lnTo>
                      <a:pt x="512" y="878"/>
                    </a:lnTo>
                    <a:lnTo>
                      <a:pt x="500" y="905"/>
                    </a:lnTo>
                    <a:lnTo>
                      <a:pt x="482" y="922"/>
                    </a:lnTo>
                    <a:lnTo>
                      <a:pt x="477" y="945"/>
                    </a:lnTo>
                    <a:lnTo>
                      <a:pt x="454" y="956"/>
                    </a:lnTo>
                    <a:lnTo>
                      <a:pt x="430" y="967"/>
                    </a:lnTo>
                    <a:lnTo>
                      <a:pt x="396" y="973"/>
                    </a:lnTo>
                    <a:lnTo>
                      <a:pt x="355" y="979"/>
                    </a:lnTo>
                    <a:lnTo>
                      <a:pt x="360" y="1046"/>
                    </a:lnTo>
                    <a:lnTo>
                      <a:pt x="366" y="1114"/>
                    </a:lnTo>
                    <a:lnTo>
                      <a:pt x="366" y="1180"/>
                    </a:lnTo>
                    <a:lnTo>
                      <a:pt x="378" y="1248"/>
                    </a:lnTo>
                    <a:lnTo>
                      <a:pt x="389" y="1305"/>
                    </a:lnTo>
                    <a:lnTo>
                      <a:pt x="407" y="1366"/>
                    </a:lnTo>
                    <a:lnTo>
                      <a:pt x="424" y="1417"/>
                    </a:lnTo>
                    <a:lnTo>
                      <a:pt x="459" y="1467"/>
                    </a:lnTo>
                    <a:lnTo>
                      <a:pt x="401" y="1479"/>
                    </a:lnTo>
                    <a:lnTo>
                      <a:pt x="343" y="1490"/>
                    </a:lnTo>
                    <a:lnTo>
                      <a:pt x="285" y="1496"/>
                    </a:lnTo>
                    <a:lnTo>
                      <a:pt x="233" y="1501"/>
                    </a:lnTo>
                    <a:lnTo>
                      <a:pt x="175" y="1496"/>
                    </a:lnTo>
                    <a:lnTo>
                      <a:pt x="122" y="1496"/>
                    </a:lnTo>
                    <a:lnTo>
                      <a:pt x="70" y="1479"/>
                    </a:lnTo>
                    <a:lnTo>
                      <a:pt x="23" y="1467"/>
                    </a:lnTo>
                    <a:lnTo>
                      <a:pt x="18" y="1400"/>
                    </a:lnTo>
                    <a:lnTo>
                      <a:pt x="23" y="1332"/>
                    </a:lnTo>
                    <a:lnTo>
                      <a:pt x="29" y="1265"/>
                    </a:lnTo>
                    <a:lnTo>
                      <a:pt x="46" y="1204"/>
                    </a:lnTo>
                    <a:lnTo>
                      <a:pt x="59" y="1136"/>
                    </a:lnTo>
                    <a:lnTo>
                      <a:pt x="70" y="1069"/>
                    </a:lnTo>
                    <a:lnTo>
                      <a:pt x="70" y="1001"/>
                    </a:lnTo>
                    <a:lnTo>
                      <a:pt x="76" y="939"/>
                    </a:lnTo>
                    <a:lnTo>
                      <a:pt x="64" y="883"/>
                    </a:lnTo>
                    <a:lnTo>
                      <a:pt x="52" y="832"/>
                    </a:lnTo>
                    <a:lnTo>
                      <a:pt x="41" y="782"/>
                    </a:lnTo>
                    <a:lnTo>
                      <a:pt x="35" y="731"/>
                    </a:lnTo>
                    <a:lnTo>
                      <a:pt x="23" y="680"/>
                    </a:lnTo>
                    <a:lnTo>
                      <a:pt x="23" y="630"/>
                    </a:lnTo>
                    <a:lnTo>
                      <a:pt x="23" y="579"/>
                    </a:lnTo>
                    <a:lnTo>
                      <a:pt x="46" y="528"/>
                    </a:lnTo>
                    <a:lnTo>
                      <a:pt x="52" y="501"/>
                    </a:lnTo>
                    <a:lnTo>
                      <a:pt x="70" y="456"/>
                    </a:lnTo>
                    <a:lnTo>
                      <a:pt x="87" y="4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64600" y="4081680"/>
                <a:ext cx="75240" cy="209160"/>
              </a:xfrm>
              <a:custGeom>
                <a:avLst/>
                <a:gdLst/>
                <a:ahLst/>
                <a:rect l="l" t="t" r="r" b="b"/>
                <a:pathLst>
                  <a:path w="377" h="1028">
                    <a:moveTo>
                      <a:pt x="58" y="5"/>
                    </a:moveTo>
                    <a:lnTo>
                      <a:pt x="40" y="62"/>
                    </a:lnTo>
                    <a:lnTo>
                      <a:pt x="28" y="118"/>
                    </a:lnTo>
                    <a:lnTo>
                      <a:pt x="17" y="168"/>
                    </a:lnTo>
                    <a:lnTo>
                      <a:pt x="17" y="224"/>
                    </a:lnTo>
                    <a:lnTo>
                      <a:pt x="17" y="275"/>
                    </a:lnTo>
                    <a:lnTo>
                      <a:pt x="23" y="331"/>
                    </a:lnTo>
                    <a:lnTo>
                      <a:pt x="34" y="382"/>
                    </a:lnTo>
                    <a:lnTo>
                      <a:pt x="51" y="449"/>
                    </a:lnTo>
                    <a:lnTo>
                      <a:pt x="51" y="466"/>
                    </a:lnTo>
                    <a:lnTo>
                      <a:pt x="58" y="500"/>
                    </a:lnTo>
                    <a:lnTo>
                      <a:pt x="63" y="523"/>
                    </a:lnTo>
                    <a:lnTo>
                      <a:pt x="69" y="540"/>
                    </a:lnTo>
                    <a:lnTo>
                      <a:pt x="58" y="550"/>
                    </a:lnTo>
                    <a:lnTo>
                      <a:pt x="46" y="596"/>
                    </a:lnTo>
                    <a:lnTo>
                      <a:pt x="34" y="658"/>
                    </a:lnTo>
                    <a:lnTo>
                      <a:pt x="28" y="731"/>
                    </a:lnTo>
                    <a:lnTo>
                      <a:pt x="11" y="804"/>
                    </a:lnTo>
                    <a:lnTo>
                      <a:pt x="5" y="876"/>
                    </a:lnTo>
                    <a:lnTo>
                      <a:pt x="0" y="933"/>
                    </a:lnTo>
                    <a:lnTo>
                      <a:pt x="0" y="978"/>
                    </a:lnTo>
                    <a:lnTo>
                      <a:pt x="17" y="989"/>
                    </a:lnTo>
                    <a:lnTo>
                      <a:pt x="46" y="1001"/>
                    </a:lnTo>
                    <a:lnTo>
                      <a:pt x="75" y="1011"/>
                    </a:lnTo>
                    <a:lnTo>
                      <a:pt x="98" y="1028"/>
                    </a:lnTo>
                    <a:lnTo>
                      <a:pt x="150" y="1028"/>
                    </a:lnTo>
                    <a:lnTo>
                      <a:pt x="208" y="1023"/>
                    </a:lnTo>
                    <a:lnTo>
                      <a:pt x="255" y="1011"/>
                    </a:lnTo>
                    <a:lnTo>
                      <a:pt x="307" y="1006"/>
                    </a:lnTo>
                    <a:lnTo>
                      <a:pt x="289" y="933"/>
                    </a:lnTo>
                    <a:lnTo>
                      <a:pt x="284" y="859"/>
                    </a:lnTo>
                    <a:lnTo>
                      <a:pt x="278" y="781"/>
                    </a:lnTo>
                    <a:lnTo>
                      <a:pt x="272" y="714"/>
                    </a:lnTo>
                    <a:lnTo>
                      <a:pt x="255" y="641"/>
                    </a:lnTo>
                    <a:lnTo>
                      <a:pt x="238" y="584"/>
                    </a:lnTo>
                    <a:lnTo>
                      <a:pt x="197" y="534"/>
                    </a:lnTo>
                    <a:lnTo>
                      <a:pt x="150" y="511"/>
                    </a:lnTo>
                    <a:lnTo>
                      <a:pt x="162" y="461"/>
                    </a:lnTo>
                    <a:lnTo>
                      <a:pt x="203" y="461"/>
                    </a:lnTo>
                    <a:lnTo>
                      <a:pt x="249" y="466"/>
                    </a:lnTo>
                    <a:lnTo>
                      <a:pt x="284" y="472"/>
                    </a:lnTo>
                    <a:lnTo>
                      <a:pt x="307" y="478"/>
                    </a:lnTo>
                    <a:lnTo>
                      <a:pt x="342" y="461"/>
                    </a:lnTo>
                    <a:lnTo>
                      <a:pt x="360" y="455"/>
                    </a:lnTo>
                    <a:lnTo>
                      <a:pt x="360" y="444"/>
                    </a:lnTo>
                    <a:lnTo>
                      <a:pt x="365" y="427"/>
                    </a:lnTo>
                    <a:lnTo>
                      <a:pt x="365" y="405"/>
                    </a:lnTo>
                    <a:lnTo>
                      <a:pt x="377" y="371"/>
                    </a:lnTo>
                    <a:lnTo>
                      <a:pt x="337" y="371"/>
                    </a:lnTo>
                    <a:lnTo>
                      <a:pt x="296" y="376"/>
                    </a:lnTo>
                    <a:lnTo>
                      <a:pt x="255" y="382"/>
                    </a:lnTo>
                    <a:lnTo>
                      <a:pt x="215" y="388"/>
                    </a:lnTo>
                    <a:lnTo>
                      <a:pt x="203" y="382"/>
                    </a:lnTo>
                    <a:lnTo>
                      <a:pt x="191" y="382"/>
                    </a:lnTo>
                    <a:lnTo>
                      <a:pt x="162" y="376"/>
                    </a:lnTo>
                    <a:lnTo>
                      <a:pt x="132" y="371"/>
                    </a:lnTo>
                    <a:lnTo>
                      <a:pt x="121" y="314"/>
                    </a:lnTo>
                    <a:lnTo>
                      <a:pt x="116" y="263"/>
                    </a:lnTo>
                    <a:lnTo>
                      <a:pt x="116" y="219"/>
                    </a:lnTo>
                    <a:lnTo>
                      <a:pt x="121" y="196"/>
                    </a:lnTo>
                    <a:lnTo>
                      <a:pt x="121" y="179"/>
                    </a:lnTo>
                    <a:lnTo>
                      <a:pt x="127" y="191"/>
                    </a:lnTo>
                    <a:lnTo>
                      <a:pt x="139" y="230"/>
                    </a:lnTo>
                    <a:lnTo>
                      <a:pt x="162" y="309"/>
                    </a:lnTo>
                    <a:lnTo>
                      <a:pt x="180" y="320"/>
                    </a:lnTo>
                    <a:lnTo>
                      <a:pt x="215" y="331"/>
                    </a:lnTo>
                    <a:lnTo>
                      <a:pt x="215" y="314"/>
                    </a:lnTo>
                    <a:lnTo>
                      <a:pt x="215" y="297"/>
                    </a:lnTo>
                    <a:lnTo>
                      <a:pt x="208" y="280"/>
                    </a:lnTo>
                    <a:lnTo>
                      <a:pt x="203" y="280"/>
                    </a:lnTo>
                    <a:lnTo>
                      <a:pt x="203" y="258"/>
                    </a:lnTo>
                    <a:lnTo>
                      <a:pt x="203" y="241"/>
                    </a:lnTo>
                    <a:lnTo>
                      <a:pt x="191" y="185"/>
                    </a:lnTo>
                    <a:lnTo>
                      <a:pt x="185" y="128"/>
                    </a:lnTo>
                    <a:lnTo>
                      <a:pt x="180" y="79"/>
                    </a:lnTo>
                    <a:lnTo>
                      <a:pt x="180" y="39"/>
                    </a:lnTo>
                    <a:lnTo>
                      <a:pt x="157" y="28"/>
                    </a:lnTo>
                    <a:lnTo>
                      <a:pt x="116" y="11"/>
                    </a:lnTo>
                    <a:lnTo>
                      <a:pt x="75" y="0"/>
                    </a:lnTo>
                    <a:lnTo>
                      <a:pt x="58" y="5"/>
                    </a:lnTo>
                    <a:close/>
                  </a:path>
                </a:pathLst>
              </a:custGeom>
              <a:solidFill>
                <a:srgbClr val="be6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85880" y="4005000"/>
                <a:ext cx="64800" cy="129600"/>
              </a:xfrm>
              <a:custGeom>
                <a:avLst/>
                <a:gdLst/>
                <a:ahLst/>
                <a:rect l="l" t="t" r="r" b="b"/>
                <a:pathLst>
                  <a:path w="319" h="635">
                    <a:moveTo>
                      <a:pt x="133" y="0"/>
                    </a:moveTo>
                    <a:lnTo>
                      <a:pt x="162" y="24"/>
                    </a:lnTo>
                    <a:lnTo>
                      <a:pt x="198" y="73"/>
                    </a:lnTo>
                    <a:lnTo>
                      <a:pt x="221" y="119"/>
                    </a:lnTo>
                    <a:lnTo>
                      <a:pt x="249" y="164"/>
                    </a:lnTo>
                    <a:lnTo>
                      <a:pt x="249" y="198"/>
                    </a:lnTo>
                    <a:lnTo>
                      <a:pt x="244" y="237"/>
                    </a:lnTo>
                    <a:lnTo>
                      <a:pt x="232" y="265"/>
                    </a:lnTo>
                    <a:lnTo>
                      <a:pt x="221" y="287"/>
                    </a:lnTo>
                    <a:lnTo>
                      <a:pt x="232" y="338"/>
                    </a:lnTo>
                    <a:lnTo>
                      <a:pt x="261" y="400"/>
                    </a:lnTo>
                    <a:lnTo>
                      <a:pt x="284" y="461"/>
                    </a:lnTo>
                    <a:lnTo>
                      <a:pt x="313" y="524"/>
                    </a:lnTo>
                    <a:lnTo>
                      <a:pt x="319" y="568"/>
                    </a:lnTo>
                    <a:lnTo>
                      <a:pt x="307" y="608"/>
                    </a:lnTo>
                    <a:lnTo>
                      <a:pt x="261" y="630"/>
                    </a:lnTo>
                    <a:lnTo>
                      <a:pt x="186" y="635"/>
                    </a:lnTo>
                    <a:lnTo>
                      <a:pt x="133" y="630"/>
                    </a:lnTo>
                    <a:lnTo>
                      <a:pt x="81" y="635"/>
                    </a:lnTo>
                    <a:lnTo>
                      <a:pt x="34" y="630"/>
                    </a:lnTo>
                    <a:lnTo>
                      <a:pt x="0" y="625"/>
                    </a:lnTo>
                    <a:lnTo>
                      <a:pt x="5" y="585"/>
                    </a:lnTo>
                    <a:lnTo>
                      <a:pt x="23" y="546"/>
                    </a:lnTo>
                    <a:lnTo>
                      <a:pt x="41" y="495"/>
                    </a:lnTo>
                    <a:lnTo>
                      <a:pt x="58" y="445"/>
                    </a:lnTo>
                    <a:lnTo>
                      <a:pt x="69" y="394"/>
                    </a:lnTo>
                    <a:lnTo>
                      <a:pt x="87" y="343"/>
                    </a:lnTo>
                    <a:lnTo>
                      <a:pt x="92" y="299"/>
                    </a:lnTo>
                    <a:lnTo>
                      <a:pt x="99" y="265"/>
                    </a:lnTo>
                    <a:lnTo>
                      <a:pt x="87" y="208"/>
                    </a:lnTo>
                    <a:lnTo>
                      <a:pt x="75" y="174"/>
                    </a:lnTo>
                    <a:lnTo>
                      <a:pt x="58" y="141"/>
                    </a:lnTo>
                    <a:lnTo>
                      <a:pt x="52" y="113"/>
                    </a:lnTo>
                    <a:lnTo>
                      <a:pt x="46" y="85"/>
                    </a:lnTo>
                    <a:lnTo>
                      <a:pt x="58" y="63"/>
                    </a:lnTo>
                    <a:lnTo>
                      <a:pt x="81" y="29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94640" y="4000680"/>
                <a:ext cx="116280" cy="135720"/>
              </a:xfrm>
              <a:custGeom>
                <a:avLst/>
                <a:gdLst/>
                <a:ahLst/>
                <a:rect l="l" t="t" r="r" b="b"/>
                <a:pathLst>
                  <a:path w="586" h="669">
                    <a:moveTo>
                      <a:pt x="342" y="0"/>
                    </a:moveTo>
                    <a:lnTo>
                      <a:pt x="208" y="27"/>
                    </a:lnTo>
                    <a:lnTo>
                      <a:pt x="109" y="106"/>
                    </a:lnTo>
                    <a:lnTo>
                      <a:pt x="40" y="201"/>
                    </a:lnTo>
                    <a:lnTo>
                      <a:pt x="5" y="314"/>
                    </a:lnTo>
                    <a:lnTo>
                      <a:pt x="0" y="421"/>
                    </a:lnTo>
                    <a:lnTo>
                      <a:pt x="40" y="527"/>
                    </a:lnTo>
                    <a:lnTo>
                      <a:pt x="122" y="612"/>
                    </a:lnTo>
                    <a:lnTo>
                      <a:pt x="256" y="669"/>
                    </a:lnTo>
                    <a:lnTo>
                      <a:pt x="400" y="662"/>
                    </a:lnTo>
                    <a:lnTo>
                      <a:pt x="505" y="595"/>
                    </a:lnTo>
                    <a:lnTo>
                      <a:pt x="563" y="488"/>
                    </a:lnTo>
                    <a:lnTo>
                      <a:pt x="586" y="360"/>
                    </a:lnTo>
                    <a:lnTo>
                      <a:pt x="568" y="218"/>
                    </a:lnTo>
                    <a:lnTo>
                      <a:pt x="517" y="100"/>
                    </a:lnTo>
                    <a:lnTo>
                      <a:pt x="441" y="17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56520" y="400284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116" h="197">
                    <a:moveTo>
                      <a:pt x="58" y="0"/>
                    </a:moveTo>
                    <a:lnTo>
                      <a:pt x="29" y="28"/>
                    </a:lnTo>
                    <a:lnTo>
                      <a:pt x="12" y="55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0" y="118"/>
                    </a:lnTo>
                    <a:lnTo>
                      <a:pt x="17" y="140"/>
                    </a:lnTo>
                    <a:lnTo>
                      <a:pt x="40" y="163"/>
                    </a:lnTo>
                    <a:lnTo>
                      <a:pt x="81" y="197"/>
                    </a:lnTo>
                    <a:lnTo>
                      <a:pt x="98" y="157"/>
                    </a:lnTo>
                    <a:lnTo>
                      <a:pt x="111" y="135"/>
                    </a:lnTo>
                    <a:lnTo>
                      <a:pt x="111" y="106"/>
                    </a:lnTo>
                    <a:lnTo>
                      <a:pt x="116" y="89"/>
                    </a:lnTo>
                    <a:lnTo>
                      <a:pt x="105" y="67"/>
                    </a:lnTo>
                    <a:lnTo>
                      <a:pt x="93" y="50"/>
                    </a:lnTo>
                    <a:lnTo>
                      <a:pt x="75" y="28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08400" y="4002840"/>
                <a:ext cx="39240" cy="56880"/>
              </a:xfrm>
              <a:custGeom>
                <a:avLst/>
                <a:gdLst/>
                <a:ahLst/>
                <a:rect l="l" t="t" r="r" b="b"/>
                <a:pathLst>
                  <a:path w="197" h="286">
                    <a:moveTo>
                      <a:pt x="46" y="0"/>
                    </a:moveTo>
                    <a:lnTo>
                      <a:pt x="23" y="28"/>
                    </a:lnTo>
                    <a:lnTo>
                      <a:pt x="12" y="79"/>
                    </a:lnTo>
                    <a:lnTo>
                      <a:pt x="0" y="135"/>
                    </a:lnTo>
                    <a:lnTo>
                      <a:pt x="5" y="197"/>
                    </a:lnTo>
                    <a:lnTo>
                      <a:pt x="12" y="241"/>
                    </a:lnTo>
                    <a:lnTo>
                      <a:pt x="35" y="275"/>
                    </a:lnTo>
                    <a:lnTo>
                      <a:pt x="70" y="286"/>
                    </a:lnTo>
                    <a:lnTo>
                      <a:pt x="128" y="270"/>
                    </a:lnTo>
                    <a:lnTo>
                      <a:pt x="169" y="224"/>
                    </a:lnTo>
                    <a:lnTo>
                      <a:pt x="197" y="190"/>
                    </a:lnTo>
                    <a:lnTo>
                      <a:pt x="197" y="146"/>
                    </a:lnTo>
                    <a:lnTo>
                      <a:pt x="197" y="112"/>
                    </a:lnTo>
                    <a:lnTo>
                      <a:pt x="169" y="72"/>
                    </a:lnTo>
                    <a:lnTo>
                      <a:pt x="139" y="45"/>
                    </a:lnTo>
                    <a:lnTo>
                      <a:pt x="93" y="1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62400" y="4001400"/>
                <a:ext cx="52560" cy="79920"/>
              </a:xfrm>
              <a:custGeom>
                <a:avLst/>
                <a:gdLst/>
                <a:ahLst/>
                <a:rect l="l" t="t" r="r" b="b"/>
                <a:pathLst>
                  <a:path w="261" h="394">
                    <a:moveTo>
                      <a:pt x="122" y="6"/>
                    </a:moveTo>
                    <a:lnTo>
                      <a:pt x="46" y="22"/>
                    </a:lnTo>
                    <a:lnTo>
                      <a:pt x="11" y="61"/>
                    </a:lnTo>
                    <a:lnTo>
                      <a:pt x="0" y="118"/>
                    </a:lnTo>
                    <a:lnTo>
                      <a:pt x="11" y="186"/>
                    </a:lnTo>
                    <a:lnTo>
                      <a:pt x="28" y="247"/>
                    </a:lnTo>
                    <a:lnTo>
                      <a:pt x="69" y="309"/>
                    </a:lnTo>
                    <a:lnTo>
                      <a:pt x="104" y="360"/>
                    </a:lnTo>
                    <a:lnTo>
                      <a:pt x="145" y="394"/>
                    </a:lnTo>
                    <a:lnTo>
                      <a:pt x="168" y="360"/>
                    </a:lnTo>
                    <a:lnTo>
                      <a:pt x="203" y="338"/>
                    </a:lnTo>
                    <a:lnTo>
                      <a:pt x="226" y="304"/>
                    </a:lnTo>
                    <a:lnTo>
                      <a:pt x="249" y="276"/>
                    </a:lnTo>
                    <a:lnTo>
                      <a:pt x="256" y="220"/>
                    </a:lnTo>
                    <a:lnTo>
                      <a:pt x="261" y="169"/>
                    </a:lnTo>
                    <a:lnTo>
                      <a:pt x="256" y="124"/>
                    </a:lnTo>
                    <a:lnTo>
                      <a:pt x="244" y="85"/>
                    </a:lnTo>
                    <a:lnTo>
                      <a:pt x="221" y="46"/>
                    </a:lnTo>
                    <a:lnTo>
                      <a:pt x="198" y="17"/>
                    </a:lnTo>
                    <a:lnTo>
                      <a:pt x="162" y="0"/>
                    </a:lnTo>
                    <a:lnTo>
                      <a:pt x="122" y="6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66040" y="4003560"/>
                <a:ext cx="84240" cy="162000"/>
              </a:xfrm>
              <a:custGeom>
                <a:avLst/>
                <a:gdLst/>
                <a:ahLst/>
                <a:rect l="l" t="t" r="r" b="b"/>
                <a:pathLst>
                  <a:path w="425" h="787">
                    <a:moveTo>
                      <a:pt x="151" y="0"/>
                    </a:moveTo>
                    <a:lnTo>
                      <a:pt x="105" y="73"/>
                    </a:lnTo>
                    <a:lnTo>
                      <a:pt x="58" y="191"/>
                    </a:lnTo>
                    <a:lnTo>
                      <a:pt x="18" y="326"/>
                    </a:lnTo>
                    <a:lnTo>
                      <a:pt x="0" y="473"/>
                    </a:lnTo>
                    <a:lnTo>
                      <a:pt x="0" y="601"/>
                    </a:lnTo>
                    <a:lnTo>
                      <a:pt x="41" y="708"/>
                    </a:lnTo>
                    <a:lnTo>
                      <a:pt x="122" y="775"/>
                    </a:lnTo>
                    <a:lnTo>
                      <a:pt x="261" y="787"/>
                    </a:lnTo>
                    <a:lnTo>
                      <a:pt x="332" y="748"/>
                    </a:lnTo>
                    <a:lnTo>
                      <a:pt x="384" y="691"/>
                    </a:lnTo>
                    <a:lnTo>
                      <a:pt x="413" y="607"/>
                    </a:lnTo>
                    <a:lnTo>
                      <a:pt x="425" y="512"/>
                    </a:lnTo>
                    <a:lnTo>
                      <a:pt x="418" y="405"/>
                    </a:lnTo>
                    <a:lnTo>
                      <a:pt x="402" y="309"/>
                    </a:lnTo>
                    <a:lnTo>
                      <a:pt x="378" y="219"/>
                    </a:lnTo>
                    <a:lnTo>
                      <a:pt x="355" y="157"/>
                    </a:lnTo>
                    <a:lnTo>
                      <a:pt x="314" y="101"/>
                    </a:lnTo>
                    <a:lnTo>
                      <a:pt x="268" y="61"/>
                    </a:lnTo>
                    <a:lnTo>
                      <a:pt x="210" y="29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85120" y="4008240"/>
                <a:ext cx="35640" cy="59040"/>
              </a:xfrm>
              <a:custGeom>
                <a:avLst/>
                <a:gdLst/>
                <a:ahLst/>
                <a:rect l="l" t="t" r="r" b="b"/>
                <a:pathLst>
                  <a:path w="180" h="292">
                    <a:moveTo>
                      <a:pt x="28" y="0"/>
                    </a:moveTo>
                    <a:lnTo>
                      <a:pt x="12" y="51"/>
                    </a:lnTo>
                    <a:lnTo>
                      <a:pt x="5" y="107"/>
                    </a:lnTo>
                    <a:lnTo>
                      <a:pt x="0" y="140"/>
                    </a:lnTo>
                    <a:lnTo>
                      <a:pt x="12" y="179"/>
                    </a:lnTo>
                    <a:lnTo>
                      <a:pt x="23" y="208"/>
                    </a:lnTo>
                    <a:lnTo>
                      <a:pt x="53" y="236"/>
                    </a:lnTo>
                    <a:lnTo>
                      <a:pt x="93" y="258"/>
                    </a:lnTo>
                    <a:lnTo>
                      <a:pt x="151" y="292"/>
                    </a:lnTo>
                    <a:lnTo>
                      <a:pt x="162" y="242"/>
                    </a:lnTo>
                    <a:lnTo>
                      <a:pt x="180" y="196"/>
                    </a:lnTo>
                    <a:lnTo>
                      <a:pt x="174" y="146"/>
                    </a:lnTo>
                    <a:lnTo>
                      <a:pt x="174" y="107"/>
                    </a:lnTo>
                    <a:lnTo>
                      <a:pt x="151" y="67"/>
                    </a:lnTo>
                    <a:lnTo>
                      <a:pt x="122" y="34"/>
                    </a:lnTo>
                    <a:lnTo>
                      <a:pt x="81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07520" y="4008240"/>
                <a:ext cx="28800" cy="47520"/>
              </a:xfrm>
              <a:custGeom>
                <a:avLst/>
                <a:gdLst/>
                <a:ahLst/>
                <a:rect l="l" t="t" r="r" b="b"/>
                <a:pathLst>
                  <a:path w="145" h="230">
                    <a:moveTo>
                      <a:pt x="34" y="0"/>
                    </a:moveTo>
                    <a:lnTo>
                      <a:pt x="6" y="73"/>
                    </a:lnTo>
                    <a:lnTo>
                      <a:pt x="0" y="129"/>
                    </a:lnTo>
                    <a:lnTo>
                      <a:pt x="6" y="169"/>
                    </a:lnTo>
                    <a:lnTo>
                      <a:pt x="29" y="202"/>
                    </a:lnTo>
                    <a:lnTo>
                      <a:pt x="70" y="230"/>
                    </a:lnTo>
                    <a:lnTo>
                      <a:pt x="87" y="230"/>
                    </a:lnTo>
                    <a:lnTo>
                      <a:pt x="117" y="196"/>
                    </a:lnTo>
                    <a:lnTo>
                      <a:pt x="140" y="169"/>
                    </a:lnTo>
                    <a:lnTo>
                      <a:pt x="145" y="135"/>
                    </a:lnTo>
                    <a:lnTo>
                      <a:pt x="145" y="107"/>
                    </a:lnTo>
                    <a:lnTo>
                      <a:pt x="128" y="73"/>
                    </a:lnTo>
                    <a:lnTo>
                      <a:pt x="105" y="39"/>
                    </a:lnTo>
                    <a:lnTo>
                      <a:pt x="70" y="1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31400" y="4008240"/>
                <a:ext cx="72000" cy="110160"/>
              </a:xfrm>
              <a:custGeom>
                <a:avLst/>
                <a:gdLst/>
                <a:ahLst/>
                <a:rect l="l" t="t" r="r" b="b"/>
                <a:pathLst>
                  <a:path w="355" h="539">
                    <a:moveTo>
                      <a:pt x="157" y="0"/>
                    </a:moveTo>
                    <a:lnTo>
                      <a:pt x="87" y="27"/>
                    </a:lnTo>
                    <a:lnTo>
                      <a:pt x="41" y="101"/>
                    </a:lnTo>
                    <a:lnTo>
                      <a:pt x="6" y="191"/>
                    </a:lnTo>
                    <a:lnTo>
                      <a:pt x="0" y="297"/>
                    </a:lnTo>
                    <a:lnTo>
                      <a:pt x="11" y="393"/>
                    </a:lnTo>
                    <a:lnTo>
                      <a:pt x="46" y="478"/>
                    </a:lnTo>
                    <a:lnTo>
                      <a:pt x="99" y="528"/>
                    </a:lnTo>
                    <a:lnTo>
                      <a:pt x="180" y="539"/>
                    </a:lnTo>
                    <a:lnTo>
                      <a:pt x="256" y="495"/>
                    </a:lnTo>
                    <a:lnTo>
                      <a:pt x="313" y="422"/>
                    </a:lnTo>
                    <a:lnTo>
                      <a:pt x="343" y="326"/>
                    </a:lnTo>
                    <a:lnTo>
                      <a:pt x="355" y="230"/>
                    </a:lnTo>
                    <a:lnTo>
                      <a:pt x="331" y="129"/>
                    </a:lnTo>
                    <a:lnTo>
                      <a:pt x="297" y="51"/>
                    </a:lnTo>
                    <a:lnTo>
                      <a:pt x="232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42920" y="4010400"/>
                <a:ext cx="27720" cy="45000"/>
              </a:xfrm>
              <a:custGeom>
                <a:avLst/>
                <a:gdLst/>
                <a:ahLst/>
                <a:rect l="l" t="t" r="r" b="b"/>
                <a:pathLst>
                  <a:path w="139" h="218">
                    <a:moveTo>
                      <a:pt x="64" y="0"/>
                    </a:moveTo>
                    <a:lnTo>
                      <a:pt x="23" y="39"/>
                    </a:lnTo>
                    <a:lnTo>
                      <a:pt x="6" y="89"/>
                    </a:lnTo>
                    <a:lnTo>
                      <a:pt x="0" y="111"/>
                    </a:lnTo>
                    <a:lnTo>
                      <a:pt x="0" y="145"/>
                    </a:lnTo>
                    <a:lnTo>
                      <a:pt x="0" y="174"/>
                    </a:lnTo>
                    <a:lnTo>
                      <a:pt x="6" y="218"/>
                    </a:lnTo>
                    <a:lnTo>
                      <a:pt x="17" y="213"/>
                    </a:lnTo>
                    <a:lnTo>
                      <a:pt x="47" y="213"/>
                    </a:lnTo>
                    <a:lnTo>
                      <a:pt x="70" y="207"/>
                    </a:lnTo>
                    <a:lnTo>
                      <a:pt x="75" y="207"/>
                    </a:lnTo>
                    <a:lnTo>
                      <a:pt x="93" y="174"/>
                    </a:lnTo>
                    <a:lnTo>
                      <a:pt x="116" y="145"/>
                    </a:lnTo>
                    <a:lnTo>
                      <a:pt x="128" y="117"/>
                    </a:lnTo>
                    <a:lnTo>
                      <a:pt x="139" y="95"/>
                    </a:lnTo>
                    <a:lnTo>
                      <a:pt x="133" y="66"/>
                    </a:lnTo>
                    <a:lnTo>
                      <a:pt x="121" y="44"/>
                    </a:lnTo>
                    <a:lnTo>
                      <a:pt x="98" y="22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98600" y="4010400"/>
                <a:ext cx="31320" cy="51480"/>
              </a:xfrm>
              <a:custGeom>
                <a:avLst/>
                <a:gdLst/>
                <a:ahLst/>
                <a:rect l="l" t="t" r="r" b="b"/>
                <a:pathLst>
                  <a:path w="156" h="252">
                    <a:moveTo>
                      <a:pt x="34" y="0"/>
                    </a:moveTo>
                    <a:lnTo>
                      <a:pt x="16" y="32"/>
                    </a:lnTo>
                    <a:lnTo>
                      <a:pt x="11" y="83"/>
                    </a:lnTo>
                    <a:lnTo>
                      <a:pt x="0" y="134"/>
                    </a:lnTo>
                    <a:lnTo>
                      <a:pt x="5" y="184"/>
                    </a:lnTo>
                    <a:lnTo>
                      <a:pt x="5" y="218"/>
                    </a:lnTo>
                    <a:lnTo>
                      <a:pt x="28" y="246"/>
                    </a:lnTo>
                    <a:lnTo>
                      <a:pt x="51" y="252"/>
                    </a:lnTo>
                    <a:lnTo>
                      <a:pt x="99" y="241"/>
                    </a:lnTo>
                    <a:lnTo>
                      <a:pt x="133" y="207"/>
                    </a:lnTo>
                    <a:lnTo>
                      <a:pt x="156" y="174"/>
                    </a:lnTo>
                    <a:lnTo>
                      <a:pt x="156" y="140"/>
                    </a:lnTo>
                    <a:lnTo>
                      <a:pt x="156" y="106"/>
                    </a:lnTo>
                    <a:lnTo>
                      <a:pt x="133" y="72"/>
                    </a:lnTo>
                    <a:lnTo>
                      <a:pt x="110" y="44"/>
                    </a:lnTo>
                    <a:lnTo>
                      <a:pt x="69" y="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04960" y="4012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122" h="180">
                    <a:moveTo>
                      <a:pt x="53" y="0"/>
                    </a:moveTo>
                    <a:lnTo>
                      <a:pt x="23" y="29"/>
                    </a:lnTo>
                    <a:lnTo>
                      <a:pt x="12" y="51"/>
                    </a:lnTo>
                    <a:lnTo>
                      <a:pt x="0" y="68"/>
                    </a:lnTo>
                    <a:lnTo>
                      <a:pt x="7" y="90"/>
                    </a:lnTo>
                    <a:lnTo>
                      <a:pt x="7" y="101"/>
                    </a:lnTo>
                    <a:lnTo>
                      <a:pt x="12" y="124"/>
                    </a:lnTo>
                    <a:lnTo>
                      <a:pt x="23" y="140"/>
                    </a:lnTo>
                    <a:lnTo>
                      <a:pt x="41" y="180"/>
                    </a:lnTo>
                    <a:lnTo>
                      <a:pt x="88" y="180"/>
                    </a:lnTo>
                    <a:lnTo>
                      <a:pt x="117" y="174"/>
                    </a:lnTo>
                    <a:lnTo>
                      <a:pt x="122" y="152"/>
                    </a:lnTo>
                    <a:lnTo>
                      <a:pt x="117" y="130"/>
                    </a:lnTo>
                    <a:lnTo>
                      <a:pt x="94" y="96"/>
                    </a:lnTo>
                    <a:lnTo>
                      <a:pt x="76" y="62"/>
                    </a:lnTo>
                    <a:lnTo>
                      <a:pt x="58" y="2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56560" y="4012200"/>
                <a:ext cx="22680" cy="58320"/>
              </a:xfrm>
              <a:custGeom>
                <a:avLst/>
                <a:gdLst/>
                <a:ahLst/>
                <a:rect l="l" t="t" r="r" b="b"/>
                <a:pathLst>
                  <a:path w="111" h="282">
                    <a:moveTo>
                      <a:pt x="35" y="0"/>
                    </a:moveTo>
                    <a:lnTo>
                      <a:pt x="17" y="39"/>
                    </a:lnTo>
                    <a:lnTo>
                      <a:pt x="6" y="79"/>
                    </a:lnTo>
                    <a:lnTo>
                      <a:pt x="0" y="113"/>
                    </a:lnTo>
                    <a:lnTo>
                      <a:pt x="0" y="152"/>
                    </a:lnTo>
                    <a:lnTo>
                      <a:pt x="0" y="186"/>
                    </a:lnTo>
                    <a:lnTo>
                      <a:pt x="12" y="220"/>
                    </a:lnTo>
                    <a:lnTo>
                      <a:pt x="29" y="248"/>
                    </a:lnTo>
                    <a:lnTo>
                      <a:pt x="63" y="282"/>
                    </a:lnTo>
                    <a:lnTo>
                      <a:pt x="75" y="242"/>
                    </a:lnTo>
                    <a:lnTo>
                      <a:pt x="88" y="203"/>
                    </a:lnTo>
                    <a:lnTo>
                      <a:pt x="98" y="164"/>
                    </a:lnTo>
                    <a:lnTo>
                      <a:pt x="111" y="130"/>
                    </a:lnTo>
                    <a:lnTo>
                      <a:pt x="104" y="90"/>
                    </a:lnTo>
                    <a:lnTo>
                      <a:pt x="98" y="56"/>
                    </a:lnTo>
                    <a:lnTo>
                      <a:pt x="70" y="2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05240" y="4015800"/>
                <a:ext cx="67320" cy="138960"/>
              </a:xfrm>
              <a:custGeom>
                <a:avLst/>
                <a:gdLst/>
                <a:ahLst/>
                <a:rect l="l" t="t" r="r" b="b"/>
                <a:pathLst>
                  <a:path w="332" h="685">
                    <a:moveTo>
                      <a:pt x="152" y="0"/>
                    </a:moveTo>
                    <a:lnTo>
                      <a:pt x="180" y="5"/>
                    </a:lnTo>
                    <a:lnTo>
                      <a:pt x="215" y="17"/>
                    </a:lnTo>
                    <a:lnTo>
                      <a:pt x="238" y="27"/>
                    </a:lnTo>
                    <a:lnTo>
                      <a:pt x="268" y="50"/>
                    </a:lnTo>
                    <a:lnTo>
                      <a:pt x="286" y="95"/>
                    </a:lnTo>
                    <a:lnTo>
                      <a:pt x="286" y="152"/>
                    </a:lnTo>
                    <a:lnTo>
                      <a:pt x="286" y="174"/>
                    </a:lnTo>
                    <a:lnTo>
                      <a:pt x="286" y="208"/>
                    </a:lnTo>
                    <a:lnTo>
                      <a:pt x="286" y="236"/>
                    </a:lnTo>
                    <a:lnTo>
                      <a:pt x="291" y="270"/>
                    </a:lnTo>
                    <a:lnTo>
                      <a:pt x="297" y="314"/>
                    </a:lnTo>
                    <a:lnTo>
                      <a:pt x="314" y="382"/>
                    </a:lnTo>
                    <a:lnTo>
                      <a:pt x="320" y="449"/>
                    </a:lnTo>
                    <a:lnTo>
                      <a:pt x="332" y="522"/>
                    </a:lnTo>
                    <a:lnTo>
                      <a:pt x="326" y="579"/>
                    </a:lnTo>
                    <a:lnTo>
                      <a:pt x="303" y="630"/>
                    </a:lnTo>
                    <a:lnTo>
                      <a:pt x="256" y="663"/>
                    </a:lnTo>
                    <a:lnTo>
                      <a:pt x="187" y="685"/>
                    </a:lnTo>
                    <a:lnTo>
                      <a:pt x="81" y="669"/>
                    </a:lnTo>
                    <a:lnTo>
                      <a:pt x="30" y="640"/>
                    </a:lnTo>
                    <a:lnTo>
                      <a:pt x="0" y="589"/>
                    </a:lnTo>
                    <a:lnTo>
                      <a:pt x="7" y="528"/>
                    </a:lnTo>
                    <a:lnTo>
                      <a:pt x="18" y="461"/>
                    </a:lnTo>
                    <a:lnTo>
                      <a:pt x="41" y="393"/>
                    </a:lnTo>
                    <a:lnTo>
                      <a:pt x="65" y="331"/>
                    </a:lnTo>
                    <a:lnTo>
                      <a:pt x="81" y="287"/>
                    </a:lnTo>
                    <a:lnTo>
                      <a:pt x="81" y="230"/>
                    </a:lnTo>
                    <a:lnTo>
                      <a:pt x="88" y="191"/>
                    </a:lnTo>
                    <a:lnTo>
                      <a:pt x="88" y="157"/>
                    </a:lnTo>
                    <a:lnTo>
                      <a:pt x="93" y="123"/>
                    </a:lnTo>
                    <a:lnTo>
                      <a:pt x="93" y="89"/>
                    </a:lnTo>
                    <a:lnTo>
                      <a:pt x="111" y="61"/>
                    </a:lnTo>
                    <a:lnTo>
                      <a:pt x="123" y="27"/>
                    </a:lnTo>
                    <a:lnTo>
                      <a:pt x="15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79480" y="401580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29" y="0"/>
                    </a:moveTo>
                    <a:lnTo>
                      <a:pt x="6" y="44"/>
                    </a:lnTo>
                    <a:lnTo>
                      <a:pt x="0" y="73"/>
                    </a:lnTo>
                    <a:lnTo>
                      <a:pt x="13" y="101"/>
                    </a:lnTo>
                    <a:lnTo>
                      <a:pt x="29" y="145"/>
                    </a:lnTo>
                    <a:lnTo>
                      <a:pt x="41" y="112"/>
                    </a:lnTo>
                    <a:lnTo>
                      <a:pt x="47" y="89"/>
                    </a:lnTo>
                    <a:lnTo>
                      <a:pt x="53" y="56"/>
                    </a:lnTo>
                    <a:lnTo>
                      <a:pt x="71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52760" y="4015800"/>
                <a:ext cx="52560" cy="69840"/>
              </a:xfrm>
              <a:custGeom>
                <a:avLst/>
                <a:gdLst/>
                <a:ahLst/>
                <a:rect l="l" t="t" r="r" b="b"/>
                <a:pathLst>
                  <a:path w="262" h="348">
                    <a:moveTo>
                      <a:pt x="70" y="0"/>
                    </a:moveTo>
                    <a:lnTo>
                      <a:pt x="40" y="50"/>
                    </a:lnTo>
                    <a:lnTo>
                      <a:pt x="24" y="118"/>
                    </a:lnTo>
                    <a:lnTo>
                      <a:pt x="0" y="185"/>
                    </a:lnTo>
                    <a:lnTo>
                      <a:pt x="0" y="253"/>
                    </a:lnTo>
                    <a:lnTo>
                      <a:pt x="6" y="304"/>
                    </a:lnTo>
                    <a:lnTo>
                      <a:pt x="29" y="337"/>
                    </a:lnTo>
                    <a:lnTo>
                      <a:pt x="81" y="348"/>
                    </a:lnTo>
                    <a:lnTo>
                      <a:pt x="163" y="326"/>
                    </a:lnTo>
                    <a:lnTo>
                      <a:pt x="215" y="287"/>
                    </a:lnTo>
                    <a:lnTo>
                      <a:pt x="250" y="241"/>
                    </a:lnTo>
                    <a:lnTo>
                      <a:pt x="262" y="196"/>
                    </a:lnTo>
                    <a:lnTo>
                      <a:pt x="256" y="152"/>
                    </a:lnTo>
                    <a:lnTo>
                      <a:pt x="227" y="101"/>
                    </a:lnTo>
                    <a:lnTo>
                      <a:pt x="192" y="56"/>
                    </a:lnTo>
                    <a:lnTo>
                      <a:pt x="134" y="2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63160" y="4019040"/>
                <a:ext cx="11880" cy="38880"/>
              </a:xfrm>
              <a:custGeom>
                <a:avLst/>
                <a:gdLst/>
                <a:ahLst/>
                <a:rect l="l" t="t" r="r" b="b"/>
                <a:pathLst>
                  <a:path w="58" h="191">
                    <a:moveTo>
                      <a:pt x="47" y="0"/>
                    </a:moveTo>
                    <a:lnTo>
                      <a:pt x="18" y="16"/>
                    </a:lnTo>
                    <a:lnTo>
                      <a:pt x="7" y="39"/>
                    </a:lnTo>
                    <a:lnTo>
                      <a:pt x="0" y="67"/>
                    </a:lnTo>
                    <a:lnTo>
                      <a:pt x="12" y="101"/>
                    </a:lnTo>
                    <a:lnTo>
                      <a:pt x="35" y="151"/>
                    </a:lnTo>
                    <a:lnTo>
                      <a:pt x="58" y="191"/>
                    </a:lnTo>
                    <a:lnTo>
                      <a:pt x="53" y="168"/>
                    </a:lnTo>
                    <a:lnTo>
                      <a:pt x="53" y="140"/>
                    </a:lnTo>
                    <a:lnTo>
                      <a:pt x="53" y="106"/>
                    </a:lnTo>
                    <a:lnTo>
                      <a:pt x="53" y="78"/>
                    </a:lnTo>
                    <a:lnTo>
                      <a:pt x="47" y="44"/>
                    </a:lnTo>
                    <a:lnTo>
                      <a:pt x="47" y="1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8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00800" y="4021200"/>
                <a:ext cx="29880" cy="56880"/>
              </a:xfrm>
              <a:custGeom>
                <a:avLst/>
                <a:gdLst/>
                <a:ahLst/>
                <a:rect l="l" t="t" r="r" b="b"/>
                <a:pathLst>
                  <a:path w="145" h="287">
                    <a:moveTo>
                      <a:pt x="87" y="0"/>
                    </a:moveTo>
                    <a:lnTo>
                      <a:pt x="35" y="46"/>
                    </a:lnTo>
                    <a:lnTo>
                      <a:pt x="11" y="91"/>
                    </a:lnTo>
                    <a:lnTo>
                      <a:pt x="0" y="135"/>
                    </a:lnTo>
                    <a:lnTo>
                      <a:pt x="11" y="186"/>
                    </a:lnTo>
                    <a:lnTo>
                      <a:pt x="23" y="220"/>
                    </a:lnTo>
                    <a:lnTo>
                      <a:pt x="35" y="253"/>
                    </a:lnTo>
                    <a:lnTo>
                      <a:pt x="46" y="277"/>
                    </a:lnTo>
                    <a:lnTo>
                      <a:pt x="58" y="287"/>
                    </a:lnTo>
                    <a:lnTo>
                      <a:pt x="87" y="253"/>
                    </a:lnTo>
                    <a:lnTo>
                      <a:pt x="116" y="226"/>
                    </a:lnTo>
                    <a:lnTo>
                      <a:pt x="127" y="197"/>
                    </a:lnTo>
                    <a:lnTo>
                      <a:pt x="139" y="175"/>
                    </a:lnTo>
                    <a:lnTo>
                      <a:pt x="139" y="135"/>
                    </a:lnTo>
                    <a:lnTo>
                      <a:pt x="145" y="101"/>
                    </a:lnTo>
                    <a:lnTo>
                      <a:pt x="139" y="57"/>
                    </a:lnTo>
                    <a:lnTo>
                      <a:pt x="139" y="12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87560" y="4022280"/>
                <a:ext cx="32400" cy="51840"/>
              </a:xfrm>
              <a:custGeom>
                <a:avLst/>
                <a:gdLst/>
                <a:ahLst/>
                <a:rect l="l" t="t" r="r" b="b"/>
                <a:pathLst>
                  <a:path w="164" h="248">
                    <a:moveTo>
                      <a:pt x="41" y="0"/>
                    </a:moveTo>
                    <a:lnTo>
                      <a:pt x="24" y="28"/>
                    </a:lnTo>
                    <a:lnTo>
                      <a:pt x="12" y="79"/>
                    </a:lnTo>
                    <a:lnTo>
                      <a:pt x="0" y="123"/>
                    </a:lnTo>
                    <a:lnTo>
                      <a:pt x="0" y="174"/>
                    </a:lnTo>
                    <a:lnTo>
                      <a:pt x="0" y="208"/>
                    </a:lnTo>
                    <a:lnTo>
                      <a:pt x="18" y="236"/>
                    </a:lnTo>
                    <a:lnTo>
                      <a:pt x="47" y="248"/>
                    </a:lnTo>
                    <a:lnTo>
                      <a:pt x="94" y="248"/>
                    </a:lnTo>
                    <a:lnTo>
                      <a:pt x="134" y="219"/>
                    </a:lnTo>
                    <a:lnTo>
                      <a:pt x="157" y="191"/>
                    </a:lnTo>
                    <a:lnTo>
                      <a:pt x="164" y="152"/>
                    </a:lnTo>
                    <a:lnTo>
                      <a:pt x="164" y="118"/>
                    </a:lnTo>
                    <a:lnTo>
                      <a:pt x="140" y="79"/>
                    </a:lnTo>
                    <a:lnTo>
                      <a:pt x="111" y="50"/>
                    </a:lnTo>
                    <a:lnTo>
                      <a:pt x="76" y="1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30440" y="4028760"/>
                <a:ext cx="20160" cy="2988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29" y="0"/>
                    </a:moveTo>
                    <a:lnTo>
                      <a:pt x="11" y="28"/>
                    </a:lnTo>
                    <a:lnTo>
                      <a:pt x="6" y="61"/>
                    </a:lnTo>
                    <a:lnTo>
                      <a:pt x="0" y="85"/>
                    </a:lnTo>
                    <a:lnTo>
                      <a:pt x="6" y="107"/>
                    </a:lnTo>
                    <a:lnTo>
                      <a:pt x="6" y="118"/>
                    </a:lnTo>
                    <a:lnTo>
                      <a:pt x="23" y="129"/>
                    </a:lnTo>
                    <a:lnTo>
                      <a:pt x="46" y="141"/>
                    </a:lnTo>
                    <a:lnTo>
                      <a:pt x="81" y="152"/>
                    </a:lnTo>
                    <a:lnTo>
                      <a:pt x="87" y="118"/>
                    </a:lnTo>
                    <a:lnTo>
                      <a:pt x="99" y="95"/>
                    </a:lnTo>
                    <a:lnTo>
                      <a:pt x="99" y="78"/>
                    </a:lnTo>
                    <a:lnTo>
                      <a:pt x="104" y="61"/>
                    </a:lnTo>
                    <a:lnTo>
                      <a:pt x="99" y="45"/>
                    </a:lnTo>
                    <a:lnTo>
                      <a:pt x="87" y="28"/>
                    </a:lnTo>
                    <a:lnTo>
                      <a:pt x="64" y="1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47920" y="4028760"/>
                <a:ext cx="73080" cy="102240"/>
              </a:xfrm>
              <a:custGeom>
                <a:avLst/>
                <a:gdLst/>
                <a:ahLst/>
                <a:rect l="l" t="t" r="r" b="b"/>
                <a:pathLst>
                  <a:path w="367" h="500">
                    <a:moveTo>
                      <a:pt x="222" y="0"/>
                    </a:moveTo>
                    <a:lnTo>
                      <a:pt x="99" y="22"/>
                    </a:lnTo>
                    <a:lnTo>
                      <a:pt x="36" y="73"/>
                    </a:lnTo>
                    <a:lnTo>
                      <a:pt x="0" y="135"/>
                    </a:lnTo>
                    <a:lnTo>
                      <a:pt x="7" y="213"/>
                    </a:lnTo>
                    <a:lnTo>
                      <a:pt x="30" y="287"/>
                    </a:lnTo>
                    <a:lnTo>
                      <a:pt x="65" y="365"/>
                    </a:lnTo>
                    <a:lnTo>
                      <a:pt x="106" y="438"/>
                    </a:lnTo>
                    <a:lnTo>
                      <a:pt x="146" y="500"/>
                    </a:lnTo>
                    <a:lnTo>
                      <a:pt x="164" y="478"/>
                    </a:lnTo>
                    <a:lnTo>
                      <a:pt x="193" y="461"/>
                    </a:lnTo>
                    <a:lnTo>
                      <a:pt x="228" y="433"/>
                    </a:lnTo>
                    <a:lnTo>
                      <a:pt x="263" y="404"/>
                    </a:lnTo>
                    <a:lnTo>
                      <a:pt x="314" y="343"/>
                    </a:lnTo>
                    <a:lnTo>
                      <a:pt x="355" y="298"/>
                    </a:lnTo>
                    <a:lnTo>
                      <a:pt x="362" y="242"/>
                    </a:lnTo>
                    <a:lnTo>
                      <a:pt x="367" y="191"/>
                    </a:lnTo>
                    <a:lnTo>
                      <a:pt x="362" y="135"/>
                    </a:lnTo>
                    <a:lnTo>
                      <a:pt x="350" y="90"/>
                    </a:lnTo>
                    <a:lnTo>
                      <a:pt x="327" y="45"/>
                    </a:lnTo>
                    <a:lnTo>
                      <a:pt x="297" y="17"/>
                    </a:lnTo>
                    <a:lnTo>
                      <a:pt x="263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54840" y="4030560"/>
                <a:ext cx="46800" cy="118800"/>
              </a:xfrm>
              <a:custGeom>
                <a:avLst/>
                <a:gdLst/>
                <a:ahLst/>
                <a:rect l="l" t="t" r="r" b="b"/>
                <a:pathLst>
                  <a:path w="232" h="579">
                    <a:moveTo>
                      <a:pt x="122" y="0"/>
                    </a:moveTo>
                    <a:lnTo>
                      <a:pt x="140" y="34"/>
                    </a:lnTo>
                    <a:lnTo>
                      <a:pt x="168" y="113"/>
                    </a:lnTo>
                    <a:lnTo>
                      <a:pt x="197" y="209"/>
                    </a:lnTo>
                    <a:lnTo>
                      <a:pt x="227" y="321"/>
                    </a:lnTo>
                    <a:lnTo>
                      <a:pt x="232" y="422"/>
                    </a:lnTo>
                    <a:lnTo>
                      <a:pt x="227" y="511"/>
                    </a:lnTo>
                    <a:lnTo>
                      <a:pt x="186" y="568"/>
                    </a:lnTo>
                    <a:lnTo>
                      <a:pt x="110" y="579"/>
                    </a:lnTo>
                    <a:lnTo>
                      <a:pt x="52" y="557"/>
                    </a:lnTo>
                    <a:lnTo>
                      <a:pt x="17" y="523"/>
                    </a:lnTo>
                    <a:lnTo>
                      <a:pt x="0" y="484"/>
                    </a:lnTo>
                    <a:lnTo>
                      <a:pt x="0" y="439"/>
                    </a:lnTo>
                    <a:lnTo>
                      <a:pt x="6" y="388"/>
                    </a:lnTo>
                    <a:lnTo>
                      <a:pt x="23" y="337"/>
                    </a:lnTo>
                    <a:lnTo>
                      <a:pt x="34" y="287"/>
                    </a:lnTo>
                    <a:lnTo>
                      <a:pt x="46" y="248"/>
                    </a:lnTo>
                    <a:lnTo>
                      <a:pt x="34" y="197"/>
                    </a:lnTo>
                    <a:lnTo>
                      <a:pt x="23" y="146"/>
                    </a:lnTo>
                    <a:lnTo>
                      <a:pt x="17" y="90"/>
                    </a:lnTo>
                    <a:lnTo>
                      <a:pt x="46" y="40"/>
                    </a:lnTo>
                    <a:lnTo>
                      <a:pt x="52" y="28"/>
                    </a:lnTo>
                    <a:lnTo>
                      <a:pt x="82" y="17"/>
                    </a:lnTo>
                    <a:lnTo>
                      <a:pt x="105" y="6"/>
                    </a:lnTo>
                    <a:lnTo>
                      <a:pt x="12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74120" y="4035960"/>
                <a:ext cx="178920" cy="104760"/>
              </a:xfrm>
              <a:custGeom>
                <a:avLst/>
                <a:gdLst/>
                <a:ahLst/>
                <a:rect l="l" t="t" r="r" b="b"/>
                <a:pathLst>
                  <a:path w="895" h="517">
                    <a:moveTo>
                      <a:pt x="773" y="5"/>
                    </a:moveTo>
                    <a:lnTo>
                      <a:pt x="826" y="0"/>
                    </a:lnTo>
                    <a:lnTo>
                      <a:pt x="866" y="22"/>
                    </a:lnTo>
                    <a:lnTo>
                      <a:pt x="889" y="56"/>
                    </a:lnTo>
                    <a:lnTo>
                      <a:pt x="895" y="101"/>
                    </a:lnTo>
                    <a:lnTo>
                      <a:pt x="889" y="140"/>
                    </a:lnTo>
                    <a:lnTo>
                      <a:pt x="884" y="179"/>
                    </a:lnTo>
                    <a:lnTo>
                      <a:pt x="872" y="203"/>
                    </a:lnTo>
                    <a:lnTo>
                      <a:pt x="877" y="213"/>
                    </a:lnTo>
                    <a:lnTo>
                      <a:pt x="877" y="242"/>
                    </a:lnTo>
                    <a:lnTo>
                      <a:pt x="884" y="275"/>
                    </a:lnTo>
                    <a:lnTo>
                      <a:pt x="884" y="314"/>
                    </a:lnTo>
                    <a:lnTo>
                      <a:pt x="884" y="360"/>
                    </a:lnTo>
                    <a:lnTo>
                      <a:pt x="877" y="399"/>
                    </a:lnTo>
                    <a:lnTo>
                      <a:pt x="877" y="438"/>
                    </a:lnTo>
                    <a:lnTo>
                      <a:pt x="872" y="478"/>
                    </a:lnTo>
                    <a:lnTo>
                      <a:pt x="866" y="517"/>
                    </a:lnTo>
                    <a:lnTo>
                      <a:pt x="819" y="512"/>
                    </a:lnTo>
                    <a:lnTo>
                      <a:pt x="778" y="512"/>
                    </a:lnTo>
                    <a:lnTo>
                      <a:pt x="732" y="505"/>
                    </a:lnTo>
                    <a:lnTo>
                      <a:pt x="692" y="505"/>
                    </a:lnTo>
                    <a:lnTo>
                      <a:pt x="680" y="455"/>
                    </a:lnTo>
                    <a:lnTo>
                      <a:pt x="646" y="455"/>
                    </a:lnTo>
                    <a:lnTo>
                      <a:pt x="610" y="478"/>
                    </a:lnTo>
                    <a:lnTo>
                      <a:pt x="575" y="500"/>
                    </a:lnTo>
                    <a:lnTo>
                      <a:pt x="547" y="517"/>
                    </a:lnTo>
                    <a:lnTo>
                      <a:pt x="489" y="512"/>
                    </a:lnTo>
                    <a:lnTo>
                      <a:pt x="453" y="495"/>
                    </a:lnTo>
                    <a:lnTo>
                      <a:pt x="418" y="472"/>
                    </a:lnTo>
                    <a:lnTo>
                      <a:pt x="395" y="466"/>
                    </a:lnTo>
                    <a:lnTo>
                      <a:pt x="349" y="455"/>
                    </a:lnTo>
                    <a:lnTo>
                      <a:pt x="302" y="455"/>
                    </a:lnTo>
                    <a:lnTo>
                      <a:pt x="256" y="455"/>
                    </a:lnTo>
                    <a:lnTo>
                      <a:pt x="210" y="461"/>
                    </a:lnTo>
                    <a:lnTo>
                      <a:pt x="157" y="455"/>
                    </a:lnTo>
                    <a:lnTo>
                      <a:pt x="111" y="455"/>
                    </a:lnTo>
                    <a:lnTo>
                      <a:pt x="64" y="455"/>
                    </a:lnTo>
                    <a:lnTo>
                      <a:pt x="23" y="455"/>
                    </a:lnTo>
                    <a:lnTo>
                      <a:pt x="5" y="387"/>
                    </a:lnTo>
                    <a:lnTo>
                      <a:pt x="0" y="321"/>
                    </a:lnTo>
                    <a:lnTo>
                      <a:pt x="0" y="247"/>
                    </a:lnTo>
                    <a:lnTo>
                      <a:pt x="17" y="191"/>
                    </a:lnTo>
                    <a:lnTo>
                      <a:pt x="35" y="140"/>
                    </a:lnTo>
                    <a:lnTo>
                      <a:pt x="70" y="118"/>
                    </a:lnTo>
                    <a:lnTo>
                      <a:pt x="116" y="118"/>
                    </a:lnTo>
                    <a:lnTo>
                      <a:pt x="185" y="157"/>
                    </a:lnTo>
                    <a:lnTo>
                      <a:pt x="210" y="112"/>
                    </a:lnTo>
                    <a:lnTo>
                      <a:pt x="238" y="84"/>
                    </a:lnTo>
                    <a:lnTo>
                      <a:pt x="268" y="61"/>
                    </a:lnTo>
                    <a:lnTo>
                      <a:pt x="296" y="56"/>
                    </a:lnTo>
                    <a:lnTo>
                      <a:pt x="319" y="56"/>
                    </a:lnTo>
                    <a:lnTo>
                      <a:pt x="342" y="73"/>
                    </a:lnTo>
                    <a:lnTo>
                      <a:pt x="367" y="107"/>
                    </a:lnTo>
                    <a:lnTo>
                      <a:pt x="395" y="157"/>
                    </a:lnTo>
                    <a:lnTo>
                      <a:pt x="441" y="112"/>
                    </a:lnTo>
                    <a:lnTo>
                      <a:pt x="489" y="84"/>
                    </a:lnTo>
                    <a:lnTo>
                      <a:pt x="523" y="61"/>
                    </a:lnTo>
                    <a:lnTo>
                      <a:pt x="564" y="61"/>
                    </a:lnTo>
                    <a:lnTo>
                      <a:pt x="593" y="67"/>
                    </a:lnTo>
                    <a:lnTo>
                      <a:pt x="628" y="9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99400" y="4037400"/>
                <a:ext cx="28800" cy="44280"/>
              </a:xfrm>
              <a:custGeom>
                <a:avLst/>
                <a:gdLst/>
                <a:ahLst/>
                <a:rect l="l" t="t" r="r" b="b"/>
                <a:pathLst>
                  <a:path w="145" h="220">
                    <a:moveTo>
                      <a:pt x="0" y="90"/>
                    </a:moveTo>
                    <a:lnTo>
                      <a:pt x="23" y="141"/>
                    </a:lnTo>
                    <a:lnTo>
                      <a:pt x="52" y="220"/>
                    </a:lnTo>
                    <a:lnTo>
                      <a:pt x="52" y="169"/>
                    </a:lnTo>
                    <a:lnTo>
                      <a:pt x="64" y="124"/>
                    </a:lnTo>
                    <a:lnTo>
                      <a:pt x="76" y="79"/>
                    </a:lnTo>
                    <a:lnTo>
                      <a:pt x="92" y="51"/>
                    </a:lnTo>
                    <a:lnTo>
                      <a:pt x="110" y="17"/>
                    </a:lnTo>
                    <a:lnTo>
                      <a:pt x="14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172840" y="404676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58" h="96">
                    <a:moveTo>
                      <a:pt x="5" y="0"/>
                    </a:moveTo>
                    <a:lnTo>
                      <a:pt x="0" y="39"/>
                    </a:lnTo>
                    <a:lnTo>
                      <a:pt x="0" y="67"/>
                    </a:lnTo>
                    <a:lnTo>
                      <a:pt x="5" y="84"/>
                    </a:lnTo>
                    <a:lnTo>
                      <a:pt x="12" y="96"/>
                    </a:lnTo>
                    <a:lnTo>
                      <a:pt x="17" y="90"/>
                    </a:lnTo>
                    <a:lnTo>
                      <a:pt x="29" y="90"/>
                    </a:lnTo>
                    <a:lnTo>
                      <a:pt x="58" y="84"/>
                    </a:lnTo>
                    <a:lnTo>
                      <a:pt x="47" y="51"/>
                    </a:lnTo>
                    <a:lnTo>
                      <a:pt x="17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68680" y="4046760"/>
                <a:ext cx="32400" cy="27000"/>
              </a:xfrm>
              <a:custGeom>
                <a:avLst/>
                <a:gdLst/>
                <a:ahLst/>
                <a:rect l="l" t="t" r="r" b="b"/>
                <a:pathLst>
                  <a:path w="163" h="130">
                    <a:moveTo>
                      <a:pt x="146" y="0"/>
                    </a:moveTo>
                    <a:lnTo>
                      <a:pt x="128" y="5"/>
                    </a:lnTo>
                    <a:lnTo>
                      <a:pt x="99" y="22"/>
                    </a:lnTo>
                    <a:lnTo>
                      <a:pt x="65" y="39"/>
                    </a:lnTo>
                    <a:lnTo>
                      <a:pt x="35" y="62"/>
                    </a:lnTo>
                    <a:lnTo>
                      <a:pt x="6" y="79"/>
                    </a:lnTo>
                    <a:lnTo>
                      <a:pt x="0" y="101"/>
                    </a:lnTo>
                    <a:lnTo>
                      <a:pt x="12" y="118"/>
                    </a:lnTo>
                    <a:lnTo>
                      <a:pt x="52" y="130"/>
                    </a:lnTo>
                    <a:lnTo>
                      <a:pt x="99" y="123"/>
                    </a:lnTo>
                    <a:lnTo>
                      <a:pt x="134" y="118"/>
                    </a:lnTo>
                    <a:lnTo>
                      <a:pt x="151" y="101"/>
                    </a:lnTo>
                    <a:lnTo>
                      <a:pt x="163" y="84"/>
                    </a:lnTo>
                    <a:lnTo>
                      <a:pt x="157" y="39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7ff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84280" y="4046760"/>
                <a:ext cx="88560" cy="137160"/>
              </a:xfrm>
              <a:custGeom>
                <a:avLst/>
                <a:gdLst/>
                <a:ahLst/>
                <a:rect l="l" t="t" r="r" b="b"/>
                <a:pathLst>
                  <a:path w="442" h="669">
                    <a:moveTo>
                      <a:pt x="349" y="0"/>
                    </a:moveTo>
                    <a:lnTo>
                      <a:pt x="332" y="22"/>
                    </a:lnTo>
                    <a:lnTo>
                      <a:pt x="326" y="51"/>
                    </a:lnTo>
                    <a:lnTo>
                      <a:pt x="302" y="73"/>
                    </a:lnTo>
                    <a:lnTo>
                      <a:pt x="279" y="90"/>
                    </a:lnTo>
                    <a:lnTo>
                      <a:pt x="238" y="106"/>
                    </a:lnTo>
                    <a:lnTo>
                      <a:pt x="198" y="123"/>
                    </a:lnTo>
                    <a:lnTo>
                      <a:pt x="152" y="140"/>
                    </a:lnTo>
                    <a:lnTo>
                      <a:pt x="122" y="169"/>
                    </a:lnTo>
                    <a:lnTo>
                      <a:pt x="88" y="202"/>
                    </a:lnTo>
                    <a:lnTo>
                      <a:pt x="70" y="258"/>
                    </a:lnTo>
                    <a:lnTo>
                      <a:pt x="47" y="314"/>
                    </a:lnTo>
                    <a:lnTo>
                      <a:pt x="35" y="382"/>
                    </a:lnTo>
                    <a:lnTo>
                      <a:pt x="18" y="444"/>
                    </a:lnTo>
                    <a:lnTo>
                      <a:pt x="12" y="512"/>
                    </a:lnTo>
                    <a:lnTo>
                      <a:pt x="0" y="579"/>
                    </a:lnTo>
                    <a:lnTo>
                      <a:pt x="0" y="647"/>
                    </a:lnTo>
                    <a:lnTo>
                      <a:pt x="23" y="647"/>
                    </a:lnTo>
                    <a:lnTo>
                      <a:pt x="53" y="658"/>
                    </a:lnTo>
                    <a:lnTo>
                      <a:pt x="81" y="663"/>
                    </a:lnTo>
                    <a:lnTo>
                      <a:pt x="111" y="669"/>
                    </a:lnTo>
                    <a:lnTo>
                      <a:pt x="117" y="624"/>
                    </a:lnTo>
                    <a:lnTo>
                      <a:pt x="134" y="579"/>
                    </a:lnTo>
                    <a:lnTo>
                      <a:pt x="146" y="528"/>
                    </a:lnTo>
                    <a:lnTo>
                      <a:pt x="175" y="489"/>
                    </a:lnTo>
                    <a:lnTo>
                      <a:pt x="198" y="456"/>
                    </a:lnTo>
                    <a:lnTo>
                      <a:pt x="245" y="422"/>
                    </a:lnTo>
                    <a:lnTo>
                      <a:pt x="291" y="388"/>
                    </a:lnTo>
                    <a:lnTo>
                      <a:pt x="337" y="360"/>
                    </a:lnTo>
                    <a:lnTo>
                      <a:pt x="378" y="314"/>
                    </a:lnTo>
                    <a:lnTo>
                      <a:pt x="413" y="275"/>
                    </a:lnTo>
                    <a:lnTo>
                      <a:pt x="436" y="225"/>
                    </a:lnTo>
                    <a:lnTo>
                      <a:pt x="442" y="180"/>
                    </a:lnTo>
                    <a:lnTo>
                      <a:pt x="425" y="147"/>
                    </a:lnTo>
                    <a:lnTo>
                      <a:pt x="395" y="101"/>
                    </a:lnTo>
                    <a:lnTo>
                      <a:pt x="360" y="51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d9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23520" y="404820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93" h="74">
                    <a:moveTo>
                      <a:pt x="41" y="6"/>
                    </a:moveTo>
                    <a:lnTo>
                      <a:pt x="11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17" y="46"/>
                    </a:lnTo>
                    <a:lnTo>
                      <a:pt x="46" y="62"/>
                    </a:lnTo>
                    <a:lnTo>
                      <a:pt x="64" y="74"/>
                    </a:lnTo>
                    <a:lnTo>
                      <a:pt x="82" y="46"/>
                    </a:lnTo>
                    <a:lnTo>
                      <a:pt x="93" y="23"/>
                    </a:lnTo>
                    <a:lnTo>
                      <a:pt x="87" y="6"/>
                    </a:lnTo>
                    <a:lnTo>
                      <a:pt x="82" y="0"/>
                    </a:lnTo>
                    <a:lnTo>
                      <a:pt x="64" y="0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45440" y="404892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162" h="180">
                    <a:moveTo>
                      <a:pt x="145" y="0"/>
                    </a:moveTo>
                    <a:lnTo>
                      <a:pt x="104" y="17"/>
                    </a:lnTo>
                    <a:lnTo>
                      <a:pt x="69" y="34"/>
                    </a:lnTo>
                    <a:lnTo>
                      <a:pt x="40" y="51"/>
                    </a:lnTo>
                    <a:lnTo>
                      <a:pt x="17" y="68"/>
                    </a:lnTo>
                    <a:lnTo>
                      <a:pt x="0" y="85"/>
                    </a:lnTo>
                    <a:lnTo>
                      <a:pt x="5" y="107"/>
                    </a:lnTo>
                    <a:lnTo>
                      <a:pt x="23" y="124"/>
                    </a:lnTo>
                    <a:lnTo>
                      <a:pt x="63" y="158"/>
                    </a:lnTo>
                    <a:lnTo>
                      <a:pt x="104" y="175"/>
                    </a:lnTo>
                    <a:lnTo>
                      <a:pt x="134" y="180"/>
                    </a:lnTo>
                    <a:lnTo>
                      <a:pt x="150" y="169"/>
                    </a:lnTo>
                    <a:lnTo>
                      <a:pt x="162" y="152"/>
                    </a:lnTo>
                    <a:lnTo>
                      <a:pt x="157" y="119"/>
                    </a:lnTo>
                    <a:lnTo>
                      <a:pt x="157" y="85"/>
                    </a:lnTo>
                    <a:lnTo>
                      <a:pt x="150" y="4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34560" y="4053600"/>
                <a:ext cx="42120" cy="28080"/>
              </a:xfrm>
              <a:custGeom>
                <a:avLst/>
                <a:gdLst/>
                <a:ahLst/>
                <a:rect l="l" t="t" r="r" b="b"/>
                <a:pathLst>
                  <a:path w="210" h="141">
                    <a:moveTo>
                      <a:pt x="111" y="0"/>
                    </a:moveTo>
                    <a:lnTo>
                      <a:pt x="82" y="17"/>
                    </a:lnTo>
                    <a:lnTo>
                      <a:pt x="53" y="45"/>
                    </a:lnTo>
                    <a:lnTo>
                      <a:pt x="23" y="73"/>
                    </a:lnTo>
                    <a:lnTo>
                      <a:pt x="12" y="107"/>
                    </a:lnTo>
                    <a:lnTo>
                      <a:pt x="0" y="124"/>
                    </a:lnTo>
                    <a:lnTo>
                      <a:pt x="12" y="141"/>
                    </a:lnTo>
                    <a:lnTo>
                      <a:pt x="35" y="141"/>
                    </a:lnTo>
                    <a:lnTo>
                      <a:pt x="94" y="129"/>
                    </a:lnTo>
                    <a:lnTo>
                      <a:pt x="140" y="102"/>
                    </a:lnTo>
                    <a:lnTo>
                      <a:pt x="175" y="85"/>
                    </a:lnTo>
                    <a:lnTo>
                      <a:pt x="198" y="68"/>
                    </a:lnTo>
                    <a:lnTo>
                      <a:pt x="210" y="56"/>
                    </a:lnTo>
                    <a:lnTo>
                      <a:pt x="203" y="39"/>
                    </a:lnTo>
                    <a:lnTo>
                      <a:pt x="186" y="28"/>
                    </a:lnTo>
                    <a:lnTo>
                      <a:pt x="152" y="11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eb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96720" y="4057920"/>
                <a:ext cx="68400" cy="126360"/>
              </a:xfrm>
              <a:custGeom>
                <a:avLst/>
                <a:gdLst/>
                <a:ahLst/>
                <a:rect l="l" t="t" r="r" b="b"/>
                <a:pathLst>
                  <a:path w="337" h="613">
                    <a:moveTo>
                      <a:pt x="203" y="6"/>
                    </a:moveTo>
                    <a:lnTo>
                      <a:pt x="134" y="34"/>
                    </a:lnTo>
                    <a:lnTo>
                      <a:pt x="86" y="91"/>
                    </a:lnTo>
                    <a:lnTo>
                      <a:pt x="46" y="158"/>
                    </a:lnTo>
                    <a:lnTo>
                      <a:pt x="29" y="241"/>
                    </a:lnTo>
                    <a:lnTo>
                      <a:pt x="5" y="326"/>
                    </a:lnTo>
                    <a:lnTo>
                      <a:pt x="5" y="427"/>
                    </a:lnTo>
                    <a:lnTo>
                      <a:pt x="0" y="518"/>
                    </a:lnTo>
                    <a:lnTo>
                      <a:pt x="17" y="613"/>
                    </a:lnTo>
                    <a:lnTo>
                      <a:pt x="52" y="613"/>
                    </a:lnTo>
                    <a:lnTo>
                      <a:pt x="93" y="607"/>
                    </a:lnTo>
                    <a:lnTo>
                      <a:pt x="122" y="602"/>
                    </a:lnTo>
                    <a:lnTo>
                      <a:pt x="151" y="602"/>
                    </a:lnTo>
                    <a:lnTo>
                      <a:pt x="192" y="591"/>
                    </a:lnTo>
                    <a:lnTo>
                      <a:pt x="192" y="506"/>
                    </a:lnTo>
                    <a:lnTo>
                      <a:pt x="203" y="439"/>
                    </a:lnTo>
                    <a:lnTo>
                      <a:pt x="220" y="371"/>
                    </a:lnTo>
                    <a:lnTo>
                      <a:pt x="238" y="304"/>
                    </a:lnTo>
                    <a:lnTo>
                      <a:pt x="255" y="236"/>
                    </a:lnTo>
                    <a:lnTo>
                      <a:pt x="279" y="180"/>
                    </a:lnTo>
                    <a:lnTo>
                      <a:pt x="302" y="113"/>
                    </a:lnTo>
                    <a:lnTo>
                      <a:pt x="337" y="57"/>
                    </a:lnTo>
                    <a:lnTo>
                      <a:pt x="308" y="34"/>
                    </a:lnTo>
                    <a:lnTo>
                      <a:pt x="279" y="11"/>
                    </a:lnTo>
                    <a:lnTo>
                      <a:pt x="238" y="0"/>
                    </a:lnTo>
                    <a:lnTo>
                      <a:pt x="203" y="6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17680" y="4063320"/>
                <a:ext cx="25200" cy="56880"/>
              </a:xfrm>
              <a:custGeom>
                <a:avLst/>
                <a:gdLst/>
                <a:ahLst/>
                <a:rect l="l" t="t" r="r" b="b"/>
                <a:pathLst>
                  <a:path w="121" h="281">
                    <a:moveTo>
                      <a:pt x="58" y="0"/>
                    </a:moveTo>
                    <a:lnTo>
                      <a:pt x="29" y="39"/>
                    </a:lnTo>
                    <a:lnTo>
                      <a:pt x="12" y="78"/>
                    </a:lnTo>
                    <a:lnTo>
                      <a:pt x="0" y="112"/>
                    </a:lnTo>
                    <a:lnTo>
                      <a:pt x="0" y="146"/>
                    </a:lnTo>
                    <a:lnTo>
                      <a:pt x="0" y="179"/>
                    </a:lnTo>
                    <a:lnTo>
                      <a:pt x="12" y="213"/>
                    </a:lnTo>
                    <a:lnTo>
                      <a:pt x="23" y="247"/>
                    </a:lnTo>
                    <a:lnTo>
                      <a:pt x="47" y="281"/>
                    </a:lnTo>
                    <a:lnTo>
                      <a:pt x="40" y="281"/>
                    </a:lnTo>
                    <a:lnTo>
                      <a:pt x="58" y="281"/>
                    </a:lnTo>
                    <a:lnTo>
                      <a:pt x="75" y="281"/>
                    </a:lnTo>
                    <a:lnTo>
                      <a:pt x="98" y="281"/>
                    </a:lnTo>
                    <a:lnTo>
                      <a:pt x="98" y="247"/>
                    </a:lnTo>
                    <a:lnTo>
                      <a:pt x="111" y="218"/>
                    </a:lnTo>
                    <a:lnTo>
                      <a:pt x="111" y="186"/>
                    </a:lnTo>
                    <a:lnTo>
                      <a:pt x="121" y="157"/>
                    </a:lnTo>
                    <a:lnTo>
                      <a:pt x="121" y="118"/>
                    </a:lnTo>
                    <a:lnTo>
                      <a:pt x="121" y="84"/>
                    </a:lnTo>
                    <a:lnTo>
                      <a:pt x="116" y="51"/>
                    </a:lnTo>
                    <a:lnTo>
                      <a:pt x="111" y="22"/>
                    </a:lnTo>
                    <a:lnTo>
                      <a:pt x="81" y="1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bf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61960" y="4063320"/>
                <a:ext cx="32400" cy="65880"/>
              </a:xfrm>
              <a:custGeom>
                <a:avLst/>
                <a:gdLst/>
                <a:ahLst/>
                <a:rect l="l" t="t" r="r" b="b"/>
                <a:pathLst>
                  <a:path w="164" h="320">
                    <a:moveTo>
                      <a:pt x="106" y="0"/>
                    </a:moveTo>
                    <a:lnTo>
                      <a:pt x="59" y="34"/>
                    </a:lnTo>
                    <a:lnTo>
                      <a:pt x="30" y="68"/>
                    </a:lnTo>
                    <a:lnTo>
                      <a:pt x="12" y="101"/>
                    </a:lnTo>
                    <a:lnTo>
                      <a:pt x="7" y="140"/>
                    </a:lnTo>
                    <a:lnTo>
                      <a:pt x="0" y="174"/>
                    </a:lnTo>
                    <a:lnTo>
                      <a:pt x="12" y="218"/>
                    </a:lnTo>
                    <a:lnTo>
                      <a:pt x="24" y="264"/>
                    </a:lnTo>
                    <a:lnTo>
                      <a:pt x="53" y="320"/>
                    </a:lnTo>
                    <a:lnTo>
                      <a:pt x="106" y="292"/>
                    </a:lnTo>
                    <a:lnTo>
                      <a:pt x="146" y="258"/>
                    </a:lnTo>
                    <a:lnTo>
                      <a:pt x="157" y="218"/>
                    </a:lnTo>
                    <a:lnTo>
                      <a:pt x="164" y="179"/>
                    </a:lnTo>
                    <a:lnTo>
                      <a:pt x="146" y="129"/>
                    </a:lnTo>
                    <a:lnTo>
                      <a:pt x="134" y="84"/>
                    </a:lnTo>
                    <a:lnTo>
                      <a:pt x="117" y="34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c4fc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578360" y="4067280"/>
                <a:ext cx="405000" cy="671760"/>
              </a:xfrm>
              <a:custGeom>
                <a:avLst/>
                <a:gdLst/>
                <a:ahLst/>
                <a:rect l="l" t="t" r="r" b="b"/>
                <a:pathLst>
                  <a:path w="2023" h="3289">
                    <a:moveTo>
                      <a:pt x="1262" y="0"/>
                    </a:moveTo>
                    <a:lnTo>
                      <a:pt x="1262" y="17"/>
                    </a:lnTo>
                    <a:lnTo>
                      <a:pt x="1267" y="56"/>
                    </a:lnTo>
                    <a:lnTo>
                      <a:pt x="1273" y="96"/>
                    </a:lnTo>
                    <a:lnTo>
                      <a:pt x="1278" y="118"/>
                    </a:lnTo>
                    <a:lnTo>
                      <a:pt x="1227" y="164"/>
                    </a:lnTo>
                    <a:lnTo>
                      <a:pt x="1179" y="225"/>
                    </a:lnTo>
                    <a:lnTo>
                      <a:pt x="1133" y="281"/>
                    </a:lnTo>
                    <a:lnTo>
                      <a:pt x="1093" y="331"/>
                    </a:lnTo>
                    <a:lnTo>
                      <a:pt x="1047" y="360"/>
                    </a:lnTo>
                    <a:lnTo>
                      <a:pt x="999" y="372"/>
                    </a:lnTo>
                    <a:lnTo>
                      <a:pt x="941" y="348"/>
                    </a:lnTo>
                    <a:lnTo>
                      <a:pt x="890" y="287"/>
                    </a:lnTo>
                    <a:lnTo>
                      <a:pt x="849" y="230"/>
                    </a:lnTo>
                    <a:lnTo>
                      <a:pt x="814" y="181"/>
                    </a:lnTo>
                    <a:lnTo>
                      <a:pt x="796" y="147"/>
                    </a:lnTo>
                    <a:lnTo>
                      <a:pt x="779" y="118"/>
                    </a:lnTo>
                    <a:lnTo>
                      <a:pt x="768" y="85"/>
                    </a:lnTo>
                    <a:lnTo>
                      <a:pt x="761" y="56"/>
                    </a:lnTo>
                    <a:lnTo>
                      <a:pt x="686" y="90"/>
                    </a:lnTo>
                    <a:lnTo>
                      <a:pt x="599" y="141"/>
                    </a:lnTo>
                    <a:lnTo>
                      <a:pt x="505" y="191"/>
                    </a:lnTo>
                    <a:lnTo>
                      <a:pt x="419" y="253"/>
                    </a:lnTo>
                    <a:lnTo>
                      <a:pt x="325" y="315"/>
                    </a:lnTo>
                    <a:lnTo>
                      <a:pt x="251" y="377"/>
                    </a:lnTo>
                    <a:lnTo>
                      <a:pt x="186" y="439"/>
                    </a:lnTo>
                    <a:lnTo>
                      <a:pt x="145" y="507"/>
                    </a:lnTo>
                    <a:lnTo>
                      <a:pt x="111" y="574"/>
                    </a:lnTo>
                    <a:lnTo>
                      <a:pt x="87" y="675"/>
                    </a:lnTo>
                    <a:lnTo>
                      <a:pt x="71" y="799"/>
                    </a:lnTo>
                    <a:lnTo>
                      <a:pt x="53" y="939"/>
                    </a:lnTo>
                    <a:lnTo>
                      <a:pt x="35" y="1074"/>
                    </a:lnTo>
                    <a:lnTo>
                      <a:pt x="23" y="1209"/>
                    </a:lnTo>
                    <a:lnTo>
                      <a:pt x="12" y="1327"/>
                    </a:lnTo>
                    <a:lnTo>
                      <a:pt x="12" y="1429"/>
                    </a:lnTo>
                    <a:lnTo>
                      <a:pt x="0" y="1564"/>
                    </a:lnTo>
                    <a:lnTo>
                      <a:pt x="0" y="1682"/>
                    </a:lnTo>
                    <a:lnTo>
                      <a:pt x="6" y="1783"/>
                    </a:lnTo>
                    <a:lnTo>
                      <a:pt x="29" y="1890"/>
                    </a:lnTo>
                    <a:lnTo>
                      <a:pt x="53" y="1979"/>
                    </a:lnTo>
                    <a:lnTo>
                      <a:pt x="94" y="2075"/>
                    </a:lnTo>
                    <a:lnTo>
                      <a:pt x="140" y="2170"/>
                    </a:lnTo>
                    <a:lnTo>
                      <a:pt x="198" y="2283"/>
                    </a:lnTo>
                    <a:lnTo>
                      <a:pt x="226" y="2339"/>
                    </a:lnTo>
                    <a:lnTo>
                      <a:pt x="256" y="2401"/>
                    </a:lnTo>
                    <a:lnTo>
                      <a:pt x="285" y="2457"/>
                    </a:lnTo>
                    <a:lnTo>
                      <a:pt x="320" y="2513"/>
                    </a:lnTo>
                    <a:lnTo>
                      <a:pt x="343" y="2457"/>
                    </a:lnTo>
                    <a:lnTo>
                      <a:pt x="372" y="2406"/>
                    </a:lnTo>
                    <a:lnTo>
                      <a:pt x="408" y="2356"/>
                    </a:lnTo>
                    <a:lnTo>
                      <a:pt x="442" y="2305"/>
                    </a:lnTo>
                    <a:lnTo>
                      <a:pt x="477" y="2255"/>
                    </a:lnTo>
                    <a:lnTo>
                      <a:pt x="512" y="2204"/>
                    </a:lnTo>
                    <a:lnTo>
                      <a:pt x="553" y="2160"/>
                    </a:lnTo>
                    <a:lnTo>
                      <a:pt x="599" y="2126"/>
                    </a:lnTo>
                    <a:lnTo>
                      <a:pt x="564" y="2047"/>
                    </a:lnTo>
                    <a:lnTo>
                      <a:pt x="523" y="1968"/>
                    </a:lnTo>
                    <a:lnTo>
                      <a:pt x="471" y="1883"/>
                    </a:lnTo>
                    <a:lnTo>
                      <a:pt x="424" y="1800"/>
                    </a:lnTo>
                    <a:lnTo>
                      <a:pt x="372" y="1715"/>
                    </a:lnTo>
                    <a:lnTo>
                      <a:pt x="337" y="1631"/>
                    </a:lnTo>
                    <a:lnTo>
                      <a:pt x="314" y="1552"/>
                    </a:lnTo>
                    <a:lnTo>
                      <a:pt x="320" y="1484"/>
                    </a:lnTo>
                    <a:lnTo>
                      <a:pt x="320" y="1451"/>
                    </a:lnTo>
                    <a:lnTo>
                      <a:pt x="325" y="1405"/>
                    </a:lnTo>
                    <a:lnTo>
                      <a:pt x="332" y="1361"/>
                    </a:lnTo>
                    <a:lnTo>
                      <a:pt x="349" y="1327"/>
                    </a:lnTo>
                    <a:lnTo>
                      <a:pt x="366" y="1277"/>
                    </a:lnTo>
                    <a:lnTo>
                      <a:pt x="383" y="1287"/>
                    </a:lnTo>
                    <a:lnTo>
                      <a:pt x="401" y="1333"/>
                    </a:lnTo>
                    <a:lnTo>
                      <a:pt x="419" y="1412"/>
                    </a:lnTo>
                    <a:lnTo>
                      <a:pt x="431" y="1496"/>
                    </a:lnTo>
                    <a:lnTo>
                      <a:pt x="442" y="1586"/>
                    </a:lnTo>
                    <a:lnTo>
                      <a:pt x="459" y="1659"/>
                    </a:lnTo>
                    <a:lnTo>
                      <a:pt x="477" y="1715"/>
                    </a:lnTo>
                    <a:lnTo>
                      <a:pt x="500" y="1755"/>
                    </a:lnTo>
                    <a:lnTo>
                      <a:pt x="535" y="1800"/>
                    </a:lnTo>
                    <a:lnTo>
                      <a:pt x="570" y="1844"/>
                    </a:lnTo>
                    <a:lnTo>
                      <a:pt x="604" y="1895"/>
                    </a:lnTo>
                    <a:lnTo>
                      <a:pt x="634" y="1934"/>
                    </a:lnTo>
                    <a:lnTo>
                      <a:pt x="662" y="1979"/>
                    </a:lnTo>
                    <a:lnTo>
                      <a:pt x="692" y="2025"/>
                    </a:lnTo>
                    <a:lnTo>
                      <a:pt x="715" y="2075"/>
                    </a:lnTo>
                    <a:lnTo>
                      <a:pt x="715" y="2097"/>
                    </a:lnTo>
                    <a:lnTo>
                      <a:pt x="721" y="2120"/>
                    </a:lnTo>
                    <a:lnTo>
                      <a:pt x="715" y="2143"/>
                    </a:lnTo>
                    <a:lnTo>
                      <a:pt x="715" y="2153"/>
                    </a:lnTo>
                    <a:lnTo>
                      <a:pt x="715" y="2170"/>
                    </a:lnTo>
                    <a:lnTo>
                      <a:pt x="715" y="2193"/>
                    </a:lnTo>
                    <a:lnTo>
                      <a:pt x="727" y="2199"/>
                    </a:lnTo>
                    <a:lnTo>
                      <a:pt x="733" y="2216"/>
                    </a:lnTo>
                    <a:lnTo>
                      <a:pt x="750" y="2249"/>
                    </a:lnTo>
                    <a:lnTo>
                      <a:pt x="779" y="2283"/>
                    </a:lnTo>
                    <a:lnTo>
                      <a:pt x="796" y="2322"/>
                    </a:lnTo>
                    <a:lnTo>
                      <a:pt x="826" y="2361"/>
                    </a:lnTo>
                    <a:lnTo>
                      <a:pt x="842" y="2395"/>
                    </a:lnTo>
                    <a:lnTo>
                      <a:pt x="860" y="2440"/>
                    </a:lnTo>
                    <a:lnTo>
                      <a:pt x="872" y="2491"/>
                    </a:lnTo>
                    <a:lnTo>
                      <a:pt x="890" y="2541"/>
                    </a:lnTo>
                    <a:lnTo>
                      <a:pt x="890" y="2643"/>
                    </a:lnTo>
                    <a:lnTo>
                      <a:pt x="872" y="2722"/>
                    </a:lnTo>
                    <a:lnTo>
                      <a:pt x="837" y="2778"/>
                    </a:lnTo>
                    <a:lnTo>
                      <a:pt x="785" y="2817"/>
                    </a:lnTo>
                    <a:lnTo>
                      <a:pt x="715" y="2828"/>
                    </a:lnTo>
                    <a:lnTo>
                      <a:pt x="639" y="2828"/>
                    </a:lnTo>
                    <a:lnTo>
                      <a:pt x="553" y="2817"/>
                    </a:lnTo>
                    <a:lnTo>
                      <a:pt x="465" y="2795"/>
                    </a:lnTo>
                    <a:lnTo>
                      <a:pt x="448" y="2834"/>
                    </a:lnTo>
                    <a:lnTo>
                      <a:pt x="442" y="2891"/>
                    </a:lnTo>
                    <a:lnTo>
                      <a:pt x="431" y="2947"/>
                    </a:lnTo>
                    <a:lnTo>
                      <a:pt x="431" y="3014"/>
                    </a:lnTo>
                    <a:lnTo>
                      <a:pt x="431" y="3070"/>
                    </a:lnTo>
                    <a:lnTo>
                      <a:pt x="431" y="3132"/>
                    </a:lnTo>
                    <a:lnTo>
                      <a:pt x="431" y="3183"/>
                    </a:lnTo>
                    <a:lnTo>
                      <a:pt x="436" y="3234"/>
                    </a:lnTo>
                    <a:lnTo>
                      <a:pt x="505" y="3234"/>
                    </a:lnTo>
                    <a:lnTo>
                      <a:pt x="593" y="3244"/>
                    </a:lnTo>
                    <a:lnTo>
                      <a:pt x="674" y="3256"/>
                    </a:lnTo>
                    <a:lnTo>
                      <a:pt x="761" y="3267"/>
                    </a:lnTo>
                    <a:lnTo>
                      <a:pt x="842" y="3273"/>
                    </a:lnTo>
                    <a:lnTo>
                      <a:pt x="930" y="3278"/>
                    </a:lnTo>
                    <a:lnTo>
                      <a:pt x="1017" y="3284"/>
                    </a:lnTo>
                    <a:lnTo>
                      <a:pt x="1105" y="3289"/>
                    </a:lnTo>
                    <a:lnTo>
                      <a:pt x="1156" y="3284"/>
                    </a:lnTo>
                    <a:lnTo>
                      <a:pt x="1220" y="3289"/>
                    </a:lnTo>
                    <a:lnTo>
                      <a:pt x="1273" y="3289"/>
                    </a:lnTo>
                    <a:lnTo>
                      <a:pt x="1331" y="3289"/>
                    </a:lnTo>
                    <a:lnTo>
                      <a:pt x="1366" y="3273"/>
                    </a:lnTo>
                    <a:lnTo>
                      <a:pt x="1442" y="3239"/>
                    </a:lnTo>
                    <a:lnTo>
                      <a:pt x="1541" y="3188"/>
                    </a:lnTo>
                    <a:lnTo>
                      <a:pt x="1656" y="3143"/>
                    </a:lnTo>
                    <a:lnTo>
                      <a:pt x="1767" y="3087"/>
                    </a:lnTo>
                    <a:lnTo>
                      <a:pt x="1860" y="3048"/>
                    </a:lnTo>
                    <a:lnTo>
                      <a:pt x="1929" y="3014"/>
                    </a:lnTo>
                    <a:lnTo>
                      <a:pt x="1959" y="3003"/>
                    </a:lnTo>
                    <a:lnTo>
                      <a:pt x="1970" y="2935"/>
                    </a:lnTo>
                    <a:lnTo>
                      <a:pt x="1977" y="2862"/>
                    </a:lnTo>
                    <a:lnTo>
                      <a:pt x="1965" y="2783"/>
                    </a:lnTo>
                    <a:lnTo>
                      <a:pt x="1959" y="2710"/>
                    </a:lnTo>
                    <a:lnTo>
                      <a:pt x="1941" y="2637"/>
                    </a:lnTo>
                    <a:lnTo>
                      <a:pt x="1924" y="2570"/>
                    </a:lnTo>
                    <a:lnTo>
                      <a:pt x="1906" y="2513"/>
                    </a:lnTo>
                    <a:lnTo>
                      <a:pt x="1901" y="2474"/>
                    </a:lnTo>
                    <a:lnTo>
                      <a:pt x="1894" y="2502"/>
                    </a:lnTo>
                    <a:lnTo>
                      <a:pt x="1894" y="2536"/>
                    </a:lnTo>
                    <a:lnTo>
                      <a:pt x="1889" y="2564"/>
                    </a:lnTo>
                    <a:lnTo>
                      <a:pt x="1889" y="2597"/>
                    </a:lnTo>
                    <a:lnTo>
                      <a:pt x="1883" y="2626"/>
                    </a:lnTo>
                    <a:lnTo>
                      <a:pt x="1883" y="2654"/>
                    </a:lnTo>
                    <a:lnTo>
                      <a:pt x="1871" y="2688"/>
                    </a:lnTo>
                    <a:lnTo>
                      <a:pt x="1866" y="2722"/>
                    </a:lnTo>
                    <a:lnTo>
                      <a:pt x="1843" y="2749"/>
                    </a:lnTo>
                    <a:lnTo>
                      <a:pt x="1825" y="2773"/>
                    </a:lnTo>
                    <a:lnTo>
                      <a:pt x="1808" y="2778"/>
                    </a:lnTo>
                    <a:lnTo>
                      <a:pt x="1790" y="2783"/>
                    </a:lnTo>
                    <a:lnTo>
                      <a:pt x="1761" y="2778"/>
                    </a:lnTo>
                    <a:lnTo>
                      <a:pt x="1738" y="2778"/>
                    </a:lnTo>
                    <a:lnTo>
                      <a:pt x="1709" y="2778"/>
                    </a:lnTo>
                    <a:lnTo>
                      <a:pt x="1680" y="2783"/>
                    </a:lnTo>
                    <a:lnTo>
                      <a:pt x="1622" y="2795"/>
                    </a:lnTo>
                    <a:lnTo>
                      <a:pt x="1569" y="2817"/>
                    </a:lnTo>
                    <a:lnTo>
                      <a:pt x="1506" y="2840"/>
                    </a:lnTo>
                    <a:lnTo>
                      <a:pt x="1453" y="2857"/>
                    </a:lnTo>
                    <a:lnTo>
                      <a:pt x="1395" y="2857"/>
                    </a:lnTo>
                    <a:lnTo>
                      <a:pt x="1349" y="2840"/>
                    </a:lnTo>
                    <a:lnTo>
                      <a:pt x="1302" y="2795"/>
                    </a:lnTo>
                    <a:lnTo>
                      <a:pt x="1278" y="2722"/>
                    </a:lnTo>
                    <a:lnTo>
                      <a:pt x="1267" y="2665"/>
                    </a:lnTo>
                    <a:lnTo>
                      <a:pt x="1267" y="2614"/>
                    </a:lnTo>
                    <a:lnTo>
                      <a:pt x="1267" y="2564"/>
                    </a:lnTo>
                    <a:lnTo>
                      <a:pt x="1278" y="2513"/>
                    </a:lnTo>
                    <a:lnTo>
                      <a:pt x="1285" y="2462"/>
                    </a:lnTo>
                    <a:lnTo>
                      <a:pt x="1302" y="2418"/>
                    </a:lnTo>
                    <a:lnTo>
                      <a:pt x="1313" y="2378"/>
                    </a:lnTo>
                    <a:lnTo>
                      <a:pt x="1331" y="2345"/>
                    </a:lnTo>
                    <a:lnTo>
                      <a:pt x="1366" y="2210"/>
                    </a:lnTo>
                    <a:lnTo>
                      <a:pt x="1412" y="2092"/>
                    </a:lnTo>
                    <a:lnTo>
                      <a:pt x="1459" y="1968"/>
                    </a:lnTo>
                    <a:lnTo>
                      <a:pt x="1500" y="1844"/>
                    </a:lnTo>
                    <a:lnTo>
                      <a:pt x="1529" y="1709"/>
                    </a:lnTo>
                    <a:lnTo>
                      <a:pt x="1546" y="1574"/>
                    </a:lnTo>
                    <a:lnTo>
                      <a:pt x="1552" y="1422"/>
                    </a:lnTo>
                    <a:lnTo>
                      <a:pt x="1541" y="1265"/>
                    </a:lnTo>
                    <a:lnTo>
                      <a:pt x="1534" y="1254"/>
                    </a:lnTo>
                    <a:lnTo>
                      <a:pt x="1534" y="1231"/>
                    </a:lnTo>
                    <a:lnTo>
                      <a:pt x="1529" y="1204"/>
                    </a:lnTo>
                    <a:lnTo>
                      <a:pt x="1529" y="1187"/>
                    </a:lnTo>
                    <a:lnTo>
                      <a:pt x="1534" y="1175"/>
                    </a:lnTo>
                    <a:lnTo>
                      <a:pt x="1552" y="1170"/>
                    </a:lnTo>
                    <a:lnTo>
                      <a:pt x="1564" y="1164"/>
                    </a:lnTo>
                    <a:lnTo>
                      <a:pt x="1569" y="1175"/>
                    </a:lnTo>
                    <a:lnTo>
                      <a:pt x="1599" y="1175"/>
                    </a:lnTo>
                    <a:lnTo>
                      <a:pt x="1599" y="1226"/>
                    </a:lnTo>
                    <a:lnTo>
                      <a:pt x="1610" y="1282"/>
                    </a:lnTo>
                    <a:lnTo>
                      <a:pt x="1622" y="1344"/>
                    </a:lnTo>
                    <a:lnTo>
                      <a:pt x="1640" y="1412"/>
                    </a:lnTo>
                    <a:lnTo>
                      <a:pt x="1645" y="1473"/>
                    </a:lnTo>
                    <a:lnTo>
                      <a:pt x="1651" y="1540"/>
                    </a:lnTo>
                    <a:lnTo>
                      <a:pt x="1651" y="1608"/>
                    </a:lnTo>
                    <a:lnTo>
                      <a:pt x="1651" y="1675"/>
                    </a:lnTo>
                    <a:lnTo>
                      <a:pt x="1633" y="1721"/>
                    </a:lnTo>
                    <a:lnTo>
                      <a:pt x="1610" y="1783"/>
                    </a:lnTo>
                    <a:lnTo>
                      <a:pt x="1581" y="1861"/>
                    </a:lnTo>
                    <a:lnTo>
                      <a:pt x="1552" y="1945"/>
                    </a:lnTo>
                    <a:lnTo>
                      <a:pt x="1517" y="2025"/>
                    </a:lnTo>
                    <a:lnTo>
                      <a:pt x="1483" y="2109"/>
                    </a:lnTo>
                    <a:lnTo>
                      <a:pt x="1453" y="2182"/>
                    </a:lnTo>
                    <a:lnTo>
                      <a:pt x="1435" y="2244"/>
                    </a:lnTo>
                    <a:lnTo>
                      <a:pt x="1483" y="2271"/>
                    </a:lnTo>
                    <a:lnTo>
                      <a:pt x="1534" y="2305"/>
                    </a:lnTo>
                    <a:lnTo>
                      <a:pt x="1581" y="2345"/>
                    </a:lnTo>
                    <a:lnTo>
                      <a:pt x="1622" y="2384"/>
                    </a:lnTo>
                    <a:lnTo>
                      <a:pt x="1640" y="2412"/>
                    </a:lnTo>
                    <a:lnTo>
                      <a:pt x="1663" y="2446"/>
                    </a:lnTo>
                    <a:lnTo>
                      <a:pt x="1680" y="2479"/>
                    </a:lnTo>
                    <a:lnTo>
                      <a:pt x="1697" y="2513"/>
                    </a:lnTo>
                    <a:lnTo>
                      <a:pt x="1709" y="2541"/>
                    </a:lnTo>
                    <a:lnTo>
                      <a:pt x="1732" y="2570"/>
                    </a:lnTo>
                    <a:lnTo>
                      <a:pt x="1755" y="2597"/>
                    </a:lnTo>
                    <a:lnTo>
                      <a:pt x="1795" y="2631"/>
                    </a:lnTo>
                    <a:lnTo>
                      <a:pt x="1820" y="2525"/>
                    </a:lnTo>
                    <a:lnTo>
                      <a:pt x="1854" y="2418"/>
                    </a:lnTo>
                    <a:lnTo>
                      <a:pt x="1889" y="2305"/>
                    </a:lnTo>
                    <a:lnTo>
                      <a:pt x="1929" y="2193"/>
                    </a:lnTo>
                    <a:lnTo>
                      <a:pt x="1959" y="2075"/>
                    </a:lnTo>
                    <a:lnTo>
                      <a:pt x="1988" y="1968"/>
                    </a:lnTo>
                    <a:lnTo>
                      <a:pt x="2005" y="1861"/>
                    </a:lnTo>
                    <a:lnTo>
                      <a:pt x="2023" y="1766"/>
                    </a:lnTo>
                    <a:lnTo>
                      <a:pt x="2017" y="1692"/>
                    </a:lnTo>
                    <a:lnTo>
                      <a:pt x="2011" y="1619"/>
                    </a:lnTo>
                    <a:lnTo>
                      <a:pt x="2000" y="1540"/>
                    </a:lnTo>
                    <a:lnTo>
                      <a:pt x="1988" y="1462"/>
                    </a:lnTo>
                    <a:lnTo>
                      <a:pt x="1970" y="1378"/>
                    </a:lnTo>
                    <a:lnTo>
                      <a:pt x="1952" y="1299"/>
                    </a:lnTo>
                    <a:lnTo>
                      <a:pt x="1936" y="1221"/>
                    </a:lnTo>
                    <a:lnTo>
                      <a:pt x="1929" y="1158"/>
                    </a:lnTo>
                    <a:lnTo>
                      <a:pt x="1912" y="1063"/>
                    </a:lnTo>
                    <a:lnTo>
                      <a:pt x="1912" y="973"/>
                    </a:lnTo>
                    <a:lnTo>
                      <a:pt x="1906" y="877"/>
                    </a:lnTo>
                    <a:lnTo>
                      <a:pt x="1906" y="787"/>
                    </a:lnTo>
                    <a:lnTo>
                      <a:pt x="1894" y="698"/>
                    </a:lnTo>
                    <a:lnTo>
                      <a:pt x="1889" y="613"/>
                    </a:lnTo>
                    <a:lnTo>
                      <a:pt x="1866" y="534"/>
                    </a:lnTo>
                    <a:lnTo>
                      <a:pt x="1837" y="466"/>
                    </a:lnTo>
                    <a:lnTo>
                      <a:pt x="1790" y="399"/>
                    </a:lnTo>
                    <a:lnTo>
                      <a:pt x="1732" y="338"/>
                    </a:lnTo>
                    <a:lnTo>
                      <a:pt x="1663" y="270"/>
                    </a:lnTo>
                    <a:lnTo>
                      <a:pt x="1581" y="208"/>
                    </a:lnTo>
                    <a:lnTo>
                      <a:pt x="1494" y="141"/>
                    </a:lnTo>
                    <a:lnTo>
                      <a:pt x="1412" y="85"/>
                    </a:lnTo>
                    <a:lnTo>
                      <a:pt x="1326" y="34"/>
                    </a:lnTo>
                    <a:lnTo>
                      <a:pt x="1262" y="0"/>
                    </a:lnTo>
                    <a:close/>
                  </a:path>
                </a:pathLst>
              </a:custGeom>
              <a:solidFill>
                <a:srgbClr val="b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95240" y="407088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221" h="297">
                    <a:moveTo>
                      <a:pt x="99" y="0"/>
                    </a:moveTo>
                    <a:lnTo>
                      <a:pt x="69" y="39"/>
                    </a:lnTo>
                    <a:lnTo>
                      <a:pt x="41" y="95"/>
                    </a:lnTo>
                    <a:lnTo>
                      <a:pt x="18" y="152"/>
                    </a:lnTo>
                    <a:lnTo>
                      <a:pt x="6" y="213"/>
                    </a:lnTo>
                    <a:lnTo>
                      <a:pt x="0" y="258"/>
                    </a:lnTo>
                    <a:lnTo>
                      <a:pt x="18" y="292"/>
                    </a:lnTo>
                    <a:lnTo>
                      <a:pt x="53" y="297"/>
                    </a:lnTo>
                    <a:lnTo>
                      <a:pt x="116" y="275"/>
                    </a:lnTo>
                    <a:lnTo>
                      <a:pt x="175" y="280"/>
                    </a:lnTo>
                    <a:lnTo>
                      <a:pt x="209" y="269"/>
                    </a:lnTo>
                    <a:lnTo>
                      <a:pt x="221" y="241"/>
                    </a:lnTo>
                    <a:lnTo>
                      <a:pt x="221" y="196"/>
                    </a:lnTo>
                    <a:lnTo>
                      <a:pt x="192" y="140"/>
                    </a:lnTo>
                    <a:lnTo>
                      <a:pt x="168" y="89"/>
                    </a:lnTo>
                    <a:lnTo>
                      <a:pt x="134" y="34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c3f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31320" y="4070880"/>
                <a:ext cx="70560" cy="69840"/>
              </a:xfrm>
              <a:custGeom>
                <a:avLst/>
                <a:gdLst/>
                <a:ahLst/>
                <a:rect l="l" t="t" r="r" b="b"/>
                <a:pathLst>
                  <a:path w="354" h="348">
                    <a:moveTo>
                      <a:pt x="273" y="0"/>
                    </a:moveTo>
                    <a:lnTo>
                      <a:pt x="256" y="34"/>
                    </a:lnTo>
                    <a:lnTo>
                      <a:pt x="244" y="67"/>
                    </a:lnTo>
                    <a:lnTo>
                      <a:pt x="215" y="73"/>
                    </a:lnTo>
                    <a:lnTo>
                      <a:pt x="186" y="84"/>
                    </a:lnTo>
                    <a:lnTo>
                      <a:pt x="157" y="89"/>
                    </a:lnTo>
                    <a:lnTo>
                      <a:pt x="128" y="95"/>
                    </a:lnTo>
                    <a:lnTo>
                      <a:pt x="70" y="112"/>
                    </a:lnTo>
                    <a:lnTo>
                      <a:pt x="35" y="145"/>
                    </a:lnTo>
                    <a:lnTo>
                      <a:pt x="12" y="174"/>
                    </a:lnTo>
                    <a:lnTo>
                      <a:pt x="5" y="208"/>
                    </a:lnTo>
                    <a:lnTo>
                      <a:pt x="0" y="241"/>
                    </a:lnTo>
                    <a:lnTo>
                      <a:pt x="5" y="280"/>
                    </a:lnTo>
                    <a:lnTo>
                      <a:pt x="29" y="326"/>
                    </a:lnTo>
                    <a:lnTo>
                      <a:pt x="76" y="348"/>
                    </a:lnTo>
                    <a:lnTo>
                      <a:pt x="128" y="336"/>
                    </a:lnTo>
                    <a:lnTo>
                      <a:pt x="186" y="319"/>
                    </a:lnTo>
                    <a:lnTo>
                      <a:pt x="233" y="297"/>
                    </a:lnTo>
                    <a:lnTo>
                      <a:pt x="279" y="269"/>
                    </a:lnTo>
                    <a:lnTo>
                      <a:pt x="308" y="230"/>
                    </a:lnTo>
                    <a:lnTo>
                      <a:pt x="337" y="184"/>
                    </a:lnTo>
                    <a:lnTo>
                      <a:pt x="354" y="135"/>
                    </a:lnTo>
                    <a:lnTo>
                      <a:pt x="354" y="78"/>
                    </a:lnTo>
                    <a:lnTo>
                      <a:pt x="337" y="56"/>
                    </a:lnTo>
                    <a:lnTo>
                      <a:pt x="314" y="34"/>
                    </a:lnTo>
                    <a:lnTo>
                      <a:pt x="285" y="1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86360" y="4074120"/>
                <a:ext cx="13320" cy="39600"/>
              </a:xfrm>
              <a:custGeom>
                <a:avLst/>
                <a:gdLst/>
                <a:ahLst/>
                <a:rect l="l" t="t" r="r" b="b"/>
                <a:pathLst>
                  <a:path w="64" h="201">
                    <a:moveTo>
                      <a:pt x="17" y="0"/>
                    </a:moveTo>
                    <a:lnTo>
                      <a:pt x="6" y="17"/>
                    </a:lnTo>
                    <a:lnTo>
                      <a:pt x="6" y="56"/>
                    </a:lnTo>
                    <a:lnTo>
                      <a:pt x="0" y="89"/>
                    </a:lnTo>
                    <a:lnTo>
                      <a:pt x="0" y="135"/>
                    </a:lnTo>
                    <a:lnTo>
                      <a:pt x="0" y="162"/>
                    </a:lnTo>
                    <a:lnTo>
                      <a:pt x="6" y="191"/>
                    </a:lnTo>
                    <a:lnTo>
                      <a:pt x="24" y="201"/>
                    </a:lnTo>
                    <a:lnTo>
                      <a:pt x="52" y="201"/>
                    </a:lnTo>
                    <a:lnTo>
                      <a:pt x="58" y="184"/>
                    </a:lnTo>
                    <a:lnTo>
                      <a:pt x="64" y="157"/>
                    </a:lnTo>
                    <a:lnTo>
                      <a:pt x="58" y="123"/>
                    </a:lnTo>
                    <a:lnTo>
                      <a:pt x="58" y="95"/>
                    </a:lnTo>
                    <a:lnTo>
                      <a:pt x="47" y="61"/>
                    </a:lnTo>
                    <a:lnTo>
                      <a:pt x="47" y="27"/>
                    </a:lnTo>
                    <a:lnTo>
                      <a:pt x="47" y="5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18560" y="4074120"/>
                <a:ext cx="40680" cy="66600"/>
              </a:xfrm>
              <a:custGeom>
                <a:avLst/>
                <a:gdLst/>
                <a:ahLst/>
                <a:rect l="l" t="t" r="r" b="b"/>
                <a:pathLst>
                  <a:path w="203" h="331">
                    <a:moveTo>
                      <a:pt x="69" y="0"/>
                    </a:moveTo>
                    <a:lnTo>
                      <a:pt x="46" y="33"/>
                    </a:lnTo>
                    <a:lnTo>
                      <a:pt x="28" y="84"/>
                    </a:lnTo>
                    <a:lnTo>
                      <a:pt x="11" y="140"/>
                    </a:lnTo>
                    <a:lnTo>
                      <a:pt x="0" y="201"/>
                    </a:lnTo>
                    <a:lnTo>
                      <a:pt x="0" y="252"/>
                    </a:lnTo>
                    <a:lnTo>
                      <a:pt x="16" y="297"/>
                    </a:lnTo>
                    <a:lnTo>
                      <a:pt x="51" y="326"/>
                    </a:lnTo>
                    <a:lnTo>
                      <a:pt x="122" y="331"/>
                    </a:lnTo>
                    <a:lnTo>
                      <a:pt x="162" y="309"/>
                    </a:lnTo>
                    <a:lnTo>
                      <a:pt x="185" y="280"/>
                    </a:lnTo>
                    <a:lnTo>
                      <a:pt x="198" y="230"/>
                    </a:lnTo>
                    <a:lnTo>
                      <a:pt x="203" y="184"/>
                    </a:lnTo>
                    <a:lnTo>
                      <a:pt x="191" y="128"/>
                    </a:lnTo>
                    <a:lnTo>
                      <a:pt x="180" y="78"/>
                    </a:lnTo>
                    <a:lnTo>
                      <a:pt x="168" y="27"/>
                    </a:lnTo>
                    <a:lnTo>
                      <a:pt x="162" y="0"/>
                    </a:lnTo>
                    <a:lnTo>
                      <a:pt x="115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ba1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09760" y="4075200"/>
                <a:ext cx="105480" cy="237600"/>
              </a:xfrm>
              <a:custGeom>
                <a:avLst/>
                <a:gdLst/>
                <a:ahLst/>
                <a:rect l="l" t="t" r="r" b="b"/>
                <a:pathLst>
                  <a:path w="524" h="1164">
                    <a:moveTo>
                      <a:pt x="321" y="5"/>
                    </a:moveTo>
                    <a:lnTo>
                      <a:pt x="245" y="17"/>
                    </a:lnTo>
                    <a:lnTo>
                      <a:pt x="181" y="51"/>
                    </a:lnTo>
                    <a:lnTo>
                      <a:pt x="123" y="96"/>
                    </a:lnTo>
                    <a:lnTo>
                      <a:pt x="82" y="162"/>
                    </a:lnTo>
                    <a:lnTo>
                      <a:pt x="42" y="236"/>
                    </a:lnTo>
                    <a:lnTo>
                      <a:pt x="17" y="321"/>
                    </a:lnTo>
                    <a:lnTo>
                      <a:pt x="0" y="405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17" y="551"/>
                    </a:lnTo>
                    <a:lnTo>
                      <a:pt x="42" y="557"/>
                    </a:lnTo>
                    <a:lnTo>
                      <a:pt x="82" y="574"/>
                    </a:lnTo>
                    <a:lnTo>
                      <a:pt x="76" y="534"/>
                    </a:lnTo>
                    <a:lnTo>
                      <a:pt x="70" y="500"/>
                    </a:lnTo>
                    <a:lnTo>
                      <a:pt x="70" y="461"/>
                    </a:lnTo>
                    <a:lnTo>
                      <a:pt x="70" y="427"/>
                    </a:lnTo>
                    <a:lnTo>
                      <a:pt x="70" y="388"/>
                    </a:lnTo>
                    <a:lnTo>
                      <a:pt x="70" y="354"/>
                    </a:lnTo>
                    <a:lnTo>
                      <a:pt x="70" y="314"/>
                    </a:lnTo>
                    <a:lnTo>
                      <a:pt x="70" y="275"/>
                    </a:lnTo>
                    <a:lnTo>
                      <a:pt x="123" y="264"/>
                    </a:lnTo>
                    <a:lnTo>
                      <a:pt x="123" y="292"/>
                    </a:lnTo>
                    <a:lnTo>
                      <a:pt x="128" y="338"/>
                    </a:lnTo>
                    <a:lnTo>
                      <a:pt x="134" y="388"/>
                    </a:lnTo>
                    <a:lnTo>
                      <a:pt x="146" y="444"/>
                    </a:lnTo>
                    <a:lnTo>
                      <a:pt x="151" y="489"/>
                    </a:lnTo>
                    <a:lnTo>
                      <a:pt x="164" y="534"/>
                    </a:lnTo>
                    <a:lnTo>
                      <a:pt x="169" y="562"/>
                    </a:lnTo>
                    <a:lnTo>
                      <a:pt x="174" y="574"/>
                    </a:lnTo>
                    <a:lnTo>
                      <a:pt x="164" y="584"/>
                    </a:lnTo>
                    <a:lnTo>
                      <a:pt x="151" y="613"/>
                    </a:lnTo>
                    <a:lnTo>
                      <a:pt x="140" y="641"/>
                    </a:lnTo>
                    <a:lnTo>
                      <a:pt x="134" y="664"/>
                    </a:lnTo>
                    <a:lnTo>
                      <a:pt x="111" y="675"/>
                    </a:lnTo>
                    <a:lnTo>
                      <a:pt x="82" y="675"/>
                    </a:lnTo>
                    <a:lnTo>
                      <a:pt x="76" y="714"/>
                    </a:lnTo>
                    <a:lnTo>
                      <a:pt x="76" y="765"/>
                    </a:lnTo>
                    <a:lnTo>
                      <a:pt x="76" y="815"/>
                    </a:lnTo>
                    <a:lnTo>
                      <a:pt x="76" y="866"/>
                    </a:lnTo>
                    <a:lnTo>
                      <a:pt x="76" y="905"/>
                    </a:lnTo>
                    <a:lnTo>
                      <a:pt x="76" y="950"/>
                    </a:lnTo>
                    <a:lnTo>
                      <a:pt x="76" y="989"/>
                    </a:lnTo>
                    <a:lnTo>
                      <a:pt x="82" y="1023"/>
                    </a:lnTo>
                    <a:lnTo>
                      <a:pt x="76" y="1074"/>
                    </a:lnTo>
                    <a:lnTo>
                      <a:pt x="88" y="1119"/>
                    </a:lnTo>
                    <a:lnTo>
                      <a:pt x="93" y="1130"/>
                    </a:lnTo>
                    <a:lnTo>
                      <a:pt x="116" y="1141"/>
                    </a:lnTo>
                    <a:lnTo>
                      <a:pt x="146" y="1153"/>
                    </a:lnTo>
                    <a:lnTo>
                      <a:pt x="187" y="1164"/>
                    </a:lnTo>
                    <a:lnTo>
                      <a:pt x="233" y="1164"/>
                    </a:lnTo>
                    <a:lnTo>
                      <a:pt x="285" y="1153"/>
                    </a:lnTo>
                    <a:lnTo>
                      <a:pt x="326" y="1130"/>
                    </a:lnTo>
                    <a:lnTo>
                      <a:pt x="372" y="1113"/>
                    </a:lnTo>
                    <a:lnTo>
                      <a:pt x="407" y="1085"/>
                    </a:lnTo>
                    <a:lnTo>
                      <a:pt x="448" y="1057"/>
                    </a:lnTo>
                    <a:lnTo>
                      <a:pt x="483" y="1029"/>
                    </a:lnTo>
                    <a:lnTo>
                      <a:pt x="524" y="1012"/>
                    </a:lnTo>
                    <a:lnTo>
                      <a:pt x="501" y="956"/>
                    </a:lnTo>
                    <a:lnTo>
                      <a:pt x="494" y="910"/>
                    </a:lnTo>
                    <a:lnTo>
                      <a:pt x="494" y="860"/>
                    </a:lnTo>
                    <a:lnTo>
                      <a:pt x="501" y="821"/>
                    </a:lnTo>
                    <a:lnTo>
                      <a:pt x="501" y="770"/>
                    </a:lnTo>
                    <a:lnTo>
                      <a:pt x="506" y="726"/>
                    </a:lnTo>
                    <a:lnTo>
                      <a:pt x="506" y="675"/>
                    </a:lnTo>
                    <a:lnTo>
                      <a:pt x="512" y="624"/>
                    </a:lnTo>
                    <a:lnTo>
                      <a:pt x="471" y="635"/>
                    </a:lnTo>
                    <a:lnTo>
                      <a:pt x="448" y="641"/>
                    </a:lnTo>
                    <a:lnTo>
                      <a:pt x="419" y="641"/>
                    </a:lnTo>
                    <a:lnTo>
                      <a:pt x="402" y="641"/>
                    </a:lnTo>
                    <a:lnTo>
                      <a:pt x="355" y="618"/>
                    </a:lnTo>
                    <a:lnTo>
                      <a:pt x="308" y="584"/>
                    </a:lnTo>
                    <a:lnTo>
                      <a:pt x="314" y="523"/>
                    </a:lnTo>
                    <a:lnTo>
                      <a:pt x="331" y="461"/>
                    </a:lnTo>
                    <a:lnTo>
                      <a:pt x="337" y="393"/>
                    </a:lnTo>
                    <a:lnTo>
                      <a:pt x="355" y="338"/>
                    </a:lnTo>
                    <a:lnTo>
                      <a:pt x="361" y="270"/>
                    </a:lnTo>
                    <a:lnTo>
                      <a:pt x="372" y="213"/>
                    </a:lnTo>
                    <a:lnTo>
                      <a:pt x="384" y="157"/>
                    </a:lnTo>
                    <a:lnTo>
                      <a:pt x="402" y="107"/>
                    </a:lnTo>
                    <a:lnTo>
                      <a:pt x="384" y="79"/>
                    </a:lnTo>
                    <a:lnTo>
                      <a:pt x="390" y="45"/>
                    </a:lnTo>
                    <a:lnTo>
                      <a:pt x="379" y="28"/>
                    </a:lnTo>
                    <a:lnTo>
                      <a:pt x="372" y="12"/>
                    </a:lnTo>
                    <a:lnTo>
                      <a:pt x="349" y="0"/>
                    </a:lnTo>
                    <a:lnTo>
                      <a:pt x="321" y="5"/>
                    </a:lnTo>
                    <a:close/>
                  </a:path>
                </a:pathLst>
              </a:custGeom>
              <a:solidFill>
                <a:srgbClr val="fdb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18840" y="4081680"/>
                <a:ext cx="19080" cy="45000"/>
              </a:xfrm>
              <a:custGeom>
                <a:avLst/>
                <a:gdLst/>
                <a:ahLst/>
                <a:rect l="l" t="t" r="r" b="b"/>
                <a:pathLst>
                  <a:path w="99" h="219">
                    <a:moveTo>
                      <a:pt x="35" y="0"/>
                    </a:moveTo>
                    <a:lnTo>
                      <a:pt x="12" y="45"/>
                    </a:lnTo>
                    <a:lnTo>
                      <a:pt x="7" y="96"/>
                    </a:lnTo>
                    <a:lnTo>
                      <a:pt x="0" y="118"/>
                    </a:lnTo>
                    <a:lnTo>
                      <a:pt x="0" y="145"/>
                    </a:lnTo>
                    <a:lnTo>
                      <a:pt x="0" y="179"/>
                    </a:lnTo>
                    <a:lnTo>
                      <a:pt x="12" y="219"/>
                    </a:lnTo>
                    <a:lnTo>
                      <a:pt x="41" y="213"/>
                    </a:lnTo>
                    <a:lnTo>
                      <a:pt x="76" y="219"/>
                    </a:lnTo>
                    <a:lnTo>
                      <a:pt x="83" y="174"/>
                    </a:lnTo>
                    <a:lnTo>
                      <a:pt x="88" y="140"/>
                    </a:lnTo>
                    <a:lnTo>
                      <a:pt x="94" y="106"/>
                    </a:lnTo>
                    <a:lnTo>
                      <a:pt x="99" y="89"/>
                    </a:lnTo>
                    <a:lnTo>
                      <a:pt x="76" y="4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4fd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165640" y="4081680"/>
                <a:ext cx="24840" cy="54720"/>
              </a:xfrm>
              <a:custGeom>
                <a:avLst/>
                <a:gdLst/>
                <a:ahLst/>
                <a:rect l="l" t="t" r="r" b="b"/>
                <a:pathLst>
                  <a:path w="123" h="270">
                    <a:moveTo>
                      <a:pt x="41" y="0"/>
                    </a:moveTo>
                    <a:lnTo>
                      <a:pt x="25" y="45"/>
                    </a:lnTo>
                    <a:lnTo>
                      <a:pt x="13" y="84"/>
                    </a:lnTo>
                    <a:lnTo>
                      <a:pt x="0" y="118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13" y="208"/>
                    </a:lnTo>
                    <a:lnTo>
                      <a:pt x="36" y="236"/>
                    </a:lnTo>
                    <a:lnTo>
                      <a:pt x="76" y="270"/>
                    </a:lnTo>
                    <a:lnTo>
                      <a:pt x="88" y="219"/>
                    </a:lnTo>
                    <a:lnTo>
                      <a:pt x="106" y="185"/>
                    </a:lnTo>
                    <a:lnTo>
                      <a:pt x="117" y="152"/>
                    </a:lnTo>
                    <a:lnTo>
                      <a:pt x="123" y="118"/>
                    </a:lnTo>
                    <a:lnTo>
                      <a:pt x="117" y="84"/>
                    </a:lnTo>
                    <a:lnTo>
                      <a:pt x="106" y="56"/>
                    </a:lnTo>
                    <a:lnTo>
                      <a:pt x="76" y="2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374800" y="4081680"/>
                <a:ext cx="34560" cy="38520"/>
              </a:xfrm>
              <a:custGeom>
                <a:avLst/>
                <a:gdLst/>
                <a:ahLst/>
                <a:rect l="l" t="t" r="r" b="b"/>
                <a:pathLst>
                  <a:path w="175" h="191">
                    <a:moveTo>
                      <a:pt x="134" y="0"/>
                    </a:moveTo>
                    <a:lnTo>
                      <a:pt x="94" y="0"/>
                    </a:lnTo>
                    <a:lnTo>
                      <a:pt x="64" y="5"/>
                    </a:lnTo>
                    <a:lnTo>
                      <a:pt x="41" y="11"/>
                    </a:lnTo>
                    <a:lnTo>
                      <a:pt x="23" y="28"/>
                    </a:lnTo>
                    <a:lnTo>
                      <a:pt x="6" y="45"/>
                    </a:lnTo>
                    <a:lnTo>
                      <a:pt x="0" y="73"/>
                    </a:lnTo>
                    <a:lnTo>
                      <a:pt x="0" y="106"/>
                    </a:lnTo>
                    <a:lnTo>
                      <a:pt x="0" y="162"/>
                    </a:lnTo>
                    <a:lnTo>
                      <a:pt x="52" y="179"/>
                    </a:lnTo>
                    <a:lnTo>
                      <a:pt x="70" y="185"/>
                    </a:lnTo>
                    <a:lnTo>
                      <a:pt x="87" y="185"/>
                    </a:lnTo>
                    <a:lnTo>
                      <a:pt x="105" y="191"/>
                    </a:lnTo>
                    <a:lnTo>
                      <a:pt x="128" y="179"/>
                    </a:lnTo>
                    <a:lnTo>
                      <a:pt x="151" y="162"/>
                    </a:lnTo>
                    <a:lnTo>
                      <a:pt x="163" y="140"/>
                    </a:lnTo>
                    <a:lnTo>
                      <a:pt x="175" y="118"/>
                    </a:lnTo>
                    <a:lnTo>
                      <a:pt x="175" y="84"/>
                    </a:lnTo>
                    <a:lnTo>
                      <a:pt x="175" y="56"/>
                    </a:lnTo>
                    <a:lnTo>
                      <a:pt x="168" y="22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0cd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499720" y="4085640"/>
                <a:ext cx="85320" cy="194400"/>
              </a:xfrm>
              <a:custGeom>
                <a:avLst/>
                <a:gdLst/>
                <a:ahLst/>
                <a:rect l="l" t="t" r="r" b="b"/>
                <a:pathLst>
                  <a:path w="425" h="956">
                    <a:moveTo>
                      <a:pt x="169" y="0"/>
                    </a:moveTo>
                    <a:lnTo>
                      <a:pt x="123" y="6"/>
                    </a:lnTo>
                    <a:lnTo>
                      <a:pt x="99" y="34"/>
                    </a:lnTo>
                    <a:lnTo>
                      <a:pt x="83" y="62"/>
                    </a:lnTo>
                    <a:lnTo>
                      <a:pt x="65" y="106"/>
                    </a:lnTo>
                    <a:lnTo>
                      <a:pt x="35" y="152"/>
                    </a:lnTo>
                    <a:lnTo>
                      <a:pt x="18" y="202"/>
                    </a:lnTo>
                    <a:lnTo>
                      <a:pt x="0" y="248"/>
                    </a:lnTo>
                    <a:lnTo>
                      <a:pt x="0" y="298"/>
                    </a:lnTo>
                    <a:lnTo>
                      <a:pt x="0" y="343"/>
                    </a:lnTo>
                    <a:lnTo>
                      <a:pt x="12" y="388"/>
                    </a:lnTo>
                    <a:lnTo>
                      <a:pt x="30" y="439"/>
                    </a:lnTo>
                    <a:lnTo>
                      <a:pt x="65" y="489"/>
                    </a:lnTo>
                    <a:lnTo>
                      <a:pt x="71" y="501"/>
                    </a:lnTo>
                    <a:lnTo>
                      <a:pt x="88" y="518"/>
                    </a:lnTo>
                    <a:lnTo>
                      <a:pt x="106" y="528"/>
                    </a:lnTo>
                    <a:lnTo>
                      <a:pt x="117" y="540"/>
                    </a:lnTo>
                    <a:lnTo>
                      <a:pt x="117" y="579"/>
                    </a:lnTo>
                    <a:lnTo>
                      <a:pt x="111" y="624"/>
                    </a:lnTo>
                    <a:lnTo>
                      <a:pt x="99" y="663"/>
                    </a:lnTo>
                    <a:lnTo>
                      <a:pt x="94" y="714"/>
                    </a:lnTo>
                    <a:lnTo>
                      <a:pt x="76" y="753"/>
                    </a:lnTo>
                    <a:lnTo>
                      <a:pt x="65" y="798"/>
                    </a:lnTo>
                    <a:lnTo>
                      <a:pt x="48" y="844"/>
                    </a:lnTo>
                    <a:lnTo>
                      <a:pt x="48" y="888"/>
                    </a:lnTo>
                    <a:lnTo>
                      <a:pt x="88" y="905"/>
                    </a:lnTo>
                    <a:lnTo>
                      <a:pt x="134" y="928"/>
                    </a:lnTo>
                    <a:lnTo>
                      <a:pt x="152" y="933"/>
                    </a:lnTo>
                    <a:lnTo>
                      <a:pt x="181" y="945"/>
                    </a:lnTo>
                    <a:lnTo>
                      <a:pt x="210" y="950"/>
                    </a:lnTo>
                    <a:lnTo>
                      <a:pt x="251" y="956"/>
                    </a:lnTo>
                    <a:lnTo>
                      <a:pt x="286" y="956"/>
                    </a:lnTo>
                    <a:lnTo>
                      <a:pt x="326" y="956"/>
                    </a:lnTo>
                    <a:lnTo>
                      <a:pt x="367" y="956"/>
                    </a:lnTo>
                    <a:lnTo>
                      <a:pt x="408" y="956"/>
                    </a:lnTo>
                    <a:lnTo>
                      <a:pt x="408" y="945"/>
                    </a:lnTo>
                    <a:lnTo>
                      <a:pt x="413" y="928"/>
                    </a:lnTo>
                    <a:lnTo>
                      <a:pt x="413" y="900"/>
                    </a:lnTo>
                    <a:lnTo>
                      <a:pt x="425" y="888"/>
                    </a:lnTo>
                    <a:lnTo>
                      <a:pt x="420" y="815"/>
                    </a:lnTo>
                    <a:lnTo>
                      <a:pt x="413" y="748"/>
                    </a:lnTo>
                    <a:lnTo>
                      <a:pt x="408" y="675"/>
                    </a:lnTo>
                    <a:lnTo>
                      <a:pt x="408" y="602"/>
                    </a:lnTo>
                    <a:lnTo>
                      <a:pt x="402" y="518"/>
                    </a:lnTo>
                    <a:lnTo>
                      <a:pt x="402" y="439"/>
                    </a:lnTo>
                    <a:lnTo>
                      <a:pt x="408" y="360"/>
                    </a:lnTo>
                    <a:lnTo>
                      <a:pt x="425" y="287"/>
                    </a:lnTo>
                    <a:lnTo>
                      <a:pt x="408" y="275"/>
                    </a:lnTo>
                    <a:lnTo>
                      <a:pt x="396" y="270"/>
                    </a:lnTo>
                    <a:lnTo>
                      <a:pt x="378" y="258"/>
                    </a:lnTo>
                    <a:lnTo>
                      <a:pt x="373" y="258"/>
                    </a:lnTo>
                    <a:lnTo>
                      <a:pt x="367" y="225"/>
                    </a:lnTo>
                    <a:lnTo>
                      <a:pt x="378" y="186"/>
                    </a:lnTo>
                    <a:lnTo>
                      <a:pt x="385" y="140"/>
                    </a:lnTo>
                    <a:lnTo>
                      <a:pt x="385" y="106"/>
                    </a:lnTo>
                    <a:lnTo>
                      <a:pt x="367" y="91"/>
                    </a:lnTo>
                    <a:lnTo>
                      <a:pt x="349" y="74"/>
                    </a:lnTo>
                    <a:lnTo>
                      <a:pt x="314" y="57"/>
                    </a:lnTo>
                    <a:lnTo>
                      <a:pt x="286" y="40"/>
                    </a:lnTo>
                    <a:lnTo>
                      <a:pt x="245" y="23"/>
                    </a:lnTo>
                    <a:lnTo>
                      <a:pt x="216" y="11"/>
                    </a:lnTo>
                    <a:lnTo>
                      <a:pt x="181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aa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86480" y="4085640"/>
                <a:ext cx="50400" cy="192240"/>
              </a:xfrm>
              <a:custGeom>
                <a:avLst/>
                <a:gdLst/>
                <a:ahLst/>
                <a:rect l="l" t="t" r="r" b="b"/>
                <a:pathLst>
                  <a:path w="250" h="939">
                    <a:moveTo>
                      <a:pt x="162" y="0"/>
                    </a:moveTo>
                    <a:lnTo>
                      <a:pt x="122" y="0"/>
                    </a:lnTo>
                    <a:lnTo>
                      <a:pt x="88" y="11"/>
                    </a:lnTo>
                    <a:lnTo>
                      <a:pt x="52" y="23"/>
                    </a:lnTo>
                    <a:lnTo>
                      <a:pt x="17" y="28"/>
                    </a:lnTo>
                    <a:lnTo>
                      <a:pt x="17" y="51"/>
                    </a:lnTo>
                    <a:lnTo>
                      <a:pt x="17" y="79"/>
                    </a:lnTo>
                    <a:lnTo>
                      <a:pt x="0" y="96"/>
                    </a:lnTo>
                    <a:lnTo>
                      <a:pt x="5" y="135"/>
                    </a:lnTo>
                    <a:lnTo>
                      <a:pt x="12" y="174"/>
                    </a:lnTo>
                    <a:lnTo>
                      <a:pt x="17" y="197"/>
                    </a:lnTo>
                    <a:lnTo>
                      <a:pt x="58" y="208"/>
                    </a:lnTo>
                    <a:lnTo>
                      <a:pt x="46" y="265"/>
                    </a:lnTo>
                    <a:lnTo>
                      <a:pt x="35" y="360"/>
                    </a:lnTo>
                    <a:lnTo>
                      <a:pt x="17" y="478"/>
                    </a:lnTo>
                    <a:lnTo>
                      <a:pt x="12" y="608"/>
                    </a:lnTo>
                    <a:lnTo>
                      <a:pt x="5" y="726"/>
                    </a:lnTo>
                    <a:lnTo>
                      <a:pt x="23" y="832"/>
                    </a:lnTo>
                    <a:lnTo>
                      <a:pt x="52" y="905"/>
                    </a:lnTo>
                    <a:lnTo>
                      <a:pt x="111" y="939"/>
                    </a:lnTo>
                    <a:lnTo>
                      <a:pt x="180" y="917"/>
                    </a:lnTo>
                    <a:lnTo>
                      <a:pt x="227" y="854"/>
                    </a:lnTo>
                    <a:lnTo>
                      <a:pt x="244" y="759"/>
                    </a:lnTo>
                    <a:lnTo>
                      <a:pt x="250" y="647"/>
                    </a:lnTo>
                    <a:lnTo>
                      <a:pt x="233" y="528"/>
                    </a:lnTo>
                    <a:lnTo>
                      <a:pt x="209" y="427"/>
                    </a:lnTo>
                    <a:lnTo>
                      <a:pt x="180" y="349"/>
                    </a:lnTo>
                    <a:lnTo>
                      <a:pt x="162" y="309"/>
                    </a:lnTo>
                    <a:lnTo>
                      <a:pt x="197" y="258"/>
                    </a:lnTo>
                    <a:lnTo>
                      <a:pt x="233" y="219"/>
                    </a:lnTo>
                    <a:lnTo>
                      <a:pt x="233" y="202"/>
                    </a:lnTo>
                    <a:lnTo>
                      <a:pt x="233" y="174"/>
                    </a:lnTo>
                    <a:lnTo>
                      <a:pt x="233" y="140"/>
                    </a:lnTo>
                    <a:lnTo>
                      <a:pt x="233" y="130"/>
                    </a:lnTo>
                    <a:lnTo>
                      <a:pt x="215" y="96"/>
                    </a:lnTo>
                    <a:lnTo>
                      <a:pt x="203" y="51"/>
                    </a:lnTo>
                    <a:lnTo>
                      <a:pt x="180" y="23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62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20280" y="4094640"/>
                <a:ext cx="106560" cy="359640"/>
              </a:xfrm>
              <a:custGeom>
                <a:avLst/>
                <a:gdLst/>
                <a:ahLst/>
                <a:rect l="l" t="t" r="r" b="b"/>
                <a:pathLst>
                  <a:path w="529" h="1765">
                    <a:moveTo>
                      <a:pt x="314" y="0"/>
                    </a:moveTo>
                    <a:lnTo>
                      <a:pt x="309" y="22"/>
                    </a:lnTo>
                    <a:lnTo>
                      <a:pt x="303" y="66"/>
                    </a:lnTo>
                    <a:lnTo>
                      <a:pt x="297" y="106"/>
                    </a:lnTo>
                    <a:lnTo>
                      <a:pt x="291" y="146"/>
                    </a:lnTo>
                    <a:lnTo>
                      <a:pt x="262" y="162"/>
                    </a:lnTo>
                    <a:lnTo>
                      <a:pt x="227" y="185"/>
                    </a:lnTo>
                    <a:lnTo>
                      <a:pt x="187" y="201"/>
                    </a:lnTo>
                    <a:lnTo>
                      <a:pt x="146" y="225"/>
                    </a:lnTo>
                    <a:lnTo>
                      <a:pt x="99" y="242"/>
                    </a:lnTo>
                    <a:lnTo>
                      <a:pt x="65" y="264"/>
                    </a:lnTo>
                    <a:lnTo>
                      <a:pt x="35" y="286"/>
                    </a:lnTo>
                    <a:lnTo>
                      <a:pt x="23" y="326"/>
                    </a:lnTo>
                    <a:lnTo>
                      <a:pt x="12" y="360"/>
                    </a:lnTo>
                    <a:lnTo>
                      <a:pt x="7" y="427"/>
                    </a:lnTo>
                    <a:lnTo>
                      <a:pt x="0" y="500"/>
                    </a:lnTo>
                    <a:lnTo>
                      <a:pt x="0" y="590"/>
                    </a:lnTo>
                    <a:lnTo>
                      <a:pt x="0" y="669"/>
                    </a:lnTo>
                    <a:lnTo>
                      <a:pt x="0" y="753"/>
                    </a:lnTo>
                    <a:lnTo>
                      <a:pt x="7" y="809"/>
                    </a:lnTo>
                    <a:lnTo>
                      <a:pt x="12" y="848"/>
                    </a:lnTo>
                    <a:lnTo>
                      <a:pt x="41" y="848"/>
                    </a:lnTo>
                    <a:lnTo>
                      <a:pt x="76" y="860"/>
                    </a:lnTo>
                    <a:lnTo>
                      <a:pt x="111" y="865"/>
                    </a:lnTo>
                    <a:lnTo>
                      <a:pt x="146" y="877"/>
                    </a:lnTo>
                    <a:lnTo>
                      <a:pt x="111" y="949"/>
                    </a:lnTo>
                    <a:lnTo>
                      <a:pt x="99" y="1045"/>
                    </a:lnTo>
                    <a:lnTo>
                      <a:pt x="94" y="1157"/>
                    </a:lnTo>
                    <a:lnTo>
                      <a:pt x="111" y="1282"/>
                    </a:lnTo>
                    <a:lnTo>
                      <a:pt x="129" y="1400"/>
                    </a:lnTo>
                    <a:lnTo>
                      <a:pt x="146" y="1518"/>
                    </a:lnTo>
                    <a:lnTo>
                      <a:pt x="164" y="1630"/>
                    </a:lnTo>
                    <a:lnTo>
                      <a:pt x="180" y="1726"/>
                    </a:lnTo>
                    <a:lnTo>
                      <a:pt x="221" y="1731"/>
                    </a:lnTo>
                    <a:lnTo>
                      <a:pt x="268" y="1743"/>
                    </a:lnTo>
                    <a:lnTo>
                      <a:pt x="309" y="1748"/>
                    </a:lnTo>
                    <a:lnTo>
                      <a:pt x="355" y="1765"/>
                    </a:lnTo>
                    <a:lnTo>
                      <a:pt x="360" y="1765"/>
                    </a:lnTo>
                    <a:lnTo>
                      <a:pt x="390" y="1765"/>
                    </a:lnTo>
                    <a:lnTo>
                      <a:pt x="419" y="1765"/>
                    </a:lnTo>
                    <a:lnTo>
                      <a:pt x="436" y="1765"/>
                    </a:lnTo>
                    <a:lnTo>
                      <a:pt x="436" y="1731"/>
                    </a:lnTo>
                    <a:lnTo>
                      <a:pt x="448" y="1692"/>
                    </a:lnTo>
                    <a:lnTo>
                      <a:pt x="459" y="1641"/>
                    </a:lnTo>
                    <a:lnTo>
                      <a:pt x="471" y="1596"/>
                    </a:lnTo>
                    <a:lnTo>
                      <a:pt x="477" y="1540"/>
                    </a:lnTo>
                    <a:lnTo>
                      <a:pt x="483" y="1489"/>
                    </a:lnTo>
                    <a:lnTo>
                      <a:pt x="477" y="1439"/>
                    </a:lnTo>
                    <a:lnTo>
                      <a:pt x="477" y="1394"/>
                    </a:lnTo>
                    <a:lnTo>
                      <a:pt x="459" y="1371"/>
                    </a:lnTo>
                    <a:lnTo>
                      <a:pt x="443" y="1354"/>
                    </a:lnTo>
                    <a:lnTo>
                      <a:pt x="413" y="1332"/>
                    </a:lnTo>
                    <a:lnTo>
                      <a:pt x="408" y="1315"/>
                    </a:lnTo>
                    <a:lnTo>
                      <a:pt x="390" y="1258"/>
                    </a:lnTo>
                    <a:lnTo>
                      <a:pt x="372" y="1208"/>
                    </a:lnTo>
                    <a:lnTo>
                      <a:pt x="355" y="1152"/>
                    </a:lnTo>
                    <a:lnTo>
                      <a:pt x="337" y="1101"/>
                    </a:lnTo>
                    <a:lnTo>
                      <a:pt x="320" y="1045"/>
                    </a:lnTo>
                    <a:lnTo>
                      <a:pt x="303" y="995"/>
                    </a:lnTo>
                    <a:lnTo>
                      <a:pt x="291" y="949"/>
                    </a:lnTo>
                    <a:lnTo>
                      <a:pt x="291" y="916"/>
                    </a:lnTo>
                    <a:lnTo>
                      <a:pt x="279" y="797"/>
                    </a:lnTo>
                    <a:lnTo>
                      <a:pt x="286" y="686"/>
                    </a:lnTo>
                    <a:lnTo>
                      <a:pt x="303" y="573"/>
                    </a:lnTo>
                    <a:lnTo>
                      <a:pt x="344" y="478"/>
                    </a:lnTo>
                    <a:lnTo>
                      <a:pt x="378" y="377"/>
                    </a:lnTo>
                    <a:lnTo>
                      <a:pt x="425" y="292"/>
                    </a:lnTo>
                    <a:lnTo>
                      <a:pt x="477" y="213"/>
                    </a:lnTo>
                    <a:lnTo>
                      <a:pt x="529" y="157"/>
                    </a:lnTo>
                    <a:lnTo>
                      <a:pt x="517" y="146"/>
                    </a:lnTo>
                    <a:lnTo>
                      <a:pt x="500" y="117"/>
                    </a:lnTo>
                    <a:lnTo>
                      <a:pt x="477" y="83"/>
                    </a:lnTo>
                    <a:lnTo>
                      <a:pt x="459" y="66"/>
                    </a:lnTo>
                    <a:lnTo>
                      <a:pt x="431" y="34"/>
                    </a:lnTo>
                    <a:lnTo>
                      <a:pt x="413" y="17"/>
                    </a:lnTo>
                    <a:lnTo>
                      <a:pt x="378" y="0"/>
                    </a:lnTo>
                    <a:lnTo>
                      <a:pt x="332" y="0"/>
                    </a:lnTo>
                    <a:lnTo>
                      <a:pt x="320" y="0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82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68240" y="4100040"/>
                <a:ext cx="32400" cy="26640"/>
              </a:xfrm>
              <a:custGeom>
                <a:avLst/>
                <a:gdLst/>
                <a:ahLst/>
                <a:rect l="l" t="t" r="r" b="b"/>
                <a:pathLst>
                  <a:path w="157" h="130">
                    <a:moveTo>
                      <a:pt x="58" y="0"/>
                    </a:moveTo>
                    <a:lnTo>
                      <a:pt x="12" y="34"/>
                    </a:lnTo>
                    <a:lnTo>
                      <a:pt x="0" y="79"/>
                    </a:lnTo>
                    <a:lnTo>
                      <a:pt x="0" y="90"/>
                    </a:lnTo>
                    <a:lnTo>
                      <a:pt x="24" y="107"/>
                    </a:lnTo>
                    <a:lnTo>
                      <a:pt x="53" y="119"/>
                    </a:lnTo>
                    <a:lnTo>
                      <a:pt x="99" y="130"/>
                    </a:lnTo>
                    <a:lnTo>
                      <a:pt x="134" y="119"/>
                    </a:lnTo>
                    <a:lnTo>
                      <a:pt x="157" y="107"/>
                    </a:lnTo>
                    <a:lnTo>
                      <a:pt x="157" y="90"/>
                    </a:lnTo>
                    <a:lnTo>
                      <a:pt x="146" y="73"/>
                    </a:lnTo>
                    <a:lnTo>
                      <a:pt x="123" y="46"/>
                    </a:lnTo>
                    <a:lnTo>
                      <a:pt x="99" y="29"/>
                    </a:lnTo>
                    <a:lnTo>
                      <a:pt x="70" y="7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82360" y="410436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122" h="157">
                    <a:moveTo>
                      <a:pt x="116" y="0"/>
                    </a:moveTo>
                    <a:lnTo>
                      <a:pt x="76" y="10"/>
                    </a:lnTo>
                    <a:lnTo>
                      <a:pt x="47" y="22"/>
                    </a:lnTo>
                    <a:lnTo>
                      <a:pt x="23" y="32"/>
                    </a:lnTo>
                    <a:lnTo>
                      <a:pt x="12" y="49"/>
                    </a:lnTo>
                    <a:lnTo>
                      <a:pt x="0" y="66"/>
                    </a:lnTo>
                    <a:lnTo>
                      <a:pt x="0" y="89"/>
                    </a:lnTo>
                    <a:lnTo>
                      <a:pt x="0" y="117"/>
                    </a:lnTo>
                    <a:lnTo>
                      <a:pt x="5" y="157"/>
                    </a:lnTo>
                    <a:lnTo>
                      <a:pt x="47" y="140"/>
                    </a:lnTo>
                    <a:lnTo>
                      <a:pt x="81" y="128"/>
                    </a:lnTo>
                    <a:lnTo>
                      <a:pt x="99" y="111"/>
                    </a:lnTo>
                    <a:lnTo>
                      <a:pt x="116" y="100"/>
                    </a:lnTo>
                    <a:lnTo>
                      <a:pt x="116" y="78"/>
                    </a:lnTo>
                    <a:lnTo>
                      <a:pt x="122" y="61"/>
                    </a:lnTo>
                    <a:lnTo>
                      <a:pt x="116" y="2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91200" y="4129200"/>
                <a:ext cx="68400" cy="235440"/>
              </a:xfrm>
              <a:custGeom>
                <a:avLst/>
                <a:gdLst/>
                <a:ahLst/>
                <a:rect l="l" t="t" r="r" b="b"/>
                <a:pathLst>
                  <a:path w="337" h="1158">
                    <a:moveTo>
                      <a:pt x="308" y="0"/>
                    </a:moveTo>
                    <a:lnTo>
                      <a:pt x="273" y="0"/>
                    </a:lnTo>
                    <a:lnTo>
                      <a:pt x="244" y="17"/>
                    </a:lnTo>
                    <a:lnTo>
                      <a:pt x="215" y="33"/>
                    </a:lnTo>
                    <a:lnTo>
                      <a:pt x="197" y="62"/>
                    </a:lnTo>
                    <a:lnTo>
                      <a:pt x="180" y="90"/>
                    </a:lnTo>
                    <a:lnTo>
                      <a:pt x="162" y="118"/>
                    </a:lnTo>
                    <a:lnTo>
                      <a:pt x="145" y="146"/>
                    </a:lnTo>
                    <a:lnTo>
                      <a:pt x="134" y="180"/>
                    </a:lnTo>
                    <a:lnTo>
                      <a:pt x="93" y="236"/>
                    </a:lnTo>
                    <a:lnTo>
                      <a:pt x="64" y="304"/>
                    </a:lnTo>
                    <a:lnTo>
                      <a:pt x="35" y="371"/>
                    </a:lnTo>
                    <a:lnTo>
                      <a:pt x="17" y="455"/>
                    </a:lnTo>
                    <a:lnTo>
                      <a:pt x="0" y="535"/>
                    </a:lnTo>
                    <a:lnTo>
                      <a:pt x="5" y="624"/>
                    </a:lnTo>
                    <a:lnTo>
                      <a:pt x="5" y="709"/>
                    </a:lnTo>
                    <a:lnTo>
                      <a:pt x="29" y="810"/>
                    </a:lnTo>
                    <a:lnTo>
                      <a:pt x="70" y="810"/>
                    </a:lnTo>
                    <a:lnTo>
                      <a:pt x="111" y="821"/>
                    </a:lnTo>
                    <a:lnTo>
                      <a:pt x="134" y="832"/>
                    </a:lnTo>
                    <a:lnTo>
                      <a:pt x="157" y="860"/>
                    </a:lnTo>
                    <a:lnTo>
                      <a:pt x="157" y="889"/>
                    </a:lnTo>
                    <a:lnTo>
                      <a:pt x="157" y="933"/>
                    </a:lnTo>
                    <a:lnTo>
                      <a:pt x="151" y="984"/>
                    </a:lnTo>
                    <a:lnTo>
                      <a:pt x="145" y="1057"/>
                    </a:lnTo>
                    <a:lnTo>
                      <a:pt x="139" y="1085"/>
                    </a:lnTo>
                    <a:lnTo>
                      <a:pt x="145" y="1119"/>
                    </a:lnTo>
                    <a:lnTo>
                      <a:pt x="162" y="1141"/>
                    </a:lnTo>
                    <a:lnTo>
                      <a:pt x="187" y="1158"/>
                    </a:lnTo>
                    <a:lnTo>
                      <a:pt x="203" y="1158"/>
                    </a:lnTo>
                    <a:lnTo>
                      <a:pt x="233" y="1153"/>
                    </a:lnTo>
                    <a:lnTo>
                      <a:pt x="256" y="1131"/>
                    </a:lnTo>
                    <a:lnTo>
                      <a:pt x="279" y="1097"/>
                    </a:lnTo>
                    <a:lnTo>
                      <a:pt x="302" y="972"/>
                    </a:lnTo>
                    <a:lnTo>
                      <a:pt x="314" y="844"/>
                    </a:lnTo>
                    <a:lnTo>
                      <a:pt x="308" y="703"/>
                    </a:lnTo>
                    <a:lnTo>
                      <a:pt x="302" y="568"/>
                    </a:lnTo>
                    <a:lnTo>
                      <a:pt x="285" y="422"/>
                    </a:lnTo>
                    <a:lnTo>
                      <a:pt x="285" y="287"/>
                    </a:lnTo>
                    <a:lnTo>
                      <a:pt x="296" y="163"/>
                    </a:lnTo>
                    <a:lnTo>
                      <a:pt x="331" y="62"/>
                    </a:lnTo>
                    <a:lnTo>
                      <a:pt x="326" y="45"/>
                    </a:lnTo>
                    <a:lnTo>
                      <a:pt x="337" y="23"/>
                    </a:lnTo>
                    <a:lnTo>
                      <a:pt x="337" y="0"/>
                    </a:lnTo>
                    <a:lnTo>
                      <a:pt x="308" y="0"/>
                    </a:lnTo>
                    <a:close/>
                  </a:path>
                </a:pathLst>
              </a:custGeom>
              <a:solidFill>
                <a:srgbClr val="f3f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10880" y="4131000"/>
                <a:ext cx="99720" cy="278640"/>
              </a:xfrm>
              <a:custGeom>
                <a:avLst/>
                <a:gdLst/>
                <a:ahLst/>
                <a:rect l="l" t="t" r="r" b="b"/>
                <a:pathLst>
                  <a:path w="501" h="1366">
                    <a:moveTo>
                      <a:pt x="151" y="0"/>
                    </a:moveTo>
                    <a:lnTo>
                      <a:pt x="81" y="135"/>
                    </a:lnTo>
                    <a:lnTo>
                      <a:pt x="30" y="309"/>
                    </a:lnTo>
                    <a:lnTo>
                      <a:pt x="0" y="500"/>
                    </a:lnTo>
                    <a:lnTo>
                      <a:pt x="0" y="703"/>
                    </a:lnTo>
                    <a:lnTo>
                      <a:pt x="18" y="889"/>
                    </a:lnTo>
                    <a:lnTo>
                      <a:pt x="76" y="1063"/>
                    </a:lnTo>
                    <a:lnTo>
                      <a:pt x="164" y="1198"/>
                    </a:lnTo>
                    <a:lnTo>
                      <a:pt x="285" y="1305"/>
                    </a:lnTo>
                    <a:lnTo>
                      <a:pt x="314" y="1316"/>
                    </a:lnTo>
                    <a:lnTo>
                      <a:pt x="349" y="1333"/>
                    </a:lnTo>
                    <a:lnTo>
                      <a:pt x="384" y="1350"/>
                    </a:lnTo>
                    <a:lnTo>
                      <a:pt x="418" y="1366"/>
                    </a:lnTo>
                    <a:lnTo>
                      <a:pt x="418" y="1350"/>
                    </a:lnTo>
                    <a:lnTo>
                      <a:pt x="418" y="1339"/>
                    </a:lnTo>
                    <a:lnTo>
                      <a:pt x="418" y="1322"/>
                    </a:lnTo>
                    <a:lnTo>
                      <a:pt x="418" y="1316"/>
                    </a:lnTo>
                    <a:lnTo>
                      <a:pt x="407" y="1231"/>
                    </a:lnTo>
                    <a:lnTo>
                      <a:pt x="395" y="1170"/>
                    </a:lnTo>
                    <a:lnTo>
                      <a:pt x="372" y="1113"/>
                    </a:lnTo>
                    <a:lnTo>
                      <a:pt x="355" y="1079"/>
                    </a:lnTo>
                    <a:lnTo>
                      <a:pt x="326" y="1040"/>
                    </a:lnTo>
                    <a:lnTo>
                      <a:pt x="296" y="1007"/>
                    </a:lnTo>
                    <a:lnTo>
                      <a:pt x="268" y="968"/>
                    </a:lnTo>
                    <a:lnTo>
                      <a:pt x="250" y="929"/>
                    </a:lnTo>
                    <a:lnTo>
                      <a:pt x="233" y="889"/>
                    </a:lnTo>
                    <a:lnTo>
                      <a:pt x="233" y="855"/>
                    </a:lnTo>
                    <a:lnTo>
                      <a:pt x="233" y="816"/>
                    </a:lnTo>
                    <a:lnTo>
                      <a:pt x="233" y="777"/>
                    </a:lnTo>
                    <a:lnTo>
                      <a:pt x="227" y="737"/>
                    </a:lnTo>
                    <a:lnTo>
                      <a:pt x="227" y="698"/>
                    </a:lnTo>
                    <a:lnTo>
                      <a:pt x="227" y="659"/>
                    </a:lnTo>
                    <a:lnTo>
                      <a:pt x="233" y="608"/>
                    </a:lnTo>
                    <a:lnTo>
                      <a:pt x="227" y="591"/>
                    </a:lnTo>
                    <a:lnTo>
                      <a:pt x="222" y="596"/>
                    </a:lnTo>
                    <a:lnTo>
                      <a:pt x="204" y="557"/>
                    </a:lnTo>
                    <a:lnTo>
                      <a:pt x="204" y="529"/>
                    </a:lnTo>
                    <a:lnTo>
                      <a:pt x="198" y="500"/>
                    </a:lnTo>
                    <a:lnTo>
                      <a:pt x="204" y="483"/>
                    </a:lnTo>
                    <a:lnTo>
                      <a:pt x="227" y="451"/>
                    </a:lnTo>
                    <a:lnTo>
                      <a:pt x="273" y="417"/>
                    </a:lnTo>
                    <a:lnTo>
                      <a:pt x="285" y="507"/>
                    </a:lnTo>
                    <a:lnTo>
                      <a:pt x="296" y="596"/>
                    </a:lnTo>
                    <a:lnTo>
                      <a:pt x="303" y="681"/>
                    </a:lnTo>
                    <a:lnTo>
                      <a:pt x="319" y="765"/>
                    </a:lnTo>
                    <a:lnTo>
                      <a:pt x="332" y="838"/>
                    </a:lnTo>
                    <a:lnTo>
                      <a:pt x="361" y="912"/>
                    </a:lnTo>
                    <a:lnTo>
                      <a:pt x="402" y="978"/>
                    </a:lnTo>
                    <a:lnTo>
                      <a:pt x="460" y="1046"/>
                    </a:lnTo>
                    <a:lnTo>
                      <a:pt x="453" y="985"/>
                    </a:lnTo>
                    <a:lnTo>
                      <a:pt x="448" y="922"/>
                    </a:lnTo>
                    <a:lnTo>
                      <a:pt x="436" y="855"/>
                    </a:lnTo>
                    <a:lnTo>
                      <a:pt x="436" y="794"/>
                    </a:lnTo>
                    <a:lnTo>
                      <a:pt x="430" y="726"/>
                    </a:lnTo>
                    <a:lnTo>
                      <a:pt x="430" y="664"/>
                    </a:lnTo>
                    <a:lnTo>
                      <a:pt x="430" y="596"/>
                    </a:lnTo>
                    <a:lnTo>
                      <a:pt x="448" y="546"/>
                    </a:lnTo>
                    <a:lnTo>
                      <a:pt x="471" y="512"/>
                    </a:lnTo>
                    <a:lnTo>
                      <a:pt x="501" y="478"/>
                    </a:lnTo>
                    <a:lnTo>
                      <a:pt x="489" y="444"/>
                    </a:lnTo>
                    <a:lnTo>
                      <a:pt x="460" y="389"/>
                    </a:lnTo>
                    <a:lnTo>
                      <a:pt x="425" y="309"/>
                    </a:lnTo>
                    <a:lnTo>
                      <a:pt x="384" y="237"/>
                    </a:lnTo>
                    <a:lnTo>
                      <a:pt x="332" y="152"/>
                    </a:lnTo>
                    <a:lnTo>
                      <a:pt x="291" y="85"/>
                    </a:lnTo>
                    <a:lnTo>
                      <a:pt x="262" y="34"/>
                    </a:lnTo>
                    <a:lnTo>
                      <a:pt x="250" y="17"/>
                    </a:lnTo>
                    <a:lnTo>
                      <a:pt x="222" y="6"/>
                    </a:lnTo>
                    <a:lnTo>
                      <a:pt x="198" y="0"/>
                    </a:lnTo>
                    <a:lnTo>
                      <a:pt x="169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ba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16760" y="4136400"/>
                <a:ext cx="154800" cy="480600"/>
              </a:xfrm>
              <a:custGeom>
                <a:avLst/>
                <a:gdLst/>
                <a:ahLst/>
                <a:rect l="l" t="t" r="r" b="b"/>
                <a:pathLst>
                  <a:path w="773" h="2355">
                    <a:moveTo>
                      <a:pt x="494" y="0"/>
                    </a:moveTo>
                    <a:lnTo>
                      <a:pt x="448" y="0"/>
                    </a:lnTo>
                    <a:lnTo>
                      <a:pt x="407" y="0"/>
                    </a:lnTo>
                    <a:lnTo>
                      <a:pt x="372" y="5"/>
                    </a:lnTo>
                    <a:lnTo>
                      <a:pt x="343" y="22"/>
                    </a:lnTo>
                    <a:lnTo>
                      <a:pt x="308" y="34"/>
                    </a:lnTo>
                    <a:lnTo>
                      <a:pt x="291" y="56"/>
                    </a:lnTo>
                    <a:lnTo>
                      <a:pt x="268" y="78"/>
                    </a:lnTo>
                    <a:lnTo>
                      <a:pt x="261" y="112"/>
                    </a:lnTo>
                    <a:lnTo>
                      <a:pt x="238" y="202"/>
                    </a:lnTo>
                    <a:lnTo>
                      <a:pt x="227" y="314"/>
                    </a:lnTo>
                    <a:lnTo>
                      <a:pt x="227" y="432"/>
                    </a:lnTo>
                    <a:lnTo>
                      <a:pt x="233" y="562"/>
                    </a:lnTo>
                    <a:lnTo>
                      <a:pt x="233" y="685"/>
                    </a:lnTo>
                    <a:lnTo>
                      <a:pt x="238" y="809"/>
                    </a:lnTo>
                    <a:lnTo>
                      <a:pt x="233" y="927"/>
                    </a:lnTo>
                    <a:lnTo>
                      <a:pt x="227" y="1028"/>
                    </a:lnTo>
                    <a:lnTo>
                      <a:pt x="209" y="1062"/>
                    </a:lnTo>
                    <a:lnTo>
                      <a:pt x="192" y="1096"/>
                    </a:lnTo>
                    <a:lnTo>
                      <a:pt x="163" y="1124"/>
                    </a:lnTo>
                    <a:lnTo>
                      <a:pt x="139" y="1158"/>
                    </a:lnTo>
                    <a:lnTo>
                      <a:pt x="111" y="1180"/>
                    </a:lnTo>
                    <a:lnTo>
                      <a:pt x="88" y="1214"/>
                    </a:lnTo>
                    <a:lnTo>
                      <a:pt x="65" y="1242"/>
                    </a:lnTo>
                    <a:lnTo>
                      <a:pt x="52" y="1276"/>
                    </a:lnTo>
                    <a:lnTo>
                      <a:pt x="35" y="1337"/>
                    </a:lnTo>
                    <a:lnTo>
                      <a:pt x="17" y="1445"/>
                    </a:lnTo>
                    <a:lnTo>
                      <a:pt x="6" y="1574"/>
                    </a:lnTo>
                    <a:lnTo>
                      <a:pt x="6" y="1726"/>
                    </a:lnTo>
                    <a:lnTo>
                      <a:pt x="0" y="1872"/>
                    </a:lnTo>
                    <a:lnTo>
                      <a:pt x="0" y="2018"/>
                    </a:lnTo>
                    <a:lnTo>
                      <a:pt x="6" y="2136"/>
                    </a:lnTo>
                    <a:lnTo>
                      <a:pt x="23" y="2226"/>
                    </a:lnTo>
                    <a:lnTo>
                      <a:pt x="40" y="2271"/>
                    </a:lnTo>
                    <a:lnTo>
                      <a:pt x="75" y="2305"/>
                    </a:lnTo>
                    <a:lnTo>
                      <a:pt x="122" y="2322"/>
                    </a:lnTo>
                    <a:lnTo>
                      <a:pt x="186" y="2344"/>
                    </a:lnTo>
                    <a:lnTo>
                      <a:pt x="250" y="2344"/>
                    </a:lnTo>
                    <a:lnTo>
                      <a:pt x="319" y="2350"/>
                    </a:lnTo>
                    <a:lnTo>
                      <a:pt x="390" y="2350"/>
                    </a:lnTo>
                    <a:lnTo>
                      <a:pt x="465" y="2355"/>
                    </a:lnTo>
                    <a:lnTo>
                      <a:pt x="453" y="2305"/>
                    </a:lnTo>
                    <a:lnTo>
                      <a:pt x="453" y="2259"/>
                    </a:lnTo>
                    <a:lnTo>
                      <a:pt x="442" y="2215"/>
                    </a:lnTo>
                    <a:lnTo>
                      <a:pt x="442" y="2170"/>
                    </a:lnTo>
                    <a:lnTo>
                      <a:pt x="436" y="2114"/>
                    </a:lnTo>
                    <a:lnTo>
                      <a:pt x="430" y="2063"/>
                    </a:lnTo>
                    <a:lnTo>
                      <a:pt x="425" y="2007"/>
                    </a:lnTo>
                    <a:lnTo>
                      <a:pt x="425" y="1957"/>
                    </a:lnTo>
                    <a:lnTo>
                      <a:pt x="418" y="1894"/>
                    </a:lnTo>
                    <a:lnTo>
                      <a:pt x="418" y="1849"/>
                    </a:lnTo>
                    <a:lnTo>
                      <a:pt x="418" y="1815"/>
                    </a:lnTo>
                    <a:lnTo>
                      <a:pt x="430" y="1793"/>
                    </a:lnTo>
                    <a:lnTo>
                      <a:pt x="436" y="1771"/>
                    </a:lnTo>
                    <a:lnTo>
                      <a:pt x="459" y="1759"/>
                    </a:lnTo>
                    <a:lnTo>
                      <a:pt x="483" y="1754"/>
                    </a:lnTo>
                    <a:lnTo>
                      <a:pt x="517" y="1754"/>
                    </a:lnTo>
                    <a:lnTo>
                      <a:pt x="511" y="1822"/>
                    </a:lnTo>
                    <a:lnTo>
                      <a:pt x="511" y="1900"/>
                    </a:lnTo>
                    <a:lnTo>
                      <a:pt x="511" y="1979"/>
                    </a:lnTo>
                    <a:lnTo>
                      <a:pt x="523" y="2057"/>
                    </a:lnTo>
                    <a:lnTo>
                      <a:pt x="523" y="2124"/>
                    </a:lnTo>
                    <a:lnTo>
                      <a:pt x="534" y="2198"/>
                    </a:lnTo>
                    <a:lnTo>
                      <a:pt x="534" y="2266"/>
                    </a:lnTo>
                    <a:lnTo>
                      <a:pt x="547" y="2327"/>
                    </a:lnTo>
                    <a:lnTo>
                      <a:pt x="575" y="2327"/>
                    </a:lnTo>
                    <a:lnTo>
                      <a:pt x="610" y="2327"/>
                    </a:lnTo>
                    <a:lnTo>
                      <a:pt x="645" y="2327"/>
                    </a:lnTo>
                    <a:lnTo>
                      <a:pt x="680" y="2327"/>
                    </a:lnTo>
                    <a:lnTo>
                      <a:pt x="680" y="2259"/>
                    </a:lnTo>
                    <a:lnTo>
                      <a:pt x="691" y="2198"/>
                    </a:lnTo>
                    <a:lnTo>
                      <a:pt x="709" y="2131"/>
                    </a:lnTo>
                    <a:lnTo>
                      <a:pt x="727" y="2063"/>
                    </a:lnTo>
                    <a:lnTo>
                      <a:pt x="739" y="1996"/>
                    </a:lnTo>
                    <a:lnTo>
                      <a:pt x="750" y="1928"/>
                    </a:lnTo>
                    <a:lnTo>
                      <a:pt x="762" y="1866"/>
                    </a:lnTo>
                    <a:lnTo>
                      <a:pt x="773" y="1815"/>
                    </a:lnTo>
                    <a:lnTo>
                      <a:pt x="767" y="1765"/>
                    </a:lnTo>
                    <a:lnTo>
                      <a:pt x="762" y="1714"/>
                    </a:lnTo>
                    <a:lnTo>
                      <a:pt x="750" y="1663"/>
                    </a:lnTo>
                    <a:lnTo>
                      <a:pt x="739" y="1619"/>
                    </a:lnTo>
                    <a:lnTo>
                      <a:pt x="721" y="1568"/>
                    </a:lnTo>
                    <a:lnTo>
                      <a:pt x="709" y="1523"/>
                    </a:lnTo>
                    <a:lnTo>
                      <a:pt x="691" y="1479"/>
                    </a:lnTo>
                    <a:lnTo>
                      <a:pt x="691" y="1439"/>
                    </a:lnTo>
                    <a:lnTo>
                      <a:pt x="674" y="1344"/>
                    </a:lnTo>
                    <a:lnTo>
                      <a:pt x="663" y="1253"/>
                    </a:lnTo>
                    <a:lnTo>
                      <a:pt x="651" y="1158"/>
                    </a:lnTo>
                    <a:lnTo>
                      <a:pt x="651" y="1067"/>
                    </a:lnTo>
                    <a:lnTo>
                      <a:pt x="640" y="972"/>
                    </a:lnTo>
                    <a:lnTo>
                      <a:pt x="633" y="876"/>
                    </a:lnTo>
                    <a:lnTo>
                      <a:pt x="628" y="781"/>
                    </a:lnTo>
                    <a:lnTo>
                      <a:pt x="622" y="691"/>
                    </a:lnTo>
                    <a:lnTo>
                      <a:pt x="610" y="613"/>
                    </a:lnTo>
                    <a:lnTo>
                      <a:pt x="610" y="534"/>
                    </a:lnTo>
                    <a:lnTo>
                      <a:pt x="605" y="449"/>
                    </a:lnTo>
                    <a:lnTo>
                      <a:pt x="605" y="365"/>
                    </a:lnTo>
                    <a:lnTo>
                      <a:pt x="605" y="275"/>
                    </a:lnTo>
                    <a:lnTo>
                      <a:pt x="605" y="185"/>
                    </a:lnTo>
                    <a:lnTo>
                      <a:pt x="605" y="101"/>
                    </a:lnTo>
                    <a:lnTo>
                      <a:pt x="610" y="22"/>
                    </a:lnTo>
                    <a:lnTo>
                      <a:pt x="575" y="10"/>
                    </a:lnTo>
                    <a:lnTo>
                      <a:pt x="552" y="5"/>
                    </a:lnTo>
                    <a:lnTo>
                      <a:pt x="523" y="0"/>
                    </a:lnTo>
                    <a:lnTo>
                      <a:pt x="494" y="0"/>
                    </a:lnTo>
                    <a:close/>
                  </a:path>
                </a:pathLst>
              </a:custGeom>
              <a:solidFill>
                <a:srgbClr val="8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47440" y="4138560"/>
                <a:ext cx="177840" cy="560520"/>
              </a:xfrm>
              <a:custGeom>
                <a:avLst/>
                <a:gdLst/>
                <a:ahLst/>
                <a:rect l="l" t="t" r="r" b="b"/>
                <a:pathLst>
                  <a:path w="890" h="2744">
                    <a:moveTo>
                      <a:pt x="367" y="0"/>
                    </a:moveTo>
                    <a:lnTo>
                      <a:pt x="326" y="7"/>
                    </a:lnTo>
                    <a:lnTo>
                      <a:pt x="286" y="12"/>
                    </a:lnTo>
                    <a:lnTo>
                      <a:pt x="245" y="17"/>
                    </a:lnTo>
                    <a:lnTo>
                      <a:pt x="205" y="24"/>
                    </a:lnTo>
                    <a:lnTo>
                      <a:pt x="157" y="24"/>
                    </a:lnTo>
                    <a:lnTo>
                      <a:pt x="117" y="29"/>
                    </a:lnTo>
                    <a:lnTo>
                      <a:pt x="71" y="34"/>
                    </a:lnTo>
                    <a:lnTo>
                      <a:pt x="35" y="40"/>
                    </a:lnTo>
                    <a:lnTo>
                      <a:pt x="12" y="220"/>
                    </a:lnTo>
                    <a:lnTo>
                      <a:pt x="7" y="412"/>
                    </a:lnTo>
                    <a:lnTo>
                      <a:pt x="0" y="613"/>
                    </a:lnTo>
                    <a:lnTo>
                      <a:pt x="12" y="816"/>
                    </a:lnTo>
                    <a:lnTo>
                      <a:pt x="24" y="1007"/>
                    </a:lnTo>
                    <a:lnTo>
                      <a:pt x="53" y="1204"/>
                    </a:lnTo>
                    <a:lnTo>
                      <a:pt x="83" y="1390"/>
                    </a:lnTo>
                    <a:lnTo>
                      <a:pt x="129" y="1564"/>
                    </a:lnTo>
                    <a:lnTo>
                      <a:pt x="157" y="1542"/>
                    </a:lnTo>
                    <a:lnTo>
                      <a:pt x="175" y="1535"/>
                    </a:lnTo>
                    <a:lnTo>
                      <a:pt x="192" y="1542"/>
                    </a:lnTo>
                    <a:lnTo>
                      <a:pt x="233" y="1564"/>
                    </a:lnTo>
                    <a:lnTo>
                      <a:pt x="210" y="1626"/>
                    </a:lnTo>
                    <a:lnTo>
                      <a:pt x="187" y="1738"/>
                    </a:lnTo>
                    <a:lnTo>
                      <a:pt x="152" y="1873"/>
                    </a:lnTo>
                    <a:lnTo>
                      <a:pt x="123" y="2030"/>
                    </a:lnTo>
                    <a:lnTo>
                      <a:pt x="88" y="2177"/>
                    </a:lnTo>
                    <a:lnTo>
                      <a:pt x="76" y="2317"/>
                    </a:lnTo>
                    <a:lnTo>
                      <a:pt x="71" y="2425"/>
                    </a:lnTo>
                    <a:lnTo>
                      <a:pt x="88" y="2497"/>
                    </a:lnTo>
                    <a:lnTo>
                      <a:pt x="111" y="2514"/>
                    </a:lnTo>
                    <a:lnTo>
                      <a:pt x="164" y="2548"/>
                    </a:lnTo>
                    <a:lnTo>
                      <a:pt x="228" y="2582"/>
                    </a:lnTo>
                    <a:lnTo>
                      <a:pt x="309" y="2615"/>
                    </a:lnTo>
                    <a:lnTo>
                      <a:pt x="385" y="2649"/>
                    </a:lnTo>
                    <a:lnTo>
                      <a:pt x="466" y="2683"/>
                    </a:lnTo>
                    <a:lnTo>
                      <a:pt x="524" y="2710"/>
                    </a:lnTo>
                    <a:lnTo>
                      <a:pt x="570" y="2744"/>
                    </a:lnTo>
                    <a:lnTo>
                      <a:pt x="588" y="2710"/>
                    </a:lnTo>
                    <a:lnTo>
                      <a:pt x="611" y="2677"/>
                    </a:lnTo>
                    <a:lnTo>
                      <a:pt x="634" y="2649"/>
                    </a:lnTo>
                    <a:lnTo>
                      <a:pt x="657" y="2621"/>
                    </a:lnTo>
                    <a:lnTo>
                      <a:pt x="681" y="2587"/>
                    </a:lnTo>
                    <a:lnTo>
                      <a:pt x="704" y="2553"/>
                    </a:lnTo>
                    <a:lnTo>
                      <a:pt x="727" y="2526"/>
                    </a:lnTo>
                    <a:lnTo>
                      <a:pt x="756" y="2497"/>
                    </a:lnTo>
                    <a:lnTo>
                      <a:pt x="785" y="2447"/>
                    </a:lnTo>
                    <a:lnTo>
                      <a:pt x="814" y="2401"/>
                    </a:lnTo>
                    <a:lnTo>
                      <a:pt x="838" y="2357"/>
                    </a:lnTo>
                    <a:lnTo>
                      <a:pt x="867" y="2312"/>
                    </a:lnTo>
                    <a:lnTo>
                      <a:pt x="879" y="2256"/>
                    </a:lnTo>
                    <a:lnTo>
                      <a:pt x="890" y="2205"/>
                    </a:lnTo>
                    <a:lnTo>
                      <a:pt x="890" y="2148"/>
                    </a:lnTo>
                    <a:lnTo>
                      <a:pt x="890" y="2098"/>
                    </a:lnTo>
                    <a:lnTo>
                      <a:pt x="867" y="2025"/>
                    </a:lnTo>
                    <a:lnTo>
                      <a:pt x="849" y="1974"/>
                    </a:lnTo>
                    <a:lnTo>
                      <a:pt x="821" y="1923"/>
                    </a:lnTo>
                    <a:lnTo>
                      <a:pt x="797" y="1879"/>
                    </a:lnTo>
                    <a:lnTo>
                      <a:pt x="762" y="1834"/>
                    </a:lnTo>
                    <a:lnTo>
                      <a:pt x="733" y="1788"/>
                    </a:lnTo>
                    <a:lnTo>
                      <a:pt x="704" y="1738"/>
                    </a:lnTo>
                    <a:lnTo>
                      <a:pt x="687" y="1687"/>
                    </a:lnTo>
                    <a:lnTo>
                      <a:pt x="657" y="1597"/>
                    </a:lnTo>
                    <a:lnTo>
                      <a:pt x="640" y="1513"/>
                    </a:lnTo>
                    <a:lnTo>
                      <a:pt x="628" y="1423"/>
                    </a:lnTo>
                    <a:lnTo>
                      <a:pt x="628" y="1334"/>
                    </a:lnTo>
                    <a:lnTo>
                      <a:pt x="628" y="1238"/>
                    </a:lnTo>
                    <a:lnTo>
                      <a:pt x="628" y="1142"/>
                    </a:lnTo>
                    <a:lnTo>
                      <a:pt x="628" y="1040"/>
                    </a:lnTo>
                    <a:lnTo>
                      <a:pt x="634" y="946"/>
                    </a:lnTo>
                    <a:lnTo>
                      <a:pt x="535" y="929"/>
                    </a:lnTo>
                    <a:lnTo>
                      <a:pt x="460" y="917"/>
                    </a:lnTo>
                    <a:lnTo>
                      <a:pt x="390" y="906"/>
                    </a:lnTo>
                    <a:lnTo>
                      <a:pt x="337" y="895"/>
                    </a:lnTo>
                    <a:lnTo>
                      <a:pt x="286" y="866"/>
                    </a:lnTo>
                    <a:lnTo>
                      <a:pt x="245" y="833"/>
                    </a:lnTo>
                    <a:lnTo>
                      <a:pt x="210" y="777"/>
                    </a:lnTo>
                    <a:lnTo>
                      <a:pt x="180" y="709"/>
                    </a:lnTo>
                    <a:lnTo>
                      <a:pt x="187" y="698"/>
                    </a:lnTo>
                    <a:lnTo>
                      <a:pt x="205" y="687"/>
                    </a:lnTo>
                    <a:lnTo>
                      <a:pt x="222" y="675"/>
                    </a:lnTo>
                    <a:lnTo>
                      <a:pt x="233" y="670"/>
                    </a:lnTo>
                    <a:lnTo>
                      <a:pt x="251" y="726"/>
                    </a:lnTo>
                    <a:lnTo>
                      <a:pt x="286" y="777"/>
                    </a:lnTo>
                    <a:lnTo>
                      <a:pt x="326" y="810"/>
                    </a:lnTo>
                    <a:lnTo>
                      <a:pt x="378" y="833"/>
                    </a:lnTo>
                    <a:lnTo>
                      <a:pt x="431" y="844"/>
                    </a:lnTo>
                    <a:lnTo>
                      <a:pt x="501" y="856"/>
                    </a:lnTo>
                    <a:lnTo>
                      <a:pt x="570" y="861"/>
                    </a:lnTo>
                    <a:lnTo>
                      <a:pt x="651" y="878"/>
                    </a:lnTo>
                    <a:lnTo>
                      <a:pt x="640" y="844"/>
                    </a:lnTo>
                    <a:lnTo>
                      <a:pt x="634" y="810"/>
                    </a:lnTo>
                    <a:lnTo>
                      <a:pt x="623" y="777"/>
                    </a:lnTo>
                    <a:lnTo>
                      <a:pt x="623" y="748"/>
                    </a:lnTo>
                    <a:lnTo>
                      <a:pt x="646" y="738"/>
                    </a:lnTo>
                    <a:lnTo>
                      <a:pt x="687" y="721"/>
                    </a:lnTo>
                    <a:lnTo>
                      <a:pt x="722" y="698"/>
                    </a:lnTo>
                    <a:lnTo>
                      <a:pt x="739" y="692"/>
                    </a:lnTo>
                    <a:lnTo>
                      <a:pt x="739" y="670"/>
                    </a:lnTo>
                    <a:lnTo>
                      <a:pt x="727" y="653"/>
                    </a:lnTo>
                    <a:lnTo>
                      <a:pt x="710" y="642"/>
                    </a:lnTo>
                    <a:lnTo>
                      <a:pt x="681" y="630"/>
                    </a:lnTo>
                    <a:lnTo>
                      <a:pt x="651" y="620"/>
                    </a:lnTo>
                    <a:lnTo>
                      <a:pt x="616" y="608"/>
                    </a:lnTo>
                    <a:lnTo>
                      <a:pt x="588" y="603"/>
                    </a:lnTo>
                    <a:lnTo>
                      <a:pt x="565" y="596"/>
                    </a:lnTo>
                    <a:lnTo>
                      <a:pt x="553" y="596"/>
                    </a:lnTo>
                    <a:lnTo>
                      <a:pt x="512" y="574"/>
                    </a:lnTo>
                    <a:lnTo>
                      <a:pt x="507" y="574"/>
                    </a:lnTo>
                    <a:lnTo>
                      <a:pt x="512" y="579"/>
                    </a:lnTo>
                    <a:lnTo>
                      <a:pt x="535" y="591"/>
                    </a:lnTo>
                    <a:lnTo>
                      <a:pt x="553" y="596"/>
                    </a:lnTo>
                    <a:lnTo>
                      <a:pt x="565" y="603"/>
                    </a:lnTo>
                    <a:lnTo>
                      <a:pt x="559" y="596"/>
                    </a:lnTo>
                    <a:lnTo>
                      <a:pt x="542" y="579"/>
                    </a:lnTo>
                    <a:lnTo>
                      <a:pt x="535" y="574"/>
                    </a:lnTo>
                    <a:lnTo>
                      <a:pt x="530" y="569"/>
                    </a:lnTo>
                    <a:lnTo>
                      <a:pt x="494" y="540"/>
                    </a:lnTo>
                    <a:lnTo>
                      <a:pt x="448" y="507"/>
                    </a:lnTo>
                    <a:lnTo>
                      <a:pt x="396" y="468"/>
                    </a:lnTo>
                    <a:lnTo>
                      <a:pt x="349" y="429"/>
                    </a:lnTo>
                    <a:lnTo>
                      <a:pt x="297" y="383"/>
                    </a:lnTo>
                    <a:lnTo>
                      <a:pt x="263" y="338"/>
                    </a:lnTo>
                    <a:lnTo>
                      <a:pt x="233" y="294"/>
                    </a:lnTo>
                    <a:lnTo>
                      <a:pt x="233" y="260"/>
                    </a:lnTo>
                    <a:lnTo>
                      <a:pt x="245" y="237"/>
                    </a:lnTo>
                    <a:lnTo>
                      <a:pt x="251" y="220"/>
                    </a:lnTo>
                    <a:lnTo>
                      <a:pt x="286" y="231"/>
                    </a:lnTo>
                    <a:lnTo>
                      <a:pt x="320" y="260"/>
                    </a:lnTo>
                    <a:lnTo>
                      <a:pt x="355" y="294"/>
                    </a:lnTo>
                    <a:lnTo>
                      <a:pt x="396" y="327"/>
                    </a:lnTo>
                    <a:lnTo>
                      <a:pt x="431" y="361"/>
                    </a:lnTo>
                    <a:lnTo>
                      <a:pt x="471" y="395"/>
                    </a:lnTo>
                    <a:lnTo>
                      <a:pt x="512" y="429"/>
                    </a:lnTo>
                    <a:lnTo>
                      <a:pt x="553" y="461"/>
                    </a:lnTo>
                    <a:lnTo>
                      <a:pt x="535" y="412"/>
                    </a:lnTo>
                    <a:lnTo>
                      <a:pt x="535" y="378"/>
                    </a:lnTo>
                    <a:lnTo>
                      <a:pt x="524" y="338"/>
                    </a:lnTo>
                    <a:lnTo>
                      <a:pt x="517" y="299"/>
                    </a:lnTo>
                    <a:lnTo>
                      <a:pt x="494" y="254"/>
                    </a:lnTo>
                    <a:lnTo>
                      <a:pt x="477" y="214"/>
                    </a:lnTo>
                    <a:lnTo>
                      <a:pt x="460" y="175"/>
                    </a:lnTo>
                    <a:lnTo>
                      <a:pt x="443" y="142"/>
                    </a:lnTo>
                    <a:lnTo>
                      <a:pt x="419" y="102"/>
                    </a:lnTo>
                    <a:lnTo>
                      <a:pt x="402" y="68"/>
                    </a:lnTo>
                    <a:lnTo>
                      <a:pt x="385" y="34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66f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51440" y="4147560"/>
                <a:ext cx="226800" cy="425520"/>
              </a:xfrm>
              <a:custGeom>
                <a:avLst/>
                <a:gdLst/>
                <a:ahLst/>
                <a:rect l="l" t="t" r="r" b="b"/>
                <a:pathLst>
                  <a:path w="1134" h="2086">
                    <a:moveTo>
                      <a:pt x="401" y="0"/>
                    </a:moveTo>
                    <a:lnTo>
                      <a:pt x="378" y="85"/>
                    </a:lnTo>
                    <a:lnTo>
                      <a:pt x="343" y="158"/>
                    </a:lnTo>
                    <a:lnTo>
                      <a:pt x="302" y="225"/>
                    </a:lnTo>
                    <a:lnTo>
                      <a:pt x="256" y="293"/>
                    </a:lnTo>
                    <a:lnTo>
                      <a:pt x="204" y="349"/>
                    </a:lnTo>
                    <a:lnTo>
                      <a:pt x="157" y="411"/>
                    </a:lnTo>
                    <a:lnTo>
                      <a:pt x="110" y="478"/>
                    </a:lnTo>
                    <a:lnTo>
                      <a:pt x="82" y="556"/>
                    </a:lnTo>
                    <a:lnTo>
                      <a:pt x="53" y="647"/>
                    </a:lnTo>
                    <a:lnTo>
                      <a:pt x="36" y="776"/>
                    </a:lnTo>
                    <a:lnTo>
                      <a:pt x="18" y="939"/>
                    </a:lnTo>
                    <a:lnTo>
                      <a:pt x="11" y="1119"/>
                    </a:lnTo>
                    <a:lnTo>
                      <a:pt x="0" y="1299"/>
                    </a:lnTo>
                    <a:lnTo>
                      <a:pt x="0" y="1478"/>
                    </a:lnTo>
                    <a:lnTo>
                      <a:pt x="0" y="1642"/>
                    </a:lnTo>
                    <a:lnTo>
                      <a:pt x="0" y="1788"/>
                    </a:lnTo>
                    <a:lnTo>
                      <a:pt x="87" y="1811"/>
                    </a:lnTo>
                    <a:lnTo>
                      <a:pt x="181" y="1850"/>
                    </a:lnTo>
                    <a:lnTo>
                      <a:pt x="267" y="1883"/>
                    </a:lnTo>
                    <a:lnTo>
                      <a:pt x="355" y="1929"/>
                    </a:lnTo>
                    <a:lnTo>
                      <a:pt x="436" y="1968"/>
                    </a:lnTo>
                    <a:lnTo>
                      <a:pt x="523" y="2007"/>
                    </a:lnTo>
                    <a:lnTo>
                      <a:pt x="611" y="2047"/>
                    </a:lnTo>
                    <a:lnTo>
                      <a:pt x="710" y="2086"/>
                    </a:lnTo>
                    <a:lnTo>
                      <a:pt x="710" y="2052"/>
                    </a:lnTo>
                    <a:lnTo>
                      <a:pt x="715" y="2018"/>
                    </a:lnTo>
                    <a:lnTo>
                      <a:pt x="715" y="1979"/>
                    </a:lnTo>
                    <a:lnTo>
                      <a:pt x="721" y="1946"/>
                    </a:lnTo>
                    <a:lnTo>
                      <a:pt x="721" y="1907"/>
                    </a:lnTo>
                    <a:lnTo>
                      <a:pt x="726" y="1867"/>
                    </a:lnTo>
                    <a:lnTo>
                      <a:pt x="726" y="1828"/>
                    </a:lnTo>
                    <a:lnTo>
                      <a:pt x="733" y="1788"/>
                    </a:lnTo>
                    <a:lnTo>
                      <a:pt x="680" y="1760"/>
                    </a:lnTo>
                    <a:lnTo>
                      <a:pt x="645" y="1738"/>
                    </a:lnTo>
                    <a:lnTo>
                      <a:pt x="611" y="1709"/>
                    </a:lnTo>
                    <a:lnTo>
                      <a:pt x="581" y="1687"/>
                    </a:lnTo>
                    <a:lnTo>
                      <a:pt x="546" y="1659"/>
                    </a:lnTo>
                    <a:lnTo>
                      <a:pt x="518" y="1630"/>
                    </a:lnTo>
                    <a:lnTo>
                      <a:pt x="482" y="1603"/>
                    </a:lnTo>
                    <a:lnTo>
                      <a:pt x="454" y="1574"/>
                    </a:lnTo>
                    <a:lnTo>
                      <a:pt x="431" y="1557"/>
                    </a:lnTo>
                    <a:lnTo>
                      <a:pt x="407" y="1546"/>
                    </a:lnTo>
                    <a:lnTo>
                      <a:pt x="384" y="1535"/>
                    </a:lnTo>
                    <a:lnTo>
                      <a:pt x="373" y="1524"/>
                    </a:lnTo>
                    <a:lnTo>
                      <a:pt x="349" y="1429"/>
                    </a:lnTo>
                    <a:lnTo>
                      <a:pt x="332" y="1327"/>
                    </a:lnTo>
                    <a:lnTo>
                      <a:pt x="320" y="1220"/>
                    </a:lnTo>
                    <a:lnTo>
                      <a:pt x="320" y="1113"/>
                    </a:lnTo>
                    <a:lnTo>
                      <a:pt x="314" y="1000"/>
                    </a:lnTo>
                    <a:lnTo>
                      <a:pt x="314" y="899"/>
                    </a:lnTo>
                    <a:lnTo>
                      <a:pt x="308" y="799"/>
                    </a:lnTo>
                    <a:lnTo>
                      <a:pt x="308" y="720"/>
                    </a:lnTo>
                    <a:lnTo>
                      <a:pt x="308" y="708"/>
                    </a:lnTo>
                    <a:lnTo>
                      <a:pt x="308" y="681"/>
                    </a:lnTo>
                    <a:lnTo>
                      <a:pt x="308" y="647"/>
                    </a:lnTo>
                    <a:lnTo>
                      <a:pt x="308" y="619"/>
                    </a:lnTo>
                    <a:lnTo>
                      <a:pt x="361" y="590"/>
                    </a:lnTo>
                    <a:lnTo>
                      <a:pt x="366" y="691"/>
                    </a:lnTo>
                    <a:lnTo>
                      <a:pt x="378" y="793"/>
                    </a:lnTo>
                    <a:lnTo>
                      <a:pt x="389" y="899"/>
                    </a:lnTo>
                    <a:lnTo>
                      <a:pt x="401" y="1007"/>
                    </a:lnTo>
                    <a:lnTo>
                      <a:pt x="401" y="1102"/>
                    </a:lnTo>
                    <a:lnTo>
                      <a:pt x="413" y="1198"/>
                    </a:lnTo>
                    <a:lnTo>
                      <a:pt x="424" y="1287"/>
                    </a:lnTo>
                    <a:lnTo>
                      <a:pt x="442" y="1378"/>
                    </a:lnTo>
                    <a:lnTo>
                      <a:pt x="447" y="1422"/>
                    </a:lnTo>
                    <a:lnTo>
                      <a:pt x="459" y="1463"/>
                    </a:lnTo>
                    <a:lnTo>
                      <a:pt x="477" y="1495"/>
                    </a:lnTo>
                    <a:lnTo>
                      <a:pt x="495" y="1529"/>
                    </a:lnTo>
                    <a:lnTo>
                      <a:pt x="512" y="1552"/>
                    </a:lnTo>
                    <a:lnTo>
                      <a:pt x="541" y="1580"/>
                    </a:lnTo>
                    <a:lnTo>
                      <a:pt x="570" y="1603"/>
                    </a:lnTo>
                    <a:lnTo>
                      <a:pt x="604" y="1637"/>
                    </a:lnTo>
                    <a:lnTo>
                      <a:pt x="627" y="1653"/>
                    </a:lnTo>
                    <a:lnTo>
                      <a:pt x="657" y="1670"/>
                    </a:lnTo>
                    <a:lnTo>
                      <a:pt x="692" y="1676"/>
                    </a:lnTo>
                    <a:lnTo>
                      <a:pt x="726" y="1687"/>
                    </a:lnTo>
                    <a:lnTo>
                      <a:pt x="756" y="1687"/>
                    </a:lnTo>
                    <a:lnTo>
                      <a:pt x="797" y="1687"/>
                    </a:lnTo>
                    <a:lnTo>
                      <a:pt x="832" y="1681"/>
                    </a:lnTo>
                    <a:lnTo>
                      <a:pt x="883" y="1676"/>
                    </a:lnTo>
                    <a:lnTo>
                      <a:pt x="977" y="1647"/>
                    </a:lnTo>
                    <a:lnTo>
                      <a:pt x="1040" y="1625"/>
                    </a:lnTo>
                    <a:lnTo>
                      <a:pt x="1081" y="1597"/>
                    </a:lnTo>
                    <a:lnTo>
                      <a:pt x="1104" y="1569"/>
                    </a:lnTo>
                    <a:lnTo>
                      <a:pt x="1111" y="1524"/>
                    </a:lnTo>
                    <a:lnTo>
                      <a:pt x="1116" y="1468"/>
                    </a:lnTo>
                    <a:lnTo>
                      <a:pt x="1116" y="1395"/>
                    </a:lnTo>
                    <a:lnTo>
                      <a:pt x="1134" y="1304"/>
                    </a:lnTo>
                    <a:lnTo>
                      <a:pt x="1087" y="1311"/>
                    </a:lnTo>
                    <a:lnTo>
                      <a:pt x="1047" y="1321"/>
                    </a:lnTo>
                    <a:lnTo>
                      <a:pt x="1000" y="1327"/>
                    </a:lnTo>
                    <a:lnTo>
                      <a:pt x="959" y="1344"/>
                    </a:lnTo>
                    <a:lnTo>
                      <a:pt x="907" y="1350"/>
                    </a:lnTo>
                    <a:lnTo>
                      <a:pt x="866" y="1355"/>
                    </a:lnTo>
                    <a:lnTo>
                      <a:pt x="814" y="1361"/>
                    </a:lnTo>
                    <a:lnTo>
                      <a:pt x="773" y="1367"/>
                    </a:lnTo>
                    <a:lnTo>
                      <a:pt x="773" y="1260"/>
                    </a:lnTo>
                    <a:lnTo>
                      <a:pt x="779" y="1125"/>
                    </a:lnTo>
                    <a:lnTo>
                      <a:pt x="784" y="967"/>
                    </a:lnTo>
                    <a:lnTo>
                      <a:pt x="797" y="810"/>
                    </a:lnTo>
                    <a:lnTo>
                      <a:pt x="797" y="647"/>
                    </a:lnTo>
                    <a:lnTo>
                      <a:pt x="802" y="506"/>
                    </a:lnTo>
                    <a:lnTo>
                      <a:pt x="791" y="394"/>
                    </a:lnTo>
                    <a:lnTo>
                      <a:pt x="773" y="338"/>
                    </a:lnTo>
                    <a:lnTo>
                      <a:pt x="744" y="304"/>
                    </a:lnTo>
                    <a:lnTo>
                      <a:pt x="715" y="276"/>
                    </a:lnTo>
                    <a:lnTo>
                      <a:pt x="675" y="254"/>
                    </a:lnTo>
                    <a:lnTo>
                      <a:pt x="639" y="237"/>
                    </a:lnTo>
                    <a:lnTo>
                      <a:pt x="593" y="220"/>
                    </a:lnTo>
                    <a:lnTo>
                      <a:pt x="553" y="203"/>
                    </a:lnTo>
                    <a:lnTo>
                      <a:pt x="506" y="191"/>
                    </a:lnTo>
                    <a:lnTo>
                      <a:pt x="472" y="180"/>
                    </a:lnTo>
                    <a:lnTo>
                      <a:pt x="472" y="158"/>
                    </a:lnTo>
                    <a:lnTo>
                      <a:pt x="472" y="141"/>
                    </a:lnTo>
                    <a:lnTo>
                      <a:pt x="500" y="141"/>
                    </a:lnTo>
                    <a:lnTo>
                      <a:pt x="530" y="146"/>
                    </a:lnTo>
                    <a:lnTo>
                      <a:pt x="541" y="146"/>
                    </a:lnTo>
                    <a:lnTo>
                      <a:pt x="558" y="141"/>
                    </a:lnTo>
                    <a:lnTo>
                      <a:pt x="564" y="119"/>
                    </a:lnTo>
                    <a:lnTo>
                      <a:pt x="570" y="95"/>
                    </a:lnTo>
                    <a:lnTo>
                      <a:pt x="570" y="62"/>
                    </a:lnTo>
                    <a:lnTo>
                      <a:pt x="576" y="23"/>
                    </a:lnTo>
                    <a:lnTo>
                      <a:pt x="518" y="17"/>
                    </a:lnTo>
                    <a:lnTo>
                      <a:pt x="482" y="11"/>
                    </a:lnTo>
                    <a:lnTo>
                      <a:pt x="442" y="6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c4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12040" y="4174560"/>
                <a:ext cx="230760" cy="369360"/>
              </a:xfrm>
              <a:custGeom>
                <a:avLst/>
                <a:gdLst/>
                <a:ahLst/>
                <a:rect l="l" t="t" r="r" b="b"/>
                <a:pathLst>
                  <a:path w="1151" h="1811">
                    <a:moveTo>
                      <a:pt x="540" y="6"/>
                    </a:moveTo>
                    <a:lnTo>
                      <a:pt x="500" y="6"/>
                    </a:lnTo>
                    <a:lnTo>
                      <a:pt x="465" y="23"/>
                    </a:lnTo>
                    <a:lnTo>
                      <a:pt x="436" y="39"/>
                    </a:lnTo>
                    <a:lnTo>
                      <a:pt x="406" y="68"/>
                    </a:lnTo>
                    <a:lnTo>
                      <a:pt x="348" y="119"/>
                    </a:lnTo>
                    <a:lnTo>
                      <a:pt x="302" y="163"/>
                    </a:lnTo>
                    <a:lnTo>
                      <a:pt x="261" y="180"/>
                    </a:lnTo>
                    <a:lnTo>
                      <a:pt x="226" y="197"/>
                    </a:lnTo>
                    <a:lnTo>
                      <a:pt x="180" y="220"/>
                    </a:lnTo>
                    <a:lnTo>
                      <a:pt x="145" y="242"/>
                    </a:lnTo>
                    <a:lnTo>
                      <a:pt x="99" y="264"/>
                    </a:lnTo>
                    <a:lnTo>
                      <a:pt x="64" y="293"/>
                    </a:lnTo>
                    <a:lnTo>
                      <a:pt x="35" y="320"/>
                    </a:lnTo>
                    <a:lnTo>
                      <a:pt x="23" y="354"/>
                    </a:lnTo>
                    <a:lnTo>
                      <a:pt x="6" y="394"/>
                    </a:lnTo>
                    <a:lnTo>
                      <a:pt x="6" y="472"/>
                    </a:lnTo>
                    <a:lnTo>
                      <a:pt x="0" y="568"/>
                    </a:lnTo>
                    <a:lnTo>
                      <a:pt x="6" y="681"/>
                    </a:lnTo>
                    <a:lnTo>
                      <a:pt x="6" y="787"/>
                    </a:lnTo>
                    <a:lnTo>
                      <a:pt x="18" y="899"/>
                    </a:lnTo>
                    <a:lnTo>
                      <a:pt x="29" y="995"/>
                    </a:lnTo>
                    <a:lnTo>
                      <a:pt x="46" y="1074"/>
                    </a:lnTo>
                    <a:lnTo>
                      <a:pt x="58" y="1113"/>
                    </a:lnTo>
                    <a:lnTo>
                      <a:pt x="76" y="1159"/>
                    </a:lnTo>
                    <a:lnTo>
                      <a:pt x="99" y="1203"/>
                    </a:lnTo>
                    <a:lnTo>
                      <a:pt x="122" y="1254"/>
                    </a:lnTo>
                    <a:lnTo>
                      <a:pt x="145" y="1299"/>
                    </a:lnTo>
                    <a:lnTo>
                      <a:pt x="168" y="1350"/>
                    </a:lnTo>
                    <a:lnTo>
                      <a:pt x="192" y="1394"/>
                    </a:lnTo>
                    <a:lnTo>
                      <a:pt x="221" y="1439"/>
                    </a:lnTo>
                    <a:lnTo>
                      <a:pt x="238" y="1485"/>
                    </a:lnTo>
                    <a:lnTo>
                      <a:pt x="256" y="1546"/>
                    </a:lnTo>
                    <a:lnTo>
                      <a:pt x="279" y="1613"/>
                    </a:lnTo>
                    <a:lnTo>
                      <a:pt x="314" y="1681"/>
                    </a:lnTo>
                    <a:lnTo>
                      <a:pt x="337" y="1726"/>
                    </a:lnTo>
                    <a:lnTo>
                      <a:pt x="372" y="1760"/>
                    </a:lnTo>
                    <a:lnTo>
                      <a:pt x="401" y="1760"/>
                    </a:lnTo>
                    <a:lnTo>
                      <a:pt x="436" y="1721"/>
                    </a:lnTo>
                    <a:lnTo>
                      <a:pt x="447" y="1681"/>
                    </a:lnTo>
                    <a:lnTo>
                      <a:pt x="477" y="1647"/>
                    </a:lnTo>
                    <a:lnTo>
                      <a:pt x="494" y="1613"/>
                    </a:lnTo>
                    <a:lnTo>
                      <a:pt x="512" y="1591"/>
                    </a:lnTo>
                    <a:lnTo>
                      <a:pt x="512" y="1518"/>
                    </a:lnTo>
                    <a:lnTo>
                      <a:pt x="500" y="1445"/>
                    </a:lnTo>
                    <a:lnTo>
                      <a:pt x="471" y="1367"/>
                    </a:lnTo>
                    <a:lnTo>
                      <a:pt x="442" y="1287"/>
                    </a:lnTo>
                    <a:lnTo>
                      <a:pt x="395" y="1209"/>
                    </a:lnTo>
                    <a:lnTo>
                      <a:pt x="360" y="1136"/>
                    </a:lnTo>
                    <a:lnTo>
                      <a:pt x="325" y="1068"/>
                    </a:lnTo>
                    <a:lnTo>
                      <a:pt x="314" y="1012"/>
                    </a:lnTo>
                    <a:lnTo>
                      <a:pt x="297" y="956"/>
                    </a:lnTo>
                    <a:lnTo>
                      <a:pt x="291" y="906"/>
                    </a:lnTo>
                    <a:lnTo>
                      <a:pt x="279" y="849"/>
                    </a:lnTo>
                    <a:lnTo>
                      <a:pt x="279" y="798"/>
                    </a:lnTo>
                    <a:lnTo>
                      <a:pt x="274" y="737"/>
                    </a:lnTo>
                    <a:lnTo>
                      <a:pt x="274" y="681"/>
                    </a:lnTo>
                    <a:lnTo>
                      <a:pt x="274" y="624"/>
                    </a:lnTo>
                    <a:lnTo>
                      <a:pt x="274" y="573"/>
                    </a:lnTo>
                    <a:lnTo>
                      <a:pt x="308" y="590"/>
                    </a:lnTo>
                    <a:lnTo>
                      <a:pt x="332" y="607"/>
                    </a:lnTo>
                    <a:lnTo>
                      <a:pt x="337" y="613"/>
                    </a:lnTo>
                    <a:lnTo>
                      <a:pt x="343" y="630"/>
                    </a:lnTo>
                    <a:lnTo>
                      <a:pt x="348" y="647"/>
                    </a:lnTo>
                    <a:lnTo>
                      <a:pt x="355" y="686"/>
                    </a:lnTo>
                    <a:lnTo>
                      <a:pt x="360" y="793"/>
                    </a:lnTo>
                    <a:lnTo>
                      <a:pt x="378" y="906"/>
                    </a:lnTo>
                    <a:lnTo>
                      <a:pt x="395" y="1024"/>
                    </a:lnTo>
                    <a:lnTo>
                      <a:pt x="431" y="1147"/>
                    </a:lnTo>
                    <a:lnTo>
                      <a:pt x="454" y="1260"/>
                    </a:lnTo>
                    <a:lnTo>
                      <a:pt x="494" y="1367"/>
                    </a:lnTo>
                    <a:lnTo>
                      <a:pt x="528" y="1456"/>
                    </a:lnTo>
                    <a:lnTo>
                      <a:pt x="581" y="1541"/>
                    </a:lnTo>
                    <a:lnTo>
                      <a:pt x="604" y="1557"/>
                    </a:lnTo>
                    <a:lnTo>
                      <a:pt x="639" y="1580"/>
                    </a:lnTo>
                    <a:lnTo>
                      <a:pt x="669" y="1597"/>
                    </a:lnTo>
                    <a:lnTo>
                      <a:pt x="697" y="1620"/>
                    </a:lnTo>
                    <a:lnTo>
                      <a:pt x="756" y="1811"/>
                    </a:lnTo>
                    <a:lnTo>
                      <a:pt x="768" y="1805"/>
                    </a:lnTo>
                    <a:lnTo>
                      <a:pt x="802" y="1805"/>
                    </a:lnTo>
                    <a:lnTo>
                      <a:pt x="854" y="1799"/>
                    </a:lnTo>
                    <a:lnTo>
                      <a:pt x="924" y="1794"/>
                    </a:lnTo>
                    <a:lnTo>
                      <a:pt x="982" y="1782"/>
                    </a:lnTo>
                    <a:lnTo>
                      <a:pt x="1034" y="1782"/>
                    </a:lnTo>
                    <a:lnTo>
                      <a:pt x="1075" y="1772"/>
                    </a:lnTo>
                    <a:lnTo>
                      <a:pt x="1098" y="1772"/>
                    </a:lnTo>
                    <a:lnTo>
                      <a:pt x="1104" y="1698"/>
                    </a:lnTo>
                    <a:lnTo>
                      <a:pt x="1116" y="1546"/>
                    </a:lnTo>
                    <a:lnTo>
                      <a:pt x="1121" y="1333"/>
                    </a:lnTo>
                    <a:lnTo>
                      <a:pt x="1133" y="1102"/>
                    </a:lnTo>
                    <a:lnTo>
                      <a:pt x="1139" y="860"/>
                    </a:lnTo>
                    <a:lnTo>
                      <a:pt x="1145" y="658"/>
                    </a:lnTo>
                    <a:lnTo>
                      <a:pt x="1145" y="506"/>
                    </a:lnTo>
                    <a:lnTo>
                      <a:pt x="1151" y="455"/>
                    </a:lnTo>
                    <a:lnTo>
                      <a:pt x="1139" y="445"/>
                    </a:lnTo>
                    <a:lnTo>
                      <a:pt x="1128" y="433"/>
                    </a:lnTo>
                    <a:lnTo>
                      <a:pt x="1104" y="404"/>
                    </a:lnTo>
                    <a:lnTo>
                      <a:pt x="1121" y="416"/>
                    </a:lnTo>
                    <a:lnTo>
                      <a:pt x="1133" y="433"/>
                    </a:lnTo>
                    <a:lnTo>
                      <a:pt x="1110" y="421"/>
                    </a:lnTo>
                    <a:lnTo>
                      <a:pt x="1081" y="399"/>
                    </a:lnTo>
                    <a:lnTo>
                      <a:pt x="1058" y="399"/>
                    </a:lnTo>
                    <a:lnTo>
                      <a:pt x="1034" y="399"/>
                    </a:lnTo>
                    <a:lnTo>
                      <a:pt x="1005" y="394"/>
                    </a:lnTo>
                    <a:lnTo>
                      <a:pt x="976" y="377"/>
                    </a:lnTo>
                    <a:lnTo>
                      <a:pt x="953" y="360"/>
                    </a:lnTo>
                    <a:lnTo>
                      <a:pt x="918" y="332"/>
                    </a:lnTo>
                    <a:lnTo>
                      <a:pt x="890" y="310"/>
                    </a:lnTo>
                    <a:lnTo>
                      <a:pt x="854" y="281"/>
                    </a:lnTo>
                    <a:lnTo>
                      <a:pt x="825" y="254"/>
                    </a:lnTo>
                    <a:lnTo>
                      <a:pt x="796" y="230"/>
                    </a:lnTo>
                    <a:lnTo>
                      <a:pt x="779" y="214"/>
                    </a:lnTo>
                    <a:lnTo>
                      <a:pt x="732" y="163"/>
                    </a:lnTo>
                    <a:lnTo>
                      <a:pt x="692" y="107"/>
                    </a:lnTo>
                    <a:lnTo>
                      <a:pt x="645" y="56"/>
                    </a:lnTo>
                    <a:lnTo>
                      <a:pt x="593" y="23"/>
                    </a:lnTo>
                    <a:lnTo>
                      <a:pt x="593" y="11"/>
                    </a:lnTo>
                    <a:lnTo>
                      <a:pt x="593" y="6"/>
                    </a:lnTo>
                    <a:lnTo>
                      <a:pt x="563" y="0"/>
                    </a:lnTo>
                    <a:lnTo>
                      <a:pt x="540" y="6"/>
                    </a:lnTo>
                    <a:close/>
                  </a:path>
                </a:pathLst>
              </a:custGeom>
              <a:solidFill>
                <a:srgbClr val="0cd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29000" y="4173120"/>
                <a:ext cx="171720" cy="832680"/>
              </a:xfrm>
              <a:custGeom>
                <a:avLst/>
                <a:gdLst/>
                <a:ahLst/>
                <a:rect l="l" t="t" r="r" b="b"/>
                <a:pathLst>
                  <a:path w="855" h="4083">
                    <a:moveTo>
                      <a:pt x="209" y="12"/>
                    </a:moveTo>
                    <a:lnTo>
                      <a:pt x="168" y="40"/>
                    </a:lnTo>
                    <a:lnTo>
                      <a:pt x="157" y="91"/>
                    </a:lnTo>
                    <a:lnTo>
                      <a:pt x="151" y="135"/>
                    </a:lnTo>
                    <a:lnTo>
                      <a:pt x="157" y="158"/>
                    </a:lnTo>
                    <a:lnTo>
                      <a:pt x="110" y="186"/>
                    </a:lnTo>
                    <a:lnTo>
                      <a:pt x="70" y="236"/>
                    </a:lnTo>
                    <a:lnTo>
                      <a:pt x="29" y="287"/>
                    </a:lnTo>
                    <a:lnTo>
                      <a:pt x="11" y="338"/>
                    </a:lnTo>
                    <a:lnTo>
                      <a:pt x="0" y="383"/>
                    </a:lnTo>
                    <a:lnTo>
                      <a:pt x="6" y="451"/>
                    </a:lnTo>
                    <a:lnTo>
                      <a:pt x="11" y="523"/>
                    </a:lnTo>
                    <a:lnTo>
                      <a:pt x="29" y="602"/>
                    </a:lnTo>
                    <a:lnTo>
                      <a:pt x="41" y="670"/>
                    </a:lnTo>
                    <a:lnTo>
                      <a:pt x="59" y="731"/>
                    </a:lnTo>
                    <a:lnTo>
                      <a:pt x="70" y="770"/>
                    </a:lnTo>
                    <a:lnTo>
                      <a:pt x="76" y="787"/>
                    </a:lnTo>
                    <a:lnTo>
                      <a:pt x="41" y="979"/>
                    </a:lnTo>
                    <a:lnTo>
                      <a:pt x="47" y="996"/>
                    </a:lnTo>
                    <a:lnTo>
                      <a:pt x="76" y="1047"/>
                    </a:lnTo>
                    <a:lnTo>
                      <a:pt x="87" y="1074"/>
                    </a:lnTo>
                    <a:lnTo>
                      <a:pt x="99" y="1102"/>
                    </a:lnTo>
                    <a:lnTo>
                      <a:pt x="105" y="1131"/>
                    </a:lnTo>
                    <a:lnTo>
                      <a:pt x="117" y="1158"/>
                    </a:lnTo>
                    <a:lnTo>
                      <a:pt x="110" y="1187"/>
                    </a:lnTo>
                    <a:lnTo>
                      <a:pt x="105" y="1238"/>
                    </a:lnTo>
                    <a:lnTo>
                      <a:pt x="87" y="1288"/>
                    </a:lnTo>
                    <a:lnTo>
                      <a:pt x="76" y="1349"/>
                    </a:lnTo>
                    <a:lnTo>
                      <a:pt x="59" y="1400"/>
                    </a:lnTo>
                    <a:lnTo>
                      <a:pt x="47" y="1445"/>
                    </a:lnTo>
                    <a:lnTo>
                      <a:pt x="41" y="1479"/>
                    </a:lnTo>
                    <a:lnTo>
                      <a:pt x="52" y="1496"/>
                    </a:lnTo>
                    <a:lnTo>
                      <a:pt x="64" y="1552"/>
                    </a:lnTo>
                    <a:lnTo>
                      <a:pt x="82" y="1626"/>
                    </a:lnTo>
                    <a:lnTo>
                      <a:pt x="105" y="1699"/>
                    </a:lnTo>
                    <a:lnTo>
                      <a:pt x="134" y="1783"/>
                    </a:lnTo>
                    <a:lnTo>
                      <a:pt x="151" y="1861"/>
                    </a:lnTo>
                    <a:lnTo>
                      <a:pt x="168" y="1940"/>
                    </a:lnTo>
                    <a:lnTo>
                      <a:pt x="168" y="2013"/>
                    </a:lnTo>
                    <a:lnTo>
                      <a:pt x="168" y="2087"/>
                    </a:lnTo>
                    <a:lnTo>
                      <a:pt x="145" y="2131"/>
                    </a:lnTo>
                    <a:lnTo>
                      <a:pt x="105" y="2182"/>
                    </a:lnTo>
                    <a:lnTo>
                      <a:pt x="87" y="2210"/>
                    </a:lnTo>
                    <a:lnTo>
                      <a:pt x="70" y="2244"/>
                    </a:lnTo>
                    <a:lnTo>
                      <a:pt x="59" y="2289"/>
                    </a:lnTo>
                    <a:lnTo>
                      <a:pt x="64" y="2345"/>
                    </a:lnTo>
                    <a:lnTo>
                      <a:pt x="64" y="2384"/>
                    </a:lnTo>
                    <a:lnTo>
                      <a:pt x="82" y="2430"/>
                    </a:lnTo>
                    <a:lnTo>
                      <a:pt x="99" y="2469"/>
                    </a:lnTo>
                    <a:lnTo>
                      <a:pt x="122" y="2514"/>
                    </a:lnTo>
                    <a:lnTo>
                      <a:pt x="140" y="2553"/>
                    </a:lnTo>
                    <a:lnTo>
                      <a:pt x="157" y="2592"/>
                    </a:lnTo>
                    <a:lnTo>
                      <a:pt x="168" y="2626"/>
                    </a:lnTo>
                    <a:lnTo>
                      <a:pt x="186" y="2666"/>
                    </a:lnTo>
                    <a:lnTo>
                      <a:pt x="186" y="2710"/>
                    </a:lnTo>
                    <a:lnTo>
                      <a:pt x="186" y="2761"/>
                    </a:lnTo>
                    <a:lnTo>
                      <a:pt x="181" y="2818"/>
                    </a:lnTo>
                    <a:lnTo>
                      <a:pt x="175" y="2879"/>
                    </a:lnTo>
                    <a:lnTo>
                      <a:pt x="163" y="2930"/>
                    </a:lnTo>
                    <a:lnTo>
                      <a:pt x="151" y="2986"/>
                    </a:lnTo>
                    <a:lnTo>
                      <a:pt x="145" y="3036"/>
                    </a:lnTo>
                    <a:lnTo>
                      <a:pt x="145" y="3093"/>
                    </a:lnTo>
                    <a:lnTo>
                      <a:pt x="134" y="3200"/>
                    </a:lnTo>
                    <a:lnTo>
                      <a:pt x="128" y="3318"/>
                    </a:lnTo>
                    <a:lnTo>
                      <a:pt x="122" y="3436"/>
                    </a:lnTo>
                    <a:lnTo>
                      <a:pt x="122" y="3554"/>
                    </a:lnTo>
                    <a:lnTo>
                      <a:pt x="117" y="3672"/>
                    </a:lnTo>
                    <a:lnTo>
                      <a:pt x="117" y="3790"/>
                    </a:lnTo>
                    <a:lnTo>
                      <a:pt x="117" y="3909"/>
                    </a:lnTo>
                    <a:lnTo>
                      <a:pt x="117" y="4032"/>
                    </a:lnTo>
                    <a:lnTo>
                      <a:pt x="163" y="4049"/>
                    </a:lnTo>
                    <a:lnTo>
                      <a:pt x="216" y="4066"/>
                    </a:lnTo>
                    <a:lnTo>
                      <a:pt x="274" y="4071"/>
                    </a:lnTo>
                    <a:lnTo>
                      <a:pt x="343" y="4083"/>
                    </a:lnTo>
                    <a:lnTo>
                      <a:pt x="407" y="4083"/>
                    </a:lnTo>
                    <a:lnTo>
                      <a:pt x="471" y="4083"/>
                    </a:lnTo>
                    <a:lnTo>
                      <a:pt x="535" y="4076"/>
                    </a:lnTo>
                    <a:lnTo>
                      <a:pt x="599" y="4071"/>
                    </a:lnTo>
                    <a:lnTo>
                      <a:pt x="634" y="4043"/>
                    </a:lnTo>
                    <a:lnTo>
                      <a:pt x="657" y="4004"/>
                    </a:lnTo>
                    <a:lnTo>
                      <a:pt x="657" y="3948"/>
                    </a:lnTo>
                    <a:lnTo>
                      <a:pt x="657" y="3885"/>
                    </a:lnTo>
                    <a:lnTo>
                      <a:pt x="639" y="3813"/>
                    </a:lnTo>
                    <a:lnTo>
                      <a:pt x="627" y="3745"/>
                    </a:lnTo>
                    <a:lnTo>
                      <a:pt x="616" y="3678"/>
                    </a:lnTo>
                    <a:lnTo>
                      <a:pt x="622" y="3622"/>
                    </a:lnTo>
                    <a:lnTo>
                      <a:pt x="627" y="3543"/>
                    </a:lnTo>
                    <a:lnTo>
                      <a:pt x="652" y="3470"/>
                    </a:lnTo>
                    <a:lnTo>
                      <a:pt x="680" y="3391"/>
                    </a:lnTo>
                    <a:lnTo>
                      <a:pt x="715" y="3323"/>
                    </a:lnTo>
                    <a:lnTo>
                      <a:pt x="744" y="3250"/>
                    </a:lnTo>
                    <a:lnTo>
                      <a:pt x="773" y="3178"/>
                    </a:lnTo>
                    <a:lnTo>
                      <a:pt x="802" y="3110"/>
                    </a:lnTo>
                    <a:lnTo>
                      <a:pt x="825" y="3042"/>
                    </a:lnTo>
                    <a:lnTo>
                      <a:pt x="843" y="2891"/>
                    </a:lnTo>
                    <a:lnTo>
                      <a:pt x="855" y="2727"/>
                    </a:lnTo>
                    <a:lnTo>
                      <a:pt x="849" y="2548"/>
                    </a:lnTo>
                    <a:lnTo>
                      <a:pt x="849" y="2367"/>
                    </a:lnTo>
                    <a:lnTo>
                      <a:pt x="837" y="2176"/>
                    </a:lnTo>
                    <a:lnTo>
                      <a:pt x="832" y="1996"/>
                    </a:lnTo>
                    <a:lnTo>
                      <a:pt x="825" y="1817"/>
                    </a:lnTo>
                    <a:lnTo>
                      <a:pt x="825" y="1659"/>
                    </a:lnTo>
                    <a:lnTo>
                      <a:pt x="756" y="1636"/>
                    </a:lnTo>
                    <a:lnTo>
                      <a:pt x="686" y="1614"/>
                    </a:lnTo>
                    <a:lnTo>
                      <a:pt x="611" y="1592"/>
                    </a:lnTo>
                    <a:lnTo>
                      <a:pt x="535" y="1575"/>
                    </a:lnTo>
                    <a:lnTo>
                      <a:pt x="454" y="1552"/>
                    </a:lnTo>
                    <a:lnTo>
                      <a:pt x="384" y="1541"/>
                    </a:lnTo>
                    <a:lnTo>
                      <a:pt x="314" y="1530"/>
                    </a:lnTo>
                    <a:lnTo>
                      <a:pt x="250" y="1530"/>
                    </a:lnTo>
                    <a:lnTo>
                      <a:pt x="221" y="1366"/>
                    </a:lnTo>
                    <a:lnTo>
                      <a:pt x="209" y="1204"/>
                    </a:lnTo>
                    <a:lnTo>
                      <a:pt x="198" y="1040"/>
                    </a:lnTo>
                    <a:lnTo>
                      <a:pt x="198" y="883"/>
                    </a:lnTo>
                    <a:lnTo>
                      <a:pt x="198" y="721"/>
                    </a:lnTo>
                    <a:lnTo>
                      <a:pt x="204" y="557"/>
                    </a:lnTo>
                    <a:lnTo>
                      <a:pt x="216" y="394"/>
                    </a:lnTo>
                    <a:lnTo>
                      <a:pt x="239" y="243"/>
                    </a:lnTo>
                    <a:lnTo>
                      <a:pt x="262" y="236"/>
                    </a:lnTo>
                    <a:lnTo>
                      <a:pt x="308" y="231"/>
                    </a:lnTo>
                    <a:lnTo>
                      <a:pt x="355" y="220"/>
                    </a:lnTo>
                    <a:lnTo>
                      <a:pt x="384" y="220"/>
                    </a:lnTo>
                    <a:lnTo>
                      <a:pt x="401" y="220"/>
                    </a:lnTo>
                    <a:lnTo>
                      <a:pt x="424" y="231"/>
                    </a:lnTo>
                    <a:lnTo>
                      <a:pt x="407" y="192"/>
                    </a:lnTo>
                    <a:lnTo>
                      <a:pt x="396" y="158"/>
                    </a:lnTo>
                    <a:lnTo>
                      <a:pt x="378" y="113"/>
                    </a:lnTo>
                    <a:lnTo>
                      <a:pt x="366" y="79"/>
                    </a:lnTo>
                    <a:lnTo>
                      <a:pt x="338" y="40"/>
                    </a:lnTo>
                    <a:lnTo>
                      <a:pt x="302" y="17"/>
                    </a:lnTo>
                    <a:lnTo>
                      <a:pt x="262" y="0"/>
                    </a:lnTo>
                    <a:lnTo>
                      <a:pt x="209" y="12"/>
                    </a:lnTo>
                    <a:close/>
                  </a:path>
                </a:pathLst>
              </a:custGeom>
              <a:solidFill>
                <a:srgbClr val="e3fd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72800" y="4191480"/>
                <a:ext cx="51480" cy="41040"/>
              </a:xfrm>
              <a:custGeom>
                <a:avLst/>
                <a:gdLst/>
                <a:ahLst/>
                <a:rect l="l" t="t" r="r" b="b"/>
                <a:pathLst>
                  <a:path w="256" h="201">
                    <a:moveTo>
                      <a:pt x="94" y="0"/>
                    </a:moveTo>
                    <a:lnTo>
                      <a:pt x="64" y="34"/>
                    </a:lnTo>
                    <a:lnTo>
                      <a:pt x="36" y="73"/>
                    </a:lnTo>
                    <a:lnTo>
                      <a:pt x="12" y="106"/>
                    </a:lnTo>
                    <a:lnTo>
                      <a:pt x="0" y="140"/>
                    </a:lnTo>
                    <a:lnTo>
                      <a:pt x="0" y="162"/>
                    </a:lnTo>
                    <a:lnTo>
                      <a:pt x="23" y="184"/>
                    </a:lnTo>
                    <a:lnTo>
                      <a:pt x="71" y="196"/>
                    </a:lnTo>
                    <a:lnTo>
                      <a:pt x="152" y="201"/>
                    </a:lnTo>
                    <a:lnTo>
                      <a:pt x="204" y="191"/>
                    </a:lnTo>
                    <a:lnTo>
                      <a:pt x="244" y="169"/>
                    </a:lnTo>
                    <a:lnTo>
                      <a:pt x="256" y="135"/>
                    </a:lnTo>
                    <a:lnTo>
                      <a:pt x="251" y="101"/>
                    </a:lnTo>
                    <a:lnTo>
                      <a:pt x="228" y="61"/>
                    </a:lnTo>
                    <a:lnTo>
                      <a:pt x="193" y="34"/>
                    </a:lnTo>
                    <a:lnTo>
                      <a:pt x="146" y="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07520" y="4200480"/>
                <a:ext cx="15480" cy="73440"/>
              </a:xfrm>
              <a:custGeom>
                <a:avLst/>
                <a:gdLst/>
                <a:ahLst/>
                <a:rect l="l" t="t" r="r" b="b"/>
                <a:pathLst>
                  <a:path w="76" h="360">
                    <a:moveTo>
                      <a:pt x="6" y="0"/>
                    </a:moveTo>
                    <a:lnTo>
                      <a:pt x="0" y="34"/>
                    </a:lnTo>
                    <a:lnTo>
                      <a:pt x="0" y="73"/>
                    </a:lnTo>
                    <a:lnTo>
                      <a:pt x="0" y="113"/>
                    </a:lnTo>
                    <a:lnTo>
                      <a:pt x="0" y="157"/>
                    </a:lnTo>
                    <a:lnTo>
                      <a:pt x="0" y="191"/>
                    </a:lnTo>
                    <a:lnTo>
                      <a:pt x="0" y="241"/>
                    </a:lnTo>
                    <a:lnTo>
                      <a:pt x="0" y="287"/>
                    </a:lnTo>
                    <a:lnTo>
                      <a:pt x="6" y="348"/>
                    </a:lnTo>
                    <a:lnTo>
                      <a:pt x="46" y="360"/>
                    </a:lnTo>
                    <a:lnTo>
                      <a:pt x="46" y="321"/>
                    </a:lnTo>
                    <a:lnTo>
                      <a:pt x="52" y="280"/>
                    </a:lnTo>
                    <a:lnTo>
                      <a:pt x="59" y="236"/>
                    </a:lnTo>
                    <a:lnTo>
                      <a:pt x="64" y="196"/>
                    </a:lnTo>
                    <a:lnTo>
                      <a:pt x="64" y="145"/>
                    </a:lnTo>
                    <a:lnTo>
                      <a:pt x="70" y="101"/>
                    </a:lnTo>
                    <a:lnTo>
                      <a:pt x="70" y="56"/>
                    </a:lnTo>
                    <a:lnTo>
                      <a:pt x="76" y="11"/>
                    </a:lnTo>
                    <a:lnTo>
                      <a:pt x="59" y="5"/>
                    </a:lnTo>
                    <a:lnTo>
                      <a:pt x="41" y="5"/>
                    </a:lnTo>
                    <a:lnTo>
                      <a:pt x="1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64800" y="4226400"/>
                <a:ext cx="341280" cy="365040"/>
              </a:xfrm>
              <a:custGeom>
                <a:avLst/>
                <a:gdLst/>
                <a:ahLst/>
                <a:rect l="l" t="t" r="r" b="b"/>
                <a:pathLst>
                  <a:path w="1703" h="1787">
                    <a:moveTo>
                      <a:pt x="982" y="0"/>
                    </a:moveTo>
                    <a:lnTo>
                      <a:pt x="948" y="10"/>
                    </a:lnTo>
                    <a:lnTo>
                      <a:pt x="907" y="44"/>
                    </a:lnTo>
                    <a:lnTo>
                      <a:pt x="860" y="78"/>
                    </a:lnTo>
                    <a:lnTo>
                      <a:pt x="819" y="100"/>
                    </a:lnTo>
                    <a:lnTo>
                      <a:pt x="756" y="100"/>
                    </a:lnTo>
                    <a:lnTo>
                      <a:pt x="697" y="100"/>
                    </a:lnTo>
                    <a:lnTo>
                      <a:pt x="639" y="89"/>
                    </a:lnTo>
                    <a:lnTo>
                      <a:pt x="588" y="83"/>
                    </a:lnTo>
                    <a:lnTo>
                      <a:pt x="529" y="66"/>
                    </a:lnTo>
                    <a:lnTo>
                      <a:pt x="477" y="66"/>
                    </a:lnTo>
                    <a:lnTo>
                      <a:pt x="424" y="66"/>
                    </a:lnTo>
                    <a:lnTo>
                      <a:pt x="383" y="89"/>
                    </a:lnTo>
                    <a:lnTo>
                      <a:pt x="337" y="111"/>
                    </a:lnTo>
                    <a:lnTo>
                      <a:pt x="308" y="150"/>
                    </a:lnTo>
                    <a:lnTo>
                      <a:pt x="274" y="196"/>
                    </a:lnTo>
                    <a:lnTo>
                      <a:pt x="251" y="252"/>
                    </a:lnTo>
                    <a:lnTo>
                      <a:pt x="226" y="302"/>
                    </a:lnTo>
                    <a:lnTo>
                      <a:pt x="203" y="365"/>
                    </a:lnTo>
                    <a:lnTo>
                      <a:pt x="186" y="415"/>
                    </a:lnTo>
                    <a:lnTo>
                      <a:pt x="168" y="471"/>
                    </a:lnTo>
                    <a:lnTo>
                      <a:pt x="145" y="505"/>
                    </a:lnTo>
                    <a:lnTo>
                      <a:pt x="122" y="550"/>
                    </a:lnTo>
                    <a:lnTo>
                      <a:pt x="99" y="595"/>
                    </a:lnTo>
                    <a:lnTo>
                      <a:pt x="76" y="645"/>
                    </a:lnTo>
                    <a:lnTo>
                      <a:pt x="46" y="691"/>
                    </a:lnTo>
                    <a:lnTo>
                      <a:pt x="29" y="741"/>
                    </a:lnTo>
                    <a:lnTo>
                      <a:pt x="12" y="787"/>
                    </a:lnTo>
                    <a:lnTo>
                      <a:pt x="6" y="837"/>
                    </a:lnTo>
                    <a:lnTo>
                      <a:pt x="0" y="961"/>
                    </a:lnTo>
                    <a:lnTo>
                      <a:pt x="35" y="1089"/>
                    </a:lnTo>
                    <a:lnTo>
                      <a:pt x="87" y="1219"/>
                    </a:lnTo>
                    <a:lnTo>
                      <a:pt x="157" y="1354"/>
                    </a:lnTo>
                    <a:lnTo>
                      <a:pt x="226" y="1478"/>
                    </a:lnTo>
                    <a:lnTo>
                      <a:pt x="308" y="1596"/>
                    </a:lnTo>
                    <a:lnTo>
                      <a:pt x="378" y="1697"/>
                    </a:lnTo>
                    <a:lnTo>
                      <a:pt x="448" y="1787"/>
                    </a:lnTo>
                    <a:lnTo>
                      <a:pt x="512" y="1646"/>
                    </a:lnTo>
                    <a:lnTo>
                      <a:pt x="552" y="1551"/>
                    </a:lnTo>
                    <a:lnTo>
                      <a:pt x="558" y="1472"/>
                    </a:lnTo>
                    <a:lnTo>
                      <a:pt x="546" y="1416"/>
                    </a:lnTo>
                    <a:lnTo>
                      <a:pt x="512" y="1354"/>
                    </a:lnTo>
                    <a:lnTo>
                      <a:pt x="465" y="1287"/>
                    </a:lnTo>
                    <a:lnTo>
                      <a:pt x="401" y="1202"/>
                    </a:lnTo>
                    <a:lnTo>
                      <a:pt x="343" y="1096"/>
                    </a:lnTo>
                    <a:lnTo>
                      <a:pt x="343" y="1000"/>
                    </a:lnTo>
                    <a:lnTo>
                      <a:pt x="395" y="1045"/>
                    </a:lnTo>
                    <a:lnTo>
                      <a:pt x="448" y="1096"/>
                    </a:lnTo>
                    <a:lnTo>
                      <a:pt x="500" y="1157"/>
                    </a:lnTo>
                    <a:lnTo>
                      <a:pt x="552" y="1224"/>
                    </a:lnTo>
                    <a:lnTo>
                      <a:pt x="593" y="1292"/>
                    </a:lnTo>
                    <a:lnTo>
                      <a:pt x="639" y="1366"/>
                    </a:lnTo>
                    <a:lnTo>
                      <a:pt x="674" y="1433"/>
                    </a:lnTo>
                    <a:lnTo>
                      <a:pt x="715" y="1506"/>
                    </a:lnTo>
                    <a:lnTo>
                      <a:pt x="738" y="1501"/>
                    </a:lnTo>
                    <a:lnTo>
                      <a:pt x="768" y="1501"/>
                    </a:lnTo>
                    <a:lnTo>
                      <a:pt x="796" y="1501"/>
                    </a:lnTo>
                    <a:lnTo>
                      <a:pt x="808" y="1506"/>
                    </a:lnTo>
                    <a:lnTo>
                      <a:pt x="907" y="1528"/>
                    </a:lnTo>
                    <a:lnTo>
                      <a:pt x="1011" y="1557"/>
                    </a:lnTo>
                    <a:lnTo>
                      <a:pt x="1098" y="1568"/>
                    </a:lnTo>
                    <a:lnTo>
                      <a:pt x="1174" y="1568"/>
                    </a:lnTo>
                    <a:lnTo>
                      <a:pt x="1227" y="1535"/>
                    </a:lnTo>
                    <a:lnTo>
                      <a:pt x="1262" y="1478"/>
                    </a:lnTo>
                    <a:lnTo>
                      <a:pt x="1267" y="1383"/>
                    </a:lnTo>
                    <a:lnTo>
                      <a:pt x="1250" y="1248"/>
                    </a:lnTo>
                    <a:lnTo>
                      <a:pt x="1232" y="1185"/>
                    </a:lnTo>
                    <a:lnTo>
                      <a:pt x="1220" y="1123"/>
                    </a:lnTo>
                    <a:lnTo>
                      <a:pt x="1204" y="1057"/>
                    </a:lnTo>
                    <a:lnTo>
                      <a:pt x="1192" y="994"/>
                    </a:lnTo>
                    <a:lnTo>
                      <a:pt x="1174" y="922"/>
                    </a:lnTo>
                    <a:lnTo>
                      <a:pt x="1163" y="854"/>
                    </a:lnTo>
                    <a:lnTo>
                      <a:pt x="1156" y="787"/>
                    </a:lnTo>
                    <a:lnTo>
                      <a:pt x="1156" y="730"/>
                    </a:lnTo>
                    <a:lnTo>
                      <a:pt x="1156" y="713"/>
                    </a:lnTo>
                    <a:lnTo>
                      <a:pt x="1163" y="691"/>
                    </a:lnTo>
                    <a:lnTo>
                      <a:pt x="1163" y="674"/>
                    </a:lnTo>
                    <a:lnTo>
                      <a:pt x="1168" y="668"/>
                    </a:lnTo>
                    <a:lnTo>
                      <a:pt x="1174" y="668"/>
                    </a:lnTo>
                    <a:lnTo>
                      <a:pt x="1192" y="674"/>
                    </a:lnTo>
                    <a:lnTo>
                      <a:pt x="1209" y="674"/>
                    </a:lnTo>
                    <a:lnTo>
                      <a:pt x="1220" y="679"/>
                    </a:lnTo>
                    <a:lnTo>
                      <a:pt x="1232" y="787"/>
                    </a:lnTo>
                    <a:lnTo>
                      <a:pt x="1250" y="898"/>
                    </a:lnTo>
                    <a:lnTo>
                      <a:pt x="1273" y="1011"/>
                    </a:lnTo>
                    <a:lnTo>
                      <a:pt x="1302" y="1123"/>
                    </a:lnTo>
                    <a:lnTo>
                      <a:pt x="1325" y="1231"/>
                    </a:lnTo>
                    <a:lnTo>
                      <a:pt x="1354" y="1343"/>
                    </a:lnTo>
                    <a:lnTo>
                      <a:pt x="1377" y="1450"/>
                    </a:lnTo>
                    <a:lnTo>
                      <a:pt x="1407" y="1557"/>
                    </a:lnTo>
                    <a:lnTo>
                      <a:pt x="1442" y="1545"/>
                    </a:lnTo>
                    <a:lnTo>
                      <a:pt x="1482" y="1545"/>
                    </a:lnTo>
                    <a:lnTo>
                      <a:pt x="1517" y="1545"/>
                    </a:lnTo>
                    <a:lnTo>
                      <a:pt x="1557" y="1551"/>
                    </a:lnTo>
                    <a:lnTo>
                      <a:pt x="1592" y="1551"/>
                    </a:lnTo>
                    <a:lnTo>
                      <a:pt x="1627" y="1562"/>
                    </a:lnTo>
                    <a:lnTo>
                      <a:pt x="1663" y="1568"/>
                    </a:lnTo>
                    <a:lnTo>
                      <a:pt x="1703" y="1584"/>
                    </a:lnTo>
                    <a:lnTo>
                      <a:pt x="1680" y="1540"/>
                    </a:lnTo>
                    <a:lnTo>
                      <a:pt x="1663" y="1494"/>
                    </a:lnTo>
                    <a:lnTo>
                      <a:pt x="1627" y="1427"/>
                    </a:lnTo>
                    <a:lnTo>
                      <a:pt x="1598" y="1366"/>
                    </a:lnTo>
                    <a:lnTo>
                      <a:pt x="1557" y="1292"/>
                    </a:lnTo>
                    <a:lnTo>
                      <a:pt x="1523" y="1224"/>
                    </a:lnTo>
                    <a:lnTo>
                      <a:pt x="1488" y="1152"/>
                    </a:lnTo>
                    <a:lnTo>
                      <a:pt x="1458" y="1079"/>
                    </a:lnTo>
                    <a:lnTo>
                      <a:pt x="1435" y="1011"/>
                    </a:lnTo>
                    <a:lnTo>
                      <a:pt x="1435" y="949"/>
                    </a:lnTo>
                    <a:lnTo>
                      <a:pt x="1442" y="888"/>
                    </a:lnTo>
                    <a:lnTo>
                      <a:pt x="1470" y="831"/>
                    </a:lnTo>
                    <a:lnTo>
                      <a:pt x="1476" y="797"/>
                    </a:lnTo>
                    <a:lnTo>
                      <a:pt x="1488" y="770"/>
                    </a:lnTo>
                    <a:lnTo>
                      <a:pt x="1488" y="736"/>
                    </a:lnTo>
                    <a:lnTo>
                      <a:pt x="1488" y="707"/>
                    </a:lnTo>
                    <a:lnTo>
                      <a:pt x="1476" y="691"/>
                    </a:lnTo>
                    <a:lnTo>
                      <a:pt x="1447" y="662"/>
                    </a:lnTo>
                    <a:lnTo>
                      <a:pt x="1418" y="635"/>
                    </a:lnTo>
                    <a:lnTo>
                      <a:pt x="1407" y="618"/>
                    </a:lnTo>
                    <a:lnTo>
                      <a:pt x="1372" y="533"/>
                    </a:lnTo>
                    <a:lnTo>
                      <a:pt x="1354" y="454"/>
                    </a:lnTo>
                    <a:lnTo>
                      <a:pt x="1331" y="370"/>
                    </a:lnTo>
                    <a:lnTo>
                      <a:pt x="1313" y="297"/>
                    </a:lnTo>
                    <a:lnTo>
                      <a:pt x="1278" y="224"/>
                    </a:lnTo>
                    <a:lnTo>
                      <a:pt x="1250" y="162"/>
                    </a:lnTo>
                    <a:lnTo>
                      <a:pt x="1204" y="106"/>
                    </a:lnTo>
                    <a:lnTo>
                      <a:pt x="1145" y="61"/>
                    </a:lnTo>
                    <a:lnTo>
                      <a:pt x="1110" y="39"/>
                    </a:lnTo>
                    <a:lnTo>
                      <a:pt x="1070" y="15"/>
                    </a:lnTo>
                    <a:lnTo>
                      <a:pt x="1024" y="0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734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3000" y="4232880"/>
                <a:ext cx="186480" cy="272160"/>
              </a:xfrm>
              <a:custGeom>
                <a:avLst/>
                <a:gdLst/>
                <a:ahLst/>
                <a:rect l="l" t="t" r="r" b="b"/>
                <a:pathLst>
                  <a:path w="930" h="1334">
                    <a:moveTo>
                      <a:pt x="23" y="0"/>
                    </a:moveTo>
                    <a:lnTo>
                      <a:pt x="7" y="130"/>
                    </a:lnTo>
                    <a:lnTo>
                      <a:pt x="0" y="270"/>
                    </a:lnTo>
                    <a:lnTo>
                      <a:pt x="0" y="422"/>
                    </a:lnTo>
                    <a:lnTo>
                      <a:pt x="0" y="574"/>
                    </a:lnTo>
                    <a:lnTo>
                      <a:pt x="0" y="726"/>
                    </a:lnTo>
                    <a:lnTo>
                      <a:pt x="18" y="878"/>
                    </a:lnTo>
                    <a:lnTo>
                      <a:pt x="30" y="1018"/>
                    </a:lnTo>
                    <a:lnTo>
                      <a:pt x="53" y="1165"/>
                    </a:lnTo>
                    <a:lnTo>
                      <a:pt x="146" y="1192"/>
                    </a:lnTo>
                    <a:lnTo>
                      <a:pt x="251" y="1226"/>
                    </a:lnTo>
                    <a:lnTo>
                      <a:pt x="355" y="1249"/>
                    </a:lnTo>
                    <a:lnTo>
                      <a:pt x="471" y="1271"/>
                    </a:lnTo>
                    <a:lnTo>
                      <a:pt x="588" y="1288"/>
                    </a:lnTo>
                    <a:lnTo>
                      <a:pt x="704" y="1305"/>
                    </a:lnTo>
                    <a:lnTo>
                      <a:pt x="814" y="1317"/>
                    </a:lnTo>
                    <a:lnTo>
                      <a:pt x="930" y="1334"/>
                    </a:lnTo>
                    <a:lnTo>
                      <a:pt x="919" y="1317"/>
                    </a:lnTo>
                    <a:lnTo>
                      <a:pt x="919" y="1288"/>
                    </a:lnTo>
                    <a:lnTo>
                      <a:pt x="913" y="1266"/>
                    </a:lnTo>
                    <a:lnTo>
                      <a:pt x="907" y="1232"/>
                    </a:lnTo>
                    <a:lnTo>
                      <a:pt x="902" y="1216"/>
                    </a:lnTo>
                    <a:lnTo>
                      <a:pt x="884" y="1170"/>
                    </a:lnTo>
                    <a:lnTo>
                      <a:pt x="872" y="1131"/>
                    </a:lnTo>
                    <a:lnTo>
                      <a:pt x="861" y="1091"/>
                    </a:lnTo>
                    <a:lnTo>
                      <a:pt x="854" y="1057"/>
                    </a:lnTo>
                    <a:lnTo>
                      <a:pt x="844" y="1018"/>
                    </a:lnTo>
                    <a:lnTo>
                      <a:pt x="837" y="979"/>
                    </a:lnTo>
                    <a:lnTo>
                      <a:pt x="826" y="946"/>
                    </a:lnTo>
                    <a:lnTo>
                      <a:pt x="826" y="917"/>
                    </a:lnTo>
                    <a:lnTo>
                      <a:pt x="756" y="917"/>
                    </a:lnTo>
                    <a:lnTo>
                      <a:pt x="692" y="929"/>
                    </a:lnTo>
                    <a:lnTo>
                      <a:pt x="628" y="929"/>
                    </a:lnTo>
                    <a:lnTo>
                      <a:pt x="565" y="940"/>
                    </a:lnTo>
                    <a:lnTo>
                      <a:pt x="494" y="940"/>
                    </a:lnTo>
                    <a:lnTo>
                      <a:pt x="436" y="946"/>
                    </a:lnTo>
                    <a:lnTo>
                      <a:pt x="372" y="946"/>
                    </a:lnTo>
                    <a:lnTo>
                      <a:pt x="314" y="946"/>
                    </a:lnTo>
                    <a:lnTo>
                      <a:pt x="337" y="923"/>
                    </a:lnTo>
                    <a:lnTo>
                      <a:pt x="396" y="895"/>
                    </a:lnTo>
                    <a:lnTo>
                      <a:pt x="378" y="788"/>
                    </a:lnTo>
                    <a:lnTo>
                      <a:pt x="360" y="675"/>
                    </a:lnTo>
                    <a:lnTo>
                      <a:pt x="337" y="563"/>
                    </a:lnTo>
                    <a:lnTo>
                      <a:pt x="320" y="456"/>
                    </a:lnTo>
                    <a:lnTo>
                      <a:pt x="291" y="344"/>
                    </a:lnTo>
                    <a:lnTo>
                      <a:pt x="268" y="248"/>
                    </a:lnTo>
                    <a:lnTo>
                      <a:pt x="233" y="159"/>
                    </a:lnTo>
                    <a:lnTo>
                      <a:pt x="198" y="85"/>
                    </a:lnTo>
                    <a:lnTo>
                      <a:pt x="164" y="34"/>
                    </a:lnTo>
                    <a:lnTo>
                      <a:pt x="134" y="17"/>
                    </a:lnTo>
                    <a:lnTo>
                      <a:pt x="111" y="7"/>
                    </a:lnTo>
                    <a:lnTo>
                      <a:pt x="94" y="7"/>
                    </a:lnTo>
                    <a:lnTo>
                      <a:pt x="58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3fd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138440" y="4246920"/>
                <a:ext cx="50400" cy="163080"/>
              </a:xfrm>
              <a:custGeom>
                <a:avLst/>
                <a:gdLst/>
                <a:ahLst/>
                <a:rect l="l" t="t" r="r" b="b"/>
                <a:pathLst>
                  <a:path w="250" h="798">
                    <a:moveTo>
                      <a:pt x="0" y="0"/>
                    </a:moveTo>
                    <a:lnTo>
                      <a:pt x="24" y="91"/>
                    </a:lnTo>
                    <a:lnTo>
                      <a:pt x="47" y="192"/>
                    </a:lnTo>
                    <a:lnTo>
                      <a:pt x="65" y="293"/>
                    </a:lnTo>
                    <a:lnTo>
                      <a:pt x="88" y="400"/>
                    </a:lnTo>
                    <a:lnTo>
                      <a:pt x="106" y="501"/>
                    </a:lnTo>
                    <a:lnTo>
                      <a:pt x="129" y="602"/>
                    </a:lnTo>
                    <a:lnTo>
                      <a:pt x="152" y="697"/>
                    </a:lnTo>
                    <a:lnTo>
                      <a:pt x="187" y="798"/>
                    </a:lnTo>
                    <a:lnTo>
                      <a:pt x="215" y="793"/>
                    </a:lnTo>
                    <a:lnTo>
                      <a:pt x="250" y="798"/>
                    </a:lnTo>
                    <a:lnTo>
                      <a:pt x="227" y="687"/>
                    </a:lnTo>
                    <a:lnTo>
                      <a:pt x="210" y="574"/>
                    </a:lnTo>
                    <a:lnTo>
                      <a:pt x="187" y="461"/>
                    </a:lnTo>
                    <a:lnTo>
                      <a:pt x="164" y="361"/>
                    </a:lnTo>
                    <a:lnTo>
                      <a:pt x="129" y="253"/>
                    </a:lnTo>
                    <a:lnTo>
                      <a:pt x="93" y="158"/>
                    </a:lnTo>
                    <a:lnTo>
                      <a:pt x="47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fd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87120" y="4329000"/>
                <a:ext cx="24840" cy="170640"/>
              </a:xfrm>
              <a:custGeom>
                <a:avLst/>
                <a:gdLst/>
                <a:ahLst/>
                <a:rect l="l" t="t" r="r" b="b"/>
                <a:pathLst>
                  <a:path w="129" h="837">
                    <a:moveTo>
                      <a:pt x="76" y="0"/>
                    </a:moveTo>
                    <a:lnTo>
                      <a:pt x="30" y="56"/>
                    </a:lnTo>
                    <a:lnTo>
                      <a:pt x="7" y="152"/>
                    </a:lnTo>
                    <a:lnTo>
                      <a:pt x="0" y="258"/>
                    </a:lnTo>
                    <a:lnTo>
                      <a:pt x="7" y="382"/>
                    </a:lnTo>
                    <a:lnTo>
                      <a:pt x="18" y="500"/>
                    </a:lnTo>
                    <a:lnTo>
                      <a:pt x="41" y="618"/>
                    </a:lnTo>
                    <a:lnTo>
                      <a:pt x="70" y="714"/>
                    </a:lnTo>
                    <a:lnTo>
                      <a:pt x="99" y="798"/>
                    </a:lnTo>
                    <a:lnTo>
                      <a:pt x="111" y="815"/>
                    </a:lnTo>
                    <a:lnTo>
                      <a:pt x="129" y="837"/>
                    </a:lnTo>
                    <a:lnTo>
                      <a:pt x="122" y="724"/>
                    </a:lnTo>
                    <a:lnTo>
                      <a:pt x="122" y="613"/>
                    </a:lnTo>
                    <a:lnTo>
                      <a:pt x="116" y="494"/>
                    </a:lnTo>
                    <a:lnTo>
                      <a:pt x="116" y="382"/>
                    </a:lnTo>
                    <a:lnTo>
                      <a:pt x="105" y="263"/>
                    </a:lnTo>
                    <a:lnTo>
                      <a:pt x="99" y="162"/>
                    </a:lnTo>
                    <a:lnTo>
                      <a:pt x="88" y="72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ba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78480" y="4380840"/>
                <a:ext cx="150120" cy="346680"/>
              </a:xfrm>
              <a:custGeom>
                <a:avLst/>
                <a:gdLst/>
                <a:ahLst/>
                <a:rect l="l" t="t" r="r" b="b"/>
                <a:pathLst>
                  <a:path w="750" h="1699">
                    <a:moveTo>
                      <a:pt x="228" y="0"/>
                    </a:moveTo>
                    <a:lnTo>
                      <a:pt x="216" y="101"/>
                    </a:lnTo>
                    <a:lnTo>
                      <a:pt x="216" y="236"/>
                    </a:lnTo>
                    <a:lnTo>
                      <a:pt x="221" y="394"/>
                    </a:lnTo>
                    <a:lnTo>
                      <a:pt x="239" y="557"/>
                    </a:lnTo>
                    <a:lnTo>
                      <a:pt x="256" y="709"/>
                    </a:lnTo>
                    <a:lnTo>
                      <a:pt x="286" y="849"/>
                    </a:lnTo>
                    <a:lnTo>
                      <a:pt x="320" y="956"/>
                    </a:lnTo>
                    <a:lnTo>
                      <a:pt x="367" y="1018"/>
                    </a:lnTo>
                    <a:lnTo>
                      <a:pt x="327" y="1091"/>
                    </a:lnTo>
                    <a:lnTo>
                      <a:pt x="286" y="1164"/>
                    </a:lnTo>
                    <a:lnTo>
                      <a:pt x="239" y="1226"/>
                    </a:lnTo>
                    <a:lnTo>
                      <a:pt x="193" y="1293"/>
                    </a:lnTo>
                    <a:lnTo>
                      <a:pt x="140" y="1356"/>
                    </a:lnTo>
                    <a:lnTo>
                      <a:pt x="94" y="1417"/>
                    </a:lnTo>
                    <a:lnTo>
                      <a:pt x="41" y="1484"/>
                    </a:lnTo>
                    <a:lnTo>
                      <a:pt x="0" y="1557"/>
                    </a:lnTo>
                    <a:lnTo>
                      <a:pt x="13" y="1586"/>
                    </a:lnTo>
                    <a:lnTo>
                      <a:pt x="30" y="1619"/>
                    </a:lnTo>
                    <a:lnTo>
                      <a:pt x="48" y="1648"/>
                    </a:lnTo>
                    <a:lnTo>
                      <a:pt x="76" y="1675"/>
                    </a:lnTo>
                    <a:lnTo>
                      <a:pt x="129" y="1699"/>
                    </a:lnTo>
                    <a:lnTo>
                      <a:pt x="175" y="1682"/>
                    </a:lnTo>
                    <a:lnTo>
                      <a:pt x="216" y="1642"/>
                    </a:lnTo>
                    <a:lnTo>
                      <a:pt x="262" y="1597"/>
                    </a:lnTo>
                    <a:lnTo>
                      <a:pt x="297" y="1552"/>
                    </a:lnTo>
                    <a:lnTo>
                      <a:pt x="350" y="1501"/>
                    </a:lnTo>
                    <a:lnTo>
                      <a:pt x="413" y="1439"/>
                    </a:lnTo>
                    <a:lnTo>
                      <a:pt x="489" y="1378"/>
                    </a:lnTo>
                    <a:lnTo>
                      <a:pt x="553" y="1310"/>
                    </a:lnTo>
                    <a:lnTo>
                      <a:pt x="611" y="1248"/>
                    </a:lnTo>
                    <a:lnTo>
                      <a:pt x="652" y="1192"/>
                    </a:lnTo>
                    <a:lnTo>
                      <a:pt x="675" y="1158"/>
                    </a:lnTo>
                    <a:lnTo>
                      <a:pt x="675" y="1108"/>
                    </a:lnTo>
                    <a:lnTo>
                      <a:pt x="669" y="1057"/>
                    </a:lnTo>
                    <a:lnTo>
                      <a:pt x="657" y="995"/>
                    </a:lnTo>
                    <a:lnTo>
                      <a:pt x="664" y="939"/>
                    </a:lnTo>
                    <a:lnTo>
                      <a:pt x="669" y="871"/>
                    </a:lnTo>
                    <a:lnTo>
                      <a:pt x="680" y="804"/>
                    </a:lnTo>
                    <a:lnTo>
                      <a:pt x="698" y="726"/>
                    </a:lnTo>
                    <a:lnTo>
                      <a:pt x="721" y="647"/>
                    </a:lnTo>
                    <a:lnTo>
                      <a:pt x="733" y="562"/>
                    </a:lnTo>
                    <a:lnTo>
                      <a:pt x="750" y="478"/>
                    </a:lnTo>
                    <a:lnTo>
                      <a:pt x="750" y="394"/>
                    </a:lnTo>
                    <a:lnTo>
                      <a:pt x="745" y="321"/>
                    </a:lnTo>
                    <a:lnTo>
                      <a:pt x="692" y="242"/>
                    </a:lnTo>
                    <a:lnTo>
                      <a:pt x="639" y="225"/>
                    </a:lnTo>
                    <a:lnTo>
                      <a:pt x="599" y="220"/>
                    </a:lnTo>
                    <a:lnTo>
                      <a:pt x="553" y="214"/>
                    </a:lnTo>
                    <a:lnTo>
                      <a:pt x="518" y="208"/>
                    </a:lnTo>
                    <a:lnTo>
                      <a:pt x="471" y="180"/>
                    </a:lnTo>
                    <a:lnTo>
                      <a:pt x="436" y="157"/>
                    </a:lnTo>
                    <a:lnTo>
                      <a:pt x="401" y="130"/>
                    </a:lnTo>
                    <a:lnTo>
                      <a:pt x="367" y="101"/>
                    </a:lnTo>
                    <a:lnTo>
                      <a:pt x="332" y="73"/>
                    </a:lnTo>
                    <a:lnTo>
                      <a:pt x="297" y="45"/>
                    </a:lnTo>
                    <a:lnTo>
                      <a:pt x="262" y="17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ba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984360" y="4407840"/>
                <a:ext cx="55080" cy="52920"/>
              </a:xfrm>
              <a:custGeom>
                <a:avLst/>
                <a:gdLst/>
                <a:ahLst/>
                <a:rect l="l" t="t" r="r" b="b"/>
                <a:pathLst>
                  <a:path w="272" h="258">
                    <a:moveTo>
                      <a:pt x="180" y="0"/>
                    </a:moveTo>
                    <a:lnTo>
                      <a:pt x="122" y="10"/>
                    </a:lnTo>
                    <a:lnTo>
                      <a:pt x="69" y="50"/>
                    </a:lnTo>
                    <a:lnTo>
                      <a:pt x="23" y="95"/>
                    </a:lnTo>
                    <a:lnTo>
                      <a:pt x="5" y="152"/>
                    </a:lnTo>
                    <a:lnTo>
                      <a:pt x="0" y="196"/>
                    </a:lnTo>
                    <a:lnTo>
                      <a:pt x="11" y="235"/>
                    </a:lnTo>
                    <a:lnTo>
                      <a:pt x="34" y="252"/>
                    </a:lnTo>
                    <a:lnTo>
                      <a:pt x="86" y="258"/>
                    </a:lnTo>
                    <a:lnTo>
                      <a:pt x="92" y="252"/>
                    </a:lnTo>
                    <a:lnTo>
                      <a:pt x="104" y="252"/>
                    </a:lnTo>
                    <a:lnTo>
                      <a:pt x="110" y="247"/>
                    </a:lnTo>
                    <a:lnTo>
                      <a:pt x="99" y="247"/>
                    </a:lnTo>
                    <a:lnTo>
                      <a:pt x="157" y="218"/>
                    </a:lnTo>
                    <a:lnTo>
                      <a:pt x="208" y="186"/>
                    </a:lnTo>
                    <a:lnTo>
                      <a:pt x="243" y="140"/>
                    </a:lnTo>
                    <a:lnTo>
                      <a:pt x="267" y="101"/>
                    </a:lnTo>
                    <a:lnTo>
                      <a:pt x="272" y="56"/>
                    </a:lnTo>
                    <a:lnTo>
                      <a:pt x="261" y="22"/>
                    </a:lnTo>
                    <a:lnTo>
                      <a:pt x="226" y="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11760" y="4507200"/>
                <a:ext cx="36000" cy="34200"/>
              </a:xfrm>
              <a:custGeom>
                <a:avLst/>
                <a:gdLst/>
                <a:ahLst/>
                <a:rect l="l" t="t" r="r" b="b"/>
                <a:pathLst>
                  <a:path w="186" h="169">
                    <a:moveTo>
                      <a:pt x="76" y="0"/>
                    </a:moveTo>
                    <a:lnTo>
                      <a:pt x="52" y="29"/>
                    </a:lnTo>
                    <a:lnTo>
                      <a:pt x="29" y="57"/>
                    </a:lnTo>
                    <a:lnTo>
                      <a:pt x="11" y="85"/>
                    </a:lnTo>
                    <a:lnTo>
                      <a:pt x="6" y="118"/>
                    </a:lnTo>
                    <a:lnTo>
                      <a:pt x="0" y="135"/>
                    </a:lnTo>
                    <a:lnTo>
                      <a:pt x="11" y="159"/>
                    </a:lnTo>
                    <a:lnTo>
                      <a:pt x="41" y="164"/>
                    </a:lnTo>
                    <a:lnTo>
                      <a:pt x="99" y="169"/>
                    </a:lnTo>
                    <a:lnTo>
                      <a:pt x="151" y="152"/>
                    </a:lnTo>
                    <a:lnTo>
                      <a:pt x="180" y="135"/>
                    </a:lnTo>
                    <a:lnTo>
                      <a:pt x="186" y="108"/>
                    </a:lnTo>
                    <a:lnTo>
                      <a:pt x="180" y="85"/>
                    </a:lnTo>
                    <a:lnTo>
                      <a:pt x="157" y="57"/>
                    </a:lnTo>
                    <a:lnTo>
                      <a:pt x="133" y="34"/>
                    </a:lnTo>
                    <a:lnTo>
                      <a:pt x="99" y="12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51640" y="4509360"/>
                <a:ext cx="15480" cy="29880"/>
              </a:xfrm>
              <a:custGeom>
                <a:avLst/>
                <a:gdLst/>
                <a:ahLst/>
                <a:rect l="l" t="t" r="r" b="b"/>
                <a:pathLst>
                  <a:path w="76" h="147">
                    <a:moveTo>
                      <a:pt x="23" y="0"/>
                    </a:moveTo>
                    <a:lnTo>
                      <a:pt x="11" y="51"/>
                    </a:lnTo>
                    <a:lnTo>
                      <a:pt x="0" y="106"/>
                    </a:lnTo>
                    <a:lnTo>
                      <a:pt x="0" y="123"/>
                    </a:lnTo>
                    <a:lnTo>
                      <a:pt x="5" y="140"/>
                    </a:lnTo>
                    <a:lnTo>
                      <a:pt x="17" y="147"/>
                    </a:lnTo>
                    <a:lnTo>
                      <a:pt x="51" y="147"/>
                    </a:lnTo>
                    <a:lnTo>
                      <a:pt x="76" y="113"/>
                    </a:lnTo>
                    <a:lnTo>
                      <a:pt x="69" y="73"/>
                    </a:lnTo>
                    <a:lnTo>
                      <a:pt x="40" y="2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ba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228800" y="4518000"/>
                <a:ext cx="30960" cy="60480"/>
              </a:xfrm>
              <a:custGeom>
                <a:avLst/>
                <a:gdLst/>
                <a:ahLst/>
                <a:rect l="l" t="t" r="r" b="b"/>
                <a:pathLst>
                  <a:path w="157" h="298">
                    <a:moveTo>
                      <a:pt x="41" y="0"/>
                    </a:moveTo>
                    <a:lnTo>
                      <a:pt x="0" y="298"/>
                    </a:lnTo>
                    <a:lnTo>
                      <a:pt x="29" y="292"/>
                    </a:lnTo>
                    <a:lnTo>
                      <a:pt x="58" y="287"/>
                    </a:lnTo>
                    <a:lnTo>
                      <a:pt x="87" y="287"/>
                    </a:lnTo>
                    <a:lnTo>
                      <a:pt x="110" y="287"/>
                    </a:lnTo>
                    <a:lnTo>
                      <a:pt x="127" y="236"/>
                    </a:lnTo>
                    <a:lnTo>
                      <a:pt x="145" y="186"/>
                    </a:lnTo>
                    <a:lnTo>
                      <a:pt x="152" y="141"/>
                    </a:lnTo>
                    <a:lnTo>
                      <a:pt x="157" y="108"/>
                    </a:lnTo>
                    <a:lnTo>
                      <a:pt x="140" y="67"/>
                    </a:lnTo>
                    <a:lnTo>
                      <a:pt x="122" y="40"/>
                    </a:lnTo>
                    <a:lnTo>
                      <a:pt x="87" y="1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06840" y="4520160"/>
                <a:ext cx="10800" cy="28800"/>
              </a:xfrm>
              <a:custGeom>
                <a:avLst/>
                <a:gdLst/>
                <a:ahLst/>
                <a:rect l="l" t="t" r="r" b="b"/>
                <a:pathLst>
                  <a:path w="51" h="145">
                    <a:moveTo>
                      <a:pt x="17" y="0"/>
                    </a:moveTo>
                    <a:lnTo>
                      <a:pt x="5" y="39"/>
                    </a:lnTo>
                    <a:lnTo>
                      <a:pt x="0" y="96"/>
                    </a:lnTo>
                    <a:lnTo>
                      <a:pt x="5" y="135"/>
                    </a:lnTo>
                    <a:lnTo>
                      <a:pt x="28" y="145"/>
                    </a:lnTo>
                    <a:lnTo>
                      <a:pt x="51" y="101"/>
                    </a:lnTo>
                    <a:lnTo>
                      <a:pt x="46" y="62"/>
                    </a:lnTo>
                    <a:lnTo>
                      <a:pt x="23" y="2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661520" y="4520160"/>
                <a:ext cx="78120" cy="110880"/>
              </a:xfrm>
              <a:custGeom>
                <a:avLst/>
                <a:gdLst/>
                <a:ahLst/>
                <a:rect l="l" t="t" r="r" b="b"/>
                <a:pathLst>
                  <a:path w="389" h="545">
                    <a:moveTo>
                      <a:pt x="215" y="0"/>
                    </a:moveTo>
                    <a:lnTo>
                      <a:pt x="175" y="33"/>
                    </a:lnTo>
                    <a:lnTo>
                      <a:pt x="140" y="72"/>
                    </a:lnTo>
                    <a:lnTo>
                      <a:pt x="104" y="118"/>
                    </a:lnTo>
                    <a:lnTo>
                      <a:pt x="81" y="168"/>
                    </a:lnTo>
                    <a:lnTo>
                      <a:pt x="52" y="213"/>
                    </a:lnTo>
                    <a:lnTo>
                      <a:pt x="35" y="263"/>
                    </a:lnTo>
                    <a:lnTo>
                      <a:pt x="18" y="320"/>
                    </a:lnTo>
                    <a:lnTo>
                      <a:pt x="0" y="376"/>
                    </a:lnTo>
                    <a:lnTo>
                      <a:pt x="52" y="415"/>
                    </a:lnTo>
                    <a:lnTo>
                      <a:pt x="104" y="455"/>
                    </a:lnTo>
                    <a:lnTo>
                      <a:pt x="127" y="472"/>
                    </a:lnTo>
                    <a:lnTo>
                      <a:pt x="157" y="489"/>
                    </a:lnTo>
                    <a:lnTo>
                      <a:pt x="186" y="506"/>
                    </a:lnTo>
                    <a:lnTo>
                      <a:pt x="226" y="528"/>
                    </a:lnTo>
                    <a:lnTo>
                      <a:pt x="290" y="545"/>
                    </a:lnTo>
                    <a:lnTo>
                      <a:pt x="343" y="533"/>
                    </a:lnTo>
                    <a:lnTo>
                      <a:pt x="372" y="494"/>
                    </a:lnTo>
                    <a:lnTo>
                      <a:pt x="389" y="444"/>
                    </a:lnTo>
                    <a:lnTo>
                      <a:pt x="389" y="376"/>
                    </a:lnTo>
                    <a:lnTo>
                      <a:pt x="383" y="309"/>
                    </a:lnTo>
                    <a:lnTo>
                      <a:pt x="366" y="236"/>
                    </a:lnTo>
                    <a:lnTo>
                      <a:pt x="348" y="179"/>
                    </a:lnTo>
                    <a:lnTo>
                      <a:pt x="314" y="129"/>
                    </a:lnTo>
                    <a:lnTo>
                      <a:pt x="279" y="89"/>
                    </a:lnTo>
                    <a:lnTo>
                      <a:pt x="244" y="39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51440" y="4530960"/>
                <a:ext cx="175320" cy="420120"/>
              </a:xfrm>
              <a:custGeom>
                <a:avLst/>
                <a:gdLst/>
                <a:ahLst/>
                <a:rect l="l" t="t" r="r" b="b"/>
                <a:pathLst>
                  <a:path w="878" h="2059">
                    <a:moveTo>
                      <a:pt x="0" y="0"/>
                    </a:moveTo>
                    <a:lnTo>
                      <a:pt x="0" y="51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6" y="220"/>
                    </a:lnTo>
                    <a:lnTo>
                      <a:pt x="6" y="270"/>
                    </a:lnTo>
                    <a:lnTo>
                      <a:pt x="18" y="326"/>
                    </a:lnTo>
                    <a:lnTo>
                      <a:pt x="24" y="383"/>
                    </a:lnTo>
                    <a:lnTo>
                      <a:pt x="41" y="439"/>
                    </a:lnTo>
                    <a:lnTo>
                      <a:pt x="47" y="461"/>
                    </a:lnTo>
                    <a:lnTo>
                      <a:pt x="59" y="490"/>
                    </a:lnTo>
                    <a:lnTo>
                      <a:pt x="76" y="524"/>
                    </a:lnTo>
                    <a:lnTo>
                      <a:pt x="94" y="557"/>
                    </a:lnTo>
                    <a:lnTo>
                      <a:pt x="105" y="591"/>
                    </a:lnTo>
                    <a:lnTo>
                      <a:pt x="117" y="625"/>
                    </a:lnTo>
                    <a:lnTo>
                      <a:pt x="122" y="664"/>
                    </a:lnTo>
                    <a:lnTo>
                      <a:pt x="134" y="709"/>
                    </a:lnTo>
                    <a:lnTo>
                      <a:pt x="140" y="861"/>
                    </a:lnTo>
                    <a:lnTo>
                      <a:pt x="145" y="1024"/>
                    </a:lnTo>
                    <a:lnTo>
                      <a:pt x="151" y="1187"/>
                    </a:lnTo>
                    <a:lnTo>
                      <a:pt x="163" y="1356"/>
                    </a:lnTo>
                    <a:lnTo>
                      <a:pt x="168" y="1513"/>
                    </a:lnTo>
                    <a:lnTo>
                      <a:pt x="181" y="1677"/>
                    </a:lnTo>
                    <a:lnTo>
                      <a:pt x="198" y="1828"/>
                    </a:lnTo>
                    <a:lnTo>
                      <a:pt x="216" y="1980"/>
                    </a:lnTo>
                    <a:lnTo>
                      <a:pt x="297" y="1963"/>
                    </a:lnTo>
                    <a:lnTo>
                      <a:pt x="384" y="1963"/>
                    </a:lnTo>
                    <a:lnTo>
                      <a:pt x="459" y="1963"/>
                    </a:lnTo>
                    <a:lnTo>
                      <a:pt x="535" y="1980"/>
                    </a:lnTo>
                    <a:lnTo>
                      <a:pt x="604" y="1991"/>
                    </a:lnTo>
                    <a:lnTo>
                      <a:pt x="675" y="2008"/>
                    </a:lnTo>
                    <a:lnTo>
                      <a:pt x="744" y="2030"/>
                    </a:lnTo>
                    <a:lnTo>
                      <a:pt x="814" y="2059"/>
                    </a:lnTo>
                    <a:lnTo>
                      <a:pt x="825" y="2047"/>
                    </a:lnTo>
                    <a:lnTo>
                      <a:pt x="855" y="2030"/>
                    </a:lnTo>
                    <a:lnTo>
                      <a:pt x="878" y="1996"/>
                    </a:lnTo>
                    <a:lnTo>
                      <a:pt x="866" y="1969"/>
                    </a:lnTo>
                    <a:lnTo>
                      <a:pt x="837" y="1895"/>
                    </a:lnTo>
                    <a:lnTo>
                      <a:pt x="814" y="1743"/>
                    </a:lnTo>
                    <a:lnTo>
                      <a:pt x="784" y="1530"/>
                    </a:lnTo>
                    <a:lnTo>
                      <a:pt x="761" y="1294"/>
                    </a:lnTo>
                    <a:lnTo>
                      <a:pt x="733" y="1047"/>
                    </a:lnTo>
                    <a:lnTo>
                      <a:pt x="715" y="821"/>
                    </a:lnTo>
                    <a:lnTo>
                      <a:pt x="698" y="642"/>
                    </a:lnTo>
                    <a:lnTo>
                      <a:pt x="692" y="541"/>
                    </a:lnTo>
                    <a:lnTo>
                      <a:pt x="686" y="502"/>
                    </a:lnTo>
                    <a:lnTo>
                      <a:pt x="686" y="468"/>
                    </a:lnTo>
                    <a:lnTo>
                      <a:pt x="686" y="434"/>
                    </a:lnTo>
                    <a:lnTo>
                      <a:pt x="692" y="400"/>
                    </a:lnTo>
                    <a:lnTo>
                      <a:pt x="686" y="366"/>
                    </a:lnTo>
                    <a:lnTo>
                      <a:pt x="686" y="333"/>
                    </a:lnTo>
                    <a:lnTo>
                      <a:pt x="675" y="299"/>
                    </a:lnTo>
                    <a:lnTo>
                      <a:pt x="669" y="282"/>
                    </a:lnTo>
                    <a:lnTo>
                      <a:pt x="622" y="242"/>
                    </a:lnTo>
                    <a:lnTo>
                      <a:pt x="553" y="203"/>
                    </a:lnTo>
                    <a:lnTo>
                      <a:pt x="465" y="158"/>
                    </a:lnTo>
                    <a:lnTo>
                      <a:pt x="366" y="119"/>
                    </a:lnTo>
                    <a:lnTo>
                      <a:pt x="256" y="80"/>
                    </a:lnTo>
                    <a:lnTo>
                      <a:pt x="157" y="46"/>
                    </a:lnTo>
                    <a:lnTo>
                      <a:pt x="6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42960" y="4546080"/>
                <a:ext cx="66240" cy="90360"/>
              </a:xfrm>
              <a:custGeom>
                <a:avLst/>
                <a:gdLst/>
                <a:ahLst/>
                <a:rect l="l" t="t" r="r" b="b"/>
                <a:pathLst>
                  <a:path w="332" h="444">
                    <a:moveTo>
                      <a:pt x="105" y="0"/>
                    </a:moveTo>
                    <a:lnTo>
                      <a:pt x="65" y="45"/>
                    </a:lnTo>
                    <a:lnTo>
                      <a:pt x="30" y="117"/>
                    </a:lnTo>
                    <a:lnTo>
                      <a:pt x="7" y="196"/>
                    </a:lnTo>
                    <a:lnTo>
                      <a:pt x="0" y="286"/>
                    </a:lnTo>
                    <a:lnTo>
                      <a:pt x="7" y="360"/>
                    </a:lnTo>
                    <a:lnTo>
                      <a:pt x="47" y="416"/>
                    </a:lnTo>
                    <a:lnTo>
                      <a:pt x="116" y="444"/>
                    </a:lnTo>
                    <a:lnTo>
                      <a:pt x="222" y="438"/>
                    </a:lnTo>
                    <a:lnTo>
                      <a:pt x="296" y="394"/>
                    </a:lnTo>
                    <a:lnTo>
                      <a:pt x="332" y="343"/>
                    </a:lnTo>
                    <a:lnTo>
                      <a:pt x="326" y="281"/>
                    </a:lnTo>
                    <a:lnTo>
                      <a:pt x="303" y="219"/>
                    </a:lnTo>
                    <a:lnTo>
                      <a:pt x="256" y="151"/>
                    </a:lnTo>
                    <a:lnTo>
                      <a:pt x="204" y="90"/>
                    </a:lnTo>
                    <a:lnTo>
                      <a:pt x="146" y="33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71080" y="4554720"/>
                <a:ext cx="152640" cy="359640"/>
              </a:xfrm>
              <a:custGeom>
                <a:avLst/>
                <a:gdLst/>
                <a:ahLst/>
                <a:rect l="l" t="t" r="r" b="b"/>
                <a:pathLst>
                  <a:path w="767" h="1765">
                    <a:moveTo>
                      <a:pt x="581" y="0"/>
                    </a:moveTo>
                    <a:lnTo>
                      <a:pt x="505" y="0"/>
                    </a:lnTo>
                    <a:lnTo>
                      <a:pt x="429" y="11"/>
                    </a:lnTo>
                    <a:lnTo>
                      <a:pt x="354" y="17"/>
                    </a:lnTo>
                    <a:lnTo>
                      <a:pt x="284" y="28"/>
                    </a:lnTo>
                    <a:lnTo>
                      <a:pt x="209" y="28"/>
                    </a:lnTo>
                    <a:lnTo>
                      <a:pt x="140" y="34"/>
                    </a:lnTo>
                    <a:lnTo>
                      <a:pt x="75" y="22"/>
                    </a:lnTo>
                    <a:lnTo>
                      <a:pt x="23" y="11"/>
                    </a:lnTo>
                    <a:lnTo>
                      <a:pt x="6" y="135"/>
                    </a:lnTo>
                    <a:lnTo>
                      <a:pt x="0" y="287"/>
                    </a:lnTo>
                    <a:lnTo>
                      <a:pt x="0" y="461"/>
                    </a:lnTo>
                    <a:lnTo>
                      <a:pt x="0" y="652"/>
                    </a:lnTo>
                    <a:lnTo>
                      <a:pt x="0" y="838"/>
                    </a:lnTo>
                    <a:lnTo>
                      <a:pt x="6" y="1029"/>
                    </a:lnTo>
                    <a:lnTo>
                      <a:pt x="17" y="1209"/>
                    </a:lnTo>
                    <a:lnTo>
                      <a:pt x="34" y="1378"/>
                    </a:lnTo>
                    <a:lnTo>
                      <a:pt x="34" y="1422"/>
                    </a:lnTo>
                    <a:lnTo>
                      <a:pt x="46" y="1468"/>
                    </a:lnTo>
                    <a:lnTo>
                      <a:pt x="52" y="1513"/>
                    </a:lnTo>
                    <a:lnTo>
                      <a:pt x="64" y="1564"/>
                    </a:lnTo>
                    <a:lnTo>
                      <a:pt x="69" y="1608"/>
                    </a:lnTo>
                    <a:lnTo>
                      <a:pt x="75" y="1653"/>
                    </a:lnTo>
                    <a:lnTo>
                      <a:pt x="75" y="1704"/>
                    </a:lnTo>
                    <a:lnTo>
                      <a:pt x="75" y="1755"/>
                    </a:lnTo>
                    <a:lnTo>
                      <a:pt x="92" y="1748"/>
                    </a:lnTo>
                    <a:lnTo>
                      <a:pt x="127" y="1748"/>
                    </a:lnTo>
                    <a:lnTo>
                      <a:pt x="163" y="1743"/>
                    </a:lnTo>
                    <a:lnTo>
                      <a:pt x="197" y="1743"/>
                    </a:lnTo>
                    <a:lnTo>
                      <a:pt x="232" y="1743"/>
                    </a:lnTo>
                    <a:lnTo>
                      <a:pt x="272" y="1743"/>
                    </a:lnTo>
                    <a:lnTo>
                      <a:pt x="308" y="1743"/>
                    </a:lnTo>
                    <a:lnTo>
                      <a:pt x="354" y="1743"/>
                    </a:lnTo>
                    <a:lnTo>
                      <a:pt x="348" y="1704"/>
                    </a:lnTo>
                    <a:lnTo>
                      <a:pt x="348" y="1659"/>
                    </a:lnTo>
                    <a:lnTo>
                      <a:pt x="348" y="1608"/>
                    </a:lnTo>
                    <a:lnTo>
                      <a:pt x="354" y="1564"/>
                    </a:lnTo>
                    <a:lnTo>
                      <a:pt x="354" y="1513"/>
                    </a:lnTo>
                    <a:lnTo>
                      <a:pt x="354" y="1462"/>
                    </a:lnTo>
                    <a:lnTo>
                      <a:pt x="354" y="1412"/>
                    </a:lnTo>
                    <a:lnTo>
                      <a:pt x="354" y="1366"/>
                    </a:lnTo>
                    <a:lnTo>
                      <a:pt x="343" y="1282"/>
                    </a:lnTo>
                    <a:lnTo>
                      <a:pt x="336" y="1198"/>
                    </a:lnTo>
                    <a:lnTo>
                      <a:pt x="331" y="1113"/>
                    </a:lnTo>
                    <a:lnTo>
                      <a:pt x="331" y="1029"/>
                    </a:lnTo>
                    <a:lnTo>
                      <a:pt x="325" y="939"/>
                    </a:lnTo>
                    <a:lnTo>
                      <a:pt x="325" y="850"/>
                    </a:lnTo>
                    <a:lnTo>
                      <a:pt x="320" y="754"/>
                    </a:lnTo>
                    <a:lnTo>
                      <a:pt x="320" y="658"/>
                    </a:lnTo>
                    <a:lnTo>
                      <a:pt x="313" y="619"/>
                    </a:lnTo>
                    <a:lnTo>
                      <a:pt x="313" y="585"/>
                    </a:lnTo>
                    <a:lnTo>
                      <a:pt x="313" y="563"/>
                    </a:lnTo>
                    <a:lnTo>
                      <a:pt x="320" y="546"/>
                    </a:lnTo>
                    <a:lnTo>
                      <a:pt x="343" y="517"/>
                    </a:lnTo>
                    <a:lnTo>
                      <a:pt x="383" y="490"/>
                    </a:lnTo>
                    <a:lnTo>
                      <a:pt x="406" y="635"/>
                    </a:lnTo>
                    <a:lnTo>
                      <a:pt x="429" y="799"/>
                    </a:lnTo>
                    <a:lnTo>
                      <a:pt x="441" y="973"/>
                    </a:lnTo>
                    <a:lnTo>
                      <a:pt x="452" y="1152"/>
                    </a:lnTo>
                    <a:lnTo>
                      <a:pt x="452" y="1327"/>
                    </a:lnTo>
                    <a:lnTo>
                      <a:pt x="452" y="1496"/>
                    </a:lnTo>
                    <a:lnTo>
                      <a:pt x="452" y="1642"/>
                    </a:lnTo>
                    <a:lnTo>
                      <a:pt x="465" y="1765"/>
                    </a:lnTo>
                    <a:lnTo>
                      <a:pt x="493" y="1760"/>
                    </a:lnTo>
                    <a:lnTo>
                      <a:pt x="528" y="1755"/>
                    </a:lnTo>
                    <a:lnTo>
                      <a:pt x="563" y="1748"/>
                    </a:lnTo>
                    <a:lnTo>
                      <a:pt x="604" y="1748"/>
                    </a:lnTo>
                    <a:lnTo>
                      <a:pt x="639" y="1743"/>
                    </a:lnTo>
                    <a:lnTo>
                      <a:pt x="680" y="1743"/>
                    </a:lnTo>
                    <a:lnTo>
                      <a:pt x="720" y="1743"/>
                    </a:lnTo>
                    <a:lnTo>
                      <a:pt x="767" y="1743"/>
                    </a:lnTo>
                    <a:lnTo>
                      <a:pt x="761" y="1496"/>
                    </a:lnTo>
                    <a:lnTo>
                      <a:pt x="756" y="1265"/>
                    </a:lnTo>
                    <a:lnTo>
                      <a:pt x="743" y="1046"/>
                    </a:lnTo>
                    <a:lnTo>
                      <a:pt x="731" y="843"/>
                    </a:lnTo>
                    <a:lnTo>
                      <a:pt x="714" y="635"/>
                    </a:lnTo>
                    <a:lnTo>
                      <a:pt x="708" y="433"/>
                    </a:lnTo>
                    <a:lnTo>
                      <a:pt x="703" y="225"/>
                    </a:lnTo>
                    <a:lnTo>
                      <a:pt x="703" y="11"/>
                    </a:lnTo>
                    <a:lnTo>
                      <a:pt x="673" y="6"/>
                    </a:lnTo>
                    <a:lnTo>
                      <a:pt x="645" y="6"/>
                    </a:lnTo>
                    <a:lnTo>
                      <a:pt x="609" y="0"/>
                    </a:lnTo>
                    <a:lnTo>
                      <a:pt x="581" y="0"/>
                    </a:lnTo>
                    <a:close/>
                  </a:path>
                </a:pathLst>
              </a:custGeom>
              <a:solidFill>
                <a:srgbClr val="0cd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44800" y="4560120"/>
                <a:ext cx="50400" cy="68040"/>
              </a:xfrm>
              <a:custGeom>
                <a:avLst/>
                <a:gdLst/>
                <a:ahLst/>
                <a:rect l="l" t="t" r="r" b="b"/>
                <a:pathLst>
                  <a:path w="250" h="332">
                    <a:moveTo>
                      <a:pt x="0" y="0"/>
                    </a:moveTo>
                    <a:lnTo>
                      <a:pt x="6" y="34"/>
                    </a:lnTo>
                    <a:lnTo>
                      <a:pt x="12" y="79"/>
                    </a:lnTo>
                    <a:lnTo>
                      <a:pt x="12" y="124"/>
                    </a:lnTo>
                    <a:lnTo>
                      <a:pt x="29" y="163"/>
                    </a:lnTo>
                    <a:lnTo>
                      <a:pt x="40" y="180"/>
                    </a:lnTo>
                    <a:lnTo>
                      <a:pt x="64" y="209"/>
                    </a:lnTo>
                    <a:lnTo>
                      <a:pt x="98" y="231"/>
                    </a:lnTo>
                    <a:lnTo>
                      <a:pt x="134" y="259"/>
                    </a:lnTo>
                    <a:lnTo>
                      <a:pt x="163" y="281"/>
                    </a:lnTo>
                    <a:lnTo>
                      <a:pt x="197" y="304"/>
                    </a:lnTo>
                    <a:lnTo>
                      <a:pt x="220" y="315"/>
                    </a:lnTo>
                    <a:lnTo>
                      <a:pt x="244" y="332"/>
                    </a:lnTo>
                    <a:lnTo>
                      <a:pt x="250" y="236"/>
                    </a:lnTo>
                    <a:lnTo>
                      <a:pt x="250" y="169"/>
                    </a:lnTo>
                    <a:lnTo>
                      <a:pt x="244" y="113"/>
                    </a:lnTo>
                    <a:lnTo>
                      <a:pt x="227" y="74"/>
                    </a:lnTo>
                    <a:lnTo>
                      <a:pt x="192" y="40"/>
                    </a:lnTo>
                    <a:lnTo>
                      <a:pt x="146" y="23"/>
                    </a:lnTo>
                    <a:lnTo>
                      <a:pt x="7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4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33200" y="4560120"/>
                <a:ext cx="263160" cy="462240"/>
              </a:xfrm>
              <a:custGeom>
                <a:avLst/>
                <a:gdLst/>
                <a:ahLst/>
                <a:rect l="l" t="t" r="r" b="b"/>
                <a:pathLst>
                  <a:path w="1313" h="2266">
                    <a:moveTo>
                      <a:pt x="930" y="0"/>
                    </a:moveTo>
                    <a:lnTo>
                      <a:pt x="907" y="17"/>
                    </a:lnTo>
                    <a:lnTo>
                      <a:pt x="889" y="62"/>
                    </a:lnTo>
                    <a:lnTo>
                      <a:pt x="872" y="107"/>
                    </a:lnTo>
                    <a:lnTo>
                      <a:pt x="866" y="175"/>
                    </a:lnTo>
                    <a:lnTo>
                      <a:pt x="854" y="236"/>
                    </a:lnTo>
                    <a:lnTo>
                      <a:pt x="854" y="298"/>
                    </a:lnTo>
                    <a:lnTo>
                      <a:pt x="854" y="349"/>
                    </a:lnTo>
                    <a:lnTo>
                      <a:pt x="866" y="400"/>
                    </a:lnTo>
                    <a:lnTo>
                      <a:pt x="872" y="411"/>
                    </a:lnTo>
                    <a:lnTo>
                      <a:pt x="889" y="439"/>
                    </a:lnTo>
                    <a:lnTo>
                      <a:pt x="919" y="462"/>
                    </a:lnTo>
                    <a:lnTo>
                      <a:pt x="953" y="496"/>
                    </a:lnTo>
                    <a:lnTo>
                      <a:pt x="982" y="523"/>
                    </a:lnTo>
                    <a:lnTo>
                      <a:pt x="1017" y="551"/>
                    </a:lnTo>
                    <a:lnTo>
                      <a:pt x="1034" y="568"/>
                    </a:lnTo>
                    <a:lnTo>
                      <a:pt x="1052" y="591"/>
                    </a:lnTo>
                    <a:lnTo>
                      <a:pt x="1052" y="619"/>
                    </a:lnTo>
                    <a:lnTo>
                      <a:pt x="1052" y="670"/>
                    </a:lnTo>
                    <a:lnTo>
                      <a:pt x="1046" y="697"/>
                    </a:lnTo>
                    <a:lnTo>
                      <a:pt x="1046" y="726"/>
                    </a:lnTo>
                    <a:lnTo>
                      <a:pt x="1046" y="754"/>
                    </a:lnTo>
                    <a:lnTo>
                      <a:pt x="1052" y="781"/>
                    </a:lnTo>
                    <a:lnTo>
                      <a:pt x="1052" y="815"/>
                    </a:lnTo>
                    <a:lnTo>
                      <a:pt x="1064" y="861"/>
                    </a:lnTo>
                    <a:lnTo>
                      <a:pt x="1069" y="894"/>
                    </a:lnTo>
                    <a:lnTo>
                      <a:pt x="1081" y="940"/>
                    </a:lnTo>
                    <a:lnTo>
                      <a:pt x="1092" y="973"/>
                    </a:lnTo>
                    <a:lnTo>
                      <a:pt x="1104" y="1018"/>
                    </a:lnTo>
                    <a:lnTo>
                      <a:pt x="1115" y="1052"/>
                    </a:lnTo>
                    <a:lnTo>
                      <a:pt x="1133" y="1097"/>
                    </a:lnTo>
                    <a:lnTo>
                      <a:pt x="1069" y="1107"/>
                    </a:lnTo>
                    <a:lnTo>
                      <a:pt x="1023" y="1119"/>
                    </a:lnTo>
                    <a:lnTo>
                      <a:pt x="970" y="1124"/>
                    </a:lnTo>
                    <a:lnTo>
                      <a:pt x="930" y="1131"/>
                    </a:lnTo>
                    <a:lnTo>
                      <a:pt x="884" y="1131"/>
                    </a:lnTo>
                    <a:lnTo>
                      <a:pt x="836" y="1131"/>
                    </a:lnTo>
                    <a:lnTo>
                      <a:pt x="790" y="1136"/>
                    </a:lnTo>
                    <a:lnTo>
                      <a:pt x="744" y="1147"/>
                    </a:lnTo>
                    <a:lnTo>
                      <a:pt x="732" y="1259"/>
                    </a:lnTo>
                    <a:lnTo>
                      <a:pt x="732" y="1389"/>
                    </a:lnTo>
                    <a:lnTo>
                      <a:pt x="738" y="1524"/>
                    </a:lnTo>
                    <a:lnTo>
                      <a:pt x="744" y="1670"/>
                    </a:lnTo>
                    <a:lnTo>
                      <a:pt x="744" y="1805"/>
                    </a:lnTo>
                    <a:lnTo>
                      <a:pt x="744" y="1940"/>
                    </a:lnTo>
                    <a:lnTo>
                      <a:pt x="738" y="2058"/>
                    </a:lnTo>
                    <a:lnTo>
                      <a:pt x="732" y="2164"/>
                    </a:lnTo>
                    <a:lnTo>
                      <a:pt x="709" y="2120"/>
                    </a:lnTo>
                    <a:lnTo>
                      <a:pt x="692" y="2075"/>
                    </a:lnTo>
                    <a:lnTo>
                      <a:pt x="681" y="2019"/>
                    </a:lnTo>
                    <a:lnTo>
                      <a:pt x="681" y="1968"/>
                    </a:lnTo>
                    <a:lnTo>
                      <a:pt x="681" y="1906"/>
                    </a:lnTo>
                    <a:lnTo>
                      <a:pt x="681" y="1850"/>
                    </a:lnTo>
                    <a:lnTo>
                      <a:pt x="681" y="1788"/>
                    </a:lnTo>
                    <a:lnTo>
                      <a:pt x="681" y="1727"/>
                    </a:lnTo>
                    <a:lnTo>
                      <a:pt x="668" y="1648"/>
                    </a:lnTo>
                    <a:lnTo>
                      <a:pt x="663" y="1563"/>
                    </a:lnTo>
                    <a:lnTo>
                      <a:pt x="651" y="1473"/>
                    </a:lnTo>
                    <a:lnTo>
                      <a:pt x="651" y="1389"/>
                    </a:lnTo>
                    <a:lnTo>
                      <a:pt x="651" y="1293"/>
                    </a:lnTo>
                    <a:lnTo>
                      <a:pt x="651" y="1209"/>
                    </a:lnTo>
                    <a:lnTo>
                      <a:pt x="651" y="1119"/>
                    </a:lnTo>
                    <a:lnTo>
                      <a:pt x="663" y="1040"/>
                    </a:lnTo>
                    <a:lnTo>
                      <a:pt x="697" y="1029"/>
                    </a:lnTo>
                    <a:lnTo>
                      <a:pt x="721" y="1024"/>
                    </a:lnTo>
                    <a:lnTo>
                      <a:pt x="732" y="1012"/>
                    </a:lnTo>
                    <a:lnTo>
                      <a:pt x="738" y="1001"/>
                    </a:lnTo>
                    <a:lnTo>
                      <a:pt x="732" y="979"/>
                    </a:lnTo>
                    <a:lnTo>
                      <a:pt x="732" y="957"/>
                    </a:lnTo>
                    <a:lnTo>
                      <a:pt x="732" y="923"/>
                    </a:lnTo>
                    <a:lnTo>
                      <a:pt x="744" y="889"/>
                    </a:lnTo>
                    <a:lnTo>
                      <a:pt x="778" y="877"/>
                    </a:lnTo>
                    <a:lnTo>
                      <a:pt x="808" y="866"/>
                    </a:lnTo>
                    <a:lnTo>
                      <a:pt x="831" y="849"/>
                    </a:lnTo>
                    <a:lnTo>
                      <a:pt x="854" y="832"/>
                    </a:lnTo>
                    <a:lnTo>
                      <a:pt x="861" y="805"/>
                    </a:lnTo>
                    <a:lnTo>
                      <a:pt x="877" y="776"/>
                    </a:lnTo>
                    <a:lnTo>
                      <a:pt x="889" y="742"/>
                    </a:lnTo>
                    <a:lnTo>
                      <a:pt x="907" y="709"/>
                    </a:lnTo>
                    <a:lnTo>
                      <a:pt x="912" y="653"/>
                    </a:lnTo>
                    <a:lnTo>
                      <a:pt x="907" y="613"/>
                    </a:lnTo>
                    <a:lnTo>
                      <a:pt x="889" y="574"/>
                    </a:lnTo>
                    <a:lnTo>
                      <a:pt x="877" y="545"/>
                    </a:lnTo>
                    <a:lnTo>
                      <a:pt x="849" y="511"/>
                    </a:lnTo>
                    <a:lnTo>
                      <a:pt x="820" y="479"/>
                    </a:lnTo>
                    <a:lnTo>
                      <a:pt x="790" y="445"/>
                    </a:lnTo>
                    <a:lnTo>
                      <a:pt x="773" y="411"/>
                    </a:lnTo>
                    <a:lnTo>
                      <a:pt x="715" y="416"/>
                    </a:lnTo>
                    <a:lnTo>
                      <a:pt x="656" y="422"/>
                    </a:lnTo>
                    <a:lnTo>
                      <a:pt x="598" y="416"/>
                    </a:lnTo>
                    <a:lnTo>
                      <a:pt x="547" y="416"/>
                    </a:lnTo>
                    <a:lnTo>
                      <a:pt x="488" y="405"/>
                    </a:lnTo>
                    <a:lnTo>
                      <a:pt x="430" y="394"/>
                    </a:lnTo>
                    <a:lnTo>
                      <a:pt x="372" y="377"/>
                    </a:lnTo>
                    <a:lnTo>
                      <a:pt x="319" y="371"/>
                    </a:lnTo>
                    <a:lnTo>
                      <a:pt x="261" y="366"/>
                    </a:lnTo>
                    <a:lnTo>
                      <a:pt x="227" y="388"/>
                    </a:lnTo>
                    <a:lnTo>
                      <a:pt x="203" y="422"/>
                    </a:lnTo>
                    <a:lnTo>
                      <a:pt x="192" y="472"/>
                    </a:lnTo>
                    <a:lnTo>
                      <a:pt x="180" y="523"/>
                    </a:lnTo>
                    <a:lnTo>
                      <a:pt x="180" y="585"/>
                    </a:lnTo>
                    <a:lnTo>
                      <a:pt x="174" y="646"/>
                    </a:lnTo>
                    <a:lnTo>
                      <a:pt x="174" y="709"/>
                    </a:lnTo>
                    <a:lnTo>
                      <a:pt x="146" y="894"/>
                    </a:lnTo>
                    <a:lnTo>
                      <a:pt x="116" y="1080"/>
                    </a:lnTo>
                    <a:lnTo>
                      <a:pt x="81" y="1266"/>
                    </a:lnTo>
                    <a:lnTo>
                      <a:pt x="58" y="1451"/>
                    </a:lnTo>
                    <a:lnTo>
                      <a:pt x="29" y="1636"/>
                    </a:lnTo>
                    <a:lnTo>
                      <a:pt x="12" y="1833"/>
                    </a:lnTo>
                    <a:lnTo>
                      <a:pt x="0" y="2030"/>
                    </a:lnTo>
                    <a:lnTo>
                      <a:pt x="0" y="2238"/>
                    </a:lnTo>
                    <a:lnTo>
                      <a:pt x="52" y="2221"/>
                    </a:lnTo>
                    <a:lnTo>
                      <a:pt x="116" y="2205"/>
                    </a:lnTo>
                    <a:lnTo>
                      <a:pt x="180" y="2188"/>
                    </a:lnTo>
                    <a:lnTo>
                      <a:pt x="250" y="2171"/>
                    </a:lnTo>
                    <a:lnTo>
                      <a:pt x="314" y="2154"/>
                    </a:lnTo>
                    <a:lnTo>
                      <a:pt x="384" y="2148"/>
                    </a:lnTo>
                    <a:lnTo>
                      <a:pt x="448" y="2142"/>
                    </a:lnTo>
                    <a:lnTo>
                      <a:pt x="517" y="2148"/>
                    </a:lnTo>
                    <a:lnTo>
                      <a:pt x="552" y="2148"/>
                    </a:lnTo>
                    <a:lnTo>
                      <a:pt x="598" y="2164"/>
                    </a:lnTo>
                    <a:lnTo>
                      <a:pt x="645" y="2181"/>
                    </a:lnTo>
                    <a:lnTo>
                      <a:pt x="697" y="2205"/>
                    </a:lnTo>
                    <a:lnTo>
                      <a:pt x="744" y="2221"/>
                    </a:lnTo>
                    <a:lnTo>
                      <a:pt x="790" y="2238"/>
                    </a:lnTo>
                    <a:lnTo>
                      <a:pt x="836" y="2249"/>
                    </a:lnTo>
                    <a:lnTo>
                      <a:pt x="889" y="2266"/>
                    </a:lnTo>
                    <a:lnTo>
                      <a:pt x="930" y="2266"/>
                    </a:lnTo>
                    <a:lnTo>
                      <a:pt x="970" y="2266"/>
                    </a:lnTo>
                    <a:lnTo>
                      <a:pt x="1011" y="2266"/>
                    </a:lnTo>
                    <a:lnTo>
                      <a:pt x="1052" y="2266"/>
                    </a:lnTo>
                    <a:lnTo>
                      <a:pt x="1087" y="2260"/>
                    </a:lnTo>
                    <a:lnTo>
                      <a:pt x="1127" y="2260"/>
                    </a:lnTo>
                    <a:lnTo>
                      <a:pt x="1163" y="2260"/>
                    </a:lnTo>
                    <a:lnTo>
                      <a:pt x="1214" y="2266"/>
                    </a:lnTo>
                    <a:lnTo>
                      <a:pt x="1209" y="2221"/>
                    </a:lnTo>
                    <a:lnTo>
                      <a:pt x="1214" y="2176"/>
                    </a:lnTo>
                    <a:lnTo>
                      <a:pt x="1221" y="2171"/>
                    </a:lnTo>
                    <a:lnTo>
                      <a:pt x="1249" y="2164"/>
                    </a:lnTo>
                    <a:lnTo>
                      <a:pt x="1267" y="2164"/>
                    </a:lnTo>
                    <a:lnTo>
                      <a:pt x="1267" y="2176"/>
                    </a:lnTo>
                    <a:lnTo>
                      <a:pt x="1267" y="2188"/>
                    </a:lnTo>
                    <a:lnTo>
                      <a:pt x="1284" y="2210"/>
                    </a:lnTo>
                    <a:lnTo>
                      <a:pt x="1290" y="2227"/>
                    </a:lnTo>
                    <a:lnTo>
                      <a:pt x="1302" y="2238"/>
                    </a:lnTo>
                    <a:lnTo>
                      <a:pt x="1284" y="1997"/>
                    </a:lnTo>
                    <a:lnTo>
                      <a:pt x="1290" y="1749"/>
                    </a:lnTo>
                    <a:lnTo>
                      <a:pt x="1297" y="1485"/>
                    </a:lnTo>
                    <a:lnTo>
                      <a:pt x="1307" y="1226"/>
                    </a:lnTo>
                    <a:lnTo>
                      <a:pt x="1313" y="957"/>
                    </a:lnTo>
                    <a:lnTo>
                      <a:pt x="1313" y="709"/>
                    </a:lnTo>
                    <a:lnTo>
                      <a:pt x="1307" y="467"/>
                    </a:lnTo>
                    <a:lnTo>
                      <a:pt x="1290" y="253"/>
                    </a:lnTo>
                    <a:lnTo>
                      <a:pt x="1244" y="276"/>
                    </a:lnTo>
                    <a:lnTo>
                      <a:pt x="1186" y="310"/>
                    </a:lnTo>
                    <a:lnTo>
                      <a:pt x="1122" y="344"/>
                    </a:lnTo>
                    <a:lnTo>
                      <a:pt x="1064" y="371"/>
                    </a:lnTo>
                    <a:lnTo>
                      <a:pt x="1006" y="377"/>
                    </a:lnTo>
                    <a:lnTo>
                      <a:pt x="965" y="361"/>
                    </a:lnTo>
                    <a:lnTo>
                      <a:pt x="942" y="304"/>
                    </a:lnTo>
                    <a:lnTo>
                      <a:pt x="947" y="219"/>
                    </a:lnTo>
                    <a:lnTo>
                      <a:pt x="953" y="185"/>
                    </a:lnTo>
                    <a:lnTo>
                      <a:pt x="970" y="158"/>
                    </a:lnTo>
                    <a:lnTo>
                      <a:pt x="988" y="118"/>
                    </a:lnTo>
                    <a:lnTo>
                      <a:pt x="1000" y="79"/>
                    </a:lnTo>
                    <a:lnTo>
                      <a:pt x="982" y="50"/>
                    </a:lnTo>
                    <a:lnTo>
                      <a:pt x="965" y="28"/>
                    </a:lnTo>
                    <a:lnTo>
                      <a:pt x="935" y="11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734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41280" y="4557960"/>
                <a:ext cx="46800" cy="57240"/>
              </a:xfrm>
              <a:custGeom>
                <a:avLst/>
                <a:gdLst/>
                <a:ahLst/>
                <a:rect l="l" t="t" r="r" b="b"/>
                <a:pathLst>
                  <a:path w="231" h="281">
                    <a:moveTo>
                      <a:pt x="104" y="11"/>
                    </a:moveTo>
                    <a:lnTo>
                      <a:pt x="74" y="22"/>
                    </a:lnTo>
                    <a:lnTo>
                      <a:pt x="46" y="68"/>
                    </a:lnTo>
                    <a:lnTo>
                      <a:pt x="17" y="118"/>
                    </a:lnTo>
                    <a:lnTo>
                      <a:pt x="5" y="180"/>
                    </a:lnTo>
                    <a:lnTo>
                      <a:pt x="0" y="225"/>
                    </a:lnTo>
                    <a:lnTo>
                      <a:pt x="11" y="264"/>
                    </a:lnTo>
                    <a:lnTo>
                      <a:pt x="46" y="281"/>
                    </a:lnTo>
                    <a:lnTo>
                      <a:pt x="104" y="264"/>
                    </a:lnTo>
                    <a:lnTo>
                      <a:pt x="133" y="236"/>
                    </a:lnTo>
                    <a:lnTo>
                      <a:pt x="168" y="196"/>
                    </a:lnTo>
                    <a:lnTo>
                      <a:pt x="197" y="146"/>
                    </a:lnTo>
                    <a:lnTo>
                      <a:pt x="226" y="101"/>
                    </a:lnTo>
                    <a:lnTo>
                      <a:pt x="231" y="51"/>
                    </a:lnTo>
                    <a:lnTo>
                      <a:pt x="220" y="22"/>
                    </a:lnTo>
                    <a:lnTo>
                      <a:pt x="180" y="0"/>
                    </a:lnTo>
                    <a:lnTo>
                      <a:pt x="104" y="11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382520" y="4578480"/>
                <a:ext cx="82800" cy="55080"/>
              </a:xfrm>
              <a:custGeom>
                <a:avLst/>
                <a:gdLst/>
                <a:ahLst/>
                <a:rect l="l" t="t" r="r" b="b"/>
                <a:pathLst>
                  <a:path w="418" h="271">
                    <a:moveTo>
                      <a:pt x="23" y="0"/>
                    </a:moveTo>
                    <a:lnTo>
                      <a:pt x="0" y="68"/>
                    </a:lnTo>
                    <a:lnTo>
                      <a:pt x="0" y="119"/>
                    </a:lnTo>
                    <a:lnTo>
                      <a:pt x="11" y="158"/>
                    </a:lnTo>
                    <a:lnTo>
                      <a:pt x="40" y="197"/>
                    </a:lnTo>
                    <a:lnTo>
                      <a:pt x="74" y="214"/>
                    </a:lnTo>
                    <a:lnTo>
                      <a:pt x="127" y="237"/>
                    </a:lnTo>
                    <a:lnTo>
                      <a:pt x="185" y="254"/>
                    </a:lnTo>
                    <a:lnTo>
                      <a:pt x="261" y="271"/>
                    </a:lnTo>
                    <a:lnTo>
                      <a:pt x="295" y="271"/>
                    </a:lnTo>
                    <a:lnTo>
                      <a:pt x="337" y="271"/>
                    </a:lnTo>
                    <a:lnTo>
                      <a:pt x="365" y="271"/>
                    </a:lnTo>
                    <a:lnTo>
                      <a:pt x="383" y="271"/>
                    </a:lnTo>
                    <a:lnTo>
                      <a:pt x="400" y="264"/>
                    </a:lnTo>
                    <a:lnTo>
                      <a:pt x="418" y="254"/>
                    </a:lnTo>
                    <a:lnTo>
                      <a:pt x="411" y="242"/>
                    </a:lnTo>
                    <a:lnTo>
                      <a:pt x="406" y="242"/>
                    </a:lnTo>
                    <a:lnTo>
                      <a:pt x="365" y="191"/>
                    </a:lnTo>
                    <a:lnTo>
                      <a:pt x="330" y="152"/>
                    </a:lnTo>
                    <a:lnTo>
                      <a:pt x="284" y="112"/>
                    </a:lnTo>
                    <a:lnTo>
                      <a:pt x="238" y="79"/>
                    </a:lnTo>
                    <a:lnTo>
                      <a:pt x="185" y="45"/>
                    </a:lnTo>
                    <a:lnTo>
                      <a:pt x="132" y="23"/>
                    </a:lnTo>
                    <a:lnTo>
                      <a:pt x="74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83800" y="4672440"/>
                <a:ext cx="52560" cy="35280"/>
              </a:xfrm>
              <a:custGeom>
                <a:avLst/>
                <a:gdLst/>
                <a:ahLst/>
                <a:rect l="l" t="t" r="r" b="b"/>
                <a:pathLst>
                  <a:path w="263" h="175">
                    <a:moveTo>
                      <a:pt x="0" y="0"/>
                    </a:moveTo>
                    <a:lnTo>
                      <a:pt x="7" y="17"/>
                    </a:lnTo>
                    <a:lnTo>
                      <a:pt x="12" y="51"/>
                    </a:lnTo>
                    <a:lnTo>
                      <a:pt x="18" y="85"/>
                    </a:lnTo>
                    <a:lnTo>
                      <a:pt x="30" y="129"/>
                    </a:lnTo>
                    <a:lnTo>
                      <a:pt x="53" y="158"/>
                    </a:lnTo>
                    <a:lnTo>
                      <a:pt x="94" y="175"/>
                    </a:lnTo>
                    <a:lnTo>
                      <a:pt x="157" y="175"/>
                    </a:lnTo>
                    <a:lnTo>
                      <a:pt x="256" y="158"/>
                    </a:lnTo>
                    <a:lnTo>
                      <a:pt x="263" y="135"/>
                    </a:lnTo>
                    <a:lnTo>
                      <a:pt x="251" y="119"/>
                    </a:lnTo>
                    <a:lnTo>
                      <a:pt x="222" y="95"/>
                    </a:lnTo>
                    <a:lnTo>
                      <a:pt x="182" y="73"/>
                    </a:lnTo>
                    <a:lnTo>
                      <a:pt x="129" y="45"/>
                    </a:lnTo>
                    <a:lnTo>
                      <a:pt x="76" y="28"/>
                    </a:lnTo>
                    <a:lnTo>
                      <a:pt x="3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58360" y="4704840"/>
                <a:ext cx="34560" cy="179280"/>
              </a:xfrm>
              <a:custGeom>
                <a:avLst/>
                <a:gdLst/>
                <a:ahLst/>
                <a:rect l="l" t="t" r="r" b="b"/>
                <a:pathLst>
                  <a:path w="175" h="876">
                    <a:moveTo>
                      <a:pt x="11" y="0"/>
                    </a:moveTo>
                    <a:lnTo>
                      <a:pt x="64" y="11"/>
                    </a:lnTo>
                    <a:lnTo>
                      <a:pt x="122" y="22"/>
                    </a:lnTo>
                    <a:lnTo>
                      <a:pt x="122" y="123"/>
                    </a:lnTo>
                    <a:lnTo>
                      <a:pt x="128" y="224"/>
                    </a:lnTo>
                    <a:lnTo>
                      <a:pt x="134" y="326"/>
                    </a:lnTo>
                    <a:lnTo>
                      <a:pt x="145" y="427"/>
                    </a:lnTo>
                    <a:lnTo>
                      <a:pt x="151" y="523"/>
                    </a:lnTo>
                    <a:lnTo>
                      <a:pt x="163" y="618"/>
                    </a:lnTo>
                    <a:lnTo>
                      <a:pt x="168" y="719"/>
                    </a:lnTo>
                    <a:lnTo>
                      <a:pt x="175" y="820"/>
                    </a:lnTo>
                    <a:lnTo>
                      <a:pt x="168" y="854"/>
                    </a:lnTo>
                    <a:lnTo>
                      <a:pt x="157" y="876"/>
                    </a:lnTo>
                    <a:lnTo>
                      <a:pt x="128" y="849"/>
                    </a:lnTo>
                    <a:lnTo>
                      <a:pt x="104" y="770"/>
                    </a:lnTo>
                    <a:lnTo>
                      <a:pt x="81" y="652"/>
                    </a:lnTo>
                    <a:lnTo>
                      <a:pt x="58" y="517"/>
                    </a:lnTo>
                    <a:lnTo>
                      <a:pt x="35" y="365"/>
                    </a:lnTo>
                    <a:lnTo>
                      <a:pt x="18" y="231"/>
                    </a:lnTo>
                    <a:lnTo>
                      <a:pt x="0" y="118"/>
                    </a:lnTo>
                    <a:lnTo>
                      <a:pt x="0" y="50"/>
                    </a:lnTo>
                    <a:lnTo>
                      <a:pt x="0" y="33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18240" y="4727880"/>
                <a:ext cx="15480" cy="52920"/>
              </a:xfrm>
              <a:custGeom>
                <a:avLst/>
                <a:gdLst/>
                <a:ahLst/>
                <a:rect l="l" t="t" r="r" b="b"/>
                <a:pathLst>
                  <a:path w="76" h="258">
                    <a:moveTo>
                      <a:pt x="35" y="0"/>
                    </a:moveTo>
                    <a:lnTo>
                      <a:pt x="11" y="55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0" y="185"/>
                    </a:lnTo>
                    <a:lnTo>
                      <a:pt x="6" y="218"/>
                    </a:lnTo>
                    <a:lnTo>
                      <a:pt x="23" y="258"/>
                    </a:lnTo>
                    <a:lnTo>
                      <a:pt x="29" y="230"/>
                    </a:lnTo>
                    <a:lnTo>
                      <a:pt x="41" y="202"/>
                    </a:lnTo>
                    <a:lnTo>
                      <a:pt x="46" y="174"/>
                    </a:lnTo>
                    <a:lnTo>
                      <a:pt x="58" y="145"/>
                    </a:lnTo>
                    <a:lnTo>
                      <a:pt x="64" y="111"/>
                    </a:lnTo>
                    <a:lnTo>
                      <a:pt x="69" y="78"/>
                    </a:lnTo>
                    <a:lnTo>
                      <a:pt x="69" y="39"/>
                    </a:lnTo>
                    <a:lnTo>
                      <a:pt x="76" y="0"/>
                    </a:lnTo>
                    <a:lnTo>
                      <a:pt x="52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34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15800" y="4727880"/>
                <a:ext cx="338760" cy="530280"/>
              </a:xfrm>
              <a:custGeom>
                <a:avLst/>
                <a:gdLst/>
                <a:ahLst/>
                <a:rect l="l" t="t" r="r" b="b"/>
                <a:pathLst>
                  <a:path w="1692" h="2597">
                    <a:moveTo>
                      <a:pt x="1680" y="0"/>
                    </a:moveTo>
                    <a:lnTo>
                      <a:pt x="1604" y="10"/>
                    </a:lnTo>
                    <a:lnTo>
                      <a:pt x="1528" y="33"/>
                    </a:lnTo>
                    <a:lnTo>
                      <a:pt x="1454" y="50"/>
                    </a:lnTo>
                    <a:lnTo>
                      <a:pt x="1383" y="78"/>
                    </a:lnTo>
                    <a:lnTo>
                      <a:pt x="1308" y="95"/>
                    </a:lnTo>
                    <a:lnTo>
                      <a:pt x="1238" y="118"/>
                    </a:lnTo>
                    <a:lnTo>
                      <a:pt x="1168" y="135"/>
                    </a:lnTo>
                    <a:lnTo>
                      <a:pt x="1104" y="145"/>
                    </a:lnTo>
                    <a:lnTo>
                      <a:pt x="1000" y="145"/>
                    </a:lnTo>
                    <a:lnTo>
                      <a:pt x="895" y="145"/>
                    </a:lnTo>
                    <a:lnTo>
                      <a:pt x="785" y="145"/>
                    </a:lnTo>
                    <a:lnTo>
                      <a:pt x="674" y="145"/>
                    </a:lnTo>
                    <a:lnTo>
                      <a:pt x="564" y="140"/>
                    </a:lnTo>
                    <a:lnTo>
                      <a:pt x="453" y="135"/>
                    </a:lnTo>
                    <a:lnTo>
                      <a:pt x="349" y="123"/>
                    </a:lnTo>
                    <a:lnTo>
                      <a:pt x="250" y="118"/>
                    </a:lnTo>
                    <a:lnTo>
                      <a:pt x="227" y="190"/>
                    </a:lnTo>
                    <a:lnTo>
                      <a:pt x="210" y="292"/>
                    </a:lnTo>
                    <a:lnTo>
                      <a:pt x="192" y="415"/>
                    </a:lnTo>
                    <a:lnTo>
                      <a:pt x="180" y="550"/>
                    </a:lnTo>
                    <a:lnTo>
                      <a:pt x="163" y="680"/>
                    </a:lnTo>
                    <a:lnTo>
                      <a:pt x="151" y="803"/>
                    </a:lnTo>
                    <a:lnTo>
                      <a:pt x="146" y="910"/>
                    </a:lnTo>
                    <a:lnTo>
                      <a:pt x="146" y="994"/>
                    </a:lnTo>
                    <a:lnTo>
                      <a:pt x="139" y="1050"/>
                    </a:lnTo>
                    <a:lnTo>
                      <a:pt x="139" y="1118"/>
                    </a:lnTo>
                    <a:lnTo>
                      <a:pt x="139" y="1185"/>
                    </a:lnTo>
                    <a:lnTo>
                      <a:pt x="139" y="1259"/>
                    </a:lnTo>
                    <a:lnTo>
                      <a:pt x="139" y="1326"/>
                    </a:lnTo>
                    <a:lnTo>
                      <a:pt x="139" y="1399"/>
                    </a:lnTo>
                    <a:lnTo>
                      <a:pt x="146" y="1467"/>
                    </a:lnTo>
                    <a:lnTo>
                      <a:pt x="163" y="1534"/>
                    </a:lnTo>
                    <a:lnTo>
                      <a:pt x="169" y="1557"/>
                    </a:lnTo>
                    <a:lnTo>
                      <a:pt x="174" y="1574"/>
                    </a:lnTo>
                    <a:lnTo>
                      <a:pt x="151" y="1607"/>
                    </a:lnTo>
                    <a:lnTo>
                      <a:pt x="128" y="1680"/>
                    </a:lnTo>
                    <a:lnTo>
                      <a:pt x="99" y="1781"/>
                    </a:lnTo>
                    <a:lnTo>
                      <a:pt x="76" y="1899"/>
                    </a:lnTo>
                    <a:lnTo>
                      <a:pt x="40" y="2018"/>
                    </a:lnTo>
                    <a:lnTo>
                      <a:pt x="24" y="2130"/>
                    </a:lnTo>
                    <a:lnTo>
                      <a:pt x="6" y="2220"/>
                    </a:lnTo>
                    <a:lnTo>
                      <a:pt x="0" y="2282"/>
                    </a:lnTo>
                    <a:lnTo>
                      <a:pt x="52" y="2316"/>
                    </a:lnTo>
                    <a:lnTo>
                      <a:pt x="111" y="2350"/>
                    </a:lnTo>
                    <a:lnTo>
                      <a:pt x="169" y="2384"/>
                    </a:lnTo>
                    <a:lnTo>
                      <a:pt x="233" y="2416"/>
                    </a:lnTo>
                    <a:lnTo>
                      <a:pt x="291" y="2445"/>
                    </a:lnTo>
                    <a:lnTo>
                      <a:pt x="354" y="2479"/>
                    </a:lnTo>
                    <a:lnTo>
                      <a:pt x="413" y="2512"/>
                    </a:lnTo>
                    <a:lnTo>
                      <a:pt x="476" y="2551"/>
                    </a:lnTo>
                    <a:lnTo>
                      <a:pt x="575" y="2585"/>
                    </a:lnTo>
                    <a:lnTo>
                      <a:pt x="715" y="2597"/>
                    </a:lnTo>
                    <a:lnTo>
                      <a:pt x="878" y="2591"/>
                    </a:lnTo>
                    <a:lnTo>
                      <a:pt x="1052" y="2575"/>
                    </a:lnTo>
                    <a:lnTo>
                      <a:pt x="1226" y="2546"/>
                    </a:lnTo>
                    <a:lnTo>
                      <a:pt x="1395" y="2524"/>
                    </a:lnTo>
                    <a:lnTo>
                      <a:pt x="1535" y="2496"/>
                    </a:lnTo>
                    <a:lnTo>
                      <a:pt x="1651" y="2490"/>
                    </a:lnTo>
                    <a:lnTo>
                      <a:pt x="1639" y="2433"/>
                    </a:lnTo>
                    <a:lnTo>
                      <a:pt x="1634" y="2384"/>
                    </a:lnTo>
                    <a:lnTo>
                      <a:pt x="1634" y="2327"/>
                    </a:lnTo>
                    <a:lnTo>
                      <a:pt x="1634" y="2276"/>
                    </a:lnTo>
                    <a:lnTo>
                      <a:pt x="1627" y="2215"/>
                    </a:lnTo>
                    <a:lnTo>
                      <a:pt x="1627" y="2158"/>
                    </a:lnTo>
                    <a:lnTo>
                      <a:pt x="1627" y="2102"/>
                    </a:lnTo>
                    <a:lnTo>
                      <a:pt x="1627" y="2046"/>
                    </a:lnTo>
                    <a:lnTo>
                      <a:pt x="1609" y="1972"/>
                    </a:lnTo>
                    <a:lnTo>
                      <a:pt x="1593" y="1939"/>
                    </a:lnTo>
                    <a:lnTo>
                      <a:pt x="1569" y="1928"/>
                    </a:lnTo>
                    <a:lnTo>
                      <a:pt x="1552" y="1939"/>
                    </a:lnTo>
                    <a:lnTo>
                      <a:pt x="1528" y="1962"/>
                    </a:lnTo>
                    <a:lnTo>
                      <a:pt x="1505" y="2006"/>
                    </a:lnTo>
                    <a:lnTo>
                      <a:pt x="1488" y="2051"/>
                    </a:lnTo>
                    <a:lnTo>
                      <a:pt x="1477" y="2102"/>
                    </a:lnTo>
                    <a:lnTo>
                      <a:pt x="1459" y="2085"/>
                    </a:lnTo>
                    <a:lnTo>
                      <a:pt x="1447" y="2068"/>
                    </a:lnTo>
                    <a:lnTo>
                      <a:pt x="1429" y="2051"/>
                    </a:lnTo>
                    <a:lnTo>
                      <a:pt x="1424" y="2046"/>
                    </a:lnTo>
                    <a:lnTo>
                      <a:pt x="1436" y="2012"/>
                    </a:lnTo>
                    <a:lnTo>
                      <a:pt x="1454" y="1979"/>
                    </a:lnTo>
                    <a:lnTo>
                      <a:pt x="1470" y="1945"/>
                    </a:lnTo>
                    <a:lnTo>
                      <a:pt x="1488" y="1916"/>
                    </a:lnTo>
                    <a:lnTo>
                      <a:pt x="1500" y="1877"/>
                    </a:lnTo>
                    <a:lnTo>
                      <a:pt x="1517" y="1844"/>
                    </a:lnTo>
                    <a:lnTo>
                      <a:pt x="1528" y="1810"/>
                    </a:lnTo>
                    <a:lnTo>
                      <a:pt x="1546" y="1781"/>
                    </a:lnTo>
                    <a:lnTo>
                      <a:pt x="1552" y="1692"/>
                    </a:lnTo>
                    <a:lnTo>
                      <a:pt x="1563" y="1613"/>
                    </a:lnTo>
                    <a:lnTo>
                      <a:pt x="1569" y="1540"/>
                    </a:lnTo>
                    <a:lnTo>
                      <a:pt x="1575" y="1467"/>
                    </a:lnTo>
                    <a:lnTo>
                      <a:pt x="1575" y="1388"/>
                    </a:lnTo>
                    <a:lnTo>
                      <a:pt x="1581" y="1309"/>
                    </a:lnTo>
                    <a:lnTo>
                      <a:pt x="1581" y="1225"/>
                    </a:lnTo>
                    <a:lnTo>
                      <a:pt x="1598" y="1146"/>
                    </a:lnTo>
                    <a:lnTo>
                      <a:pt x="1616" y="1000"/>
                    </a:lnTo>
                    <a:lnTo>
                      <a:pt x="1634" y="854"/>
                    </a:lnTo>
                    <a:lnTo>
                      <a:pt x="1651" y="702"/>
                    </a:lnTo>
                    <a:lnTo>
                      <a:pt x="1674" y="550"/>
                    </a:lnTo>
                    <a:lnTo>
                      <a:pt x="1680" y="393"/>
                    </a:lnTo>
                    <a:lnTo>
                      <a:pt x="1692" y="246"/>
                    </a:lnTo>
                    <a:lnTo>
                      <a:pt x="1685" y="111"/>
                    </a:lnTo>
                    <a:lnTo>
                      <a:pt x="1680" y="0"/>
                    </a:lnTo>
                    <a:close/>
                  </a:path>
                </a:pathLst>
              </a:custGeom>
              <a:solidFill>
                <a:srgbClr val="b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81000" y="4732920"/>
                <a:ext cx="49320" cy="33120"/>
              </a:xfrm>
              <a:custGeom>
                <a:avLst/>
                <a:gdLst/>
                <a:ahLst/>
                <a:rect l="l" t="t" r="r" b="b"/>
                <a:pathLst>
                  <a:path w="249" h="163">
                    <a:moveTo>
                      <a:pt x="0" y="0"/>
                    </a:moveTo>
                    <a:lnTo>
                      <a:pt x="11" y="28"/>
                    </a:lnTo>
                    <a:lnTo>
                      <a:pt x="35" y="68"/>
                    </a:lnTo>
                    <a:lnTo>
                      <a:pt x="69" y="108"/>
                    </a:lnTo>
                    <a:lnTo>
                      <a:pt x="104" y="141"/>
                    </a:lnTo>
                    <a:lnTo>
                      <a:pt x="139" y="158"/>
                    </a:lnTo>
                    <a:lnTo>
                      <a:pt x="180" y="163"/>
                    </a:lnTo>
                    <a:lnTo>
                      <a:pt x="208" y="147"/>
                    </a:lnTo>
                    <a:lnTo>
                      <a:pt x="238" y="101"/>
                    </a:lnTo>
                    <a:lnTo>
                      <a:pt x="238" y="79"/>
                    </a:lnTo>
                    <a:lnTo>
                      <a:pt x="243" y="57"/>
                    </a:lnTo>
                    <a:lnTo>
                      <a:pt x="243" y="28"/>
                    </a:lnTo>
                    <a:lnTo>
                      <a:pt x="249" y="0"/>
                    </a:lnTo>
                    <a:lnTo>
                      <a:pt x="215" y="12"/>
                    </a:lnTo>
                    <a:lnTo>
                      <a:pt x="180" y="28"/>
                    </a:lnTo>
                    <a:lnTo>
                      <a:pt x="150" y="34"/>
                    </a:lnTo>
                    <a:lnTo>
                      <a:pt x="121" y="40"/>
                    </a:lnTo>
                    <a:lnTo>
                      <a:pt x="86" y="28"/>
                    </a:lnTo>
                    <a:lnTo>
                      <a:pt x="58" y="23"/>
                    </a:lnTo>
                    <a:lnTo>
                      <a:pt x="2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71920" y="4806720"/>
                <a:ext cx="51480" cy="179280"/>
              </a:xfrm>
              <a:custGeom>
                <a:avLst/>
                <a:gdLst/>
                <a:ahLst/>
                <a:rect l="l" t="t" r="r" b="b"/>
                <a:pathLst>
                  <a:path w="256" h="877">
                    <a:moveTo>
                      <a:pt x="192" y="0"/>
                    </a:moveTo>
                    <a:lnTo>
                      <a:pt x="163" y="50"/>
                    </a:lnTo>
                    <a:lnTo>
                      <a:pt x="128" y="158"/>
                    </a:lnTo>
                    <a:lnTo>
                      <a:pt x="81" y="298"/>
                    </a:lnTo>
                    <a:lnTo>
                      <a:pt x="41" y="455"/>
                    </a:lnTo>
                    <a:lnTo>
                      <a:pt x="6" y="602"/>
                    </a:lnTo>
                    <a:lnTo>
                      <a:pt x="0" y="737"/>
                    </a:lnTo>
                    <a:lnTo>
                      <a:pt x="18" y="832"/>
                    </a:lnTo>
                    <a:lnTo>
                      <a:pt x="81" y="877"/>
                    </a:lnTo>
                    <a:lnTo>
                      <a:pt x="110" y="866"/>
                    </a:lnTo>
                    <a:lnTo>
                      <a:pt x="163" y="861"/>
                    </a:lnTo>
                    <a:lnTo>
                      <a:pt x="203" y="849"/>
                    </a:lnTo>
                    <a:lnTo>
                      <a:pt x="244" y="849"/>
                    </a:lnTo>
                    <a:lnTo>
                      <a:pt x="249" y="737"/>
                    </a:lnTo>
                    <a:lnTo>
                      <a:pt x="256" y="624"/>
                    </a:lnTo>
                    <a:lnTo>
                      <a:pt x="249" y="511"/>
                    </a:lnTo>
                    <a:lnTo>
                      <a:pt x="249" y="405"/>
                    </a:lnTo>
                    <a:lnTo>
                      <a:pt x="233" y="293"/>
                    </a:lnTo>
                    <a:lnTo>
                      <a:pt x="221" y="192"/>
                    </a:lnTo>
                    <a:lnTo>
                      <a:pt x="203" y="9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e3fd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63600" y="4921920"/>
                <a:ext cx="75600" cy="28800"/>
              </a:xfrm>
              <a:custGeom>
                <a:avLst/>
                <a:gdLst/>
                <a:ahLst/>
                <a:rect l="l" t="t" r="r" b="b"/>
                <a:pathLst>
                  <a:path w="377" h="147">
                    <a:moveTo>
                      <a:pt x="302" y="6"/>
                    </a:moveTo>
                    <a:lnTo>
                      <a:pt x="261" y="0"/>
                    </a:lnTo>
                    <a:lnTo>
                      <a:pt x="226" y="0"/>
                    </a:lnTo>
                    <a:lnTo>
                      <a:pt x="185" y="6"/>
                    </a:lnTo>
                    <a:lnTo>
                      <a:pt x="151" y="17"/>
                    </a:lnTo>
                    <a:lnTo>
                      <a:pt x="104" y="17"/>
                    </a:lnTo>
                    <a:lnTo>
                      <a:pt x="63" y="28"/>
                    </a:lnTo>
                    <a:lnTo>
                      <a:pt x="28" y="34"/>
                    </a:lnTo>
                    <a:lnTo>
                      <a:pt x="0" y="45"/>
                    </a:lnTo>
                    <a:lnTo>
                      <a:pt x="5" y="68"/>
                    </a:lnTo>
                    <a:lnTo>
                      <a:pt x="12" y="91"/>
                    </a:lnTo>
                    <a:lnTo>
                      <a:pt x="12" y="96"/>
                    </a:lnTo>
                    <a:lnTo>
                      <a:pt x="23" y="108"/>
                    </a:lnTo>
                    <a:lnTo>
                      <a:pt x="40" y="113"/>
                    </a:lnTo>
                    <a:lnTo>
                      <a:pt x="58" y="118"/>
                    </a:lnTo>
                    <a:lnTo>
                      <a:pt x="93" y="135"/>
                    </a:lnTo>
                    <a:lnTo>
                      <a:pt x="93" y="124"/>
                    </a:lnTo>
                    <a:lnTo>
                      <a:pt x="121" y="124"/>
                    </a:lnTo>
                    <a:lnTo>
                      <a:pt x="151" y="130"/>
                    </a:lnTo>
                    <a:lnTo>
                      <a:pt x="185" y="130"/>
                    </a:lnTo>
                    <a:lnTo>
                      <a:pt x="220" y="135"/>
                    </a:lnTo>
                    <a:lnTo>
                      <a:pt x="249" y="135"/>
                    </a:lnTo>
                    <a:lnTo>
                      <a:pt x="284" y="135"/>
                    </a:lnTo>
                    <a:lnTo>
                      <a:pt x="319" y="141"/>
                    </a:lnTo>
                    <a:lnTo>
                      <a:pt x="354" y="147"/>
                    </a:lnTo>
                    <a:lnTo>
                      <a:pt x="365" y="96"/>
                    </a:lnTo>
                    <a:lnTo>
                      <a:pt x="377" y="51"/>
                    </a:lnTo>
                    <a:lnTo>
                      <a:pt x="365" y="34"/>
                    </a:lnTo>
                    <a:lnTo>
                      <a:pt x="354" y="17"/>
                    </a:lnTo>
                    <a:lnTo>
                      <a:pt x="331" y="6"/>
                    </a:lnTo>
                    <a:lnTo>
                      <a:pt x="302" y="6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39760" y="4925520"/>
                <a:ext cx="108000" cy="25560"/>
              </a:xfrm>
              <a:custGeom>
                <a:avLst/>
                <a:gdLst/>
                <a:ahLst/>
                <a:rect l="l" t="t" r="r" b="b"/>
                <a:pathLst>
                  <a:path w="540" h="130">
                    <a:moveTo>
                      <a:pt x="418" y="0"/>
                    </a:moveTo>
                    <a:lnTo>
                      <a:pt x="360" y="0"/>
                    </a:lnTo>
                    <a:lnTo>
                      <a:pt x="284" y="23"/>
                    </a:lnTo>
                    <a:lnTo>
                      <a:pt x="191" y="45"/>
                    </a:lnTo>
                    <a:lnTo>
                      <a:pt x="104" y="74"/>
                    </a:lnTo>
                    <a:lnTo>
                      <a:pt x="29" y="91"/>
                    </a:lnTo>
                    <a:lnTo>
                      <a:pt x="0" y="113"/>
                    </a:lnTo>
                    <a:lnTo>
                      <a:pt x="29" y="124"/>
                    </a:lnTo>
                    <a:lnTo>
                      <a:pt x="127" y="130"/>
                    </a:lnTo>
                    <a:lnTo>
                      <a:pt x="180" y="124"/>
                    </a:lnTo>
                    <a:lnTo>
                      <a:pt x="238" y="118"/>
                    </a:lnTo>
                    <a:lnTo>
                      <a:pt x="284" y="113"/>
                    </a:lnTo>
                    <a:lnTo>
                      <a:pt x="331" y="113"/>
                    </a:lnTo>
                    <a:lnTo>
                      <a:pt x="371" y="107"/>
                    </a:lnTo>
                    <a:lnTo>
                      <a:pt x="424" y="107"/>
                    </a:lnTo>
                    <a:lnTo>
                      <a:pt x="477" y="107"/>
                    </a:lnTo>
                    <a:lnTo>
                      <a:pt x="540" y="107"/>
                    </a:lnTo>
                    <a:lnTo>
                      <a:pt x="523" y="57"/>
                    </a:lnTo>
                    <a:lnTo>
                      <a:pt x="511" y="11"/>
                    </a:lnTo>
                    <a:lnTo>
                      <a:pt x="488" y="6"/>
                    </a:lnTo>
                    <a:lnTo>
                      <a:pt x="465" y="0"/>
                    </a:lnTo>
                    <a:lnTo>
                      <a:pt x="441" y="0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01840" y="4940280"/>
                <a:ext cx="105480" cy="28800"/>
              </a:xfrm>
              <a:custGeom>
                <a:avLst/>
                <a:gdLst/>
                <a:ahLst/>
                <a:rect l="l" t="t" r="r" b="b"/>
                <a:pathLst>
                  <a:path w="528" h="145">
                    <a:moveTo>
                      <a:pt x="105" y="5"/>
                    </a:moveTo>
                    <a:lnTo>
                      <a:pt x="58" y="10"/>
                    </a:lnTo>
                    <a:lnTo>
                      <a:pt x="0" y="33"/>
                    </a:lnTo>
                    <a:lnTo>
                      <a:pt x="18" y="78"/>
                    </a:lnTo>
                    <a:lnTo>
                      <a:pt x="52" y="112"/>
                    </a:lnTo>
                    <a:lnTo>
                      <a:pt x="93" y="135"/>
                    </a:lnTo>
                    <a:lnTo>
                      <a:pt x="157" y="145"/>
                    </a:lnTo>
                    <a:lnTo>
                      <a:pt x="221" y="145"/>
                    </a:lnTo>
                    <a:lnTo>
                      <a:pt x="302" y="145"/>
                    </a:lnTo>
                    <a:lnTo>
                      <a:pt x="378" y="140"/>
                    </a:lnTo>
                    <a:lnTo>
                      <a:pt x="465" y="145"/>
                    </a:lnTo>
                    <a:lnTo>
                      <a:pt x="523" y="135"/>
                    </a:lnTo>
                    <a:lnTo>
                      <a:pt x="528" y="123"/>
                    </a:lnTo>
                    <a:lnTo>
                      <a:pt x="494" y="95"/>
                    </a:lnTo>
                    <a:lnTo>
                      <a:pt x="430" y="67"/>
                    </a:lnTo>
                    <a:lnTo>
                      <a:pt x="343" y="33"/>
                    </a:lnTo>
                    <a:lnTo>
                      <a:pt x="256" y="17"/>
                    </a:lnTo>
                    <a:lnTo>
                      <a:pt x="168" y="0"/>
                    </a:lnTo>
                    <a:lnTo>
                      <a:pt x="105" y="5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78040" y="4994640"/>
                <a:ext cx="97560" cy="36720"/>
              </a:xfrm>
              <a:custGeom>
                <a:avLst/>
                <a:gdLst/>
                <a:ahLst/>
                <a:rect l="l" t="t" r="r" b="b"/>
                <a:pathLst>
                  <a:path w="483" h="181">
                    <a:moveTo>
                      <a:pt x="81" y="0"/>
                    </a:moveTo>
                    <a:lnTo>
                      <a:pt x="65" y="0"/>
                    </a:lnTo>
                    <a:lnTo>
                      <a:pt x="40" y="12"/>
                    </a:lnTo>
                    <a:lnTo>
                      <a:pt x="12" y="17"/>
                    </a:lnTo>
                    <a:lnTo>
                      <a:pt x="0" y="23"/>
                    </a:lnTo>
                    <a:lnTo>
                      <a:pt x="0" y="51"/>
                    </a:lnTo>
                    <a:lnTo>
                      <a:pt x="6" y="80"/>
                    </a:lnTo>
                    <a:lnTo>
                      <a:pt x="6" y="96"/>
                    </a:lnTo>
                    <a:lnTo>
                      <a:pt x="12" y="130"/>
                    </a:lnTo>
                    <a:lnTo>
                      <a:pt x="40" y="124"/>
                    </a:lnTo>
                    <a:lnTo>
                      <a:pt x="76" y="124"/>
                    </a:lnTo>
                    <a:lnTo>
                      <a:pt x="105" y="119"/>
                    </a:lnTo>
                    <a:lnTo>
                      <a:pt x="139" y="119"/>
                    </a:lnTo>
                    <a:lnTo>
                      <a:pt x="197" y="119"/>
                    </a:lnTo>
                    <a:lnTo>
                      <a:pt x="250" y="130"/>
                    </a:lnTo>
                    <a:lnTo>
                      <a:pt x="261" y="135"/>
                    </a:lnTo>
                    <a:lnTo>
                      <a:pt x="279" y="152"/>
                    </a:lnTo>
                    <a:lnTo>
                      <a:pt x="291" y="158"/>
                    </a:lnTo>
                    <a:lnTo>
                      <a:pt x="308" y="169"/>
                    </a:lnTo>
                    <a:lnTo>
                      <a:pt x="331" y="175"/>
                    </a:lnTo>
                    <a:lnTo>
                      <a:pt x="372" y="181"/>
                    </a:lnTo>
                    <a:lnTo>
                      <a:pt x="453" y="169"/>
                    </a:lnTo>
                    <a:lnTo>
                      <a:pt x="483" y="147"/>
                    </a:lnTo>
                    <a:lnTo>
                      <a:pt x="453" y="113"/>
                    </a:lnTo>
                    <a:lnTo>
                      <a:pt x="395" y="80"/>
                    </a:lnTo>
                    <a:lnTo>
                      <a:pt x="308" y="46"/>
                    </a:lnTo>
                    <a:lnTo>
                      <a:pt x="220" y="17"/>
                    </a:lnTo>
                    <a:lnTo>
                      <a:pt x="139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59480" y="5013000"/>
                <a:ext cx="136800" cy="47520"/>
              </a:xfrm>
              <a:custGeom>
                <a:avLst/>
                <a:gdLst/>
                <a:ahLst/>
                <a:rect l="l" t="t" r="r" b="b"/>
                <a:pathLst>
                  <a:path w="679" h="236">
                    <a:moveTo>
                      <a:pt x="197" y="12"/>
                    </a:moveTo>
                    <a:lnTo>
                      <a:pt x="151" y="17"/>
                    </a:lnTo>
                    <a:lnTo>
                      <a:pt x="104" y="34"/>
                    </a:lnTo>
                    <a:lnTo>
                      <a:pt x="52" y="45"/>
                    </a:lnTo>
                    <a:lnTo>
                      <a:pt x="0" y="62"/>
                    </a:lnTo>
                    <a:lnTo>
                      <a:pt x="23" y="130"/>
                    </a:lnTo>
                    <a:lnTo>
                      <a:pt x="63" y="181"/>
                    </a:lnTo>
                    <a:lnTo>
                      <a:pt x="116" y="209"/>
                    </a:lnTo>
                    <a:lnTo>
                      <a:pt x="180" y="226"/>
                    </a:lnTo>
                    <a:lnTo>
                      <a:pt x="243" y="226"/>
                    </a:lnTo>
                    <a:lnTo>
                      <a:pt x="325" y="226"/>
                    </a:lnTo>
                    <a:lnTo>
                      <a:pt x="406" y="226"/>
                    </a:lnTo>
                    <a:lnTo>
                      <a:pt x="505" y="231"/>
                    </a:lnTo>
                    <a:lnTo>
                      <a:pt x="552" y="231"/>
                    </a:lnTo>
                    <a:lnTo>
                      <a:pt x="593" y="236"/>
                    </a:lnTo>
                    <a:lnTo>
                      <a:pt x="628" y="231"/>
                    </a:lnTo>
                    <a:lnTo>
                      <a:pt x="651" y="226"/>
                    </a:lnTo>
                    <a:lnTo>
                      <a:pt x="662" y="203"/>
                    </a:lnTo>
                    <a:lnTo>
                      <a:pt x="674" y="181"/>
                    </a:lnTo>
                    <a:lnTo>
                      <a:pt x="674" y="141"/>
                    </a:lnTo>
                    <a:lnTo>
                      <a:pt x="679" y="91"/>
                    </a:lnTo>
                    <a:lnTo>
                      <a:pt x="621" y="74"/>
                    </a:lnTo>
                    <a:lnTo>
                      <a:pt x="563" y="57"/>
                    </a:lnTo>
                    <a:lnTo>
                      <a:pt x="505" y="40"/>
                    </a:lnTo>
                    <a:lnTo>
                      <a:pt x="453" y="23"/>
                    </a:lnTo>
                    <a:lnTo>
                      <a:pt x="390" y="6"/>
                    </a:lnTo>
                    <a:lnTo>
                      <a:pt x="331" y="0"/>
                    </a:lnTo>
                    <a:lnTo>
                      <a:pt x="261" y="0"/>
                    </a:lnTo>
                    <a:lnTo>
                      <a:pt x="197" y="12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68600" y="5016960"/>
                <a:ext cx="144000" cy="33480"/>
              </a:xfrm>
              <a:custGeom>
                <a:avLst/>
                <a:gdLst/>
                <a:ahLst/>
                <a:rect l="l" t="t" r="r" b="b"/>
                <a:pathLst>
                  <a:path w="720" h="163">
                    <a:moveTo>
                      <a:pt x="0" y="0"/>
                    </a:moveTo>
                    <a:lnTo>
                      <a:pt x="0" y="45"/>
                    </a:lnTo>
                    <a:lnTo>
                      <a:pt x="0" y="95"/>
                    </a:lnTo>
                    <a:lnTo>
                      <a:pt x="69" y="95"/>
                    </a:lnTo>
                    <a:lnTo>
                      <a:pt x="157" y="107"/>
                    </a:lnTo>
                    <a:lnTo>
                      <a:pt x="249" y="124"/>
                    </a:lnTo>
                    <a:lnTo>
                      <a:pt x="355" y="141"/>
                    </a:lnTo>
                    <a:lnTo>
                      <a:pt x="447" y="152"/>
                    </a:lnTo>
                    <a:lnTo>
                      <a:pt x="540" y="163"/>
                    </a:lnTo>
                    <a:lnTo>
                      <a:pt x="622" y="163"/>
                    </a:lnTo>
                    <a:lnTo>
                      <a:pt x="692" y="158"/>
                    </a:lnTo>
                    <a:lnTo>
                      <a:pt x="720" y="124"/>
                    </a:lnTo>
                    <a:lnTo>
                      <a:pt x="680" y="102"/>
                    </a:lnTo>
                    <a:lnTo>
                      <a:pt x="586" y="73"/>
                    </a:lnTo>
                    <a:lnTo>
                      <a:pt x="459" y="51"/>
                    </a:lnTo>
                    <a:lnTo>
                      <a:pt x="314" y="28"/>
                    </a:lnTo>
                    <a:lnTo>
                      <a:pt x="175" y="17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11040" y="5033520"/>
                <a:ext cx="123480" cy="27720"/>
              </a:xfrm>
              <a:custGeom>
                <a:avLst/>
                <a:gdLst/>
                <a:ahLst/>
                <a:rect l="l" t="t" r="r" b="b"/>
                <a:pathLst>
                  <a:path w="616" h="142">
                    <a:moveTo>
                      <a:pt x="0" y="0"/>
                    </a:moveTo>
                    <a:lnTo>
                      <a:pt x="30" y="119"/>
                    </a:lnTo>
                    <a:lnTo>
                      <a:pt x="93" y="119"/>
                    </a:lnTo>
                    <a:lnTo>
                      <a:pt x="169" y="125"/>
                    </a:lnTo>
                    <a:lnTo>
                      <a:pt x="244" y="125"/>
                    </a:lnTo>
                    <a:lnTo>
                      <a:pt x="325" y="130"/>
                    </a:lnTo>
                    <a:lnTo>
                      <a:pt x="401" y="130"/>
                    </a:lnTo>
                    <a:lnTo>
                      <a:pt x="477" y="130"/>
                    </a:lnTo>
                    <a:lnTo>
                      <a:pt x="547" y="135"/>
                    </a:lnTo>
                    <a:lnTo>
                      <a:pt x="616" y="142"/>
                    </a:lnTo>
                    <a:lnTo>
                      <a:pt x="563" y="80"/>
                    </a:lnTo>
                    <a:lnTo>
                      <a:pt x="506" y="40"/>
                    </a:lnTo>
                    <a:lnTo>
                      <a:pt x="436" y="12"/>
                    </a:lnTo>
                    <a:lnTo>
                      <a:pt x="360" y="7"/>
                    </a:lnTo>
                    <a:lnTo>
                      <a:pt x="268" y="0"/>
                    </a:lnTo>
                    <a:lnTo>
                      <a:pt x="180" y="0"/>
                    </a:lnTo>
                    <a:lnTo>
                      <a:pt x="8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31280" y="5227920"/>
                <a:ext cx="102240" cy="111240"/>
              </a:xfrm>
              <a:custGeom>
                <a:avLst/>
                <a:gdLst/>
                <a:ahLst/>
                <a:rect l="l" t="t" r="r" b="b"/>
                <a:pathLst>
                  <a:path w="511" h="546">
                    <a:moveTo>
                      <a:pt x="17" y="0"/>
                    </a:moveTo>
                    <a:lnTo>
                      <a:pt x="5" y="34"/>
                    </a:lnTo>
                    <a:lnTo>
                      <a:pt x="5" y="85"/>
                    </a:lnTo>
                    <a:lnTo>
                      <a:pt x="0" y="130"/>
                    </a:lnTo>
                    <a:lnTo>
                      <a:pt x="0" y="186"/>
                    </a:lnTo>
                    <a:lnTo>
                      <a:pt x="0" y="236"/>
                    </a:lnTo>
                    <a:lnTo>
                      <a:pt x="5" y="287"/>
                    </a:lnTo>
                    <a:lnTo>
                      <a:pt x="12" y="332"/>
                    </a:lnTo>
                    <a:lnTo>
                      <a:pt x="29" y="371"/>
                    </a:lnTo>
                    <a:lnTo>
                      <a:pt x="52" y="395"/>
                    </a:lnTo>
                    <a:lnTo>
                      <a:pt x="104" y="427"/>
                    </a:lnTo>
                    <a:lnTo>
                      <a:pt x="162" y="467"/>
                    </a:lnTo>
                    <a:lnTo>
                      <a:pt x="238" y="506"/>
                    </a:lnTo>
                    <a:lnTo>
                      <a:pt x="302" y="529"/>
                    </a:lnTo>
                    <a:lnTo>
                      <a:pt x="372" y="546"/>
                    </a:lnTo>
                    <a:lnTo>
                      <a:pt x="418" y="546"/>
                    </a:lnTo>
                    <a:lnTo>
                      <a:pt x="453" y="529"/>
                    </a:lnTo>
                    <a:lnTo>
                      <a:pt x="459" y="495"/>
                    </a:lnTo>
                    <a:lnTo>
                      <a:pt x="471" y="461"/>
                    </a:lnTo>
                    <a:lnTo>
                      <a:pt x="476" y="427"/>
                    </a:lnTo>
                    <a:lnTo>
                      <a:pt x="488" y="395"/>
                    </a:lnTo>
                    <a:lnTo>
                      <a:pt x="494" y="355"/>
                    </a:lnTo>
                    <a:lnTo>
                      <a:pt x="499" y="316"/>
                    </a:lnTo>
                    <a:lnTo>
                      <a:pt x="506" y="277"/>
                    </a:lnTo>
                    <a:lnTo>
                      <a:pt x="511" y="243"/>
                    </a:lnTo>
                    <a:lnTo>
                      <a:pt x="441" y="214"/>
                    </a:lnTo>
                    <a:lnTo>
                      <a:pt x="377" y="186"/>
                    </a:lnTo>
                    <a:lnTo>
                      <a:pt x="314" y="158"/>
                    </a:lnTo>
                    <a:lnTo>
                      <a:pt x="255" y="130"/>
                    </a:lnTo>
                    <a:lnTo>
                      <a:pt x="197" y="96"/>
                    </a:lnTo>
                    <a:lnTo>
                      <a:pt x="139" y="62"/>
                    </a:lnTo>
                    <a:lnTo>
                      <a:pt x="75" y="2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74280" y="525924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0"/>
                    </a:moveTo>
                    <a:lnTo>
                      <a:pt x="0" y="17"/>
                    </a:lnTo>
                    <a:lnTo>
                      <a:pt x="0" y="40"/>
                    </a:lnTo>
                    <a:lnTo>
                      <a:pt x="7" y="34"/>
                    </a:lnTo>
                    <a:lnTo>
                      <a:pt x="30" y="34"/>
                    </a:lnTo>
                    <a:lnTo>
                      <a:pt x="41" y="29"/>
                    </a:lnTo>
                    <a:lnTo>
                      <a:pt x="35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67000" y="5262120"/>
                <a:ext cx="188640" cy="58320"/>
              </a:xfrm>
              <a:custGeom>
                <a:avLst/>
                <a:gdLst/>
                <a:ahLst/>
                <a:rect l="l" t="t" r="r" b="b"/>
                <a:pathLst>
                  <a:path w="942" h="287">
                    <a:moveTo>
                      <a:pt x="99" y="12"/>
                    </a:moveTo>
                    <a:lnTo>
                      <a:pt x="58" y="12"/>
                    </a:lnTo>
                    <a:lnTo>
                      <a:pt x="35" y="28"/>
                    </a:lnTo>
                    <a:lnTo>
                      <a:pt x="18" y="45"/>
                    </a:lnTo>
                    <a:lnTo>
                      <a:pt x="12" y="74"/>
                    </a:lnTo>
                    <a:lnTo>
                      <a:pt x="0" y="96"/>
                    </a:lnTo>
                    <a:lnTo>
                      <a:pt x="7" y="124"/>
                    </a:lnTo>
                    <a:lnTo>
                      <a:pt x="7" y="158"/>
                    </a:lnTo>
                    <a:lnTo>
                      <a:pt x="18" y="192"/>
                    </a:lnTo>
                    <a:lnTo>
                      <a:pt x="18" y="226"/>
                    </a:lnTo>
                    <a:lnTo>
                      <a:pt x="18" y="265"/>
                    </a:lnTo>
                    <a:lnTo>
                      <a:pt x="111" y="270"/>
                    </a:lnTo>
                    <a:lnTo>
                      <a:pt x="215" y="282"/>
                    </a:lnTo>
                    <a:lnTo>
                      <a:pt x="321" y="282"/>
                    </a:lnTo>
                    <a:lnTo>
                      <a:pt x="431" y="287"/>
                    </a:lnTo>
                    <a:lnTo>
                      <a:pt x="542" y="275"/>
                    </a:lnTo>
                    <a:lnTo>
                      <a:pt x="651" y="270"/>
                    </a:lnTo>
                    <a:lnTo>
                      <a:pt x="762" y="258"/>
                    </a:lnTo>
                    <a:lnTo>
                      <a:pt x="872" y="253"/>
                    </a:lnTo>
                    <a:lnTo>
                      <a:pt x="902" y="243"/>
                    </a:lnTo>
                    <a:lnTo>
                      <a:pt x="925" y="236"/>
                    </a:lnTo>
                    <a:lnTo>
                      <a:pt x="937" y="226"/>
                    </a:lnTo>
                    <a:lnTo>
                      <a:pt x="942" y="214"/>
                    </a:lnTo>
                    <a:lnTo>
                      <a:pt x="937" y="175"/>
                    </a:lnTo>
                    <a:lnTo>
                      <a:pt x="937" y="141"/>
                    </a:lnTo>
                    <a:lnTo>
                      <a:pt x="797" y="130"/>
                    </a:lnTo>
                    <a:lnTo>
                      <a:pt x="686" y="113"/>
                    </a:lnTo>
                    <a:lnTo>
                      <a:pt x="576" y="84"/>
                    </a:lnTo>
                    <a:lnTo>
                      <a:pt x="489" y="57"/>
                    </a:lnTo>
                    <a:lnTo>
                      <a:pt x="395" y="23"/>
                    </a:lnTo>
                    <a:lnTo>
                      <a:pt x="303" y="6"/>
                    </a:lnTo>
                    <a:lnTo>
                      <a:pt x="204" y="0"/>
                    </a:lnTo>
                    <a:lnTo>
                      <a:pt x="99" y="12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888680" y="3880440"/>
                <a:ext cx="16560" cy="61560"/>
              </a:xfrm>
              <a:custGeom>
                <a:avLst/>
                <a:gdLst/>
                <a:ahLst/>
                <a:rect l="l" t="t" r="r" b="b"/>
                <a:pathLst>
                  <a:path w="87" h="299">
                    <a:moveTo>
                      <a:pt x="18" y="0"/>
                    </a:moveTo>
                    <a:lnTo>
                      <a:pt x="81" y="17"/>
                    </a:lnTo>
                    <a:lnTo>
                      <a:pt x="87" y="265"/>
                    </a:lnTo>
                    <a:lnTo>
                      <a:pt x="76" y="265"/>
                    </a:lnTo>
                    <a:lnTo>
                      <a:pt x="53" y="282"/>
                    </a:lnTo>
                    <a:lnTo>
                      <a:pt x="23" y="287"/>
                    </a:lnTo>
                    <a:lnTo>
                      <a:pt x="6" y="299"/>
                    </a:lnTo>
                    <a:lnTo>
                      <a:pt x="0" y="282"/>
                    </a:lnTo>
                    <a:lnTo>
                      <a:pt x="0" y="248"/>
                    </a:lnTo>
                    <a:lnTo>
                      <a:pt x="6" y="203"/>
                    </a:lnTo>
                    <a:lnTo>
                      <a:pt x="18" y="152"/>
                    </a:lnTo>
                    <a:lnTo>
                      <a:pt x="18" y="96"/>
                    </a:lnTo>
                    <a:lnTo>
                      <a:pt x="23" y="51"/>
                    </a:lnTo>
                    <a:lnTo>
                      <a:pt x="18" y="1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27920" y="4191480"/>
                <a:ext cx="234360" cy="174960"/>
              </a:xfrm>
              <a:custGeom>
                <a:avLst/>
                <a:gdLst/>
                <a:ahLst/>
                <a:rect l="l" t="t" r="r" b="b"/>
                <a:pathLst>
                  <a:path w="1174" h="854">
                    <a:moveTo>
                      <a:pt x="0" y="10"/>
                    </a:moveTo>
                    <a:lnTo>
                      <a:pt x="1174" y="0"/>
                    </a:lnTo>
                    <a:lnTo>
                      <a:pt x="436" y="780"/>
                    </a:lnTo>
                    <a:lnTo>
                      <a:pt x="994" y="854"/>
                    </a:lnTo>
                    <a:lnTo>
                      <a:pt x="552" y="736"/>
                    </a:lnTo>
                    <a:lnTo>
                      <a:pt x="1139" y="6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12280" y="4599000"/>
                <a:ext cx="396360" cy="272160"/>
              </a:xfrm>
              <a:custGeom>
                <a:avLst/>
                <a:gdLst/>
                <a:ahLst/>
                <a:rect l="l" t="t" r="r" b="b"/>
                <a:pathLst>
                  <a:path w="1976" h="1332">
                    <a:moveTo>
                      <a:pt x="291" y="0"/>
                    </a:moveTo>
                    <a:lnTo>
                      <a:pt x="0" y="421"/>
                    </a:lnTo>
                    <a:lnTo>
                      <a:pt x="1976" y="1332"/>
                    </a:lnTo>
                    <a:lnTo>
                      <a:pt x="81" y="421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55760" y="3916440"/>
                <a:ext cx="664560" cy="29880"/>
              </a:xfrm>
              <a:custGeom>
                <a:avLst/>
                <a:gdLst/>
                <a:ahLst/>
                <a:rect l="l" t="t" r="r" b="b"/>
                <a:pathLst>
                  <a:path w="3318" h="146">
                    <a:moveTo>
                      <a:pt x="0" y="146"/>
                    </a:moveTo>
                    <a:lnTo>
                      <a:pt x="2277" y="45"/>
                    </a:lnTo>
                    <a:lnTo>
                      <a:pt x="3318" y="135"/>
                    </a:lnTo>
                    <a:lnTo>
                      <a:pt x="2306" y="0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52880" y="4015800"/>
                <a:ext cx="45720" cy="64440"/>
              </a:xfrm>
              <a:custGeom>
                <a:avLst/>
                <a:gdLst/>
                <a:ahLst/>
                <a:rect l="l" t="t" r="r" b="b"/>
                <a:pathLst>
                  <a:path w="226" h="320">
                    <a:moveTo>
                      <a:pt x="226" y="0"/>
                    </a:moveTo>
                    <a:lnTo>
                      <a:pt x="81" y="101"/>
                    </a:lnTo>
                    <a:lnTo>
                      <a:pt x="0" y="320"/>
                    </a:lnTo>
                    <a:lnTo>
                      <a:pt x="17" y="101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717440" y="5073840"/>
              <a:ext cx="379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Original Audienc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>
            <a:off x="3505320" y="27432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rm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48320" y="957240"/>
            <a:ext cx="4190760" cy="2548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855040" y="2627280"/>
            <a:ext cx="209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a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295280" y="3657600"/>
            <a:ext cx="1819440" cy="1828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296000" y="510552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81960" y="255744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ri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33720" y="2133720"/>
            <a:ext cx="485280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Sermon h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76720" y="3124080"/>
            <a:ext cx="266688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ntex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aritan Woman:  Request for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at Areopagus: Idols in Ath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in Nazareth: Reading the Scrip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ivet Discourse: Questions from Dis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tecost: The tongues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66680" y="853920"/>
            <a:ext cx="702000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course/Sermon Contex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198144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828800"/>
            <a:ext cx="198144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895480"/>
            <a:ext cx="198144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3962520"/>
            <a:ext cx="198144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029200"/>
            <a:ext cx="198144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1143000"/>
            <a:ext cx="624816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irth of ba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1828800"/>
            <a:ext cx="624816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King orders death of babies, but child is deliv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895480"/>
            <a:ext cx="624816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w grown, the man passes through the w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3962520"/>
            <a:ext cx="624816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40 days in the wilde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5029200"/>
            <a:ext cx="624816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llowers taken to a high mountain and given God’s teac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124080" y="304920"/>
            <a:ext cx="314352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thew 1-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18:1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1:1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2:1-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8:31-5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10:1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3:12-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52480" y="533520"/>
            <a:ext cx="601992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peated Words or Concep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60020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mb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xiety/afr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, ma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ef, robber, hir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s &amp; prop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2520" y="2742840"/>
            <a:ext cx="358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P Assignmen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age 30 for a listing of passag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3676680" cy="476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7" name=""/>
          <p:cNvSpPr txBox="1"/>
          <p:nvPr/>
        </p:nvSpPr>
        <p:spPr>
          <a:xfrm>
            <a:off x="5029200" y="838080"/>
            <a:ext cx="34290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ege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5000" y="16765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p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5638680"/>
            <a:ext cx="2809800" cy="739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zca, Pe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6705720" cy="407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380880" y="45720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 Bird's Eye 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15000" y="380880"/>
            <a:ext cx="2527200" cy="156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5000760" cy="537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762120" y="5638680"/>
            <a:ext cx="2809800" cy="739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zca, Pe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45720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 Bird's Eye 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2486160" cy="3429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380880" y="45720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 Bird's Eye 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05320" y="32767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orm's Eye 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91320" y="388620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95280" y="1981080"/>
            <a:ext cx="675324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book of the Bible h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7400" y="274320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 BIG ID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62120" y="1219320"/>
            <a:ext cx="6992640" cy="145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orm's Eye 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itus 2:11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grace of God has appeared, bringing salvation to all men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structing us to deny ungodliness and worldly desires and to live sensibly, righteously and godly in the present ag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066680"/>
            <a:ext cx="731520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itus 2:13-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for the blessed hope and the appearing of the glory of our great God and Savior, Christ Jesu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gave Himself for us to redeem us from every lawless deed, and to purify for Himself a people for His own possession, zealous for good dee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731520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11-02T16:35:48Z</dcterms:modified>
  <cp:revision>276</cp:revision>
  <dc:subject>Prophets of the Old and New Testament</dc:subject>
  <dc:title>Prophetic Voice</dc:title>
</cp:coreProperties>
</file>