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4B462-9D3E-48EF-8B73-AC61607EE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BD1C3-7270-402B-8C2A-4C66B8F66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F3D57-A687-453E-AB68-3197EBE1A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D2BEC-0193-42B2-B7C5-11643175D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7226E-1460-4F21-83C4-A143D7875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67CD0-F293-483A-B1C4-479E1BD84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906E2-B8F3-4835-8FC1-BC274186D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B7186-0FDD-4318-BF8B-22BAE95EA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27610-633D-466F-8EA6-46694AF21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9A72D-ACDE-4A5E-9646-3D691E420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B0DB3-83F7-4F3D-9026-AA3B241F3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9D3A6-8504-4EE9-A19C-8BD8BE7F6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CBA77-46C2-4CB6-9878-54591AABBB6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533520" y="1447920"/>
            <a:ext cx="8153280" cy="819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Pronominal Suffixes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819520" y="3886200"/>
            <a:ext cx="3124080" cy="819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hapter 19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2819520" y="2590920"/>
            <a:ext cx="3124080" cy="819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on Verbs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ccffff"/>
                </a:solidFill>
                <a:latin typeface="Bwhebb"/>
              </a:rPr>
              <a:t>h[,to hNEhiw&gt; vyai Whaec'm.YIw:</a:t>
            </a:r>
            <a:endParaRPr b="0" lang="en-US" sz="7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" y="198108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ccffff"/>
                </a:solidFill>
                <a:latin typeface="Bwhebb"/>
              </a:rPr>
              <a:t>rmoale vyaih' Whlea'v.YIw: hd&lt;F'B;</a:t>
            </a:r>
            <a:endParaRPr b="0" lang="en-US" sz="7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3886200" y="3962520"/>
            <a:ext cx="5029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ccffff"/>
                </a:solidFill>
                <a:latin typeface="Bwhebb"/>
              </a:rPr>
              <a:t>vQeb;T.-hm;</a:t>
            </a:r>
            <a:endParaRPr b="0" lang="en-US" sz="7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0880" y="5106960"/>
            <a:ext cx="2057400" cy="17510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Genesis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37:15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369" name=""/>
          <p:cNvSpPr/>
          <p:nvPr/>
        </p:nvSpPr>
        <p:spPr>
          <a:xfrm>
            <a:off x="5791320" y="1203480"/>
            <a:ext cx="2133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And he found him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886200" y="121932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a man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209680" y="121932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And behold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762120" y="1143000"/>
            <a:ext cx="2133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he was wandering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6781680" y="304812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in a field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4343400" y="312408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and he asked him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286000" y="304812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the man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04920" y="2895480"/>
            <a:ext cx="213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to say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6781680" y="5165640"/>
            <a:ext cx="106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what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181480" y="5165640"/>
            <a:ext cx="1524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(are) you seeking?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500"/>
                            </p:stCondLst>
                            <p:childTnLst>
                              <p:par>
                                <p:cTn id="17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ccffff"/>
                </a:solidFill>
                <a:latin typeface="Bwhebb"/>
              </a:rPr>
              <a:t>~h'r"b.a;l. Tit;n" rv,a] #r&lt;a'h'-ta,w&gt;</a:t>
            </a:r>
            <a:endParaRPr b="0" lang="en-US" sz="7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0" y="20574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ccffff"/>
                </a:solidFill>
                <a:latin typeface="Bwhebb"/>
              </a:rPr>
              <a:t>^[]r&gt;z:l.W hN"n&lt;T.a, ^l. qx'c.yIl.W</a:t>
            </a:r>
            <a:endParaRPr b="0" lang="en-US" sz="7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1523880" y="3962520"/>
            <a:ext cx="7620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ccffff"/>
                </a:solidFill>
                <a:latin typeface="Bwhebb"/>
              </a:rPr>
              <a:t>#r&lt;a'h'-ta, !Tea, ^yr&lt;x]a;</a:t>
            </a:r>
            <a:endParaRPr b="0" lang="en-US" sz="7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76320" y="4952880"/>
            <a:ext cx="2057400" cy="17510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Genesis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35:12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383" name=""/>
          <p:cNvSpPr/>
          <p:nvPr/>
        </p:nvSpPr>
        <p:spPr>
          <a:xfrm>
            <a:off x="8229600" y="120348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And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324480" y="12952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the land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4572000" y="12193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which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124080" y="129528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I gave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85800" y="1219320"/>
            <a:ext cx="1447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to Abraham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781680" y="3200400"/>
            <a:ext cx="914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and to Isaac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181480" y="320040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to you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3276720" y="3184560"/>
            <a:ext cx="1371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I will give her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219320" y="3200400"/>
            <a:ext cx="1371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and to your seed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6934320" y="518148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after you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181480" y="50292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I will give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2590920" y="50292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the land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cffff"/>
                </a:solidFill>
                <a:latin typeface="Bwhebb"/>
              </a:rPr>
              <a:t>[r"-lK'mi ^r&gt;m'v.yI hw"hy&gt;</a:t>
            </a:r>
            <a:endParaRPr b="0" lang="en-US" sz="8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533520" y="2514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cffff"/>
                </a:solidFill>
                <a:latin typeface="Bwhebb"/>
              </a:rPr>
              <a:t>^v,p.n:-ta, rmov.yI</a:t>
            </a:r>
            <a:endParaRPr b="0" lang="en-US" sz="8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228600" y="4648320"/>
            <a:ext cx="2057400" cy="2055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Psalm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121:7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398" name=""/>
          <p:cNvSpPr/>
          <p:nvPr/>
        </p:nvSpPr>
        <p:spPr>
          <a:xfrm>
            <a:off x="6629400" y="167652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The Lord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4343400" y="1660680"/>
            <a:ext cx="1676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He will guard you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2666880" y="1584360"/>
            <a:ext cx="838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from all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914400" y="160020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evil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562720" y="3581280"/>
            <a:ext cx="1295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He will guard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2514600" y="373392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your soul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7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ccffff"/>
                </a:solidFill>
                <a:latin typeface="Bwhebb"/>
              </a:rPr>
              <a:t>haer&gt; hv,mo-la, hw"hy&gt; rm,aYOw:</a:t>
            </a:r>
            <a:endParaRPr b="0" lang="en-US" sz="7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228600" y="198108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ccffff"/>
                </a:solidFill>
                <a:latin typeface="Bwhebb"/>
              </a:rPr>
              <a:t>!roh]a;w&gt; h[or&gt;p;l. ~yhil{a/ ^yTit;n&gt;</a:t>
            </a:r>
            <a:endParaRPr b="0" lang="en-US" sz="7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895480" y="3886200"/>
            <a:ext cx="5791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ccffff"/>
                </a:solidFill>
                <a:latin typeface="Bwhebb"/>
              </a:rPr>
              <a:t>^a,ybin&gt; hy&lt;h.yI ^yxia'</a:t>
            </a:r>
            <a:endParaRPr b="0" lang="en-US" sz="7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228600" y="4648320"/>
            <a:ext cx="2057400" cy="2055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xodus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7:1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408" name=""/>
          <p:cNvSpPr/>
          <p:nvPr/>
        </p:nvSpPr>
        <p:spPr>
          <a:xfrm>
            <a:off x="6934320" y="1295280"/>
            <a:ext cx="1295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And he said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5105520" y="137160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The Lord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09880" y="1371600"/>
            <a:ext cx="12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to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2438280" y="1295280"/>
            <a:ext cx="12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Moses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838080" y="1371600"/>
            <a:ext cx="12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The Lord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162920" y="3048120"/>
            <a:ext cx="1295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I gave to you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5029200" y="297180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God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2743200" y="2971800"/>
            <a:ext cx="1295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to Pharaoh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533520" y="2971800"/>
            <a:ext cx="1295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and Aaron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7010280" y="5029200"/>
            <a:ext cx="1295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your brother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5486400" y="5029200"/>
            <a:ext cx="99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he will be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505320" y="5029200"/>
            <a:ext cx="1295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your prophet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6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3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7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4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8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5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2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9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6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3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ccffff"/>
                </a:solidFill>
                <a:latin typeface="Bwhebb"/>
              </a:rPr>
              <a:t>rmeao yn"doa] lAq-ta, [m;v.a,w"</a:t>
            </a:r>
            <a:endParaRPr b="0" lang="en-US" sz="7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457200" y="21337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ccffff"/>
                </a:solidFill>
                <a:latin typeface="Bwhebb"/>
              </a:rPr>
              <a:t>Wnl'-%l,yE ymiW xl;v.a, ymi-ta,</a:t>
            </a:r>
            <a:endParaRPr b="0" lang="en-US" sz="7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2438280" y="3809880"/>
            <a:ext cx="6248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ccffff"/>
                </a:solidFill>
                <a:latin typeface="Bwhebb"/>
              </a:rPr>
              <a:t>ynIxel'v. ynIn&gt;hi rm;aow"</a:t>
            </a:r>
            <a:endParaRPr b="0" lang="en-US" sz="7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380880" y="4191120"/>
            <a:ext cx="1981440" cy="2286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Isaiah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6:8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424" name=""/>
          <p:cNvSpPr/>
          <p:nvPr/>
        </p:nvSpPr>
        <p:spPr>
          <a:xfrm>
            <a:off x="6781680" y="1295280"/>
            <a:ext cx="1295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And I heard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114800" y="1295280"/>
            <a:ext cx="914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the voice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2362320" y="12952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the Lord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762120" y="127944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saying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6477120" y="318456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who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4648320" y="3200400"/>
            <a:ext cx="1295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shall I send?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3276720" y="3124080"/>
            <a:ext cx="1066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and who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1981080" y="3124080"/>
            <a:ext cx="99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he will go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685800" y="3124080"/>
            <a:ext cx="9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for us?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6858000" y="4784760"/>
            <a:ext cx="99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And I said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5257800" y="4800600"/>
            <a:ext cx="99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Behold me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429000" y="4876920"/>
            <a:ext cx="990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you send me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2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9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6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3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0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7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4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1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8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5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2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9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"/>
          <p:cNvSpPr txBox="1"/>
          <p:nvPr/>
        </p:nvSpPr>
        <p:spPr>
          <a:xfrm>
            <a:off x="2209680" y="2590920"/>
            <a:ext cx="5100840" cy="971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Vocabulary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/>
          <p:nvPr/>
        </p:nvSpPr>
        <p:spPr>
          <a:xfrm>
            <a:off x="2971800" y="1752480"/>
            <a:ext cx="3200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Bwhebb"/>
              </a:rPr>
              <a:t>xj;B'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971800" y="4343400"/>
            <a:ext cx="32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Trust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39" name=""/>
          <p:cNvGrpSpPr/>
          <p:nvPr/>
        </p:nvGrpSpPr>
        <p:grpSpPr>
          <a:xfrm>
            <a:off x="2590920" y="5105520"/>
            <a:ext cx="4114800" cy="2288520"/>
            <a:chOff x="2590920" y="5105520"/>
            <a:chExt cx="4114800" cy="2288520"/>
          </a:xfrm>
        </p:grpSpPr>
        <p:sp>
          <p:nvSpPr>
            <p:cNvPr id="440" name=""/>
            <p:cNvSpPr/>
            <p:nvPr/>
          </p:nvSpPr>
          <p:spPr>
            <a:xfrm>
              <a:off x="2590920" y="5105520"/>
              <a:ext cx="190512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ccffff"/>
                  </a:solidFill>
                  <a:latin typeface="Bwhebb"/>
                </a:rPr>
                <a:t>xj;B,</a:t>
              </a:r>
              <a:endParaRPr b="0" lang="en-US" sz="72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3886200" y="5410440"/>
              <a:ext cx="2819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ccffff"/>
                  </a:solidFill>
                  <a:latin typeface="WP TypographicSymbols"/>
                </a:rPr>
                <a:t>B </a:t>
              </a:r>
              <a:r>
                <a:rPr b="0" lang="en-US" sz="3600" spc="-1" strike="noStrike">
                  <a:solidFill>
                    <a:srgbClr val="ccffff"/>
                  </a:solidFill>
                  <a:latin typeface="Times New Roman"/>
                </a:rPr>
                <a:t>Security</a:t>
              </a: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</p:grpSp>
    </p:spTree>
  </p:cSld>
  <p:transition spd="med">
    <p:fade/>
  </p:transition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8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5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4114800" cy="1371600"/>
          </a:xfrm>
          <a:prstGeom prst="rect">
            <a:avLst/>
          </a:prstGeom>
          <a:gradFill rotWithShape="0">
            <a:gsLst>
              <a:gs pos="0">
                <a:srgbClr val="820019"/>
              </a:gs>
              <a:gs pos="100000">
                <a:srgbClr val="3b000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Bwhebb"/>
              </a:rPr>
              <a:t>xj;B'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4572000" y="304920"/>
            <a:ext cx="4114800" cy="1371600"/>
          </a:xfrm>
          <a:prstGeom prst="rect">
            <a:avLst/>
          </a:prstGeom>
          <a:gradFill rotWithShape="0">
            <a:gsLst>
              <a:gs pos="0">
                <a:srgbClr val="820019"/>
              </a:gs>
              <a:gs pos="100000">
                <a:srgbClr val="3b000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!m;a'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57200" y="1676520"/>
            <a:ext cx="4114800" cy="137160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rust, security, safety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1676520"/>
            <a:ext cx="4114800" cy="137160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rust, belief, amen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457200" y="3048120"/>
            <a:ext cx="4114800" cy="350496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eon and Levi, Dinah's brethren, took each man his sword, and came upon the city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oldl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and slew all the males (Gen34:25).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4572000" y="3048120"/>
            <a:ext cx="4114800" cy="350496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n he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elieve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n the LORD; and He reckoned it to him as righteousness (Gen 15:6).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4114800" cy="1371600"/>
          </a:xfrm>
          <a:prstGeom prst="rect">
            <a:avLst/>
          </a:prstGeom>
          <a:gradFill rotWithShape="0">
            <a:gsLst>
              <a:gs pos="0">
                <a:srgbClr val="820019"/>
              </a:gs>
              <a:gs pos="100000">
                <a:srgbClr val="3b000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Bwhebb"/>
              </a:rPr>
              <a:t>xj;B'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4572000" y="304920"/>
            <a:ext cx="4114800" cy="1371600"/>
          </a:xfrm>
          <a:prstGeom prst="rect">
            <a:avLst/>
          </a:prstGeom>
          <a:gradFill rotWithShape="0">
            <a:gsLst>
              <a:gs pos="0">
                <a:srgbClr val="820019"/>
              </a:gs>
              <a:gs pos="100000">
                <a:srgbClr val="3b000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!m;a'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457200" y="1676520"/>
            <a:ext cx="4114800" cy="137160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rust, security, safety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4572000" y="1676520"/>
            <a:ext cx="4114800" cy="137160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rust, belief, amen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457200" y="3048120"/>
            <a:ext cx="4114800" cy="350496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at you may live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urel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on the land (Lev 25:18)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4572000" y="3048120"/>
            <a:ext cx="4114800" cy="350496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ring your youngest brother to me, so your words may be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erifie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(Gen 42:20)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4114800" cy="1371600"/>
          </a:xfrm>
          <a:prstGeom prst="rect">
            <a:avLst/>
          </a:prstGeom>
          <a:gradFill rotWithShape="0">
            <a:gsLst>
              <a:gs pos="0">
                <a:srgbClr val="820019"/>
              </a:gs>
              <a:gs pos="100000">
                <a:srgbClr val="3b000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Bwhebb"/>
              </a:rPr>
              <a:t>xj;B'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572000" y="304920"/>
            <a:ext cx="4114800" cy="1371600"/>
          </a:xfrm>
          <a:prstGeom prst="rect">
            <a:avLst/>
          </a:prstGeom>
          <a:gradFill rotWithShape="0">
            <a:gsLst>
              <a:gs pos="0">
                <a:srgbClr val="820019"/>
              </a:gs>
              <a:gs pos="100000">
                <a:srgbClr val="3b000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!m;a'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457200" y="1676520"/>
            <a:ext cx="4114800" cy="137160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rust, security, safety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4572000" y="1676520"/>
            <a:ext cx="4114800" cy="137160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rust, belief, amen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457200" y="3048120"/>
            <a:ext cx="4114800" cy="350496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Judah and Israel lived in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afet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every man under his vine and his fig tree, from Dan even to Beersheba (1 Kg 5:5)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4572000" y="3048120"/>
            <a:ext cx="4114800" cy="350496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all the people shall answer and say,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e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(Deu 27:15)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676520"/>
            <a:ext cx="4114800" cy="1371600"/>
          </a:xfrm>
          <a:prstGeom prst="rect">
            <a:avLst/>
          </a:prstGeom>
          <a:gradFill rotWithShape="0">
            <a:gsLst>
              <a:gs pos="0">
                <a:srgbClr val="820019"/>
              </a:gs>
              <a:gs pos="100000">
                <a:srgbClr val="3b000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Attached to Direct Object Marker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3048120"/>
            <a:ext cx="4114800" cy="137160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4495680"/>
            <a:ext cx="8229600" cy="83844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will keep us”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0" y="1676520"/>
            <a:ext cx="4114800" cy="1371600"/>
          </a:xfrm>
          <a:prstGeom prst="rect">
            <a:avLst/>
          </a:prstGeom>
          <a:gradFill rotWithShape="0">
            <a:gsLst>
              <a:gs pos="0">
                <a:srgbClr val="820019"/>
              </a:gs>
              <a:gs pos="100000">
                <a:srgbClr val="3b000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Attached to the Verb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0" y="3048120"/>
            <a:ext cx="4114800" cy="137160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3124080"/>
            <a:ext cx="3505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Bwhebb"/>
              </a:rPr>
              <a:t>Wnt'ao rm;v.yI</a:t>
            </a:r>
            <a:endParaRPr b="0" lang="en-US" sz="7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334120" y="3124080"/>
            <a:ext cx="27432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Bwhebb"/>
              </a:rPr>
              <a:t>Wnrem.v.yI</a:t>
            </a:r>
            <a:endParaRPr b="0" lang="en-US" sz="7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533520" y="609480"/>
            <a:ext cx="8153280" cy="819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Pronominal Suffixes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"/>
          <p:cNvSpPr/>
          <p:nvPr/>
        </p:nvSpPr>
        <p:spPr>
          <a:xfrm>
            <a:off x="2971800" y="1752480"/>
            <a:ext cx="3200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Bwhebb"/>
              </a:rPr>
              <a:t>hk'B'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971800" y="4343400"/>
            <a:ext cx="32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To weep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4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"/>
          <p:cNvSpPr/>
          <p:nvPr/>
        </p:nvSpPr>
        <p:spPr>
          <a:xfrm>
            <a:off x="2971800" y="1752480"/>
            <a:ext cx="3200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Bwhebb"/>
              </a:rPr>
              <a:t>hk'B'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600200" y="3733920"/>
            <a:ext cx="6477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By the rivers of Babylon,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There we sat down and wept, 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When we remembered Zion (Psalm 137:1).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"/>
          <p:cNvSpPr/>
          <p:nvPr/>
        </p:nvSpPr>
        <p:spPr>
          <a:xfrm>
            <a:off x="2971800" y="1752480"/>
            <a:ext cx="3200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Bwhebb"/>
              </a:rPr>
              <a:t>vb;l'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971800" y="4343400"/>
            <a:ext cx="32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To clothe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3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971800" y="1752480"/>
            <a:ext cx="3200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Bwhebb"/>
              </a:rPr>
              <a:t>vb;l'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447920" y="3780000"/>
            <a:ext cx="6400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The LORD God made garments of skin for Adam and his wife, and </a:t>
            </a:r>
            <a:r>
              <a:rPr b="1" lang="en-US" sz="3200" spc="-1" strike="noStrike">
                <a:solidFill>
                  <a:srgbClr val="ccffff"/>
                </a:solidFill>
                <a:latin typeface="Arial"/>
              </a:rPr>
              <a:t>clothed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 them (Genesis 3:21).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"/>
          <p:cNvSpPr/>
          <p:nvPr/>
        </p:nvSpPr>
        <p:spPr>
          <a:xfrm>
            <a:off x="2971800" y="1752480"/>
            <a:ext cx="3200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Bwhebb"/>
              </a:rPr>
              <a:t>vb;l'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62120" y="3460680"/>
            <a:ext cx="79246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I will rejoice greatly in the LORD, 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My soul will exult in my God;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For He has </a:t>
            </a:r>
            <a:r>
              <a:rPr b="1" lang="en-US" sz="3200" spc="-1" strike="noStrike">
                <a:solidFill>
                  <a:srgbClr val="ccffff"/>
                </a:solidFill>
                <a:latin typeface="Arial"/>
              </a:rPr>
              <a:t>clothed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 me with garments of salvation, 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He has wrapped me with a robe of righteousness (Isaiah 61:10).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"/>
          <p:cNvSpPr/>
          <p:nvPr/>
        </p:nvSpPr>
        <p:spPr>
          <a:xfrm>
            <a:off x="2971800" y="1752480"/>
            <a:ext cx="3200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Bwhebb"/>
              </a:rPr>
              <a:t>@r;f'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971800" y="4343400"/>
            <a:ext cx="32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To burn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554" dur="indefinite" restart="never" nodeType="tmRoot">
          <p:childTnLst>
            <p:seq>
              <p:cTn id="555" dur="indefinite" nodeType="mainSeq">
                <p:childTnLst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2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/>
          <p:cNvSpPr/>
          <p:nvPr/>
        </p:nvSpPr>
        <p:spPr>
          <a:xfrm>
            <a:off x="4572000" y="4114800"/>
            <a:ext cx="3200400" cy="609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1600200" y="4648320"/>
            <a:ext cx="2514600" cy="609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71800" y="1752480"/>
            <a:ext cx="3200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Bwhebb"/>
              </a:rPr>
              <a:t>@r;f'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685800" y="3505320"/>
            <a:ext cx="7772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They said to one another, “Come, let us make bricks and </a:t>
            </a: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urn </a:t>
            </a: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them thoroughly” (Genesis 11:3).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1600200" y="5211720"/>
            <a:ext cx="5943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ccffff"/>
                </a:solidFill>
                <a:latin typeface="Bwhebb"/>
              </a:rPr>
              <a:t>hp'rEf.li hp'r&gt;f.nIw&gt;</a:t>
            </a:r>
            <a:endParaRPr b="0" lang="en-US" sz="72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fill="hold">
                      <p:stCondLst>
                        <p:cond delay="0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9" dur="2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fill="hold">
                            <p:stCondLst>
                              <p:cond delay="2000"/>
                            </p:stCondLst>
                            <p:childTnLst>
                              <p:par>
                                <p:cTn id="5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2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fill="hold">
                            <p:stCondLst>
                              <p:cond delay="4000"/>
                            </p:stCondLst>
                            <p:childTnLst>
                              <p:par>
                                <p:cTn id="57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9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"/>
          <p:cNvSpPr/>
          <p:nvPr/>
        </p:nvSpPr>
        <p:spPr>
          <a:xfrm>
            <a:off x="2971800" y="1752480"/>
            <a:ext cx="3200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Bwhebb"/>
              </a:rPr>
              <a:t>@r;f'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85800" y="3505320"/>
            <a:ext cx="77724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raphim</a:t>
            </a: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 stood above Him, each having six wings; with two he covered his face, and with two he covered his feet, and with two he flew (Isaiah 6:2).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"/>
          <p:cNvSpPr/>
          <p:nvPr/>
        </p:nvSpPr>
        <p:spPr>
          <a:xfrm>
            <a:off x="4191120" y="3505320"/>
            <a:ext cx="2971800" cy="609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1800" y="1752480"/>
            <a:ext cx="3200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Bwhebb"/>
              </a:rPr>
              <a:t>@r;f'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762120" y="3505320"/>
            <a:ext cx="8076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The LORD sent </a:t>
            </a: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fiery</a:t>
            </a: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 serpents among the people and they bit the people… (Numbers 21:6).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1828800" y="5257800"/>
            <a:ext cx="54864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cffff"/>
                </a:solidFill>
                <a:latin typeface="Bwhebb"/>
              </a:rPr>
              <a:t>~ypir"F.h; ~yvix'N&gt;h;</a:t>
            </a:r>
            <a:endParaRPr b="0" lang="en-US" sz="80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580" dur="indefinite" restart="never" nodeType="tmRoot">
          <p:childTnLst>
            <p:seq>
              <p:cTn id="581" dur="indefinite" nodeType="mainSeq">
                <p:childTnLst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6" dur="20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2000"/>
                            </p:stCondLst>
                            <p:childTnLst>
                              <p:par>
                                <p:cTn id="58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2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"/>
          <p:cNvSpPr/>
          <p:nvPr/>
        </p:nvSpPr>
        <p:spPr>
          <a:xfrm>
            <a:off x="1295280" y="4038480"/>
            <a:ext cx="2438640" cy="533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2971800" y="1752480"/>
            <a:ext cx="3200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Bwhebb"/>
              </a:rPr>
              <a:t>@r;f'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62120" y="3505320"/>
            <a:ext cx="8076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Then the LORD said to Moses, “Make a fiery </a:t>
            </a:r>
            <a:r>
              <a:rPr b="0" i="1" lang="en-US" sz="3200" spc="-1" strike="noStrike">
                <a:solidFill>
                  <a:srgbClr val="ccffff"/>
                </a:solidFill>
                <a:latin typeface="Arial"/>
              </a:rPr>
              <a:t>serpent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, and set it on a standard” 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(Numbers 21:9).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828800" y="5257800"/>
            <a:ext cx="5486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cffff"/>
                </a:solidFill>
                <a:latin typeface="Bwhebb"/>
              </a:rPr>
              <a:t>@r"f'</a:t>
            </a:r>
            <a:endParaRPr b="0" lang="en-US" sz="80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593" dur="indefinite" restart="never" nodeType="tmRoot">
          <p:childTnLst>
            <p:seq>
              <p:cTn id="594" dur="indefinite" nodeType="mainSeq">
                <p:childTnLst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9" dur="20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2000"/>
                            </p:stCondLst>
                            <p:childTnLst>
                              <p:par>
                                <p:cTn id="60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5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676520"/>
            <a:ext cx="4114800" cy="1371600"/>
          </a:xfrm>
          <a:prstGeom prst="rect">
            <a:avLst/>
          </a:prstGeom>
          <a:gradFill rotWithShape="0">
            <a:gsLst>
              <a:gs pos="0">
                <a:srgbClr val="820019"/>
              </a:gs>
              <a:gs pos="100000">
                <a:srgbClr val="3b000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Attached to Direct Object Marker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3048120"/>
            <a:ext cx="4114800" cy="137160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4495680"/>
            <a:ext cx="8229600" cy="83844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judged you”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0" y="1676520"/>
            <a:ext cx="4114800" cy="1371600"/>
          </a:xfrm>
          <a:prstGeom prst="rect">
            <a:avLst/>
          </a:prstGeom>
          <a:gradFill rotWithShape="0">
            <a:gsLst>
              <a:gs pos="0">
                <a:srgbClr val="820019"/>
              </a:gs>
              <a:gs pos="100000">
                <a:srgbClr val="3b000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Attached to the Verb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572000" y="3048120"/>
            <a:ext cx="4114800" cy="137160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3124080"/>
            <a:ext cx="3505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Bwhebb"/>
              </a:rPr>
              <a:t>^t.ao jp;v.</a:t>
            </a:r>
            <a:endParaRPr b="0" lang="en-US" sz="7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334120" y="312408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Bwhebb"/>
              </a:rPr>
              <a:t>^j.p'v.</a:t>
            </a:r>
            <a:endParaRPr b="0" lang="en-US" sz="7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533520" y="609480"/>
            <a:ext cx="8153280" cy="819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Pronominal Suffixes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"/>
          <p:cNvSpPr/>
          <p:nvPr/>
        </p:nvSpPr>
        <p:spPr>
          <a:xfrm>
            <a:off x="2971800" y="1752480"/>
            <a:ext cx="3200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Bwhebb"/>
              </a:rPr>
              <a:t>~lev'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2971800" y="4343400"/>
            <a:ext cx="3200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Complete, whole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606" dur="indefinite" restart="never" nodeType="tmRoot">
          <p:childTnLst>
            <p:seq>
              <p:cTn id="607" dur="indefinite" nodeType="mainSeq">
                <p:childTnLst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4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"/>
          <p:cNvSpPr/>
          <p:nvPr/>
        </p:nvSpPr>
        <p:spPr>
          <a:xfrm>
            <a:off x="2971800" y="1752480"/>
            <a:ext cx="3200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Bwhebb"/>
              </a:rPr>
              <a:t>~lev'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85800" y="3855960"/>
            <a:ext cx="7772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Then in the fourth generation they will return here, for the iniquity of the Amorite is not yet </a:t>
            </a:r>
            <a:r>
              <a:rPr b="1" lang="en-US" sz="3200" spc="-1" strike="noStrike">
                <a:solidFill>
                  <a:srgbClr val="ccffff"/>
                </a:solidFill>
                <a:latin typeface="Arial"/>
              </a:rPr>
              <a:t>complete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. (Genesis 15:16).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"/>
          <p:cNvSpPr/>
          <p:nvPr/>
        </p:nvSpPr>
        <p:spPr>
          <a:xfrm>
            <a:off x="2971800" y="1752480"/>
            <a:ext cx="3200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Bwhebb"/>
              </a:rPr>
              <a:t>~lev'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685800" y="3855960"/>
            <a:ext cx="77724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Now Jacob came </a:t>
            </a:r>
            <a:r>
              <a:rPr b="1" lang="en-US" sz="3200" spc="-1" strike="noStrike">
                <a:solidFill>
                  <a:srgbClr val="ccffff"/>
                </a:solidFill>
                <a:latin typeface="Arial"/>
              </a:rPr>
              <a:t>safely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 to the city of Shechem, which is in the land of Canaan, when he came from Paddan-aram, and camped before the city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 (Genesis 33:18).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"/>
          <p:cNvSpPr/>
          <p:nvPr/>
        </p:nvSpPr>
        <p:spPr>
          <a:xfrm>
            <a:off x="2971800" y="1752480"/>
            <a:ext cx="3200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Bwhebb"/>
              </a:rPr>
              <a:t>~lev'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685800" y="3855960"/>
            <a:ext cx="77724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If a man steals an ox or a sheep and slaughters it or sells it, he must </a:t>
            </a:r>
            <a:r>
              <a:rPr b="1" lang="en-US" sz="3200" spc="-1" strike="noStrike">
                <a:solidFill>
                  <a:srgbClr val="ccffff"/>
                </a:solidFill>
                <a:latin typeface="Arial"/>
              </a:rPr>
              <a:t>pay back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 five head of cattle for the ox and four sheep for the sheep (Exodus 22:1).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7294680" y="3699000"/>
            <a:ext cx="838080" cy="533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990720" y="4191120"/>
            <a:ext cx="5181480" cy="533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971800" y="1752480"/>
            <a:ext cx="3200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Bwhebb"/>
              </a:rPr>
              <a:t>~lev'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762120" y="3200400"/>
            <a:ext cx="76197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But if the sun has risen on him, there will be bloodguiltiness on his account. He shall surely make restitution; if he owns nothing, then he shall be sold for his theft (Exodus 22:2).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133720" y="5562720"/>
            <a:ext cx="48006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Bwhebb"/>
              </a:rPr>
              <a:t>~Lev;y&gt; ~Lev;</a:t>
            </a:r>
            <a:endParaRPr b="0" lang="en-US" sz="66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615" dur="indefinite" restart="never" nodeType="tmRoot">
          <p:childTnLst>
            <p:seq>
              <p:cTn id="616" dur="indefinite" nodeType="mainSeq">
                <p:childTnLst>
                  <p:par>
                    <p:cTn id="617" fill="hold">
                      <p:stCondLst>
                        <p:cond delay="0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1" dur="20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fill="hold">
                            <p:stCondLst>
                              <p:cond delay="2000"/>
                            </p:stCondLst>
                            <p:childTnLst>
                              <p:par>
                                <p:cTn id="6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20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4000"/>
                            </p:stCondLst>
                            <p:childTnLst>
                              <p:par>
                                <p:cTn id="62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1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"/>
          <p:cNvSpPr/>
          <p:nvPr/>
        </p:nvSpPr>
        <p:spPr>
          <a:xfrm>
            <a:off x="2971800" y="1752480"/>
            <a:ext cx="3200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Bwhebb"/>
              </a:rPr>
              <a:t>~lev'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414600"/>
            <a:ext cx="76197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The house, while it was being built, was built of stone </a:t>
            </a:r>
            <a:r>
              <a:rPr b="1" lang="en-US" sz="3200" spc="-1" strike="noStrike">
                <a:solidFill>
                  <a:srgbClr val="ccffff"/>
                </a:solidFill>
                <a:latin typeface="Arial"/>
              </a:rPr>
              <a:t>prepared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 at the quarry, and there was neither hammer nor axe nor any iron tool heard in the house while it was being built (1 Kings 6:7).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/>
          <p:nvPr/>
        </p:nvSpPr>
        <p:spPr>
          <a:xfrm>
            <a:off x="457200" y="3962520"/>
            <a:ext cx="3124080" cy="457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971800" y="1752480"/>
            <a:ext cx="3200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Bwhebb"/>
              </a:rPr>
              <a:t>~lev'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457200" y="3414600"/>
            <a:ext cx="8305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A false balance </a:t>
            </a:r>
            <a:r>
              <a:rPr b="0" i="1" lang="en-US" sz="3200" spc="-1" strike="noStrike">
                <a:solidFill>
                  <a:srgbClr val="ccffff"/>
                </a:solidFill>
                <a:latin typeface="Arial"/>
              </a:rPr>
              <a:t>is 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abomination to the LORD: but a just weight </a:t>
            </a:r>
            <a:r>
              <a:rPr b="0" i="1" lang="en-US" sz="3200" spc="-1" strike="noStrike">
                <a:solidFill>
                  <a:srgbClr val="ccffff"/>
                </a:solidFill>
                <a:latin typeface="Arial"/>
              </a:rPr>
              <a:t>is 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his delight. (Proverbs 11:1).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2057400" y="5029200"/>
            <a:ext cx="4876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ccffff"/>
                </a:solidFill>
                <a:latin typeface="Bwhebb"/>
              </a:rPr>
              <a:t>hm'lev. !b,a,w&gt;</a:t>
            </a:r>
            <a:endParaRPr b="0" lang="en-US" sz="72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632" dur="indefinite" restart="never" nodeType="tmRoot">
          <p:childTnLst>
            <p:seq>
              <p:cTn id="633" dur="indefinite" nodeType="mainSeq">
                <p:childTnLst>
                  <p:par>
                    <p:cTn id="634" fill="hold">
                      <p:stCondLst>
                        <p:cond delay="0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8" dur="20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9" fill="hold">
                            <p:stCondLst>
                              <p:cond delay="2000"/>
                            </p:stCondLst>
                            <p:childTnLst>
                              <p:par>
                                <p:cTn id="64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4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"/>
          <p:cNvSpPr/>
          <p:nvPr/>
        </p:nvSpPr>
        <p:spPr>
          <a:xfrm>
            <a:off x="2971800" y="1752480"/>
            <a:ext cx="32004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Bwhebb"/>
              </a:rPr>
              <a:t>rwOD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2971800" y="4343400"/>
            <a:ext cx="32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Generation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645" dur="indefinite" restart="never" nodeType="tmRoot">
          <p:childTnLst>
            <p:seq>
              <p:cTn id="646" dur="indefinite" nodeType="mainSeq">
                <p:childTnLst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3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"/>
          <p:cNvSpPr/>
          <p:nvPr/>
        </p:nvSpPr>
        <p:spPr>
          <a:xfrm>
            <a:off x="6400800" y="3692520"/>
            <a:ext cx="1143000" cy="533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6600"/>
              </a:gs>
              <a:gs pos="100000">
                <a:srgbClr val="172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838080" y="4191120"/>
            <a:ext cx="2286000" cy="609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6600"/>
              </a:gs>
              <a:gs pos="100000">
                <a:srgbClr val="172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3276720" y="3200400"/>
            <a:ext cx="2286000" cy="609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20019"/>
              </a:gs>
              <a:gs pos="100000">
                <a:srgbClr val="3b000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2971800" y="1752480"/>
            <a:ext cx="32004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Bwhebb"/>
              </a:rPr>
              <a:t>rwOD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57200" y="3200400"/>
            <a:ext cx="80773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These </a:t>
            </a:r>
            <a:r>
              <a:rPr b="0" i="1" lang="en-US" sz="3200" spc="-1" strike="noStrike">
                <a:solidFill>
                  <a:srgbClr val="ccffff"/>
                </a:solidFill>
                <a:latin typeface="Arial"/>
              </a:rPr>
              <a:t>are 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the generations of Noah: Noah was a just man </a:t>
            </a:r>
            <a:r>
              <a:rPr b="0" i="1" lang="en-US" sz="3200" spc="-1" strike="noStrike">
                <a:solidFill>
                  <a:srgbClr val="ccffff"/>
                </a:solidFill>
                <a:latin typeface="Arial"/>
              </a:rPr>
              <a:t>and 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perfect in his generations, </a:t>
            </a:r>
            <a:r>
              <a:rPr b="0" i="1" lang="en-US" sz="3200" spc="-1" strike="noStrike">
                <a:solidFill>
                  <a:srgbClr val="ccffff"/>
                </a:solidFill>
                <a:latin typeface="Arial"/>
              </a:rPr>
              <a:t>and 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Noah walked with God (Genesis 6:9).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5105520" y="5334120"/>
            <a:ext cx="2743200" cy="2104920"/>
            <a:chOff x="5105520" y="5334120"/>
            <a:chExt cx="2743200" cy="2104920"/>
          </a:xfrm>
        </p:grpSpPr>
        <p:sp>
          <p:nvSpPr>
            <p:cNvPr id="514" name=""/>
            <p:cNvSpPr/>
            <p:nvPr/>
          </p:nvSpPr>
          <p:spPr>
            <a:xfrm>
              <a:off x="5410080" y="5410080"/>
              <a:ext cx="2057400" cy="990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820019"/>
                </a:gs>
                <a:gs pos="100000">
                  <a:srgbClr val="3b000b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5105520" y="5334120"/>
              <a:ext cx="2743200" cy="21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ccffff"/>
                  </a:solidFill>
                  <a:latin typeface="Bwhebb"/>
                </a:rPr>
                <a:t>tdol.AT</a:t>
              </a:r>
              <a:endParaRPr b="0" lang="en-US" sz="6600" spc="-1" strike="noStrike">
                <a:solidFill>
                  <a:srgbClr val="ccffff"/>
                </a:solidFill>
                <a:latin typeface="Arial"/>
              </a:endParaRPr>
            </a:p>
          </p:txBody>
        </p:sp>
      </p:grpSp>
      <p:grpSp>
        <p:nvGrpSpPr>
          <p:cNvPr id="516" name=""/>
          <p:cNvGrpSpPr/>
          <p:nvPr/>
        </p:nvGrpSpPr>
        <p:grpSpPr>
          <a:xfrm>
            <a:off x="1143000" y="5486400"/>
            <a:ext cx="2514600" cy="2104920"/>
            <a:chOff x="1143000" y="5486400"/>
            <a:chExt cx="2514600" cy="2104920"/>
          </a:xfrm>
        </p:grpSpPr>
        <p:sp>
          <p:nvSpPr>
            <p:cNvPr id="517" name=""/>
            <p:cNvSpPr/>
            <p:nvPr/>
          </p:nvSpPr>
          <p:spPr>
            <a:xfrm>
              <a:off x="1295280" y="5638680"/>
              <a:ext cx="2133720" cy="9144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336600"/>
                </a:gs>
                <a:gs pos="100000">
                  <a:srgbClr val="172f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143000" y="5486400"/>
              <a:ext cx="2514600" cy="21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ccffff"/>
                  </a:solidFill>
                  <a:latin typeface="Bwhebb"/>
                </a:rPr>
                <a:t>wyt'rodoB.</a:t>
              </a:r>
              <a:endParaRPr b="0" lang="en-US" sz="6600" spc="-1" strike="noStrike">
                <a:solidFill>
                  <a:srgbClr val="ccffff"/>
                </a:solidFill>
                <a:latin typeface="Arial"/>
              </a:endParaRPr>
            </a:p>
          </p:txBody>
        </p:sp>
      </p:grpSp>
    </p:spTree>
  </p:cSld>
  <p:transition spd="med">
    <p:fade/>
  </p:transition>
  <p:timing>
    <p:tnLst>
      <p:par>
        <p:cTn id="654" dur="indefinite" restart="never" nodeType="tmRoot">
          <p:childTnLst>
            <p:seq>
              <p:cTn id="655" dur="indefinite" nodeType="mainSeq">
                <p:childTnLst>
                  <p:par>
                    <p:cTn id="656" fill="hold">
                      <p:stCondLst>
                        <p:cond delay="0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0" dur="2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1" fill="hold">
                            <p:stCondLst>
                              <p:cond delay="2000"/>
                            </p:stCondLst>
                            <p:childTnLst>
                              <p:par>
                                <p:cTn id="66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6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1" dur="2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4" dur="2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fill="hold">
                            <p:stCondLst>
                              <p:cond delay="2000"/>
                            </p:stCondLst>
                            <p:childTnLst>
                              <p:par>
                                <p:cTn id="67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8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0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"/>
          <p:cNvSpPr/>
          <p:nvPr/>
        </p:nvSpPr>
        <p:spPr>
          <a:xfrm>
            <a:off x="2971800" y="1752480"/>
            <a:ext cx="32004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Bwhebb"/>
              </a:rPr>
              <a:t>rwOD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990720" y="3276720"/>
            <a:ext cx="7086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This is My name forever, and this is My memorial-name to all generations (Exodus 3:15).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457200" y="4876920"/>
            <a:ext cx="81532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cffff"/>
                </a:solidFill>
                <a:latin typeface="Bwhebb"/>
              </a:rPr>
              <a:t>rDo rdol. yrIk.zI hz&lt;w&gt;</a:t>
            </a:r>
            <a:endParaRPr b="0" lang="en-US" sz="8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1066680" y="3352680"/>
            <a:ext cx="6858000" cy="914400"/>
          </a:xfrm>
          <a:custGeom>
            <a:avLst/>
            <a:gdLst/>
            <a:ahLst/>
            <a:rect l="l" t="t" r="r" b="b"/>
            <a:pathLst>
              <a:path w="4320" h="576">
                <a:moveTo>
                  <a:pt x="3024" y="0"/>
                </a:moveTo>
                <a:lnTo>
                  <a:pt x="3168" y="0"/>
                </a:lnTo>
                <a:lnTo>
                  <a:pt x="4080" y="0"/>
                </a:lnTo>
                <a:lnTo>
                  <a:pt x="4176" y="0"/>
                </a:lnTo>
                <a:lnTo>
                  <a:pt x="4320" y="240"/>
                </a:lnTo>
                <a:lnTo>
                  <a:pt x="4320" y="528"/>
                </a:lnTo>
                <a:lnTo>
                  <a:pt x="4224" y="576"/>
                </a:lnTo>
                <a:lnTo>
                  <a:pt x="96" y="576"/>
                </a:lnTo>
                <a:lnTo>
                  <a:pt x="0" y="528"/>
                </a:lnTo>
                <a:lnTo>
                  <a:pt x="0" y="384"/>
                </a:lnTo>
                <a:lnTo>
                  <a:pt x="96" y="288"/>
                </a:lnTo>
                <a:lnTo>
                  <a:pt x="192" y="288"/>
                </a:lnTo>
                <a:lnTo>
                  <a:pt x="2880" y="288"/>
                </a:lnTo>
                <a:lnTo>
                  <a:pt x="2976" y="240"/>
                </a:lnTo>
                <a:lnTo>
                  <a:pt x="2976" y="96"/>
                </a:ln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33720" y="533160"/>
            <a:ext cx="3581280" cy="1020600"/>
          </a:xfrm>
          <a:prstGeom prst="rect">
            <a:avLst/>
          </a:prstGeom>
          <a:gradFill rotWithShape="0">
            <a:gsLst>
              <a:gs pos="0">
                <a:srgbClr val="820019"/>
              </a:gs>
              <a:gs pos="100000">
                <a:srgbClr val="3b000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ffff"/>
                </a:solidFill>
                <a:latin typeface="Arial"/>
              </a:rPr>
              <a:t>Singular</a:t>
            </a:r>
            <a:endParaRPr b="0" lang="en-US" sz="4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715000" y="533520"/>
            <a:ext cx="3352680" cy="1020600"/>
          </a:xfrm>
          <a:prstGeom prst="rect">
            <a:avLst/>
          </a:prstGeom>
          <a:gradFill rotWithShape="0">
            <a:gsLst>
              <a:gs pos="0">
                <a:srgbClr val="820019"/>
              </a:gs>
              <a:gs pos="100000">
                <a:srgbClr val="3b000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ffff"/>
                </a:solidFill>
                <a:latin typeface="Arial"/>
              </a:rPr>
              <a:t>Plural</a:t>
            </a:r>
            <a:endParaRPr b="0" lang="en-US" sz="4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133720" y="1600200"/>
            <a:ext cx="3581280" cy="121932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Bwhebb"/>
              </a:rPr>
              <a:t>ymiv. </a:t>
            </a:r>
            <a:endParaRPr b="0" lang="en-US" sz="6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52280" y="1600200"/>
            <a:ext cx="1981440" cy="121932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Person Common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715000" y="1600200"/>
            <a:ext cx="3352680" cy="121932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Bwhebb"/>
              </a:rPr>
              <a:t>Wnmev.</a:t>
            </a:r>
            <a:endParaRPr b="0" lang="en-US" sz="6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048120" y="2009880"/>
            <a:ext cx="236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, my name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58000" y="201132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, our name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133720" y="2819520"/>
            <a:ext cx="3581280" cy="91440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Bwhebb"/>
              </a:rPr>
              <a:t>^m,v.</a:t>
            </a:r>
            <a:endParaRPr b="0" lang="en-US" sz="6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2280" y="2819520"/>
            <a:ext cx="1981440" cy="91440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Masc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715000" y="2819520"/>
            <a:ext cx="3352680" cy="91440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Bwhebb"/>
              </a:rPr>
              <a:t>~k,m,v.</a:t>
            </a:r>
            <a:endParaRPr b="0" lang="en-US" sz="6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048120" y="3076560"/>
            <a:ext cx="281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, your name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086600" y="307656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, ya’lls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133720" y="3733920"/>
            <a:ext cx="3581280" cy="91440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Bwhebb"/>
              </a:rPr>
              <a:t>%m,v.</a:t>
            </a:r>
            <a:endParaRPr b="0" lang="en-US" sz="6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2280" y="3733920"/>
            <a:ext cx="1981440" cy="91440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em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715000" y="3733920"/>
            <a:ext cx="3352680" cy="91440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Bwhebb"/>
              </a:rPr>
              <a:t>!k,m,v.</a:t>
            </a:r>
            <a:endParaRPr b="0" lang="en-US" sz="6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290760" y="397656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, your name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934320" y="396252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, ya’lls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133720" y="4648320"/>
            <a:ext cx="3581280" cy="91440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Bwhebb"/>
              </a:rPr>
              <a:t>hymev. </a:t>
            </a:r>
            <a:endParaRPr b="0" lang="en-US" sz="6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52280" y="4648320"/>
            <a:ext cx="1981440" cy="91440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Masc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715000" y="4648320"/>
            <a:ext cx="3352680" cy="91440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Bwhebb"/>
              </a:rPr>
              <a:t>~h,m'v.</a:t>
            </a:r>
            <a:endParaRPr b="0" lang="en-US" sz="6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324240" y="487692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, his name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133720" y="5562720"/>
            <a:ext cx="3581280" cy="91440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Bwhebb"/>
              </a:rPr>
              <a:t>Hm'v.</a:t>
            </a:r>
            <a:endParaRPr b="0" lang="en-US" sz="6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2280" y="5562720"/>
            <a:ext cx="1981440" cy="91440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em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715000" y="5562720"/>
            <a:ext cx="3352680" cy="91440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Bwhebb"/>
              </a:rPr>
              <a:t>!h,m'v.</a:t>
            </a:r>
            <a:endParaRPr b="0" lang="en-US" sz="6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629400" y="5756400"/>
            <a:ext cx="53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,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086600" y="578808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, their n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52880" y="5773680"/>
            <a:ext cx="24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, her name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238880" y="487692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, their n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380880"/>
            <a:ext cx="1343160" cy="874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Review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 spd="med">
    <p:fad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"/>
          <p:cNvSpPr/>
          <p:nvPr/>
        </p:nvSpPr>
        <p:spPr>
          <a:xfrm>
            <a:off x="6705720" y="3809880"/>
            <a:ext cx="1676160" cy="457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2971800" y="1752480"/>
            <a:ext cx="32004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Bwhebb"/>
              </a:rPr>
              <a:t>rwOD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685800" y="3276720"/>
            <a:ext cx="7696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Has His lovingkindness ceased forever?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Has His promise come to an end forever? (Psalm 77:8).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526" name=""/>
          <p:cNvGrpSpPr/>
          <p:nvPr/>
        </p:nvGrpSpPr>
        <p:grpSpPr>
          <a:xfrm>
            <a:off x="3581280" y="5105520"/>
            <a:ext cx="4648320" cy="2531880"/>
            <a:chOff x="3581280" y="5105520"/>
            <a:chExt cx="4648320" cy="2531880"/>
          </a:xfrm>
        </p:grpSpPr>
        <p:sp>
          <p:nvSpPr>
            <p:cNvPr id="527" name=""/>
            <p:cNvSpPr/>
            <p:nvPr/>
          </p:nvSpPr>
          <p:spPr>
            <a:xfrm>
              <a:off x="4267080" y="5181480"/>
              <a:ext cx="3276720" cy="12193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3366"/>
                </a:gs>
                <a:gs pos="100000">
                  <a:srgbClr val="00172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581280" y="5105520"/>
              <a:ext cx="4648320" cy="25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0" spc="-1" strike="noStrike">
                  <a:solidFill>
                    <a:srgbClr val="ccffff"/>
                  </a:solidFill>
                  <a:latin typeface="Bwhebb"/>
                </a:rPr>
                <a:t>rdow" rdol.</a:t>
              </a:r>
              <a:endParaRPr b="0" lang="en-US" sz="8000" spc="-1" strike="noStrike">
                <a:solidFill>
                  <a:srgbClr val="ccffff"/>
                </a:solidFill>
                <a:latin typeface="Arial"/>
              </a:endParaRPr>
            </a:p>
          </p:txBody>
        </p:sp>
      </p:grpSp>
    </p:spTree>
  </p:cSld>
  <p:transition spd="med">
    <p:fade/>
  </p:transition>
  <p:timing>
    <p:tnLst>
      <p:par>
        <p:cTn id="681" dur="indefinite" restart="never" nodeType="tmRoot">
          <p:childTnLst>
            <p:seq>
              <p:cTn id="682" dur="indefinite" nodeType="mainSeq">
                <p:childTnLst>
                  <p:par>
                    <p:cTn id="683" fill="hold">
                      <p:stCondLst>
                        <p:cond delay="0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2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8" fill="hold">
                            <p:stCondLst>
                              <p:cond delay="2000"/>
                            </p:stCondLst>
                            <p:childTnLst>
                              <p:par>
                                <p:cTn id="68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1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3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"/>
          <p:cNvSpPr/>
          <p:nvPr/>
        </p:nvSpPr>
        <p:spPr>
          <a:xfrm>
            <a:off x="2971800" y="1752480"/>
            <a:ext cx="3200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Bwhebb"/>
              </a:rPr>
              <a:t>#Wx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2971800" y="4343400"/>
            <a:ext cx="32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Ouside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694" dur="indefinite" restart="never" nodeType="tmRoot">
          <p:childTnLst>
            <p:seq>
              <p:cTn id="695" dur="indefinite" nodeType="mainSeq">
                <p:childTnLst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0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2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"/>
          <p:cNvSpPr/>
          <p:nvPr/>
        </p:nvSpPr>
        <p:spPr>
          <a:xfrm>
            <a:off x="2971800" y="1752480"/>
            <a:ext cx="3200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Bwhebb"/>
              </a:rPr>
              <a:t>#Wx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914400" y="3733920"/>
            <a:ext cx="70102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Make for yourself an ark of gopher wood; you shall make the ark with rooms, and shall cover it inside and </a:t>
            </a:r>
            <a:r>
              <a:rPr b="1" lang="en-US" sz="3200" spc="-1" strike="noStrike">
                <a:solidFill>
                  <a:srgbClr val="ccffff"/>
                </a:solidFill>
                <a:latin typeface="Arial"/>
              </a:rPr>
              <a:t>out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 with pitch (Genesis 6:14).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2971800" y="1752480"/>
            <a:ext cx="3200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Bwhebb"/>
              </a:rPr>
              <a:t>#Wx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914400" y="3733920"/>
            <a:ext cx="70102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And He took him </a:t>
            </a:r>
            <a:r>
              <a:rPr b="1" lang="en-US" sz="3200" spc="-1" strike="noStrike">
                <a:solidFill>
                  <a:srgbClr val="ccffff"/>
                </a:solidFill>
                <a:latin typeface="Arial"/>
              </a:rPr>
              <a:t>outside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 and said, “Now look toward the heavens, and count the stars, if you are able to count them.” (Genesis 15:5).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/>
          <p:nvPr/>
        </p:nvSpPr>
        <p:spPr>
          <a:xfrm>
            <a:off x="2971800" y="1752480"/>
            <a:ext cx="3200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Bwhebb"/>
              </a:rPr>
              <a:t>#Wx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1143000" y="3733920"/>
            <a:ext cx="70102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Then I beat them fine as the dust before the wind;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I emptied them out as the mire of the </a:t>
            </a:r>
            <a:r>
              <a:rPr b="1" lang="en-US" sz="3200" spc="-1" strike="noStrike">
                <a:solidFill>
                  <a:srgbClr val="ccffff"/>
                </a:solidFill>
                <a:latin typeface="Arial"/>
              </a:rPr>
              <a:t>streets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 (Psalm 18:42).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"/>
          <p:cNvSpPr/>
          <p:nvPr/>
        </p:nvSpPr>
        <p:spPr>
          <a:xfrm>
            <a:off x="2971800" y="1752480"/>
            <a:ext cx="3200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Bwhebb"/>
              </a:rPr>
              <a:t>#Wx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1676520" y="3505320"/>
            <a:ext cx="7010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Wisdom shouts in the </a:t>
            </a:r>
            <a:r>
              <a:rPr b="1" lang="en-US" sz="3200" spc="-1" strike="noStrike">
                <a:solidFill>
                  <a:srgbClr val="ccffff"/>
                </a:solidFill>
                <a:latin typeface="Arial"/>
              </a:rPr>
              <a:t>street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, 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She lifts her voice in the square (Proverbs 1:20 NAS).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1676520" y="5227560"/>
            <a:ext cx="7010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Wisdom crieth </a:t>
            </a:r>
            <a:r>
              <a:rPr b="1" lang="en-US" sz="3200" spc="-1" strike="noStrike">
                <a:solidFill>
                  <a:srgbClr val="ccffff"/>
                </a:solidFill>
                <a:latin typeface="Arial"/>
              </a:rPr>
              <a:t>without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she uttereth her voice in the streets: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(Proverbs 1:20 KJV).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703" dur="indefinite" restart="never" nodeType="tmRoot">
          <p:childTnLst>
            <p:seq>
              <p:cTn id="704" dur="indefinite" nodeType="mainSeq">
                <p:childTnLst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1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"/>
          <p:cNvSpPr/>
          <p:nvPr/>
        </p:nvSpPr>
        <p:spPr>
          <a:xfrm>
            <a:off x="2971800" y="1752480"/>
            <a:ext cx="3200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Bwhebb"/>
              </a:rPr>
              <a:t>#Wx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1676520" y="3855960"/>
            <a:ext cx="6095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For who can eat and who can have enjoyment </a:t>
            </a:r>
            <a:r>
              <a:rPr b="1" lang="en-US" sz="3200" spc="-1" strike="noStrike">
                <a:solidFill>
                  <a:srgbClr val="ccffff"/>
                </a:solidFill>
                <a:latin typeface="Arial"/>
              </a:rPr>
              <a:t>without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 Him? (Ecclesiastes 2:25).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"/>
          <p:cNvSpPr/>
          <p:nvPr/>
        </p:nvSpPr>
        <p:spPr>
          <a:xfrm>
            <a:off x="2971800" y="1752480"/>
            <a:ext cx="32004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Bwhebb"/>
              </a:rPr>
              <a:t>hk'al'm.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2971800" y="4343400"/>
            <a:ext cx="32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Work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712" dur="indefinite" restart="never" nodeType="tmRoot">
          <p:childTnLst>
            <p:seq>
              <p:cTn id="713" dur="indefinite" nodeType="mainSeq">
                <p:childTnLst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8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0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"/>
          <p:cNvSpPr/>
          <p:nvPr/>
        </p:nvSpPr>
        <p:spPr>
          <a:xfrm>
            <a:off x="2971800" y="1752480"/>
            <a:ext cx="32004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Bwhebb"/>
              </a:rPr>
              <a:t>hk'al'm.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914400" y="3733920"/>
            <a:ext cx="7543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By the seventh day God completed His </a:t>
            </a:r>
            <a:r>
              <a:rPr b="1" lang="en-US" sz="3200" spc="-1" strike="noStrike">
                <a:solidFill>
                  <a:srgbClr val="ccffff"/>
                </a:solidFill>
                <a:latin typeface="Arial"/>
              </a:rPr>
              <a:t>work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 which He had done, and He rested on the seventh day from all His work which He had done (Genesis 2:2).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"/>
          <p:cNvSpPr/>
          <p:nvPr/>
        </p:nvSpPr>
        <p:spPr>
          <a:xfrm>
            <a:off x="2971800" y="1752480"/>
            <a:ext cx="32004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Bwhebb"/>
              </a:rPr>
              <a:t>hk'al'm.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914400" y="3733920"/>
            <a:ext cx="754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Six days you shall labor and do all your </a:t>
            </a:r>
            <a:r>
              <a:rPr b="1" lang="en-US" sz="3200" spc="-1" strike="noStrike">
                <a:solidFill>
                  <a:srgbClr val="ccffff"/>
                </a:solidFill>
                <a:latin typeface="Arial"/>
              </a:rPr>
              <a:t>work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 (Exodus 2:9).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4114800" y="609480"/>
            <a:ext cx="1371240" cy="3047760"/>
            <a:chOff x="4114800" y="609480"/>
            <a:chExt cx="1371240" cy="3047760"/>
          </a:xfrm>
        </p:grpSpPr>
        <p:sp>
          <p:nvSpPr>
            <p:cNvPr id="90" name=""/>
            <p:cNvSpPr/>
            <p:nvPr/>
          </p:nvSpPr>
          <p:spPr>
            <a:xfrm>
              <a:off x="4114800" y="609480"/>
              <a:ext cx="1371240" cy="609480"/>
            </a:xfrm>
            <a:prstGeom prst="rect">
              <a:avLst/>
            </a:prstGeom>
            <a:gradFill rotWithShape="0">
              <a:gsLst>
                <a:gs pos="0">
                  <a:srgbClr val="006699"/>
                </a:gs>
                <a:gs pos="100000">
                  <a:srgbClr val="002f4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114800" y="1218960"/>
              <a:ext cx="1371240" cy="609480"/>
            </a:xfrm>
            <a:prstGeom prst="rect">
              <a:avLst/>
            </a:prstGeom>
            <a:gradFill rotWithShape="0">
              <a:gsLst>
                <a:gs pos="0">
                  <a:srgbClr val="006699"/>
                </a:gs>
                <a:gs pos="100000">
                  <a:srgbClr val="002f4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114800" y="1828440"/>
              <a:ext cx="1371240" cy="609840"/>
            </a:xfrm>
            <a:prstGeom prst="rect">
              <a:avLst/>
            </a:prstGeom>
            <a:gradFill rotWithShape="0">
              <a:gsLst>
                <a:gs pos="0">
                  <a:srgbClr val="006699"/>
                </a:gs>
                <a:gs pos="100000">
                  <a:srgbClr val="002f4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114800" y="2438280"/>
              <a:ext cx="1371240" cy="609480"/>
            </a:xfrm>
            <a:prstGeom prst="rect">
              <a:avLst/>
            </a:prstGeom>
            <a:gradFill rotWithShape="0">
              <a:gsLst>
                <a:gs pos="0">
                  <a:srgbClr val="006699"/>
                </a:gs>
                <a:gs pos="100000">
                  <a:srgbClr val="002f4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114800" y="3047760"/>
              <a:ext cx="1371240" cy="609480"/>
            </a:xfrm>
            <a:prstGeom prst="rect">
              <a:avLst/>
            </a:prstGeom>
            <a:gradFill rotWithShape="0">
              <a:gsLst>
                <a:gs pos="0">
                  <a:srgbClr val="006699"/>
                </a:gs>
                <a:gs pos="100000">
                  <a:srgbClr val="002f4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2971800" y="609480"/>
            <a:ext cx="1142640" cy="3047760"/>
            <a:chOff x="2971800" y="609480"/>
            <a:chExt cx="1142640" cy="3047760"/>
          </a:xfrm>
        </p:grpSpPr>
        <p:sp>
          <p:nvSpPr>
            <p:cNvPr id="96" name=""/>
            <p:cNvSpPr/>
            <p:nvPr/>
          </p:nvSpPr>
          <p:spPr>
            <a:xfrm>
              <a:off x="2971800" y="609480"/>
              <a:ext cx="1142640" cy="609480"/>
            </a:xfrm>
            <a:prstGeom prst="rect">
              <a:avLst/>
            </a:prstGeom>
            <a:gradFill rotWithShape="0">
              <a:gsLst>
                <a:gs pos="0">
                  <a:srgbClr val="006699"/>
                </a:gs>
                <a:gs pos="100000">
                  <a:srgbClr val="002f4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971800" y="1218960"/>
              <a:ext cx="1142640" cy="609480"/>
            </a:xfrm>
            <a:prstGeom prst="rect">
              <a:avLst/>
            </a:prstGeom>
            <a:gradFill rotWithShape="0">
              <a:gsLst>
                <a:gs pos="0">
                  <a:srgbClr val="006699"/>
                </a:gs>
                <a:gs pos="100000">
                  <a:srgbClr val="002f4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971800" y="1828440"/>
              <a:ext cx="1142640" cy="609840"/>
            </a:xfrm>
            <a:prstGeom prst="rect">
              <a:avLst/>
            </a:prstGeom>
            <a:gradFill rotWithShape="0">
              <a:gsLst>
                <a:gs pos="0">
                  <a:srgbClr val="006699"/>
                </a:gs>
                <a:gs pos="100000">
                  <a:srgbClr val="002f4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971800" y="2438280"/>
              <a:ext cx="1142640" cy="609480"/>
            </a:xfrm>
            <a:prstGeom prst="rect">
              <a:avLst/>
            </a:prstGeom>
            <a:gradFill rotWithShape="0">
              <a:gsLst>
                <a:gs pos="0">
                  <a:srgbClr val="006699"/>
                </a:gs>
                <a:gs pos="100000">
                  <a:srgbClr val="002f4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971800" y="3047760"/>
              <a:ext cx="1142640" cy="609480"/>
            </a:xfrm>
            <a:prstGeom prst="rect">
              <a:avLst/>
            </a:prstGeom>
            <a:gradFill rotWithShape="0">
              <a:gsLst>
                <a:gs pos="0">
                  <a:srgbClr val="006699"/>
                </a:gs>
                <a:gs pos="100000">
                  <a:srgbClr val="002f4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1981080" y="609480"/>
            <a:ext cx="990720" cy="3047760"/>
            <a:chOff x="1981080" y="609480"/>
            <a:chExt cx="990720" cy="3047760"/>
          </a:xfrm>
        </p:grpSpPr>
        <p:sp>
          <p:nvSpPr>
            <p:cNvPr id="102" name=""/>
            <p:cNvSpPr/>
            <p:nvPr/>
          </p:nvSpPr>
          <p:spPr>
            <a:xfrm>
              <a:off x="1981080" y="609480"/>
              <a:ext cx="990720" cy="609480"/>
            </a:xfrm>
            <a:prstGeom prst="rect">
              <a:avLst/>
            </a:prstGeom>
            <a:gradFill rotWithShape="0">
              <a:gsLst>
                <a:gs pos="0">
                  <a:srgbClr val="006699"/>
                </a:gs>
                <a:gs pos="100000">
                  <a:srgbClr val="002f4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981080" y="1218960"/>
              <a:ext cx="990720" cy="609480"/>
            </a:xfrm>
            <a:prstGeom prst="rect">
              <a:avLst/>
            </a:prstGeom>
            <a:gradFill rotWithShape="0">
              <a:gsLst>
                <a:gs pos="0">
                  <a:srgbClr val="006699"/>
                </a:gs>
                <a:gs pos="100000">
                  <a:srgbClr val="002f4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981080" y="1828440"/>
              <a:ext cx="990720" cy="609840"/>
            </a:xfrm>
            <a:prstGeom prst="rect">
              <a:avLst/>
            </a:prstGeom>
            <a:gradFill rotWithShape="0">
              <a:gsLst>
                <a:gs pos="0">
                  <a:srgbClr val="006699"/>
                </a:gs>
                <a:gs pos="100000">
                  <a:srgbClr val="002f4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981080" y="2438280"/>
              <a:ext cx="990720" cy="609480"/>
            </a:xfrm>
            <a:prstGeom prst="rect">
              <a:avLst/>
            </a:prstGeom>
            <a:gradFill rotWithShape="0">
              <a:gsLst>
                <a:gs pos="0">
                  <a:srgbClr val="006699"/>
                </a:gs>
                <a:gs pos="100000">
                  <a:srgbClr val="002f4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981080" y="3047760"/>
              <a:ext cx="990720" cy="609480"/>
            </a:xfrm>
            <a:prstGeom prst="rect">
              <a:avLst/>
            </a:prstGeom>
            <a:gradFill rotWithShape="0">
              <a:gsLst>
                <a:gs pos="0">
                  <a:srgbClr val="006699"/>
                </a:gs>
                <a:gs pos="100000">
                  <a:srgbClr val="002f4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</p:grp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905120" y="304560"/>
            <a:ext cx="1218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hebb"/>
              </a:rPr>
              <a:t>y 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971800" y="304920"/>
            <a:ext cx="1219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hebb"/>
              </a:rPr>
              <a:t>y ;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752480" y="914400"/>
            <a:ext cx="1219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hebb"/>
              </a:rPr>
              <a:t>^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048120" y="914400"/>
            <a:ext cx="12189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hebb"/>
              </a:rPr>
              <a:t>^y &lt;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828800" y="1523880"/>
            <a:ext cx="12193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hebb"/>
              </a:rPr>
              <a:t>%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048120" y="1523880"/>
            <a:ext cx="12189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hebb"/>
              </a:rPr>
              <a:t>%yI ;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828800" y="2209680"/>
            <a:ext cx="12193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hebb"/>
              </a:rPr>
              <a:t>wO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95480" y="2209680"/>
            <a:ext cx="12193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hebb"/>
              </a:rPr>
              <a:t>wy '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2819520"/>
            <a:ext cx="10670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hebb"/>
              </a:rPr>
              <a:t>H '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048120" y="2819520"/>
            <a:ext cx="106668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hebb"/>
              </a:rPr>
              <a:t>h'y &lt; 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419720" y="60948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my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419720" y="121932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your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419720" y="182880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your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419720" y="251460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his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419720" y="312408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her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62120" y="609480"/>
            <a:ext cx="1218960" cy="60984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1cs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62120" y="1219320"/>
            <a:ext cx="1218960" cy="60948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2ms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62120" y="1828800"/>
            <a:ext cx="1218960" cy="60948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2fs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62120" y="2438280"/>
            <a:ext cx="1218960" cy="60984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3ms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62120" y="3048120"/>
            <a:ext cx="1218960" cy="60948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3fs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4114800" y="3733920"/>
            <a:ext cx="1371240" cy="3047760"/>
            <a:chOff x="4114800" y="3733920"/>
            <a:chExt cx="1371240" cy="3047760"/>
          </a:xfrm>
        </p:grpSpPr>
        <p:sp>
          <p:nvSpPr>
            <p:cNvPr id="128" name=""/>
            <p:cNvSpPr/>
            <p:nvPr/>
          </p:nvSpPr>
          <p:spPr>
            <a:xfrm>
              <a:off x="4114800" y="3733920"/>
              <a:ext cx="1371240" cy="609480"/>
            </a:xfrm>
            <a:prstGeom prst="rect">
              <a:avLst/>
            </a:prstGeom>
            <a:gradFill rotWithShape="0">
              <a:gsLst>
                <a:gs pos="0">
                  <a:srgbClr val="006699"/>
                </a:gs>
                <a:gs pos="100000">
                  <a:srgbClr val="002f4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114800" y="4343400"/>
              <a:ext cx="1371240" cy="609480"/>
            </a:xfrm>
            <a:prstGeom prst="rect">
              <a:avLst/>
            </a:prstGeom>
            <a:gradFill rotWithShape="0">
              <a:gsLst>
                <a:gs pos="0">
                  <a:srgbClr val="006699"/>
                </a:gs>
                <a:gs pos="100000">
                  <a:srgbClr val="002f4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114800" y="4952880"/>
              <a:ext cx="1371240" cy="609840"/>
            </a:xfrm>
            <a:prstGeom prst="rect">
              <a:avLst/>
            </a:prstGeom>
            <a:gradFill rotWithShape="0">
              <a:gsLst>
                <a:gs pos="0">
                  <a:srgbClr val="006699"/>
                </a:gs>
                <a:gs pos="100000">
                  <a:srgbClr val="002f4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114800" y="5562720"/>
              <a:ext cx="1371240" cy="609480"/>
            </a:xfrm>
            <a:prstGeom prst="rect">
              <a:avLst/>
            </a:prstGeom>
            <a:gradFill rotWithShape="0">
              <a:gsLst>
                <a:gs pos="0">
                  <a:srgbClr val="006699"/>
                </a:gs>
                <a:gs pos="100000">
                  <a:srgbClr val="002f4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114800" y="6172200"/>
              <a:ext cx="1371240" cy="609480"/>
            </a:xfrm>
            <a:prstGeom prst="rect">
              <a:avLst/>
            </a:prstGeom>
            <a:gradFill rotWithShape="0">
              <a:gsLst>
                <a:gs pos="0">
                  <a:srgbClr val="006699"/>
                </a:gs>
                <a:gs pos="100000">
                  <a:srgbClr val="002f4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971800" y="3733920"/>
            <a:ext cx="1142640" cy="3047760"/>
            <a:chOff x="2971800" y="3733920"/>
            <a:chExt cx="1142640" cy="3047760"/>
          </a:xfrm>
        </p:grpSpPr>
        <p:sp>
          <p:nvSpPr>
            <p:cNvPr id="134" name=""/>
            <p:cNvSpPr/>
            <p:nvPr/>
          </p:nvSpPr>
          <p:spPr>
            <a:xfrm>
              <a:off x="2971800" y="3733920"/>
              <a:ext cx="1142640" cy="609480"/>
            </a:xfrm>
            <a:prstGeom prst="rect">
              <a:avLst/>
            </a:prstGeom>
            <a:gradFill rotWithShape="0">
              <a:gsLst>
                <a:gs pos="0">
                  <a:srgbClr val="006699"/>
                </a:gs>
                <a:gs pos="100000">
                  <a:srgbClr val="002f4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971800" y="4343400"/>
              <a:ext cx="1142640" cy="609480"/>
            </a:xfrm>
            <a:prstGeom prst="rect">
              <a:avLst/>
            </a:prstGeom>
            <a:gradFill rotWithShape="0">
              <a:gsLst>
                <a:gs pos="0">
                  <a:srgbClr val="006699"/>
                </a:gs>
                <a:gs pos="100000">
                  <a:srgbClr val="002f4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971800" y="4952880"/>
              <a:ext cx="1142640" cy="609840"/>
            </a:xfrm>
            <a:prstGeom prst="rect">
              <a:avLst/>
            </a:prstGeom>
            <a:gradFill rotWithShape="0">
              <a:gsLst>
                <a:gs pos="0">
                  <a:srgbClr val="006699"/>
                </a:gs>
                <a:gs pos="100000">
                  <a:srgbClr val="002f4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971800" y="5562720"/>
              <a:ext cx="1142640" cy="609480"/>
            </a:xfrm>
            <a:prstGeom prst="rect">
              <a:avLst/>
            </a:prstGeom>
            <a:gradFill rotWithShape="0">
              <a:gsLst>
                <a:gs pos="0">
                  <a:srgbClr val="006699"/>
                </a:gs>
                <a:gs pos="100000">
                  <a:srgbClr val="002f4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971800" y="6172200"/>
              <a:ext cx="1142640" cy="609480"/>
            </a:xfrm>
            <a:prstGeom prst="rect">
              <a:avLst/>
            </a:prstGeom>
            <a:gradFill rotWithShape="0">
              <a:gsLst>
                <a:gs pos="0">
                  <a:srgbClr val="006699"/>
                </a:gs>
                <a:gs pos="100000">
                  <a:srgbClr val="002f4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1981080" y="3733920"/>
            <a:ext cx="990720" cy="3047760"/>
            <a:chOff x="1981080" y="3733920"/>
            <a:chExt cx="990720" cy="3047760"/>
          </a:xfrm>
        </p:grpSpPr>
        <p:sp>
          <p:nvSpPr>
            <p:cNvPr id="140" name=""/>
            <p:cNvSpPr/>
            <p:nvPr/>
          </p:nvSpPr>
          <p:spPr>
            <a:xfrm>
              <a:off x="1981080" y="3733920"/>
              <a:ext cx="990720" cy="609480"/>
            </a:xfrm>
            <a:prstGeom prst="rect">
              <a:avLst/>
            </a:prstGeom>
            <a:gradFill rotWithShape="0">
              <a:gsLst>
                <a:gs pos="0">
                  <a:srgbClr val="006699"/>
                </a:gs>
                <a:gs pos="100000">
                  <a:srgbClr val="002f4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981080" y="4343400"/>
              <a:ext cx="990720" cy="609480"/>
            </a:xfrm>
            <a:prstGeom prst="rect">
              <a:avLst/>
            </a:prstGeom>
            <a:gradFill rotWithShape="0">
              <a:gsLst>
                <a:gs pos="0">
                  <a:srgbClr val="006699"/>
                </a:gs>
                <a:gs pos="100000">
                  <a:srgbClr val="002f4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81080" y="4952880"/>
              <a:ext cx="990720" cy="609840"/>
            </a:xfrm>
            <a:prstGeom prst="rect">
              <a:avLst/>
            </a:prstGeom>
            <a:gradFill rotWithShape="0">
              <a:gsLst>
                <a:gs pos="0">
                  <a:srgbClr val="006699"/>
                </a:gs>
                <a:gs pos="100000">
                  <a:srgbClr val="002f4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81080" y="5562720"/>
              <a:ext cx="990720" cy="609480"/>
            </a:xfrm>
            <a:prstGeom prst="rect">
              <a:avLst/>
            </a:prstGeom>
            <a:gradFill rotWithShape="0">
              <a:gsLst>
                <a:gs pos="0">
                  <a:srgbClr val="006699"/>
                </a:gs>
                <a:gs pos="100000">
                  <a:srgbClr val="002f4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981080" y="6172200"/>
              <a:ext cx="990720" cy="609480"/>
            </a:xfrm>
            <a:prstGeom prst="rect">
              <a:avLst/>
            </a:prstGeom>
            <a:gradFill rotWithShape="0">
              <a:gsLst>
                <a:gs pos="0">
                  <a:srgbClr val="006699"/>
                </a:gs>
                <a:gs pos="100000">
                  <a:srgbClr val="002f4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28800" y="3429000"/>
            <a:ext cx="1219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hebb"/>
              </a:rPr>
              <a:t>Wn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048120" y="3429000"/>
            <a:ext cx="12189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hebb"/>
              </a:rPr>
              <a:t>Wn 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52480" y="4038480"/>
            <a:ext cx="12193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hebb"/>
              </a:rPr>
              <a:t>~k,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048120" y="4038480"/>
            <a:ext cx="12189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hebb"/>
              </a:rPr>
              <a:t>~k, 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828800" y="4648320"/>
            <a:ext cx="1219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hebb"/>
              </a:rPr>
              <a:t>!k,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048120" y="4648320"/>
            <a:ext cx="12189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hebb"/>
              </a:rPr>
              <a:t>!k, 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28800" y="5334120"/>
            <a:ext cx="1219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hebb"/>
              </a:rPr>
              <a:t>~h,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895480" y="5334120"/>
            <a:ext cx="1219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hebb"/>
              </a:rPr>
              <a:t>~h, 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981080" y="5943600"/>
            <a:ext cx="10670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hebb"/>
              </a:rPr>
              <a:t>!h,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048120" y="5943600"/>
            <a:ext cx="1066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hebb"/>
              </a:rPr>
              <a:t>!h, e 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62120" y="3733920"/>
            <a:ext cx="1218960" cy="60948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1cp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62120" y="4343400"/>
            <a:ext cx="1218960" cy="60948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2mp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4952880"/>
            <a:ext cx="1218960" cy="60984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2fp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62120" y="5562720"/>
            <a:ext cx="1218960" cy="60948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3mp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6172200"/>
            <a:ext cx="1218960" cy="60948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3fp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419720" y="374796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our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419720" y="435780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ya’lls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419720" y="496728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ya’lls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419720" y="565308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their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419720" y="626256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their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828800" y="1522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Type 1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971800" y="1522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Type 2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867280" y="2057400"/>
            <a:ext cx="2590920" cy="685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Pronominal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095880" y="2819520"/>
            <a:ext cx="2057400" cy="685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Suffixes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172200" y="4724280"/>
            <a:ext cx="2057400" cy="1828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Review from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Chapter 9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 spd="med">
    <p:fade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"/>
          <p:cNvSpPr/>
          <p:nvPr/>
        </p:nvSpPr>
        <p:spPr>
          <a:xfrm>
            <a:off x="2971800" y="1752480"/>
            <a:ext cx="32004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Bwhebb"/>
              </a:rPr>
              <a:t>hk'al'm.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914400" y="3733920"/>
            <a:ext cx="7543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He said to her, “If they bind me tightly with new ropes which have not been </a:t>
            </a:r>
            <a:r>
              <a:rPr b="1" lang="en-US" sz="3200" spc="-1" strike="noStrike">
                <a:solidFill>
                  <a:srgbClr val="ccffff"/>
                </a:solidFill>
                <a:latin typeface="Arial"/>
              </a:rPr>
              <a:t>used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, then I will become weak and be like any other man.” (Judges 16:11).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"/>
          <p:cNvSpPr/>
          <p:nvPr/>
        </p:nvSpPr>
        <p:spPr>
          <a:xfrm>
            <a:off x="3429000" y="4114800"/>
            <a:ext cx="4876920" cy="533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2362320" y="4627440"/>
            <a:ext cx="1295280" cy="533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2971800" y="1752480"/>
            <a:ext cx="32004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Bwhebb"/>
              </a:rPr>
              <a:t>hk'al'm.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380880" y="3581280"/>
            <a:ext cx="8382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Then I went down to the potter’s house, and there he was, making something on the wheel (Jeremiah 18:3).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685800" y="5334120"/>
            <a:ext cx="7543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ccffff"/>
                </a:solidFill>
                <a:latin typeface="Bwhebb"/>
              </a:rPr>
              <a:t>~yIn"b.a'h'-l[; hk'al'm. hf,[o</a:t>
            </a:r>
            <a:endParaRPr b="0" lang="en-US" sz="72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721" dur="indefinite" restart="never" nodeType="tmRoot">
          <p:childTnLst>
            <p:seq>
              <p:cTn id="722" dur="indefinite" nodeType="mainSeq">
                <p:childTnLst>
                  <p:par>
                    <p:cTn id="723" fill="hold">
                      <p:stCondLst>
                        <p:cond delay="0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20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20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1" fill="hold">
                            <p:stCondLst>
                              <p:cond delay="2000"/>
                            </p:stCondLst>
                            <p:childTnLst>
                              <p:par>
                                <p:cTn id="73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4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6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"/>
          <p:cNvSpPr/>
          <p:nvPr/>
        </p:nvSpPr>
        <p:spPr>
          <a:xfrm>
            <a:off x="2971800" y="1752480"/>
            <a:ext cx="3200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Bwhebb"/>
              </a:rPr>
              <a:t>rP;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2971800" y="4343400"/>
            <a:ext cx="32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Bull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557" name=""/>
          <p:cNvGrpSpPr/>
          <p:nvPr/>
        </p:nvGrpSpPr>
        <p:grpSpPr>
          <a:xfrm>
            <a:off x="609480" y="5668920"/>
            <a:ext cx="4190760" cy="1191240"/>
            <a:chOff x="609480" y="5668920"/>
            <a:chExt cx="4190760" cy="1191240"/>
          </a:xfrm>
        </p:grpSpPr>
        <p:sp>
          <p:nvSpPr>
            <p:cNvPr id="558" name=""/>
            <p:cNvSpPr/>
            <p:nvPr/>
          </p:nvSpPr>
          <p:spPr>
            <a:xfrm>
              <a:off x="609480" y="5668920"/>
              <a:ext cx="20574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ccffff"/>
                  </a:solidFill>
                  <a:latin typeface="Bwhebb"/>
                </a:rPr>
                <a:t>rAv</a:t>
              </a:r>
              <a:endParaRPr b="0" lang="en-US" sz="72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1295280" y="5941800"/>
              <a:ext cx="3504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ccffff"/>
                  </a:solidFill>
                  <a:latin typeface="WP TypographicSymbols"/>
                </a:rPr>
                <a:t>B</a:t>
              </a:r>
              <a:r>
                <a:rPr b="0" lang="en-US" sz="3600" spc="-1" strike="noStrike">
                  <a:solidFill>
                    <a:srgbClr val="ccffff"/>
                  </a:solidFill>
                  <a:latin typeface="Arial"/>
                </a:rPr>
                <a:t> Oxen</a:t>
              </a: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</p:grpSp>
      <p:grpSp>
        <p:nvGrpSpPr>
          <p:cNvPr id="560" name=""/>
          <p:cNvGrpSpPr/>
          <p:nvPr/>
        </p:nvGrpSpPr>
        <p:grpSpPr>
          <a:xfrm>
            <a:off x="2971800" y="4800600"/>
            <a:ext cx="3657600" cy="2288520"/>
            <a:chOff x="2971800" y="4800600"/>
            <a:chExt cx="3657600" cy="2288520"/>
          </a:xfrm>
        </p:grpSpPr>
        <p:sp>
          <p:nvSpPr>
            <p:cNvPr id="561" name=""/>
            <p:cNvSpPr/>
            <p:nvPr/>
          </p:nvSpPr>
          <p:spPr>
            <a:xfrm>
              <a:off x="2971800" y="4800600"/>
              <a:ext cx="152388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ccffff"/>
                  </a:solidFill>
                  <a:latin typeface="Bwhebb"/>
                </a:rPr>
                <a:t>hr'P'</a:t>
              </a:r>
              <a:endParaRPr b="0" lang="en-US" sz="72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4038480" y="5149800"/>
              <a:ext cx="259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ccffff"/>
                  </a:solidFill>
                  <a:latin typeface="WP TypographicSymbols"/>
                </a:rPr>
                <a:t>B</a:t>
              </a:r>
              <a:r>
                <a:rPr b="0" lang="en-US" sz="3600" spc="-1" strike="noStrike">
                  <a:solidFill>
                    <a:srgbClr val="ccffff"/>
                  </a:solidFill>
                  <a:latin typeface="Arial"/>
                </a:rPr>
                <a:t> Fruitful</a:t>
              </a: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</p:grpSp>
      <p:grpSp>
        <p:nvGrpSpPr>
          <p:cNvPr id="563" name=""/>
          <p:cNvGrpSpPr/>
          <p:nvPr/>
        </p:nvGrpSpPr>
        <p:grpSpPr>
          <a:xfrm>
            <a:off x="4876920" y="5668920"/>
            <a:ext cx="4190760" cy="2288520"/>
            <a:chOff x="4876920" y="5668920"/>
            <a:chExt cx="4190760" cy="2288520"/>
          </a:xfrm>
        </p:grpSpPr>
        <p:sp>
          <p:nvSpPr>
            <p:cNvPr id="564" name=""/>
            <p:cNvSpPr/>
            <p:nvPr/>
          </p:nvSpPr>
          <p:spPr>
            <a:xfrm>
              <a:off x="4876920" y="5668920"/>
              <a:ext cx="205740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ccffff"/>
                  </a:solidFill>
                  <a:latin typeface="Bwhebb"/>
                </a:rPr>
                <a:t>rq'B'</a:t>
              </a:r>
              <a:endParaRPr b="0" lang="en-US" sz="72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562720" y="5941800"/>
              <a:ext cx="3504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ccffff"/>
                  </a:solidFill>
                  <a:latin typeface="WP TypographicSymbols"/>
                </a:rPr>
                <a:t>B</a:t>
              </a:r>
              <a:r>
                <a:rPr b="0" lang="en-US" sz="3600" spc="-1" strike="noStrike">
                  <a:solidFill>
                    <a:srgbClr val="ccffff"/>
                  </a:solidFill>
                  <a:latin typeface="Arial"/>
                </a:rPr>
                <a:t> Cattle</a:t>
              </a: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</p:grpSp>
    </p:spTree>
  </p:cSld>
  <p:transition spd="med">
    <p:fade/>
  </p:transition>
  <p:timing>
    <p:tnLst>
      <p:par>
        <p:cTn id="737" dur="indefinite" restart="never" nodeType="tmRoot">
          <p:childTnLst>
            <p:seq>
              <p:cTn id="738" dur="indefinite" nodeType="mainSeq">
                <p:childTnLst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3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5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0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2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7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9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4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6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"/>
          <p:cNvSpPr/>
          <p:nvPr/>
        </p:nvSpPr>
        <p:spPr>
          <a:xfrm>
            <a:off x="2971800" y="1752480"/>
            <a:ext cx="3200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Bwhebb"/>
              </a:rPr>
              <a:t>xt;P,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990720" y="434340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Opening, entrance, doorway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568" name=""/>
          <p:cNvGrpSpPr/>
          <p:nvPr/>
        </p:nvGrpSpPr>
        <p:grpSpPr>
          <a:xfrm>
            <a:off x="2514600" y="5105520"/>
            <a:ext cx="4038480" cy="2531880"/>
            <a:chOff x="2514600" y="5105520"/>
            <a:chExt cx="4038480" cy="2531880"/>
          </a:xfrm>
        </p:grpSpPr>
        <p:sp>
          <p:nvSpPr>
            <p:cNvPr id="569" name=""/>
            <p:cNvSpPr/>
            <p:nvPr/>
          </p:nvSpPr>
          <p:spPr>
            <a:xfrm>
              <a:off x="2514600" y="5105520"/>
              <a:ext cx="1981080" cy="25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0" spc="-1" strike="noStrike">
                  <a:solidFill>
                    <a:srgbClr val="ccffff"/>
                  </a:solidFill>
                  <a:latin typeface="Bwhebb"/>
                </a:rPr>
                <a:t>xt;P'</a:t>
              </a:r>
              <a:endParaRPr b="0" lang="en-US" sz="80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4114800" y="5486400"/>
              <a:ext cx="2438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ccffff"/>
                  </a:solidFill>
                  <a:latin typeface="WP TypographicSymbols"/>
                </a:rPr>
                <a:t>B</a:t>
              </a:r>
              <a:r>
                <a:rPr b="0" lang="en-US" sz="3600" spc="-1" strike="noStrike">
                  <a:solidFill>
                    <a:srgbClr val="ccffff"/>
                  </a:solidFill>
                  <a:latin typeface="Arial"/>
                </a:rPr>
                <a:t> To open</a:t>
              </a: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</p:grpSp>
    </p:spTree>
  </p:cSld>
  <p:transition spd="med">
    <p:fade/>
  </p:transition>
  <p:timing>
    <p:tnLst>
      <p:par>
        <p:cTn id="767" dur="indefinite" restart="never" nodeType="tmRoot">
          <p:childTnLst>
            <p:seq>
              <p:cTn id="768" dur="indefinite" nodeType="mainSeq">
                <p:childTnLst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3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0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2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"/>
          <p:cNvSpPr/>
          <p:nvPr/>
        </p:nvSpPr>
        <p:spPr>
          <a:xfrm>
            <a:off x="2971800" y="1752480"/>
            <a:ext cx="3200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Bwhebb"/>
              </a:rPr>
              <a:t>xt;P,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838080" y="3505320"/>
            <a:ext cx="75438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If you do well, will not </a:t>
            </a:r>
            <a:r>
              <a:rPr b="0" i="1" lang="en-US" sz="3200" spc="-1" strike="noStrike">
                <a:solidFill>
                  <a:srgbClr val="ccffff"/>
                </a:solidFill>
                <a:latin typeface="Arial"/>
              </a:rPr>
              <a:t>your countenance 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be lifted up? And if you do not do well, sin is crouching at the </a:t>
            </a:r>
            <a:r>
              <a:rPr b="1" lang="en-US" sz="3200" spc="-1" strike="noStrike">
                <a:solidFill>
                  <a:srgbClr val="ccffff"/>
                </a:solidFill>
                <a:latin typeface="Arial"/>
              </a:rPr>
              <a:t>door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; and its desire is for you, but you must master it.” (Genesis 4:7).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"/>
          <p:cNvSpPr/>
          <p:nvPr/>
        </p:nvSpPr>
        <p:spPr>
          <a:xfrm>
            <a:off x="2971800" y="1752480"/>
            <a:ext cx="3200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Bwhebb"/>
              </a:rPr>
              <a:t>xt;P,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838080" y="3505320"/>
            <a:ext cx="7543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Now the LORD appeared to him by the oaks of Mamre, while he was sitting at the tent </a:t>
            </a:r>
            <a:r>
              <a:rPr b="1" lang="en-US" sz="3200" spc="-1" strike="noStrike">
                <a:solidFill>
                  <a:srgbClr val="ccffff"/>
                </a:solidFill>
                <a:latin typeface="Arial"/>
              </a:rPr>
              <a:t>door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 in the heat of the day (Genesis 18:1).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"/>
          <p:cNvSpPr/>
          <p:nvPr/>
        </p:nvSpPr>
        <p:spPr>
          <a:xfrm>
            <a:off x="2341440" y="4017960"/>
            <a:ext cx="990720" cy="609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3300"/>
              </a:gs>
              <a:gs pos="100000">
                <a:srgbClr val="0017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6095880" y="3505320"/>
            <a:ext cx="1752840" cy="609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20019"/>
              </a:gs>
              <a:gs pos="100000">
                <a:srgbClr val="3b000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2971800" y="1752480"/>
            <a:ext cx="3200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Bwhebb"/>
              </a:rPr>
              <a:t>xt;P,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380880" y="3505320"/>
            <a:ext cx="8382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But Lot went out to them at the doorway, and shut the door behind him (Genesis 19:6).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579" name=""/>
          <p:cNvGrpSpPr/>
          <p:nvPr/>
        </p:nvGrpSpPr>
        <p:grpSpPr>
          <a:xfrm>
            <a:off x="5715000" y="4876920"/>
            <a:ext cx="2133720" cy="2531880"/>
            <a:chOff x="5715000" y="4876920"/>
            <a:chExt cx="2133720" cy="2531880"/>
          </a:xfrm>
        </p:grpSpPr>
        <p:sp>
          <p:nvSpPr>
            <p:cNvPr id="580" name=""/>
            <p:cNvSpPr/>
            <p:nvPr/>
          </p:nvSpPr>
          <p:spPr>
            <a:xfrm>
              <a:off x="5943600" y="5105520"/>
              <a:ext cx="1752480" cy="10666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820019"/>
                </a:gs>
                <a:gs pos="100000">
                  <a:srgbClr val="3b000b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5715000" y="4876920"/>
              <a:ext cx="2133720" cy="25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0" spc="-1" strike="noStrike">
                  <a:solidFill>
                    <a:srgbClr val="ccffff"/>
                  </a:solidFill>
                  <a:latin typeface="Bwhebb"/>
                </a:rPr>
                <a:t>xt;P,</a:t>
              </a:r>
              <a:endParaRPr b="0" lang="en-US" sz="8000" spc="-1" strike="noStrike">
                <a:solidFill>
                  <a:srgbClr val="ccffff"/>
                </a:solidFill>
                <a:latin typeface="Arial"/>
              </a:endParaRPr>
            </a:p>
          </p:txBody>
        </p:sp>
      </p:grpSp>
      <p:grpSp>
        <p:nvGrpSpPr>
          <p:cNvPr id="582" name=""/>
          <p:cNvGrpSpPr/>
          <p:nvPr/>
        </p:nvGrpSpPr>
        <p:grpSpPr>
          <a:xfrm>
            <a:off x="1447920" y="5029200"/>
            <a:ext cx="2133360" cy="1295280"/>
            <a:chOff x="1447920" y="5029200"/>
            <a:chExt cx="2133360" cy="1295280"/>
          </a:xfrm>
        </p:grpSpPr>
        <p:sp>
          <p:nvSpPr>
            <p:cNvPr id="583" name=""/>
            <p:cNvSpPr/>
            <p:nvPr/>
          </p:nvSpPr>
          <p:spPr>
            <a:xfrm>
              <a:off x="1752480" y="5029200"/>
              <a:ext cx="1524240" cy="1295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3300"/>
                </a:gs>
                <a:gs pos="100000">
                  <a:srgbClr val="0017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1447920" y="5029200"/>
              <a:ext cx="2133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ccffff"/>
                  </a:solidFill>
                  <a:latin typeface="Bwhebb"/>
                </a:rPr>
                <a:t>tl,D,</a:t>
              </a:r>
              <a:endParaRPr b="0" lang="en-US" sz="7200" spc="-1" strike="noStrike">
                <a:solidFill>
                  <a:srgbClr val="ccffff"/>
                </a:solidFill>
                <a:latin typeface="Arial"/>
              </a:endParaRPr>
            </a:p>
          </p:txBody>
        </p:sp>
      </p:grpSp>
    </p:spTree>
  </p:cSld>
  <p:transition spd="med">
    <p:fade/>
  </p:transition>
  <p:timing>
    <p:tnLst>
      <p:par>
        <p:cTn id="783" dur="indefinite" restart="never" nodeType="tmRoot">
          <p:childTnLst>
            <p:seq>
              <p:cTn id="784" dur="indefinite" nodeType="mainSeq">
                <p:childTnLst>
                  <p:par>
                    <p:cTn id="785" fill="hold">
                      <p:stCondLst>
                        <p:cond delay="0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9" dur="20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fill="hold">
                            <p:stCondLst>
                              <p:cond delay="2000"/>
                            </p:stCondLst>
                            <p:childTnLst>
                              <p:par>
                                <p:cTn id="79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3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5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0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fill="hold">
                            <p:stCondLst>
                              <p:cond delay="500"/>
                            </p:stCondLst>
                            <p:childTnLst>
                              <p:par>
                                <p:cTn id="80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4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6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"/>
          <p:cNvSpPr/>
          <p:nvPr/>
        </p:nvSpPr>
        <p:spPr>
          <a:xfrm>
            <a:off x="2971800" y="1752480"/>
            <a:ext cx="3200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Bwhebb"/>
              </a:rPr>
              <a:t>xt;P,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380880" y="3505320"/>
            <a:ext cx="83822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And the six hundred men armed with their weapons of war, who were of the sons of Dan, stood by the </a:t>
            </a:r>
            <a:r>
              <a:rPr b="1" lang="en-US" sz="3200" spc="-1" strike="noStrike">
                <a:solidFill>
                  <a:srgbClr val="ccffff"/>
                </a:solidFill>
                <a:latin typeface="Arial"/>
              </a:rPr>
              <a:t>entrance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 of the gate (Judges 18:16).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"/>
          <p:cNvSpPr/>
          <p:nvPr/>
        </p:nvSpPr>
        <p:spPr>
          <a:xfrm>
            <a:off x="2971800" y="1752480"/>
            <a:ext cx="3200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Bwhebb"/>
              </a:rPr>
              <a:t>xt;P,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533520" y="3429000"/>
            <a:ext cx="8001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So he arose and went to Zarephath, and when he came to the </a:t>
            </a:r>
            <a:r>
              <a:rPr b="1" lang="en-US" sz="3200" spc="-1" strike="noStrike">
                <a:solidFill>
                  <a:srgbClr val="ccffff"/>
                </a:solidFill>
                <a:latin typeface="Arial"/>
              </a:rPr>
              <a:t>gate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 of the city, behold, a widow was there gathering sticks (1 Kings 17:10).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2971800" y="1752480"/>
            <a:ext cx="3200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Bwhebb"/>
              </a:rPr>
              <a:t>bro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1143000" y="373392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Multitude, abundance, greatness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591" name=""/>
          <p:cNvGrpSpPr/>
          <p:nvPr/>
        </p:nvGrpSpPr>
        <p:grpSpPr>
          <a:xfrm>
            <a:off x="2971800" y="4267080"/>
            <a:ext cx="3047760" cy="2531880"/>
            <a:chOff x="2971800" y="4267080"/>
            <a:chExt cx="3047760" cy="2531880"/>
          </a:xfrm>
        </p:grpSpPr>
        <p:sp>
          <p:nvSpPr>
            <p:cNvPr id="592" name=""/>
            <p:cNvSpPr/>
            <p:nvPr/>
          </p:nvSpPr>
          <p:spPr>
            <a:xfrm>
              <a:off x="2971800" y="4267080"/>
              <a:ext cx="1295280" cy="25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0" spc="-1" strike="noStrike">
                  <a:solidFill>
                    <a:srgbClr val="ccffff"/>
                  </a:solidFill>
                  <a:latin typeface="Bwhebb"/>
                </a:rPr>
                <a:t>br;</a:t>
              </a:r>
              <a:endParaRPr b="0" lang="en-US" sz="80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3886200" y="4692600"/>
              <a:ext cx="2133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ccffff"/>
                  </a:solidFill>
                  <a:latin typeface="WP TypographicSymbols"/>
                </a:rPr>
                <a:t>B</a:t>
              </a:r>
              <a:r>
                <a:rPr b="0" lang="en-US" sz="3600" spc="-1" strike="noStrike">
                  <a:solidFill>
                    <a:srgbClr val="ccffff"/>
                  </a:solidFill>
                  <a:latin typeface="Arial"/>
                </a:rPr>
                <a:t> Great</a:t>
              </a: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</p:grpSp>
    </p:spTree>
  </p:cSld>
  <p:transition spd="med">
    <p:fade/>
  </p:transition>
  <p:timing>
    <p:tnLst>
      <p:par>
        <p:cTn id="807" dur="indefinite" restart="never" nodeType="tmRoot">
          <p:childTnLst>
            <p:seq>
              <p:cTn id="808" dur="indefinite" nodeType="mainSeq">
                <p:childTnLst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3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5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0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2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0" name=""/>
          <p:cNvGrpSpPr/>
          <p:nvPr/>
        </p:nvGrpSpPr>
        <p:grpSpPr>
          <a:xfrm>
            <a:off x="3124080" y="609480"/>
            <a:ext cx="1676160" cy="3047760"/>
            <a:chOff x="3124080" y="609480"/>
            <a:chExt cx="1676160" cy="3047760"/>
          </a:xfrm>
        </p:grpSpPr>
        <p:sp>
          <p:nvSpPr>
            <p:cNvPr id="171" name=""/>
            <p:cNvSpPr/>
            <p:nvPr/>
          </p:nvSpPr>
          <p:spPr>
            <a:xfrm>
              <a:off x="3124080" y="609480"/>
              <a:ext cx="1676160" cy="609480"/>
            </a:xfrm>
            <a:prstGeom prst="rect">
              <a:avLst/>
            </a:prstGeom>
            <a:gradFill rotWithShape="0">
              <a:gsLst>
                <a:gs pos="0">
                  <a:srgbClr val="006699"/>
                </a:gs>
                <a:gs pos="100000">
                  <a:srgbClr val="002f4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124080" y="1218960"/>
              <a:ext cx="1676160" cy="609480"/>
            </a:xfrm>
            <a:prstGeom prst="rect">
              <a:avLst/>
            </a:prstGeom>
            <a:gradFill rotWithShape="0">
              <a:gsLst>
                <a:gs pos="0">
                  <a:srgbClr val="006699"/>
                </a:gs>
                <a:gs pos="100000">
                  <a:srgbClr val="002f4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124080" y="1828440"/>
              <a:ext cx="1676160" cy="609840"/>
            </a:xfrm>
            <a:prstGeom prst="rect">
              <a:avLst/>
            </a:prstGeom>
            <a:gradFill rotWithShape="0">
              <a:gsLst>
                <a:gs pos="0">
                  <a:srgbClr val="006699"/>
                </a:gs>
                <a:gs pos="100000">
                  <a:srgbClr val="002f4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124080" y="2438280"/>
              <a:ext cx="1676160" cy="609480"/>
            </a:xfrm>
            <a:prstGeom prst="rect">
              <a:avLst/>
            </a:prstGeom>
            <a:gradFill rotWithShape="0">
              <a:gsLst>
                <a:gs pos="0">
                  <a:srgbClr val="006699"/>
                </a:gs>
                <a:gs pos="100000">
                  <a:srgbClr val="002f4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124080" y="3047760"/>
              <a:ext cx="1676160" cy="609480"/>
            </a:xfrm>
            <a:prstGeom prst="rect">
              <a:avLst/>
            </a:prstGeom>
            <a:gradFill rotWithShape="0">
              <a:gsLst>
                <a:gs pos="0">
                  <a:srgbClr val="006699"/>
                </a:gs>
                <a:gs pos="100000">
                  <a:srgbClr val="002f4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1981080" y="609480"/>
            <a:ext cx="1142640" cy="3047760"/>
            <a:chOff x="1981080" y="609480"/>
            <a:chExt cx="1142640" cy="3047760"/>
          </a:xfrm>
        </p:grpSpPr>
        <p:sp>
          <p:nvSpPr>
            <p:cNvPr id="177" name=""/>
            <p:cNvSpPr/>
            <p:nvPr/>
          </p:nvSpPr>
          <p:spPr>
            <a:xfrm>
              <a:off x="1981080" y="609480"/>
              <a:ext cx="1142640" cy="609480"/>
            </a:xfrm>
            <a:prstGeom prst="rect">
              <a:avLst/>
            </a:prstGeom>
            <a:gradFill rotWithShape="0">
              <a:gsLst>
                <a:gs pos="0">
                  <a:srgbClr val="006699"/>
                </a:gs>
                <a:gs pos="100000">
                  <a:srgbClr val="002f4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981080" y="1218960"/>
              <a:ext cx="1142640" cy="609480"/>
            </a:xfrm>
            <a:prstGeom prst="rect">
              <a:avLst/>
            </a:prstGeom>
            <a:gradFill rotWithShape="0">
              <a:gsLst>
                <a:gs pos="0">
                  <a:srgbClr val="006699"/>
                </a:gs>
                <a:gs pos="100000">
                  <a:srgbClr val="002f4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981080" y="1828440"/>
              <a:ext cx="1142640" cy="609840"/>
            </a:xfrm>
            <a:prstGeom prst="rect">
              <a:avLst/>
            </a:prstGeom>
            <a:gradFill rotWithShape="0">
              <a:gsLst>
                <a:gs pos="0">
                  <a:srgbClr val="006699"/>
                </a:gs>
                <a:gs pos="100000">
                  <a:srgbClr val="002f4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981080" y="2438280"/>
              <a:ext cx="1142640" cy="609480"/>
            </a:xfrm>
            <a:prstGeom prst="rect">
              <a:avLst/>
            </a:prstGeom>
            <a:gradFill rotWithShape="0">
              <a:gsLst>
                <a:gs pos="0">
                  <a:srgbClr val="006699"/>
                </a:gs>
                <a:gs pos="100000">
                  <a:srgbClr val="002f4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981080" y="3047760"/>
              <a:ext cx="1142640" cy="609480"/>
            </a:xfrm>
            <a:prstGeom prst="rect">
              <a:avLst/>
            </a:prstGeom>
            <a:gradFill rotWithShape="0">
              <a:gsLst>
                <a:gs pos="0">
                  <a:srgbClr val="006699"/>
                </a:gs>
                <a:gs pos="100000">
                  <a:srgbClr val="002f4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</p:grp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905120" y="380880"/>
            <a:ext cx="12189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hebb"/>
              </a:rPr>
              <a:t>y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752480" y="914400"/>
            <a:ext cx="1219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hebb"/>
              </a:rPr>
              <a:t>^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828800" y="1523880"/>
            <a:ext cx="12193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hebb"/>
              </a:rPr>
              <a:t>%l'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828800" y="2209680"/>
            <a:ext cx="12193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hebb"/>
              </a:rPr>
              <a:t>wOl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981080" y="2819520"/>
            <a:ext cx="123048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hebb"/>
              </a:rPr>
              <a:t>Hl'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200400" y="609480"/>
            <a:ext cx="177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To me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276720" y="121932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To you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276720" y="182880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To you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276720" y="251460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To him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276720" y="312408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To her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62120" y="609480"/>
            <a:ext cx="1218960" cy="60984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1cs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762120" y="1219320"/>
            <a:ext cx="1218960" cy="60948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2ms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62120" y="1828800"/>
            <a:ext cx="1218960" cy="60948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2fs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62120" y="2438280"/>
            <a:ext cx="1218960" cy="60984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3ms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3048120"/>
            <a:ext cx="1218960" cy="60948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3fs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3124080" y="3733920"/>
            <a:ext cx="1676160" cy="3047760"/>
            <a:chOff x="3124080" y="3733920"/>
            <a:chExt cx="1676160" cy="3047760"/>
          </a:xfrm>
        </p:grpSpPr>
        <p:sp>
          <p:nvSpPr>
            <p:cNvPr id="198" name=""/>
            <p:cNvSpPr/>
            <p:nvPr/>
          </p:nvSpPr>
          <p:spPr>
            <a:xfrm>
              <a:off x="3124080" y="3733920"/>
              <a:ext cx="1676160" cy="609480"/>
            </a:xfrm>
            <a:prstGeom prst="rect">
              <a:avLst/>
            </a:prstGeom>
            <a:gradFill rotWithShape="0">
              <a:gsLst>
                <a:gs pos="0">
                  <a:srgbClr val="006699"/>
                </a:gs>
                <a:gs pos="100000">
                  <a:srgbClr val="002f4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124080" y="4343400"/>
              <a:ext cx="1676160" cy="609480"/>
            </a:xfrm>
            <a:prstGeom prst="rect">
              <a:avLst/>
            </a:prstGeom>
            <a:gradFill rotWithShape="0">
              <a:gsLst>
                <a:gs pos="0">
                  <a:srgbClr val="006699"/>
                </a:gs>
                <a:gs pos="100000">
                  <a:srgbClr val="002f4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124080" y="4952880"/>
              <a:ext cx="1676160" cy="609840"/>
            </a:xfrm>
            <a:prstGeom prst="rect">
              <a:avLst/>
            </a:prstGeom>
            <a:gradFill rotWithShape="0">
              <a:gsLst>
                <a:gs pos="0">
                  <a:srgbClr val="006699"/>
                </a:gs>
                <a:gs pos="100000">
                  <a:srgbClr val="002f4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124080" y="5562720"/>
              <a:ext cx="1676160" cy="609480"/>
            </a:xfrm>
            <a:prstGeom prst="rect">
              <a:avLst/>
            </a:prstGeom>
            <a:gradFill rotWithShape="0">
              <a:gsLst>
                <a:gs pos="0">
                  <a:srgbClr val="006699"/>
                </a:gs>
                <a:gs pos="100000">
                  <a:srgbClr val="002f4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124080" y="6172200"/>
              <a:ext cx="1676160" cy="609480"/>
            </a:xfrm>
            <a:prstGeom prst="rect">
              <a:avLst/>
            </a:prstGeom>
            <a:gradFill rotWithShape="0">
              <a:gsLst>
                <a:gs pos="0">
                  <a:srgbClr val="006699"/>
                </a:gs>
                <a:gs pos="100000">
                  <a:srgbClr val="002f4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1981080" y="3733920"/>
            <a:ext cx="1142640" cy="3047760"/>
            <a:chOff x="1981080" y="3733920"/>
            <a:chExt cx="1142640" cy="3047760"/>
          </a:xfrm>
        </p:grpSpPr>
        <p:sp>
          <p:nvSpPr>
            <p:cNvPr id="204" name=""/>
            <p:cNvSpPr/>
            <p:nvPr/>
          </p:nvSpPr>
          <p:spPr>
            <a:xfrm>
              <a:off x="1981080" y="3733920"/>
              <a:ext cx="1142640" cy="609480"/>
            </a:xfrm>
            <a:prstGeom prst="rect">
              <a:avLst/>
            </a:prstGeom>
            <a:gradFill rotWithShape="0">
              <a:gsLst>
                <a:gs pos="0">
                  <a:srgbClr val="006699"/>
                </a:gs>
                <a:gs pos="100000">
                  <a:srgbClr val="002f4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981080" y="4343400"/>
              <a:ext cx="1142640" cy="609480"/>
            </a:xfrm>
            <a:prstGeom prst="rect">
              <a:avLst/>
            </a:prstGeom>
            <a:gradFill rotWithShape="0">
              <a:gsLst>
                <a:gs pos="0">
                  <a:srgbClr val="006699"/>
                </a:gs>
                <a:gs pos="100000">
                  <a:srgbClr val="002f4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981080" y="4952880"/>
              <a:ext cx="1142640" cy="609840"/>
            </a:xfrm>
            <a:prstGeom prst="rect">
              <a:avLst/>
            </a:prstGeom>
            <a:gradFill rotWithShape="0">
              <a:gsLst>
                <a:gs pos="0">
                  <a:srgbClr val="006699"/>
                </a:gs>
                <a:gs pos="100000">
                  <a:srgbClr val="002f4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981080" y="5562720"/>
              <a:ext cx="1142640" cy="609480"/>
            </a:xfrm>
            <a:prstGeom prst="rect">
              <a:avLst/>
            </a:prstGeom>
            <a:gradFill rotWithShape="0">
              <a:gsLst>
                <a:gs pos="0">
                  <a:srgbClr val="006699"/>
                </a:gs>
                <a:gs pos="100000">
                  <a:srgbClr val="002f4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981080" y="6172200"/>
              <a:ext cx="1142640" cy="609480"/>
            </a:xfrm>
            <a:prstGeom prst="rect">
              <a:avLst/>
            </a:prstGeom>
            <a:gradFill rotWithShape="0">
              <a:gsLst>
                <a:gs pos="0">
                  <a:srgbClr val="006699"/>
                </a:gs>
                <a:gs pos="100000">
                  <a:srgbClr val="002f4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</p:grpSp>
      <p:sp>
        <p:nvSpPr>
          <p:cNvPr id="209" name=""/>
          <p:cNvSpPr/>
          <p:nvPr/>
        </p:nvSpPr>
        <p:spPr>
          <a:xfrm>
            <a:off x="1828800" y="3429000"/>
            <a:ext cx="1219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hebb"/>
              </a:rPr>
              <a:t>Wnl'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752480" y="4038480"/>
            <a:ext cx="12193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hebb"/>
              </a:rPr>
              <a:t>~k,l'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828800" y="4648320"/>
            <a:ext cx="1219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hebb"/>
              </a:rPr>
              <a:t>!k,l'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828800" y="5334120"/>
            <a:ext cx="1219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hebb"/>
              </a:rPr>
              <a:t>~h,l'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981080" y="5943600"/>
            <a:ext cx="10670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hebb"/>
              </a:rPr>
              <a:t>!h,l'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762120" y="3733920"/>
            <a:ext cx="1218960" cy="60948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1cp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762120" y="4343400"/>
            <a:ext cx="1218960" cy="60948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2mp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62120" y="4952880"/>
            <a:ext cx="1218960" cy="60984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2fp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762120" y="5562720"/>
            <a:ext cx="1218960" cy="60948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3mp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62120" y="6172200"/>
            <a:ext cx="1218960" cy="60948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3fp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276720" y="374796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To us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276720" y="435780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To ya’l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276720" y="496728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To ya’l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276720" y="563868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To them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276720" y="626256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To them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5867280" y="2057400"/>
            <a:ext cx="2590920" cy="685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Pronominal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819520"/>
            <a:ext cx="2057400" cy="685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Suffixes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5715000" y="609480"/>
            <a:ext cx="2819520" cy="685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Prepositions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477120" y="1295280"/>
            <a:ext cx="1143000" cy="685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with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6172200" y="4724280"/>
            <a:ext cx="2057400" cy="1828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Review from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Chapter 9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 spd="med">
    <p:fade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"/>
          <p:cNvSpPr/>
          <p:nvPr/>
        </p:nvSpPr>
        <p:spPr>
          <a:xfrm>
            <a:off x="2971800" y="1752480"/>
            <a:ext cx="3200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Bwhebb"/>
              </a:rPr>
              <a:t>bro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685800" y="3657600"/>
            <a:ext cx="8001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Now may God give you of the dew of heaven,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And of the fatness of the earth, 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And an </a:t>
            </a:r>
            <a:r>
              <a:rPr b="1" lang="en-US" sz="3200" spc="-1" strike="noStrike">
                <a:solidFill>
                  <a:srgbClr val="ccffff"/>
                </a:solidFill>
                <a:latin typeface="Arial"/>
              </a:rPr>
              <a:t>abundance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 of grain and new wine (Genesis 27:28).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"/>
          <p:cNvSpPr/>
          <p:nvPr/>
        </p:nvSpPr>
        <p:spPr>
          <a:xfrm>
            <a:off x="2971800" y="1752480"/>
            <a:ext cx="3200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Bwhebb"/>
              </a:rPr>
              <a:t>bro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533520" y="3657600"/>
            <a:ext cx="8001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And in the </a:t>
            </a:r>
            <a:r>
              <a:rPr b="1" lang="en-US" sz="3200" spc="-1" strike="noStrike">
                <a:solidFill>
                  <a:srgbClr val="ccffff"/>
                </a:solidFill>
                <a:latin typeface="Arial"/>
              </a:rPr>
              <a:t>greatness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 of Your excellence You overthrow those who rise up against You (Exodus 15:7).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"/>
          <p:cNvSpPr/>
          <p:nvPr/>
        </p:nvSpPr>
        <p:spPr>
          <a:xfrm>
            <a:off x="2971800" y="1752480"/>
            <a:ext cx="3200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Bwhebb"/>
              </a:rPr>
              <a:t>hp'f'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1143000" y="373392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Lip, language, edge, shore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9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1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ccffff"/>
                </a:solidFill>
                <a:latin typeface="Bwhebb"/>
              </a:rPr>
              <a:t>hp'f' #r&lt;a'h'-lk' yhiy&gt;w: </a:t>
            </a:r>
            <a:endParaRPr b="0" lang="en-US" sz="8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57200" y="28954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ccffff"/>
                </a:solidFill>
                <a:latin typeface="Bwhebb"/>
              </a:rPr>
              <a:t>~ydIx'a] ~yrIb'd&gt;W tx'a,</a:t>
            </a:r>
            <a:endParaRPr b="0" lang="en-US" sz="8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6553080" y="1736640"/>
            <a:ext cx="1752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And there was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5029200" y="190512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all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3124080" y="1812960"/>
            <a:ext cx="175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the earth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838080" y="1752480"/>
            <a:ext cx="175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tongue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6553080" y="4038480"/>
            <a:ext cx="175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one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4114800" y="396252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and words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1371600" y="396252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one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2895480" y="5638680"/>
            <a:ext cx="2895840" cy="7621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Genesis 11:1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/>
  </p:transition>
  <p:timing>
    <p:tnLst>
      <p:par>
        <p:cTn id="832" dur="indefinite" restart="never" nodeType="tmRoot">
          <p:childTnLst>
            <p:seq>
              <p:cTn id="833" dur="indefinite" nodeType="mainSeq">
                <p:childTnLst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8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0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5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7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2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4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9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1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6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8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3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5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2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"/>
          <p:cNvSpPr/>
          <p:nvPr/>
        </p:nvSpPr>
        <p:spPr>
          <a:xfrm>
            <a:off x="533520" y="4495680"/>
            <a:ext cx="2819160" cy="533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7924680" y="4038480"/>
            <a:ext cx="762120" cy="533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2971800" y="1752480"/>
            <a:ext cx="3200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Bwhebb"/>
              </a:rPr>
              <a:t>hp'f'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304920" y="3505320"/>
            <a:ext cx="86104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…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I will greatly multiply your seed as the stars of the heavens and as the sand which is </a:t>
            </a:r>
            <a:r>
              <a:rPr b="1" lang="en-US" sz="3200" spc="-1" strike="noStrike">
                <a:solidFill>
                  <a:srgbClr val="ccffff"/>
                </a:solidFill>
                <a:latin typeface="Arial"/>
              </a:rPr>
              <a:t>on the seashore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; and your seed shall possess the gate of their enemies (Genesis 22:17).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14" name=""/>
          <p:cNvGrpSpPr/>
          <p:nvPr/>
        </p:nvGrpSpPr>
        <p:grpSpPr>
          <a:xfrm>
            <a:off x="2362320" y="5410080"/>
            <a:ext cx="4495680" cy="2288520"/>
            <a:chOff x="2362320" y="5410080"/>
            <a:chExt cx="4495680" cy="2288520"/>
          </a:xfrm>
        </p:grpSpPr>
        <p:sp>
          <p:nvSpPr>
            <p:cNvPr id="615" name=""/>
            <p:cNvSpPr/>
            <p:nvPr/>
          </p:nvSpPr>
          <p:spPr>
            <a:xfrm>
              <a:off x="2514600" y="5527800"/>
              <a:ext cx="4191120" cy="10666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6699"/>
                </a:gs>
                <a:gs pos="100000">
                  <a:srgbClr val="002f4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2362320" y="5410080"/>
              <a:ext cx="449568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ccffff"/>
                  </a:solidFill>
                  <a:latin typeface="Bwhebb"/>
                </a:rPr>
                <a:t>~Y"h; tp;f.-l[;</a:t>
              </a:r>
              <a:endParaRPr b="0" lang="en-US" sz="7200" spc="-1" strike="noStrike">
                <a:solidFill>
                  <a:srgbClr val="ccffff"/>
                </a:solidFill>
                <a:latin typeface="Arial"/>
              </a:endParaRPr>
            </a:p>
          </p:txBody>
        </p:sp>
      </p:grpSp>
    </p:spTree>
  </p:cSld>
  <p:transition spd="med">
    <p:fade/>
  </p:transition>
  <p:timing>
    <p:tnLst>
      <p:par>
        <p:cTn id="883" dur="indefinite" restart="never" nodeType="tmRoot">
          <p:childTnLst>
            <p:seq>
              <p:cTn id="884" dur="indefinite" nodeType="mainSeq">
                <p:childTnLst>
                  <p:par>
                    <p:cTn id="885" fill="hold">
                      <p:stCondLst>
                        <p:cond delay="0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9" dur="20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2" dur="20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3" fill="hold">
                            <p:stCondLst>
                              <p:cond delay="2000"/>
                            </p:stCondLst>
                            <p:childTnLst>
                              <p:par>
                                <p:cTn id="8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6" dur="2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"/>
          <p:cNvSpPr/>
          <p:nvPr/>
        </p:nvSpPr>
        <p:spPr>
          <a:xfrm>
            <a:off x="2971800" y="1752480"/>
            <a:ext cx="3200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Bwhebb"/>
              </a:rPr>
              <a:t>hp'f'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838080" y="3733920"/>
            <a:ext cx="7543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Then behold, seven other cows came up after them from the Nile, ugly and gaunt, and they stood by the other cows on the </a:t>
            </a:r>
            <a:r>
              <a:rPr b="1" lang="en-US" sz="3200" spc="-1" strike="noStrike">
                <a:solidFill>
                  <a:srgbClr val="ccffff"/>
                </a:solidFill>
                <a:latin typeface="Arial"/>
              </a:rPr>
              <a:t>bank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 of the Nile (Genesis 41:3).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9" name=""/>
          <p:cNvGrpSpPr/>
          <p:nvPr/>
        </p:nvGrpSpPr>
        <p:grpSpPr>
          <a:xfrm>
            <a:off x="3352680" y="609480"/>
            <a:ext cx="1676160" cy="3047760"/>
            <a:chOff x="3352680" y="609480"/>
            <a:chExt cx="1676160" cy="3047760"/>
          </a:xfrm>
        </p:grpSpPr>
        <p:sp>
          <p:nvSpPr>
            <p:cNvPr id="230" name=""/>
            <p:cNvSpPr/>
            <p:nvPr/>
          </p:nvSpPr>
          <p:spPr>
            <a:xfrm>
              <a:off x="3352680" y="609480"/>
              <a:ext cx="1676160" cy="609480"/>
            </a:xfrm>
            <a:prstGeom prst="rect">
              <a:avLst/>
            </a:prstGeom>
            <a:gradFill rotWithShape="0">
              <a:gsLst>
                <a:gs pos="0">
                  <a:srgbClr val="006699"/>
                </a:gs>
                <a:gs pos="100000">
                  <a:srgbClr val="002f4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352680" y="1218960"/>
              <a:ext cx="1676160" cy="609480"/>
            </a:xfrm>
            <a:prstGeom prst="rect">
              <a:avLst/>
            </a:prstGeom>
            <a:gradFill rotWithShape="0">
              <a:gsLst>
                <a:gs pos="0">
                  <a:srgbClr val="006699"/>
                </a:gs>
                <a:gs pos="100000">
                  <a:srgbClr val="002f4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352680" y="1828440"/>
              <a:ext cx="1676160" cy="609840"/>
            </a:xfrm>
            <a:prstGeom prst="rect">
              <a:avLst/>
            </a:prstGeom>
            <a:gradFill rotWithShape="0">
              <a:gsLst>
                <a:gs pos="0">
                  <a:srgbClr val="006699"/>
                </a:gs>
                <a:gs pos="100000">
                  <a:srgbClr val="002f4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352680" y="2438280"/>
              <a:ext cx="1676160" cy="609480"/>
            </a:xfrm>
            <a:prstGeom prst="rect">
              <a:avLst/>
            </a:prstGeom>
            <a:gradFill rotWithShape="0">
              <a:gsLst>
                <a:gs pos="0">
                  <a:srgbClr val="006699"/>
                </a:gs>
                <a:gs pos="100000">
                  <a:srgbClr val="002f4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352680" y="3047760"/>
              <a:ext cx="1676160" cy="609480"/>
            </a:xfrm>
            <a:prstGeom prst="rect">
              <a:avLst/>
            </a:prstGeom>
            <a:gradFill rotWithShape="0">
              <a:gsLst>
                <a:gs pos="0">
                  <a:srgbClr val="006699"/>
                </a:gs>
                <a:gs pos="100000">
                  <a:srgbClr val="002f4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</p:grpSp>
      <p:grpSp>
        <p:nvGrpSpPr>
          <p:cNvPr id="235" name=""/>
          <p:cNvGrpSpPr/>
          <p:nvPr/>
        </p:nvGrpSpPr>
        <p:grpSpPr>
          <a:xfrm>
            <a:off x="1981080" y="609480"/>
            <a:ext cx="1371240" cy="3047760"/>
            <a:chOff x="1981080" y="609480"/>
            <a:chExt cx="1371240" cy="3047760"/>
          </a:xfrm>
        </p:grpSpPr>
        <p:sp>
          <p:nvSpPr>
            <p:cNvPr id="236" name=""/>
            <p:cNvSpPr/>
            <p:nvPr/>
          </p:nvSpPr>
          <p:spPr>
            <a:xfrm>
              <a:off x="1981080" y="609480"/>
              <a:ext cx="1371240" cy="609480"/>
            </a:xfrm>
            <a:prstGeom prst="rect">
              <a:avLst/>
            </a:prstGeom>
            <a:gradFill rotWithShape="0">
              <a:gsLst>
                <a:gs pos="0">
                  <a:srgbClr val="006699"/>
                </a:gs>
                <a:gs pos="100000">
                  <a:srgbClr val="002f4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981080" y="1218960"/>
              <a:ext cx="1371240" cy="609480"/>
            </a:xfrm>
            <a:prstGeom prst="rect">
              <a:avLst/>
            </a:prstGeom>
            <a:gradFill rotWithShape="0">
              <a:gsLst>
                <a:gs pos="0">
                  <a:srgbClr val="006699"/>
                </a:gs>
                <a:gs pos="100000">
                  <a:srgbClr val="002f4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981080" y="1828440"/>
              <a:ext cx="1371240" cy="609840"/>
            </a:xfrm>
            <a:prstGeom prst="rect">
              <a:avLst/>
            </a:prstGeom>
            <a:gradFill rotWithShape="0">
              <a:gsLst>
                <a:gs pos="0">
                  <a:srgbClr val="006699"/>
                </a:gs>
                <a:gs pos="100000">
                  <a:srgbClr val="002f4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981080" y="2438280"/>
              <a:ext cx="1371240" cy="609480"/>
            </a:xfrm>
            <a:prstGeom prst="rect">
              <a:avLst/>
            </a:prstGeom>
            <a:gradFill rotWithShape="0">
              <a:gsLst>
                <a:gs pos="0">
                  <a:srgbClr val="006699"/>
                </a:gs>
                <a:gs pos="100000">
                  <a:srgbClr val="002f4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981080" y="3047760"/>
              <a:ext cx="1371240" cy="609480"/>
            </a:xfrm>
            <a:prstGeom prst="rect">
              <a:avLst/>
            </a:prstGeom>
            <a:gradFill rotWithShape="0">
              <a:gsLst>
                <a:gs pos="0">
                  <a:srgbClr val="006699"/>
                </a:gs>
                <a:gs pos="100000">
                  <a:srgbClr val="002f4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</p:grp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905120" y="380880"/>
            <a:ext cx="12189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hebb"/>
              </a:rPr>
              <a:t>yli['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905120" y="914400"/>
            <a:ext cx="12189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hebb"/>
              </a:rPr>
              <a:t>^yl,['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905120" y="1523880"/>
            <a:ext cx="12189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hebb"/>
              </a:rPr>
              <a:t>%yIl;['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905120" y="2209680"/>
            <a:ext cx="12189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hebb"/>
              </a:rPr>
              <a:t>wOyl'['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800360" y="2819520"/>
            <a:ext cx="147636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hebb"/>
              </a:rPr>
              <a:t>h'yl,['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87680" y="685800"/>
            <a:ext cx="177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On me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505320" y="121932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On you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505320" y="182880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On you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505320" y="251460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On him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505320" y="312408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On her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62120" y="609480"/>
            <a:ext cx="1218960" cy="60984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1cs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62120" y="1219320"/>
            <a:ext cx="1218960" cy="60948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2ms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62120" y="1828800"/>
            <a:ext cx="1218960" cy="60948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2fs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62120" y="2438280"/>
            <a:ext cx="1218960" cy="60984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3ms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62120" y="3048120"/>
            <a:ext cx="1218960" cy="60948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3fs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352680" y="3733920"/>
            <a:ext cx="1676160" cy="3047760"/>
            <a:chOff x="3352680" y="3733920"/>
            <a:chExt cx="1676160" cy="3047760"/>
          </a:xfrm>
        </p:grpSpPr>
        <p:sp>
          <p:nvSpPr>
            <p:cNvPr id="257" name=""/>
            <p:cNvSpPr/>
            <p:nvPr/>
          </p:nvSpPr>
          <p:spPr>
            <a:xfrm>
              <a:off x="3352680" y="3733920"/>
              <a:ext cx="1676160" cy="609480"/>
            </a:xfrm>
            <a:prstGeom prst="rect">
              <a:avLst/>
            </a:prstGeom>
            <a:gradFill rotWithShape="0">
              <a:gsLst>
                <a:gs pos="0">
                  <a:srgbClr val="006699"/>
                </a:gs>
                <a:gs pos="100000">
                  <a:srgbClr val="002f4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352680" y="4343400"/>
              <a:ext cx="1676160" cy="609480"/>
            </a:xfrm>
            <a:prstGeom prst="rect">
              <a:avLst/>
            </a:prstGeom>
            <a:gradFill rotWithShape="0">
              <a:gsLst>
                <a:gs pos="0">
                  <a:srgbClr val="006699"/>
                </a:gs>
                <a:gs pos="100000">
                  <a:srgbClr val="002f4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352680" y="4952880"/>
              <a:ext cx="1676160" cy="609840"/>
            </a:xfrm>
            <a:prstGeom prst="rect">
              <a:avLst/>
            </a:prstGeom>
            <a:gradFill rotWithShape="0">
              <a:gsLst>
                <a:gs pos="0">
                  <a:srgbClr val="006699"/>
                </a:gs>
                <a:gs pos="100000">
                  <a:srgbClr val="002f4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352680" y="5562720"/>
              <a:ext cx="1676160" cy="609480"/>
            </a:xfrm>
            <a:prstGeom prst="rect">
              <a:avLst/>
            </a:prstGeom>
            <a:gradFill rotWithShape="0">
              <a:gsLst>
                <a:gs pos="0">
                  <a:srgbClr val="006699"/>
                </a:gs>
                <a:gs pos="100000">
                  <a:srgbClr val="002f4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352680" y="6172200"/>
              <a:ext cx="1676160" cy="609480"/>
            </a:xfrm>
            <a:prstGeom prst="rect">
              <a:avLst/>
            </a:prstGeom>
            <a:gradFill rotWithShape="0">
              <a:gsLst>
                <a:gs pos="0">
                  <a:srgbClr val="006699"/>
                </a:gs>
                <a:gs pos="100000">
                  <a:srgbClr val="002f4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1981080" y="3733920"/>
            <a:ext cx="1371240" cy="3047760"/>
            <a:chOff x="1981080" y="3733920"/>
            <a:chExt cx="1371240" cy="3047760"/>
          </a:xfrm>
        </p:grpSpPr>
        <p:sp>
          <p:nvSpPr>
            <p:cNvPr id="263" name=""/>
            <p:cNvSpPr/>
            <p:nvPr/>
          </p:nvSpPr>
          <p:spPr>
            <a:xfrm>
              <a:off x="1981080" y="3733920"/>
              <a:ext cx="1371240" cy="609480"/>
            </a:xfrm>
            <a:prstGeom prst="rect">
              <a:avLst/>
            </a:prstGeom>
            <a:gradFill rotWithShape="0">
              <a:gsLst>
                <a:gs pos="0">
                  <a:srgbClr val="006699"/>
                </a:gs>
                <a:gs pos="100000">
                  <a:srgbClr val="002f4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981080" y="4343400"/>
              <a:ext cx="1371240" cy="609480"/>
            </a:xfrm>
            <a:prstGeom prst="rect">
              <a:avLst/>
            </a:prstGeom>
            <a:gradFill rotWithShape="0">
              <a:gsLst>
                <a:gs pos="0">
                  <a:srgbClr val="006699"/>
                </a:gs>
                <a:gs pos="100000">
                  <a:srgbClr val="002f4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981080" y="4952880"/>
              <a:ext cx="1371240" cy="609840"/>
            </a:xfrm>
            <a:prstGeom prst="rect">
              <a:avLst/>
            </a:prstGeom>
            <a:gradFill rotWithShape="0">
              <a:gsLst>
                <a:gs pos="0">
                  <a:srgbClr val="006699"/>
                </a:gs>
                <a:gs pos="100000">
                  <a:srgbClr val="002f4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981080" y="5562720"/>
              <a:ext cx="1371240" cy="609480"/>
            </a:xfrm>
            <a:prstGeom prst="rect">
              <a:avLst/>
            </a:prstGeom>
            <a:gradFill rotWithShape="0">
              <a:gsLst>
                <a:gs pos="0">
                  <a:srgbClr val="006699"/>
                </a:gs>
                <a:gs pos="100000">
                  <a:srgbClr val="002f4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981080" y="6172200"/>
              <a:ext cx="1371240" cy="609480"/>
            </a:xfrm>
            <a:prstGeom prst="rect">
              <a:avLst/>
            </a:prstGeom>
            <a:gradFill rotWithShape="0">
              <a:gsLst>
                <a:gs pos="0">
                  <a:srgbClr val="006699"/>
                </a:gs>
                <a:gs pos="100000">
                  <a:srgbClr val="002f4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1981080" y="3429000"/>
            <a:ext cx="1219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hebb"/>
              </a:rPr>
              <a:t>Wnyle['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905120" y="4038480"/>
            <a:ext cx="15238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hebb"/>
              </a:rPr>
              <a:t>~k,yle[]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828800" y="4648320"/>
            <a:ext cx="14479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hebb"/>
              </a:rPr>
              <a:t>!k,yle[]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905120" y="5334120"/>
            <a:ext cx="14475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hebb"/>
              </a:rPr>
              <a:t>~h,yle[]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981080" y="5943600"/>
            <a:ext cx="1371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hebb"/>
              </a:rPr>
              <a:t>!h,yle[]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762120" y="3733920"/>
            <a:ext cx="1218960" cy="60948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1cp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762120" y="4343400"/>
            <a:ext cx="1218960" cy="60948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2mp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762120" y="4952880"/>
            <a:ext cx="1218960" cy="60984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2fp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762120" y="5562720"/>
            <a:ext cx="1218960" cy="60948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3mp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62120" y="6172200"/>
            <a:ext cx="1218960" cy="60948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3fp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3505320" y="374796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On us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505320" y="435780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On ya’l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505320" y="496728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On ya’l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3505320" y="563868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On them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505320" y="626256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On them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5867280" y="2057400"/>
            <a:ext cx="2590920" cy="685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Pronominal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6095880" y="2819520"/>
            <a:ext cx="2057400" cy="685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Suffixes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5715000" y="609480"/>
            <a:ext cx="2819520" cy="685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Prepositions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6477120" y="1295280"/>
            <a:ext cx="1143000" cy="685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with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6172200" y="4724280"/>
            <a:ext cx="2057400" cy="1828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Review from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Chapter 9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8" name=""/>
          <p:cNvGrpSpPr/>
          <p:nvPr/>
        </p:nvGrpSpPr>
        <p:grpSpPr>
          <a:xfrm>
            <a:off x="3200400" y="457200"/>
            <a:ext cx="2437560" cy="3047760"/>
            <a:chOff x="3200400" y="457200"/>
            <a:chExt cx="2437560" cy="3047760"/>
          </a:xfrm>
        </p:grpSpPr>
        <p:sp>
          <p:nvSpPr>
            <p:cNvPr id="289" name=""/>
            <p:cNvSpPr/>
            <p:nvPr/>
          </p:nvSpPr>
          <p:spPr>
            <a:xfrm>
              <a:off x="3200400" y="457200"/>
              <a:ext cx="2437560" cy="609480"/>
            </a:xfrm>
            <a:prstGeom prst="rect">
              <a:avLst/>
            </a:prstGeom>
            <a:gradFill rotWithShape="0">
              <a:gsLst>
                <a:gs pos="0">
                  <a:srgbClr val="006699"/>
                </a:gs>
                <a:gs pos="100000">
                  <a:srgbClr val="002f4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200400" y="1066680"/>
              <a:ext cx="2437560" cy="609480"/>
            </a:xfrm>
            <a:prstGeom prst="rect">
              <a:avLst/>
            </a:prstGeom>
            <a:gradFill rotWithShape="0">
              <a:gsLst>
                <a:gs pos="0">
                  <a:srgbClr val="006699"/>
                </a:gs>
                <a:gs pos="100000">
                  <a:srgbClr val="002f4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200400" y="1676160"/>
              <a:ext cx="2437560" cy="609840"/>
            </a:xfrm>
            <a:prstGeom prst="rect">
              <a:avLst/>
            </a:prstGeom>
            <a:gradFill rotWithShape="0">
              <a:gsLst>
                <a:gs pos="0">
                  <a:srgbClr val="006699"/>
                </a:gs>
                <a:gs pos="100000">
                  <a:srgbClr val="002f4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200400" y="2286000"/>
              <a:ext cx="2437560" cy="609480"/>
            </a:xfrm>
            <a:prstGeom prst="rect">
              <a:avLst/>
            </a:prstGeom>
            <a:gradFill rotWithShape="0">
              <a:gsLst>
                <a:gs pos="0">
                  <a:srgbClr val="006699"/>
                </a:gs>
                <a:gs pos="100000">
                  <a:srgbClr val="002f4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00400" y="2895480"/>
              <a:ext cx="2437560" cy="609480"/>
            </a:xfrm>
            <a:prstGeom prst="rect">
              <a:avLst/>
            </a:prstGeom>
            <a:gradFill rotWithShape="0">
              <a:gsLst>
                <a:gs pos="0">
                  <a:srgbClr val="006699"/>
                </a:gs>
                <a:gs pos="100000">
                  <a:srgbClr val="002f4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</p:grpSp>
      <p:grpSp>
        <p:nvGrpSpPr>
          <p:cNvPr id="294" name=""/>
          <p:cNvGrpSpPr/>
          <p:nvPr/>
        </p:nvGrpSpPr>
        <p:grpSpPr>
          <a:xfrm>
            <a:off x="1523880" y="457200"/>
            <a:ext cx="1676160" cy="3047760"/>
            <a:chOff x="1523880" y="457200"/>
            <a:chExt cx="1676160" cy="3047760"/>
          </a:xfrm>
        </p:grpSpPr>
        <p:sp>
          <p:nvSpPr>
            <p:cNvPr id="295" name=""/>
            <p:cNvSpPr/>
            <p:nvPr/>
          </p:nvSpPr>
          <p:spPr>
            <a:xfrm>
              <a:off x="1523880" y="457200"/>
              <a:ext cx="1676160" cy="609480"/>
            </a:xfrm>
            <a:prstGeom prst="rect">
              <a:avLst/>
            </a:prstGeom>
            <a:gradFill rotWithShape="0">
              <a:gsLst>
                <a:gs pos="0">
                  <a:srgbClr val="006699"/>
                </a:gs>
                <a:gs pos="100000">
                  <a:srgbClr val="002f4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523880" y="1066680"/>
              <a:ext cx="1676160" cy="609480"/>
            </a:xfrm>
            <a:prstGeom prst="rect">
              <a:avLst/>
            </a:prstGeom>
            <a:gradFill rotWithShape="0">
              <a:gsLst>
                <a:gs pos="0">
                  <a:srgbClr val="006699"/>
                </a:gs>
                <a:gs pos="100000">
                  <a:srgbClr val="002f4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1523880" y="1676160"/>
              <a:ext cx="1676160" cy="609840"/>
            </a:xfrm>
            <a:prstGeom prst="rect">
              <a:avLst/>
            </a:prstGeom>
            <a:gradFill rotWithShape="0">
              <a:gsLst>
                <a:gs pos="0">
                  <a:srgbClr val="006699"/>
                </a:gs>
                <a:gs pos="100000">
                  <a:srgbClr val="002f4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523880" y="2286000"/>
              <a:ext cx="1676160" cy="609480"/>
            </a:xfrm>
            <a:prstGeom prst="rect">
              <a:avLst/>
            </a:prstGeom>
            <a:gradFill rotWithShape="0">
              <a:gsLst>
                <a:gs pos="0">
                  <a:srgbClr val="006699"/>
                </a:gs>
                <a:gs pos="100000">
                  <a:srgbClr val="002f4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523880" y="2895480"/>
              <a:ext cx="1676160" cy="609480"/>
            </a:xfrm>
            <a:prstGeom prst="rect">
              <a:avLst/>
            </a:prstGeom>
            <a:gradFill rotWithShape="0">
              <a:gsLst>
                <a:gs pos="0">
                  <a:srgbClr val="006699"/>
                </a:gs>
                <a:gs pos="100000">
                  <a:srgbClr val="002f4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</p:grp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523520" y="228240"/>
            <a:ext cx="1676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hebb"/>
              </a:rPr>
              <a:t>ynl;j'q.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523880" y="762120"/>
            <a:ext cx="1600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hebb"/>
              </a:rPr>
              <a:t>^l.j'q.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00200" y="1371600"/>
            <a:ext cx="1600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hebb"/>
              </a:rPr>
              <a:t>%lej'q.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1752480" y="2057400"/>
            <a:ext cx="1219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hebb"/>
              </a:rPr>
              <a:t>wOlj'q.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47720" y="2666880"/>
            <a:ext cx="14763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hebb"/>
              </a:rPr>
              <a:t>Hl'j'q.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200400" y="533520"/>
            <a:ext cx="24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He killed me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200400" y="106668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He killed you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3200400" y="167652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He killed you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3200400" y="23623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He killed him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3200400" y="297180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He killed her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33520" y="457200"/>
            <a:ext cx="914400" cy="60948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1cs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3520" y="1066680"/>
            <a:ext cx="914400" cy="60984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2ms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533520" y="1676520"/>
            <a:ext cx="914400" cy="60948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2fs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533520" y="2286000"/>
            <a:ext cx="914400" cy="60948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3ms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533520" y="2895480"/>
            <a:ext cx="914400" cy="60984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3fs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315" name=""/>
          <p:cNvGrpSpPr/>
          <p:nvPr/>
        </p:nvGrpSpPr>
        <p:grpSpPr>
          <a:xfrm>
            <a:off x="3200400" y="3581280"/>
            <a:ext cx="2437560" cy="3047760"/>
            <a:chOff x="3200400" y="3581280"/>
            <a:chExt cx="2437560" cy="3047760"/>
          </a:xfrm>
        </p:grpSpPr>
        <p:sp>
          <p:nvSpPr>
            <p:cNvPr id="316" name=""/>
            <p:cNvSpPr/>
            <p:nvPr/>
          </p:nvSpPr>
          <p:spPr>
            <a:xfrm>
              <a:off x="3200400" y="3581280"/>
              <a:ext cx="2437560" cy="609480"/>
            </a:xfrm>
            <a:prstGeom prst="rect">
              <a:avLst/>
            </a:prstGeom>
            <a:gradFill rotWithShape="0">
              <a:gsLst>
                <a:gs pos="0">
                  <a:srgbClr val="006699"/>
                </a:gs>
                <a:gs pos="100000">
                  <a:srgbClr val="002f4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200400" y="4190760"/>
              <a:ext cx="2437560" cy="609480"/>
            </a:xfrm>
            <a:prstGeom prst="rect">
              <a:avLst/>
            </a:prstGeom>
            <a:gradFill rotWithShape="0">
              <a:gsLst>
                <a:gs pos="0">
                  <a:srgbClr val="006699"/>
                </a:gs>
                <a:gs pos="100000">
                  <a:srgbClr val="002f4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200400" y="4800240"/>
              <a:ext cx="2437560" cy="609840"/>
            </a:xfrm>
            <a:prstGeom prst="rect">
              <a:avLst/>
            </a:prstGeom>
            <a:gradFill rotWithShape="0">
              <a:gsLst>
                <a:gs pos="0">
                  <a:srgbClr val="006699"/>
                </a:gs>
                <a:gs pos="100000">
                  <a:srgbClr val="002f4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200400" y="5410080"/>
              <a:ext cx="2437560" cy="609480"/>
            </a:xfrm>
            <a:prstGeom prst="rect">
              <a:avLst/>
            </a:prstGeom>
            <a:gradFill rotWithShape="0">
              <a:gsLst>
                <a:gs pos="0">
                  <a:srgbClr val="006699"/>
                </a:gs>
                <a:gs pos="100000">
                  <a:srgbClr val="002f4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200400" y="6019560"/>
              <a:ext cx="2437560" cy="609480"/>
            </a:xfrm>
            <a:prstGeom prst="rect">
              <a:avLst/>
            </a:prstGeom>
            <a:gradFill rotWithShape="0">
              <a:gsLst>
                <a:gs pos="0">
                  <a:srgbClr val="006699"/>
                </a:gs>
                <a:gs pos="100000">
                  <a:srgbClr val="002f4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1523880" y="3581280"/>
            <a:ext cx="1676160" cy="3047760"/>
            <a:chOff x="1523880" y="3581280"/>
            <a:chExt cx="1676160" cy="3047760"/>
          </a:xfrm>
        </p:grpSpPr>
        <p:sp>
          <p:nvSpPr>
            <p:cNvPr id="322" name=""/>
            <p:cNvSpPr/>
            <p:nvPr/>
          </p:nvSpPr>
          <p:spPr>
            <a:xfrm>
              <a:off x="1523880" y="3581280"/>
              <a:ext cx="1676160" cy="609480"/>
            </a:xfrm>
            <a:prstGeom prst="rect">
              <a:avLst/>
            </a:prstGeom>
            <a:gradFill rotWithShape="0">
              <a:gsLst>
                <a:gs pos="0">
                  <a:srgbClr val="006699"/>
                </a:gs>
                <a:gs pos="100000">
                  <a:srgbClr val="002f4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523880" y="4190760"/>
              <a:ext cx="1676160" cy="609480"/>
            </a:xfrm>
            <a:prstGeom prst="rect">
              <a:avLst/>
            </a:prstGeom>
            <a:gradFill rotWithShape="0">
              <a:gsLst>
                <a:gs pos="0">
                  <a:srgbClr val="006699"/>
                </a:gs>
                <a:gs pos="100000">
                  <a:srgbClr val="002f4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23880" y="4800240"/>
              <a:ext cx="1676160" cy="609840"/>
            </a:xfrm>
            <a:prstGeom prst="rect">
              <a:avLst/>
            </a:prstGeom>
            <a:gradFill rotWithShape="0">
              <a:gsLst>
                <a:gs pos="0">
                  <a:srgbClr val="006699"/>
                </a:gs>
                <a:gs pos="100000">
                  <a:srgbClr val="002f4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523880" y="5410080"/>
              <a:ext cx="1676160" cy="609480"/>
            </a:xfrm>
            <a:prstGeom prst="rect">
              <a:avLst/>
            </a:prstGeom>
            <a:gradFill rotWithShape="0">
              <a:gsLst>
                <a:gs pos="0">
                  <a:srgbClr val="006699"/>
                </a:gs>
                <a:gs pos="100000">
                  <a:srgbClr val="002f4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523880" y="6019560"/>
              <a:ext cx="1676160" cy="609480"/>
            </a:xfrm>
            <a:prstGeom prst="rect">
              <a:avLst/>
            </a:prstGeom>
            <a:gradFill rotWithShape="0">
              <a:gsLst>
                <a:gs pos="0">
                  <a:srgbClr val="006699"/>
                </a:gs>
                <a:gs pos="100000">
                  <a:srgbClr val="002f4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</p:grpSp>
      <p:sp>
        <p:nvSpPr>
          <p:cNvPr id="327" name=""/>
          <p:cNvSpPr/>
          <p:nvPr/>
        </p:nvSpPr>
        <p:spPr>
          <a:xfrm>
            <a:off x="1557360" y="3276720"/>
            <a:ext cx="14907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hebb"/>
              </a:rPr>
              <a:t>Wnl'j'q.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600200" y="3886200"/>
            <a:ext cx="16765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hebb"/>
              </a:rPr>
              <a:t>~k,l.j'q.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1600200" y="4495680"/>
            <a:ext cx="15238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hebb"/>
              </a:rPr>
              <a:t>!k,l.j'q.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1752480" y="5181480"/>
            <a:ext cx="14479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hebb"/>
              </a:rPr>
              <a:t>~l'j'q.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1523880" y="5715000"/>
            <a:ext cx="16765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hebb"/>
              </a:rPr>
              <a:t>!l'j'q.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33520" y="3581280"/>
            <a:ext cx="914400" cy="60984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1cp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33520" y="4191120"/>
            <a:ext cx="914400" cy="60948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2mp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33520" y="4800600"/>
            <a:ext cx="914400" cy="60948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2fp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533520" y="5410080"/>
            <a:ext cx="914400" cy="60984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3mp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33520" y="6019920"/>
            <a:ext cx="914400" cy="60948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3fp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3200400" y="359568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He killed us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3200400" y="4205160"/>
            <a:ext cx="24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He killed ya’l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200400" y="481500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He killed ya’l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3200400" y="548640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He killed them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3200400" y="61102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He killed them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6172200" y="1905120"/>
            <a:ext cx="2590920" cy="685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Pronominal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6400800" y="2666880"/>
            <a:ext cx="2057400" cy="685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Suffixes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6324480" y="4191120"/>
            <a:ext cx="2133720" cy="685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Perfect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781680" y="3429000"/>
            <a:ext cx="1143000" cy="685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on the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ccffff"/>
                </a:solidFill>
                <a:latin typeface="Bwhebb"/>
              </a:rPr>
              <a:t>@seAy-la, laer"f.yI rm,aYOw:</a:t>
            </a:r>
            <a:endParaRPr b="0" lang="en-US" sz="7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0" y="167652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ccffff"/>
                </a:solidFill>
                <a:latin typeface="Bwhebb"/>
              </a:rPr>
              <a:t>~k,v.Bi ~y[iro ^yx,a; aAlh]</a:t>
            </a:r>
            <a:endParaRPr b="0" lang="en-US" sz="7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76320" y="327672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ccffff"/>
                </a:solidFill>
                <a:latin typeface="Bwhebb"/>
              </a:rPr>
              <a:t>~h,ylea] ^x]l'v.a,w&gt; hk'l.</a:t>
            </a:r>
            <a:endParaRPr b="0" lang="en-US" sz="7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362320" y="4876920"/>
            <a:ext cx="6858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ccffff"/>
                </a:solidFill>
                <a:latin typeface="Bwhebb"/>
              </a:rPr>
              <a:t>nINEhi Al rm,aYOw:</a:t>
            </a:r>
            <a:endParaRPr b="0" lang="en-US" sz="7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380880" y="5106960"/>
            <a:ext cx="2057400" cy="17510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Genesis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37:13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351" name=""/>
          <p:cNvSpPr/>
          <p:nvPr/>
        </p:nvSpPr>
        <p:spPr>
          <a:xfrm>
            <a:off x="6477120" y="1127160"/>
            <a:ext cx="1371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And he said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267080" y="11430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Israel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666880" y="11430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to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1219320" y="11430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Joseph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629400" y="272736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Do not?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4800600" y="2666880"/>
            <a:ext cx="1371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your brothers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124080" y="2666880"/>
            <a:ext cx="1371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they are pastoring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1219320" y="2743200"/>
            <a:ext cx="1371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in Shechem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477120" y="426708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Walk!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343400" y="4327560"/>
            <a:ext cx="1371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and I will send you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1905120" y="426708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to them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6400800" y="5927760"/>
            <a:ext cx="1371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And he said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4800600" y="59436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to him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3657600" y="5867280"/>
            <a:ext cx="1371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Behold me!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4T08:55:22Z</dcterms:created>
  <dc:creator>John Stevenson</dc:creator>
  <dc:description/>
  <dc:language>en-US</dc:language>
  <cp:lastModifiedBy>John Stevenson</cp:lastModifiedBy>
  <dcterms:modified xsi:type="dcterms:W3CDTF">2014-02-20T02:23:00Z</dcterms:modified>
  <cp:revision>754</cp:revision>
  <dc:subject/>
  <dc:title>Discipleship Across the Lifespan</dc:title>
</cp:coreProperties>
</file>