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61C-818A-4593-92A7-56E0C65E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9C8-80A1-4E29-9911-14F05234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43E-4A8F-44B7-8BDA-D20E3CBE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448-6C22-4D3B-9257-22A315E0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232-3BF8-4378-8083-7B6792C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487-7AE9-4DA5-A32D-14A0596A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AF1-D27C-4718-89D1-10327661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23A-E40B-4A76-866B-A0BE9086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63E-332F-4978-86E5-C28F115C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043-41F2-412F-99BD-02CCD31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400-D620-4832-820D-4B489F67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33F-97F2-4954-A42A-A8B6B790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67CC-9F06-47F9-87A1-5CDD1EA761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447920"/>
            <a:ext cx="81532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al Imperative, Cohortative,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3905280"/>
            <a:ext cx="31240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pter 18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2590920"/>
            <a:ext cx="31240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&amp; Juss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4582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LORD appeared to him and said, “Do not go down to Egypt…” (Genesis 26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rm,aYOw: hw"hy&gt; wyl'ae ar"YEw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96252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hm'y&gt;r"c.mi drETe-la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352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appear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5029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o no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5029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 dow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47056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al imperf 2ms of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58672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Bwhebb"/>
              </a:rPr>
              <a:t>dr'y"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105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to) Egyp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ak forms of the Imperative seen on Pages 212-21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2801880" cy="419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304776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57200"/>
            <a:ext cx="304812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57200"/>
            <a:ext cx="297180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uss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1600200"/>
            <a:ext cx="304776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mmand or reque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600200"/>
            <a:ext cx="304812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, desire, or reque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3429000"/>
            <a:ext cx="304776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son (“you”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429000"/>
            <a:ext cx="304812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“I” or “we”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5257800"/>
            <a:ext cx="304776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is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257800"/>
            <a:ext cx="304812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is be done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209680" y="304920"/>
            <a:ext cx="46864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hort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701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ks like the Imperf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tinguished by its placement in the cla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is first in the clause, it is cohortative (as long as it is not a waw cons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appears later in the clause, it is a normal im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d"a' hf,[]n: ~yhil{a/ rm,aYO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200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WnteWmd&gt;Ki Wnmel.c;B.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09680" y="304920"/>
            <a:ext cx="46864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hort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00400" y="5562720"/>
            <a:ext cx="26956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 1:26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65104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26319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6668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et us mak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66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267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our imag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425124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ike our likenes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Wrm.aYOw: wD"x.y: ~['h'-lk' Wn[]Y: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2767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f,[]n: hw"hy&gt; rB,DI-rv,a] lKo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09680" y="304920"/>
            <a:ext cx="46864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hort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00400" y="5562720"/>
            <a:ext cx="269568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 19:8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25750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answer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90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590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peopl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90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ge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590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y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4403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4403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ic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4403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4197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e will d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8769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Imperfect, not Cohortative)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981080"/>
            <a:ext cx="8839440" cy="2362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cohortative often attaches a     suffix to the end of the wo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09680" y="304920"/>
            <a:ext cx="468648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hort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1316160" y="25351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4540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may I keep your law” (Psalm 119:44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546880"/>
            <a:ext cx="74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^t.r"At hr"m.v.a,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304776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57200"/>
            <a:ext cx="304812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457200"/>
            <a:ext cx="297180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uss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00200"/>
            <a:ext cx="304776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mmand or reque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00200"/>
            <a:ext cx="304812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, desire, or reque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1600200"/>
            <a:ext cx="2971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, request, or comm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3429000"/>
            <a:ext cx="304776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son (“you”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429000"/>
            <a:ext cx="304812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“I” or “we”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3429000"/>
            <a:ext cx="29718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son (“he, she, or they”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5257800"/>
            <a:ext cx="304776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is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5257800"/>
            <a:ext cx="601992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is be done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25909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oks like the Cohortative except that it is 3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person instead of 1</a:t>
            </a:r>
            <a:r>
              <a:rPr b="0" lang="en-US" sz="4000" spc="-1" strike="noStrike" baseline="30000">
                <a:solidFill>
                  <a:srgbClr val="cc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pers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666880" y="533520"/>
            <a:ext cx="404820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uss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2590920"/>
            <a:ext cx="510084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304776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457200"/>
            <a:ext cx="304812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hort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457200"/>
            <a:ext cx="2971800" cy="11430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Juss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304776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mmand or reque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3429000"/>
            <a:ext cx="304776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son (“you”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5257800"/>
            <a:ext cx="304776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is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x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hoose, test, exam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!yB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3434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Understand, perceived, consid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r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ek, inquire, investig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gr;h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i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pex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delight i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Aj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d;q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hol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[;r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shepher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a;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as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l[;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ord, master, husban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19240" y="228600"/>
            <a:ext cx="491508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erativ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37348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6924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260208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44016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699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320" y="366876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495680"/>
            <a:ext cx="41148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41972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l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815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562720"/>
            <a:ext cx="41148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5821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 will ki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320" y="470376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57704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34144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l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0848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lij.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48640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n"l.joq.Ti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4114800" cy="8384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erfe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181480" y="4419720"/>
            <a:ext cx="3657600" cy="2104920"/>
            <a:chOff x="5181480" y="4419720"/>
            <a:chExt cx="3657600" cy="2104920"/>
          </a:xfrm>
        </p:grpSpPr>
        <p:sp>
          <p:nvSpPr>
            <p:cNvPr id="69" name=""/>
            <p:cNvSpPr/>
            <p:nvPr/>
          </p:nvSpPr>
          <p:spPr>
            <a:xfrm>
              <a:off x="5181480" y="4495680"/>
              <a:ext cx="3657600" cy="10670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81480" y="4419720"/>
              <a:ext cx="2057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whebb"/>
                </a:rPr>
                <a:t>Wlj.qi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8880" y="4815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Kill!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81480" y="2341440"/>
            <a:ext cx="3657600" cy="1099440"/>
            <a:chOff x="5181480" y="2341440"/>
            <a:chExt cx="3657600" cy="1099440"/>
          </a:xfrm>
        </p:grpSpPr>
        <p:sp>
          <p:nvSpPr>
            <p:cNvPr id="73" name=""/>
            <p:cNvSpPr/>
            <p:nvPr/>
          </p:nvSpPr>
          <p:spPr>
            <a:xfrm>
              <a:off x="5181480" y="2362320"/>
              <a:ext cx="3657600" cy="1066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269244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Kill!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81480" y="2341440"/>
              <a:ext cx="2057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whebb"/>
                </a:rPr>
                <a:t>ljoq.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181480" y="3408480"/>
            <a:ext cx="3657600" cy="2104920"/>
            <a:chOff x="5181480" y="3408480"/>
            <a:chExt cx="3657600" cy="2104920"/>
          </a:xfrm>
        </p:grpSpPr>
        <p:sp>
          <p:nvSpPr>
            <p:cNvPr id="77" name=""/>
            <p:cNvSpPr/>
            <p:nvPr/>
          </p:nvSpPr>
          <p:spPr>
            <a:xfrm>
              <a:off x="5181480" y="3429000"/>
              <a:ext cx="3657600" cy="1066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38880" y="369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Kill!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800" y="3408480"/>
              <a:ext cx="2057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whebb"/>
                </a:rPr>
                <a:t>ylij.qi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05520" y="5486400"/>
            <a:ext cx="3809880" cy="2104920"/>
            <a:chOff x="5105520" y="5486400"/>
            <a:chExt cx="3809880" cy="2104920"/>
          </a:xfrm>
        </p:grpSpPr>
        <p:sp>
          <p:nvSpPr>
            <p:cNvPr id="81" name=""/>
            <p:cNvSpPr/>
            <p:nvPr/>
          </p:nvSpPr>
          <p:spPr>
            <a:xfrm>
              <a:off x="5181480" y="5562720"/>
              <a:ext cx="3657600" cy="1066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15200" y="5821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Kill!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05520" y="5486400"/>
              <a:ext cx="23619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whebb"/>
                </a:rPr>
                <a:t>hn"l.joq.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181480" y="1523880"/>
            <a:ext cx="3657600" cy="83844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e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819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3962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5105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60958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590920"/>
            <a:ext cx="685800" cy="685800"/>
          </a:xfrm>
          <a:prstGeom prst="ellipse">
            <a:avLst/>
          </a:prstGeom>
          <a:noFill/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7600"/>
            <a:ext cx="685800" cy="685800"/>
          </a:xfrm>
          <a:prstGeom prst="ellipse">
            <a:avLst/>
          </a:prstGeom>
          <a:noFill/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31960" y="4703760"/>
            <a:ext cx="685800" cy="685800"/>
          </a:xfrm>
          <a:prstGeom prst="ellipse">
            <a:avLst/>
          </a:prstGeom>
          <a:noFill/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16000" y="5791320"/>
            <a:ext cx="685800" cy="685800"/>
          </a:xfrm>
          <a:prstGeom prst="ellipse">
            <a:avLst/>
          </a:prstGeom>
          <a:noFill/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41600" y="4170240"/>
            <a:ext cx="304560" cy="304920"/>
          </a:xfrm>
          <a:prstGeom prst="ellipse">
            <a:avLst/>
          </a:prstGeom>
          <a:noFill/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58800" y="5181480"/>
            <a:ext cx="304920" cy="304920"/>
          </a:xfrm>
          <a:prstGeom prst="ellipse">
            <a:avLst/>
          </a:prstGeom>
          <a:noFill/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jb,v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d, staff, scept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d[;B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hind, throug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![;y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n account of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an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le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62720" y="3983040"/>
            <a:ext cx="29718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983040"/>
            <a:ext cx="289584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983040"/>
            <a:ext cx="2286000" cy="2057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2ms Imperative often has a     end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73560" y="150336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9625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m;v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9625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mov.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96252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r'm.v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watch”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5257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watch!”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52578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watch!”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352680"/>
            <a:ext cx="2286000" cy="642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oo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352680"/>
            <a:ext cx="5867640" cy="642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mperati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gative commands (prohibitions) use the negative particle with the Imperfec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0481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xc'r&gt;Ti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397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Exodus 20:1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1911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Qal imperf 2ms of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55616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xc;r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 kill”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gative commands (prohibitions) use the negative particle with the Imperfec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0481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xc'r&gt;Ti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397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Exodus 20:1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946680"/>
            <a:ext cx="510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@a'n&gt;Ti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295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Exodus 20:1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51055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Qal imperf 2ms of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47056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@a;n"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324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 commit adultery”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gative commands (prohibitions) use the negative particle with the Imperfec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812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xc'r&gt;Ti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397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Exodus 20:13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946680"/>
            <a:ext cx="510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@a'n&gt;Ti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4295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Exodus 20:1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921200"/>
            <a:ext cx="510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bnOg&gt;Ti 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5270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Exodus 20:15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5987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Qal imperf 2ms of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851440"/>
            <a:ext cx="99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bn;G'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6156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o steal”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gative commands (prohibitions) use the negative particle with the Imperfec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124080"/>
            <a:ext cx="3505320" cy="13129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l{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124080"/>
            <a:ext cx="3505320" cy="131292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la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95680"/>
            <a:ext cx="350532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 and permanent prohibi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495680"/>
            <a:ext cx="350532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mediate and specific prohibi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"My lord, if now I have found favor in your sight, please do not pass your servant by” (Genesis 18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!xe ytiac'm' an"-~ai yn"doa]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809880"/>
            <a:ext cx="8839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l[;me rbo[]t; an"-la; ^yn&lt;y[eB.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2578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^D&lt;b.[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y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352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leas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352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fou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41316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rac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4952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your ey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9370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o no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9370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leas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 ov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952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n b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servan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2-13T02:26:16Z</dcterms:modified>
  <cp:revision>716</cp:revision>
  <dc:subject/>
  <dc:title>Discipleship Across the Lifespan</dc:title>
</cp:coreProperties>
</file>