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A520-30D3-4CE5-934A-FD959F88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F6F6-F235-4379-B1DA-1E6BAB0E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6CEA-74AC-4090-A736-1957F0E0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94F-A4EA-4CDD-8005-66373B8D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A38A-500E-46CE-96B1-67658DAB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44AD-84B2-4F77-8ED2-C409DEE0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9B5C-9DFD-4C52-A03D-7D5C3AE8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AC0B-1D5F-45A8-9DB1-83E079BA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E4A5-E3DD-42E3-A16A-7C6BAFDF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C22D-E540-4E00-BBF4-75541388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0D5-B78D-4490-A54B-9966A70E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0637-A139-4682-BA69-EB0D1914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02A2-382C-4441-A899-1D2FCCC0F5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5120" y="1981080"/>
            <a:ext cx="518148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aw Consecutiv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19520" y="3124080"/>
            <a:ext cx="312408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apter 17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he Perfect with the Waw Consecutiv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s to a future or customary present t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ly starts with an imperfect which is then followed by a series of perfects (signifies future a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follow an imperative in which case it acts like an imper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22860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dbo[]T; ~ymiy" tv,ve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13716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Six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676520"/>
            <a:ext cx="899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^T,k.al;m.-lK' t'yfi['w&gt;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362320" y="548640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odus 20:9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289548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you shall do (PERFECT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87964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ll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28954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our busines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1371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day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12952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ou shall work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IMPERFECT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209680" y="2209680"/>
            <a:ext cx="4415040" cy="104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cabula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db;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 perish, vanish, be los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db;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3567240"/>
            <a:ext cx="7010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haraoh’s servants said to him, “How long will this man be a snare to us? Let the men go, that they may serve the LORD their God. Do you not realize that Egypt is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destroyed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?” (Exodus 10:7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db;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3567240"/>
            <a:ext cx="7010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ow the donkeys of Kish, Saul's father, were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lost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 So Kish said to his son Saul, “Take now with you one of the servants, and arise, go search for the donkeys.” (1 Samuel 9:3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bh;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4343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 lov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bh;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3470400"/>
            <a:ext cx="78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He said, “Take now your son, your only son, whom you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lov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Isaac, and go to the land of Moriah; and offer him there as a burnt offering on one of the mountains of which I will tell you.” (Genesis 22:9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bh;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4704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ut showing lovingkindness to thousands, to those who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lov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Me and keep My commandments (Exodus 20:6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bh;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3470400"/>
            <a:ext cx="78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ou shall not take vengeance, nor bear any grudge against the sons of your people, but you shall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lov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your neighbor as yourself; I am the LORD (Leviticus 19:18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838080"/>
            <a:ext cx="403848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erfec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5680" y="838080"/>
            <a:ext cx="4191120" cy="7621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mperfec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00200"/>
            <a:ext cx="403848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 actio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1600200"/>
            <a:ext cx="419112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mplete Actio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514600"/>
            <a:ext cx="4038480" cy="1676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ly translated as past tens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2514600"/>
            <a:ext cx="4191120" cy="1676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ly translated as present or future tens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91120"/>
            <a:ext cx="8229600" cy="76176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hen part of a waw consecutive…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952880"/>
            <a:ext cx="403848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as a futur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4952880"/>
            <a:ext cx="4191120" cy="1143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as a past tens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@s;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434340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 gather in, take away, destro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@s;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o she conceived and bore a son and said, “God has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taken away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my reproach.” And she called his name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Joseph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; and said, The LORD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shall add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to me another son (Genesis 30:23-24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@s;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35812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saac breathed his last and died and was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gathered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to his people, an old man of ripe age; and his sons Esau and Jacob buried him (Genesis 35:29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r[;B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 burn up, consum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r[;B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3643200"/>
            <a:ext cx="8077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angel of the LORD appeared to him in a blazing fire from the midst of a bush; and he looked, and behold, the bush was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burning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with fire, yet the bush was not consumed (Exodus 3:2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r[;B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37036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ou shall not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kindl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a fire in any of your dwellings on the sabbath day (Exodus 35:3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l'G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 uncover, reve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l'G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73392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e drank of the wine and became drunk, and </a:t>
            </a: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uncovered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himself inside his tent (Genesis 9:21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l'G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3733920"/>
            <a:ext cx="761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 built an altar there, and called the place El-bethel, because there God had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revealed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Himself to him when he fled from his brother (Genesis 35:7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l'G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373392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None of you shall approach any blood relative of his to </a:t>
            </a: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uncover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nakedness; I am the LORD (Leviticus 18:6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22860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mol{v. %l,M,h; xl;v.YIw: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72200" y="1660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sen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286000"/>
            <a:ext cx="8763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rComi ~r"yxi-ta, xQ;YIw: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676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king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14600" y="5486400"/>
            <a:ext cx="335268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 Kings 7:13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1660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Solomo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36576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took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42670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mperfect of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4556160"/>
            <a:ext cx="152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xq;l'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36576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Hiram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3505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from Tyr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en Boaz had eaten and drunk and his heart was merry, he went to lie down at the end of the heap of grain; and she came secretly, and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ncovered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his feet and lay down (Ruth 3:7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5053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Bwhebb"/>
              </a:rPr>
              <a:t>bK'v.Tiw: wyt'l{G&gt;r&gt;m; lg:T.w: jL'b; aboT'w: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62920" y="54864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IMPERFECT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4674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she cam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470844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n secre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724280"/>
            <a:ext cx="137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she uncovere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54864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IMPERFECT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47242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place of his fee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she lay dow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54864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IMPERFECT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rhej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71800" y="43434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 be clean, be pur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~Wr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43434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e high, be exalted, ris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jp;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 judg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tm,a/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rut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aSeK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ron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rP's.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Numbe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rf,[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e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vm,v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u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~yhil{a/ hw"hy&gt; rc,yYIw: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12193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forme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IMPERFECT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676520"/>
            <a:ext cx="899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ffffff"/>
                </a:solidFill>
                <a:latin typeface="Bwhebb"/>
              </a:rPr>
              <a:t>hm'd"a]h'-!mi rp'[' ~d"a'h'-ta,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12952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LOR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362320" y="548640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nesis 2:7a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219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Go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2895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ma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28195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of dus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2895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from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8195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groun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200400"/>
            <a:ext cx="899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~yYIx; tm;v.nI wyP'a;B. xP;YIw: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43434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nto his nos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4267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breat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432756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blew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IMPERFECT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3434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of live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9748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hY"x; vp,n&lt;l. ~d"a'h' yhiy&gt;w: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21938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becam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IMPERFECT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227016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ma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362320" y="548640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nesis 2:7b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227016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 soul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22096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living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22860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~yhil{a/ hw"hy&gt; [J;YIw: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13716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plante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IMPERFECT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76520"/>
            <a:ext cx="8991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ffffff"/>
                </a:solidFill>
                <a:latin typeface="Bwhebb"/>
              </a:rPr>
              <a:t>~v' ~f,Y"w: ~d&lt;Q,mi !d&lt;[eB.-!G: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14479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LOR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362320" y="548640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nesis 2:8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1371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Go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0120" y="28954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 garde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2895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n Ede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281952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from the eas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289548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set (IMPERFECT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r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505320"/>
            <a:ext cx="899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rc'y" rv,a] </a:t>
            </a:r>
            <a:r>
              <a:rPr b="0" lang="pl-PL" sz="8000" spc="-1" strike="noStrike">
                <a:solidFill>
                  <a:srgbClr val="ffffff"/>
                </a:solidFill>
                <a:latin typeface="Bwhebb"/>
              </a:rPr>
              <a:t>~d"a'h'-ta,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4648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ma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4724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h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46483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he forme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860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~yhil{a/ hw"hy&gt; rc,YIw: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13716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forme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IMPERFECT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676520"/>
            <a:ext cx="899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hd&lt;F'h; tY:x;-lK' hm'd"a]h'-!mi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14479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LOR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362320" y="548640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nesis 2:19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1371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Go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28954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from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2895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groun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ll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living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28195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of the fiel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860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rBed:y&gt;w: hv,mo-la, ar"q.YIw: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13716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calle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IMPERFECT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676520"/>
            <a:ext cx="899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d[eAm lh,aome wyl'ae hw"hy&gt;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1432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362320" y="548640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eviticus 1:1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289548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Lor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2895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72736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from the ten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274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of meeting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1432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Mose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35576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spok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IMPERFECT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429000"/>
            <a:ext cx="899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rmoale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44956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 say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he Imperfect with the Waw Consecutiv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2438280"/>
            <a:ext cx="68580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s to a past t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starts with a perfect which is then followed by a series of imperf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consecutive order of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4-02-06T22:00:45Z</dcterms:modified>
  <cp:revision>696</cp:revision>
  <dc:subject/>
  <dc:title>Discipleship Across the Lifespan</dc:title>
</cp:coreProperties>
</file>