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9571-D8BE-4570-8E29-165AC2F5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7EEB-922B-4C64-B1A3-7BF6D41E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F3C3-940A-4DD3-9A95-C1CA15D7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816B-D28B-4073-A296-9523CB74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46FD-9586-4B43-B170-0E4981BA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F802-2962-46D4-A59F-BFCFFB84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782A-F8C6-4BC5-8F89-BCCD3F16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B8D6-2008-40F1-B7B0-F5F59663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B760-6C36-4D09-8417-41E8A898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7C76-4B96-44A0-8848-9FC9B0E3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9617-FAD9-4B55-9C49-7918E939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E1AB-5AFF-4B45-89A7-749D3335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B0F3-794D-47E9-A61B-1E60156B4E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33720" y="2438280"/>
            <a:ext cx="464796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Qal Imperfec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8120" y="3429000"/>
            <a:ext cx="304776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ak Verb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14600" y="4267080"/>
            <a:ext cx="419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he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You (man)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905120"/>
            <a:ext cx="327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joq.T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dg&lt;n&l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7200" y="37036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 LORD God said, “It is not good for the man to be alone; I will make him a helpe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ita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him.” (Genesis 2:18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38080" y="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ADg&gt;n&lt;K. rz&lt;[e AL-Hf,[/a,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095880" y="1295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 will mak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495680" y="127944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for him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276720" y="126684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 helper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447920" y="127944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opposite him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dg&lt;n&l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371600" y="3825720"/>
            <a:ext cx="6934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prepare a table before me in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s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my enemies;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anointed my head with oil;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cup overflows (Psalm 23:5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dg&lt;n&l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828800" y="3962520"/>
            <a:ext cx="594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 know my transgressions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y sin is eve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fo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 (Psalm 51:3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0" y="4267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e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330280"/>
            <a:ext cx="365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joq.n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0" y="4267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You guys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2254320"/>
            <a:ext cx="4038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Wlj.q.T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0" y="426708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ose girls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You girls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19494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n"l.joq.T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743200" y="42670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2101680"/>
            <a:ext cx="3124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joq.a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743200" y="42670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You (girl)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187308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ylij.q.T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14600" y="4267080"/>
            <a:ext cx="419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he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You (man)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1905120"/>
            <a:ext cx="327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joq.T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0" y="4267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ose guys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2025720"/>
            <a:ext cx="335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Wlj.q.y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joq.y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343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e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819520" y="2286000"/>
            <a:ext cx="3695760" cy="898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ak Verb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0" y="25146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4114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ingula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479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al Imperfect Strong Verb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685800"/>
            <a:ext cx="4114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lur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371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y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1706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5146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4382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2819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he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5812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3900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ou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6320" y="17524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6320" y="38098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320" y="274320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6483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4906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ou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6320" y="4876920"/>
            <a:ext cx="30456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57150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59738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320" y="60199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14479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1371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lj.q.y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3080" y="1706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y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5812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35053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lj.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3900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a’ll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46483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4906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a’ll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57150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56386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n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59738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e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8610480" y="38098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686800" y="4876920"/>
            <a:ext cx="30492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610480" y="6019920"/>
            <a:ext cx="38124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49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46162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ylij.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6833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a,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4572000"/>
            <a:ext cx="2362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n"l.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28335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y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610480" y="16765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686800" y="274320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4495680" y="2482920"/>
            <a:ext cx="2362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n"l.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57440" y="236196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bveyE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2362320"/>
            <a:ext cx="213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bv;y"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380988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He sat or dwelled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380988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He will sit or dwell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2895480"/>
            <a:ext cx="1752840" cy="685800"/>
          </a:xfrm>
          <a:custGeom>
            <a:avLst/>
            <a:gdLst>
              <a:gd name="textAreaLeft" fmla="*/ 273600 w 1752840"/>
              <a:gd name="textAreaRight" fmla="*/ 1533960 w 175284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4114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ingula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4479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19320" y="7632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rong Verb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371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y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1706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25146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24382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2819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he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35812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3900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ou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6320" y="17524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6320" y="38098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320" y="274320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6483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4906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ou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6320" y="4876920"/>
            <a:ext cx="30456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57150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59738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6320" y="60199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549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46162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ylij.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56833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a,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685800"/>
            <a:ext cx="4114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ingula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4479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1371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bveyE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1706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will si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25146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24382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bveTe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81680" y="2819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he will si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35812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81680" y="3900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ou will si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46483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81680" y="4906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ou will si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57150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81680" y="59738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 will si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549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bveTe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76920" y="46162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ybiv.Te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56833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bveae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34120" y="7632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ak Verb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25146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685800"/>
            <a:ext cx="4114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lur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14479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371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lj.q.y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1706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y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35812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35053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lj.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3900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a’ll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46483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906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a’ll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57150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56386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n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59738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e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572000"/>
            <a:ext cx="2362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n"l.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28335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y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2482920"/>
            <a:ext cx="2362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n"l.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6320" y="17524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6320" y="38098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320" y="274320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6320" y="4876920"/>
            <a:ext cx="30456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6320" y="60199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"/>
          <p:cNvSpPr/>
          <p:nvPr/>
        </p:nvSpPr>
        <p:spPr>
          <a:xfrm>
            <a:off x="4800600" y="25146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685800"/>
            <a:ext cx="4114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lur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14479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1371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bv.yE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81680" y="1706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y will si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35812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35053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bv.Te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81680" y="3900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a’ll will si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46483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4906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a’ll will si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57150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56386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bvenE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59738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e will si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24280" y="4572000"/>
            <a:ext cx="2362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n"b.v;Te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0" y="28335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y will si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24280" y="2482920"/>
            <a:ext cx="2362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n"b.v;Te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219320" y="7632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rong Verb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181480" y="7632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ak Verb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257440" y="236196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%leyE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2362320"/>
            <a:ext cx="213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%l;h'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38098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He went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3809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He will go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81280" y="2895480"/>
            <a:ext cx="1752840" cy="685800"/>
          </a:xfrm>
          <a:custGeom>
            <a:avLst/>
            <a:gdLst>
              <a:gd name="textAreaLeft" fmla="*/ 273600 w 1752840"/>
              <a:gd name="textAreaRight" fmla="*/ 1533960 w 175284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4114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ingula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4479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219320" y="7632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rong Verb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371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y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1706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5146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24382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2819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he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35812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38280" y="3900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ou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6320" y="17524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76320" y="38098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6320" y="274320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46483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38280" y="4906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ou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6320" y="4876920"/>
            <a:ext cx="30456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57150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59738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6320" y="60199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3549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46162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ylij.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56833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a,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685800"/>
            <a:ext cx="4114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ingula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00600" y="14479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00600" y="1371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%leyE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81680" y="1706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will g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25146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24382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%leTe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81680" y="2819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he will g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00600" y="35812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81680" y="3900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ou will g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00600" y="46483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81680" y="4906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ou will g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00600" y="57150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81680" y="59738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 will g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3549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%leTe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46162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ykil.Te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56833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%leae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4120" y="7632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ak Verb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57200" y="25146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685800"/>
            <a:ext cx="4114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lur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14479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1371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lj.q.y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38280" y="1706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y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35812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35053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lj.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38280" y="3900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a’ll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46483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906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a’ll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57150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56386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n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38280" y="59738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e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4572000"/>
            <a:ext cx="2362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n"l.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8335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y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2482920"/>
            <a:ext cx="2362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n"l.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6320" y="17524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6320" y="38098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76320" y="274320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6320" y="4876920"/>
            <a:ext cx="30456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6320" y="60199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"/>
          <p:cNvSpPr/>
          <p:nvPr/>
        </p:nvSpPr>
        <p:spPr>
          <a:xfrm>
            <a:off x="4800600" y="25146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00600" y="685800"/>
            <a:ext cx="4114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lur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14479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00600" y="1371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kl.yE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781680" y="1706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y will g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00600" y="35812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800600" y="35053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kl.Te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81680" y="3900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a’ll will g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00600" y="46483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0" y="4906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a’ll will g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00600" y="57150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00600" y="56386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%lenE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781680" y="59738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e will g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24280" y="4572000"/>
            <a:ext cx="2362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n"k.l;Te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0" y="28335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y will g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24280" y="2482920"/>
            <a:ext cx="2362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n"k.l;Te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219320" y="7632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rong Verb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181480" y="7632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ak Verb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257440" y="236196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hn&lt;b.yI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371600" y="2362320"/>
            <a:ext cx="213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hn'B'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8098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He built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380988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He will build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81280" y="2895480"/>
            <a:ext cx="1752840" cy="685800"/>
          </a:xfrm>
          <a:custGeom>
            <a:avLst/>
            <a:gdLst>
              <a:gd name="textAreaLeft" fmla="*/ 273600 w 1752840"/>
              <a:gd name="textAreaRight" fmla="*/ 1533960 w 175284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4114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ingula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14479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219320" y="7632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rong Verb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1371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y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1706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25146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24382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438280" y="2819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he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35812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38280" y="3900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ou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6320" y="17524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76320" y="38098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76320" y="274320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46483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8280" y="4906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ou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76320" y="4876920"/>
            <a:ext cx="30456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57150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59738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6320" y="60199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3549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46162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ylij.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56833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a,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00600" y="685800"/>
            <a:ext cx="4114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ingula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800600" y="14479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00600" y="1371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n&lt;b.y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1706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’ll buil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00600" y="25146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00600" y="24382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n&lt;b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781680" y="2819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he’ll buil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800600" y="35812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781680" y="3900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ou’ll buil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00600" y="46483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781680" y="4906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ou’ll buil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800600" y="57150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81680" y="59738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 will buil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00600" y="3549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n&lt;b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76920" y="46162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ynIb.Te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876920" y="56833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n&lt;b.a,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5334120" y="7632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ak Verb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57200" y="25146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685800"/>
            <a:ext cx="4114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lur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4479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1371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lj.q.y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438280" y="1706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y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35812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35053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lj.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38280" y="3900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a’ll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6483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14600" y="4906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a’ll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" y="57150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56386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n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59738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e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4572000"/>
            <a:ext cx="2362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n"l.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14600" y="28335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y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2482920"/>
            <a:ext cx="2362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n"l.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76320" y="17524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76320" y="38098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6320" y="274320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76320" y="4876920"/>
            <a:ext cx="30456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6320" y="60199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" name=""/>
          <p:cNvSpPr/>
          <p:nvPr/>
        </p:nvSpPr>
        <p:spPr>
          <a:xfrm>
            <a:off x="4800600" y="25146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800600" y="685800"/>
            <a:ext cx="411480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lur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00600" y="14479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00600" y="137160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nb.y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781680" y="1706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y’ll buil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00600" y="35812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800600" y="35053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nb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530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a’ll will buil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800600" y="46483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29400" y="49068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a’ll will buil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800600" y="57150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800600" y="56386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n&lt;b.n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629400" y="59738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e will buil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724280" y="4572000"/>
            <a:ext cx="23623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n"yn&lt;b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28335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y’ll buil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24280" y="2482920"/>
            <a:ext cx="23623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n"yn&lt;b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219320" y="7632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rong Verb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181480" y="7632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ak Verb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%L'-hn&lt;b.a, tyIB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943240" y="2438280"/>
            <a:ext cx="1143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ho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733920" y="243828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will buil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981080" y="243828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you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200400" y="3809880"/>
            <a:ext cx="248616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 Samuel 7:27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joq.y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4343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e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^yT,x.T; !Tea, rv,a] ^n&gt;Bi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7238520" y="1371600"/>
            <a:ext cx="1143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410080" y="137160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581280" y="137160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will giv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200400" y="5678640"/>
            <a:ext cx="2486160" cy="87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 Kings 5:5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78" name=""/>
          <p:cNvSpPr/>
          <p:nvPr/>
        </p:nvSpPr>
        <p:spPr>
          <a:xfrm>
            <a:off x="1371600" y="137160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der you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17524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hn&lt;b.yI-aWh ^a,s.Ki-l[;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4290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ymiv.li tyIB;h;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297180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05520" y="297180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thron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48120" y="297180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95280" y="304812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will buil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05520" y="464832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hous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48120" y="464832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my nam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![;n"K. rWra' rm,aYOw::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248160" y="1371600"/>
            <a:ext cx="1143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he sa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09880" y="137160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se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52480" y="137160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e) Canaa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895480" y="5638680"/>
            <a:ext cx="312444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enesis 9:25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17524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800" spc="-1" strike="noStrike">
                <a:solidFill>
                  <a:srgbClr val="ccffff"/>
                </a:solidFill>
                <a:latin typeface="Bwhebb"/>
              </a:rPr>
              <a:t>yx'a,l. hy&lt;h.yI ~ydIb'[] db,[,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543800" y="297180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lav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81480" y="297180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slave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895480" y="304812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will b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304812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his brother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yhel{a/ hA"hy&gt; %WrB' rm,aYOw: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238520" y="1371600"/>
            <a:ext cx="1143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he sa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029200" y="137160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esse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895480" y="137160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e the) LOR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2895480" y="5638680"/>
            <a:ext cx="312444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enesis 9:26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" y="137160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17524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800" spc="-1" strike="noStrike">
                <a:solidFill>
                  <a:srgbClr val="ccffff"/>
                </a:solidFill>
                <a:latin typeface="Bwhebb"/>
              </a:rPr>
              <a:t>ml' db,[, ![;n:k. yhiywI ~ve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43800" y="297180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f) Shem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19920" y="297180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he will b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114800" y="304812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aa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209680" y="304812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lav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" y="304812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him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!Kov.yIw&gt; tp,y&lt;l. ~yhil{a/ T.p.y: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7543440" y="1371600"/>
            <a:ext cx="1143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will enla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486400" y="137160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895480" y="137160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Japheth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895480" y="5638680"/>
            <a:ext cx="312444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enesis 9:27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1295280"/>
            <a:ext cx="1371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he will dwell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17524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800" spc="-1" strike="noStrike">
                <a:solidFill>
                  <a:srgbClr val="ccffff"/>
                </a:solidFill>
                <a:latin typeface="Bwhebb"/>
              </a:rPr>
              <a:t>![;n:k. yhiywI ~ve-yleh\a'B.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400800" y="3048120"/>
            <a:ext cx="1676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the ten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297180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f) Shem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971800" y="297180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he will b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219320" y="304812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aa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3581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800" spc="-1" strike="noStrike">
                <a:solidFill>
                  <a:srgbClr val="ccffff"/>
                </a:solidFill>
                <a:latin typeface="Bwhebb"/>
              </a:rPr>
              <a:t>Aml' db,[,.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76920" y="4876920"/>
            <a:ext cx="1143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lav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048120" y="4876920"/>
            <a:ext cx="1143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him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2666880" y="2438280"/>
            <a:ext cx="3805200" cy="822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cabular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a;G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819520" y="4343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o redeem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a;G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38080" y="3505320"/>
            <a:ext cx="746784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f thy brother be waxen poor, and hath sold away 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some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of his possession, and if any of his kin come to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redeem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it, then shall he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redeem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that which his brother sold (Leviticus 25:25 KJV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5699160" y="3476520"/>
            <a:ext cx="175248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038480" y="4495680"/>
            <a:ext cx="2286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a;G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38080" y="3505320"/>
            <a:ext cx="74678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Or in case a man has no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kinsman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, but so recovers his means as to find sufficient for its redemption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Leviticus 25:26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2133720" y="5105520"/>
            <a:ext cx="2057400" cy="2288520"/>
            <a:chOff x="2133720" y="5105520"/>
            <a:chExt cx="2057400" cy="2288520"/>
          </a:xfrm>
        </p:grpSpPr>
        <p:sp>
          <p:nvSpPr>
            <p:cNvPr id="433" name=""/>
            <p:cNvSpPr/>
            <p:nvPr/>
          </p:nvSpPr>
          <p:spPr>
            <a:xfrm>
              <a:off x="2438280" y="5257800"/>
              <a:ext cx="1447920" cy="99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133720" y="5105520"/>
              <a:ext cx="2057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Bwhebb"/>
                </a:rPr>
                <a:t>la;G"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5562720" y="5562720"/>
            <a:ext cx="2057400" cy="2288520"/>
            <a:chOff x="5562720" y="5562720"/>
            <a:chExt cx="2057400" cy="2288520"/>
          </a:xfrm>
        </p:grpSpPr>
        <p:sp>
          <p:nvSpPr>
            <p:cNvPr id="436" name=""/>
            <p:cNvSpPr/>
            <p:nvPr/>
          </p:nvSpPr>
          <p:spPr>
            <a:xfrm>
              <a:off x="5715000" y="5715000"/>
              <a:ext cx="1752480" cy="977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20019"/>
                </a:gs>
                <a:gs pos="100000">
                  <a:srgbClr val="3b000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62720" y="5562720"/>
              <a:ext cx="2057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Bwhebb"/>
                </a:rPr>
                <a:t>hL'auG&gt;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3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a;G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38080" y="3505320"/>
            <a:ext cx="746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ities shall be to you as a refuge from the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aveng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so that the manslayer will not die until he stands before the congregation for trial (Numbers 35:12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762120" y="3505320"/>
            <a:ext cx="510516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a;G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38080" y="3505320"/>
            <a:ext cx="746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lood avenger himself shall put the murderer to death; he shall put him to death when he meets hi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umbers 35:12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3505320" y="5410080"/>
            <a:ext cx="4267080" cy="3110400"/>
            <a:chOff x="3505320" y="5410080"/>
            <a:chExt cx="4267080" cy="3110400"/>
          </a:xfrm>
        </p:grpSpPr>
        <p:sp>
          <p:nvSpPr>
            <p:cNvPr id="444" name=""/>
            <p:cNvSpPr/>
            <p:nvPr/>
          </p:nvSpPr>
          <p:spPr>
            <a:xfrm>
              <a:off x="3657600" y="5518080"/>
              <a:ext cx="396252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05320" y="5410080"/>
              <a:ext cx="4267080" cy="31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cffff"/>
                  </a:solidFill>
                  <a:latin typeface="Bwhebb"/>
                </a:rPr>
                <a:t>aWh ~D"h; laeGO</a:t>
              </a:r>
              <a:endParaRPr b="0" lang="en-US" sz="6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0" y="426708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ose girls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You girls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19494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n"l.joq.T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7620120" y="4495680"/>
            <a:ext cx="6858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38080" y="5029200"/>
            <a:ext cx="44960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a;G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38080" y="3505320"/>
            <a:ext cx="746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aid, “Who are you?” And she answered, “I am Ruth your maid. So spread your covering over your maid, for you are a close relative.” (Ruth 3:9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419720" y="5607000"/>
            <a:ext cx="4267080" cy="2104920"/>
            <a:chOff x="4419720" y="5607000"/>
            <a:chExt cx="4267080" cy="2104920"/>
          </a:xfrm>
        </p:grpSpPr>
        <p:sp>
          <p:nvSpPr>
            <p:cNvPr id="451" name=""/>
            <p:cNvSpPr/>
            <p:nvPr/>
          </p:nvSpPr>
          <p:spPr>
            <a:xfrm>
              <a:off x="4572000" y="5715000"/>
              <a:ext cx="396252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419720" y="5607000"/>
              <a:ext cx="42670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cffff"/>
                  </a:solidFill>
                  <a:latin typeface="Bwhebb"/>
                </a:rPr>
                <a:t>hT'a' laegO yKi</a:t>
              </a:r>
              <a:endParaRPr b="0" lang="en-US" sz="6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838080" y="3505320"/>
            <a:ext cx="69343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a;G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8080" y="3505320"/>
            <a:ext cx="746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s for me, I know that my Redeemer lives,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at the last He will take His stand on the earth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590920" y="5334120"/>
            <a:ext cx="5867280" cy="3110400"/>
            <a:chOff x="2590920" y="5334120"/>
            <a:chExt cx="5867280" cy="3110400"/>
          </a:xfrm>
        </p:grpSpPr>
        <p:sp>
          <p:nvSpPr>
            <p:cNvPr id="457" name=""/>
            <p:cNvSpPr/>
            <p:nvPr/>
          </p:nvSpPr>
          <p:spPr>
            <a:xfrm>
              <a:off x="2743200" y="5442120"/>
              <a:ext cx="5562720" cy="95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90920" y="5334120"/>
              <a:ext cx="5867280" cy="31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6600" spc="-1" strike="noStrike">
                  <a:solidFill>
                    <a:srgbClr val="ccffff"/>
                  </a:solidFill>
                  <a:latin typeface="Bwhebb"/>
                </a:rPr>
                <a:t>yx' ylia]GO yTi[.d:y" ynIa]w:</a:t>
              </a:r>
              <a:endParaRPr b="0" lang="en-US" sz="6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838080" y="3505320"/>
            <a:ext cx="64771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a;G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38080" y="3505320"/>
            <a:ext cx="7467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r your husband is your Maker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ose name is the LORD of hosts;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your Redeemer is the Holy One of Israel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o is called the God of all the earth. (Isaiah 54:5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3581280" y="0"/>
            <a:ext cx="5105520" cy="3872520"/>
            <a:chOff x="3581280" y="0"/>
            <a:chExt cx="5105520" cy="3872520"/>
          </a:xfrm>
        </p:grpSpPr>
        <p:sp>
          <p:nvSpPr>
            <p:cNvPr id="463" name=""/>
            <p:cNvSpPr/>
            <p:nvPr/>
          </p:nvSpPr>
          <p:spPr>
            <a:xfrm>
              <a:off x="3657600" y="108000"/>
              <a:ext cx="4800600" cy="1720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33920" y="0"/>
              <a:ext cx="49528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6600" spc="-1" strike="noStrike">
                  <a:solidFill>
                    <a:srgbClr val="ccffff"/>
                  </a:solidFill>
                  <a:latin typeface="Bwhebb"/>
                </a:rPr>
                <a:t>%yIf;[o %yIl;[]bo yKi</a:t>
              </a:r>
              <a:endParaRPr b="0" lang="en-US" sz="6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81280" y="762120"/>
              <a:ext cx="4953240" cy="31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6600" spc="-1" strike="noStrike">
                  <a:solidFill>
                    <a:srgbClr val="ccffff"/>
                  </a:solidFill>
                  <a:latin typeface="Bwhebb"/>
                </a:rPr>
                <a:t>Amv. tAab'c.</a:t>
              </a:r>
              <a:r>
                <a:rPr b="0" lang="en-US" sz="6600" spc="-1" strike="noStrike">
                  <a:solidFill>
                    <a:srgbClr val="ccffff"/>
                  </a:solidFill>
                  <a:latin typeface="Bwhebb"/>
                </a:rPr>
                <a:t> hw"hy&gt;</a:t>
              </a:r>
              <a:endParaRPr b="0" lang="en-US" sz="6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762120" y="4572000"/>
            <a:ext cx="73152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a;G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38080" y="3505320"/>
            <a:ext cx="7467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r your husband is your Maker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ose name is the LORD of hosts;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your Redeemer is the Holy One of Israel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o is called the God of all the earth. (Isaiah 54:5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2743200" y="349200"/>
            <a:ext cx="5943600" cy="2104920"/>
            <a:chOff x="2743200" y="349200"/>
            <a:chExt cx="5943600" cy="2104920"/>
          </a:xfrm>
        </p:grpSpPr>
        <p:sp>
          <p:nvSpPr>
            <p:cNvPr id="470" name=""/>
            <p:cNvSpPr/>
            <p:nvPr/>
          </p:nvSpPr>
          <p:spPr>
            <a:xfrm>
              <a:off x="3048120" y="380880"/>
              <a:ext cx="541008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743200" y="349200"/>
              <a:ext cx="594360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6600" spc="-1" strike="noStrike">
                  <a:solidFill>
                    <a:srgbClr val="ccffff"/>
                  </a:solidFill>
                  <a:latin typeface="Bwhebb"/>
                </a:rPr>
                <a:t>laer"f.yI vAdq. %lea]gOw&gt;</a:t>
              </a:r>
              <a:endParaRPr b="0" lang="en-US" sz="6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aj'x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81080" y="43434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o sin, miss the mark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981080" y="5105520"/>
            <a:ext cx="5181480" cy="1312920"/>
            <a:chOff x="1981080" y="5105520"/>
            <a:chExt cx="5181480" cy="1312920"/>
          </a:xfrm>
        </p:grpSpPr>
        <p:sp>
          <p:nvSpPr>
            <p:cNvPr id="475" name=""/>
            <p:cNvSpPr/>
            <p:nvPr/>
          </p:nvSpPr>
          <p:spPr>
            <a:xfrm>
              <a:off x="1981080" y="5105520"/>
              <a:ext cx="2286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ffff"/>
                  </a:solidFill>
                  <a:latin typeface="Bwhebb"/>
                </a:rPr>
                <a:t>aJ'x;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04960" y="5516640"/>
              <a:ext cx="365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200" spc="-1" strike="noStrike">
                  <a:solidFill>
                    <a:srgbClr val="ccffff"/>
                  </a:solidFill>
                  <a:latin typeface="Arial"/>
                </a:rPr>
                <a:t> Sinful, sinner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aj'x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990720" y="3521160"/>
            <a:ext cx="693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 of all these people 700 choice men were left-handed; each one could sling a stone at a hair and not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mi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Judges 20:16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aj'x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95280" y="3505320"/>
            <a:ext cx="723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st You, You only, I have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sinn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done what is evil in Your sight,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at You are justified when You speak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blameless when You judge (Psalm 51:6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aj'x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914400" y="35053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now, and let us reason together,” Says the LORD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gh your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si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as scarlet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ill be as white as snow;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gh they are red like crimson,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ill be like wool” (Isaiah 1:18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@s;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981080" y="43434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o add, again, furthe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@s;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3581280"/>
            <a:ext cx="6705720" cy="2837160"/>
            <a:chOff x="1295280" y="3581280"/>
            <a:chExt cx="6705720" cy="2837160"/>
          </a:xfrm>
        </p:grpSpPr>
        <p:sp>
          <p:nvSpPr>
            <p:cNvPr id="487" name=""/>
            <p:cNvSpPr/>
            <p:nvPr/>
          </p:nvSpPr>
          <p:spPr>
            <a:xfrm>
              <a:off x="1295280" y="3581280"/>
              <a:ext cx="670572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“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When you cultivate the ground, it will no longer [                ] yield its strength to you; you will be a vagrant and a wanderer on the earth.” (Genesis 4:12).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48320" y="3962520"/>
              <a:ext cx="20574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cffff"/>
                  </a:solidFill>
                  <a:latin typeface="Bwhebb"/>
                </a:rPr>
                <a:t>@seto-al{</a:t>
              </a:r>
              <a:endParaRPr b="0" lang="en-US" sz="60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0" y="4267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e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2330280"/>
            <a:ext cx="365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joq.n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@s;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371600" y="3276720"/>
            <a:ext cx="6477120" cy="3384360"/>
            <a:chOff x="1371600" y="3276720"/>
            <a:chExt cx="6477120" cy="3384360"/>
          </a:xfrm>
        </p:grpSpPr>
        <p:sp>
          <p:nvSpPr>
            <p:cNvPr id="491" name=""/>
            <p:cNvSpPr/>
            <p:nvPr/>
          </p:nvSpPr>
          <p:spPr>
            <a:xfrm>
              <a:off x="1371600" y="3276720"/>
              <a:ext cx="6477120" cy="33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And she called his name Joseph [           ]; and said, “The LORD shall add [         ] to me another son” (Genesis 30:24 KJV).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05320" y="3778200"/>
              <a:ext cx="17524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cffff"/>
                  </a:solidFill>
                  <a:latin typeface="Bwhebb"/>
                </a:rPr>
                <a:t>@seAy</a:t>
              </a:r>
              <a:endParaRPr b="0" lang="en-US" sz="6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43600" y="4451400"/>
              <a:ext cx="16765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cffff"/>
                  </a:solidFill>
                  <a:latin typeface="Bwhebb"/>
                </a:rPr>
                <a:t>@s;y"</a:t>
              </a:r>
              <a:endParaRPr b="0" lang="en-US" sz="6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@s;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1905120" y="3200400"/>
            <a:ext cx="6476760" cy="3384360"/>
            <a:chOff x="1905120" y="3200400"/>
            <a:chExt cx="6476760" cy="3384360"/>
          </a:xfrm>
        </p:grpSpPr>
        <p:sp>
          <p:nvSpPr>
            <p:cNvPr id="496" name=""/>
            <p:cNvSpPr/>
            <p:nvPr/>
          </p:nvSpPr>
          <p:spPr>
            <a:xfrm>
              <a:off x="1905120" y="3200400"/>
              <a:ext cx="6476760" cy="33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A wise man will hear and </a:t>
              </a:r>
              <a:r>
                <a:rPr b="1" lang="en-US" sz="3600" spc="-1" strike="noStrike">
                  <a:solidFill>
                    <a:srgbClr val="ccffff"/>
                  </a:solidFill>
                  <a:latin typeface="Arial"/>
                </a:rPr>
                <a:t>increase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[         ] in learning,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And a man of understanding will acquire wise counsel (Proverbs 5:6).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429000" y="3687840"/>
              <a:ext cx="2590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@s;y"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vr'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905120" y="380988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nheri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vr'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09480" y="380988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bram said, “Since You have given no offspring to me, one born in my house is my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hei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” (Genesis 15:3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vr'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838080" y="380988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said to him, “I am the LORD who brought you out of Ur of the Chaldeans, to give you this land to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poss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.”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enesis 15:7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vr'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990720" y="3657600"/>
            <a:ext cx="7619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emy said, ‘I will pursue, I will overtake, I will divide the spoil;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desire shall be gratified against them;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draw out my sword, my hand will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destro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m.’” (Exodus 15:9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vr'y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990720" y="3657600"/>
            <a:ext cx="761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love sleep, or you will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beco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po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your eyes, and you will be satisfied with food. (Proverbs 20:13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rp;K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905120" y="380988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o cover, aton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2209680" y="5410080"/>
            <a:ext cx="4495680" cy="2288520"/>
            <a:chOff x="2209680" y="5410080"/>
            <a:chExt cx="4495680" cy="2288520"/>
          </a:xfrm>
        </p:grpSpPr>
        <p:sp>
          <p:nvSpPr>
            <p:cNvPr id="511" name=""/>
            <p:cNvSpPr/>
            <p:nvPr/>
          </p:nvSpPr>
          <p:spPr>
            <a:xfrm>
              <a:off x="2209680" y="5410080"/>
              <a:ext cx="2133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Bwhebb"/>
                </a:rPr>
                <a:t>rPuKio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33560" y="571500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WP TypographicSymbols"/>
                </a:rPr>
                <a:t>B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Atonement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2286000" y="4419720"/>
            <a:ext cx="5562720" cy="2288520"/>
            <a:chOff x="2286000" y="4419720"/>
            <a:chExt cx="5562720" cy="2288520"/>
          </a:xfrm>
        </p:grpSpPr>
        <p:sp>
          <p:nvSpPr>
            <p:cNvPr id="514" name=""/>
            <p:cNvSpPr/>
            <p:nvPr/>
          </p:nvSpPr>
          <p:spPr>
            <a:xfrm>
              <a:off x="2286000" y="4419720"/>
              <a:ext cx="2133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Bwhebb"/>
                </a:rPr>
                <a:t>rp,Ko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809880" y="4724640"/>
              <a:ext cx="4038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WP TypographicSymbols"/>
                </a:rPr>
                <a:t>B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Covering, ransom, bribe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rp;K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762120" y="3657600"/>
            <a:ext cx="7467480" cy="3370680"/>
            <a:chOff x="762120" y="3657600"/>
            <a:chExt cx="7467480" cy="3370680"/>
          </a:xfrm>
        </p:grpSpPr>
        <p:sp>
          <p:nvSpPr>
            <p:cNvPr id="518" name=""/>
            <p:cNvSpPr/>
            <p:nvPr/>
          </p:nvSpPr>
          <p:spPr>
            <a:xfrm>
              <a:off x="762120" y="3657600"/>
              <a:ext cx="74674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Make for yourself an ark of gopher wood; you shall make the ark with rooms, and shall cover [           ] it inside and out with pitch [            ] (Genesis 6:14).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91320" y="4556160"/>
              <a:ext cx="17524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cffff"/>
                  </a:solidFill>
                  <a:latin typeface="Bwhebb"/>
                </a:rPr>
                <a:t>T'r&gt;p;k'</a:t>
              </a:r>
              <a:endParaRPr b="0" lang="en-US" sz="6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9920" y="5105520"/>
              <a:ext cx="19047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cffff"/>
                  </a:solidFill>
                  <a:latin typeface="Bwhebb"/>
                </a:rPr>
                <a:t>rp,KoB;</a:t>
              </a:r>
              <a:endParaRPr b="0" lang="en-US" sz="60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rp;K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62120" y="3657600"/>
            <a:ext cx="746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e said, “I will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appea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im with the present that goes before me. Then afterward I will see his face; perhaps he will accept me.” (Genesis 32:20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743200" y="42670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2101680"/>
            <a:ext cx="3124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joq.a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rp;K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62120" y="3657600"/>
            <a:ext cx="746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t is on this day that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aton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all be made for you to cleanse you; you will be clean from all your sins before the LORD (Leviticus 16:30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rp;K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62120" y="3657600"/>
            <a:ext cx="7467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life of the flesh is in the blood, and I have given it to you on the altar to make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aton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your souls; for it is the blood by reason of the life that makes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aton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Leviticus 17:11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rp;K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523880" y="3352680"/>
            <a:ext cx="7010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jealousy enrages a man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will not spare in the day of vengeance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ll not accept any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rans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 will he be satisfied though you give many gifts. (Proverbs 6:34-35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rp;K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990720" y="3657600"/>
            <a:ext cx="7162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touched my mouth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ith 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aid, “Behold, this has touched your lips; and your iniquity is taken away and your sin is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forgiv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” (Isaiah 6:6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rp;K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1295280" y="3505320"/>
            <a:ext cx="7162920" cy="3202200"/>
            <a:chOff x="1295280" y="3505320"/>
            <a:chExt cx="7162920" cy="3202200"/>
          </a:xfrm>
        </p:grpSpPr>
        <p:sp>
          <p:nvSpPr>
            <p:cNvPr id="533" name=""/>
            <p:cNvSpPr/>
            <p:nvPr/>
          </p:nvSpPr>
          <p:spPr>
            <a:xfrm>
              <a:off x="1295280" y="3505320"/>
              <a:ext cx="7162920" cy="30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For I know your transgressions are many and your sins are great, 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ff"/>
                  </a:solidFill>
                  <a:latin typeface="Arial"/>
                </a:rPr>
                <a:t>You 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who distress the righteous 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Arial"/>
                </a:rPr>
                <a:t>and 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ccept </a:t>
              </a:r>
              <a:r>
                <a:rPr b="1" lang="en-US" sz="3200" spc="-1" strike="noStrike">
                  <a:solidFill>
                    <a:srgbClr val="ccffff"/>
                  </a:solidFill>
                  <a:latin typeface="Arial"/>
                </a:rPr>
                <a:t>bribes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[          ]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nd turn aside the poor in the gate (Amos 5:12).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06800" y="4784760"/>
              <a:ext cx="15238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cffff"/>
                  </a:solidFill>
                  <a:latin typeface="Bwhebb"/>
                </a:rPr>
                <a:t>rp,ko</a:t>
              </a:r>
              <a:endParaRPr b="0" lang="en-US" sz="60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j"n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905120" y="380988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o spread out, pitch (a tent), exten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j"n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80880" y="342900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he proceeded from there to the mountain on the east of Bethel, and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pitch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is tent, with Bethel on the west and Ai on the east; and there he built an altar to the LORD and called upon the name of the LORD. (Genesis 12:8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j"n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0880" y="342900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may it be that the girl to whom I say, ‘Please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let dow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r jar so that I may drink,’ and who answers, ‘Drink, and I will water your camels also’ --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e the on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m You have appointed for Your servant Isaac…” (Genesis 24:14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j"n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85800" y="367344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 LORD was with Joseph and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extend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indness to him, and gave him favor in the sight of the chief jailer (Genesis 39:21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j"n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143000" y="3505320"/>
            <a:ext cx="7010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the LORD, and I will bring you out from under the burdens of the Egyptians, and I will deliver you from their bondage. I will also redeem you with an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outstretch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m and with great judgments” (Exodus 6:6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0" y="4267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You guys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54320"/>
            <a:ext cx="4038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Wlj.q.T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j"n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066680" y="38862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my prayer come before You;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Incl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r ear to my cry! (Psalm 88:2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j"n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066680" y="38862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ing’s heart i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nels of water in the hand of the LORD;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tur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wherever He wishes (Proverbs 21:1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j"n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295280" y="3505320"/>
            <a:ext cx="7162920" cy="3202200"/>
            <a:chOff x="1295280" y="3505320"/>
            <a:chExt cx="7162920" cy="3202200"/>
          </a:xfrm>
        </p:grpSpPr>
        <p:sp>
          <p:nvSpPr>
            <p:cNvPr id="551" name=""/>
            <p:cNvSpPr/>
            <p:nvPr/>
          </p:nvSpPr>
          <p:spPr>
            <a:xfrm>
              <a:off x="1295280" y="3505320"/>
              <a:ext cx="7162920" cy="30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For I know your transgressions are many and your sins are great, 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ff"/>
                  </a:solidFill>
                  <a:latin typeface="Arial"/>
                </a:rPr>
                <a:t>You 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who distress the righteous 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Arial"/>
                </a:rPr>
                <a:t>and 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ccept bribes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[          ]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nd </a:t>
              </a:r>
              <a:r>
                <a:rPr b="1" lang="en-US" sz="3200" spc="-1" strike="noStrike">
                  <a:solidFill>
                    <a:srgbClr val="ccffff"/>
                  </a:solidFill>
                  <a:latin typeface="Arial"/>
                </a:rPr>
                <a:t>turn aside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the poor in the gate (Amos 5:12).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006800" y="4784760"/>
              <a:ext cx="15238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cffff"/>
                  </a:solidFill>
                  <a:latin typeface="Bwhebb"/>
                </a:rPr>
                <a:t>rp,ko</a:t>
              </a:r>
              <a:endParaRPr b="0" lang="en-US" sz="60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bz:[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905120" y="380988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o leav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bz:[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38080" y="380988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is reason a man shall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leav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father and his mother, and be joined to his wife; and they shall become one flesh (Genesis 2:24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bz:[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62120" y="380988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man will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e able t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 before you all the days of your life. Just as I have been with Moses, I will be with you; I will not fail you or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forsak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” (Joshua 1:5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bz:[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380988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God, my God, why have You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forsak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?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 from my deliverance are the words of my groaning (Psalm 22:1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62120" y="7632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ynIT'b.z:[] hm'l' yliae yliae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br;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828800" y="38098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o approach, come nea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2133720" y="4525920"/>
            <a:ext cx="5638680" cy="2288520"/>
            <a:chOff x="2133720" y="4525920"/>
            <a:chExt cx="5638680" cy="2288520"/>
          </a:xfrm>
        </p:grpSpPr>
        <p:sp>
          <p:nvSpPr>
            <p:cNvPr id="565" name=""/>
            <p:cNvSpPr/>
            <p:nvPr/>
          </p:nvSpPr>
          <p:spPr>
            <a:xfrm>
              <a:off x="2133720" y="4525920"/>
              <a:ext cx="2057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br,q,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657600" y="4906800"/>
              <a:ext cx="411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200" spc="-1" strike="noStrike">
                  <a:solidFill>
                    <a:srgbClr val="ccffff"/>
                  </a:solidFill>
                  <a:latin typeface="Arial"/>
                </a:rPr>
                <a:t> Among, inner part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br;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914400" y="367344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ame about when 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me ne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Egypt, that he said to Sarai his wife, “See now, I know that you are a beautiful woman…” (Genesis 12:11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br;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367344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Abimelech had no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e ne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r; and he said, “Lord, will You slay a nation, eve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oug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meless?” (Genesis 20:4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0" y="4267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ose guys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2025720"/>
            <a:ext cx="335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Wlj.q.y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br;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914400" y="367344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you shall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burnt offering, an offering by fire, as a soothing aroma to the LORD (Numbers 29:36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br,q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914400" y="3776760"/>
            <a:ext cx="7543800" cy="3281040"/>
            <a:chOff x="914400" y="3776760"/>
            <a:chExt cx="7543800" cy="3281040"/>
          </a:xfrm>
        </p:grpSpPr>
        <p:sp>
          <p:nvSpPr>
            <p:cNvPr id="575" name=""/>
            <p:cNvSpPr/>
            <p:nvPr/>
          </p:nvSpPr>
          <p:spPr>
            <a:xfrm>
              <a:off x="914400" y="3776760"/>
              <a:ext cx="754380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reate in me a clean heart, O God, 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  <a:p>
              <a:pPr algn="just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And renew a steadfast spirit 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within me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[               ] (Psalm 51:12).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20800" y="4952880"/>
              <a:ext cx="23623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Bwhebb"/>
                </a:rPr>
                <a:t>yBir&gt;qiB.</a:t>
              </a:r>
              <a:endParaRPr b="0" lang="en-US" sz="6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b'r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38098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o multiply, become numerou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b'r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914400" y="3809880"/>
            <a:ext cx="746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God blessed them, and God said unto them, “Be fruitful, 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p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replenish the earth, and subdue it” (Genesis 1:28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b'r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914400" y="3809880"/>
            <a:ext cx="7635960" cy="2288160"/>
            <a:chOff x="914400" y="3809880"/>
            <a:chExt cx="7635960" cy="2288160"/>
          </a:xfrm>
        </p:grpSpPr>
        <p:sp>
          <p:nvSpPr>
            <p:cNvPr id="583" name=""/>
            <p:cNvSpPr/>
            <p:nvPr/>
          </p:nvSpPr>
          <p:spPr>
            <a:xfrm>
              <a:off x="914400" y="3809880"/>
              <a:ext cx="746748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To the woman He said, “I will 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greatly multiply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[                         ] Your pain in childbirth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” (Genesis 3:16).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282920" y="4175280"/>
              <a:ext cx="42674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Bwhebb"/>
                </a:rPr>
                <a:t>hB,r&gt;a; hB'r&gt;h;</a:t>
              </a:r>
              <a:endParaRPr b="0" lang="en-US" sz="60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b'r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219320" y="3657600"/>
            <a:ext cx="7010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as for you, Daniel, conceal these words and seal up the book until the end of time; many will go back and forth, and knowledge will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” (Daniel 12:4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b'r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914400" y="3657600"/>
            <a:ext cx="7467480" cy="3675600"/>
            <a:chOff x="914400" y="3657600"/>
            <a:chExt cx="7467480" cy="3675600"/>
          </a:xfrm>
        </p:grpSpPr>
        <p:sp>
          <p:nvSpPr>
            <p:cNvPr id="589" name=""/>
            <p:cNvSpPr/>
            <p:nvPr/>
          </p:nvSpPr>
          <p:spPr>
            <a:xfrm>
              <a:off x="914400" y="3657600"/>
              <a:ext cx="746748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fter these things the word of the LORD came to Abram in a vision, saying, “Do not fear, Abram, I am a shield to you; Your reward shall be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very great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[                         ]” (Genesis 15:1).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84360" y="5410440"/>
              <a:ext cx="32004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Bwhebb"/>
                </a:rPr>
                <a:t>daom. hBer&gt;h;</a:t>
              </a:r>
              <a:endParaRPr b="0" lang="en-US" sz="60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t'v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28800" y="38098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o drink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~m;T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905120" y="38098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e finished, completed, be consume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~m;T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05120" y="3809880"/>
            <a:ext cx="541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hen that yea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ed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Genesis 47:18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43200" y="42670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You (girl) will 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187308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ylij.q.T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~m;T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990720" y="3809880"/>
            <a:ext cx="7238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strength will b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selessly, for your land will not yield its produce and the trees of the land will not yield their fruit (Leviticus 26:20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~m;T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33520" y="3429000"/>
            <a:ext cx="815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he time that it took for us to come from Kadesh-barnea until we crossed over the brook Zered was thirty-eight years, until all the generation of the men of wa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sh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within the camp, as the LORD had sworn to them (Deuteronomy 2:14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~m;T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676520" y="3429000"/>
            <a:ext cx="6705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keep back Thy servant from presumptuou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m not rule over me;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I shall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 blamel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 shall be acquitted of great transgression (Psalm 19:13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~m;T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1066680" y="3505320"/>
            <a:ext cx="7239240" cy="2438280"/>
            <a:chOff x="1066680" y="3505320"/>
            <a:chExt cx="7239240" cy="2438280"/>
          </a:xfrm>
        </p:grpSpPr>
        <p:sp>
          <p:nvSpPr>
            <p:cNvPr id="605" name=""/>
            <p:cNvSpPr/>
            <p:nvPr/>
          </p:nvSpPr>
          <p:spPr>
            <a:xfrm>
              <a:off x="1066680" y="3505320"/>
              <a:ext cx="72392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The LORD'S lovingkindnesses indeed 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never cease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[                   ],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For His compassions never fail (Lamentations 3:22).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410080" y="3838680"/>
              <a:ext cx="274320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Bwhebb"/>
                </a:rPr>
                <a:t>Wnm.t'-al{</a:t>
              </a:r>
              <a:endParaRPr b="0" lang="en-US" sz="6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@K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1905120" y="3809880"/>
            <a:ext cx="5410080" cy="2256480"/>
            <a:chOff x="1905120" y="3809880"/>
            <a:chExt cx="5410080" cy="2256480"/>
          </a:xfrm>
        </p:grpSpPr>
        <p:sp>
          <p:nvSpPr>
            <p:cNvPr id="609" name=""/>
            <p:cNvSpPr/>
            <p:nvPr/>
          </p:nvSpPr>
          <p:spPr>
            <a:xfrm>
              <a:off x="1905120" y="3809880"/>
              <a:ext cx="541008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Palm of one’s hand or sole of foot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(also the letter     )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486400" y="4875120"/>
              <a:ext cx="1143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k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[;r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905120" y="35812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Friend, companion, neighbo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2133720" y="5181480"/>
            <a:ext cx="5257800" cy="2288520"/>
            <a:chOff x="2133720" y="5181480"/>
            <a:chExt cx="5257800" cy="2288520"/>
          </a:xfrm>
        </p:grpSpPr>
        <p:sp>
          <p:nvSpPr>
            <p:cNvPr id="614" name=""/>
            <p:cNvSpPr/>
            <p:nvPr/>
          </p:nvSpPr>
          <p:spPr>
            <a:xfrm>
              <a:off x="2133720" y="5181480"/>
              <a:ext cx="16002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h['r'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429000" y="5516640"/>
              <a:ext cx="396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200" spc="-1" strike="noStrike">
                  <a:solidFill>
                    <a:srgbClr val="ccffff"/>
                  </a:solidFill>
                  <a:latin typeface="Arial"/>
                </a:rPr>
                <a:t> To associate with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[;r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905120" y="35812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Friend, companion, neighbo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80880" y="4952880"/>
            <a:ext cx="8305920" cy="2104920"/>
            <a:chOff x="380880" y="4952880"/>
            <a:chExt cx="8305920" cy="2104920"/>
          </a:xfrm>
        </p:grpSpPr>
        <p:sp>
          <p:nvSpPr>
            <p:cNvPr id="619" name=""/>
            <p:cNvSpPr/>
            <p:nvPr/>
          </p:nvSpPr>
          <p:spPr>
            <a:xfrm>
              <a:off x="380880" y="5213520"/>
              <a:ext cx="8305920" cy="64260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Not to be confused with       (Evil).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67280" y="4952880"/>
              <a:ext cx="9907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cffff"/>
                  </a:solidFill>
                  <a:latin typeface="Bwhebb"/>
                </a:rPr>
                <a:t>[r;</a:t>
              </a:r>
              <a:endParaRPr b="0" lang="en-US" sz="6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[;r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914400" y="3567240"/>
            <a:ext cx="7315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hall not take vengeance, nor bear any grudge against the sons of your people, but you shall love you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ighb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s yourself; I am the LORD (Leviticus 19:18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[;r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914400" y="356724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, let Us go down and there confuse their language, so that they will not underst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e another’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peech.” (Genesis 11:7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33520" y="763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Wh[erE tp;f. vyai W[m.v.yI al{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39152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No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638680" y="1143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hey will hear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03848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 ma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590920" y="1143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li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914400" y="1143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(of) his neighbor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dg&lt;n&l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905120" y="3581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Opposite, in front of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2133720" y="4419720"/>
            <a:ext cx="5410080" cy="2288520"/>
            <a:chOff x="2133720" y="4419720"/>
            <a:chExt cx="5410080" cy="2288520"/>
          </a:xfrm>
        </p:grpSpPr>
        <p:sp>
          <p:nvSpPr>
            <p:cNvPr id="634" name=""/>
            <p:cNvSpPr/>
            <p:nvPr/>
          </p:nvSpPr>
          <p:spPr>
            <a:xfrm>
              <a:off x="2133720" y="4419720"/>
              <a:ext cx="1523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dg:n"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76720" y="4724280"/>
              <a:ext cx="4267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ff"/>
                  </a:solidFill>
                  <a:latin typeface="WP TypographicSymbols"/>
                </a:rPr>
                <a:t>B </a:t>
              </a:r>
              <a:r>
                <a:rPr b="0" lang="en-US" sz="3200" spc="-1" strike="noStrike">
                  <a:solidFill>
                    <a:srgbClr val="ccffff"/>
                  </a:solidFill>
                  <a:latin typeface="Arial"/>
                </a:rPr>
                <a:t>Make conspicuous, report, inform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4-01-16T21:38:21Z</dcterms:modified>
  <cp:revision>666</cp:revision>
  <dc:subject/>
  <dc:title>Discipleship Across the Lifespan</dc:title>
</cp:coreProperties>
</file>