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E81-A1CC-40EA-8BDE-CBAC0C47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42E-A240-48F4-BFD8-48AE8AA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BEA-49AE-428D-99FC-27CC26E1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445-C03C-4D71-9F7E-848BFB2C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029-B3B1-4439-8556-AFC7696F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3B5-2E4B-4B12-A235-3C1F03BB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5A1-75E7-4EBD-9788-675074A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F7D-CB4A-4C56-9686-D06364FE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910-E1ED-4ED1-9D83-EA2DDF75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55E-3E03-481F-B854-7B5B2D4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611-3CF7-47C8-928D-A03EC54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A8C-43F2-4A35-9493-EBE44FF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2C34-926B-4054-B581-973E0155EE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438280"/>
            <a:ext cx="46479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al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429000"/>
            <a:ext cx="50292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Imperfect Review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02572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girl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8730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14600" y="42670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man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190512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330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25432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4267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1949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1016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girl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18730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14600" y="42670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man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190512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29000"/>
            <a:ext cx="365760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90720"/>
            <a:ext cx="3657600" cy="7617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990720"/>
            <a:ext cx="3809880" cy="7617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752480"/>
            <a:ext cx="365760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has a suffix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1752480"/>
            <a:ext cx="380988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has a prefix &amp; sometimes a suffix as wel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352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1590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429000"/>
            <a:ext cx="3809880" cy="1905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352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41590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202572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0" y="4267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1949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1016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330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25432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202572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2330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girl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8730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42670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man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0512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114800" cy="7617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7524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152280"/>
            <a:ext cx="62053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fect Versus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67652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01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7524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6765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011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990720"/>
            <a:ext cx="4114800" cy="7617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8954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8195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154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8954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8195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3154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0384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9625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0384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42879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9625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213520"/>
            <a:ext cx="4114800" cy="1218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1814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'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516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181480"/>
            <a:ext cx="411480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14044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53341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ose men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225432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1016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02572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352680" y="16765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'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41972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42670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man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190512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4267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1949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66880" y="1981080"/>
            <a:ext cx="3810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Til.j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495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kill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girl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18730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Im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6104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686800" y="2743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4267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949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330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1016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25432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1-11T22:51:10Z</dcterms:modified>
  <cp:revision>622</cp:revision>
  <dc:subject/>
  <dc:title>Discipleship Across the Lifespan</dc:title>
</cp:coreProperties>
</file>