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29B-7A98-4267-8277-B3E4E783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8A4-7F6F-4115-A827-D5CF678F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025-EEAD-4B97-9DC6-FCD39CAD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197-9B7E-408C-9E96-188788C8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7A2-D759-4254-B360-F77D0DC6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3D2-E8EF-4C2F-ABF2-47FC37DE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DCB-0B80-459B-BA1F-E98DC569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D2D-86E3-416E-A9C0-B833B494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440-49A6-4130-8C43-F3E45E90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531-BD1D-49BF-ABAB-8D0812DB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25F-0E32-4FC7-B1B6-13987C85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2AB-1DC6-46AD-8028-A12ED035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8289-0C3B-42B5-BB57-8443752CBE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2438280"/>
            <a:ext cx="46479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al Im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3429000"/>
            <a:ext cx="32004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ong 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s on the Imperfect For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perfect has a preform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all Imperfects begin with the Hireq Vowel.  The exception is the first common singular (         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3429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s on the Imperfect For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perfect has a preform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all Imperfects begin with the Hireq Vowel.  The exception is the first common singular (         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erfects have with an “o” sound after the second rad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3429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s on the Imperfect For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perfect has a preform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all Imperfects begin with the Hireq Vowel.  The exception is the first common singular (         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erfects have with an “o” sound after the second radical (statives are an excep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certain occasions the 3mp and 2mp forms will be followed by a final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3429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60199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hebb"/>
              </a:rPr>
              <a:t>!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1752480"/>
            <a:ext cx="411480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380880"/>
            <a:ext cx="803916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gative Commands in the Im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4464000"/>
            <a:ext cx="411480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commandments (Exodus 20 &amp; Deuteronomy 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1782720"/>
            <a:ext cx="114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al{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1752480"/>
            <a:ext cx="373392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752480"/>
            <a:ext cx="114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la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895480"/>
            <a:ext cx="411480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for an absolute or permanent prohibi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895480"/>
            <a:ext cx="37339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for an immediate or non specific prohibi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464000"/>
            <a:ext cx="3733920" cy="1752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not” (Genesis 15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438280" y="1905120"/>
            <a:ext cx="449100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y"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ive, be a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y"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id to Moses, “I AM WHO I A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2670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hebb"/>
              </a:rPr>
              <a:t>hv,mo-la, ~yhil{a/ rm,aYOw: 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51814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hebb"/>
              </a:rPr>
              <a:t>hy&lt;h.a, rv,a] hy&lt;h.a,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o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able to, to endu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d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o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447920" y="32000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land could not sustain them while dwelling together, for their possessions were so great that they were no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remain together (Genesis 13: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o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47920" y="32000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make your descendants as the dust of the earth, so that if anyo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 the dust of the earth, then your descendants can also be numbered (Genesis 13: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41148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d or simple a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457200"/>
            <a:ext cx="620568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bal Asp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657600"/>
            <a:ext cx="8229600" cy="2514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…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s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en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16002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m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362320"/>
            <a:ext cx="41148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omplete a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o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47920" y="32000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said, “Your name shall no longer be Jacob, but Israel; for you have striven with God and with men and hav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vai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(Genesis 13: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705720" y="5257800"/>
            <a:ext cx="176184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iel 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ko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304560" y="30481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hw"hy&gt; yPi-ta, rbo[]l; lk;Wa al{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3000" y="5562720"/>
            <a:ext cx="273384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umbers 24:13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1752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will not be abl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1148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pass over (go beyond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42512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out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425124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5638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Balaam speaking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r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r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ame day the LOR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covenant with Abram (Genesis 15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44956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hebb"/>
              </a:rPr>
              <a:t>hw"hy&gt; tr:K' aWhh; ~AYB;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54100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hebb"/>
              </a:rPr>
              <a:t>tyrIB. ~r"b.a;-ta, 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r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33520" y="2819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as nothing in the ark except the two tablets which Moses pu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Horeb, where the LOR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a coven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the sons of Israel, when they came out of Egypt (2 Chronicles 5: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528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aer"f.yI ynEB.-~[i hw"hy&gt; tr:K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r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80520" y="29718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make an everlasting covenant with you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v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e mercies of David (Isaiah 55: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267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~l'A[ tyrIB. ~k,l' ht'r&gt;k.a,w&gt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5257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~ynIm'a/N&lt;h; dwId" ydEs.x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Ws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urn aside, le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Ws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Moses said, “I must turn aside now and see this marvelous sight, why the bush is not burned up.” (Exodus 3: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Ws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enever Moses went in before the LORD to speak with Him, he woul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of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veil until he came out; and whenever he came out and spoke to the sons of Israel what he had been commanded (Exodus 34:3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Ws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y lovingkindness shall no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dep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him, as I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ook 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i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w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Saul, whom I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remov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before you (2 Samuel 7:1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66320" y="2255760"/>
            <a:ext cx="72392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inuous action in the pres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ure te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bitual or customary action in the p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579600"/>
            <a:ext cx="657684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ses of the Im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ork or 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438280" y="4952880"/>
            <a:ext cx="4495680" cy="1066680"/>
            <a:chOff x="2438280" y="4952880"/>
            <a:chExt cx="4495680" cy="1066680"/>
          </a:xfrm>
        </p:grpSpPr>
        <p:sp>
          <p:nvSpPr>
            <p:cNvPr id="303" name=""/>
            <p:cNvSpPr/>
            <p:nvPr/>
          </p:nvSpPr>
          <p:spPr>
            <a:xfrm>
              <a:off x="2438280" y="4952880"/>
              <a:ext cx="2209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db,[,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33560" y="522576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A slave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God took the man and put him into the garden of Eden t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ltiv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and keep it. (Genesis 2: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she gave birth to his brother Abel. And Abel was a keeper of flocks, but Cain was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ll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ground (Genesis 4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b;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 said, “Certainly I will be with you, and this shall be the sign to you that it is I who have sent you: when you have brought the people out of Egypt, you shall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orsh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od at this mountain.” (Exodus 3:1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3341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hZ&lt;h; rh'h' l[; ~yhil{a/h'-ta, !Wdb.[;T;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n"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z&lt;a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981080" y="4724280"/>
            <a:ext cx="5486400" cy="1470240"/>
            <a:chOff x="1981080" y="4724280"/>
            <a:chExt cx="5486400" cy="1470240"/>
          </a:xfrm>
        </p:grpSpPr>
        <p:sp>
          <p:nvSpPr>
            <p:cNvPr id="317" name=""/>
            <p:cNvSpPr/>
            <p:nvPr/>
          </p:nvSpPr>
          <p:spPr>
            <a:xfrm>
              <a:off x="1981080" y="4724280"/>
              <a:ext cx="220968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!z:a'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8640" y="5226120"/>
              <a:ext cx="40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Listen, give ear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z&lt;a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990360" y="30481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have ears [           ], but they do not hear [                     ] (Psalm 135:17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51240" y="3619440"/>
            <a:ext cx="2971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WnyzIa]y: al{w&gt;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51240" y="2987640"/>
            <a:ext cx="198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~yIn:z&gt;a'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yI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m, r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0" y="4876920"/>
            <a:ext cx="4876920" cy="1469880"/>
            <a:chOff x="2286000" y="4876920"/>
            <a:chExt cx="4876920" cy="1469880"/>
          </a:xfrm>
        </p:grpSpPr>
        <p:sp>
          <p:nvSpPr>
            <p:cNvPr id="326" name=""/>
            <p:cNvSpPr/>
            <p:nvPr/>
          </p:nvSpPr>
          <p:spPr>
            <a:xfrm>
              <a:off x="2286000" y="4876920"/>
              <a:ext cx="23623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ly"a/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29000" y="533376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Strength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lyI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Abraham raised his eyes and looked, and behold, behi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ught in the thicket by his horns (Genesis 22: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ABG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, migh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1523880"/>
            <a:ext cx="75916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can always tell an Im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2666880"/>
            <a:ext cx="512460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just can't tell him much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ABG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philim were on the earth in those days, and also afterward, when the sons of God came in to the daughters of men, and they bo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ildr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m. Those were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ghty 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[                 ] wh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old, men of renown (Genesis 6: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76920" y="472428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~yrIBoGIh;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ABG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aid to Joshua, "See, I have given Jericho into your hand, with its k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iant warri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[                      ]” (Joshua 6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76560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yIx'h, yrEABG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rABG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76212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Jephthah the Gileadite was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iant warr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[                   ], but he was the son of a harlot (Judges 11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352116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hebb"/>
              </a:rPr>
              <a:t>lyIx; rABGI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b;z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286000" y="4800600"/>
            <a:ext cx="5105520" cy="1602360"/>
            <a:chOff x="2286000" y="4800600"/>
            <a:chExt cx="5105520" cy="1602360"/>
          </a:xfrm>
        </p:grpSpPr>
        <p:sp>
          <p:nvSpPr>
            <p:cNvPr id="344" name=""/>
            <p:cNvSpPr/>
            <p:nvPr/>
          </p:nvSpPr>
          <p:spPr>
            <a:xfrm>
              <a:off x="2286000" y="4800600"/>
              <a:ext cx="22096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xb;z"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5334120"/>
              <a:ext cx="350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To slaughter or sacrifice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b;z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61760" y="274284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Israel set out with all that he had, and came to Beersheba, and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fered sacrific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[                            ] to the God of his father Isaac (Genesis 46:1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411480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~yxib'z&gt; xB;z&gt;YIw: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b;z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1760" y="27432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he king and all Israel with him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offered sacrif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fore the LORD (1 Kings 8:6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191120"/>
            <a:ext cx="8534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AM[i laer"f.yI-lk'w&gt; %l,M,h;w&gt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52578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hw"hy&gt; ynEp.li xb;z&lt; ~yxib.zO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b;z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1760" y="27432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rif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righteousnes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rust in the LORD (Psalm 4: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4191120"/>
            <a:ext cx="8534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qd&lt;c,-yxeb.zI Wxb.z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52578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hw"hy&gt;-la, Wxj.biW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q'd'c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438280" y="4800600"/>
            <a:ext cx="4419720" cy="1469880"/>
            <a:chOff x="2438280" y="4800600"/>
            <a:chExt cx="4419720" cy="1469880"/>
          </a:xfrm>
        </p:grpSpPr>
        <p:sp>
          <p:nvSpPr>
            <p:cNvPr id="360" name=""/>
            <p:cNvSpPr/>
            <p:nvPr/>
          </p:nvSpPr>
          <p:spPr>
            <a:xfrm>
              <a:off x="2438280" y="4800600"/>
              <a:ext cx="22100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qd,c,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38480" y="533412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Righteous    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Apc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267080"/>
            <a:ext cx="4114800" cy="1469880"/>
            <a:chOff x="2514600" y="4267080"/>
            <a:chExt cx="4114800" cy="1469880"/>
          </a:xfrm>
        </p:grpSpPr>
        <p:sp>
          <p:nvSpPr>
            <p:cNvPr id="365" name=""/>
            <p:cNvSpPr/>
            <p:nvPr/>
          </p:nvSpPr>
          <p:spPr>
            <a:xfrm>
              <a:off x="2514600" y="4267080"/>
              <a:ext cx="22100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!p;c',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10240" y="48006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To hide  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514600" y="5257800"/>
            <a:ext cx="4419720" cy="1447920"/>
            <a:chOff x="2514600" y="5257800"/>
            <a:chExt cx="4419720" cy="1447920"/>
          </a:xfrm>
        </p:grpSpPr>
        <p:sp>
          <p:nvSpPr>
            <p:cNvPr id="368" name=""/>
            <p:cNvSpPr/>
            <p:nvPr/>
          </p:nvSpPr>
          <p:spPr>
            <a:xfrm>
              <a:off x="2514600" y="5257800"/>
              <a:ext cx="220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!ypic'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14800" y="578340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A treasure  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Apc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971800" y="2819520"/>
            <a:ext cx="3886200" cy="1469880"/>
            <a:chOff x="2971800" y="2819520"/>
            <a:chExt cx="3886200" cy="1469880"/>
          </a:xfrm>
        </p:grpSpPr>
        <p:sp>
          <p:nvSpPr>
            <p:cNvPr id="372" name=""/>
            <p:cNvSpPr/>
            <p:nvPr/>
          </p:nvSpPr>
          <p:spPr>
            <a:xfrm>
              <a:off x="2971800" y="2819520"/>
              <a:ext cx="22096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bg&lt;n&lt;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330660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South  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819520" y="3809880"/>
            <a:ext cx="5257800" cy="1470240"/>
            <a:chOff x="2819520" y="3809880"/>
            <a:chExt cx="5257800" cy="1470240"/>
          </a:xfrm>
        </p:grpSpPr>
        <p:sp>
          <p:nvSpPr>
            <p:cNvPr id="375" name=""/>
            <p:cNvSpPr/>
            <p:nvPr/>
          </p:nvSpPr>
          <p:spPr>
            <a:xfrm>
              <a:off x="2819520" y="3809880"/>
              <a:ext cx="220968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~d,q,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0" y="426708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East (in front of) 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505320" y="4952880"/>
            <a:ext cx="3124080" cy="1143000"/>
            <a:chOff x="3505320" y="4952880"/>
            <a:chExt cx="3124080" cy="1143000"/>
          </a:xfrm>
        </p:grpSpPr>
        <p:sp>
          <p:nvSpPr>
            <p:cNvPr id="378" name=""/>
            <p:cNvSpPr/>
            <p:nvPr/>
          </p:nvSpPr>
          <p:spPr>
            <a:xfrm>
              <a:off x="3505320" y="4952880"/>
              <a:ext cx="15238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~y"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4800" y="530208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West 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4648320"/>
            <a:ext cx="3657600" cy="1904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523880"/>
            <a:ext cx="75916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can always tell an Im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666880"/>
            <a:ext cx="36576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2666880"/>
            <a:ext cx="380988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m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29000"/>
            <a:ext cx="365760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ly has a suffix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3429000"/>
            <a:ext cx="380988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has a prefix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5720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Ti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784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4648320"/>
            <a:ext cx="3809880" cy="1904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5720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3784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z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since, 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@a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, indeed, e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-!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t, other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47920" y="76320"/>
            <a:ext cx="62053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al Perfect 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37160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1706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l'j.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27734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T'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3840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5720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T.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4906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Ti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973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447920"/>
            <a:ext cx="4114800" cy="2133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7971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1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~T,l.j;q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3840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a’ll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572000"/>
            <a:ext cx="2057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!T,l.j;q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4906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a’ll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5973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610480" y="27432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6104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686800" y="4876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610480" y="6019920"/>
            <a:ext cx="3812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al Imperfect 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6104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686800" y="4876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610480" y="6019920"/>
            <a:ext cx="3812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610480" y="16765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686800" y="2743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71600" y="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al Imperfect 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6104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686800" y="4876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610480" y="6019920"/>
            <a:ext cx="3812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610480" y="16765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686800" y="2743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438280"/>
            <a:ext cx="2895480" cy="106704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581280"/>
            <a:ext cx="2895480" cy="106704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371600" y="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al Imperfect 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6104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686800" y="4876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610480" y="6019920"/>
            <a:ext cx="3812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956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610480" y="16765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686800" y="2743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2514600"/>
            <a:ext cx="289584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4648320"/>
            <a:ext cx="2895840" cy="1066680"/>
          </a:xfrm>
          <a:prstGeom prst="ellipse">
            <a:avLst/>
          </a:pr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4-01-09T06:14:13Z</dcterms:modified>
  <cp:revision>614</cp:revision>
  <dc:subject/>
  <dc:title>Discipleship Across the Lifespan</dc:title>
</cp:coreProperties>
</file>