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8E4-0F9A-46FC-8E5D-6E8BCC18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A14-EF5B-4349-B55E-E22DFACD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B8B-8D31-41A1-B398-335D13F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9C3-525B-4102-BA02-F89D1F20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699-D6AD-4E6A-99DC-138D0B8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6C1-C293-4DC9-AD4F-B4DC9FB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465-1ABA-41FE-A692-8B43A523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5D1-66FD-42D8-A7D4-965DD38E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15F-5105-4226-A984-EE187E4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704-93EB-4C27-9F66-2DAA818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B95-9340-4B87-9782-E385B74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86E-82AD-4F4D-A98F-ECFB759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DF6-1649-4876-A1E1-86D2D3721B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2590920"/>
            <a:ext cx="5715000" cy="82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Perfect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05320" y="1523880"/>
            <a:ext cx="205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19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00400" y="20574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724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6880" y="1981080"/>
            <a:ext cx="381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6002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4343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4197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k;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4419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rememb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r"k.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4419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rememb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52680" y="167652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r&gt;k;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419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rememb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rk.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4197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rememb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.r&gt;k'z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441972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remember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05320" y="1523880"/>
            <a:ext cx="205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4419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52680" y="16765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f[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di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yf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di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352680" y="16765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f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di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yf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44197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di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yf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4197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di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16765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t'l.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yl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yl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yl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4197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9000" y="16002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343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52680" y="16765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419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8120" y="1676520"/>
            <a:ext cx="32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t,yli[]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guys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8120" y="167652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yli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41972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went u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67652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AB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go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8120" y="167652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8120" y="167652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a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8120" y="167652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a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8120" y="1676520"/>
            <a:ext cx="32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t,a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guys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8120" y="1676520"/>
            <a:ext cx="32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a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8120" y="1676520"/>
            <a:ext cx="32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a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419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went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20574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724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981080"/>
            <a:ext cx="381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1523880"/>
            <a:ext cx="281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.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34340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19520" y="236232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T,l.j;q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6483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guys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6880" y="1905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!T,l.j;q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572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girls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19520" y="17971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648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1-09T09:06:28Z</dcterms:modified>
  <cp:revision>491</cp:revision>
  <dc:subject/>
  <dc:title>Discipleship Across the Lifespan</dc:title>
</cp:coreProperties>
</file>