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53AC-36D4-4310-9651-D691B609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AA02-0F0A-4E6F-85B9-ACF0C040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AA29-67CA-4104-951A-2A06A224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90CD-D4B8-4912-8A0E-CC096A74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513-85BC-4B1B-B0C9-0A235CEE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142D-47D1-45CF-9ED8-AB63B9D5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0C89-879E-4FD6-9D06-A1F3C593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508-740D-45DA-A911-242E0D0D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F56-315A-492B-8066-E238AF10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B35F-CA7E-4BB4-BD43-565CF418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1941-9A45-4E86-8F88-EBB55AF1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B8E1-769A-454A-95E3-54EBD0EB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5733-DB9C-454F-B254-0AF25E59BD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14600" y="2438280"/>
            <a:ext cx="411480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Qal Perfec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71800" y="3429000"/>
            <a:ext cx="320040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k Verb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76720" y="2666880"/>
            <a:ext cx="2514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b;s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42670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 go around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2895480"/>
            <a:ext cx="1523880" cy="1371600"/>
          </a:xfrm>
          <a:prstGeom prst="ellipse">
            <a:avLst/>
          </a:pr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"/>
            <a:ext cx="807696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30492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Geminate Verb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209680" y="2743200"/>
            <a:ext cx="471960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bula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wOB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o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n'B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u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l;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ar, bring f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re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r;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esc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xq;l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ake, lay hold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Wm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p;n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66880" y="609480"/>
            <a:ext cx="3810240" cy="3810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2133720" y="4114800"/>
            <a:ext cx="5040360" cy="671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utterals make o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867280" y="4648320"/>
            <a:ext cx="1447920" cy="1027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eak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f'n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ift, carry, take 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l'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o up; asc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b;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o over; pass th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m;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Wq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r'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v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et, lay, establ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Wv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urn 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P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, at this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22960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a   [   h   x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33720" y="3448080"/>
            <a:ext cx="475776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utteral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2438280" cy="1752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 I Gutteral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1828800"/>
            <a:ext cx="2438640" cy="1752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 II Gutteral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828800"/>
            <a:ext cx="2438280" cy="1752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 III Gutteral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657600"/>
            <a:ext cx="2514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dm;[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65760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rx;B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365760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xq;l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5257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 stand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5257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 choose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5257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 take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3962520"/>
            <a:ext cx="762120" cy="1066680"/>
          </a:xfrm>
          <a:prstGeom prst="ellipse">
            <a:avLst/>
          </a:pr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3962520"/>
            <a:ext cx="762120" cy="1066680"/>
          </a:xfrm>
          <a:prstGeom prst="ellipse">
            <a:avLst/>
          </a:pr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962520"/>
            <a:ext cx="762120" cy="1066680"/>
          </a:xfrm>
          <a:prstGeom prst="ellipse">
            <a:avLst/>
          </a:pr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219320" y="120600"/>
            <a:ext cx="6858000" cy="1557000"/>
            <a:chOff x="1219320" y="120600"/>
            <a:chExt cx="6858000" cy="1557000"/>
          </a:xfrm>
        </p:grpSpPr>
        <p:sp>
          <p:nvSpPr>
            <p:cNvPr id="61" name=""/>
            <p:cNvSpPr/>
            <p:nvPr/>
          </p:nvSpPr>
          <p:spPr>
            <a:xfrm>
              <a:off x="1295280" y="349200"/>
              <a:ext cx="6782040" cy="114300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19320" y="120600"/>
              <a:ext cx="1600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ccffff"/>
                  </a:solidFill>
                  <a:latin typeface="Bwhebb"/>
                </a:rPr>
                <a:t>x</a:t>
              </a:r>
              <a:endParaRPr b="0" lang="en-US" sz="9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120600"/>
              <a:ext cx="1600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ccffff"/>
                  </a:solidFill>
                  <a:latin typeface="Bwhebb"/>
                </a:rPr>
                <a:t>[</a:t>
              </a:r>
              <a:endParaRPr b="0" lang="en-US" sz="9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33720" y="425520"/>
              <a:ext cx="10666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Arial"/>
                </a:rPr>
                <a:t>/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57600" y="441360"/>
              <a:ext cx="4191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ffff"/>
                  </a:solidFill>
                  <a:latin typeface="Arial"/>
                </a:rPr>
                <a:t>Weak Verbs</a:t>
              </a:r>
              <a:endParaRPr b="0" lang="en-US" sz="54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76720" y="2666880"/>
            <a:ext cx="2514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ac'm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4267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 find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2971800"/>
            <a:ext cx="762120" cy="1066680"/>
          </a:xfrm>
          <a:prstGeom prst="ellipse">
            <a:avLst/>
          </a:pr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520" y="120600"/>
            <a:ext cx="8076960" cy="1557000"/>
            <a:chOff x="533520" y="120600"/>
            <a:chExt cx="8076960" cy="1557000"/>
          </a:xfrm>
        </p:grpSpPr>
        <p:sp>
          <p:nvSpPr>
            <p:cNvPr id="70" name=""/>
            <p:cNvSpPr/>
            <p:nvPr/>
          </p:nvSpPr>
          <p:spPr>
            <a:xfrm>
              <a:off x="533520" y="349200"/>
              <a:ext cx="8076960" cy="114300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7760" y="120600"/>
              <a:ext cx="1599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ccffff"/>
                  </a:solidFill>
                  <a:latin typeface="Bwhebb"/>
                </a:rPr>
                <a:t>a</a:t>
              </a:r>
              <a:endParaRPr b="0" lang="en-US" sz="9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0760" y="425520"/>
              <a:ext cx="4190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ffff"/>
                  </a:solidFill>
                  <a:latin typeface="Arial"/>
                </a:rPr>
                <a:t>Weak Verbs</a:t>
              </a:r>
              <a:endParaRPr b="0" lang="en-US" sz="54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8080" y="425520"/>
              <a:ext cx="259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ffff"/>
                  </a:solidFill>
                  <a:latin typeface="Arial"/>
                </a:rPr>
                <a:t>Type III</a:t>
              </a:r>
              <a:endParaRPr b="0" lang="en-US" sz="54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295280" y="4800600"/>
            <a:ext cx="6400800" cy="2789640"/>
            <a:chOff x="1295280" y="4800600"/>
            <a:chExt cx="6400800" cy="2789640"/>
          </a:xfrm>
        </p:grpSpPr>
        <p:sp>
          <p:nvSpPr>
            <p:cNvPr id="75" name=""/>
            <p:cNvSpPr/>
            <p:nvPr/>
          </p:nvSpPr>
          <p:spPr>
            <a:xfrm>
              <a:off x="1295280" y="4800600"/>
              <a:ext cx="251460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ccffff"/>
                  </a:solidFill>
                  <a:latin typeface="Bwhebb"/>
                </a:rPr>
                <a:t>T'l.j;q'</a:t>
              </a:r>
              <a:endParaRPr b="0" lang="en-US" sz="8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81280" y="533412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versus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81480" y="4815000"/>
              <a:ext cx="251460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ccffff"/>
                  </a:solidFill>
                  <a:latin typeface="Bwhebb"/>
                </a:rPr>
                <a:t>t'ac'm'</a:t>
              </a:r>
              <a:endParaRPr b="0" lang="en-US" sz="8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81080" y="5715000"/>
              <a:ext cx="609840" cy="609480"/>
            </a:xfrm>
            <a:prstGeom prst="ellipse">
              <a:avLst/>
            </a:prstGeom>
            <a:noFill/>
            <a:ln w="9360">
              <a:solidFill>
                <a:srgbClr val="ffe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19920" y="6019920"/>
              <a:ext cx="380880" cy="457200"/>
            </a:xfrm>
            <a:prstGeom prst="irregularSeal1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76720" y="2666880"/>
            <a:ext cx="2514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hn'B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267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 build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2971800"/>
            <a:ext cx="761760" cy="1066680"/>
          </a:xfrm>
          <a:prstGeom prst="ellipse">
            <a:avLst/>
          </a:pr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33520" y="120600"/>
            <a:ext cx="8076960" cy="1557000"/>
            <a:chOff x="533520" y="120600"/>
            <a:chExt cx="8076960" cy="1557000"/>
          </a:xfrm>
        </p:grpSpPr>
        <p:sp>
          <p:nvSpPr>
            <p:cNvPr id="84" name=""/>
            <p:cNvSpPr/>
            <p:nvPr/>
          </p:nvSpPr>
          <p:spPr>
            <a:xfrm>
              <a:off x="533520" y="349200"/>
              <a:ext cx="8076960" cy="114300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7760" y="120600"/>
              <a:ext cx="1599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ccffff"/>
                  </a:solidFill>
                  <a:latin typeface="Bwhebb"/>
                </a:rPr>
                <a:t>h</a:t>
              </a:r>
              <a:endParaRPr b="0" lang="en-US" sz="9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90760" y="425520"/>
              <a:ext cx="4190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ffff"/>
                  </a:solidFill>
                  <a:latin typeface="Arial"/>
                </a:rPr>
                <a:t>Weak Verbs</a:t>
              </a:r>
              <a:endParaRPr b="0" lang="en-US" sz="54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8080" y="425520"/>
              <a:ext cx="259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ffff"/>
                  </a:solidFill>
                  <a:latin typeface="Arial"/>
                </a:rPr>
                <a:t>Type III</a:t>
              </a:r>
              <a:endParaRPr b="0" lang="en-US" sz="54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581280" y="5334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ecom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4815000"/>
            <a:ext cx="2514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ht'n&gt;B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861080"/>
            <a:ext cx="2057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hl'j.q'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76720" y="2666880"/>
            <a:ext cx="2514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hn'B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267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 build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971800"/>
            <a:ext cx="761760" cy="1066680"/>
          </a:xfrm>
          <a:prstGeom prst="ellipse">
            <a:avLst/>
          </a:pr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33520" y="120600"/>
            <a:ext cx="8076960" cy="1557000"/>
            <a:chOff x="533520" y="120600"/>
            <a:chExt cx="8076960" cy="1557000"/>
          </a:xfrm>
        </p:grpSpPr>
        <p:sp>
          <p:nvSpPr>
            <p:cNvPr id="95" name=""/>
            <p:cNvSpPr/>
            <p:nvPr/>
          </p:nvSpPr>
          <p:spPr>
            <a:xfrm>
              <a:off x="533520" y="349200"/>
              <a:ext cx="8076960" cy="114300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7760" y="120600"/>
              <a:ext cx="1599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ccffff"/>
                  </a:solidFill>
                  <a:latin typeface="Bwhebb"/>
                </a:rPr>
                <a:t>h</a:t>
              </a:r>
              <a:endParaRPr b="0" lang="en-US" sz="9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90760" y="425520"/>
              <a:ext cx="4190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ffff"/>
                  </a:solidFill>
                  <a:latin typeface="Arial"/>
                </a:rPr>
                <a:t>Weak Verbs</a:t>
              </a:r>
              <a:endParaRPr b="0" lang="en-US" sz="54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8080" y="425520"/>
              <a:ext cx="259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ffff"/>
                  </a:solidFill>
                  <a:latin typeface="Arial"/>
                </a:rPr>
                <a:t>Type III</a:t>
              </a:r>
              <a:endParaRPr b="0" lang="en-US" sz="54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95280" y="4800600"/>
            <a:ext cx="2514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T'l.j;q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5334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ecom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4815000"/>
            <a:ext cx="2514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t'ynIB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5715000"/>
            <a:ext cx="609840" cy="609480"/>
          </a:xfrm>
          <a:prstGeom prst="ellipse">
            <a:avLst/>
          </a:pr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76720" y="2666880"/>
            <a:ext cx="2514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hn'B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4267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 build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971800"/>
            <a:ext cx="761760" cy="1066680"/>
          </a:xfrm>
          <a:prstGeom prst="ellipse">
            <a:avLst/>
          </a:pr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33520" y="120600"/>
            <a:ext cx="8076960" cy="1557000"/>
            <a:chOff x="533520" y="120600"/>
            <a:chExt cx="8076960" cy="1557000"/>
          </a:xfrm>
        </p:grpSpPr>
        <p:sp>
          <p:nvSpPr>
            <p:cNvPr id="107" name=""/>
            <p:cNvSpPr/>
            <p:nvPr/>
          </p:nvSpPr>
          <p:spPr>
            <a:xfrm>
              <a:off x="533520" y="349200"/>
              <a:ext cx="8076960" cy="114300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7760" y="120600"/>
              <a:ext cx="1599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ccffff"/>
                  </a:solidFill>
                  <a:latin typeface="Bwhebb"/>
                </a:rPr>
                <a:t>h</a:t>
              </a:r>
              <a:endParaRPr b="0" lang="en-US" sz="9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90760" y="425520"/>
              <a:ext cx="4190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ffff"/>
                  </a:solidFill>
                  <a:latin typeface="Arial"/>
                </a:rPr>
                <a:t>Weak Verbs</a:t>
              </a:r>
              <a:endParaRPr b="0" lang="en-US" sz="54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8080" y="425520"/>
              <a:ext cx="259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ffff"/>
                  </a:solidFill>
                  <a:latin typeface="Arial"/>
                </a:rPr>
                <a:t>Type III</a:t>
              </a:r>
              <a:endParaRPr b="0" lang="en-US" sz="54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066680" y="4800600"/>
            <a:ext cx="2514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yTil.j;q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5334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ecom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815000"/>
            <a:ext cx="2514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ytiynIB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76720" y="2666880"/>
            <a:ext cx="2514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a'r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4267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 see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2895480"/>
            <a:ext cx="1523880" cy="1371600"/>
          </a:xfrm>
          <a:prstGeom prst="ellipse">
            <a:avLst/>
          </a:pr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228600"/>
            <a:ext cx="807696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30492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Doubly Weak Verb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666880" y="4724280"/>
            <a:ext cx="4267440" cy="1434600"/>
            <a:chOff x="2666880" y="4724280"/>
            <a:chExt cx="4267440" cy="1434600"/>
          </a:xfrm>
        </p:grpSpPr>
        <p:sp>
          <p:nvSpPr>
            <p:cNvPr id="120" name=""/>
            <p:cNvSpPr/>
            <p:nvPr/>
          </p:nvSpPr>
          <p:spPr>
            <a:xfrm>
              <a:off x="2666880" y="5167440"/>
              <a:ext cx="266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ffff"/>
                  </a:solidFill>
                  <a:latin typeface="Arial"/>
                </a:rPr>
                <a:t>Drops the</a:t>
              </a:r>
              <a:endParaRPr b="0" lang="en-US" sz="4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19720" y="4724280"/>
              <a:ext cx="2514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ccffff"/>
                  </a:solidFill>
                  <a:latin typeface="Bwhebb"/>
                </a:rPr>
                <a:t>h</a:t>
              </a:r>
              <a:endParaRPr b="0" lang="en-US" sz="8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3-11-21T21:35:09Z</dcterms:modified>
  <cp:revision>590</cp:revision>
  <dc:subject/>
  <dc:title>Discipleship Across the Lifespan</dc:title>
</cp:coreProperties>
</file>