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2BD-473F-4434-80A5-3826F46C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73D-EE3C-4BE0-92EF-C08D5EF1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410-5FF3-4B67-B4A4-2C894DF7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A58-1637-4FF6-B677-19A71EB2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E25-AE3B-4894-A5AA-D86D2CC6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A8B-9E6D-4A6C-9424-E3AE5D4C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9F3-BB25-49B9-AFF1-EE6C53B9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65A-EE5C-43E0-9CD6-F1ED6953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6B4-56EB-4885-A5D1-D91758C9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7AD-9E2C-4F72-94BE-AC19E5C1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854-E414-434F-8C9E-BBC580A4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BC9-6693-4A73-BDFE-E72D993D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6590-D7C1-408C-BFC6-153987E5D8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2590920"/>
            <a:ext cx="5715000" cy="82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 Review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l;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come king; re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c'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ind, ob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q;P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ttend, pay attention to, take care of, number, ap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k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e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l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end, stretch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m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uard, ob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AdG"h; ~y"h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reat se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371600" y="1600200"/>
            <a:ext cx="6400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tAab'c. hw"h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ORD of host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Ds.x; rk;z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724280" y="2742840"/>
            <a:ext cx="2362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rememb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2743200"/>
            <a:ext cx="2362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merc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91440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r"b.a;-ta, hw"hy&gt; tr:K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Title 1"/>
          <p:cNvSpPr/>
          <p:nvPr/>
        </p:nvSpPr>
        <p:spPr>
          <a:xfrm>
            <a:off x="6629400" y="28195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 cu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3124080"/>
            <a:ext cx="9144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tyrI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4572000" y="28195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 Lor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1295280" y="2819520"/>
            <a:ext cx="198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(with) Abram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3505320" y="495288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 covenan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r;B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34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	</a:t>
            </a: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Ds.x; ~yhil{a rk;z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55272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rememb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971800"/>
            <a:ext cx="2057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loyalt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960" y="142524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y[iybiV.h;{ ~Ay-ta, ~yhil{a/ %r;b'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315200" y="3047760"/>
            <a:ext cx="144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ble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3048120"/>
            <a:ext cx="144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048120"/>
            <a:ext cx="144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447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vent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Tv.ai-ta, !yIq; [d: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477120" y="2895120"/>
            <a:ext cx="167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k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289548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i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289548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wif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536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r"yVih;-ta, hv,mo bt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238880" y="1447560"/>
            <a:ext cx="144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r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1447920"/>
            <a:ext cx="144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447920"/>
            <a:ext cx="144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ng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5146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Whh; ~AYB; taZOh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657600"/>
            <a:ext cx="144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3733920"/>
            <a:ext cx="144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da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809880"/>
            <a:ext cx="175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he (that same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aer"f.yI ynEB.-ta, Hd"M.l;y&gt;w: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6019920"/>
            <a:ext cx="1752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he taugh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609588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n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09588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Israe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s,x,h; %l,M,h; rk;z"-al{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19920" y="2590560"/>
            <a:ext cx="213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did not re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73392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w"h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259092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g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2590920"/>
            <a:ext cx="213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yalt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181480"/>
            <a:ext cx="213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Lor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nEv.-!yBe bv;y" dwId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324480" y="2742840"/>
            <a:ext cx="137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274320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274320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274320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09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y[ih' ~yrI['V.h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5334120"/>
            <a:ext cx="198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at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533412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cit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Z&lt;h; %a'l.m; yTix.l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19920" y="2895480"/>
            <a:ext cx="16761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2895480"/>
            <a:ext cx="1981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eng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895480"/>
            <a:ext cx="1676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wyl'g&gt;r: tx;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666520" y="36572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 his f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d,f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90560" y="38858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eld, country, 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0254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~yrIb'D&gt;h; tr&lt;f,[] tyrIB.h;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400440" y="2362320"/>
            <a:ext cx="2133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r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990720"/>
            <a:ext cx="83822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yrEb.DI tae hw"hy&gt; bt;K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2362320"/>
            <a:ext cx="2133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r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2362320"/>
            <a:ext cx="2133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rd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4419720"/>
            <a:ext cx="2133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covenan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44956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e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4956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k;z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m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lAdG" yAg tae ~yhil{a/ hf'[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391520" y="2742840"/>
            <a:ext cx="1752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m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743200"/>
            <a:ext cx="1752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743200"/>
            <a:ext cx="1752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atio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2743200"/>
            <a:ext cx="1752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j[;m.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w, lit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T'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last, after a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qyDIc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ghteo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d"a' lysik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foolish m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52720" y="1295280"/>
            <a:ext cx="4348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wOr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57280" y="3886200"/>
            <a:ext cx="3581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a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v,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ficu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qAxr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yli-ar"B. rAhj' ble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324480" y="1752120"/>
            <a:ext cx="1447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e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2438280"/>
            <a:ext cx="777240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!Akn" x:Wrw&gt; ~yhil{a/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752480"/>
            <a:ext cx="1447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1752480"/>
            <a:ext cx="1447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752480"/>
            <a:ext cx="1447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m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3832200"/>
            <a:ext cx="14479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Go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886200"/>
            <a:ext cx="1447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a spiri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3886200"/>
            <a:ext cx="19810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4724280"/>
            <a:ext cx="777240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yBir&gt;qiB. vDEx;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6095880"/>
            <a:ext cx="14475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ew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6041880"/>
            <a:ext cx="1904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y inner part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5715000"/>
            <a:ext cx="21621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salm 51:1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[iv'r&gt;h' yMi[;w&gt; ynIa]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400440" y="2819160"/>
            <a:ext cx="2057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2819520"/>
            <a:ext cx="2057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my peopl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2819520"/>
            <a:ext cx="2057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e) wicked on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qez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come 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k'yhe tAryv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ngs of the te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#r&lt;a'h' tm;h/b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asts of the ear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w"hy&gt; tK;r&gt;B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essing of the L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aiJ'x; ~yvin"a]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nful 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12189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raeB.h; yPi-l[; hl'doG&gt; !b,a,h'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009920" y="2819160"/>
            <a:ext cx="1752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2819520"/>
            <a:ext cx="1752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rea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2819520"/>
            <a:ext cx="1752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as) on the fac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2819520"/>
            <a:ext cx="1752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wel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429000" y="5105520"/>
            <a:ext cx="240048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29:2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w"hy&gt;-dAbK. !Kov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67280" y="2819520"/>
            <a:ext cx="1981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we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2819520"/>
            <a:ext cx="198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r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2819520"/>
            <a:ext cx="198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Lor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559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yn:ysi rh;-l[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5029200"/>
            <a:ext cx="198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moun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5029200"/>
            <a:ext cx="198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a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5638680"/>
            <a:ext cx="237168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odus 24:16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562360" y="297180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yhi ~yYIx;-#[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2971800"/>
            <a:ext cx="2514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lif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2971800"/>
            <a:ext cx="2514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s) sh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352680" y="4572000"/>
            <a:ext cx="25146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verbs 3:18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WbG&gt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rder, bound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s,x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vingkind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vd,x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th (new moo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qz"x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strong; have cou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w&lt;m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J,m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ff, rod, branch, tri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B'd&gt;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der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l'[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rnt off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nIP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M'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g&lt;B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othing, Gar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3520" y="1371240"/>
            <a:ext cx="586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kil'm. h['B'r&gt;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 k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[r;z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cex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closure, courtyard, vill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[d'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l'y&gt;l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l'y&gt;l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AMa; vmex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cubi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ssenger, Ang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1523880"/>
            <a:ext cx="44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a'l.m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th, boy, serv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1523880"/>
            <a:ext cx="44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W[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heritance, posse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1523880"/>
            <a:ext cx="44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l'x]n: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1523880"/>
            <a:ext cx="44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qr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inu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1523880"/>
            <a:ext cx="44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ymiT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k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m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a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b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heavy; be hon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l;h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, wal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y"h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c'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 out, Go fo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t;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f'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, ma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a'r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18824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hw"hy&gt; lAq-ta, W[m.v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172200" y="3580920"/>
            <a:ext cx="1447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e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3581280"/>
            <a:ext cx="1447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oic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3581280"/>
            <a:ext cx="1447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Lor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w"hy&gt;-tyrIB. !Ara]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k of the covenant of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x'n&gt;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ft, off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B'v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bb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t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txoLuh;-l[; bTok.YIw: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1951200"/>
            <a:ext cx="868680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tr&lt;f,[] tyrIB.h; yrEb.DI tae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3733920"/>
            <a:ext cx="868680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~yrIb'D&gt;h;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429000" y="5943600"/>
            <a:ext cx="24382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odus 34:28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"/>
          <p:cNvSpPr/>
          <p:nvPr/>
        </p:nvSpPr>
        <p:spPr>
          <a:xfrm>
            <a:off x="5486400" y="15080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wrot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15080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n the tablet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48520" y="3200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word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48120" y="32004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the covenan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318456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49528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ord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0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ytiyair" haor" hw"hy&gt; rm,aYOw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281952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~yIr"c.miB. rv,a] yMi[; ynI[\-ta,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480" y="5257800"/>
            <a:ext cx="191448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odus 3:7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2" name=""/>
          <p:cNvSpPr/>
          <p:nvPr/>
        </p:nvSpPr>
        <p:spPr>
          <a:xfrm>
            <a:off x="6629400" y="21337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2133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2133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ee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21337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 have se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38098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afflictio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379404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my peopl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3870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387036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are) in Egyp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~d"a'h'-l[; ~yhil{a/ hw"hy&gt; wc;y&gt;w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2666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lkoa' !G"h;-#[e lKomi rmoal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39625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lkeaTo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2193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command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2346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2362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m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48520" y="364176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ay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358128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rom ever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33920" y="3657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re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36576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the gard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3657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eat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42670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 shall ea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ynEv.-ta, ~yhil{a/ f[;Y:w: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233208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~ylidoG&gt;h; troaoM.h;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00800" y="181296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mad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14800" y="1828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905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w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3962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light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0" y="3946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great one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62120" y="5257800"/>
            <a:ext cx="22860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1:16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0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hw"hy&gt; hf'[' ~ymiy"-tv,ve yKi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209680"/>
            <a:ext cx="91440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ccffff"/>
                </a:solidFill>
                <a:latin typeface="Bwhebb"/>
              </a:rPr>
              <a:t>~Y"h;-ta, #r&lt;a'h'-ta,w&gt; ~yIm:åV'h;-ta, 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855960"/>
            <a:ext cx="91440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ccffff"/>
                </a:solidFill>
                <a:latin typeface="Bwhebb"/>
              </a:rPr>
              <a:t>~B'ê-rv,a]-lK'-ta,w&gt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324480" y="5638680"/>
            <a:ext cx="23148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odus 20:11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16" name=""/>
          <p:cNvSpPr/>
          <p:nvPr/>
        </p:nvSpPr>
        <p:spPr>
          <a:xfrm>
            <a:off x="7010280" y="15238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15000" y="1523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ix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91120" y="1523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day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90920" y="1523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e mad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15238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24480" y="35053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heaven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3489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the eart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34894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sea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15000" y="5105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95680" y="51055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352680" y="51055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05120" y="5105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s) in the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lem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11-21T20:54:26Z</dcterms:modified>
  <cp:revision>479</cp:revision>
  <dc:subject/>
  <dc:title>Discipleship Across the Lifespan</dc:title>
</cp:coreProperties>
</file>