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385-9427-4310-BF12-FC6E3DCB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47E-0A8B-401B-85B7-03388AB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EF4-7EA9-4747-B398-CFD663CB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BF8-A7E8-4A7E-90AD-7F6AEFF9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6C3-D076-47B4-8D92-4186699D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B91-C40F-473E-B56D-B14576B3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FAB-C2DC-4507-A164-618A4DAD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997-B7D2-4208-9A87-5441757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9D3-81FA-48A3-AFCB-BD141E9C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6EA-9DF8-47CF-8AFB-91FE267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D07-C5C0-426F-BB48-9746C8F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0E6-A982-4B4D-ADCF-630281E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DCB3-F4C1-4F7D-A33F-2B20F090F2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2438280"/>
            <a:ext cx="411480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al 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3429000"/>
            <a:ext cx="335304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76720" y="2590920"/>
            <a:ext cx="2590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.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killed (Feminin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1800" y="18288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y kill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19520" y="2514600"/>
            <a:ext cx="3733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T,l.j;q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4876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a’ll killed (Maculin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19520" y="24382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!T,l.j;q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876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a’ll killed (Feminin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00400" y="259092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kill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4080" y="248292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v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dwel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24080" y="2482920"/>
            <a:ext cx="266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b.v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dwel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24080" y="248292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bv.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y dwel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971800" y="24829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Tb.ve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4876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a’ll dwelt (Masculin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4080" y="2482920"/>
            <a:ext cx="266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b'v.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dwel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76920" y="380880"/>
            <a:ext cx="40384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^mwOl.v hm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40384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%mewOl.v hm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2585880" cy="259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952880"/>
            <a:ext cx="769608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bwOj ymiwOl.v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66880" y="24829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k;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876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remember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66880" y="2482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rEk.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876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remember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66880" y="2482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'r.k;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876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remembered (Masculin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66880" y="24829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!T,r.k;z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8769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als remembered (Feminin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66880" y="24829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876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guard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482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r&gt;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4876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guard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666880" y="248292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Tir&gt;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876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guard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a verbal root ends with a    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    suffix is shortened to one consonant with a Daghesh Fort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04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9460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a verbal root ends with a    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    suffix is shortened to one consonant with a Daghesh Fort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304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9460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181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He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81280" y="4191120"/>
            <a:ext cx="17528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208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become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'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5181480"/>
            <a:ext cx="2362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You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sc S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a verbal root ends with a    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    suffix is shortened to one consonant with a Daghesh Fort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304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9460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181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He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81280" y="4191120"/>
            <a:ext cx="17528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208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become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.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181480"/>
            <a:ext cx="2362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You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em S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243828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ubj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600200"/>
            <a:ext cx="243828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Verb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600200"/>
            <a:ext cx="243864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irect Obj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505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bo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505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505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ba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a verbal root ends with a    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    suffix is shortened to one consonant with a Daghesh Fort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304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9460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5181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He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81280" y="4191120"/>
            <a:ext cx="17528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208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become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Ti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5181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I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a verbal root ends with a    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    suffix is shortened to one consonant with a Daghesh Fort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04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9460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181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He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81280" y="4191120"/>
            <a:ext cx="17528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208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become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T,r;K.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181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You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asc P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a verbal root ends with a    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    suffix is shortened to one consonant with a Daghesh Forte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04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9460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733920"/>
            <a:ext cx="220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r;K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181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He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81280" y="4191120"/>
            <a:ext cx="17528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208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become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733920"/>
            <a:ext cx="2209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!T,r;K.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5181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You cut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em P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828800" y="2895480"/>
            <a:ext cx="552456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r;B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k;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qe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z"x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strong; have co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d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heavy; be hon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1599840"/>
            <a:ext cx="2971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ransi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600200"/>
            <a:ext cx="2971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transi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600200"/>
            <a:ext cx="2971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t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362320"/>
            <a:ext cx="29718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take the direct obj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362320"/>
            <a:ext cx="29718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not take the direct obj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362320"/>
            <a:ext cx="29718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bes a state of being (usually intransitiv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38120" y="476280"/>
            <a:ext cx="62056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s are either...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648320"/>
            <a:ext cx="29718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oy hit the ba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4648320"/>
            <a:ext cx="29718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oy di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4648320"/>
            <a:ext cx="29718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oy is you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23623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was a famine in the land; so Abram went down to Egypt to sojourn there, for the famine was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sev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land (Genesis 12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m had become very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wealt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livestock and in silver and gold (Genesis 13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he was more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respec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n all the household of his father (Genesis 34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680" y="4191120"/>
            <a:ext cx="693432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eyes of Israel we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d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g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uld not see. (Genesis 48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66680" y="4191120"/>
            <a:ext cx="693432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Pharaoh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harden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heart this time also, and he did not let the people go (Exodus 8:3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66680" y="4191120"/>
            <a:ext cx="6934320" cy="1752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Hon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father and your mother, that your days may be prolonged in the land which the LORD your God gives you (Exodus 20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t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le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l;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king; re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c'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, ob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362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d a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457200"/>
            <a:ext cx="62056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al Asp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429000"/>
            <a:ext cx="8229600" cy="2514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…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6002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362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omplete a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q;P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nd, pay attention to, take care of, number, ap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k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e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l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nd, stretch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l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3880" y="3809880"/>
            <a:ext cx="6400800" cy="1447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noch lived sixty-five years, and became the father of Methuselah (Genesis 5:2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743200" y="5181480"/>
            <a:ext cx="4038480" cy="1469880"/>
            <a:chOff x="2743200" y="5181480"/>
            <a:chExt cx="4038480" cy="1469880"/>
          </a:xfrm>
        </p:grpSpPr>
        <p:sp>
          <p:nvSpPr>
            <p:cNvPr id="234" name=""/>
            <p:cNvSpPr/>
            <p:nvPr/>
          </p:nvSpPr>
          <p:spPr>
            <a:xfrm>
              <a:off x="2743200" y="5181480"/>
              <a:ext cx="19051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yt;m</a:t>
              </a: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9000" y="569088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When?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uard, ob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47920" y="1447920"/>
            <a:ext cx="3724200" cy="1428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xt Week'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828800" y="2895480"/>
            <a:ext cx="552456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d Studi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752480" y="2514600"/>
            <a:ext cx="552456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e Study Tim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o he said, “Cursed be Canaan;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servant of servant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shall be to his brothers.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228600"/>
            <a:ext cx="3724200" cy="112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2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42900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![;n"K. rWra' rm,aYOw: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83084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wyx'a,l. hy&lt;h.yI ~ydIb'[] db,[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also said, “Blessed be the LORD, The God of Shem;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let Canaan be his servant.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28600"/>
            <a:ext cx="3724200" cy="112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2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4290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ve yhel{a/ hA"hy&gt; %WrB' rm,aYOw: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483084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Aml' db,[, ![;n:k. yhiyw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y God enlarge Japheth,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let him dwell in the tents of Shem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228600"/>
            <a:ext cx="3724200" cy="112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2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4290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tp,y&lt;l. ~yhil{a/ T.p.y: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80060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ve-yleh\a'B. !Kov.yI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47920" y="76320"/>
            <a:ext cx="62053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Perfect 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1706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l'j.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27734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T'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840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5720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T.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906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5973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447920"/>
            <a:ext cx="4114800" cy="2133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7971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131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T,l.j;q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840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a’ll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572000"/>
            <a:ext cx="2057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!T,l.j;q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4906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a’ll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973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610480" y="27432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104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686800" y="4876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610480" y="6019920"/>
            <a:ext cx="381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y God enlarge Japheth,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let him dwell in the tents of Shem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520" y="228600"/>
            <a:ext cx="3724200" cy="112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2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28800" y="2998800"/>
            <a:ext cx="5410080" cy="347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57600" y="2362320"/>
            <a:ext cx="205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kill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8120" y="217800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j.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kill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00400" y="274320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'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876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killed (masculine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1-14T14:59:12Z</dcterms:modified>
  <cp:revision>585</cp:revision>
  <dc:subject/>
  <dc:title>Discipleship Across the Lifespan</dc:title>
</cp:coreProperties>
</file>